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4EF-04C9-49C7-A4E6-0313B6EC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9FD-3081-4D39-B2A4-FDCAF869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EFF-4FC5-4827-A6CB-3EAA8A62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5EE-9629-4FD5-A975-E3549265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769-34C8-4687-A260-6B0DC971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607-C436-41B6-9371-872339AD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645-D016-4599-8DDB-FFD8A1A9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3D3-4889-4281-8EC1-6DB640C9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5EB-360B-492D-B02A-F778F87D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DF3-0D22-4553-8AB8-12BEA268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62E-E6AB-4E67-83AA-EE9A9456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F04-89E0-4913-BE62-E35E695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6F30-96F1-497D-B5BC-DFE866322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Угадайте какое животное эт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400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5056200"/>
            <a:ext cx="54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4508640"/>
            <a:ext cx="568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Крол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ан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86560" y="40464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динор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м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4581360"/>
            <a:ext cx="43923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л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ый 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ы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0720" y="1125360"/>
            <a:ext cx="374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гем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окоди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48360" y="765000"/>
            <a:ext cx="4176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ост Лоша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ост Зеб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ост Ко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721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1413000"/>
            <a:ext cx="590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Мы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Кры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4005360"/>
            <a:ext cx="532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ы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840" y="-223920"/>
            <a:ext cx="9058320" cy="7305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80000" y="404640"/>
            <a:ext cx="266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Зме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Лему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рокод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08720" y="4365720"/>
            <a:ext cx="58338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ук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07200" y="4365720"/>
            <a:ext cx="193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Жи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92720" y="3645000"/>
            <a:ext cx="4390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б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вл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55080" y="2604960"/>
            <a:ext cx="205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Кен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12000" y="3068640"/>
            <a:ext cx="22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Пав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еб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4720" y="270828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3645000"/>
            <a:ext cx="5761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1.Чёрны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2.Д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.З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43640" y="4653000"/>
            <a:ext cx="360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1.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2. Павлиньи пе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. Попуг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27640" y="4508640"/>
            <a:ext cx="266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г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л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81440" y="4437000"/>
            <a:ext cx="1418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58920" y="1052640"/>
            <a:ext cx="446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вл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пуг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7:48:35Z</dcterms:created>
  <dc:creator>Customer</dc:creator>
  <dc:description/>
  <dc:language>en-US</dc:language>
  <cp:lastModifiedBy>Alex</cp:lastModifiedBy>
  <dcterms:modified xsi:type="dcterms:W3CDTF">2014-12-05T17:26:12Z</dcterms:modified>
  <cp:revision>3</cp:revision>
  <dc:subject/>
  <dc:title>Слайд 1</dc:title>
</cp:coreProperties>
</file>