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jpeg" ContentType="image/jpeg"/>
  <Override PartName="/ppt/media/image3.gif" ContentType="image/gif"/>
  <Override PartName="/ppt/media/image5.gif" ContentType="image/gi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AB4-504A-4908-9122-1859E7C3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9EE-144B-4011-9A65-9FBE51DB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ED9-3E1C-4408-86CE-83682AB4D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C7C-CD89-4ABE-B837-3EBB30B3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EF2-B47A-46F4-B5B9-0BF7769D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F73-590D-4166-8BD3-80A24A1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DED-8D53-4F63-8F77-E63D0F84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A67-FA32-4FA8-B34A-02219F4B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ABD-485D-45B8-8511-57617401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2BF-6E91-4B32-BEFB-DDCD6D8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CF8-A370-4789-ADCF-2EFE2708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F8A-3378-4F54-8324-F35C85FE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CD8B-5DC2-43E1-9B03-52E4A8814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84360" y="2997360"/>
            <a:ext cx="55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5400" spc="-1" strike="noStrike">
                <a:solidFill>
                  <a:srgbClr val="333399"/>
                </a:solidFill>
                <a:latin typeface="Times New Roman"/>
              </a:rPr>
              <a:t>Arhimēda spēks</a:t>
            </a: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093080" y="549360"/>
            <a:ext cx="1736640" cy="2082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074680" cy="3097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4360" y="5229360"/>
            <a:ext cx="1110960" cy="11952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46" name="Picture 10" descr=""/>
            <p:cNvPicPr/>
            <p:nvPr/>
          </p:nvPicPr>
          <p:blipFill>
            <a:blip r:embed="rId4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174840" y="44784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Rīgas 33. viduss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74840" y="40273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Aleksejs Plotņiko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76640" y="482760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2009./2010.m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-3276720" y="5041800"/>
            <a:ext cx="27352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44 0.05873 L 1.37014 0.05456 E">
                                      <p:cBhvr>
                                        <p:cTn id="6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34800" y="2857680"/>
            <a:ext cx="4033800" cy="1439640"/>
            <a:chOff x="334800" y="2857680"/>
            <a:chExt cx="4033800" cy="143964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550440" y="3000240"/>
                  <a:ext cx="374508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0" name=""/>
            <p:cNvSpPr/>
            <p:nvPr/>
          </p:nvSpPr>
          <p:spPr>
            <a:xfrm>
              <a:off x="334800" y="2857680"/>
              <a:ext cx="4033800" cy="143964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24480" y="971640"/>
                <a:ext cx="3211560" cy="48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[</m:t>
                        </m:r>
                        <m:r>
                          <m:t xml:space="preserve">ρ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9,8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92240" y="404640"/>
            <a:ext cx="417672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333399"/>
                </a:solidFill>
                <a:latin typeface="Times New Roman"/>
              </a:rPr>
              <a:t>Arhimēda spēks</a:t>
            </a:r>
            <a:r>
              <a:rPr b="1" lang="lv-LV" sz="32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lv-LV" sz="32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333399"/>
                </a:solidFill>
                <a:latin typeface="Times New Roman"/>
              </a:rPr>
              <a:t>ir atkarīgs no šķidruma blīvuma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lv-LV" sz="3200" spc="-1" strike="noStrike">
                <a:solidFill>
                  <a:srgbClr val="333399"/>
                </a:solidFill>
                <a:latin typeface="Times New Roman"/>
              </a:rPr>
              <a:t>un ķermeņa tilpuma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lv-LV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186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79440" y="94608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79800" y="9493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40" y="45464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9440" y="1844640"/>
            <a:ext cx="3600360" cy="2701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3800" y="397188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87440" y="3683160"/>
            <a:ext cx="863640" cy="86328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920" y="3395520"/>
            <a:ext cx="1152360" cy="11527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75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900000" y="3645000"/>
                <a:ext cx="314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79640" y="3429000"/>
                <a:ext cx="352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419640" y="3141720"/>
                <a:ext cx="342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11280" y="4941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4941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4941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40360" y="907920"/>
            <a:ext cx="46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z kuru bumbiņu darbojas lielāks Arhimēda spēk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210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79440" y="94608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9800" y="9493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9440" y="45464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9440" y="1820880"/>
            <a:ext cx="3600360" cy="2735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3800" y="3971880"/>
            <a:ext cx="576360" cy="57636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87440" y="3683160"/>
            <a:ext cx="863640" cy="86328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3395520"/>
            <a:ext cx="1152360" cy="11527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75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85880" y="3251160"/>
            <a:ext cx="0" cy="1008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819440" y="2674800"/>
            <a:ext cx="0" cy="1440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042720" y="1738440"/>
            <a:ext cx="34920" cy="22190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4880" y="2530080"/>
            <a:ext cx="6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32880" y="2098080"/>
            <a:ext cx="6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28520" y="1163160"/>
            <a:ext cx="6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00000" y="3645000"/>
                <a:ext cx="3142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979640" y="3429000"/>
                <a:ext cx="352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419640" y="3141720"/>
                <a:ext cx="342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716360" y="1052640"/>
            <a:ext cx="4033800" cy="1439640"/>
            <a:chOff x="4716360" y="1052640"/>
            <a:chExt cx="4033800" cy="143964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932000" y="1195200"/>
                  <a:ext cx="374508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716360" y="1052640"/>
              <a:ext cx="4033800" cy="143964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284720" y="28670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Arhimēda spēks</a:t>
            </a:r>
            <a:r>
              <a:rPr b="1" lang="lv-LV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ir atkarīgs no šķidruma blīvuma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lang="lv-LV" sz="3600" spc="-1" strike="noStrike">
                <a:solidFill>
                  <a:srgbClr val="ff0000"/>
                </a:solidFill>
                <a:latin typeface="Arial"/>
              </a:rPr>
              <a:t>ķermeņa tilpu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4941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4941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43280" y="4941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243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2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79440" y="94608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79800" y="9493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79440" y="45464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57336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4508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907920"/>
            <a:ext cx="46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z kuru bumbiņu darbojas lielāks Arhimēda spēk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19700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47640" y="155736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9440" y="1844640"/>
            <a:ext cx="3600360" cy="2705040"/>
          </a:xfrm>
          <a:prstGeom prst="rect">
            <a:avLst/>
          </a:prstGeom>
          <a:gradFill rotWithShape="0">
            <a:gsLst>
              <a:gs pos="0">
                <a:srgbClr val="ccecff">
                  <a:alpha val="50196"/>
                </a:srgbClr>
              </a:gs>
              <a:gs pos="100000">
                <a:srgbClr val="5e6c75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63640" y="2421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18040" y="2060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264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79440" y="94608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79800" y="94932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9440" y="45464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357336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4508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87640" y="119700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155736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7546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643280" y="549360"/>
            <a:ext cx="4033800" cy="1439640"/>
            <a:chOff x="4643280" y="549360"/>
            <a:chExt cx="4033800" cy="143964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4858920" y="691920"/>
                  <a:ext cx="374508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2" name=""/>
            <p:cNvSpPr/>
            <p:nvPr/>
          </p:nvSpPr>
          <p:spPr>
            <a:xfrm>
              <a:off x="4643280" y="549360"/>
              <a:ext cx="4033800" cy="143964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4211640" y="236376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Arhimēda spēks</a:t>
            </a:r>
            <a:r>
              <a:rPr b="1" lang="lv-LV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ir atkarīgs no šķidruma blīvuma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1" lang="lv-LV" sz="3600" spc="-1" strike="noStrike">
                <a:solidFill>
                  <a:srgbClr val="ff0000"/>
                </a:solidFill>
                <a:latin typeface="Arial"/>
              </a:rPr>
              <a:t>ķermeņa tilpu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6200" y="1844640"/>
            <a:ext cx="3600360" cy="2703600"/>
          </a:xfrm>
          <a:prstGeom prst="rect">
            <a:avLst/>
          </a:prstGeom>
          <a:gradFill rotWithShape="0">
            <a:gsLst>
              <a:gs pos="0">
                <a:srgbClr val="ccecff">
                  <a:alpha val="49019"/>
                </a:srgbClr>
              </a:gs>
              <a:gs pos="100000">
                <a:srgbClr val="5e6c75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63640" y="2421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18040" y="20606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288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96720" y="1641600"/>
            <a:ext cx="1224000" cy="2735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68360" y="1641600"/>
            <a:ext cx="1224000" cy="2735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672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2072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720" y="43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8360" y="43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84280" y="350028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84360" y="350028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468360" y="1628640"/>
                <a:ext cx="320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268360" y="1628640"/>
                <a:ext cx="365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720" y="98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Benzī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97240" y="98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Ū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907920"/>
            <a:ext cx="464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Uz kuru bumbiņu darbojas mazāks Arhimēda spēk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44942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70040" y="44798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315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396720" y="1641600"/>
            <a:ext cx="1224000" cy="27352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68360" y="1641600"/>
            <a:ext cx="1224000" cy="2735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672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2072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6720" y="43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6836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9236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4365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84280" y="350028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84360" y="3500280"/>
            <a:ext cx="863640" cy="8636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68360" y="1628640"/>
                <a:ext cx="320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1628640"/>
                <a:ext cx="365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6720" y="98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Benzī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97240" y="98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333399"/>
                </a:solidFill>
                <a:latin typeface="Times New Roman"/>
              </a:rPr>
              <a:t>Ū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4942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70040" y="447984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284720" y="692280"/>
            <a:ext cx="4033800" cy="1439640"/>
            <a:chOff x="4284720" y="692280"/>
            <a:chExt cx="4033800" cy="1439640"/>
          </a:xfrm>
        </p:grpSpPr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4500360" y="834840"/>
                  <a:ext cx="374508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2" name=""/>
            <p:cNvSpPr/>
            <p:nvPr/>
          </p:nvSpPr>
          <p:spPr>
            <a:xfrm>
              <a:off x="4284720" y="692280"/>
              <a:ext cx="4033800" cy="1439640"/>
            </a:xfrm>
            <a:prstGeom prst="rect">
              <a:avLst/>
            </a:prstGeom>
            <a:noFill/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284720" y="2506680"/>
            <a:ext cx="449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Arhimēda spēks</a:t>
            </a:r>
            <a:r>
              <a:rPr b="1" lang="lv-LV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ir atkarīgs no </a:t>
            </a:r>
            <a:r>
              <a:rPr b="1" lang="lv-LV" sz="3600" spc="-1" strike="noStrike">
                <a:solidFill>
                  <a:srgbClr val="ff0000"/>
                </a:solidFill>
                <a:latin typeface="Arial"/>
              </a:rPr>
              <a:t>šķidruma blīvuma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lv-LV" sz="3600" spc="-1" strike="noStrike">
                <a:solidFill>
                  <a:srgbClr val="333399"/>
                </a:solidFill>
                <a:latin typeface="Arial"/>
              </a:rPr>
              <a:t>un ķermeņa tilp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345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39640" y="981000"/>
            <a:ext cx="2087640" cy="3960720"/>
            <a:chOff x="539640" y="981000"/>
            <a:chExt cx="2087640" cy="3960720"/>
          </a:xfrm>
        </p:grpSpPr>
        <p:sp>
          <p:nvSpPr>
            <p:cNvPr id="350" name=""/>
            <p:cNvSpPr/>
            <p:nvPr/>
          </p:nvSpPr>
          <p:spPr>
            <a:xfrm>
              <a:off x="539640" y="1269720"/>
              <a:ext cx="2087640" cy="3671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640" y="98100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27280" y="98100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4941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1042920" y="2563920"/>
            <a:ext cx="863640" cy="8604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4920" y="3005280"/>
            <a:ext cx="0" cy="846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474920" y="2500200"/>
            <a:ext cx="0" cy="4874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55640" y="5084640"/>
                <a:ext cx="1440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43280" y="333360"/>
            <a:ext cx="612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as notiks ar bumbiņu, ja Arhimēda spēks ir mazāks par smaguma spēk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3640" y="3068640"/>
            <a:ext cx="5616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A)   nogr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В)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 peldēs augš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С) 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peldēs šķidrum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364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4.72222E-006 0.22084 E">
                                      <p:cBhvr>
                                        <p:cTn id="144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39640" y="981000"/>
            <a:ext cx="2087640" cy="3960720"/>
            <a:chOff x="539640" y="981000"/>
            <a:chExt cx="2087640" cy="3960720"/>
          </a:xfrm>
        </p:grpSpPr>
        <p:sp>
          <p:nvSpPr>
            <p:cNvPr id="369" name=""/>
            <p:cNvSpPr/>
            <p:nvPr/>
          </p:nvSpPr>
          <p:spPr>
            <a:xfrm>
              <a:off x="539640" y="1269720"/>
              <a:ext cx="2087640" cy="3671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9640" y="98100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27280" y="98100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9640" y="4941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022400" y="2492280"/>
            <a:ext cx="863640" cy="8604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469880" y="2949480"/>
            <a:ext cx="0" cy="846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469880" y="1652760"/>
            <a:ext cx="0" cy="12794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36560" y="5076720"/>
                <a:ext cx="144000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43280" y="333360"/>
            <a:ext cx="612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as notiks ar bumbiņu, ja Arhimēda spēks ir lielāks par smaguma spēk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03640" y="3068640"/>
            <a:ext cx="5616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A)   nogr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В)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 peldēs augš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С) 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peldēs šķidrum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383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73988E-006 L -2.77778E-007 -0.24092 E">
                                      <p:cBhvr>
                                        <p:cTn id="17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39640" y="981000"/>
            <a:ext cx="2087640" cy="3960720"/>
            <a:chOff x="539640" y="981000"/>
            <a:chExt cx="2087640" cy="3960720"/>
          </a:xfrm>
        </p:grpSpPr>
        <p:sp>
          <p:nvSpPr>
            <p:cNvPr id="388" name=""/>
            <p:cNvSpPr/>
            <p:nvPr/>
          </p:nvSpPr>
          <p:spPr>
            <a:xfrm>
              <a:off x="539640" y="1269720"/>
              <a:ext cx="2087640" cy="367164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5e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9640" y="98100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27280" y="981000"/>
              <a:ext cx="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39640" y="4941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816120" y="2492280"/>
            <a:ext cx="863280" cy="8604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68280" y="2949480"/>
            <a:ext cx="0" cy="846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270080" y="2085480"/>
            <a:ext cx="0" cy="84636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754200" y="5084640"/>
                <a:ext cx="1423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843280" y="333360"/>
            <a:ext cx="612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as notiks ar bumbiņu, ja Arhimēda spēks ir vienāds ar smaguma spēku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03640" y="3068640"/>
            <a:ext cx="5616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A)   nogr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В)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 peldēs augš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С) 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peldēs šķidrum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402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7 L 0.08021 -0.00047 E">
                                      <p:cBhvr>
                                        <p:cTn id="208" dur="5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9520" y="374760"/>
            <a:ext cx="87804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 u="sng">
                <a:solidFill>
                  <a:srgbClr val="333399"/>
                </a:solidFill>
                <a:uFillTx/>
                <a:latin typeface="Times New Roman"/>
              </a:rPr>
              <a:t>Mērķis: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sekmēt izpratni par Arhimēda spēku</a:t>
            </a: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 u="sng">
                <a:solidFill>
                  <a:srgbClr val="333399"/>
                </a:solidFill>
                <a:uFillTx/>
                <a:latin typeface="Times New Roman"/>
              </a:rPr>
              <a:t>Uzdevum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Iepazīstināt ar Arhimēda spē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Pilnveidot prasmi risināt uzdevumus ar form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333399"/>
                </a:solidFill>
                <a:latin typeface="Times New Roman"/>
              </a:rPr>
              <a:t>Pilnveidot prasmi atbildēt uz jautājum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60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71360" y="26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1. Uzdev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00000" y="836640"/>
            <a:ext cx="554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63640" y="260280"/>
            <a:ext cx="73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kmens kura tilpums ir 300 c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 atrodas ūdenī. Atrodiet Arhimēda spēku kurš darbojas uz akmeni. (g=10 m/s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5080" y="1989000"/>
            <a:ext cx="374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=300c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=3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=1000 kg/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357336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lv-LV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2360" y="184464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lv-LV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16360" y="1916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2360" y="19162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213000"/>
            <a:ext cx="30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76720" y="1989000"/>
            <a:ext cx="35989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lv-LV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=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lv-LV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lv-LV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  <a:ea typeface="Arial"/>
              </a:rPr>
              <a:t>=3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4221000"/>
            <a:ext cx="403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bilde: F</a:t>
            </a:r>
            <a:r>
              <a:rPr b="0" lang="lv-LV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=3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418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95280" y="26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2. Uzdev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59280" y="189000"/>
            <a:ext cx="56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raukā ar šķidrumu iegremdē ķermeni. Noteikt cēlējspēku, kas darbojas uz ķermeni, ja tas iegremdēt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etrolejā. (g=10 m/s</a:t>
            </a:r>
            <a:r>
              <a:rPr b="0" lang="lv-LV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6120" y="3497400"/>
            <a:ext cx="982800" cy="21873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075040" y="1687680"/>
            <a:ext cx="358560" cy="17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228760" y="343080"/>
            <a:ext cx="0" cy="29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87560" y="3497400"/>
            <a:ext cx="982800" cy="2184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40000" y="361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313080" y="1386000"/>
            <a:ext cx="2232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=90-60=30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lv-LV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lv-LV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lv-LV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=800 kg/m</a:t>
            </a:r>
            <a:r>
              <a:rPr b="0" lang="lv-LV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13080" y="2881440"/>
            <a:ext cx="252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lv-LV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302080" y="1467000"/>
            <a:ext cx="151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lv-LV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g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372360" y="1467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02080" y="147168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351240" y="2714760"/>
            <a:ext cx="194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372360" y="1452600"/>
            <a:ext cx="35985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lv-LV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=8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lv-LV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0" lang="lv-LV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lv-LV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=0,24 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27640" y="4105440"/>
            <a:ext cx="252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de: F</a:t>
            </a:r>
            <a:r>
              <a:rPr b="0" lang="lv-LV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=0,24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2428920"/>
            <a:ext cx="982800" cy="10699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744560" y="1247760"/>
            <a:ext cx="1479600" cy="4584600"/>
            <a:chOff x="1744560" y="1247760"/>
            <a:chExt cx="1479600" cy="4584600"/>
          </a:xfrm>
        </p:grpSpPr>
        <p:sp>
          <p:nvSpPr>
            <p:cNvPr id="439" name=""/>
            <p:cNvSpPr/>
            <p:nvPr/>
          </p:nvSpPr>
          <p:spPr>
            <a:xfrm>
              <a:off x="1990440" y="1247760"/>
              <a:ext cx="982800" cy="443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44560" y="5684760"/>
              <a:ext cx="1474560" cy="1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87200" y="206820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87200" y="22478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7200" y="242856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87200" y="258732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87200" y="276840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7200" y="29476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7200" y="312732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7200" y="33080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7200" y="331596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7200" y="349704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87200" y="367632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87200" y="385596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87200" y="40366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7200" y="403668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87200" y="421776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7200" y="43970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7200" y="457668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87200" y="475740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7200" y="475740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87200" y="493848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87200" y="511776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87200" y="529740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87200" y="547812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93720" y="51004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93720" y="40258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93720" y="439092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93720" y="473364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93720" y="25984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93720" y="1888920"/>
              <a:ext cx="73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93720" y="22320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93720" y="29206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93720" y="32860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93720" y="362880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33600" y="124776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3480" y="1247760"/>
            <a:ext cx="1478880" cy="4584600"/>
            <a:chOff x="33480" y="1247760"/>
            <a:chExt cx="1478880" cy="4584600"/>
          </a:xfrm>
        </p:grpSpPr>
        <p:sp>
          <p:nvSpPr>
            <p:cNvPr id="476" name=""/>
            <p:cNvSpPr/>
            <p:nvPr/>
          </p:nvSpPr>
          <p:spPr>
            <a:xfrm>
              <a:off x="279000" y="1247760"/>
              <a:ext cx="982440" cy="443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3480" y="5684760"/>
              <a:ext cx="1474200" cy="14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5760" y="20682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5760" y="22478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5760" y="242856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5760" y="258732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5760" y="27684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5760" y="29476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5760" y="31273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5760" y="33080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760" y="3315960"/>
              <a:ext cx="3585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5760" y="34970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5760" y="367632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5760" y="385596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75760" y="40366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5760" y="40366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5760" y="421776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75760" y="43970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5760" y="45766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5760" y="475740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5760" y="475740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5760" y="49384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5760" y="511776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75760" y="52974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5760" y="547812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82280" y="510048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280" y="402588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2280" y="439092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82280" y="473364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82280" y="259848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2280" y="1888920"/>
              <a:ext cx="7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2280" y="22320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2280" y="292068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2280" y="328608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2280" y="362880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2160" y="1247760"/>
              <a:ext cx="53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000000"/>
                  </a:solidFill>
                  <a:latin typeface="Arial"/>
                </a:rPr>
                <a:t>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513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5723E-006 L 2.22222E-006 0.16093 E">
                                      <p:cBhvr>
                                        <p:cTn id="238" dur="1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35000" y="1425600"/>
            <a:ext cx="69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as tas ir - Arhimēda spē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70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Погружение картофелины в воду вызывает уменьшение ее веса с 3,5 Н до 0,5 Н"/>
          <p:cNvPicPr/>
          <p:nvPr/>
        </p:nvPicPr>
        <p:blipFill>
          <a:blip r:embed="rId1"/>
          <a:stretch/>
        </p:blipFill>
        <p:spPr>
          <a:xfrm>
            <a:off x="900000" y="549360"/>
            <a:ext cx="3308400" cy="3384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63640" y="1484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148428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125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3573360"/>
            <a:ext cx="0" cy="1727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547640" y="4869000"/>
                <a:ext cx="505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63640" y="1628640"/>
                <a:ext cx="638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708360" y="1268280"/>
                <a:ext cx="64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276720" y="3284640"/>
            <a:ext cx="0" cy="1726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19640" y="4508640"/>
                <a:ext cx="50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82840" y="549360"/>
            <a:ext cx="2160720" cy="49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90" name="Picture 10" descr=""/>
            <p:cNvPicPr/>
            <p:nvPr/>
          </p:nvPicPr>
          <p:blipFill>
            <a:blip r:embed="rId2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1640" y="274320"/>
            <a:ext cx="4321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āds ir Arhimēda spēka virziens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8000" y="2349360"/>
            <a:ext cx="338436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Augš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Lej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Kreis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Lab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Погружение картофелины в воду вызывает уменьшение ее веса с 3,5 Н до 0,5 Н"/>
          <p:cNvPicPr/>
          <p:nvPr/>
        </p:nvPicPr>
        <p:blipFill>
          <a:blip r:embed="rId1"/>
          <a:stretch/>
        </p:blipFill>
        <p:spPr>
          <a:xfrm>
            <a:off x="900000" y="549360"/>
            <a:ext cx="3308400" cy="3384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3640" y="1484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148428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1125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573360"/>
            <a:ext cx="0" cy="1727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547640" y="4869000"/>
                <a:ext cx="505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763640" y="1628640"/>
                <a:ext cx="638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708360" y="1268280"/>
                <a:ext cx="64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276720" y="3284640"/>
            <a:ext cx="0" cy="1726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419640" y="4508640"/>
                <a:ext cx="50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106" name="Picture 10" descr=""/>
            <p:cNvPicPr/>
            <p:nvPr/>
          </p:nvPicPr>
          <p:blipFill>
            <a:blip r:embed="rId2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720" y="1915920"/>
            <a:ext cx="4610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Arhimēda spēks vienmēr darbojas augšup</a:t>
            </a:r>
            <a:r>
              <a:rPr b="1" lang="ru-RU" sz="4000" spc="-1" strike="noStrike">
                <a:solidFill>
                  <a:srgbClr val="3333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Погружение картофелины в воду вызывает уменьшение ее веса с 3,5 Н до 0,5 Н"/>
          <p:cNvPicPr/>
          <p:nvPr/>
        </p:nvPicPr>
        <p:blipFill>
          <a:blip r:embed="rId1"/>
          <a:stretch/>
        </p:blipFill>
        <p:spPr>
          <a:xfrm>
            <a:off x="900000" y="549360"/>
            <a:ext cx="3308400" cy="3384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63640" y="1484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148428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1125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3573360"/>
            <a:ext cx="0" cy="1727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47640" y="4869000"/>
                <a:ext cx="505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763640" y="1628640"/>
                <a:ext cx="638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08360" y="1268280"/>
                <a:ext cx="64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284640"/>
            <a:ext cx="0" cy="1726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419640" y="4508640"/>
                <a:ext cx="50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V="1">
            <a:off x="3276720" y="2276640"/>
            <a:ext cx="0" cy="1008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65360" y="213300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lv-LV" sz="16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123" name="Picture 10" descr=""/>
            <p:cNvPicPr/>
            <p:nvPr/>
          </p:nvPicPr>
          <p:blipFill>
            <a:blip r:embed="rId2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1640" y="274320"/>
            <a:ext cx="4321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Kam ir vienāds Arhimēda spēks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720" y="1989000"/>
            <a:ext cx="3384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4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3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7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1" lang="lv-LV" sz="4000" spc="-1" strike="noStrike">
                <a:solidFill>
                  <a:srgbClr val="009999"/>
                </a:solidFill>
                <a:latin typeface="Times New Roman"/>
              </a:rPr>
              <a:t>1,75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Погружение картофелины в воду вызывает уменьшение ее веса с 3,5 Н до 0,5 Н"/>
          <p:cNvPicPr/>
          <p:nvPr/>
        </p:nvPicPr>
        <p:blipFill>
          <a:blip r:embed="rId1"/>
          <a:stretch/>
        </p:blipFill>
        <p:spPr>
          <a:xfrm>
            <a:off x="900000" y="549360"/>
            <a:ext cx="3308400" cy="3384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763640" y="1484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148428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1125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573360"/>
            <a:ext cx="0" cy="1727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47640" y="4869000"/>
                <a:ext cx="505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763640" y="1628640"/>
                <a:ext cx="638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708360" y="1268280"/>
                <a:ext cx="64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276720" y="3284640"/>
            <a:ext cx="0" cy="1726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419640" y="4508640"/>
                <a:ext cx="50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 flipV="1">
            <a:off x="3276720" y="2276640"/>
            <a:ext cx="0" cy="1008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65360" y="216180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lv-LV" sz="16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141" name="Picture 10" descr=""/>
            <p:cNvPicPr/>
            <p:nvPr/>
          </p:nvPicPr>
          <p:blipFill>
            <a:blip r:embed="rId2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Погружение картофелины в воду вызывает уменьшение ее веса с 3,5 Н до 0,5 Н"/>
          <p:cNvPicPr/>
          <p:nvPr/>
        </p:nvPicPr>
        <p:blipFill>
          <a:blip r:embed="rId1"/>
          <a:stretch/>
        </p:blipFill>
        <p:spPr>
          <a:xfrm>
            <a:off x="900000" y="549360"/>
            <a:ext cx="3308400" cy="3384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63640" y="148428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63640" y="148428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125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3573360"/>
            <a:ext cx="0" cy="17272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547640" y="4869000"/>
                <a:ext cx="505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63640" y="1628640"/>
                <a:ext cx="638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708360" y="1268280"/>
                <a:ext cx="64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276720" y="3284640"/>
            <a:ext cx="0" cy="17269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419640" y="4508640"/>
                <a:ext cx="504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 flipV="1">
            <a:off x="3276720" y="2276640"/>
            <a:ext cx="0" cy="1008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65360" y="2161800"/>
            <a:ext cx="5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lv-LV" sz="1600" spc="-1" strike="noStrike">
                <a:solidFill>
                  <a:srgbClr val="00ff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27640" y="3068640"/>
            <a:ext cx="44272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333399"/>
                </a:solidFill>
                <a:latin typeface="Times New Roman"/>
              </a:rPr>
              <a:t>F</a:t>
            </a:r>
            <a:r>
              <a:rPr b="1" lang="lv-LV" sz="4400" spc="-1" strike="noStrike" baseline="-25000">
                <a:solidFill>
                  <a:srgbClr val="333399"/>
                </a:solidFill>
                <a:latin typeface="Times New Roman"/>
              </a:rPr>
              <a:t>A</a:t>
            </a:r>
            <a:r>
              <a:rPr b="1" lang="lv-LV" sz="4400" spc="-1" strike="noStrike">
                <a:solidFill>
                  <a:srgbClr val="333399"/>
                </a:solidFill>
                <a:latin typeface="Times New Roman"/>
              </a:rPr>
              <a:t>=3,5-0,5=</a:t>
            </a:r>
            <a:r>
              <a:rPr b="1" lang="lv-LV" sz="4400" spc="-1" strike="noStrike">
                <a:solidFill>
                  <a:srgbClr val="ff0000"/>
                </a:solidFill>
                <a:latin typeface="Times New Roman"/>
              </a:rPr>
              <a:t>3(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163" name="Picture 10" descr=""/>
            <p:cNvPicPr/>
            <p:nvPr/>
          </p:nvPicPr>
          <p:blipFill>
            <a:blip r:embed="rId2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04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333399"/>
                </a:solidFill>
                <a:latin typeface="Times New Roman"/>
              </a:rPr>
              <a:t>No kā ir atkarīgs Arhimēda spē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04960" y="6278400"/>
            <a:ext cx="5220000" cy="579240"/>
            <a:chOff x="2604960" y="6278400"/>
            <a:chExt cx="5220000" cy="579240"/>
          </a:xfrm>
        </p:grpSpPr>
        <p:pic>
          <p:nvPicPr>
            <p:cNvPr id="168" name="Picture 10" descr=""/>
            <p:cNvPicPr/>
            <p:nvPr/>
          </p:nvPicPr>
          <p:blipFill>
            <a:blip r:embed="rId1"/>
            <a:stretch/>
          </p:blipFill>
          <p:spPr>
            <a:xfrm>
              <a:off x="2604960" y="6278400"/>
              <a:ext cx="150984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303800" y="6311520"/>
              <a:ext cx="3521160" cy="5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Projekts „Atbalsts vispārējas izglītības pedagogu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nodrošināšanai prioritārajos mācību priekšmetos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2e2e2e"/>
                  </a:solidFill>
                  <a:latin typeface="Times New Roman"/>
                  <a:ea typeface="Times New Roman"/>
                </a:rPr>
                <a:t>(Vien.Nr. 2008/0001/IDP/l .2.1.2.2./08/IPIA/VIAA/00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30720" y="631152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6:47:21Z</dcterms:created>
  <dc:creator>Lem5x0330</dc:creator>
  <dc:description/>
  <dc:language>en-US</dc:language>
  <cp:lastModifiedBy>Alex</cp:lastModifiedBy>
  <dcterms:modified xsi:type="dcterms:W3CDTF">2012-10-07T15:32:21Z</dcterms:modified>
  <cp:revision>104</cp:revision>
  <dc:subject/>
  <dc:title>Slide 1</dc:title>
</cp:coreProperties>
</file>