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29E8-7471-4940-976E-46058303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C2DF-8A1F-4EF0-9FA0-A7040EBA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5BAD-3CE1-44CC-A13C-DC736B41F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8F8D-4D3A-4D02-863B-1E5BD879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A85C-41FC-430A-A2D6-3F281DE7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7775-4D44-4DB0-8487-6966D1E8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6609-71B6-4544-A981-05144D98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C0CE-E0E6-405D-AB83-8E3B5F2E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8722-4269-498B-9FDE-123F5268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FC51-CF7B-477E-B4CD-2A756EED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8729-9254-4160-87E1-40B4447C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62A0-31C5-475E-BCF5-806DF56B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A94C-8127-4F6F-B1E6-F6D276A8A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2540160"/>
            <a:ext cx="63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5400" spc="-1" strike="noStrike">
                <a:solidFill>
                  <a:srgbClr val="333399"/>
                </a:solidFill>
                <a:latin typeface="Times New Roman"/>
              </a:rPr>
              <a:t>Elektriskā pretestīb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4840" y="447840"/>
            <a:ext cx="32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  <a:ea typeface="Arial"/>
              </a:rPr>
              <a:t>Rīgas 33. viduss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74840" y="4027320"/>
            <a:ext cx="32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  <a:ea typeface="Arial"/>
              </a:rPr>
              <a:t>Aleksejs Plotņiko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6640" y="4827600"/>
            <a:ext cx="32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  <a:ea typeface="Arial"/>
              </a:rPr>
              <a:t>2009./2010.m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604960" y="6278400"/>
            <a:ext cx="5220000" cy="579240"/>
            <a:chOff x="2604960" y="6278400"/>
            <a:chExt cx="5220000" cy="579240"/>
          </a:xfrm>
        </p:grpSpPr>
        <p:pic>
          <p:nvPicPr>
            <p:cNvPr id="46" name="Picture 10" descr=""/>
            <p:cNvPicPr/>
            <p:nvPr/>
          </p:nvPicPr>
          <p:blipFill>
            <a:blip r:embed="rId1"/>
            <a:stretch/>
          </p:blipFill>
          <p:spPr>
            <a:xfrm>
              <a:off x="260496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430380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23072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914400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Elektriskā pretestība </a:t>
            </a:r>
            <a:r>
              <a:rPr b="1" i="1" lang="lv-LV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 ir atkarīga no vada garuma </a:t>
            </a:r>
            <a:r>
              <a:rPr b="1" i="1" lang="lv-LV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no vada šķērsgriezuma laukuma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lv-LV" sz="4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un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īpatnēja pretestības </a:t>
            </a:r>
            <a:r>
              <a:rPr b="1" i="1" lang="el-G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ρ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86080" y="1285920"/>
            <a:ext cx="35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543040" y="1898640"/>
            <a:ext cx="49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40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062920" y="1901880"/>
            <a:ext cx="39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41840" y="1382760"/>
            <a:ext cx="5165640" cy="58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57280" y="1978200"/>
            <a:ext cx="243504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914560" y="1990800"/>
            <a:ext cx="598176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087880" y="681120"/>
            <a:ext cx="52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52440" y="1406520"/>
            <a:ext cx="3348000" cy="58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700360" y="6211800"/>
            <a:ext cx="5219280" cy="579240"/>
            <a:chOff x="2700360" y="6211800"/>
            <a:chExt cx="5219280" cy="579240"/>
          </a:xfrm>
        </p:grpSpPr>
        <p:pic>
          <p:nvPicPr>
            <p:cNvPr id="298" name="Picture 10" descr=""/>
            <p:cNvPicPr/>
            <p:nvPr/>
          </p:nvPicPr>
          <p:blipFill>
            <a:blip r:embed="rId1"/>
            <a:stretch/>
          </p:blipFill>
          <p:spPr>
            <a:xfrm>
              <a:off x="2700360" y="6211800"/>
              <a:ext cx="150948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4398840" y="6244920"/>
              <a:ext cx="352080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25760" y="62449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396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00000" y="1598760"/>
            <a:ext cx="554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044800" y="4644000"/>
            <a:ext cx="1365120" cy="1671840"/>
            <a:chOff x="2044800" y="4644000"/>
            <a:chExt cx="1365120" cy="1671840"/>
          </a:xfrm>
        </p:grpSpPr>
        <p:sp>
          <p:nvSpPr>
            <p:cNvPr id="304" name=""/>
            <p:cNvSpPr/>
            <p:nvPr/>
          </p:nvSpPr>
          <p:spPr>
            <a:xfrm flipH="1" flipV="1">
              <a:off x="2044800" y="4644000"/>
              <a:ext cx="682560" cy="835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2727000" y="5479560"/>
              <a:ext cx="682920" cy="836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622520" y="4398840"/>
            <a:ext cx="2170800" cy="2158920"/>
            <a:chOff x="1622520" y="4398840"/>
            <a:chExt cx="2170800" cy="2158920"/>
          </a:xfrm>
        </p:grpSpPr>
        <p:sp>
          <p:nvSpPr>
            <p:cNvPr id="307" name=""/>
            <p:cNvSpPr/>
            <p:nvPr/>
          </p:nvSpPr>
          <p:spPr>
            <a:xfrm>
              <a:off x="1622880" y="4398840"/>
              <a:ext cx="2170440" cy="215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350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350966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1622160" y="4398840"/>
              <a:ext cx="2170440" cy="215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350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350966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2706840" y="42591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935360" y="4527000"/>
            <a:ext cx="88560" cy="11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93200" y="4323600"/>
            <a:ext cx="4644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3070800" y="4331520"/>
            <a:ext cx="4680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3394080" y="4529880"/>
            <a:ext cx="88200" cy="11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20045400">
            <a:off x="1943280" y="3968280"/>
            <a:ext cx="5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  <a:ea typeface="Arial"/>
              </a:rPr>
              <a:t>0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19320000">
            <a:off x="1671840" y="42192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44760" y="3911760"/>
            <a:ext cx="5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  <a:ea typeface="Arial"/>
              </a:rPr>
              <a:t>0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984600">
            <a:off x="2909520" y="3981240"/>
            <a:ext cx="6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  <a:ea typeface="Arial"/>
              </a:rPr>
              <a:t>0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2278800">
            <a:off x="3332880" y="4254480"/>
            <a:ext cx="6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  <a:ea typeface="Arial"/>
              </a:rPr>
              <a:t>0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39800" y="3809880"/>
            <a:ext cx="2225880" cy="2094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00200" y="4624560"/>
            <a:ext cx="4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267600" y="4613400"/>
            <a:ext cx="458640" cy="576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5824440" y="4440240"/>
            <a:ext cx="1332000" cy="892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902200" y="4327560"/>
            <a:ext cx="88920" cy="88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73920" y="4332240"/>
            <a:ext cx="88920" cy="88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899320" y="4546440"/>
            <a:ext cx="10476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013520" y="4505400"/>
            <a:ext cx="0" cy="104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959520" y="4560840"/>
            <a:ext cx="104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825560" y="5518080"/>
            <a:ext cx="104760" cy="104760"/>
            <a:chOff x="1825560" y="5518080"/>
            <a:chExt cx="104760" cy="104760"/>
          </a:xfrm>
        </p:grpSpPr>
        <p:sp>
          <p:nvSpPr>
            <p:cNvPr id="329" name=""/>
            <p:cNvSpPr/>
            <p:nvPr/>
          </p:nvSpPr>
          <p:spPr>
            <a:xfrm>
              <a:off x="1879560" y="5518080"/>
              <a:ext cx="0" cy="104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825560" y="5573520"/>
              <a:ext cx="104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3594240" y="5572080"/>
            <a:ext cx="10476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795320" y="5676840"/>
            <a:ext cx="152640" cy="152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68680" y="5665680"/>
            <a:ext cx="152280" cy="152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397240" y="741240"/>
            <a:ext cx="4537080" cy="9864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635280" y="4389480"/>
            <a:ext cx="2281320" cy="1319040"/>
          </a:xfrm>
          <a:custGeom>
            <a:avLst/>
            <a:gdLst/>
            <a:ahLst/>
            <a:rect l="l" t="t" r="r" b="b"/>
            <a:pathLst>
              <a:path w="1437" h="831">
                <a:moveTo>
                  <a:pt x="0" y="831"/>
                </a:moveTo>
                <a:cubicBezTo>
                  <a:pt x="90" y="824"/>
                  <a:pt x="181" y="821"/>
                  <a:pt x="271" y="810"/>
                </a:cubicBezTo>
                <a:cubicBezTo>
                  <a:pt x="347" y="801"/>
                  <a:pt x="424" y="778"/>
                  <a:pt x="500" y="768"/>
                </a:cubicBezTo>
                <a:cubicBezTo>
                  <a:pt x="562" y="751"/>
                  <a:pt x="532" y="760"/>
                  <a:pt x="590" y="741"/>
                </a:cubicBezTo>
                <a:cubicBezTo>
                  <a:pt x="604" y="736"/>
                  <a:pt x="632" y="727"/>
                  <a:pt x="632" y="727"/>
                </a:cubicBezTo>
                <a:cubicBezTo>
                  <a:pt x="685" y="691"/>
                  <a:pt x="696" y="698"/>
                  <a:pt x="757" y="678"/>
                </a:cubicBezTo>
                <a:cubicBezTo>
                  <a:pt x="765" y="650"/>
                  <a:pt x="784" y="644"/>
                  <a:pt x="805" y="623"/>
                </a:cubicBezTo>
                <a:cubicBezTo>
                  <a:pt x="813" y="589"/>
                  <a:pt x="829" y="565"/>
                  <a:pt x="840" y="533"/>
                </a:cubicBezTo>
                <a:cubicBezTo>
                  <a:pt x="855" y="427"/>
                  <a:pt x="830" y="518"/>
                  <a:pt x="868" y="470"/>
                </a:cubicBezTo>
                <a:cubicBezTo>
                  <a:pt x="893" y="439"/>
                  <a:pt x="875" y="398"/>
                  <a:pt x="930" y="380"/>
                </a:cubicBezTo>
                <a:cubicBezTo>
                  <a:pt x="940" y="341"/>
                  <a:pt x="961" y="315"/>
                  <a:pt x="999" y="304"/>
                </a:cubicBezTo>
                <a:cubicBezTo>
                  <a:pt x="1012" y="295"/>
                  <a:pt x="1029" y="293"/>
                  <a:pt x="1041" y="283"/>
                </a:cubicBezTo>
                <a:cubicBezTo>
                  <a:pt x="1092" y="241"/>
                  <a:pt x="1035" y="264"/>
                  <a:pt x="1083" y="248"/>
                </a:cubicBezTo>
                <a:cubicBezTo>
                  <a:pt x="1109" y="209"/>
                  <a:pt x="1100" y="168"/>
                  <a:pt x="1152" y="151"/>
                </a:cubicBezTo>
                <a:cubicBezTo>
                  <a:pt x="1171" y="95"/>
                  <a:pt x="1143" y="160"/>
                  <a:pt x="1180" y="123"/>
                </a:cubicBezTo>
                <a:cubicBezTo>
                  <a:pt x="1235" y="68"/>
                  <a:pt x="1182" y="89"/>
                  <a:pt x="1228" y="75"/>
                </a:cubicBezTo>
                <a:cubicBezTo>
                  <a:pt x="1271" y="47"/>
                  <a:pt x="1338" y="27"/>
                  <a:pt x="1388" y="19"/>
                </a:cubicBezTo>
                <a:cubicBezTo>
                  <a:pt x="1417" y="0"/>
                  <a:pt x="1401" y="5"/>
                  <a:pt x="1437" y="5"/>
                </a:cubicBez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397240" y="1295280"/>
            <a:ext cx="4537080" cy="23184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397240" y="2187720"/>
            <a:ext cx="4537080" cy="5205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74720" y="760320"/>
            <a:ext cx="1616040" cy="5011920"/>
          </a:xfrm>
          <a:custGeom>
            <a:avLst/>
            <a:gdLst/>
            <a:ahLst/>
            <a:rect l="l" t="t" r="r" b="b"/>
            <a:pathLst>
              <a:path w="1018" h="3129">
                <a:moveTo>
                  <a:pt x="699" y="3129"/>
                </a:moveTo>
                <a:cubicBezTo>
                  <a:pt x="683" y="3118"/>
                  <a:pt x="666" y="3106"/>
                  <a:pt x="650" y="3095"/>
                </a:cubicBezTo>
                <a:cubicBezTo>
                  <a:pt x="614" y="3070"/>
                  <a:pt x="563" y="3071"/>
                  <a:pt x="525" y="3046"/>
                </a:cubicBezTo>
                <a:cubicBezTo>
                  <a:pt x="520" y="3039"/>
                  <a:pt x="518" y="3030"/>
                  <a:pt x="511" y="3025"/>
                </a:cubicBezTo>
                <a:cubicBezTo>
                  <a:pt x="485" y="3009"/>
                  <a:pt x="422" y="2990"/>
                  <a:pt x="393" y="2984"/>
                </a:cubicBezTo>
                <a:cubicBezTo>
                  <a:pt x="356" y="2969"/>
                  <a:pt x="322" y="2957"/>
                  <a:pt x="289" y="2935"/>
                </a:cubicBezTo>
                <a:cubicBezTo>
                  <a:pt x="284" y="2928"/>
                  <a:pt x="281" y="2920"/>
                  <a:pt x="275" y="2914"/>
                </a:cubicBezTo>
                <a:cubicBezTo>
                  <a:pt x="269" y="2908"/>
                  <a:pt x="260" y="2906"/>
                  <a:pt x="255" y="2900"/>
                </a:cubicBezTo>
                <a:cubicBezTo>
                  <a:pt x="236" y="2876"/>
                  <a:pt x="248" y="2868"/>
                  <a:pt x="213" y="2845"/>
                </a:cubicBezTo>
                <a:cubicBezTo>
                  <a:pt x="199" y="2804"/>
                  <a:pt x="191" y="2789"/>
                  <a:pt x="164" y="2755"/>
                </a:cubicBezTo>
                <a:cubicBezTo>
                  <a:pt x="157" y="2720"/>
                  <a:pt x="151" y="2677"/>
                  <a:pt x="137" y="2644"/>
                </a:cubicBezTo>
                <a:cubicBezTo>
                  <a:pt x="122" y="2610"/>
                  <a:pt x="104" y="2577"/>
                  <a:pt x="95" y="2540"/>
                </a:cubicBezTo>
                <a:cubicBezTo>
                  <a:pt x="90" y="2519"/>
                  <a:pt x="89" y="2497"/>
                  <a:pt x="81" y="2477"/>
                </a:cubicBezTo>
                <a:cubicBezTo>
                  <a:pt x="78" y="2469"/>
                  <a:pt x="71" y="2464"/>
                  <a:pt x="67" y="2456"/>
                </a:cubicBezTo>
                <a:cubicBezTo>
                  <a:pt x="64" y="2449"/>
                  <a:pt x="62" y="2442"/>
                  <a:pt x="60" y="2435"/>
                </a:cubicBezTo>
                <a:cubicBezTo>
                  <a:pt x="56" y="2347"/>
                  <a:pt x="58" y="2296"/>
                  <a:pt x="39" y="2220"/>
                </a:cubicBezTo>
                <a:cubicBezTo>
                  <a:pt x="34" y="2094"/>
                  <a:pt x="0" y="1907"/>
                  <a:pt x="46" y="1769"/>
                </a:cubicBezTo>
                <a:cubicBezTo>
                  <a:pt x="52" y="1691"/>
                  <a:pt x="63" y="1564"/>
                  <a:pt x="109" y="1499"/>
                </a:cubicBezTo>
                <a:cubicBezTo>
                  <a:pt x="128" y="1405"/>
                  <a:pt x="143" y="1302"/>
                  <a:pt x="178" y="1214"/>
                </a:cubicBezTo>
                <a:cubicBezTo>
                  <a:pt x="192" y="1178"/>
                  <a:pt x="195" y="1132"/>
                  <a:pt x="227" y="1110"/>
                </a:cubicBezTo>
                <a:cubicBezTo>
                  <a:pt x="268" y="1048"/>
                  <a:pt x="262" y="964"/>
                  <a:pt x="303" y="902"/>
                </a:cubicBezTo>
                <a:cubicBezTo>
                  <a:pt x="308" y="860"/>
                  <a:pt x="308" y="832"/>
                  <a:pt x="331" y="798"/>
                </a:cubicBezTo>
                <a:cubicBezTo>
                  <a:pt x="337" y="758"/>
                  <a:pt x="349" y="726"/>
                  <a:pt x="359" y="687"/>
                </a:cubicBezTo>
                <a:cubicBezTo>
                  <a:pt x="361" y="678"/>
                  <a:pt x="360" y="667"/>
                  <a:pt x="366" y="659"/>
                </a:cubicBezTo>
                <a:cubicBezTo>
                  <a:pt x="370" y="653"/>
                  <a:pt x="379" y="654"/>
                  <a:pt x="386" y="652"/>
                </a:cubicBezTo>
                <a:cubicBezTo>
                  <a:pt x="408" y="630"/>
                  <a:pt x="427" y="620"/>
                  <a:pt x="456" y="610"/>
                </a:cubicBezTo>
                <a:cubicBezTo>
                  <a:pt x="478" y="577"/>
                  <a:pt x="491" y="550"/>
                  <a:pt x="525" y="527"/>
                </a:cubicBezTo>
                <a:cubicBezTo>
                  <a:pt x="545" y="477"/>
                  <a:pt x="542" y="415"/>
                  <a:pt x="567" y="367"/>
                </a:cubicBezTo>
                <a:cubicBezTo>
                  <a:pt x="576" y="351"/>
                  <a:pt x="587" y="336"/>
                  <a:pt x="595" y="319"/>
                </a:cubicBezTo>
                <a:cubicBezTo>
                  <a:pt x="603" y="304"/>
                  <a:pt x="599" y="284"/>
                  <a:pt x="608" y="270"/>
                </a:cubicBezTo>
                <a:cubicBezTo>
                  <a:pt x="613" y="263"/>
                  <a:pt x="652" y="244"/>
                  <a:pt x="657" y="242"/>
                </a:cubicBezTo>
                <a:cubicBezTo>
                  <a:pt x="666" y="205"/>
                  <a:pt x="680" y="204"/>
                  <a:pt x="713" y="187"/>
                </a:cubicBezTo>
                <a:cubicBezTo>
                  <a:pt x="717" y="176"/>
                  <a:pt x="747" y="123"/>
                  <a:pt x="754" y="118"/>
                </a:cubicBezTo>
                <a:cubicBezTo>
                  <a:pt x="763" y="112"/>
                  <a:pt x="809" y="101"/>
                  <a:pt x="824" y="97"/>
                </a:cubicBezTo>
                <a:cubicBezTo>
                  <a:pt x="837" y="88"/>
                  <a:pt x="844" y="71"/>
                  <a:pt x="858" y="62"/>
                </a:cubicBezTo>
                <a:cubicBezTo>
                  <a:pt x="872" y="53"/>
                  <a:pt x="892" y="56"/>
                  <a:pt x="907" y="48"/>
                </a:cubicBezTo>
                <a:cubicBezTo>
                  <a:pt x="922" y="40"/>
                  <a:pt x="932" y="22"/>
                  <a:pt x="949" y="20"/>
                </a:cubicBezTo>
                <a:cubicBezTo>
                  <a:pt x="1016" y="12"/>
                  <a:pt x="1001" y="31"/>
                  <a:pt x="1018" y="0"/>
                </a:cubicBez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07320" y="735120"/>
            <a:ext cx="969840" cy="3649680"/>
          </a:xfrm>
          <a:custGeom>
            <a:avLst/>
            <a:gdLst/>
            <a:ahLst/>
            <a:rect l="l" t="t" r="r" b="b"/>
            <a:pathLst>
              <a:path w="611" h="2299">
                <a:moveTo>
                  <a:pt x="70" y="2299"/>
                </a:moveTo>
                <a:cubicBezTo>
                  <a:pt x="98" y="2292"/>
                  <a:pt x="125" y="2285"/>
                  <a:pt x="153" y="2278"/>
                </a:cubicBezTo>
                <a:cubicBezTo>
                  <a:pt x="171" y="2273"/>
                  <a:pt x="208" y="2264"/>
                  <a:pt x="208" y="2264"/>
                </a:cubicBezTo>
                <a:cubicBezTo>
                  <a:pt x="237" y="2236"/>
                  <a:pt x="272" y="2235"/>
                  <a:pt x="299" y="2202"/>
                </a:cubicBezTo>
                <a:cubicBezTo>
                  <a:pt x="326" y="2170"/>
                  <a:pt x="333" y="2136"/>
                  <a:pt x="368" y="2112"/>
                </a:cubicBezTo>
                <a:cubicBezTo>
                  <a:pt x="380" y="2064"/>
                  <a:pt x="395" y="2011"/>
                  <a:pt x="417" y="1966"/>
                </a:cubicBezTo>
                <a:cubicBezTo>
                  <a:pt x="419" y="1954"/>
                  <a:pt x="425" y="1943"/>
                  <a:pt x="424" y="1931"/>
                </a:cubicBezTo>
                <a:cubicBezTo>
                  <a:pt x="416" y="1857"/>
                  <a:pt x="399" y="1947"/>
                  <a:pt x="417" y="1876"/>
                </a:cubicBezTo>
                <a:cubicBezTo>
                  <a:pt x="421" y="1731"/>
                  <a:pt x="414" y="1568"/>
                  <a:pt x="451" y="1425"/>
                </a:cubicBezTo>
                <a:cubicBezTo>
                  <a:pt x="453" y="1406"/>
                  <a:pt x="452" y="1387"/>
                  <a:pt x="458" y="1369"/>
                </a:cubicBezTo>
                <a:cubicBezTo>
                  <a:pt x="464" y="1353"/>
                  <a:pt x="480" y="1343"/>
                  <a:pt x="486" y="1327"/>
                </a:cubicBezTo>
                <a:cubicBezTo>
                  <a:pt x="488" y="1320"/>
                  <a:pt x="491" y="1314"/>
                  <a:pt x="493" y="1307"/>
                </a:cubicBezTo>
                <a:cubicBezTo>
                  <a:pt x="505" y="1171"/>
                  <a:pt x="509" y="1137"/>
                  <a:pt x="514" y="960"/>
                </a:cubicBezTo>
                <a:cubicBezTo>
                  <a:pt x="507" y="630"/>
                  <a:pt x="611" y="437"/>
                  <a:pt x="451" y="224"/>
                </a:cubicBezTo>
                <a:cubicBezTo>
                  <a:pt x="445" y="190"/>
                  <a:pt x="431" y="167"/>
                  <a:pt x="424" y="134"/>
                </a:cubicBezTo>
                <a:cubicBezTo>
                  <a:pt x="420" y="113"/>
                  <a:pt x="425" y="86"/>
                  <a:pt x="410" y="71"/>
                </a:cubicBezTo>
                <a:cubicBezTo>
                  <a:pt x="396" y="57"/>
                  <a:pt x="373" y="56"/>
                  <a:pt x="354" y="51"/>
                </a:cubicBezTo>
                <a:cubicBezTo>
                  <a:pt x="300" y="37"/>
                  <a:pt x="244" y="31"/>
                  <a:pt x="188" y="23"/>
                </a:cubicBezTo>
                <a:cubicBezTo>
                  <a:pt x="119" y="0"/>
                  <a:pt x="122" y="3"/>
                  <a:pt x="28" y="9"/>
                </a:cubicBezTo>
                <a:cubicBezTo>
                  <a:pt x="11" y="34"/>
                  <a:pt x="22" y="30"/>
                  <a:pt x="0" y="30"/>
                </a:cubicBez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112760" y="1442880"/>
            <a:ext cx="1266840" cy="4334040"/>
          </a:xfrm>
          <a:custGeom>
            <a:avLst/>
            <a:gdLst/>
            <a:ahLst/>
            <a:rect l="l" t="t" r="r" b="b"/>
            <a:pathLst>
              <a:path w="798" h="2730">
                <a:moveTo>
                  <a:pt x="472" y="2720"/>
                </a:moveTo>
                <a:cubicBezTo>
                  <a:pt x="443" y="2730"/>
                  <a:pt x="432" y="2714"/>
                  <a:pt x="402" y="2707"/>
                </a:cubicBezTo>
                <a:cubicBezTo>
                  <a:pt x="389" y="2698"/>
                  <a:pt x="373" y="2696"/>
                  <a:pt x="361" y="2686"/>
                </a:cubicBezTo>
                <a:cubicBezTo>
                  <a:pt x="325" y="2656"/>
                  <a:pt x="357" y="2661"/>
                  <a:pt x="319" y="2644"/>
                </a:cubicBezTo>
                <a:cubicBezTo>
                  <a:pt x="306" y="2638"/>
                  <a:pt x="292" y="2635"/>
                  <a:pt x="278" y="2630"/>
                </a:cubicBezTo>
                <a:cubicBezTo>
                  <a:pt x="271" y="2628"/>
                  <a:pt x="257" y="2623"/>
                  <a:pt x="257" y="2623"/>
                </a:cubicBezTo>
                <a:cubicBezTo>
                  <a:pt x="208" y="2577"/>
                  <a:pt x="211" y="2523"/>
                  <a:pt x="187" y="2464"/>
                </a:cubicBezTo>
                <a:cubicBezTo>
                  <a:pt x="185" y="2422"/>
                  <a:pt x="184" y="2381"/>
                  <a:pt x="180" y="2339"/>
                </a:cubicBezTo>
                <a:cubicBezTo>
                  <a:pt x="177" y="2306"/>
                  <a:pt x="166" y="2242"/>
                  <a:pt x="166" y="2242"/>
                </a:cubicBezTo>
                <a:cubicBezTo>
                  <a:pt x="162" y="2177"/>
                  <a:pt x="144" y="2025"/>
                  <a:pt x="90" y="1971"/>
                </a:cubicBezTo>
                <a:cubicBezTo>
                  <a:pt x="72" y="1918"/>
                  <a:pt x="79" y="1943"/>
                  <a:pt x="69" y="1895"/>
                </a:cubicBezTo>
                <a:cubicBezTo>
                  <a:pt x="67" y="1851"/>
                  <a:pt x="67" y="1807"/>
                  <a:pt x="62" y="1763"/>
                </a:cubicBezTo>
                <a:cubicBezTo>
                  <a:pt x="58" y="1734"/>
                  <a:pt x="46" y="1730"/>
                  <a:pt x="35" y="1707"/>
                </a:cubicBezTo>
                <a:cubicBezTo>
                  <a:pt x="20" y="1675"/>
                  <a:pt x="13" y="1636"/>
                  <a:pt x="0" y="1603"/>
                </a:cubicBezTo>
                <a:cubicBezTo>
                  <a:pt x="2" y="1511"/>
                  <a:pt x="3" y="1418"/>
                  <a:pt x="7" y="1326"/>
                </a:cubicBezTo>
                <a:cubicBezTo>
                  <a:pt x="8" y="1289"/>
                  <a:pt x="13" y="1240"/>
                  <a:pt x="21" y="1201"/>
                </a:cubicBezTo>
                <a:cubicBezTo>
                  <a:pt x="25" y="1182"/>
                  <a:pt x="35" y="1145"/>
                  <a:pt x="35" y="1145"/>
                </a:cubicBezTo>
                <a:cubicBezTo>
                  <a:pt x="43" y="1077"/>
                  <a:pt x="61" y="1009"/>
                  <a:pt x="83" y="944"/>
                </a:cubicBezTo>
                <a:cubicBezTo>
                  <a:pt x="85" y="923"/>
                  <a:pt x="84" y="901"/>
                  <a:pt x="90" y="881"/>
                </a:cubicBezTo>
                <a:cubicBezTo>
                  <a:pt x="93" y="870"/>
                  <a:pt x="107" y="865"/>
                  <a:pt x="111" y="854"/>
                </a:cubicBezTo>
                <a:cubicBezTo>
                  <a:pt x="128" y="803"/>
                  <a:pt x="115" y="747"/>
                  <a:pt x="146" y="701"/>
                </a:cubicBezTo>
                <a:cubicBezTo>
                  <a:pt x="158" y="652"/>
                  <a:pt x="148" y="681"/>
                  <a:pt x="187" y="618"/>
                </a:cubicBezTo>
                <a:cubicBezTo>
                  <a:pt x="209" y="582"/>
                  <a:pt x="188" y="561"/>
                  <a:pt x="229" y="534"/>
                </a:cubicBezTo>
                <a:cubicBezTo>
                  <a:pt x="238" y="500"/>
                  <a:pt x="253" y="497"/>
                  <a:pt x="278" y="472"/>
                </a:cubicBezTo>
                <a:cubicBezTo>
                  <a:pt x="280" y="463"/>
                  <a:pt x="281" y="453"/>
                  <a:pt x="284" y="444"/>
                </a:cubicBezTo>
                <a:cubicBezTo>
                  <a:pt x="288" y="430"/>
                  <a:pt x="298" y="403"/>
                  <a:pt x="298" y="403"/>
                </a:cubicBezTo>
                <a:cubicBezTo>
                  <a:pt x="305" y="364"/>
                  <a:pt x="310" y="331"/>
                  <a:pt x="333" y="299"/>
                </a:cubicBezTo>
                <a:cubicBezTo>
                  <a:pt x="341" y="258"/>
                  <a:pt x="355" y="231"/>
                  <a:pt x="389" y="208"/>
                </a:cubicBezTo>
                <a:cubicBezTo>
                  <a:pt x="402" y="164"/>
                  <a:pt x="385" y="210"/>
                  <a:pt x="416" y="167"/>
                </a:cubicBezTo>
                <a:cubicBezTo>
                  <a:pt x="443" y="130"/>
                  <a:pt x="451" y="109"/>
                  <a:pt x="500" y="97"/>
                </a:cubicBezTo>
                <a:cubicBezTo>
                  <a:pt x="521" y="63"/>
                  <a:pt x="536" y="73"/>
                  <a:pt x="576" y="63"/>
                </a:cubicBezTo>
                <a:cubicBezTo>
                  <a:pt x="607" y="55"/>
                  <a:pt x="635" y="43"/>
                  <a:pt x="666" y="35"/>
                </a:cubicBezTo>
                <a:cubicBezTo>
                  <a:pt x="707" y="8"/>
                  <a:pt x="750" y="0"/>
                  <a:pt x="798" y="0"/>
                </a:cubicBez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881760" y="1353960"/>
            <a:ext cx="917640" cy="3008520"/>
          </a:xfrm>
          <a:custGeom>
            <a:avLst/>
            <a:gdLst/>
            <a:ahLst/>
            <a:rect l="l" t="t" r="r" b="b"/>
            <a:pathLst>
              <a:path w="578" h="1895">
                <a:moveTo>
                  <a:pt x="93" y="1895"/>
                </a:moveTo>
                <a:cubicBezTo>
                  <a:pt x="146" y="1876"/>
                  <a:pt x="211" y="1878"/>
                  <a:pt x="266" y="1874"/>
                </a:cubicBezTo>
                <a:cubicBezTo>
                  <a:pt x="289" y="1859"/>
                  <a:pt x="303" y="1842"/>
                  <a:pt x="329" y="1833"/>
                </a:cubicBezTo>
                <a:cubicBezTo>
                  <a:pt x="339" y="1817"/>
                  <a:pt x="350" y="1801"/>
                  <a:pt x="356" y="1784"/>
                </a:cubicBezTo>
                <a:cubicBezTo>
                  <a:pt x="363" y="1764"/>
                  <a:pt x="358" y="1739"/>
                  <a:pt x="370" y="1722"/>
                </a:cubicBezTo>
                <a:cubicBezTo>
                  <a:pt x="374" y="1716"/>
                  <a:pt x="384" y="1717"/>
                  <a:pt x="391" y="1715"/>
                </a:cubicBezTo>
                <a:cubicBezTo>
                  <a:pt x="411" y="1695"/>
                  <a:pt x="426" y="1673"/>
                  <a:pt x="446" y="1652"/>
                </a:cubicBezTo>
                <a:cubicBezTo>
                  <a:pt x="458" y="1617"/>
                  <a:pt x="472" y="1594"/>
                  <a:pt x="488" y="1562"/>
                </a:cubicBezTo>
                <a:cubicBezTo>
                  <a:pt x="501" y="1535"/>
                  <a:pt x="502" y="1506"/>
                  <a:pt x="516" y="1479"/>
                </a:cubicBezTo>
                <a:cubicBezTo>
                  <a:pt x="523" y="1415"/>
                  <a:pt x="538" y="1352"/>
                  <a:pt x="558" y="1291"/>
                </a:cubicBezTo>
                <a:cubicBezTo>
                  <a:pt x="562" y="1081"/>
                  <a:pt x="573" y="884"/>
                  <a:pt x="578" y="674"/>
                </a:cubicBezTo>
                <a:cubicBezTo>
                  <a:pt x="567" y="583"/>
                  <a:pt x="546" y="499"/>
                  <a:pt x="530" y="410"/>
                </a:cubicBezTo>
                <a:cubicBezTo>
                  <a:pt x="527" y="394"/>
                  <a:pt x="528" y="377"/>
                  <a:pt x="523" y="361"/>
                </a:cubicBezTo>
                <a:cubicBezTo>
                  <a:pt x="511" y="323"/>
                  <a:pt x="475" y="283"/>
                  <a:pt x="453" y="250"/>
                </a:cubicBezTo>
                <a:cubicBezTo>
                  <a:pt x="452" y="248"/>
                  <a:pt x="427" y="210"/>
                  <a:pt x="426" y="209"/>
                </a:cubicBezTo>
                <a:cubicBezTo>
                  <a:pt x="391" y="183"/>
                  <a:pt x="404" y="198"/>
                  <a:pt x="384" y="167"/>
                </a:cubicBezTo>
                <a:cubicBezTo>
                  <a:pt x="376" y="136"/>
                  <a:pt x="380" y="122"/>
                  <a:pt x="349" y="112"/>
                </a:cubicBezTo>
                <a:cubicBezTo>
                  <a:pt x="281" y="17"/>
                  <a:pt x="368" y="127"/>
                  <a:pt x="308" y="77"/>
                </a:cubicBezTo>
                <a:cubicBezTo>
                  <a:pt x="299" y="70"/>
                  <a:pt x="296" y="56"/>
                  <a:pt x="287" y="49"/>
                </a:cubicBezTo>
                <a:cubicBezTo>
                  <a:pt x="263" y="29"/>
                  <a:pt x="177" y="29"/>
                  <a:pt x="162" y="28"/>
                </a:cubicBezTo>
                <a:cubicBezTo>
                  <a:pt x="103" y="8"/>
                  <a:pt x="198" y="38"/>
                  <a:pt x="72" y="14"/>
                </a:cubicBezTo>
                <a:cubicBezTo>
                  <a:pt x="0" y="0"/>
                  <a:pt x="56" y="1"/>
                  <a:pt x="30" y="1"/>
                </a:cubicBez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5480" y="2390760"/>
            <a:ext cx="1576440" cy="3381480"/>
          </a:xfrm>
          <a:custGeom>
            <a:avLst/>
            <a:gdLst/>
            <a:ahLst/>
            <a:rect l="l" t="t" r="r" b="b"/>
            <a:pathLst>
              <a:path w="993" h="2130">
                <a:moveTo>
                  <a:pt x="667" y="2130"/>
                </a:moveTo>
                <a:cubicBezTo>
                  <a:pt x="644" y="2126"/>
                  <a:pt x="621" y="2119"/>
                  <a:pt x="597" y="2117"/>
                </a:cubicBezTo>
                <a:cubicBezTo>
                  <a:pt x="590" y="2116"/>
                  <a:pt x="583" y="2124"/>
                  <a:pt x="576" y="2123"/>
                </a:cubicBezTo>
                <a:cubicBezTo>
                  <a:pt x="531" y="2119"/>
                  <a:pt x="484" y="2101"/>
                  <a:pt x="438" y="2096"/>
                </a:cubicBezTo>
                <a:cubicBezTo>
                  <a:pt x="412" y="2087"/>
                  <a:pt x="395" y="2075"/>
                  <a:pt x="368" y="2068"/>
                </a:cubicBezTo>
                <a:cubicBezTo>
                  <a:pt x="361" y="2061"/>
                  <a:pt x="355" y="2053"/>
                  <a:pt x="347" y="2047"/>
                </a:cubicBezTo>
                <a:cubicBezTo>
                  <a:pt x="334" y="2037"/>
                  <a:pt x="306" y="2019"/>
                  <a:pt x="306" y="2019"/>
                </a:cubicBezTo>
                <a:cubicBezTo>
                  <a:pt x="292" y="1999"/>
                  <a:pt x="218" y="1936"/>
                  <a:pt x="195" y="1922"/>
                </a:cubicBezTo>
                <a:cubicBezTo>
                  <a:pt x="182" y="1883"/>
                  <a:pt x="185" y="1867"/>
                  <a:pt x="153" y="1846"/>
                </a:cubicBezTo>
                <a:cubicBezTo>
                  <a:pt x="151" y="1839"/>
                  <a:pt x="149" y="1832"/>
                  <a:pt x="146" y="1825"/>
                </a:cubicBezTo>
                <a:cubicBezTo>
                  <a:pt x="142" y="1817"/>
                  <a:pt x="135" y="1812"/>
                  <a:pt x="132" y="1804"/>
                </a:cubicBezTo>
                <a:cubicBezTo>
                  <a:pt x="119" y="1774"/>
                  <a:pt x="131" y="1761"/>
                  <a:pt x="98" y="1749"/>
                </a:cubicBezTo>
                <a:cubicBezTo>
                  <a:pt x="82" y="1717"/>
                  <a:pt x="68" y="1683"/>
                  <a:pt x="42" y="1659"/>
                </a:cubicBezTo>
                <a:cubicBezTo>
                  <a:pt x="23" y="1602"/>
                  <a:pt x="19" y="1542"/>
                  <a:pt x="0" y="1485"/>
                </a:cubicBezTo>
                <a:cubicBezTo>
                  <a:pt x="2" y="1302"/>
                  <a:pt x="3" y="1120"/>
                  <a:pt x="7" y="937"/>
                </a:cubicBezTo>
                <a:cubicBezTo>
                  <a:pt x="9" y="840"/>
                  <a:pt x="6" y="575"/>
                  <a:pt x="63" y="493"/>
                </a:cubicBezTo>
                <a:cubicBezTo>
                  <a:pt x="70" y="463"/>
                  <a:pt x="81" y="441"/>
                  <a:pt x="98" y="416"/>
                </a:cubicBezTo>
                <a:cubicBezTo>
                  <a:pt x="113" y="341"/>
                  <a:pt x="95" y="420"/>
                  <a:pt x="118" y="354"/>
                </a:cubicBezTo>
                <a:cubicBezTo>
                  <a:pt x="124" y="336"/>
                  <a:pt x="134" y="273"/>
                  <a:pt x="146" y="264"/>
                </a:cubicBezTo>
                <a:cubicBezTo>
                  <a:pt x="155" y="257"/>
                  <a:pt x="166" y="251"/>
                  <a:pt x="174" y="243"/>
                </a:cubicBezTo>
                <a:cubicBezTo>
                  <a:pt x="221" y="196"/>
                  <a:pt x="153" y="245"/>
                  <a:pt x="209" y="208"/>
                </a:cubicBezTo>
                <a:cubicBezTo>
                  <a:pt x="228" y="179"/>
                  <a:pt x="252" y="154"/>
                  <a:pt x="285" y="146"/>
                </a:cubicBezTo>
                <a:cubicBezTo>
                  <a:pt x="354" y="100"/>
                  <a:pt x="448" y="89"/>
                  <a:pt x="528" y="83"/>
                </a:cubicBezTo>
                <a:cubicBezTo>
                  <a:pt x="574" y="68"/>
                  <a:pt x="603" y="54"/>
                  <a:pt x="653" y="49"/>
                </a:cubicBezTo>
                <a:cubicBezTo>
                  <a:pt x="725" y="25"/>
                  <a:pt x="664" y="43"/>
                  <a:pt x="833" y="28"/>
                </a:cubicBezTo>
                <a:cubicBezTo>
                  <a:pt x="856" y="26"/>
                  <a:pt x="903" y="21"/>
                  <a:pt x="903" y="21"/>
                </a:cubicBezTo>
                <a:cubicBezTo>
                  <a:pt x="950" y="5"/>
                  <a:pt x="932" y="0"/>
                  <a:pt x="993" y="0"/>
                </a:cubicBez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918480" y="2446200"/>
            <a:ext cx="903240" cy="1947960"/>
          </a:xfrm>
          <a:custGeom>
            <a:avLst/>
            <a:gdLst/>
            <a:ahLst/>
            <a:rect l="l" t="t" r="r" b="b"/>
            <a:pathLst>
              <a:path w="569" h="1227">
                <a:moveTo>
                  <a:pt x="70" y="1214"/>
                </a:moveTo>
                <a:cubicBezTo>
                  <a:pt x="184" y="1224"/>
                  <a:pt x="168" y="1227"/>
                  <a:pt x="312" y="1207"/>
                </a:cubicBezTo>
                <a:cubicBezTo>
                  <a:pt x="348" y="1202"/>
                  <a:pt x="387" y="1181"/>
                  <a:pt x="423" y="1172"/>
                </a:cubicBezTo>
                <a:cubicBezTo>
                  <a:pt x="438" y="1129"/>
                  <a:pt x="416" y="1173"/>
                  <a:pt x="465" y="1145"/>
                </a:cubicBezTo>
                <a:cubicBezTo>
                  <a:pt x="472" y="1141"/>
                  <a:pt x="472" y="1129"/>
                  <a:pt x="479" y="1124"/>
                </a:cubicBezTo>
                <a:cubicBezTo>
                  <a:pt x="485" y="1119"/>
                  <a:pt x="493" y="1119"/>
                  <a:pt x="500" y="1117"/>
                </a:cubicBezTo>
                <a:cubicBezTo>
                  <a:pt x="507" y="1088"/>
                  <a:pt x="514" y="1067"/>
                  <a:pt x="528" y="1041"/>
                </a:cubicBezTo>
                <a:cubicBezTo>
                  <a:pt x="534" y="994"/>
                  <a:pt x="541" y="948"/>
                  <a:pt x="548" y="902"/>
                </a:cubicBezTo>
                <a:cubicBezTo>
                  <a:pt x="564" y="539"/>
                  <a:pt x="555" y="685"/>
                  <a:pt x="569" y="465"/>
                </a:cubicBezTo>
                <a:cubicBezTo>
                  <a:pt x="557" y="417"/>
                  <a:pt x="537" y="368"/>
                  <a:pt x="528" y="319"/>
                </a:cubicBezTo>
                <a:cubicBezTo>
                  <a:pt x="525" y="301"/>
                  <a:pt x="519" y="249"/>
                  <a:pt x="514" y="229"/>
                </a:cubicBezTo>
                <a:cubicBezTo>
                  <a:pt x="511" y="216"/>
                  <a:pt x="480" y="134"/>
                  <a:pt x="465" y="125"/>
                </a:cubicBezTo>
                <a:cubicBezTo>
                  <a:pt x="444" y="112"/>
                  <a:pt x="388" y="107"/>
                  <a:pt x="368" y="104"/>
                </a:cubicBezTo>
                <a:cubicBezTo>
                  <a:pt x="315" y="86"/>
                  <a:pt x="261" y="80"/>
                  <a:pt x="208" y="62"/>
                </a:cubicBezTo>
                <a:cubicBezTo>
                  <a:pt x="184" y="54"/>
                  <a:pt x="162" y="35"/>
                  <a:pt x="139" y="27"/>
                </a:cubicBezTo>
                <a:cubicBezTo>
                  <a:pt x="98" y="13"/>
                  <a:pt x="43" y="0"/>
                  <a:pt x="0" y="0"/>
                </a:cubicBez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700360" y="6211800"/>
            <a:ext cx="5219280" cy="579240"/>
            <a:chOff x="2700360" y="6211800"/>
            <a:chExt cx="5219280" cy="579240"/>
          </a:xfrm>
        </p:grpSpPr>
        <p:pic>
          <p:nvPicPr>
            <p:cNvPr id="345" name="Picture 10" descr=""/>
            <p:cNvPicPr/>
            <p:nvPr/>
          </p:nvPicPr>
          <p:blipFill>
            <a:blip r:embed="rId2"/>
            <a:stretch/>
          </p:blipFill>
          <p:spPr>
            <a:xfrm>
              <a:off x="2700360" y="6211800"/>
              <a:ext cx="150948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4398840" y="6244920"/>
              <a:ext cx="352080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25760" y="62449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7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8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9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10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11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600000">
                                      <p:cBhvr>
                                        <p:cTn id="12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914400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Elektriskā pretestība </a:t>
            </a:r>
            <a:r>
              <a:rPr b="1" i="1" lang="lv-LV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 ir atkarīga no vada garuma </a:t>
            </a:r>
            <a:r>
              <a:rPr b="1" i="1" lang="lv-LV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no vada šķērsgriezuma laukuma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lv-LV" sz="4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un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īpatnēja pretestības </a:t>
            </a:r>
            <a:r>
              <a:rPr b="1" i="1" lang="el-G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ρ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86080" y="1285920"/>
            <a:ext cx="35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543040" y="1898640"/>
            <a:ext cx="49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40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062920" y="1901880"/>
            <a:ext cx="39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741840" y="1382760"/>
            <a:ext cx="5165640" cy="58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57280" y="1978200"/>
            <a:ext cx="243504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948040" y="2033640"/>
            <a:ext cx="598176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087880" y="681120"/>
            <a:ext cx="52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2700360" y="6211800"/>
            <a:ext cx="5219280" cy="579240"/>
            <a:chOff x="2700360" y="6211800"/>
            <a:chExt cx="5219280" cy="579240"/>
          </a:xfrm>
        </p:grpSpPr>
        <p:pic>
          <p:nvPicPr>
            <p:cNvPr id="362" name="Picture 10" descr=""/>
            <p:cNvPicPr/>
            <p:nvPr/>
          </p:nvPicPr>
          <p:blipFill>
            <a:blip r:embed="rId1"/>
            <a:stretch/>
          </p:blipFill>
          <p:spPr>
            <a:xfrm>
              <a:off x="2700360" y="6211800"/>
              <a:ext cx="150948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4398840" y="6244920"/>
              <a:ext cx="352080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325760" y="62449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396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00000" y="1598760"/>
            <a:ext cx="554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044800" y="4644000"/>
            <a:ext cx="1365120" cy="1671840"/>
            <a:chOff x="2044800" y="4644000"/>
            <a:chExt cx="1365120" cy="1671840"/>
          </a:xfrm>
        </p:grpSpPr>
        <p:sp>
          <p:nvSpPr>
            <p:cNvPr id="368" name=""/>
            <p:cNvSpPr/>
            <p:nvPr/>
          </p:nvSpPr>
          <p:spPr>
            <a:xfrm flipH="1" flipV="1">
              <a:off x="2044800" y="4644000"/>
              <a:ext cx="682560" cy="835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2727000" y="5479560"/>
              <a:ext cx="682920" cy="836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622520" y="4398840"/>
            <a:ext cx="2170800" cy="2158920"/>
            <a:chOff x="1622520" y="4398840"/>
            <a:chExt cx="2170800" cy="2158920"/>
          </a:xfrm>
        </p:grpSpPr>
        <p:sp>
          <p:nvSpPr>
            <p:cNvPr id="371" name=""/>
            <p:cNvSpPr/>
            <p:nvPr/>
          </p:nvSpPr>
          <p:spPr>
            <a:xfrm>
              <a:off x="1622880" y="4398840"/>
              <a:ext cx="2170440" cy="215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350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350966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1622160" y="4398840"/>
              <a:ext cx="2170440" cy="215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350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350966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2706840" y="42591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935360" y="4527000"/>
            <a:ext cx="88560" cy="11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293200" y="4323600"/>
            <a:ext cx="4644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070800" y="4331520"/>
            <a:ext cx="4680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394080" y="4529880"/>
            <a:ext cx="88200" cy="11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rot="20045400">
            <a:off x="1943280" y="3968280"/>
            <a:ext cx="5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  <a:ea typeface="Arial"/>
              </a:rPr>
              <a:t>0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rot="19320000">
            <a:off x="1671840" y="42192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444760" y="3911760"/>
            <a:ext cx="5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  <a:ea typeface="Arial"/>
              </a:rPr>
              <a:t>0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984600">
            <a:off x="2909520" y="3981240"/>
            <a:ext cx="6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  <a:ea typeface="Arial"/>
              </a:rPr>
              <a:t>0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2278800">
            <a:off x="3332880" y="4254480"/>
            <a:ext cx="6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  <a:ea typeface="Arial"/>
              </a:rPr>
              <a:t>0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639800" y="3809880"/>
            <a:ext cx="2225880" cy="2094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00200" y="4624560"/>
            <a:ext cx="4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67600" y="4613400"/>
            <a:ext cx="458640" cy="5760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5824440" y="4440240"/>
            <a:ext cx="1332000" cy="892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902200" y="4327560"/>
            <a:ext cx="88920" cy="88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73920" y="4332240"/>
            <a:ext cx="88920" cy="88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899320" y="4546440"/>
            <a:ext cx="10476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013520" y="4505400"/>
            <a:ext cx="0" cy="104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59520" y="4560840"/>
            <a:ext cx="104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825560" y="5518080"/>
            <a:ext cx="104760" cy="104760"/>
            <a:chOff x="1825560" y="5518080"/>
            <a:chExt cx="104760" cy="104760"/>
          </a:xfrm>
        </p:grpSpPr>
        <p:sp>
          <p:nvSpPr>
            <p:cNvPr id="393" name=""/>
            <p:cNvSpPr/>
            <p:nvPr/>
          </p:nvSpPr>
          <p:spPr>
            <a:xfrm>
              <a:off x="1879560" y="5518080"/>
              <a:ext cx="0" cy="104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25560" y="5573520"/>
              <a:ext cx="104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3594240" y="5572080"/>
            <a:ext cx="10476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795320" y="5676840"/>
            <a:ext cx="152640" cy="152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568680" y="5665680"/>
            <a:ext cx="152280" cy="152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635280" y="4389480"/>
            <a:ext cx="2281320" cy="1319040"/>
          </a:xfrm>
          <a:custGeom>
            <a:avLst/>
            <a:gdLst/>
            <a:ahLst/>
            <a:rect l="l" t="t" r="r" b="b"/>
            <a:pathLst>
              <a:path w="1437" h="831">
                <a:moveTo>
                  <a:pt x="0" y="831"/>
                </a:moveTo>
                <a:cubicBezTo>
                  <a:pt x="90" y="824"/>
                  <a:pt x="181" y="821"/>
                  <a:pt x="271" y="810"/>
                </a:cubicBezTo>
                <a:cubicBezTo>
                  <a:pt x="347" y="801"/>
                  <a:pt x="424" y="778"/>
                  <a:pt x="500" y="768"/>
                </a:cubicBezTo>
                <a:cubicBezTo>
                  <a:pt x="562" y="751"/>
                  <a:pt x="532" y="760"/>
                  <a:pt x="590" y="741"/>
                </a:cubicBezTo>
                <a:cubicBezTo>
                  <a:pt x="604" y="736"/>
                  <a:pt x="632" y="727"/>
                  <a:pt x="632" y="727"/>
                </a:cubicBezTo>
                <a:cubicBezTo>
                  <a:pt x="685" y="691"/>
                  <a:pt x="696" y="698"/>
                  <a:pt x="757" y="678"/>
                </a:cubicBezTo>
                <a:cubicBezTo>
                  <a:pt x="765" y="650"/>
                  <a:pt x="784" y="644"/>
                  <a:pt x="805" y="623"/>
                </a:cubicBezTo>
                <a:cubicBezTo>
                  <a:pt x="813" y="589"/>
                  <a:pt x="829" y="565"/>
                  <a:pt x="840" y="533"/>
                </a:cubicBezTo>
                <a:cubicBezTo>
                  <a:pt x="855" y="427"/>
                  <a:pt x="830" y="518"/>
                  <a:pt x="868" y="470"/>
                </a:cubicBezTo>
                <a:cubicBezTo>
                  <a:pt x="893" y="439"/>
                  <a:pt x="875" y="398"/>
                  <a:pt x="930" y="380"/>
                </a:cubicBezTo>
                <a:cubicBezTo>
                  <a:pt x="940" y="341"/>
                  <a:pt x="961" y="315"/>
                  <a:pt x="999" y="304"/>
                </a:cubicBezTo>
                <a:cubicBezTo>
                  <a:pt x="1012" y="295"/>
                  <a:pt x="1029" y="293"/>
                  <a:pt x="1041" y="283"/>
                </a:cubicBezTo>
                <a:cubicBezTo>
                  <a:pt x="1092" y="241"/>
                  <a:pt x="1035" y="264"/>
                  <a:pt x="1083" y="248"/>
                </a:cubicBezTo>
                <a:cubicBezTo>
                  <a:pt x="1109" y="209"/>
                  <a:pt x="1100" y="168"/>
                  <a:pt x="1152" y="151"/>
                </a:cubicBezTo>
                <a:cubicBezTo>
                  <a:pt x="1171" y="95"/>
                  <a:pt x="1143" y="160"/>
                  <a:pt x="1180" y="123"/>
                </a:cubicBezTo>
                <a:cubicBezTo>
                  <a:pt x="1235" y="68"/>
                  <a:pt x="1182" y="89"/>
                  <a:pt x="1228" y="75"/>
                </a:cubicBezTo>
                <a:cubicBezTo>
                  <a:pt x="1271" y="47"/>
                  <a:pt x="1338" y="27"/>
                  <a:pt x="1388" y="19"/>
                </a:cubicBezTo>
                <a:cubicBezTo>
                  <a:pt x="1417" y="0"/>
                  <a:pt x="1401" y="5"/>
                  <a:pt x="1437" y="5"/>
                </a:cubicBez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365200" y="1241280"/>
            <a:ext cx="4537080" cy="40644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74720" y="760320"/>
            <a:ext cx="1616040" cy="5011920"/>
          </a:xfrm>
          <a:custGeom>
            <a:avLst/>
            <a:gdLst/>
            <a:ahLst/>
            <a:rect l="l" t="t" r="r" b="b"/>
            <a:pathLst>
              <a:path w="1018" h="3129">
                <a:moveTo>
                  <a:pt x="699" y="3129"/>
                </a:moveTo>
                <a:cubicBezTo>
                  <a:pt x="683" y="3118"/>
                  <a:pt x="666" y="3106"/>
                  <a:pt x="650" y="3095"/>
                </a:cubicBezTo>
                <a:cubicBezTo>
                  <a:pt x="614" y="3070"/>
                  <a:pt x="563" y="3071"/>
                  <a:pt x="525" y="3046"/>
                </a:cubicBezTo>
                <a:cubicBezTo>
                  <a:pt x="520" y="3039"/>
                  <a:pt x="518" y="3030"/>
                  <a:pt x="511" y="3025"/>
                </a:cubicBezTo>
                <a:cubicBezTo>
                  <a:pt x="485" y="3009"/>
                  <a:pt x="422" y="2990"/>
                  <a:pt x="393" y="2984"/>
                </a:cubicBezTo>
                <a:cubicBezTo>
                  <a:pt x="356" y="2969"/>
                  <a:pt x="322" y="2957"/>
                  <a:pt x="289" y="2935"/>
                </a:cubicBezTo>
                <a:cubicBezTo>
                  <a:pt x="284" y="2928"/>
                  <a:pt x="281" y="2920"/>
                  <a:pt x="275" y="2914"/>
                </a:cubicBezTo>
                <a:cubicBezTo>
                  <a:pt x="269" y="2908"/>
                  <a:pt x="260" y="2906"/>
                  <a:pt x="255" y="2900"/>
                </a:cubicBezTo>
                <a:cubicBezTo>
                  <a:pt x="236" y="2876"/>
                  <a:pt x="248" y="2868"/>
                  <a:pt x="213" y="2845"/>
                </a:cubicBezTo>
                <a:cubicBezTo>
                  <a:pt x="199" y="2804"/>
                  <a:pt x="191" y="2789"/>
                  <a:pt x="164" y="2755"/>
                </a:cubicBezTo>
                <a:cubicBezTo>
                  <a:pt x="157" y="2720"/>
                  <a:pt x="151" y="2677"/>
                  <a:pt x="137" y="2644"/>
                </a:cubicBezTo>
                <a:cubicBezTo>
                  <a:pt x="122" y="2610"/>
                  <a:pt x="104" y="2577"/>
                  <a:pt x="95" y="2540"/>
                </a:cubicBezTo>
                <a:cubicBezTo>
                  <a:pt x="90" y="2519"/>
                  <a:pt x="89" y="2497"/>
                  <a:pt x="81" y="2477"/>
                </a:cubicBezTo>
                <a:cubicBezTo>
                  <a:pt x="78" y="2469"/>
                  <a:pt x="71" y="2464"/>
                  <a:pt x="67" y="2456"/>
                </a:cubicBezTo>
                <a:cubicBezTo>
                  <a:pt x="64" y="2449"/>
                  <a:pt x="62" y="2442"/>
                  <a:pt x="60" y="2435"/>
                </a:cubicBezTo>
                <a:cubicBezTo>
                  <a:pt x="56" y="2347"/>
                  <a:pt x="58" y="2296"/>
                  <a:pt x="39" y="2220"/>
                </a:cubicBezTo>
                <a:cubicBezTo>
                  <a:pt x="34" y="2094"/>
                  <a:pt x="0" y="1907"/>
                  <a:pt x="46" y="1769"/>
                </a:cubicBezTo>
                <a:cubicBezTo>
                  <a:pt x="52" y="1691"/>
                  <a:pt x="63" y="1564"/>
                  <a:pt x="109" y="1499"/>
                </a:cubicBezTo>
                <a:cubicBezTo>
                  <a:pt x="128" y="1405"/>
                  <a:pt x="143" y="1302"/>
                  <a:pt x="178" y="1214"/>
                </a:cubicBezTo>
                <a:cubicBezTo>
                  <a:pt x="192" y="1178"/>
                  <a:pt x="195" y="1132"/>
                  <a:pt x="227" y="1110"/>
                </a:cubicBezTo>
                <a:cubicBezTo>
                  <a:pt x="268" y="1048"/>
                  <a:pt x="262" y="964"/>
                  <a:pt x="303" y="902"/>
                </a:cubicBezTo>
                <a:cubicBezTo>
                  <a:pt x="308" y="860"/>
                  <a:pt x="308" y="832"/>
                  <a:pt x="331" y="798"/>
                </a:cubicBezTo>
                <a:cubicBezTo>
                  <a:pt x="337" y="758"/>
                  <a:pt x="349" y="726"/>
                  <a:pt x="359" y="687"/>
                </a:cubicBezTo>
                <a:cubicBezTo>
                  <a:pt x="361" y="678"/>
                  <a:pt x="360" y="667"/>
                  <a:pt x="366" y="659"/>
                </a:cubicBezTo>
                <a:cubicBezTo>
                  <a:pt x="370" y="653"/>
                  <a:pt x="379" y="654"/>
                  <a:pt x="386" y="652"/>
                </a:cubicBezTo>
                <a:cubicBezTo>
                  <a:pt x="408" y="630"/>
                  <a:pt x="427" y="620"/>
                  <a:pt x="456" y="610"/>
                </a:cubicBezTo>
                <a:cubicBezTo>
                  <a:pt x="478" y="577"/>
                  <a:pt x="491" y="550"/>
                  <a:pt x="525" y="527"/>
                </a:cubicBezTo>
                <a:cubicBezTo>
                  <a:pt x="545" y="477"/>
                  <a:pt x="542" y="415"/>
                  <a:pt x="567" y="367"/>
                </a:cubicBezTo>
                <a:cubicBezTo>
                  <a:pt x="576" y="351"/>
                  <a:pt x="587" y="336"/>
                  <a:pt x="595" y="319"/>
                </a:cubicBezTo>
                <a:cubicBezTo>
                  <a:pt x="603" y="304"/>
                  <a:pt x="599" y="284"/>
                  <a:pt x="608" y="270"/>
                </a:cubicBezTo>
                <a:cubicBezTo>
                  <a:pt x="613" y="263"/>
                  <a:pt x="652" y="244"/>
                  <a:pt x="657" y="242"/>
                </a:cubicBezTo>
                <a:cubicBezTo>
                  <a:pt x="666" y="205"/>
                  <a:pt x="680" y="204"/>
                  <a:pt x="713" y="187"/>
                </a:cubicBezTo>
                <a:cubicBezTo>
                  <a:pt x="717" y="176"/>
                  <a:pt x="747" y="123"/>
                  <a:pt x="754" y="118"/>
                </a:cubicBezTo>
                <a:cubicBezTo>
                  <a:pt x="763" y="112"/>
                  <a:pt x="809" y="101"/>
                  <a:pt x="824" y="97"/>
                </a:cubicBezTo>
                <a:cubicBezTo>
                  <a:pt x="837" y="88"/>
                  <a:pt x="844" y="71"/>
                  <a:pt x="858" y="62"/>
                </a:cubicBezTo>
                <a:cubicBezTo>
                  <a:pt x="872" y="53"/>
                  <a:pt x="892" y="56"/>
                  <a:pt x="907" y="48"/>
                </a:cubicBezTo>
                <a:cubicBezTo>
                  <a:pt x="922" y="40"/>
                  <a:pt x="932" y="22"/>
                  <a:pt x="949" y="20"/>
                </a:cubicBezTo>
                <a:cubicBezTo>
                  <a:pt x="1016" y="12"/>
                  <a:pt x="1001" y="31"/>
                  <a:pt x="1018" y="0"/>
                </a:cubicBez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07320" y="735120"/>
            <a:ext cx="969840" cy="3649680"/>
          </a:xfrm>
          <a:custGeom>
            <a:avLst/>
            <a:gdLst/>
            <a:ahLst/>
            <a:rect l="l" t="t" r="r" b="b"/>
            <a:pathLst>
              <a:path w="611" h="2299">
                <a:moveTo>
                  <a:pt x="70" y="2299"/>
                </a:moveTo>
                <a:cubicBezTo>
                  <a:pt x="98" y="2292"/>
                  <a:pt x="125" y="2285"/>
                  <a:pt x="153" y="2278"/>
                </a:cubicBezTo>
                <a:cubicBezTo>
                  <a:pt x="171" y="2273"/>
                  <a:pt x="208" y="2264"/>
                  <a:pt x="208" y="2264"/>
                </a:cubicBezTo>
                <a:cubicBezTo>
                  <a:pt x="237" y="2236"/>
                  <a:pt x="272" y="2235"/>
                  <a:pt x="299" y="2202"/>
                </a:cubicBezTo>
                <a:cubicBezTo>
                  <a:pt x="326" y="2170"/>
                  <a:pt x="333" y="2136"/>
                  <a:pt x="368" y="2112"/>
                </a:cubicBezTo>
                <a:cubicBezTo>
                  <a:pt x="380" y="2064"/>
                  <a:pt x="395" y="2011"/>
                  <a:pt x="417" y="1966"/>
                </a:cubicBezTo>
                <a:cubicBezTo>
                  <a:pt x="419" y="1954"/>
                  <a:pt x="425" y="1943"/>
                  <a:pt x="424" y="1931"/>
                </a:cubicBezTo>
                <a:cubicBezTo>
                  <a:pt x="416" y="1857"/>
                  <a:pt x="399" y="1947"/>
                  <a:pt x="417" y="1876"/>
                </a:cubicBezTo>
                <a:cubicBezTo>
                  <a:pt x="421" y="1731"/>
                  <a:pt x="414" y="1568"/>
                  <a:pt x="451" y="1425"/>
                </a:cubicBezTo>
                <a:cubicBezTo>
                  <a:pt x="453" y="1406"/>
                  <a:pt x="452" y="1387"/>
                  <a:pt x="458" y="1369"/>
                </a:cubicBezTo>
                <a:cubicBezTo>
                  <a:pt x="464" y="1353"/>
                  <a:pt x="480" y="1343"/>
                  <a:pt x="486" y="1327"/>
                </a:cubicBezTo>
                <a:cubicBezTo>
                  <a:pt x="488" y="1320"/>
                  <a:pt x="491" y="1314"/>
                  <a:pt x="493" y="1307"/>
                </a:cubicBezTo>
                <a:cubicBezTo>
                  <a:pt x="505" y="1171"/>
                  <a:pt x="509" y="1137"/>
                  <a:pt x="514" y="960"/>
                </a:cubicBezTo>
                <a:cubicBezTo>
                  <a:pt x="507" y="630"/>
                  <a:pt x="611" y="437"/>
                  <a:pt x="451" y="224"/>
                </a:cubicBezTo>
                <a:cubicBezTo>
                  <a:pt x="445" y="190"/>
                  <a:pt x="431" y="167"/>
                  <a:pt x="424" y="134"/>
                </a:cubicBezTo>
                <a:cubicBezTo>
                  <a:pt x="420" y="113"/>
                  <a:pt x="425" y="86"/>
                  <a:pt x="410" y="71"/>
                </a:cubicBezTo>
                <a:cubicBezTo>
                  <a:pt x="396" y="57"/>
                  <a:pt x="373" y="56"/>
                  <a:pt x="354" y="51"/>
                </a:cubicBezTo>
                <a:cubicBezTo>
                  <a:pt x="300" y="37"/>
                  <a:pt x="244" y="31"/>
                  <a:pt x="188" y="23"/>
                </a:cubicBezTo>
                <a:cubicBezTo>
                  <a:pt x="119" y="0"/>
                  <a:pt x="122" y="3"/>
                  <a:pt x="28" y="9"/>
                </a:cubicBezTo>
                <a:cubicBezTo>
                  <a:pt x="11" y="34"/>
                  <a:pt x="22" y="30"/>
                  <a:pt x="0" y="30"/>
                </a:cubicBez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112760" y="1442880"/>
            <a:ext cx="1266840" cy="4334040"/>
          </a:xfrm>
          <a:custGeom>
            <a:avLst/>
            <a:gdLst/>
            <a:ahLst/>
            <a:rect l="l" t="t" r="r" b="b"/>
            <a:pathLst>
              <a:path w="798" h="2730">
                <a:moveTo>
                  <a:pt x="472" y="2720"/>
                </a:moveTo>
                <a:cubicBezTo>
                  <a:pt x="443" y="2730"/>
                  <a:pt x="432" y="2714"/>
                  <a:pt x="402" y="2707"/>
                </a:cubicBezTo>
                <a:cubicBezTo>
                  <a:pt x="389" y="2698"/>
                  <a:pt x="373" y="2696"/>
                  <a:pt x="361" y="2686"/>
                </a:cubicBezTo>
                <a:cubicBezTo>
                  <a:pt x="325" y="2656"/>
                  <a:pt x="357" y="2661"/>
                  <a:pt x="319" y="2644"/>
                </a:cubicBezTo>
                <a:cubicBezTo>
                  <a:pt x="306" y="2638"/>
                  <a:pt x="292" y="2635"/>
                  <a:pt x="278" y="2630"/>
                </a:cubicBezTo>
                <a:cubicBezTo>
                  <a:pt x="271" y="2628"/>
                  <a:pt x="257" y="2623"/>
                  <a:pt x="257" y="2623"/>
                </a:cubicBezTo>
                <a:cubicBezTo>
                  <a:pt x="208" y="2577"/>
                  <a:pt x="211" y="2523"/>
                  <a:pt x="187" y="2464"/>
                </a:cubicBezTo>
                <a:cubicBezTo>
                  <a:pt x="185" y="2422"/>
                  <a:pt x="184" y="2381"/>
                  <a:pt x="180" y="2339"/>
                </a:cubicBezTo>
                <a:cubicBezTo>
                  <a:pt x="177" y="2306"/>
                  <a:pt x="166" y="2242"/>
                  <a:pt x="166" y="2242"/>
                </a:cubicBezTo>
                <a:cubicBezTo>
                  <a:pt x="162" y="2177"/>
                  <a:pt x="144" y="2025"/>
                  <a:pt x="90" y="1971"/>
                </a:cubicBezTo>
                <a:cubicBezTo>
                  <a:pt x="72" y="1918"/>
                  <a:pt x="79" y="1943"/>
                  <a:pt x="69" y="1895"/>
                </a:cubicBezTo>
                <a:cubicBezTo>
                  <a:pt x="67" y="1851"/>
                  <a:pt x="67" y="1807"/>
                  <a:pt x="62" y="1763"/>
                </a:cubicBezTo>
                <a:cubicBezTo>
                  <a:pt x="58" y="1734"/>
                  <a:pt x="46" y="1730"/>
                  <a:pt x="35" y="1707"/>
                </a:cubicBezTo>
                <a:cubicBezTo>
                  <a:pt x="20" y="1675"/>
                  <a:pt x="13" y="1636"/>
                  <a:pt x="0" y="1603"/>
                </a:cubicBezTo>
                <a:cubicBezTo>
                  <a:pt x="2" y="1511"/>
                  <a:pt x="3" y="1418"/>
                  <a:pt x="7" y="1326"/>
                </a:cubicBezTo>
                <a:cubicBezTo>
                  <a:pt x="8" y="1289"/>
                  <a:pt x="13" y="1240"/>
                  <a:pt x="21" y="1201"/>
                </a:cubicBezTo>
                <a:cubicBezTo>
                  <a:pt x="25" y="1182"/>
                  <a:pt x="35" y="1145"/>
                  <a:pt x="35" y="1145"/>
                </a:cubicBezTo>
                <a:cubicBezTo>
                  <a:pt x="43" y="1077"/>
                  <a:pt x="61" y="1009"/>
                  <a:pt x="83" y="944"/>
                </a:cubicBezTo>
                <a:cubicBezTo>
                  <a:pt x="85" y="923"/>
                  <a:pt x="84" y="901"/>
                  <a:pt x="90" y="881"/>
                </a:cubicBezTo>
                <a:cubicBezTo>
                  <a:pt x="93" y="870"/>
                  <a:pt x="107" y="865"/>
                  <a:pt x="111" y="854"/>
                </a:cubicBezTo>
                <a:cubicBezTo>
                  <a:pt x="128" y="803"/>
                  <a:pt x="115" y="747"/>
                  <a:pt x="146" y="701"/>
                </a:cubicBezTo>
                <a:cubicBezTo>
                  <a:pt x="158" y="652"/>
                  <a:pt x="148" y="681"/>
                  <a:pt x="187" y="618"/>
                </a:cubicBezTo>
                <a:cubicBezTo>
                  <a:pt x="209" y="582"/>
                  <a:pt x="188" y="561"/>
                  <a:pt x="229" y="534"/>
                </a:cubicBezTo>
                <a:cubicBezTo>
                  <a:pt x="238" y="500"/>
                  <a:pt x="253" y="497"/>
                  <a:pt x="278" y="472"/>
                </a:cubicBezTo>
                <a:cubicBezTo>
                  <a:pt x="280" y="463"/>
                  <a:pt x="281" y="453"/>
                  <a:pt x="284" y="444"/>
                </a:cubicBezTo>
                <a:cubicBezTo>
                  <a:pt x="288" y="430"/>
                  <a:pt x="298" y="403"/>
                  <a:pt x="298" y="403"/>
                </a:cubicBezTo>
                <a:cubicBezTo>
                  <a:pt x="305" y="364"/>
                  <a:pt x="310" y="331"/>
                  <a:pt x="333" y="299"/>
                </a:cubicBezTo>
                <a:cubicBezTo>
                  <a:pt x="341" y="258"/>
                  <a:pt x="355" y="231"/>
                  <a:pt x="389" y="208"/>
                </a:cubicBezTo>
                <a:cubicBezTo>
                  <a:pt x="402" y="164"/>
                  <a:pt x="385" y="210"/>
                  <a:pt x="416" y="167"/>
                </a:cubicBezTo>
                <a:cubicBezTo>
                  <a:pt x="443" y="130"/>
                  <a:pt x="451" y="109"/>
                  <a:pt x="500" y="97"/>
                </a:cubicBezTo>
                <a:cubicBezTo>
                  <a:pt x="521" y="63"/>
                  <a:pt x="536" y="73"/>
                  <a:pt x="576" y="63"/>
                </a:cubicBezTo>
                <a:cubicBezTo>
                  <a:pt x="607" y="55"/>
                  <a:pt x="635" y="43"/>
                  <a:pt x="666" y="35"/>
                </a:cubicBezTo>
                <a:cubicBezTo>
                  <a:pt x="707" y="8"/>
                  <a:pt x="750" y="0"/>
                  <a:pt x="798" y="0"/>
                </a:cubicBez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81760" y="1353960"/>
            <a:ext cx="917640" cy="3008520"/>
          </a:xfrm>
          <a:custGeom>
            <a:avLst/>
            <a:gdLst/>
            <a:ahLst/>
            <a:rect l="l" t="t" r="r" b="b"/>
            <a:pathLst>
              <a:path w="578" h="1895">
                <a:moveTo>
                  <a:pt x="93" y="1895"/>
                </a:moveTo>
                <a:cubicBezTo>
                  <a:pt x="146" y="1876"/>
                  <a:pt x="211" y="1878"/>
                  <a:pt x="266" y="1874"/>
                </a:cubicBezTo>
                <a:cubicBezTo>
                  <a:pt x="289" y="1859"/>
                  <a:pt x="303" y="1842"/>
                  <a:pt x="329" y="1833"/>
                </a:cubicBezTo>
                <a:cubicBezTo>
                  <a:pt x="339" y="1817"/>
                  <a:pt x="350" y="1801"/>
                  <a:pt x="356" y="1784"/>
                </a:cubicBezTo>
                <a:cubicBezTo>
                  <a:pt x="363" y="1764"/>
                  <a:pt x="358" y="1739"/>
                  <a:pt x="370" y="1722"/>
                </a:cubicBezTo>
                <a:cubicBezTo>
                  <a:pt x="374" y="1716"/>
                  <a:pt x="384" y="1717"/>
                  <a:pt x="391" y="1715"/>
                </a:cubicBezTo>
                <a:cubicBezTo>
                  <a:pt x="411" y="1695"/>
                  <a:pt x="426" y="1673"/>
                  <a:pt x="446" y="1652"/>
                </a:cubicBezTo>
                <a:cubicBezTo>
                  <a:pt x="458" y="1617"/>
                  <a:pt x="472" y="1594"/>
                  <a:pt x="488" y="1562"/>
                </a:cubicBezTo>
                <a:cubicBezTo>
                  <a:pt x="501" y="1535"/>
                  <a:pt x="502" y="1506"/>
                  <a:pt x="516" y="1479"/>
                </a:cubicBezTo>
                <a:cubicBezTo>
                  <a:pt x="523" y="1415"/>
                  <a:pt x="538" y="1352"/>
                  <a:pt x="558" y="1291"/>
                </a:cubicBezTo>
                <a:cubicBezTo>
                  <a:pt x="562" y="1081"/>
                  <a:pt x="573" y="884"/>
                  <a:pt x="578" y="674"/>
                </a:cubicBezTo>
                <a:cubicBezTo>
                  <a:pt x="567" y="583"/>
                  <a:pt x="546" y="499"/>
                  <a:pt x="530" y="410"/>
                </a:cubicBezTo>
                <a:cubicBezTo>
                  <a:pt x="527" y="394"/>
                  <a:pt x="528" y="377"/>
                  <a:pt x="523" y="361"/>
                </a:cubicBezTo>
                <a:cubicBezTo>
                  <a:pt x="511" y="323"/>
                  <a:pt x="475" y="283"/>
                  <a:pt x="453" y="250"/>
                </a:cubicBezTo>
                <a:cubicBezTo>
                  <a:pt x="452" y="248"/>
                  <a:pt x="427" y="210"/>
                  <a:pt x="426" y="209"/>
                </a:cubicBezTo>
                <a:cubicBezTo>
                  <a:pt x="391" y="183"/>
                  <a:pt x="404" y="198"/>
                  <a:pt x="384" y="167"/>
                </a:cubicBezTo>
                <a:cubicBezTo>
                  <a:pt x="376" y="136"/>
                  <a:pt x="380" y="122"/>
                  <a:pt x="349" y="112"/>
                </a:cubicBezTo>
                <a:cubicBezTo>
                  <a:pt x="281" y="17"/>
                  <a:pt x="368" y="127"/>
                  <a:pt x="308" y="77"/>
                </a:cubicBezTo>
                <a:cubicBezTo>
                  <a:pt x="299" y="70"/>
                  <a:pt x="296" y="56"/>
                  <a:pt x="287" y="49"/>
                </a:cubicBezTo>
                <a:cubicBezTo>
                  <a:pt x="263" y="29"/>
                  <a:pt x="177" y="29"/>
                  <a:pt x="162" y="28"/>
                </a:cubicBezTo>
                <a:cubicBezTo>
                  <a:pt x="103" y="8"/>
                  <a:pt x="198" y="38"/>
                  <a:pt x="72" y="14"/>
                </a:cubicBezTo>
                <a:cubicBezTo>
                  <a:pt x="0" y="0"/>
                  <a:pt x="56" y="1"/>
                  <a:pt x="30" y="1"/>
                </a:cubicBez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25480" y="2170080"/>
            <a:ext cx="1576440" cy="3602160"/>
          </a:xfrm>
          <a:custGeom>
            <a:avLst/>
            <a:gdLst/>
            <a:ahLst/>
            <a:rect l="l" t="t" r="r" b="b"/>
            <a:pathLst>
              <a:path w="993" h="2130">
                <a:moveTo>
                  <a:pt x="667" y="2130"/>
                </a:moveTo>
                <a:cubicBezTo>
                  <a:pt x="644" y="2126"/>
                  <a:pt x="621" y="2119"/>
                  <a:pt x="597" y="2117"/>
                </a:cubicBezTo>
                <a:cubicBezTo>
                  <a:pt x="590" y="2116"/>
                  <a:pt x="583" y="2124"/>
                  <a:pt x="576" y="2123"/>
                </a:cubicBezTo>
                <a:cubicBezTo>
                  <a:pt x="531" y="2119"/>
                  <a:pt x="484" y="2101"/>
                  <a:pt x="438" y="2096"/>
                </a:cubicBezTo>
                <a:cubicBezTo>
                  <a:pt x="412" y="2087"/>
                  <a:pt x="395" y="2075"/>
                  <a:pt x="368" y="2068"/>
                </a:cubicBezTo>
                <a:cubicBezTo>
                  <a:pt x="361" y="2061"/>
                  <a:pt x="355" y="2053"/>
                  <a:pt x="347" y="2047"/>
                </a:cubicBezTo>
                <a:cubicBezTo>
                  <a:pt x="334" y="2037"/>
                  <a:pt x="306" y="2019"/>
                  <a:pt x="306" y="2019"/>
                </a:cubicBezTo>
                <a:cubicBezTo>
                  <a:pt x="292" y="1999"/>
                  <a:pt x="218" y="1936"/>
                  <a:pt x="195" y="1922"/>
                </a:cubicBezTo>
                <a:cubicBezTo>
                  <a:pt x="182" y="1883"/>
                  <a:pt x="185" y="1867"/>
                  <a:pt x="153" y="1846"/>
                </a:cubicBezTo>
                <a:cubicBezTo>
                  <a:pt x="151" y="1839"/>
                  <a:pt x="149" y="1832"/>
                  <a:pt x="146" y="1825"/>
                </a:cubicBezTo>
                <a:cubicBezTo>
                  <a:pt x="142" y="1817"/>
                  <a:pt x="135" y="1812"/>
                  <a:pt x="132" y="1804"/>
                </a:cubicBezTo>
                <a:cubicBezTo>
                  <a:pt x="119" y="1774"/>
                  <a:pt x="131" y="1761"/>
                  <a:pt x="98" y="1749"/>
                </a:cubicBezTo>
                <a:cubicBezTo>
                  <a:pt x="82" y="1717"/>
                  <a:pt x="68" y="1683"/>
                  <a:pt x="42" y="1659"/>
                </a:cubicBezTo>
                <a:cubicBezTo>
                  <a:pt x="23" y="1602"/>
                  <a:pt x="19" y="1542"/>
                  <a:pt x="0" y="1485"/>
                </a:cubicBezTo>
                <a:cubicBezTo>
                  <a:pt x="2" y="1302"/>
                  <a:pt x="3" y="1120"/>
                  <a:pt x="7" y="937"/>
                </a:cubicBezTo>
                <a:cubicBezTo>
                  <a:pt x="9" y="840"/>
                  <a:pt x="6" y="575"/>
                  <a:pt x="63" y="493"/>
                </a:cubicBezTo>
                <a:cubicBezTo>
                  <a:pt x="70" y="463"/>
                  <a:pt x="81" y="441"/>
                  <a:pt x="98" y="416"/>
                </a:cubicBezTo>
                <a:cubicBezTo>
                  <a:pt x="113" y="341"/>
                  <a:pt x="95" y="420"/>
                  <a:pt x="118" y="354"/>
                </a:cubicBezTo>
                <a:cubicBezTo>
                  <a:pt x="124" y="336"/>
                  <a:pt x="134" y="273"/>
                  <a:pt x="146" y="264"/>
                </a:cubicBezTo>
                <a:cubicBezTo>
                  <a:pt x="155" y="257"/>
                  <a:pt x="166" y="251"/>
                  <a:pt x="174" y="243"/>
                </a:cubicBezTo>
                <a:cubicBezTo>
                  <a:pt x="221" y="196"/>
                  <a:pt x="153" y="245"/>
                  <a:pt x="209" y="208"/>
                </a:cubicBezTo>
                <a:cubicBezTo>
                  <a:pt x="228" y="179"/>
                  <a:pt x="252" y="154"/>
                  <a:pt x="285" y="146"/>
                </a:cubicBezTo>
                <a:cubicBezTo>
                  <a:pt x="354" y="100"/>
                  <a:pt x="448" y="89"/>
                  <a:pt x="528" y="83"/>
                </a:cubicBezTo>
                <a:cubicBezTo>
                  <a:pt x="574" y="68"/>
                  <a:pt x="603" y="54"/>
                  <a:pt x="653" y="49"/>
                </a:cubicBezTo>
                <a:cubicBezTo>
                  <a:pt x="725" y="25"/>
                  <a:pt x="664" y="43"/>
                  <a:pt x="833" y="28"/>
                </a:cubicBezTo>
                <a:cubicBezTo>
                  <a:pt x="856" y="26"/>
                  <a:pt x="903" y="21"/>
                  <a:pt x="903" y="21"/>
                </a:cubicBezTo>
                <a:cubicBezTo>
                  <a:pt x="950" y="5"/>
                  <a:pt x="932" y="0"/>
                  <a:pt x="993" y="0"/>
                </a:cubicBez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918480" y="2203560"/>
            <a:ext cx="903240" cy="2190600"/>
          </a:xfrm>
          <a:custGeom>
            <a:avLst/>
            <a:gdLst/>
            <a:ahLst/>
            <a:rect l="l" t="t" r="r" b="b"/>
            <a:pathLst>
              <a:path w="569" h="1227">
                <a:moveTo>
                  <a:pt x="70" y="1214"/>
                </a:moveTo>
                <a:cubicBezTo>
                  <a:pt x="184" y="1224"/>
                  <a:pt x="168" y="1227"/>
                  <a:pt x="312" y="1207"/>
                </a:cubicBezTo>
                <a:cubicBezTo>
                  <a:pt x="348" y="1202"/>
                  <a:pt x="387" y="1181"/>
                  <a:pt x="423" y="1172"/>
                </a:cubicBezTo>
                <a:cubicBezTo>
                  <a:pt x="438" y="1129"/>
                  <a:pt x="416" y="1173"/>
                  <a:pt x="465" y="1145"/>
                </a:cubicBezTo>
                <a:cubicBezTo>
                  <a:pt x="472" y="1141"/>
                  <a:pt x="472" y="1129"/>
                  <a:pt x="479" y="1124"/>
                </a:cubicBezTo>
                <a:cubicBezTo>
                  <a:pt x="485" y="1119"/>
                  <a:pt x="493" y="1119"/>
                  <a:pt x="500" y="1117"/>
                </a:cubicBezTo>
                <a:cubicBezTo>
                  <a:pt x="507" y="1088"/>
                  <a:pt x="514" y="1067"/>
                  <a:pt x="528" y="1041"/>
                </a:cubicBezTo>
                <a:cubicBezTo>
                  <a:pt x="534" y="994"/>
                  <a:pt x="541" y="948"/>
                  <a:pt x="548" y="902"/>
                </a:cubicBezTo>
                <a:cubicBezTo>
                  <a:pt x="564" y="539"/>
                  <a:pt x="555" y="685"/>
                  <a:pt x="569" y="465"/>
                </a:cubicBezTo>
                <a:cubicBezTo>
                  <a:pt x="557" y="417"/>
                  <a:pt x="537" y="368"/>
                  <a:pt x="528" y="319"/>
                </a:cubicBezTo>
                <a:cubicBezTo>
                  <a:pt x="525" y="301"/>
                  <a:pt x="519" y="249"/>
                  <a:pt x="514" y="229"/>
                </a:cubicBezTo>
                <a:cubicBezTo>
                  <a:pt x="511" y="216"/>
                  <a:pt x="480" y="134"/>
                  <a:pt x="465" y="125"/>
                </a:cubicBezTo>
                <a:cubicBezTo>
                  <a:pt x="444" y="112"/>
                  <a:pt x="388" y="107"/>
                  <a:pt x="368" y="104"/>
                </a:cubicBezTo>
                <a:cubicBezTo>
                  <a:pt x="315" y="86"/>
                  <a:pt x="261" y="80"/>
                  <a:pt x="208" y="62"/>
                </a:cubicBezTo>
                <a:cubicBezTo>
                  <a:pt x="184" y="54"/>
                  <a:pt x="162" y="35"/>
                  <a:pt x="139" y="27"/>
                </a:cubicBezTo>
                <a:cubicBezTo>
                  <a:pt x="98" y="13"/>
                  <a:pt x="43" y="0"/>
                  <a:pt x="0" y="0"/>
                </a:cubicBez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365200" y="1982880"/>
            <a:ext cx="4537080" cy="40644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365200" y="520560"/>
            <a:ext cx="4537080" cy="406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0808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2700360" y="6211800"/>
            <a:ext cx="5219280" cy="579240"/>
            <a:chOff x="2700360" y="6211800"/>
            <a:chExt cx="5219280" cy="579240"/>
          </a:xfrm>
        </p:grpSpPr>
        <p:pic>
          <p:nvPicPr>
            <p:cNvPr id="409" name="Picture 10" descr=""/>
            <p:cNvPicPr/>
            <p:nvPr/>
          </p:nvPicPr>
          <p:blipFill>
            <a:blip r:embed="rId2"/>
            <a:stretch/>
          </p:blipFill>
          <p:spPr>
            <a:xfrm>
              <a:off x="2700360" y="6211800"/>
              <a:ext cx="150948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4398840" y="6244920"/>
              <a:ext cx="352080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325760" y="62449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4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5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16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17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18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600000">
                                      <p:cBhvr>
                                        <p:cTn id="19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0"/>
            <a:ext cx="914400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Elektriskā pretestība </a:t>
            </a:r>
            <a:r>
              <a:rPr b="1" i="1" lang="lv-LV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 ir atkarīga no vada garuma </a:t>
            </a:r>
            <a:r>
              <a:rPr b="1" i="1" lang="lv-LV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no vada šķērsgriezuma laukuma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lv-LV" sz="4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un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īpatnējas pretestības </a:t>
            </a:r>
            <a:r>
              <a:rPr b="1" i="1" lang="el-G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ρ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86080" y="1285920"/>
            <a:ext cx="35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925720" y="2057400"/>
            <a:ext cx="598176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087880" y="681120"/>
            <a:ext cx="52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2700360" y="6211800"/>
            <a:ext cx="5219280" cy="579240"/>
            <a:chOff x="2700360" y="6211800"/>
            <a:chExt cx="5219280" cy="579240"/>
          </a:xfrm>
        </p:grpSpPr>
        <p:pic>
          <p:nvPicPr>
            <p:cNvPr id="422" name="Picture 10" descr=""/>
            <p:cNvPicPr/>
            <p:nvPr/>
          </p:nvPicPr>
          <p:blipFill>
            <a:blip r:embed="rId1"/>
            <a:stretch/>
          </p:blipFill>
          <p:spPr>
            <a:xfrm>
              <a:off x="2700360" y="6211800"/>
              <a:ext cx="150948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4398840" y="6244920"/>
              <a:ext cx="352080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325760" y="62449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0"/>
            <a:ext cx="914400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Elektriskā pretestība </a:t>
            </a:r>
            <a:r>
              <a:rPr b="1" i="1" lang="lv-LV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 ir atkarīga no vada garuma </a:t>
            </a:r>
            <a:r>
              <a:rPr b="1" i="1" lang="lv-LV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no vada šķērsgriezuma laukuma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lv-LV" sz="4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un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īpatnējas pretestības </a:t>
            </a:r>
            <a:r>
              <a:rPr b="1" i="1" lang="el-G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ρ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286080" y="1285920"/>
            <a:ext cx="35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443320" y="1898640"/>
            <a:ext cx="49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40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151840" y="1901880"/>
            <a:ext cx="39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054080" y="4699080"/>
            <a:ext cx="50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650960" y="4437000"/>
            <a:ext cx="204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087880" y="681120"/>
            <a:ext cx="52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700360" y="6211800"/>
            <a:ext cx="5219280" cy="579240"/>
            <a:chOff x="2700360" y="6211800"/>
            <a:chExt cx="5219280" cy="579240"/>
          </a:xfrm>
        </p:grpSpPr>
        <p:pic>
          <p:nvPicPr>
            <p:cNvPr id="438" name="Picture 10" descr=""/>
            <p:cNvPicPr/>
            <p:nvPr/>
          </p:nvPicPr>
          <p:blipFill>
            <a:blip r:embed="rId1"/>
            <a:stretch/>
          </p:blipFill>
          <p:spPr>
            <a:xfrm>
              <a:off x="2700360" y="6211800"/>
              <a:ext cx="150948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4398840" y="6244920"/>
              <a:ext cx="352080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325760" y="62449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77428E-006 L -0.50174 0.5828 E">
                                      <p:cBhvr>
                                        <p:cTn id="208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36725E-006 L -0.1 0.46161 E">
                                      <p:cBhvr>
                                        <p:cTn id="218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17206E-006 L -0.05104 0.45397 E">
                                      <p:cBhvr>
                                        <p:cTn id="222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63737E-006 L -0.66858 0.36054 E">
                                      <p:cBhvr>
                                        <p:cTn id="226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843200" y="484200"/>
            <a:ext cx="267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____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43080" y="888840"/>
            <a:ext cx="143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6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 =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09960" y="306360"/>
            <a:ext cx="62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ρ</a:t>
            </a:r>
            <a:r>
              <a:rPr b="1" i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720880" y="434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287440" y="1360440"/>
            <a:ext cx="71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6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03040" y="304920"/>
            <a:ext cx="3454560" cy="2311200"/>
          </a:xfrm>
          <a:prstGeom prst="rect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243320" y="484200"/>
            <a:ext cx="436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5400" spc="-1" strike="noStrike">
                <a:solidFill>
                  <a:srgbClr val="333399"/>
                </a:solidFill>
                <a:latin typeface="Times New Roman"/>
              </a:rPr>
              <a:t>[</a:t>
            </a:r>
            <a:r>
              <a:rPr b="1" i="1" lang="lv-LV" sz="54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lv-LV" sz="5400" spc="-1" strike="noStrike">
                <a:solidFill>
                  <a:srgbClr val="333399"/>
                </a:solidFill>
                <a:latin typeface="Times New Roman"/>
              </a:rPr>
              <a:t>] = </a:t>
            </a:r>
            <a:r>
              <a:rPr b="1" lang="el-GR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Ω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305240" y="1486080"/>
            <a:ext cx="453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5400" spc="-1" strike="noStrike">
                <a:solidFill>
                  <a:srgbClr val="333399"/>
                </a:solidFill>
                <a:latin typeface="Times New Roman"/>
              </a:rPr>
              <a:t>[</a:t>
            </a:r>
            <a:r>
              <a:rPr b="1" i="1" lang="lv-LV" sz="5400" spc="-1" strike="noStrike">
                <a:solidFill>
                  <a:srgbClr val="333399"/>
                </a:solidFill>
                <a:latin typeface="Times New Roman"/>
              </a:rPr>
              <a:t>l</a:t>
            </a:r>
            <a:r>
              <a:rPr b="1" lang="lv-LV" sz="5400" spc="-1" strike="noStrike">
                <a:solidFill>
                  <a:srgbClr val="333399"/>
                </a:solidFill>
                <a:latin typeface="Times New Roman"/>
              </a:rPr>
              <a:t>] = 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292640" y="246384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5400" spc="-1" strike="noStrike">
                <a:solidFill>
                  <a:srgbClr val="333399"/>
                </a:solidFill>
                <a:latin typeface="Times New Roman"/>
              </a:rPr>
              <a:t>[</a:t>
            </a:r>
            <a:r>
              <a:rPr b="1" i="1" lang="lv-LV" sz="54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1" lang="lv-LV" sz="5400" spc="-1" strike="noStrike">
                <a:solidFill>
                  <a:srgbClr val="333399"/>
                </a:solidFill>
                <a:latin typeface="Times New Roman"/>
              </a:rPr>
              <a:t>] = mm</a:t>
            </a:r>
            <a:r>
              <a:rPr b="1" lang="lv-LV" sz="54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4305240" y="3394080"/>
            <a:ext cx="4584600" cy="1664640"/>
            <a:chOff x="4305240" y="3394080"/>
            <a:chExt cx="4584600" cy="1664640"/>
          </a:xfrm>
        </p:grpSpPr>
        <p:sp>
          <p:nvSpPr>
            <p:cNvPr id="456" name=""/>
            <p:cNvSpPr/>
            <p:nvPr/>
          </p:nvSpPr>
          <p:spPr>
            <a:xfrm>
              <a:off x="4305240" y="3809880"/>
              <a:ext cx="1828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54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[</a:t>
              </a:r>
              <a:r>
                <a:rPr b="1" i="1" lang="el-GR" sz="54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ρ</a:t>
              </a:r>
              <a:r>
                <a:rPr b="1" lang="lv-LV" sz="54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] =</a:t>
              </a:r>
              <a:r>
                <a:rPr b="0" lang="lv-LV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060960" y="3394080"/>
              <a:ext cx="2679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333399"/>
                  </a:solidFill>
                  <a:latin typeface="Times New Roman"/>
                </a:rPr>
                <a:t>____</a:t>
              </a:r>
              <a:r>
                <a:rPr b="1" lang="lv-LV" sz="6000" spc="-1" strike="noStrike">
                  <a:solidFill>
                    <a:srgbClr val="333399"/>
                  </a:solidFill>
                  <a:latin typeface="Times New Roman"/>
                </a:rPr>
                <a:t>__</a:t>
              </a:r>
              <a:r>
                <a:rPr b="1" i="1" lang="ru-RU" sz="6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72200" y="3467160"/>
              <a:ext cx="2717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54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Ω</a:t>
              </a:r>
              <a:r>
                <a:rPr b="1" lang="en-US" sz="54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·</a:t>
              </a:r>
              <a:r>
                <a:rPr b="1" lang="lv-LV" sz="54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mm</a:t>
              </a:r>
              <a:r>
                <a:rPr b="1" lang="lv-LV" sz="5400" spc="-1" strike="noStrike" baseline="30000">
                  <a:solidFill>
                    <a:srgbClr val="333399"/>
                  </a:solidFill>
                  <a:latin typeface="Times New Roman"/>
                  <a:ea typeface="Times New Roman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745320" y="4141800"/>
              <a:ext cx="1104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54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m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2700360" y="6211800"/>
            <a:ext cx="5219280" cy="579240"/>
            <a:chOff x="2700360" y="6211800"/>
            <a:chExt cx="5219280" cy="579240"/>
          </a:xfrm>
        </p:grpSpPr>
        <p:pic>
          <p:nvPicPr>
            <p:cNvPr id="461" name="Picture 10" descr=""/>
            <p:cNvPicPr/>
            <p:nvPr/>
          </p:nvPicPr>
          <p:blipFill>
            <a:blip r:embed="rId1"/>
            <a:stretch/>
          </p:blipFill>
          <p:spPr>
            <a:xfrm>
              <a:off x="2700360" y="6211800"/>
              <a:ext cx="150948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4398840" y="6244920"/>
              <a:ext cx="352080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325760" y="62449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444920" y="793800"/>
            <a:ext cx="44481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Kādam vadam ir lielākā pretestīb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25520" y="2054160"/>
            <a:ext cx="139680" cy="231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23720" y="3510000"/>
            <a:ext cx="139680" cy="231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22280" y="5060880"/>
            <a:ext cx="139680" cy="231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332160" y="1138320"/>
            <a:ext cx="145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ff9933"/>
                </a:solidFill>
                <a:latin typeface="Times New Roman"/>
              </a:rPr>
              <a:t>(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365640" y="2803680"/>
            <a:ext cx="164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ff9933"/>
                </a:solidFill>
                <a:latin typeface="Times New Roman"/>
              </a:rPr>
              <a:t>(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67000" y="4467240"/>
            <a:ext cx="197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ff9933"/>
                </a:solidFill>
                <a:latin typeface="Times New Roman"/>
              </a:rPr>
              <a:t>(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700360" y="6211800"/>
            <a:ext cx="5219280" cy="579240"/>
            <a:chOff x="2700360" y="6211800"/>
            <a:chExt cx="5219280" cy="579240"/>
          </a:xfrm>
        </p:grpSpPr>
        <p:pic>
          <p:nvPicPr>
            <p:cNvPr id="477" name="Picture 10" descr=""/>
            <p:cNvPicPr/>
            <p:nvPr/>
          </p:nvPicPr>
          <p:blipFill>
            <a:blip r:embed="rId1"/>
            <a:stretch/>
          </p:blipFill>
          <p:spPr>
            <a:xfrm>
              <a:off x="2700360" y="6211800"/>
              <a:ext cx="150948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4398840" y="6244920"/>
              <a:ext cx="352080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325760" y="62449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25520" y="2054160"/>
            <a:ext cx="139680" cy="231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332160" y="1138320"/>
            <a:ext cx="145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ff9933"/>
                </a:solidFill>
                <a:latin typeface="Times New Roman"/>
              </a:rPr>
              <a:t>(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3352680"/>
            <a:ext cx="914400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Elektriskā pretestība </a:t>
            </a:r>
            <a:r>
              <a:rPr b="1" i="1" lang="lv-LV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 ir atkarīga no </a:t>
            </a:r>
            <a:r>
              <a:rPr b="1" lang="lv-LV" sz="4000" spc="-1" strike="noStrike">
                <a:solidFill>
                  <a:srgbClr val="00ff00"/>
                </a:solidFill>
                <a:latin typeface="Times New Roman"/>
              </a:rPr>
              <a:t>vada garuma</a:t>
            </a: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lv-LV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no vada šķērsgriezuma laukuma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lv-LV" sz="4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un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īpatnējas pretestības </a:t>
            </a:r>
            <a:r>
              <a:rPr b="1" i="1" lang="el-G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ρ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2700360" y="6211800"/>
            <a:ext cx="5219280" cy="579240"/>
            <a:chOff x="2700360" y="6211800"/>
            <a:chExt cx="5219280" cy="579240"/>
          </a:xfrm>
        </p:grpSpPr>
        <p:pic>
          <p:nvPicPr>
            <p:cNvPr id="489" name="Picture 10" descr=""/>
            <p:cNvPicPr/>
            <p:nvPr/>
          </p:nvPicPr>
          <p:blipFill>
            <a:blip r:embed="rId1"/>
            <a:stretch/>
          </p:blipFill>
          <p:spPr>
            <a:xfrm>
              <a:off x="2700360" y="6211800"/>
              <a:ext cx="150948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4398840" y="6244920"/>
              <a:ext cx="352080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325760" y="62449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444920" y="793800"/>
            <a:ext cx="44481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Kādam vadam ir lielākā pretestīb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600" y="1708200"/>
            <a:ext cx="420840" cy="696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332160" y="1138320"/>
            <a:ext cx="145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ff9933"/>
                </a:solidFill>
                <a:latin typeface="Times New Roman"/>
              </a:rPr>
              <a:t>(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365640" y="2803680"/>
            <a:ext cx="164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ff9933"/>
                </a:solidFill>
                <a:latin typeface="Times New Roman"/>
              </a:rPr>
              <a:t>(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267000" y="4467240"/>
            <a:ext cx="197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ff9933"/>
                </a:solidFill>
                <a:latin typeface="Times New Roman"/>
              </a:rPr>
              <a:t>(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69920" y="3714840"/>
            <a:ext cx="210960" cy="349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20680" y="5499000"/>
            <a:ext cx="104760" cy="17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2700360" y="6211800"/>
            <a:ext cx="5219280" cy="579240"/>
            <a:chOff x="2700360" y="6211800"/>
            <a:chExt cx="5219280" cy="579240"/>
          </a:xfrm>
        </p:grpSpPr>
        <p:pic>
          <p:nvPicPr>
            <p:cNvPr id="505" name="Picture 10" descr=""/>
            <p:cNvPicPr/>
            <p:nvPr/>
          </p:nvPicPr>
          <p:blipFill>
            <a:blip r:embed="rId1"/>
            <a:stretch/>
          </p:blipFill>
          <p:spPr>
            <a:xfrm>
              <a:off x="2700360" y="6211800"/>
              <a:ext cx="150948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4398840" y="6244920"/>
              <a:ext cx="352080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325760" y="62449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9520" y="374760"/>
            <a:ext cx="878040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 u="sng">
                <a:solidFill>
                  <a:srgbClr val="333399"/>
                </a:solidFill>
                <a:uFillTx/>
                <a:latin typeface="Times New Roman"/>
              </a:rPr>
              <a:t>Mērķis:</a:t>
            </a:r>
            <a:r>
              <a:rPr b="1" lang="lv-LV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lv-LV" sz="2800" spc="-1" strike="noStrike">
                <a:solidFill>
                  <a:srgbClr val="333399"/>
                </a:solidFill>
                <a:latin typeface="Times New Roman"/>
              </a:rPr>
              <a:t>sekmēt izpratni par elektrisko pretestību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 u="sng">
                <a:solidFill>
                  <a:srgbClr val="333399"/>
                </a:solidFill>
                <a:uFillTx/>
                <a:latin typeface="Times New Roman"/>
              </a:rPr>
              <a:t>Uzdevum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333399"/>
                </a:solidFill>
                <a:latin typeface="Times New Roman"/>
              </a:rPr>
              <a:t>1. Iepazīstināt ar elektrisko pretestīb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333399"/>
                </a:solidFill>
                <a:latin typeface="Times New Roman"/>
              </a:rPr>
              <a:t>2. Pilnveidot prasmi atbildēt uz jautājumi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333399"/>
                </a:solidFill>
                <a:latin typeface="Times New Roman"/>
              </a:rPr>
              <a:t>3. Pilnveidot prasmi risināt uzdevumus ar formu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700360" y="6211800"/>
            <a:ext cx="5219280" cy="579240"/>
            <a:chOff x="2700360" y="6211800"/>
            <a:chExt cx="5219280" cy="579240"/>
          </a:xfrm>
        </p:grpSpPr>
        <p:pic>
          <p:nvPicPr>
            <p:cNvPr id="56" name="Picture 10" descr=""/>
            <p:cNvPicPr/>
            <p:nvPr/>
          </p:nvPicPr>
          <p:blipFill>
            <a:blip r:embed="rId1"/>
            <a:stretch/>
          </p:blipFill>
          <p:spPr>
            <a:xfrm>
              <a:off x="2700360" y="6211800"/>
              <a:ext cx="150948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398840" y="6244920"/>
              <a:ext cx="352080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325760" y="62449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267000" y="4467240"/>
            <a:ext cx="197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ff9933"/>
                </a:solidFill>
                <a:latin typeface="Times New Roman"/>
              </a:rPr>
              <a:t>(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20680" y="5499000"/>
            <a:ext cx="104760" cy="17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0"/>
            <a:ext cx="914400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Elektriskā pretestība </a:t>
            </a:r>
            <a:r>
              <a:rPr b="1" i="1" lang="lv-LV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 ir atkarīga no vada garuma </a:t>
            </a:r>
            <a:r>
              <a:rPr b="1" i="1" lang="lv-LV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no vada </a:t>
            </a:r>
            <a:r>
              <a:rPr b="1" lang="lv-LV" sz="4000" spc="-1" strike="noStrike">
                <a:solidFill>
                  <a:srgbClr val="00ff00"/>
                </a:solidFill>
                <a:latin typeface="Times New Roman"/>
              </a:rPr>
              <a:t>šķērsgriezuma laukuma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lv-LV" sz="4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un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īpatnējas pretestības </a:t>
            </a:r>
            <a:r>
              <a:rPr b="1" i="1" lang="el-G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ρ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700360" y="6211800"/>
            <a:ext cx="5219280" cy="579240"/>
            <a:chOff x="2700360" y="6211800"/>
            <a:chExt cx="5219280" cy="579240"/>
          </a:xfrm>
        </p:grpSpPr>
        <p:pic>
          <p:nvPicPr>
            <p:cNvPr id="517" name="Picture 10" descr=""/>
            <p:cNvPicPr/>
            <p:nvPr/>
          </p:nvPicPr>
          <p:blipFill>
            <a:blip r:embed="rId1"/>
            <a:stretch/>
          </p:blipFill>
          <p:spPr>
            <a:xfrm>
              <a:off x="2700360" y="6211800"/>
              <a:ext cx="150948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>
              <a:off x="4398840" y="6244920"/>
              <a:ext cx="352080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325760" y="62449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444920" y="793800"/>
            <a:ext cx="44481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Kādam vadam ir lielākā pretestīb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332160" y="1138320"/>
            <a:ext cx="145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ff9933"/>
                </a:solidFill>
                <a:latin typeface="Times New Roman"/>
              </a:rPr>
              <a:t>(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365640" y="2803680"/>
            <a:ext cx="164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ff9933"/>
                </a:solidFill>
                <a:latin typeface="Times New Roman"/>
              </a:rPr>
              <a:t>(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267000" y="4467240"/>
            <a:ext cx="197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ff9933"/>
                </a:solidFill>
                <a:latin typeface="Times New Roman"/>
              </a:rPr>
              <a:t>(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17440" y="3684600"/>
            <a:ext cx="211320" cy="3492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08080" y="2036880"/>
            <a:ext cx="210960" cy="3492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3680" y="5259240"/>
            <a:ext cx="210960" cy="349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54160" y="1420920"/>
            <a:ext cx="11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99"/>
                </a:solidFill>
                <a:latin typeface="Times New Roman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35080" y="3097080"/>
            <a:ext cx="11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99"/>
                </a:solidFill>
                <a:latin typeface="Times New Roman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01600" y="4672080"/>
            <a:ext cx="11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99"/>
                </a:solidFill>
                <a:latin typeface="Times New Roman"/>
              </a:rPr>
              <a:t>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2700360" y="6211800"/>
            <a:ext cx="5219280" cy="579240"/>
            <a:chOff x="2700360" y="6211800"/>
            <a:chExt cx="5219280" cy="579240"/>
          </a:xfrm>
        </p:grpSpPr>
        <p:pic>
          <p:nvPicPr>
            <p:cNvPr id="536" name="Picture 10" descr=""/>
            <p:cNvPicPr/>
            <p:nvPr/>
          </p:nvPicPr>
          <p:blipFill>
            <a:blip r:embed="rId1"/>
            <a:stretch/>
          </p:blipFill>
          <p:spPr>
            <a:xfrm>
              <a:off x="2700360" y="6211800"/>
              <a:ext cx="150948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>
              <a:off x="4398840" y="6244920"/>
              <a:ext cx="352080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25760" y="62449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332160" y="1138320"/>
            <a:ext cx="145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ff9933"/>
                </a:solidFill>
                <a:latin typeface="Times New Roman"/>
              </a:rPr>
              <a:t>(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365640" y="2803680"/>
            <a:ext cx="164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ff9933"/>
                </a:solidFill>
                <a:latin typeface="Times New Roman"/>
              </a:rPr>
              <a:t>(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267000" y="4467240"/>
            <a:ext cx="197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ff9933"/>
                </a:solidFill>
                <a:latin typeface="Times New Roman"/>
              </a:rPr>
              <a:t>(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17440" y="3684600"/>
            <a:ext cx="211320" cy="3492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08080" y="2036880"/>
            <a:ext cx="210960" cy="3492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93680" y="5259240"/>
            <a:ext cx="210960" cy="349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4160" y="1420920"/>
            <a:ext cx="11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99"/>
                </a:solidFill>
                <a:latin typeface="Times New Roman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35080" y="3097080"/>
            <a:ext cx="11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99"/>
                </a:solidFill>
                <a:latin typeface="Times New Roman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01600" y="4672080"/>
            <a:ext cx="11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99"/>
                </a:solidFill>
                <a:latin typeface="Times New Roman"/>
              </a:rPr>
              <a:t>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4192560" y="4044960"/>
            <a:ext cx="4346640" cy="1305000"/>
            <a:chOff x="4192560" y="4044960"/>
            <a:chExt cx="4346640" cy="1305000"/>
          </a:xfrm>
        </p:grpSpPr>
        <p:sp>
          <p:nvSpPr>
            <p:cNvPr id="554" name=""/>
            <p:cNvSpPr/>
            <p:nvPr/>
          </p:nvSpPr>
          <p:spPr>
            <a:xfrm>
              <a:off x="4192560" y="4210200"/>
              <a:ext cx="35463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6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ρ</a:t>
              </a:r>
              <a:r>
                <a:rPr b="1" lang="lv-LV" sz="4000" spc="-1" strike="noStrike" baseline="-25000">
                  <a:solidFill>
                    <a:srgbClr val="333399"/>
                  </a:solidFill>
                  <a:latin typeface="Times New Roman"/>
                  <a:ea typeface="Times New Roman"/>
                </a:rPr>
                <a:t>Ag</a:t>
              </a:r>
              <a:r>
                <a:rPr b="1" lang="lv-LV" sz="4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 = 0,01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6997680" y="4044960"/>
              <a:ext cx="1541520" cy="1305000"/>
              <a:chOff x="6997680" y="4044960"/>
              <a:chExt cx="1541520" cy="1305000"/>
            </a:xfrm>
          </p:grpSpPr>
          <p:sp>
            <p:nvSpPr>
              <p:cNvPr id="556" name=""/>
              <p:cNvSpPr/>
              <p:nvPr/>
            </p:nvSpPr>
            <p:spPr>
              <a:xfrm>
                <a:off x="6997680" y="4044960"/>
                <a:ext cx="14889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333399"/>
                    </a:solidFill>
                    <a:latin typeface="Times New Roman"/>
                  </a:rPr>
                  <a:t>____</a:t>
                </a:r>
                <a:r>
                  <a:rPr b="1" lang="lv-LV" sz="3200" spc="-1" strike="noStrike">
                    <a:solidFill>
                      <a:srgbClr val="333399"/>
                    </a:solidFill>
                    <a:latin typeface="Times New Roman"/>
                  </a:rPr>
                  <a:t>__</a:t>
                </a:r>
                <a:r>
                  <a:rPr b="1" i="1" lang="ru-RU" sz="60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010280" y="4381560"/>
                <a:ext cx="1528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3200" spc="-1" strike="noStrike">
                    <a:solidFill>
                      <a:srgbClr val="333399"/>
                    </a:solidFill>
                    <a:latin typeface="Times New Roman"/>
                    <a:ea typeface="Times New Roman"/>
                  </a:rPr>
                  <a:t>Ω</a:t>
                </a:r>
                <a:r>
                  <a:rPr b="1" lang="en-US" sz="3200" spc="-1" strike="noStrike">
                    <a:solidFill>
                      <a:srgbClr val="333399"/>
                    </a:solidFill>
                    <a:latin typeface="Times New Roman"/>
                    <a:ea typeface="Times New Roman"/>
                  </a:rPr>
                  <a:t>·</a:t>
                </a:r>
                <a:r>
                  <a:rPr b="1" lang="lv-LV" sz="3200" spc="-1" strike="noStrike">
                    <a:solidFill>
                      <a:srgbClr val="333399"/>
                    </a:solidFill>
                    <a:latin typeface="Times New Roman"/>
                    <a:ea typeface="Times New Roman"/>
                  </a:rPr>
                  <a:t>mm</a:t>
                </a:r>
                <a:r>
                  <a:rPr b="1" lang="lv-LV" sz="3200" spc="-1" strike="noStrike" baseline="30000">
                    <a:solidFill>
                      <a:srgbClr val="333399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186680" y="4768560"/>
                <a:ext cx="110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v-LV" sz="3200" spc="-1" strike="noStrike">
                    <a:solidFill>
                      <a:srgbClr val="333399"/>
                    </a:solidFill>
                    <a:latin typeface="Times New Roman"/>
                    <a:ea typeface="Times New Roman"/>
                  </a:rPr>
                  <a:t>m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9" name=""/>
          <p:cNvGrpSpPr/>
          <p:nvPr/>
        </p:nvGrpSpPr>
        <p:grpSpPr>
          <a:xfrm>
            <a:off x="4278240" y="2251080"/>
            <a:ext cx="4253040" cy="1305000"/>
            <a:chOff x="4278240" y="2251080"/>
            <a:chExt cx="4253040" cy="1305000"/>
          </a:xfrm>
        </p:grpSpPr>
        <p:sp>
          <p:nvSpPr>
            <p:cNvPr id="560" name=""/>
            <p:cNvSpPr/>
            <p:nvPr/>
          </p:nvSpPr>
          <p:spPr>
            <a:xfrm>
              <a:off x="4278240" y="2481120"/>
              <a:ext cx="354672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6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ρ</a:t>
              </a:r>
              <a:r>
                <a:rPr b="1" lang="lv-LV" sz="4000" spc="-1" strike="noStrike" baseline="-25000">
                  <a:solidFill>
                    <a:srgbClr val="333399"/>
                  </a:solidFill>
                  <a:latin typeface="Times New Roman"/>
                  <a:ea typeface="Times New Roman"/>
                </a:rPr>
                <a:t>Al</a:t>
              </a:r>
              <a:r>
                <a:rPr b="1" lang="lv-LV" sz="4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 = 0,02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6989760" y="2251080"/>
              <a:ext cx="1541520" cy="1305000"/>
              <a:chOff x="6989760" y="2251080"/>
              <a:chExt cx="1541520" cy="1305000"/>
            </a:xfrm>
          </p:grpSpPr>
          <p:sp>
            <p:nvSpPr>
              <p:cNvPr id="562" name=""/>
              <p:cNvSpPr/>
              <p:nvPr/>
            </p:nvSpPr>
            <p:spPr>
              <a:xfrm>
                <a:off x="6989760" y="2251080"/>
                <a:ext cx="14889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333399"/>
                    </a:solidFill>
                    <a:latin typeface="Times New Roman"/>
                  </a:rPr>
                  <a:t>____</a:t>
                </a:r>
                <a:r>
                  <a:rPr b="1" lang="lv-LV" sz="3200" spc="-1" strike="noStrike">
                    <a:solidFill>
                      <a:srgbClr val="333399"/>
                    </a:solidFill>
                    <a:latin typeface="Times New Roman"/>
                  </a:rPr>
                  <a:t>__</a:t>
                </a:r>
                <a:r>
                  <a:rPr b="1" i="1" lang="ru-RU" sz="60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002360" y="2587680"/>
                <a:ext cx="1528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3200" spc="-1" strike="noStrike">
                    <a:solidFill>
                      <a:srgbClr val="333399"/>
                    </a:solidFill>
                    <a:latin typeface="Times New Roman"/>
                    <a:ea typeface="Times New Roman"/>
                  </a:rPr>
                  <a:t>Ω</a:t>
                </a:r>
                <a:r>
                  <a:rPr b="1" lang="en-US" sz="3200" spc="-1" strike="noStrike">
                    <a:solidFill>
                      <a:srgbClr val="333399"/>
                    </a:solidFill>
                    <a:latin typeface="Times New Roman"/>
                    <a:ea typeface="Times New Roman"/>
                  </a:rPr>
                  <a:t>·</a:t>
                </a:r>
                <a:r>
                  <a:rPr b="1" lang="lv-LV" sz="3200" spc="-1" strike="noStrike">
                    <a:solidFill>
                      <a:srgbClr val="333399"/>
                    </a:solidFill>
                    <a:latin typeface="Times New Roman"/>
                    <a:ea typeface="Times New Roman"/>
                  </a:rPr>
                  <a:t>mm</a:t>
                </a:r>
                <a:r>
                  <a:rPr b="1" lang="lv-LV" sz="3200" spc="-1" strike="noStrike" baseline="30000">
                    <a:solidFill>
                      <a:srgbClr val="333399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178760" y="2974680"/>
                <a:ext cx="110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v-LV" sz="3200" spc="-1" strike="noStrike">
                    <a:solidFill>
                      <a:srgbClr val="333399"/>
                    </a:solidFill>
                    <a:latin typeface="Times New Roman"/>
                    <a:ea typeface="Times New Roman"/>
                  </a:rPr>
                  <a:t>m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5" name=""/>
          <p:cNvGrpSpPr/>
          <p:nvPr/>
        </p:nvGrpSpPr>
        <p:grpSpPr>
          <a:xfrm>
            <a:off x="4319640" y="687240"/>
            <a:ext cx="4290840" cy="1305000"/>
            <a:chOff x="4319640" y="687240"/>
            <a:chExt cx="4290840" cy="1305000"/>
          </a:xfrm>
        </p:grpSpPr>
        <p:sp>
          <p:nvSpPr>
            <p:cNvPr id="566" name=""/>
            <p:cNvSpPr/>
            <p:nvPr/>
          </p:nvSpPr>
          <p:spPr>
            <a:xfrm>
              <a:off x="4319640" y="879480"/>
              <a:ext cx="35463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6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ρ</a:t>
              </a:r>
              <a:r>
                <a:rPr b="1" lang="lv-LV" sz="4000" spc="-1" strike="noStrike" baseline="-25000">
                  <a:solidFill>
                    <a:srgbClr val="333399"/>
                  </a:solidFill>
                  <a:latin typeface="Times New Roman"/>
                  <a:ea typeface="Times New Roman"/>
                </a:rPr>
                <a:t>Cu</a:t>
              </a:r>
              <a:r>
                <a:rPr b="1" lang="lv-LV" sz="4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 = 0,01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7068960" y="687240"/>
              <a:ext cx="1541520" cy="1305000"/>
              <a:chOff x="7068960" y="687240"/>
              <a:chExt cx="1541520" cy="1305000"/>
            </a:xfrm>
          </p:grpSpPr>
          <p:sp>
            <p:nvSpPr>
              <p:cNvPr id="568" name=""/>
              <p:cNvSpPr/>
              <p:nvPr/>
            </p:nvSpPr>
            <p:spPr>
              <a:xfrm>
                <a:off x="7068960" y="687240"/>
                <a:ext cx="14889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333399"/>
                    </a:solidFill>
                    <a:latin typeface="Times New Roman"/>
                  </a:rPr>
                  <a:t>____</a:t>
                </a:r>
                <a:r>
                  <a:rPr b="1" lang="lv-LV" sz="3200" spc="-1" strike="noStrike">
                    <a:solidFill>
                      <a:srgbClr val="333399"/>
                    </a:solidFill>
                    <a:latin typeface="Times New Roman"/>
                  </a:rPr>
                  <a:t>__</a:t>
                </a:r>
                <a:r>
                  <a:rPr b="1" i="1" lang="ru-RU" sz="60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081560" y="1023840"/>
                <a:ext cx="1528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3200" spc="-1" strike="noStrike">
                    <a:solidFill>
                      <a:srgbClr val="333399"/>
                    </a:solidFill>
                    <a:latin typeface="Times New Roman"/>
                    <a:ea typeface="Times New Roman"/>
                  </a:rPr>
                  <a:t>Ω</a:t>
                </a:r>
                <a:r>
                  <a:rPr b="1" lang="en-US" sz="3200" spc="-1" strike="noStrike">
                    <a:solidFill>
                      <a:srgbClr val="333399"/>
                    </a:solidFill>
                    <a:latin typeface="Times New Roman"/>
                    <a:ea typeface="Times New Roman"/>
                  </a:rPr>
                  <a:t>·</a:t>
                </a:r>
                <a:r>
                  <a:rPr b="1" lang="lv-LV" sz="3200" spc="-1" strike="noStrike">
                    <a:solidFill>
                      <a:srgbClr val="333399"/>
                    </a:solidFill>
                    <a:latin typeface="Times New Roman"/>
                    <a:ea typeface="Times New Roman"/>
                  </a:rPr>
                  <a:t>mm</a:t>
                </a:r>
                <a:r>
                  <a:rPr b="1" lang="lv-LV" sz="3200" spc="-1" strike="noStrike" baseline="30000">
                    <a:solidFill>
                      <a:srgbClr val="333399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257960" y="1410840"/>
                <a:ext cx="110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v-LV" sz="3200" spc="-1" strike="noStrike">
                    <a:solidFill>
                      <a:srgbClr val="333399"/>
                    </a:solidFill>
                    <a:latin typeface="Times New Roman"/>
                    <a:ea typeface="Times New Roman"/>
                  </a:rPr>
                  <a:t>m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1" name=""/>
          <p:cNvGrpSpPr/>
          <p:nvPr/>
        </p:nvGrpSpPr>
        <p:grpSpPr>
          <a:xfrm>
            <a:off x="2700360" y="6211800"/>
            <a:ext cx="5219280" cy="579240"/>
            <a:chOff x="2700360" y="6211800"/>
            <a:chExt cx="5219280" cy="579240"/>
          </a:xfrm>
        </p:grpSpPr>
        <p:pic>
          <p:nvPicPr>
            <p:cNvPr id="572" name="Picture 10" descr=""/>
            <p:cNvPicPr/>
            <p:nvPr/>
          </p:nvPicPr>
          <p:blipFill>
            <a:blip r:embed="rId1"/>
            <a:stretch/>
          </p:blipFill>
          <p:spPr>
            <a:xfrm>
              <a:off x="2700360" y="6211800"/>
              <a:ext cx="150948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4398840" y="6244920"/>
              <a:ext cx="352080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325760" y="62449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365640" y="1747800"/>
            <a:ext cx="164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ff9933"/>
                </a:solidFill>
                <a:latin typeface="Times New Roman"/>
              </a:rPr>
              <a:t>(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17440" y="2629080"/>
            <a:ext cx="211320" cy="3492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35080" y="2041560"/>
            <a:ext cx="11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99"/>
                </a:solidFill>
                <a:latin typeface="Times New Roman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4278240" y="1195560"/>
            <a:ext cx="4253040" cy="1305000"/>
            <a:chOff x="4278240" y="1195560"/>
            <a:chExt cx="4253040" cy="1305000"/>
          </a:xfrm>
        </p:grpSpPr>
        <p:sp>
          <p:nvSpPr>
            <p:cNvPr id="584" name=""/>
            <p:cNvSpPr/>
            <p:nvPr/>
          </p:nvSpPr>
          <p:spPr>
            <a:xfrm>
              <a:off x="4278240" y="1425600"/>
              <a:ext cx="354672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6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ρ</a:t>
              </a:r>
              <a:r>
                <a:rPr b="1" lang="lv-LV" sz="4000" spc="-1" strike="noStrike" baseline="-25000">
                  <a:solidFill>
                    <a:srgbClr val="333399"/>
                  </a:solidFill>
                  <a:latin typeface="Times New Roman"/>
                  <a:ea typeface="Times New Roman"/>
                </a:rPr>
                <a:t>Al</a:t>
              </a:r>
              <a:r>
                <a:rPr b="1" lang="lv-LV" sz="4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 = 0,02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6989760" y="1195560"/>
              <a:ext cx="1541520" cy="1305000"/>
              <a:chOff x="6989760" y="1195560"/>
              <a:chExt cx="1541520" cy="1305000"/>
            </a:xfrm>
          </p:grpSpPr>
          <p:sp>
            <p:nvSpPr>
              <p:cNvPr id="586" name=""/>
              <p:cNvSpPr/>
              <p:nvPr/>
            </p:nvSpPr>
            <p:spPr>
              <a:xfrm>
                <a:off x="6989760" y="1195560"/>
                <a:ext cx="14889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333399"/>
                    </a:solidFill>
                    <a:latin typeface="Times New Roman"/>
                  </a:rPr>
                  <a:t>____</a:t>
                </a:r>
                <a:r>
                  <a:rPr b="1" lang="lv-LV" sz="3200" spc="-1" strike="noStrike">
                    <a:solidFill>
                      <a:srgbClr val="333399"/>
                    </a:solidFill>
                    <a:latin typeface="Times New Roman"/>
                  </a:rPr>
                  <a:t>__</a:t>
                </a:r>
                <a:r>
                  <a:rPr b="1" i="1" lang="ru-RU" sz="60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002360" y="1532160"/>
                <a:ext cx="1528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3200" spc="-1" strike="noStrike">
                    <a:solidFill>
                      <a:srgbClr val="333399"/>
                    </a:solidFill>
                    <a:latin typeface="Times New Roman"/>
                    <a:ea typeface="Times New Roman"/>
                  </a:rPr>
                  <a:t>Ω</a:t>
                </a:r>
                <a:r>
                  <a:rPr b="1" lang="en-US" sz="3200" spc="-1" strike="noStrike">
                    <a:solidFill>
                      <a:srgbClr val="333399"/>
                    </a:solidFill>
                    <a:latin typeface="Times New Roman"/>
                    <a:ea typeface="Times New Roman"/>
                  </a:rPr>
                  <a:t>·</a:t>
                </a:r>
                <a:r>
                  <a:rPr b="1" lang="lv-LV" sz="3200" spc="-1" strike="noStrike">
                    <a:solidFill>
                      <a:srgbClr val="333399"/>
                    </a:solidFill>
                    <a:latin typeface="Times New Roman"/>
                    <a:ea typeface="Times New Roman"/>
                  </a:rPr>
                  <a:t>mm</a:t>
                </a:r>
                <a:r>
                  <a:rPr b="1" lang="lv-LV" sz="3200" spc="-1" strike="noStrike" baseline="30000">
                    <a:solidFill>
                      <a:srgbClr val="333399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178760" y="1919160"/>
                <a:ext cx="110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v-LV" sz="3200" spc="-1" strike="noStrike">
                    <a:solidFill>
                      <a:srgbClr val="333399"/>
                    </a:solidFill>
                    <a:latin typeface="Times New Roman"/>
                    <a:ea typeface="Times New Roman"/>
                  </a:rPr>
                  <a:t>m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9" name=""/>
          <p:cNvSpPr/>
          <p:nvPr/>
        </p:nvSpPr>
        <p:spPr>
          <a:xfrm>
            <a:off x="0" y="3573360"/>
            <a:ext cx="914400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Elektriskā pretestība </a:t>
            </a:r>
            <a:r>
              <a:rPr b="1" i="1" lang="lv-LV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 ir atkarīga no vada garuma </a:t>
            </a:r>
            <a:r>
              <a:rPr b="1" i="1" lang="lv-LV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no vada šķērsgriezuma laukuma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lv-LV" sz="4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un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lv-LV" sz="4000" spc="-1" strike="noStrike">
                <a:solidFill>
                  <a:srgbClr val="00ff00"/>
                </a:solidFill>
                <a:latin typeface="Times New Roman"/>
              </a:rPr>
              <a:t>īpatnējas pretestības</a:t>
            </a: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l-G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ρ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2700360" y="6211800"/>
            <a:ext cx="5219280" cy="579240"/>
            <a:chOff x="2700360" y="6211800"/>
            <a:chExt cx="5219280" cy="579240"/>
          </a:xfrm>
        </p:grpSpPr>
        <p:pic>
          <p:nvPicPr>
            <p:cNvPr id="591" name="Picture 10" descr=""/>
            <p:cNvPicPr/>
            <p:nvPr/>
          </p:nvPicPr>
          <p:blipFill>
            <a:blip r:embed="rId1"/>
            <a:stretch/>
          </p:blipFill>
          <p:spPr>
            <a:xfrm>
              <a:off x="2700360" y="6211800"/>
              <a:ext cx="150948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4398840" y="6244920"/>
              <a:ext cx="352080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325760" y="62449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171360" y="260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1. Uzdev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900000" y="836640"/>
            <a:ext cx="554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832120" y="149400"/>
            <a:ext cx="618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333399"/>
                </a:solidFill>
                <a:latin typeface="Times New Roman"/>
              </a:rPr>
              <a:t>Aprēķināt 100 m gara vara vada elektrisko pretestību, ja vada šķērsgriezuma laukums ir 2 mm</a:t>
            </a:r>
            <a:r>
              <a:rPr b="1" lang="lv-LV" sz="32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lv-LV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35080" y="1989000"/>
            <a:ext cx="173988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0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 mm</a:t>
            </a:r>
            <a:r>
              <a:rPr b="0" lang="lv-LV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3000" y="39258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484520" y="2048040"/>
            <a:ext cx="0" cy="232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843280" y="2103480"/>
            <a:ext cx="0" cy="2247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62080" y="3743280"/>
            <a:ext cx="256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111640" y="4970520"/>
            <a:ext cx="307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bilde: </a:t>
            </a:r>
            <a:r>
              <a:rPr b="1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85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0280" y="318132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,017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l-GR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</a:t>
            </a:r>
            <a:r>
              <a:rPr b="0" lang="lv-LV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2944800" y="1724040"/>
            <a:ext cx="1434960" cy="1139040"/>
            <a:chOff x="2944800" y="1724040"/>
            <a:chExt cx="1434960" cy="1139040"/>
          </a:xfrm>
        </p:grpSpPr>
        <p:sp>
          <p:nvSpPr>
            <p:cNvPr id="606" name=""/>
            <p:cNvSpPr/>
            <p:nvPr/>
          </p:nvSpPr>
          <p:spPr>
            <a:xfrm>
              <a:off x="2944800" y="1724040"/>
              <a:ext cx="1434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lv-LV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</a:t>
              </a:r>
              <a:r>
                <a:rPr b="1" i="1" lang="ru-RU" sz="6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578040" y="1901520"/>
              <a:ext cx="62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ρ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813120" y="196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633480" y="2403360"/>
              <a:ext cx="41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lv-LV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1" i="1" lang="ru-RU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592440" y="2387520"/>
              <a:ext cx="64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4710240" y="1844640"/>
            <a:ext cx="75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367240" y="2511360"/>
            <a:ext cx="171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42960" y="19875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49160" y="2620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38360" y="3187800"/>
            <a:ext cx="10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070680" y="1951200"/>
            <a:ext cx="3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716360" y="3351240"/>
            <a:ext cx="21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85 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2700360" y="6211800"/>
            <a:ext cx="5219280" cy="579240"/>
            <a:chOff x="2700360" y="6211800"/>
            <a:chExt cx="5219280" cy="579240"/>
          </a:xfrm>
        </p:grpSpPr>
        <p:pic>
          <p:nvPicPr>
            <p:cNvPr id="619" name="Picture 10" descr=""/>
            <p:cNvPicPr/>
            <p:nvPr/>
          </p:nvPicPr>
          <p:blipFill>
            <a:blip r:embed="rId1"/>
            <a:stretch/>
          </p:blipFill>
          <p:spPr>
            <a:xfrm>
              <a:off x="2700360" y="6211800"/>
              <a:ext cx="150948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4398840" y="6244920"/>
              <a:ext cx="352080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25760" y="62449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2.452E-006 L 0.50173 -0.1647 E">
                                      <p:cBhvr>
                                        <p:cTn id="309" dur="2000" fill="hold"/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89544E-006 L 0.61511 0.00903 E">
                                      <p:cBhvr>
                                        <p:cTn id="320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9.11404E-007 L 0.57899 -0.00879 E">
                                      <p:cBhvr>
                                        <p:cTn id="328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0" y="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2. Uzdev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900000" y="836640"/>
            <a:ext cx="554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387440" y="249120"/>
            <a:ext cx="7756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333399"/>
                </a:solidFill>
                <a:latin typeface="Times New Roman"/>
              </a:rPr>
              <a:t>Izmantojot eksperimenta rezultātus, nosakiet, no kāda materiāla izgatavots elektrības vadītājs, tā šķērsgriezuma laukums ir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lv-LV" sz="2800" spc="-1" strike="noStrike">
                <a:solidFill>
                  <a:srgbClr val="333399"/>
                </a:solidFill>
                <a:latin typeface="Times New Roman"/>
              </a:rPr>
              <a:t> mm</a:t>
            </a:r>
            <a:r>
              <a:rPr b="1" lang="lv-LV" sz="2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lv-LV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425600" y="3071880"/>
            <a:ext cx="209520" cy="2347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042920" y="4707360"/>
            <a:ext cx="1365120" cy="1671840"/>
            <a:chOff x="1042920" y="4707360"/>
            <a:chExt cx="1365120" cy="1671840"/>
          </a:xfrm>
        </p:grpSpPr>
        <p:sp>
          <p:nvSpPr>
            <p:cNvPr id="628" name=""/>
            <p:cNvSpPr/>
            <p:nvPr/>
          </p:nvSpPr>
          <p:spPr>
            <a:xfrm flipH="1" flipV="1">
              <a:off x="1042920" y="4707360"/>
              <a:ext cx="682560" cy="835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 flipV="1">
              <a:off x="1725120" y="5542920"/>
              <a:ext cx="682920" cy="836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620640" y="4462560"/>
            <a:ext cx="2170800" cy="2158200"/>
            <a:chOff x="620640" y="4462560"/>
            <a:chExt cx="2170800" cy="2158200"/>
          </a:xfrm>
        </p:grpSpPr>
        <p:sp>
          <p:nvSpPr>
            <p:cNvPr id="631" name=""/>
            <p:cNvSpPr/>
            <p:nvPr/>
          </p:nvSpPr>
          <p:spPr>
            <a:xfrm>
              <a:off x="621000" y="4462560"/>
              <a:ext cx="2170440" cy="21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350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350966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620280" y="4462560"/>
              <a:ext cx="2170440" cy="21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350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350966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1704960" y="43228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933480" y="4590720"/>
            <a:ext cx="88560" cy="11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91320" y="4386960"/>
            <a:ext cx="4644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2068920" y="4394880"/>
            <a:ext cx="4680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2392560" y="4593600"/>
            <a:ext cx="88200" cy="11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rot="20045400">
            <a:off x="941400" y="4032000"/>
            <a:ext cx="5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  <a:ea typeface="Arial"/>
              </a:rPr>
              <a:t>0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rot="19320000">
            <a:off x="670320" y="4282200"/>
            <a:ext cx="3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442880" y="3975120"/>
            <a:ext cx="5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  <a:ea typeface="Arial"/>
              </a:rPr>
              <a:t>0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rot="984600">
            <a:off x="1907640" y="404460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  <a:ea typeface="Arial"/>
              </a:rPr>
              <a:t>0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rot="2278800">
            <a:off x="2331360" y="4317480"/>
            <a:ext cx="66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  <a:ea typeface="Arial"/>
              </a:rPr>
              <a:t>0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38280" y="3873600"/>
            <a:ext cx="2225520" cy="2093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498680" y="4687920"/>
            <a:ext cx="4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4469040" y="4640760"/>
            <a:ext cx="1365120" cy="1671840"/>
            <a:chOff x="4469040" y="4640760"/>
            <a:chExt cx="1365120" cy="1671840"/>
          </a:xfrm>
        </p:grpSpPr>
        <p:sp>
          <p:nvSpPr>
            <p:cNvPr id="646" name=""/>
            <p:cNvSpPr/>
            <p:nvPr/>
          </p:nvSpPr>
          <p:spPr>
            <a:xfrm flipH="1" flipV="1">
              <a:off x="4469040" y="4640760"/>
              <a:ext cx="682560" cy="835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flipV="1">
              <a:off x="5151240" y="5476320"/>
              <a:ext cx="682920" cy="836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4046760" y="4395960"/>
            <a:ext cx="2170800" cy="2158200"/>
            <a:chOff x="4046760" y="4395960"/>
            <a:chExt cx="2170800" cy="2158200"/>
          </a:xfrm>
        </p:grpSpPr>
        <p:sp>
          <p:nvSpPr>
            <p:cNvPr id="649" name=""/>
            <p:cNvSpPr/>
            <p:nvPr/>
          </p:nvSpPr>
          <p:spPr>
            <a:xfrm>
              <a:off x="4047120" y="4395960"/>
              <a:ext cx="2170440" cy="21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350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350966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4046400" y="4395960"/>
              <a:ext cx="2170440" cy="21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350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350966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5130720" y="42559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359600" y="4524120"/>
            <a:ext cx="88560" cy="11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717080" y="4320360"/>
            <a:ext cx="4644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5494680" y="4328280"/>
            <a:ext cx="4680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5818320" y="4526640"/>
            <a:ext cx="88200" cy="11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rot="20045400">
            <a:off x="4492800" y="3966840"/>
            <a:ext cx="3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rot="19320000">
            <a:off x="4096080" y="42159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983120" y="3895560"/>
            <a:ext cx="3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rot="984600">
            <a:off x="5454000" y="3971520"/>
            <a:ext cx="3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rot="2278800">
            <a:off x="5842800" y="4210200"/>
            <a:ext cx="3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064040" y="3807000"/>
            <a:ext cx="2225520" cy="2093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924440" y="4621320"/>
            <a:ext cx="4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5526000" y="2154240"/>
            <a:ext cx="1332000" cy="1004760"/>
            <a:chOff x="5526000" y="2154240"/>
            <a:chExt cx="1332000" cy="1004760"/>
          </a:xfrm>
        </p:grpSpPr>
        <p:pic>
          <p:nvPicPr>
            <p:cNvPr id="664" name="" descr=""/>
            <p:cNvPicPr/>
            <p:nvPr/>
          </p:nvPicPr>
          <p:blipFill>
            <a:blip r:embed="rId1"/>
            <a:stretch/>
          </p:blipFill>
          <p:spPr>
            <a:xfrm>
              <a:off x="5969160" y="2440080"/>
              <a:ext cx="45864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"/>
            <p:cNvSpPr/>
            <p:nvPr/>
          </p:nvSpPr>
          <p:spPr>
            <a:xfrm>
              <a:off x="5526000" y="2266920"/>
              <a:ext cx="1332000" cy="892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603760" y="2154240"/>
              <a:ext cx="88920" cy="88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675480" y="2158920"/>
              <a:ext cx="88920" cy="88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670800" y="2379600"/>
              <a:ext cx="10476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51640" y="2336760"/>
              <a:ext cx="0" cy="104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597640" y="2392200"/>
              <a:ext cx="104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824040" y="5581800"/>
            <a:ext cx="104760" cy="104760"/>
            <a:chOff x="824040" y="5581800"/>
            <a:chExt cx="104760" cy="104760"/>
          </a:xfrm>
        </p:grpSpPr>
        <p:sp>
          <p:nvSpPr>
            <p:cNvPr id="672" name=""/>
            <p:cNvSpPr/>
            <p:nvPr/>
          </p:nvSpPr>
          <p:spPr>
            <a:xfrm>
              <a:off x="878040" y="5581800"/>
              <a:ext cx="0" cy="104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24040" y="5637240"/>
              <a:ext cx="104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2592360" y="5635800"/>
            <a:ext cx="10476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93800" y="5740560"/>
            <a:ext cx="152280" cy="152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4267080" y="5494320"/>
            <a:ext cx="104760" cy="104760"/>
            <a:chOff x="4267080" y="5494320"/>
            <a:chExt cx="104760" cy="104760"/>
          </a:xfrm>
        </p:grpSpPr>
        <p:sp>
          <p:nvSpPr>
            <p:cNvPr id="677" name=""/>
            <p:cNvSpPr/>
            <p:nvPr/>
          </p:nvSpPr>
          <p:spPr>
            <a:xfrm>
              <a:off x="4321080" y="5494320"/>
              <a:ext cx="0" cy="104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67080" y="5549760"/>
              <a:ext cx="104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4237200" y="5653080"/>
            <a:ext cx="152280" cy="152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567160" y="5729400"/>
            <a:ext cx="152280" cy="152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048360" y="5580000"/>
            <a:ext cx="10476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022800" y="5673600"/>
            <a:ext cx="152640" cy="152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246560" y="1930320"/>
            <a:ext cx="1398600" cy="250920"/>
          </a:xfrm>
          <a:custGeom>
            <a:avLst/>
            <a:gdLst/>
            <a:ahLst/>
            <a:rect l="l" t="t" r="r" b="b"/>
            <a:pathLst>
              <a:path w="881" h="158">
                <a:moveTo>
                  <a:pt x="861" y="152"/>
                </a:moveTo>
                <a:cubicBezTo>
                  <a:pt x="785" y="114"/>
                  <a:pt x="881" y="158"/>
                  <a:pt x="781" y="128"/>
                </a:cubicBezTo>
                <a:cubicBezTo>
                  <a:pt x="760" y="122"/>
                  <a:pt x="746" y="99"/>
                  <a:pt x="725" y="96"/>
                </a:cubicBezTo>
                <a:cubicBezTo>
                  <a:pt x="680" y="89"/>
                  <a:pt x="634" y="91"/>
                  <a:pt x="589" y="88"/>
                </a:cubicBezTo>
                <a:cubicBezTo>
                  <a:pt x="578" y="91"/>
                  <a:pt x="568" y="98"/>
                  <a:pt x="557" y="96"/>
                </a:cubicBezTo>
                <a:cubicBezTo>
                  <a:pt x="547" y="95"/>
                  <a:pt x="542" y="83"/>
                  <a:pt x="533" y="80"/>
                </a:cubicBezTo>
                <a:cubicBezTo>
                  <a:pt x="505" y="69"/>
                  <a:pt x="474" y="66"/>
                  <a:pt x="445" y="56"/>
                </a:cubicBezTo>
                <a:cubicBezTo>
                  <a:pt x="364" y="29"/>
                  <a:pt x="281" y="11"/>
                  <a:pt x="197" y="0"/>
                </a:cubicBezTo>
                <a:cubicBezTo>
                  <a:pt x="165" y="3"/>
                  <a:pt x="133" y="3"/>
                  <a:pt x="101" y="8"/>
                </a:cubicBezTo>
                <a:cubicBezTo>
                  <a:pt x="0" y="25"/>
                  <a:pt x="78" y="24"/>
                  <a:pt x="45" y="2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3080" y="3238560"/>
            <a:ext cx="1425600" cy="3225600"/>
          </a:xfrm>
          <a:custGeom>
            <a:avLst/>
            <a:gdLst/>
            <a:ahLst/>
            <a:rect l="l" t="t" r="r" b="b"/>
            <a:pathLst>
              <a:path w="898" h="2032">
                <a:moveTo>
                  <a:pt x="898" y="0"/>
                </a:moveTo>
                <a:cubicBezTo>
                  <a:pt x="847" y="17"/>
                  <a:pt x="809" y="33"/>
                  <a:pt x="754" y="40"/>
                </a:cubicBezTo>
                <a:cubicBezTo>
                  <a:pt x="629" y="82"/>
                  <a:pt x="480" y="68"/>
                  <a:pt x="346" y="80"/>
                </a:cubicBezTo>
                <a:cubicBezTo>
                  <a:pt x="322" y="88"/>
                  <a:pt x="298" y="96"/>
                  <a:pt x="274" y="104"/>
                </a:cubicBezTo>
                <a:cubicBezTo>
                  <a:pt x="258" y="109"/>
                  <a:pt x="226" y="120"/>
                  <a:pt x="226" y="120"/>
                </a:cubicBezTo>
                <a:cubicBezTo>
                  <a:pt x="208" y="147"/>
                  <a:pt x="188" y="154"/>
                  <a:pt x="178" y="184"/>
                </a:cubicBezTo>
                <a:cubicBezTo>
                  <a:pt x="174" y="253"/>
                  <a:pt x="186" y="376"/>
                  <a:pt x="114" y="424"/>
                </a:cubicBezTo>
                <a:cubicBezTo>
                  <a:pt x="97" y="474"/>
                  <a:pt x="87" y="533"/>
                  <a:pt x="58" y="576"/>
                </a:cubicBezTo>
                <a:cubicBezTo>
                  <a:pt x="34" y="674"/>
                  <a:pt x="42" y="773"/>
                  <a:pt x="50" y="872"/>
                </a:cubicBezTo>
                <a:cubicBezTo>
                  <a:pt x="62" y="1732"/>
                  <a:pt x="0" y="1241"/>
                  <a:pt x="90" y="1512"/>
                </a:cubicBezTo>
                <a:cubicBezTo>
                  <a:pt x="82" y="1536"/>
                  <a:pt x="62" y="1559"/>
                  <a:pt x="66" y="1584"/>
                </a:cubicBezTo>
                <a:cubicBezTo>
                  <a:pt x="82" y="1699"/>
                  <a:pt x="89" y="1806"/>
                  <a:pt x="154" y="1904"/>
                </a:cubicBezTo>
                <a:cubicBezTo>
                  <a:pt x="161" y="1914"/>
                  <a:pt x="162" y="1927"/>
                  <a:pt x="170" y="1936"/>
                </a:cubicBezTo>
                <a:cubicBezTo>
                  <a:pt x="204" y="1975"/>
                  <a:pt x="250" y="2000"/>
                  <a:pt x="298" y="2016"/>
                </a:cubicBezTo>
                <a:cubicBezTo>
                  <a:pt x="314" y="2021"/>
                  <a:pt x="346" y="2032"/>
                  <a:pt x="346" y="2032"/>
                </a:cubicBezTo>
                <a:cubicBezTo>
                  <a:pt x="399" y="2027"/>
                  <a:pt x="454" y="2031"/>
                  <a:pt x="506" y="2016"/>
                </a:cubicBezTo>
                <a:cubicBezTo>
                  <a:pt x="517" y="2013"/>
                  <a:pt x="508" y="1993"/>
                  <a:pt x="514" y="1984"/>
                </a:cubicBezTo>
                <a:cubicBezTo>
                  <a:pt x="519" y="1976"/>
                  <a:pt x="530" y="1973"/>
                  <a:pt x="538" y="1968"/>
                </a:cubicBezTo>
                <a:cubicBezTo>
                  <a:pt x="550" y="1908"/>
                  <a:pt x="557" y="1907"/>
                  <a:pt x="538" y="1840"/>
                </a:cubicBezTo>
                <a:cubicBezTo>
                  <a:pt x="533" y="1824"/>
                  <a:pt x="522" y="1792"/>
                  <a:pt x="522" y="1792"/>
                </a:cubicBezTo>
                <a:cubicBezTo>
                  <a:pt x="525" y="1784"/>
                  <a:pt x="531" y="1776"/>
                  <a:pt x="530" y="1768"/>
                </a:cubicBezTo>
                <a:cubicBezTo>
                  <a:pt x="528" y="1756"/>
                  <a:pt x="518" y="1747"/>
                  <a:pt x="514" y="1736"/>
                </a:cubicBezTo>
                <a:cubicBezTo>
                  <a:pt x="494" y="1685"/>
                  <a:pt x="498" y="1697"/>
                  <a:pt x="498" y="1648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604960" y="1944720"/>
            <a:ext cx="5891400" cy="4637160"/>
          </a:xfrm>
          <a:custGeom>
            <a:avLst/>
            <a:gdLst/>
            <a:ahLst/>
            <a:rect l="l" t="t" r="r" b="b"/>
            <a:pathLst>
              <a:path w="3711" h="2921">
                <a:moveTo>
                  <a:pt x="15" y="2431"/>
                </a:moveTo>
                <a:cubicBezTo>
                  <a:pt x="0" y="2505"/>
                  <a:pt x="9" y="2437"/>
                  <a:pt x="15" y="2511"/>
                </a:cubicBezTo>
                <a:cubicBezTo>
                  <a:pt x="19" y="2559"/>
                  <a:pt x="17" y="2607"/>
                  <a:pt x="23" y="2655"/>
                </a:cubicBezTo>
                <a:cubicBezTo>
                  <a:pt x="30" y="2710"/>
                  <a:pt x="64" y="2798"/>
                  <a:pt x="111" y="2831"/>
                </a:cubicBezTo>
                <a:cubicBezTo>
                  <a:pt x="153" y="2861"/>
                  <a:pt x="303" y="2876"/>
                  <a:pt x="351" y="2879"/>
                </a:cubicBezTo>
                <a:cubicBezTo>
                  <a:pt x="463" y="2885"/>
                  <a:pt x="575" y="2890"/>
                  <a:pt x="687" y="2895"/>
                </a:cubicBezTo>
                <a:cubicBezTo>
                  <a:pt x="944" y="2921"/>
                  <a:pt x="1204" y="2908"/>
                  <a:pt x="1463" y="2919"/>
                </a:cubicBezTo>
                <a:cubicBezTo>
                  <a:pt x="1555" y="2882"/>
                  <a:pt x="1662" y="2911"/>
                  <a:pt x="1759" y="2919"/>
                </a:cubicBezTo>
                <a:cubicBezTo>
                  <a:pt x="1802" y="2898"/>
                  <a:pt x="1884" y="2899"/>
                  <a:pt x="1927" y="2895"/>
                </a:cubicBezTo>
                <a:cubicBezTo>
                  <a:pt x="2035" y="2884"/>
                  <a:pt x="2251" y="2881"/>
                  <a:pt x="2327" y="2879"/>
                </a:cubicBezTo>
                <a:cubicBezTo>
                  <a:pt x="2583" y="2890"/>
                  <a:pt x="2831" y="2893"/>
                  <a:pt x="3087" y="2879"/>
                </a:cubicBezTo>
                <a:cubicBezTo>
                  <a:pt x="3110" y="2871"/>
                  <a:pt x="3136" y="2872"/>
                  <a:pt x="3159" y="2863"/>
                </a:cubicBezTo>
                <a:cubicBezTo>
                  <a:pt x="3177" y="2856"/>
                  <a:pt x="3207" y="2831"/>
                  <a:pt x="3207" y="2831"/>
                </a:cubicBezTo>
                <a:cubicBezTo>
                  <a:pt x="3212" y="2823"/>
                  <a:pt x="3216" y="2813"/>
                  <a:pt x="3223" y="2807"/>
                </a:cubicBezTo>
                <a:cubicBezTo>
                  <a:pt x="3237" y="2794"/>
                  <a:pt x="3271" y="2775"/>
                  <a:pt x="3271" y="2775"/>
                </a:cubicBezTo>
                <a:cubicBezTo>
                  <a:pt x="3292" y="2743"/>
                  <a:pt x="3306" y="2744"/>
                  <a:pt x="3343" y="2735"/>
                </a:cubicBezTo>
                <a:cubicBezTo>
                  <a:pt x="3369" y="2718"/>
                  <a:pt x="3385" y="2697"/>
                  <a:pt x="3415" y="2687"/>
                </a:cubicBezTo>
                <a:cubicBezTo>
                  <a:pt x="3432" y="2670"/>
                  <a:pt x="3455" y="2658"/>
                  <a:pt x="3471" y="2639"/>
                </a:cubicBezTo>
                <a:cubicBezTo>
                  <a:pt x="3476" y="2633"/>
                  <a:pt x="3474" y="2622"/>
                  <a:pt x="3479" y="2615"/>
                </a:cubicBezTo>
                <a:cubicBezTo>
                  <a:pt x="3498" y="2587"/>
                  <a:pt x="3527" y="2566"/>
                  <a:pt x="3543" y="2535"/>
                </a:cubicBezTo>
                <a:cubicBezTo>
                  <a:pt x="3568" y="2485"/>
                  <a:pt x="3563" y="2451"/>
                  <a:pt x="3607" y="2407"/>
                </a:cubicBezTo>
                <a:cubicBezTo>
                  <a:pt x="3610" y="2370"/>
                  <a:pt x="3609" y="2332"/>
                  <a:pt x="3615" y="2295"/>
                </a:cubicBezTo>
                <a:cubicBezTo>
                  <a:pt x="3618" y="2278"/>
                  <a:pt x="3631" y="2247"/>
                  <a:pt x="3631" y="2247"/>
                </a:cubicBezTo>
                <a:cubicBezTo>
                  <a:pt x="3637" y="2153"/>
                  <a:pt x="3636" y="2040"/>
                  <a:pt x="3671" y="1951"/>
                </a:cubicBezTo>
                <a:cubicBezTo>
                  <a:pt x="3678" y="1829"/>
                  <a:pt x="3698" y="1719"/>
                  <a:pt x="3711" y="1599"/>
                </a:cubicBezTo>
                <a:cubicBezTo>
                  <a:pt x="3706" y="1476"/>
                  <a:pt x="3701" y="1354"/>
                  <a:pt x="3695" y="1231"/>
                </a:cubicBezTo>
                <a:cubicBezTo>
                  <a:pt x="3693" y="1186"/>
                  <a:pt x="3692" y="1126"/>
                  <a:pt x="3679" y="1079"/>
                </a:cubicBezTo>
                <a:cubicBezTo>
                  <a:pt x="3675" y="1063"/>
                  <a:pt x="3663" y="1031"/>
                  <a:pt x="3663" y="1031"/>
                </a:cubicBezTo>
                <a:cubicBezTo>
                  <a:pt x="3659" y="981"/>
                  <a:pt x="3660" y="725"/>
                  <a:pt x="3591" y="679"/>
                </a:cubicBezTo>
                <a:cubicBezTo>
                  <a:pt x="3575" y="631"/>
                  <a:pt x="3563" y="569"/>
                  <a:pt x="3535" y="527"/>
                </a:cubicBezTo>
                <a:cubicBezTo>
                  <a:pt x="3529" y="483"/>
                  <a:pt x="3528" y="444"/>
                  <a:pt x="3503" y="407"/>
                </a:cubicBezTo>
                <a:cubicBezTo>
                  <a:pt x="3484" y="312"/>
                  <a:pt x="3509" y="410"/>
                  <a:pt x="3479" y="343"/>
                </a:cubicBezTo>
                <a:cubicBezTo>
                  <a:pt x="3451" y="280"/>
                  <a:pt x="3482" y="308"/>
                  <a:pt x="3439" y="279"/>
                </a:cubicBezTo>
                <a:cubicBezTo>
                  <a:pt x="3428" y="246"/>
                  <a:pt x="3413" y="233"/>
                  <a:pt x="3391" y="207"/>
                </a:cubicBezTo>
                <a:cubicBezTo>
                  <a:pt x="3380" y="193"/>
                  <a:pt x="3380" y="172"/>
                  <a:pt x="3367" y="159"/>
                </a:cubicBezTo>
                <a:cubicBezTo>
                  <a:pt x="3361" y="153"/>
                  <a:pt x="3351" y="155"/>
                  <a:pt x="3343" y="151"/>
                </a:cubicBezTo>
                <a:cubicBezTo>
                  <a:pt x="3318" y="139"/>
                  <a:pt x="3290" y="110"/>
                  <a:pt x="3263" y="103"/>
                </a:cubicBezTo>
                <a:cubicBezTo>
                  <a:pt x="3240" y="97"/>
                  <a:pt x="3215" y="98"/>
                  <a:pt x="3191" y="95"/>
                </a:cubicBezTo>
                <a:cubicBezTo>
                  <a:pt x="3117" y="70"/>
                  <a:pt x="3044" y="68"/>
                  <a:pt x="2967" y="55"/>
                </a:cubicBezTo>
                <a:cubicBezTo>
                  <a:pt x="2884" y="0"/>
                  <a:pt x="2788" y="35"/>
                  <a:pt x="2687" y="39"/>
                </a:cubicBezTo>
                <a:cubicBezTo>
                  <a:pt x="2666" y="46"/>
                  <a:pt x="2641" y="43"/>
                  <a:pt x="2623" y="55"/>
                </a:cubicBezTo>
                <a:cubicBezTo>
                  <a:pt x="2603" y="68"/>
                  <a:pt x="2615" y="103"/>
                  <a:pt x="2615" y="127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498680" y="3251160"/>
            <a:ext cx="2860560" cy="2959200"/>
          </a:xfrm>
          <a:custGeom>
            <a:avLst/>
            <a:gdLst/>
            <a:ahLst/>
            <a:rect l="l" t="t" r="r" b="b"/>
            <a:pathLst>
              <a:path w="1802" h="1864">
                <a:moveTo>
                  <a:pt x="0" y="0"/>
                </a:moveTo>
                <a:cubicBezTo>
                  <a:pt x="13" y="3"/>
                  <a:pt x="28" y="1"/>
                  <a:pt x="40" y="8"/>
                </a:cubicBezTo>
                <a:cubicBezTo>
                  <a:pt x="60" y="19"/>
                  <a:pt x="55" y="52"/>
                  <a:pt x="72" y="64"/>
                </a:cubicBezTo>
                <a:cubicBezTo>
                  <a:pt x="85" y="74"/>
                  <a:pt x="104" y="75"/>
                  <a:pt x="120" y="80"/>
                </a:cubicBezTo>
                <a:cubicBezTo>
                  <a:pt x="136" y="85"/>
                  <a:pt x="151" y="93"/>
                  <a:pt x="168" y="96"/>
                </a:cubicBezTo>
                <a:cubicBezTo>
                  <a:pt x="195" y="101"/>
                  <a:pt x="248" y="112"/>
                  <a:pt x="248" y="112"/>
                </a:cubicBezTo>
                <a:cubicBezTo>
                  <a:pt x="321" y="161"/>
                  <a:pt x="409" y="168"/>
                  <a:pt x="496" y="176"/>
                </a:cubicBezTo>
                <a:cubicBezTo>
                  <a:pt x="566" y="129"/>
                  <a:pt x="700" y="172"/>
                  <a:pt x="784" y="184"/>
                </a:cubicBezTo>
                <a:cubicBezTo>
                  <a:pt x="828" y="199"/>
                  <a:pt x="874" y="202"/>
                  <a:pt x="920" y="208"/>
                </a:cubicBezTo>
                <a:cubicBezTo>
                  <a:pt x="945" y="246"/>
                  <a:pt x="973" y="237"/>
                  <a:pt x="1008" y="272"/>
                </a:cubicBezTo>
                <a:cubicBezTo>
                  <a:pt x="1016" y="280"/>
                  <a:pt x="1022" y="291"/>
                  <a:pt x="1032" y="296"/>
                </a:cubicBezTo>
                <a:cubicBezTo>
                  <a:pt x="1044" y="302"/>
                  <a:pt x="1059" y="301"/>
                  <a:pt x="1072" y="304"/>
                </a:cubicBezTo>
                <a:cubicBezTo>
                  <a:pt x="1110" y="312"/>
                  <a:pt x="1144" y="322"/>
                  <a:pt x="1176" y="344"/>
                </a:cubicBezTo>
                <a:cubicBezTo>
                  <a:pt x="1194" y="398"/>
                  <a:pt x="1192" y="457"/>
                  <a:pt x="1208" y="512"/>
                </a:cubicBezTo>
                <a:cubicBezTo>
                  <a:pt x="1215" y="536"/>
                  <a:pt x="1224" y="560"/>
                  <a:pt x="1232" y="584"/>
                </a:cubicBezTo>
                <a:cubicBezTo>
                  <a:pt x="1235" y="592"/>
                  <a:pt x="1240" y="608"/>
                  <a:pt x="1240" y="608"/>
                </a:cubicBezTo>
                <a:cubicBezTo>
                  <a:pt x="1205" y="661"/>
                  <a:pt x="1241" y="758"/>
                  <a:pt x="1256" y="816"/>
                </a:cubicBezTo>
                <a:cubicBezTo>
                  <a:pt x="1260" y="832"/>
                  <a:pt x="1272" y="864"/>
                  <a:pt x="1272" y="864"/>
                </a:cubicBezTo>
                <a:cubicBezTo>
                  <a:pt x="1275" y="885"/>
                  <a:pt x="1276" y="907"/>
                  <a:pt x="1280" y="928"/>
                </a:cubicBezTo>
                <a:cubicBezTo>
                  <a:pt x="1284" y="952"/>
                  <a:pt x="1293" y="976"/>
                  <a:pt x="1296" y="1000"/>
                </a:cubicBezTo>
                <a:cubicBezTo>
                  <a:pt x="1304" y="1058"/>
                  <a:pt x="1308" y="1203"/>
                  <a:pt x="1312" y="1248"/>
                </a:cubicBezTo>
                <a:cubicBezTo>
                  <a:pt x="1318" y="1323"/>
                  <a:pt x="1340" y="1407"/>
                  <a:pt x="1352" y="1480"/>
                </a:cubicBezTo>
                <a:cubicBezTo>
                  <a:pt x="1357" y="1510"/>
                  <a:pt x="1379" y="1644"/>
                  <a:pt x="1392" y="1664"/>
                </a:cubicBezTo>
                <a:cubicBezTo>
                  <a:pt x="1397" y="1671"/>
                  <a:pt x="1408" y="1669"/>
                  <a:pt x="1416" y="1672"/>
                </a:cubicBezTo>
                <a:cubicBezTo>
                  <a:pt x="1456" y="1733"/>
                  <a:pt x="1442" y="1777"/>
                  <a:pt x="1512" y="1824"/>
                </a:cubicBezTo>
                <a:cubicBezTo>
                  <a:pt x="1535" y="1859"/>
                  <a:pt x="1546" y="1851"/>
                  <a:pt x="1584" y="1864"/>
                </a:cubicBezTo>
                <a:cubicBezTo>
                  <a:pt x="1655" y="1854"/>
                  <a:pt x="1703" y="1845"/>
                  <a:pt x="1768" y="1832"/>
                </a:cubicBezTo>
                <a:cubicBezTo>
                  <a:pt x="1802" y="1781"/>
                  <a:pt x="1791" y="1777"/>
                  <a:pt x="1776" y="1704"/>
                </a:cubicBezTo>
                <a:cubicBezTo>
                  <a:pt x="1798" y="1637"/>
                  <a:pt x="1796" y="1675"/>
                  <a:pt x="1776" y="1608"/>
                </a:cubicBezTo>
                <a:cubicBezTo>
                  <a:pt x="1773" y="1597"/>
                  <a:pt x="1768" y="1576"/>
                  <a:pt x="1768" y="1576"/>
                </a:cubicBezTo>
              </a:path>
            </a:pathLst>
          </a:cu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330800" y="2019240"/>
            <a:ext cx="2313000" cy="4140360"/>
          </a:xfrm>
          <a:custGeom>
            <a:avLst/>
            <a:gdLst/>
            <a:ahLst/>
            <a:rect l="l" t="t" r="r" b="b"/>
            <a:pathLst>
              <a:path w="1457" h="2608">
                <a:moveTo>
                  <a:pt x="0" y="0"/>
                </a:moveTo>
                <a:cubicBezTo>
                  <a:pt x="5" y="11"/>
                  <a:pt x="8" y="23"/>
                  <a:pt x="16" y="32"/>
                </a:cubicBezTo>
                <a:cubicBezTo>
                  <a:pt x="46" y="68"/>
                  <a:pt x="46" y="23"/>
                  <a:pt x="32" y="80"/>
                </a:cubicBezTo>
                <a:cubicBezTo>
                  <a:pt x="49" y="131"/>
                  <a:pt x="52" y="143"/>
                  <a:pt x="96" y="176"/>
                </a:cubicBezTo>
                <a:cubicBezTo>
                  <a:pt x="104" y="209"/>
                  <a:pt x="113" y="227"/>
                  <a:pt x="128" y="256"/>
                </a:cubicBezTo>
                <a:cubicBezTo>
                  <a:pt x="132" y="264"/>
                  <a:pt x="130" y="274"/>
                  <a:pt x="136" y="280"/>
                </a:cubicBezTo>
                <a:cubicBezTo>
                  <a:pt x="142" y="286"/>
                  <a:pt x="152" y="285"/>
                  <a:pt x="160" y="288"/>
                </a:cubicBezTo>
                <a:cubicBezTo>
                  <a:pt x="183" y="322"/>
                  <a:pt x="201" y="358"/>
                  <a:pt x="224" y="392"/>
                </a:cubicBezTo>
                <a:cubicBezTo>
                  <a:pt x="234" y="407"/>
                  <a:pt x="242" y="452"/>
                  <a:pt x="248" y="472"/>
                </a:cubicBezTo>
                <a:cubicBezTo>
                  <a:pt x="264" y="525"/>
                  <a:pt x="278" y="579"/>
                  <a:pt x="296" y="632"/>
                </a:cubicBezTo>
                <a:cubicBezTo>
                  <a:pt x="303" y="680"/>
                  <a:pt x="318" y="722"/>
                  <a:pt x="328" y="768"/>
                </a:cubicBezTo>
                <a:cubicBezTo>
                  <a:pt x="331" y="781"/>
                  <a:pt x="329" y="796"/>
                  <a:pt x="336" y="808"/>
                </a:cubicBezTo>
                <a:cubicBezTo>
                  <a:pt x="341" y="816"/>
                  <a:pt x="352" y="819"/>
                  <a:pt x="360" y="824"/>
                </a:cubicBezTo>
                <a:cubicBezTo>
                  <a:pt x="370" y="839"/>
                  <a:pt x="371" y="859"/>
                  <a:pt x="384" y="872"/>
                </a:cubicBezTo>
                <a:cubicBezTo>
                  <a:pt x="413" y="901"/>
                  <a:pt x="464" y="886"/>
                  <a:pt x="504" y="896"/>
                </a:cubicBezTo>
                <a:cubicBezTo>
                  <a:pt x="591" y="918"/>
                  <a:pt x="546" y="910"/>
                  <a:pt x="640" y="920"/>
                </a:cubicBezTo>
                <a:cubicBezTo>
                  <a:pt x="681" y="947"/>
                  <a:pt x="657" y="936"/>
                  <a:pt x="728" y="944"/>
                </a:cubicBezTo>
                <a:cubicBezTo>
                  <a:pt x="781" y="950"/>
                  <a:pt x="888" y="960"/>
                  <a:pt x="888" y="960"/>
                </a:cubicBezTo>
                <a:cubicBezTo>
                  <a:pt x="951" y="981"/>
                  <a:pt x="1022" y="976"/>
                  <a:pt x="1088" y="984"/>
                </a:cubicBezTo>
                <a:cubicBezTo>
                  <a:pt x="1149" y="1025"/>
                  <a:pt x="1228" y="1025"/>
                  <a:pt x="1296" y="1048"/>
                </a:cubicBezTo>
                <a:cubicBezTo>
                  <a:pt x="1307" y="1080"/>
                  <a:pt x="1328" y="1088"/>
                  <a:pt x="1352" y="1112"/>
                </a:cubicBezTo>
                <a:cubicBezTo>
                  <a:pt x="1363" y="1169"/>
                  <a:pt x="1356" y="1139"/>
                  <a:pt x="1376" y="1200"/>
                </a:cubicBezTo>
                <a:cubicBezTo>
                  <a:pt x="1379" y="1208"/>
                  <a:pt x="1384" y="1224"/>
                  <a:pt x="1384" y="1224"/>
                </a:cubicBezTo>
                <a:cubicBezTo>
                  <a:pt x="1387" y="1245"/>
                  <a:pt x="1386" y="1267"/>
                  <a:pt x="1392" y="1288"/>
                </a:cubicBezTo>
                <a:cubicBezTo>
                  <a:pt x="1395" y="1297"/>
                  <a:pt x="1407" y="1302"/>
                  <a:pt x="1408" y="1312"/>
                </a:cubicBezTo>
                <a:cubicBezTo>
                  <a:pt x="1420" y="1416"/>
                  <a:pt x="1412" y="1502"/>
                  <a:pt x="1432" y="1600"/>
                </a:cubicBezTo>
                <a:cubicBezTo>
                  <a:pt x="1438" y="1755"/>
                  <a:pt x="1453" y="1787"/>
                  <a:pt x="1432" y="1920"/>
                </a:cubicBezTo>
                <a:cubicBezTo>
                  <a:pt x="1447" y="2126"/>
                  <a:pt x="1443" y="2116"/>
                  <a:pt x="1424" y="2288"/>
                </a:cubicBezTo>
                <a:cubicBezTo>
                  <a:pt x="1429" y="2370"/>
                  <a:pt x="1457" y="2450"/>
                  <a:pt x="1368" y="2480"/>
                </a:cubicBezTo>
                <a:cubicBezTo>
                  <a:pt x="1357" y="2496"/>
                  <a:pt x="1338" y="2509"/>
                  <a:pt x="1336" y="2528"/>
                </a:cubicBezTo>
                <a:cubicBezTo>
                  <a:pt x="1327" y="2602"/>
                  <a:pt x="1346" y="2580"/>
                  <a:pt x="1304" y="2608"/>
                </a:cubicBezTo>
                <a:cubicBezTo>
                  <a:pt x="1171" y="2581"/>
                  <a:pt x="1217" y="2608"/>
                  <a:pt x="1152" y="2560"/>
                </a:cubicBezTo>
                <a:cubicBezTo>
                  <a:pt x="1145" y="2506"/>
                  <a:pt x="1120" y="2446"/>
                  <a:pt x="1120" y="2392"/>
                </a:cubicBezTo>
              </a:path>
            </a:pathLst>
          </a:cu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1348920" y="2788920"/>
            <a:ext cx="128520" cy="2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H="1" flipV="1">
            <a:off x="4111200" y="1628280"/>
            <a:ext cx="128520" cy="2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1432080" y="1774440"/>
            <a:ext cx="2736720" cy="1166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rot="20236800">
            <a:off x="2246760" y="1969560"/>
            <a:ext cx="117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,54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60000">
                                      <p:cBhvr>
                                        <p:cTn id="374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60000">
                                      <p:cBhvr>
                                        <p:cTn id="386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1"/>
          <a:stretch/>
        </p:blipFill>
        <p:spPr>
          <a:xfrm>
            <a:off x="3819600" y="0"/>
            <a:ext cx="5324400" cy="318276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31680" y="144360"/>
            <a:ext cx="17398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 mm</a:t>
            </a:r>
            <a:r>
              <a:rPr b="0" lang="lv-LV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,5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560600" y="249120"/>
            <a:ext cx="0" cy="324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-73080" y="2208240"/>
            <a:ext cx="164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351320" y="261288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bilde: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8400" y="2351160"/>
            <a:ext cx="90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1639800" y="-200160"/>
            <a:ext cx="1434960" cy="1139400"/>
            <a:chOff x="1639800" y="-200160"/>
            <a:chExt cx="1434960" cy="1139400"/>
          </a:xfrm>
        </p:grpSpPr>
        <p:sp>
          <p:nvSpPr>
            <p:cNvPr id="704" name=""/>
            <p:cNvSpPr/>
            <p:nvPr/>
          </p:nvSpPr>
          <p:spPr>
            <a:xfrm>
              <a:off x="1639800" y="-200160"/>
              <a:ext cx="1434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lv-LV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</a:t>
              </a:r>
              <a:r>
                <a:rPr b="1" i="1" lang="ru-RU" sz="6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73040" y="-22320"/>
              <a:ext cx="62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ρ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508120" y="381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328480" y="479520"/>
              <a:ext cx="41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lv-LV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1" i="1" lang="ru-RU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87440" y="463680"/>
              <a:ext cx="64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12600" y="126036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3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0" y="176688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622520" y="650880"/>
            <a:ext cx="143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1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255760" y="828720"/>
            <a:ext cx="6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411280" y="1330200"/>
            <a:ext cx="4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270160" y="131436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255760" y="830160"/>
            <a:ext cx="3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639800" y="2049480"/>
            <a:ext cx="7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195640" y="227484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287440" y="185112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300400" y="2276640"/>
            <a:ext cx="4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994120" y="20430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084480" y="247680"/>
            <a:ext cx="6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635120" y="30020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279520" y="322272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409840" y="275436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422440" y="3187800"/>
            <a:ext cx="3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639800" y="2835360"/>
            <a:ext cx="1384560" cy="86976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635120" y="900000"/>
            <a:ext cx="1384200" cy="87012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1830240" y="1177920"/>
            <a:ext cx="584280" cy="1936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197240" y="247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42000" y="46836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971960" y="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840200" y="433440"/>
            <a:ext cx="9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477040" y="228600"/>
            <a:ext cx="15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0 </a:t>
            </a:r>
            <a:r>
              <a:rPr b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230720" y="974880"/>
            <a:ext cx="143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1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863960" y="1152360"/>
            <a:ext cx="8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941720" y="1654200"/>
            <a:ext cx="8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78360" y="163836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776920" y="1395360"/>
            <a:ext cx="12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2,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6950160" y="1177920"/>
            <a:ext cx="1271160" cy="961200"/>
            <a:chOff x="6950160" y="1177920"/>
            <a:chExt cx="1271160" cy="961200"/>
          </a:xfrm>
        </p:grpSpPr>
        <p:sp>
          <p:nvSpPr>
            <p:cNvPr id="740" name=""/>
            <p:cNvSpPr/>
            <p:nvPr/>
          </p:nvSpPr>
          <p:spPr>
            <a:xfrm>
              <a:off x="7014960" y="1177920"/>
              <a:ext cx="120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Ω</a:t>
              </a:r>
              <a:r>
                <a:rPr b="1" i="1" lang="el-G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1" i="1" lang="lv-LV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m</a:t>
              </a:r>
              <a:r>
                <a:rPr b="1" i="1" lang="lv-LV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092720" y="1679400"/>
              <a:ext cx="83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lv-LV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029360" y="1663560"/>
              <a:ext cx="93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950160" y="1269720"/>
              <a:ext cx="88560" cy="79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8032680" y="1284120"/>
              <a:ext cx="88560" cy="79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402240" y="2414520"/>
            <a:ext cx="1206720" cy="961560"/>
            <a:chOff x="6402240" y="2414520"/>
            <a:chExt cx="1206720" cy="961560"/>
          </a:xfrm>
        </p:grpSpPr>
        <p:sp>
          <p:nvSpPr>
            <p:cNvPr id="746" name=""/>
            <p:cNvSpPr/>
            <p:nvPr/>
          </p:nvSpPr>
          <p:spPr>
            <a:xfrm>
              <a:off x="6402240" y="2414520"/>
              <a:ext cx="120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Ω</a:t>
              </a:r>
              <a:r>
                <a:rPr b="1" i="1" lang="el-G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1" i="1" lang="lv-LV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m</a:t>
              </a:r>
              <a:r>
                <a:rPr b="1" i="1" lang="lv-LV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480000" y="2916360"/>
              <a:ext cx="8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lv-LV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416640" y="2900160"/>
              <a:ext cx="936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"/>
          <p:cNvSpPr/>
          <p:nvPr/>
        </p:nvSpPr>
        <p:spPr>
          <a:xfrm>
            <a:off x="5415120" y="3770280"/>
            <a:ext cx="219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ff9933"/>
                </a:solidFill>
                <a:latin typeface="Times New Roman"/>
              </a:rPr>
              <a:t>(A) Var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429160" y="4322880"/>
            <a:ext cx="26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ff9933"/>
                </a:solidFill>
                <a:latin typeface="Times New Roman"/>
              </a:rPr>
              <a:t>(B) Dzelz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416560" y="4862520"/>
            <a:ext cx="325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ff9933"/>
                </a:solidFill>
                <a:latin typeface="Times New Roman"/>
              </a:rPr>
              <a:t>(C) Grafī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450040" y="5415120"/>
            <a:ext cx="323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ff9933"/>
                </a:solidFill>
                <a:latin typeface="Times New Roman"/>
              </a:rPr>
              <a:t>(D) Nihr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2700360" y="6211800"/>
            <a:ext cx="5219280" cy="579240"/>
            <a:chOff x="2700360" y="6211800"/>
            <a:chExt cx="5219280" cy="579240"/>
          </a:xfrm>
        </p:grpSpPr>
        <p:pic>
          <p:nvPicPr>
            <p:cNvPr id="754" name="Picture 10" descr=""/>
            <p:cNvPicPr/>
            <p:nvPr/>
          </p:nvPicPr>
          <p:blipFill>
            <a:blip r:embed="rId2"/>
            <a:stretch/>
          </p:blipFill>
          <p:spPr>
            <a:xfrm>
              <a:off x="2700360" y="6211800"/>
              <a:ext cx="150948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"/>
            <p:cNvSpPr/>
            <p:nvPr/>
          </p:nvSpPr>
          <p:spPr>
            <a:xfrm>
              <a:off x="4398840" y="6244920"/>
              <a:ext cx="352080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325760" y="62449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3776760" y="263520"/>
            <a:ext cx="0" cy="324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9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0720" y="249120"/>
            <a:ext cx="2451240" cy="1947960"/>
            <a:chOff x="450720" y="249120"/>
            <a:chExt cx="2451240" cy="1947960"/>
          </a:xfrm>
        </p:grpSpPr>
        <p:sp>
          <p:nvSpPr>
            <p:cNvPr id="65" name=""/>
            <p:cNvSpPr/>
            <p:nvPr/>
          </p:nvSpPr>
          <p:spPr>
            <a:xfrm>
              <a:off x="450720" y="549360"/>
              <a:ext cx="49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42840" y="249120"/>
              <a:ext cx="0" cy="60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93680" y="384120"/>
              <a:ext cx="0" cy="31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93680" y="549360"/>
              <a:ext cx="49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360440" y="1752480"/>
              <a:ext cx="444600" cy="444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05040" y="1982880"/>
              <a:ext cx="24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22480" y="1982880"/>
              <a:ext cx="24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87520" y="1797120"/>
              <a:ext cx="203040" cy="32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6200000">
              <a:off x="2445480" y="799200"/>
              <a:ext cx="457200" cy="455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2682720" y="549360"/>
              <a:ext cx="0" cy="24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2682720" y="1249200"/>
              <a:ext cx="0" cy="24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274760" y="1380960"/>
              <a:ext cx="627120" cy="228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01880" y="1496880"/>
              <a:ext cx="385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80920" y="1496880"/>
              <a:ext cx="385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436760" y="549360"/>
              <a:ext cx="466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49640" y="549360"/>
              <a:ext cx="42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1903320" y="361440"/>
              <a:ext cx="297000" cy="18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87440" y="1496880"/>
              <a:ext cx="3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0720" y="549360"/>
              <a:ext cx="0" cy="94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0720" y="1496880"/>
              <a:ext cx="642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36520" y="1508040"/>
              <a:ext cx="0" cy="48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2046240" y="1496880"/>
              <a:ext cx="0" cy="4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05240" y="847800"/>
              <a:ext cx="33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84200" y="4405320"/>
            <a:ext cx="2451240" cy="1947960"/>
            <a:chOff x="484200" y="4405320"/>
            <a:chExt cx="2451240" cy="1947960"/>
          </a:xfrm>
        </p:grpSpPr>
        <p:sp>
          <p:nvSpPr>
            <p:cNvPr id="89" name=""/>
            <p:cNvSpPr/>
            <p:nvPr/>
          </p:nvSpPr>
          <p:spPr>
            <a:xfrm>
              <a:off x="484200" y="4705200"/>
              <a:ext cx="49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76320" y="4405320"/>
              <a:ext cx="0" cy="60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27160" y="4540320"/>
              <a:ext cx="0" cy="31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27160" y="4705200"/>
              <a:ext cx="49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93920" y="5908680"/>
              <a:ext cx="444240" cy="444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38160" y="6138720"/>
              <a:ext cx="24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55600" y="6138720"/>
              <a:ext cx="24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08040" y="5972040"/>
              <a:ext cx="203400" cy="32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6200000">
              <a:off x="2478960" y="4955400"/>
              <a:ext cx="457200" cy="455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2716200" y="4705200"/>
              <a:ext cx="0" cy="24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2716200" y="5405400"/>
              <a:ext cx="0" cy="24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08240" y="5537160"/>
              <a:ext cx="626760" cy="228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35000" y="5653080"/>
              <a:ext cx="385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14400" y="5653080"/>
              <a:ext cx="385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69880" y="470520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82760" y="4705200"/>
              <a:ext cx="42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936800" y="4518000"/>
              <a:ext cx="296640" cy="18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20920" y="5653080"/>
              <a:ext cx="3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4200" y="4705200"/>
              <a:ext cx="0" cy="94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4200" y="5653080"/>
              <a:ext cx="642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70000" y="5664240"/>
              <a:ext cx="0" cy="48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2079720" y="5652720"/>
              <a:ext cx="0" cy="48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44840" y="5002200"/>
              <a:ext cx="33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07800" y="2511360"/>
            <a:ext cx="2683080" cy="1360440"/>
            <a:chOff x="307800" y="2511360"/>
            <a:chExt cx="2683080" cy="1360440"/>
          </a:xfrm>
        </p:grpSpPr>
        <p:sp>
          <p:nvSpPr>
            <p:cNvPr id="113" name=""/>
            <p:cNvSpPr/>
            <p:nvPr/>
          </p:nvSpPr>
          <p:spPr>
            <a:xfrm>
              <a:off x="539640" y="2811600"/>
              <a:ext cx="49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31760" y="2511360"/>
              <a:ext cx="0" cy="60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82600" y="2646360"/>
              <a:ext cx="0" cy="31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82600" y="2811600"/>
              <a:ext cx="49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6200000">
              <a:off x="2534400" y="3061440"/>
              <a:ext cx="457200" cy="455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71640" y="2811600"/>
              <a:ext cx="0" cy="24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2771640" y="3511440"/>
              <a:ext cx="0" cy="24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63680" y="3643200"/>
              <a:ext cx="627120" cy="228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90800" y="3759120"/>
              <a:ext cx="385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69840" y="3759120"/>
              <a:ext cx="385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25680" y="2811600"/>
              <a:ext cx="466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38560" y="2811600"/>
              <a:ext cx="42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1992240" y="2623680"/>
              <a:ext cx="297000" cy="18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76360" y="3759120"/>
              <a:ext cx="3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9640" y="3759120"/>
              <a:ext cx="642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93800" y="3116160"/>
              <a:ext cx="3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6200000">
              <a:off x="307080" y="3070800"/>
              <a:ext cx="457200" cy="455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544680" y="2820960"/>
              <a:ext cx="0" cy="24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544680" y="3521160"/>
              <a:ext cx="0" cy="24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6840" y="3105000"/>
              <a:ext cx="33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4913280" y="838080"/>
            <a:ext cx="3979800" cy="39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Kādu shēmu jūs izmantosiet, lai noteiktu rezistora pretestību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19640" y="696960"/>
            <a:ext cx="113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ff9933"/>
                </a:solidFill>
                <a:latin typeface="Times New Roman"/>
              </a:rPr>
              <a:t>(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9640" y="2903400"/>
            <a:ext cx="113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ff9933"/>
                </a:solidFill>
                <a:latin typeface="Times New Roman"/>
              </a:rPr>
              <a:t>(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4853160"/>
            <a:ext cx="113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ff9933"/>
                </a:solidFill>
                <a:latin typeface="Times New Roman"/>
              </a:rPr>
              <a:t>(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700360" y="6211800"/>
            <a:ext cx="5219280" cy="579240"/>
            <a:chOff x="2700360" y="6211800"/>
            <a:chExt cx="5219280" cy="579240"/>
          </a:xfrm>
        </p:grpSpPr>
        <p:pic>
          <p:nvPicPr>
            <p:cNvPr id="138" name="Picture 10" descr=""/>
            <p:cNvPicPr/>
            <p:nvPr/>
          </p:nvPicPr>
          <p:blipFill>
            <a:blip r:embed="rId1"/>
            <a:stretch/>
          </p:blipFill>
          <p:spPr>
            <a:xfrm>
              <a:off x="2700360" y="6211800"/>
              <a:ext cx="150948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398840" y="6244920"/>
              <a:ext cx="352080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25760" y="62449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516040" y="1292400"/>
            <a:ext cx="3795480" cy="3015720"/>
            <a:chOff x="2516040" y="1292400"/>
            <a:chExt cx="3795480" cy="3015720"/>
          </a:xfrm>
        </p:grpSpPr>
        <p:sp>
          <p:nvSpPr>
            <p:cNvPr id="147" name=""/>
            <p:cNvSpPr/>
            <p:nvPr/>
          </p:nvSpPr>
          <p:spPr>
            <a:xfrm>
              <a:off x="2516040" y="175644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77800" y="1292400"/>
              <a:ext cx="0" cy="9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11440" y="1501200"/>
              <a:ext cx="0" cy="48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11440" y="175644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24360" y="3619800"/>
              <a:ext cx="687600" cy="688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12320" y="3975840"/>
              <a:ext cx="374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55360" y="3975840"/>
              <a:ext cx="374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01120" y="3717720"/>
              <a:ext cx="314640" cy="49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5604840" y="2143800"/>
              <a:ext cx="707760" cy="705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5972040" y="1756080"/>
              <a:ext cx="0" cy="38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972040" y="2840040"/>
              <a:ext cx="0" cy="38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91880" y="3044520"/>
              <a:ext cx="970200" cy="353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62440" y="3224160"/>
              <a:ext cx="59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82040" y="3224160"/>
              <a:ext cx="59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080" y="1756440"/>
              <a:ext cx="722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01000" y="1756440"/>
              <a:ext cx="663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4765320" y="1466280"/>
              <a:ext cx="459000" cy="28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60040" y="3224160"/>
              <a:ext cx="61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16040" y="1756440"/>
              <a:ext cx="0" cy="146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16040" y="3224160"/>
              <a:ext cx="99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77680" y="3241440"/>
              <a:ext cx="0" cy="75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986360" y="3224160"/>
              <a:ext cx="0" cy="75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6720" y="2216160"/>
              <a:ext cx="51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6740640" y="2098800"/>
            <a:ext cx="108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ff9933"/>
                </a:solidFill>
                <a:latin typeface="Times New Roman"/>
              </a:rPr>
              <a:t>(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700360" y="6211800"/>
            <a:ext cx="5219280" cy="579240"/>
            <a:chOff x="2700360" y="6211800"/>
            <a:chExt cx="5219280" cy="579240"/>
          </a:xfrm>
        </p:grpSpPr>
        <p:pic>
          <p:nvPicPr>
            <p:cNvPr id="172" name="Picture 10" descr=""/>
            <p:cNvPicPr/>
            <p:nvPr/>
          </p:nvPicPr>
          <p:blipFill>
            <a:blip r:embed="rId1"/>
            <a:stretch/>
          </p:blipFill>
          <p:spPr>
            <a:xfrm>
              <a:off x="2700360" y="6211800"/>
              <a:ext cx="150948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398840" y="6244920"/>
              <a:ext cx="352080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325760" y="62449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13280" y="793800"/>
            <a:ext cx="39798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Kādu formulu jūs izmantosiet, lai aprēķinātu rezistora pretestību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79720" y="985680"/>
            <a:ext cx="145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ff9933"/>
                </a:solidFill>
                <a:latin typeface="Times New Roman"/>
              </a:rPr>
              <a:t>(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75040" y="2975040"/>
            <a:ext cx="164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ff9933"/>
                </a:solidFill>
                <a:latin typeface="Times New Roman"/>
              </a:rPr>
              <a:t>(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43360" y="4829040"/>
            <a:ext cx="196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ff9933"/>
                </a:solidFill>
                <a:latin typeface="Times New Roman"/>
              </a:rPr>
              <a:t>(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6120" y="104616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=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74640" y="696960"/>
            <a:ext cx="4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50880" y="139860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55840" y="1370160"/>
            <a:ext cx="747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7280" y="303840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=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85800" y="2689200"/>
            <a:ext cx="48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62040" y="339084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67000" y="3362400"/>
            <a:ext cx="747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7280" y="4853160"/>
            <a:ext cx="211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= U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700360" y="6211800"/>
            <a:ext cx="5219280" cy="579240"/>
            <a:chOff x="2700360" y="6211800"/>
            <a:chExt cx="5219280" cy="579240"/>
          </a:xfrm>
        </p:grpSpPr>
        <p:pic>
          <p:nvPicPr>
            <p:cNvPr id="194" name="Picture 10" descr=""/>
            <p:cNvPicPr/>
            <p:nvPr/>
          </p:nvPicPr>
          <p:blipFill>
            <a:blip r:embed="rId1"/>
            <a:stretch/>
          </p:blipFill>
          <p:spPr>
            <a:xfrm>
              <a:off x="2700360" y="6211800"/>
              <a:ext cx="150948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4398840" y="6244920"/>
              <a:ext cx="352080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325760" y="62449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64160" y="2548080"/>
            <a:ext cx="16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ff9933"/>
                </a:solidFill>
                <a:latin typeface="Times New Roman"/>
              </a:rPr>
              <a:t>(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46400" y="2611440"/>
            <a:ext cx="10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=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75280" y="2262240"/>
            <a:ext cx="48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51160" y="296388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56120" y="2935440"/>
            <a:ext cx="747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700360" y="6211800"/>
            <a:ext cx="5219280" cy="579240"/>
            <a:chOff x="2700360" y="6211800"/>
            <a:chExt cx="5219280" cy="579240"/>
          </a:xfrm>
        </p:grpSpPr>
        <p:pic>
          <p:nvPicPr>
            <p:cNvPr id="208" name="Picture 10" descr=""/>
            <p:cNvPicPr/>
            <p:nvPr/>
          </p:nvPicPr>
          <p:blipFill>
            <a:blip r:embed="rId1"/>
            <a:stretch/>
          </p:blipFill>
          <p:spPr>
            <a:xfrm>
              <a:off x="2700360" y="6211800"/>
              <a:ext cx="150948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4398840" y="6244920"/>
              <a:ext cx="352080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25760" y="62449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031840" y="1060560"/>
            <a:ext cx="527076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5400" spc="-1" strike="noStrike">
                <a:solidFill>
                  <a:srgbClr val="333399"/>
                </a:solidFill>
                <a:latin typeface="Times New Roman"/>
              </a:rPr>
              <a:t>No kā ir atkarīga elektrības vadītāja pretestīb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700360" y="6211800"/>
            <a:ext cx="5219280" cy="579240"/>
            <a:chOff x="2700360" y="6211800"/>
            <a:chExt cx="5219280" cy="579240"/>
          </a:xfrm>
        </p:grpSpPr>
        <p:pic>
          <p:nvPicPr>
            <p:cNvPr id="218" name="Picture 10" descr=""/>
            <p:cNvPicPr/>
            <p:nvPr/>
          </p:nvPicPr>
          <p:blipFill>
            <a:blip r:embed="rId1"/>
            <a:stretch/>
          </p:blipFill>
          <p:spPr>
            <a:xfrm>
              <a:off x="2700360" y="6211800"/>
              <a:ext cx="150948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4398840" y="6244920"/>
              <a:ext cx="352080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325760" y="62449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914400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Elektriskā pretestība </a:t>
            </a:r>
            <a:r>
              <a:rPr b="1" i="1" lang="lv-LV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 ir atkarīga no vada garuma </a:t>
            </a:r>
            <a:r>
              <a:rPr b="1" i="1" lang="lv-LV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no vada šķērsgriezuma laukuma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lv-LV" sz="4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un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īpatnējas pretestības </a:t>
            </a:r>
            <a:r>
              <a:rPr b="1" i="1" lang="el-G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ρ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43040" y="1898640"/>
            <a:ext cx="49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40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51840" y="1901880"/>
            <a:ext cx="39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1382760"/>
            <a:ext cx="8602560" cy="58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1978200"/>
            <a:ext cx="252396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881440" y="2000160"/>
            <a:ext cx="5981400" cy="5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700360" y="6211800"/>
            <a:ext cx="5219280" cy="579240"/>
            <a:chOff x="2700360" y="6211800"/>
            <a:chExt cx="5219280" cy="579240"/>
          </a:xfrm>
        </p:grpSpPr>
        <p:pic>
          <p:nvPicPr>
            <p:cNvPr id="233" name="Picture 10" descr=""/>
            <p:cNvPicPr/>
            <p:nvPr/>
          </p:nvPicPr>
          <p:blipFill>
            <a:blip r:embed="rId1"/>
            <a:stretch/>
          </p:blipFill>
          <p:spPr>
            <a:xfrm>
              <a:off x="2700360" y="6211800"/>
              <a:ext cx="150948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4398840" y="6244920"/>
              <a:ext cx="352080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325760" y="62449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396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00000" y="1598760"/>
            <a:ext cx="554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044800" y="4644000"/>
            <a:ext cx="1365120" cy="1671840"/>
            <a:chOff x="2044800" y="4644000"/>
            <a:chExt cx="1365120" cy="1671840"/>
          </a:xfrm>
        </p:grpSpPr>
        <p:sp>
          <p:nvSpPr>
            <p:cNvPr id="239" name=""/>
            <p:cNvSpPr/>
            <p:nvPr/>
          </p:nvSpPr>
          <p:spPr>
            <a:xfrm flipH="1" flipV="1">
              <a:off x="2044800" y="4644000"/>
              <a:ext cx="682560" cy="835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2727000" y="5479560"/>
              <a:ext cx="682920" cy="836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622520" y="4398840"/>
            <a:ext cx="2170800" cy="2158920"/>
            <a:chOff x="1622520" y="4398840"/>
            <a:chExt cx="2170800" cy="2158920"/>
          </a:xfrm>
        </p:grpSpPr>
        <p:sp>
          <p:nvSpPr>
            <p:cNvPr id="242" name=""/>
            <p:cNvSpPr/>
            <p:nvPr/>
          </p:nvSpPr>
          <p:spPr>
            <a:xfrm>
              <a:off x="1622880" y="4398840"/>
              <a:ext cx="2170440" cy="215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350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350966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622160" y="4398840"/>
              <a:ext cx="2170440" cy="215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350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350966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706840" y="42591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35360" y="4527000"/>
            <a:ext cx="88560" cy="11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93200" y="4323600"/>
            <a:ext cx="4644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070800" y="4331520"/>
            <a:ext cx="4680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3394080" y="4529880"/>
            <a:ext cx="88200" cy="11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20045400">
            <a:off x="1943280" y="3968280"/>
            <a:ext cx="5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  <a:ea typeface="Arial"/>
              </a:rPr>
              <a:t>0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9320000">
            <a:off x="1671840" y="42192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44760" y="3911760"/>
            <a:ext cx="5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  <a:ea typeface="Arial"/>
              </a:rPr>
              <a:t>0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984600">
            <a:off x="2909520" y="3981240"/>
            <a:ext cx="6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  <a:ea typeface="Arial"/>
              </a:rPr>
              <a:t>0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2278800">
            <a:off x="3332880" y="4254480"/>
            <a:ext cx="6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  <a:ea typeface="Arial"/>
              </a:rPr>
              <a:t>0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39800" y="3809880"/>
            <a:ext cx="2225880" cy="2094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00200" y="4624560"/>
            <a:ext cx="4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267600" y="4613400"/>
            <a:ext cx="458640" cy="5760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5824440" y="4440240"/>
            <a:ext cx="1332000" cy="892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902200" y="4327560"/>
            <a:ext cx="88920" cy="88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73920" y="4332240"/>
            <a:ext cx="88920" cy="88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899320" y="4546440"/>
            <a:ext cx="10476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013520" y="4505400"/>
            <a:ext cx="0" cy="104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59520" y="4560840"/>
            <a:ext cx="104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825560" y="5518080"/>
            <a:ext cx="104760" cy="104760"/>
            <a:chOff x="1825560" y="5518080"/>
            <a:chExt cx="104760" cy="104760"/>
          </a:xfrm>
        </p:grpSpPr>
        <p:sp>
          <p:nvSpPr>
            <p:cNvPr id="264" name=""/>
            <p:cNvSpPr/>
            <p:nvPr/>
          </p:nvSpPr>
          <p:spPr>
            <a:xfrm>
              <a:off x="1879560" y="5518080"/>
              <a:ext cx="0" cy="104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25560" y="5573520"/>
              <a:ext cx="104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3594240" y="5572080"/>
            <a:ext cx="10476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95320" y="5676840"/>
            <a:ext cx="152640" cy="152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568680" y="5665680"/>
            <a:ext cx="152280" cy="152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69960" y="1314360"/>
            <a:ext cx="7931160" cy="252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63560" y="1955880"/>
            <a:ext cx="5861160" cy="252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27400" y="2639880"/>
            <a:ext cx="2755800" cy="2527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635280" y="4389480"/>
            <a:ext cx="2281320" cy="1319040"/>
          </a:xfrm>
          <a:custGeom>
            <a:avLst/>
            <a:gdLst/>
            <a:ahLst/>
            <a:rect l="l" t="t" r="r" b="b"/>
            <a:pathLst>
              <a:path w="1437" h="831">
                <a:moveTo>
                  <a:pt x="0" y="831"/>
                </a:moveTo>
                <a:cubicBezTo>
                  <a:pt x="90" y="824"/>
                  <a:pt x="181" y="821"/>
                  <a:pt x="271" y="810"/>
                </a:cubicBezTo>
                <a:cubicBezTo>
                  <a:pt x="347" y="801"/>
                  <a:pt x="424" y="778"/>
                  <a:pt x="500" y="768"/>
                </a:cubicBezTo>
                <a:cubicBezTo>
                  <a:pt x="562" y="751"/>
                  <a:pt x="532" y="760"/>
                  <a:pt x="590" y="741"/>
                </a:cubicBezTo>
                <a:cubicBezTo>
                  <a:pt x="604" y="736"/>
                  <a:pt x="632" y="727"/>
                  <a:pt x="632" y="727"/>
                </a:cubicBezTo>
                <a:cubicBezTo>
                  <a:pt x="685" y="691"/>
                  <a:pt x="696" y="698"/>
                  <a:pt x="757" y="678"/>
                </a:cubicBezTo>
                <a:cubicBezTo>
                  <a:pt x="765" y="650"/>
                  <a:pt x="784" y="644"/>
                  <a:pt x="805" y="623"/>
                </a:cubicBezTo>
                <a:cubicBezTo>
                  <a:pt x="813" y="589"/>
                  <a:pt x="829" y="565"/>
                  <a:pt x="840" y="533"/>
                </a:cubicBezTo>
                <a:cubicBezTo>
                  <a:pt x="855" y="427"/>
                  <a:pt x="830" y="518"/>
                  <a:pt x="868" y="470"/>
                </a:cubicBezTo>
                <a:cubicBezTo>
                  <a:pt x="893" y="439"/>
                  <a:pt x="875" y="398"/>
                  <a:pt x="930" y="380"/>
                </a:cubicBezTo>
                <a:cubicBezTo>
                  <a:pt x="940" y="341"/>
                  <a:pt x="961" y="315"/>
                  <a:pt x="999" y="304"/>
                </a:cubicBezTo>
                <a:cubicBezTo>
                  <a:pt x="1012" y="295"/>
                  <a:pt x="1029" y="293"/>
                  <a:pt x="1041" y="283"/>
                </a:cubicBezTo>
                <a:cubicBezTo>
                  <a:pt x="1092" y="241"/>
                  <a:pt x="1035" y="264"/>
                  <a:pt x="1083" y="248"/>
                </a:cubicBezTo>
                <a:cubicBezTo>
                  <a:pt x="1109" y="209"/>
                  <a:pt x="1100" y="168"/>
                  <a:pt x="1152" y="151"/>
                </a:cubicBezTo>
                <a:cubicBezTo>
                  <a:pt x="1171" y="95"/>
                  <a:pt x="1143" y="160"/>
                  <a:pt x="1180" y="123"/>
                </a:cubicBezTo>
                <a:cubicBezTo>
                  <a:pt x="1235" y="68"/>
                  <a:pt x="1182" y="89"/>
                  <a:pt x="1228" y="75"/>
                </a:cubicBezTo>
                <a:cubicBezTo>
                  <a:pt x="1271" y="47"/>
                  <a:pt x="1338" y="27"/>
                  <a:pt x="1388" y="19"/>
                </a:cubicBezTo>
                <a:cubicBezTo>
                  <a:pt x="1417" y="0"/>
                  <a:pt x="1401" y="5"/>
                  <a:pt x="1437" y="5"/>
                </a:cubicBez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89080" y="1467000"/>
            <a:ext cx="1562040" cy="4329000"/>
          </a:xfrm>
          <a:custGeom>
            <a:avLst/>
            <a:gdLst/>
            <a:ahLst/>
            <a:rect l="l" t="t" r="r" b="b"/>
            <a:pathLst>
              <a:path w="984" h="2727">
                <a:moveTo>
                  <a:pt x="984" y="2700"/>
                </a:moveTo>
                <a:cubicBezTo>
                  <a:pt x="722" y="2711"/>
                  <a:pt x="882" y="2708"/>
                  <a:pt x="748" y="2727"/>
                </a:cubicBezTo>
                <a:cubicBezTo>
                  <a:pt x="700" y="2697"/>
                  <a:pt x="753" y="2723"/>
                  <a:pt x="706" y="2721"/>
                </a:cubicBezTo>
                <a:cubicBezTo>
                  <a:pt x="651" y="2719"/>
                  <a:pt x="595" y="2712"/>
                  <a:pt x="540" y="2707"/>
                </a:cubicBezTo>
                <a:cubicBezTo>
                  <a:pt x="526" y="2702"/>
                  <a:pt x="510" y="2701"/>
                  <a:pt x="498" y="2693"/>
                </a:cubicBezTo>
                <a:cubicBezTo>
                  <a:pt x="491" y="2688"/>
                  <a:pt x="485" y="2682"/>
                  <a:pt x="477" y="2679"/>
                </a:cubicBezTo>
                <a:cubicBezTo>
                  <a:pt x="464" y="2673"/>
                  <a:pt x="436" y="2665"/>
                  <a:pt x="436" y="2665"/>
                </a:cubicBezTo>
                <a:cubicBezTo>
                  <a:pt x="422" y="2624"/>
                  <a:pt x="381" y="2585"/>
                  <a:pt x="345" y="2561"/>
                </a:cubicBezTo>
                <a:cubicBezTo>
                  <a:pt x="342" y="2552"/>
                  <a:pt x="321" y="2496"/>
                  <a:pt x="318" y="2492"/>
                </a:cubicBezTo>
                <a:cubicBezTo>
                  <a:pt x="308" y="2480"/>
                  <a:pt x="288" y="2481"/>
                  <a:pt x="276" y="2471"/>
                </a:cubicBezTo>
                <a:cubicBezTo>
                  <a:pt x="253" y="2451"/>
                  <a:pt x="244" y="2426"/>
                  <a:pt x="227" y="2401"/>
                </a:cubicBezTo>
                <a:cubicBezTo>
                  <a:pt x="216" y="2364"/>
                  <a:pt x="200" y="2328"/>
                  <a:pt x="193" y="2290"/>
                </a:cubicBezTo>
                <a:cubicBezTo>
                  <a:pt x="183" y="2236"/>
                  <a:pt x="185" y="2189"/>
                  <a:pt x="151" y="2145"/>
                </a:cubicBezTo>
                <a:cubicBezTo>
                  <a:pt x="78" y="1927"/>
                  <a:pt x="200" y="1591"/>
                  <a:pt x="82" y="1395"/>
                </a:cubicBezTo>
                <a:cubicBezTo>
                  <a:pt x="78" y="1338"/>
                  <a:pt x="84" y="1300"/>
                  <a:pt x="54" y="1256"/>
                </a:cubicBezTo>
                <a:cubicBezTo>
                  <a:pt x="49" y="1237"/>
                  <a:pt x="37" y="1220"/>
                  <a:pt x="33" y="1201"/>
                </a:cubicBezTo>
                <a:cubicBezTo>
                  <a:pt x="25" y="1162"/>
                  <a:pt x="26" y="1122"/>
                  <a:pt x="19" y="1083"/>
                </a:cubicBezTo>
                <a:cubicBezTo>
                  <a:pt x="22" y="951"/>
                  <a:pt x="13" y="794"/>
                  <a:pt x="47" y="659"/>
                </a:cubicBezTo>
                <a:cubicBezTo>
                  <a:pt x="47" y="634"/>
                  <a:pt x="0" y="306"/>
                  <a:pt x="82" y="188"/>
                </a:cubicBezTo>
                <a:cubicBezTo>
                  <a:pt x="87" y="174"/>
                  <a:pt x="88" y="159"/>
                  <a:pt x="96" y="146"/>
                </a:cubicBezTo>
                <a:cubicBezTo>
                  <a:pt x="100" y="139"/>
                  <a:pt x="106" y="133"/>
                  <a:pt x="109" y="125"/>
                </a:cubicBezTo>
                <a:cubicBezTo>
                  <a:pt x="132" y="71"/>
                  <a:pt x="107" y="93"/>
                  <a:pt x="144" y="70"/>
                </a:cubicBezTo>
                <a:cubicBezTo>
                  <a:pt x="156" y="35"/>
                  <a:pt x="144" y="51"/>
                  <a:pt x="193" y="35"/>
                </a:cubicBezTo>
                <a:cubicBezTo>
                  <a:pt x="200" y="33"/>
                  <a:pt x="214" y="28"/>
                  <a:pt x="214" y="28"/>
                </a:cubicBezTo>
                <a:cubicBezTo>
                  <a:pt x="218" y="19"/>
                  <a:pt x="227" y="0"/>
                  <a:pt x="227" y="0"/>
                </a:cubicBez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29360" y="1455840"/>
            <a:ext cx="1762200" cy="2919240"/>
          </a:xfrm>
          <a:custGeom>
            <a:avLst/>
            <a:gdLst/>
            <a:ahLst/>
            <a:rect l="l" t="t" r="r" b="b"/>
            <a:pathLst>
              <a:path w="1110" h="1839">
                <a:moveTo>
                  <a:pt x="0" y="1839"/>
                </a:moveTo>
                <a:cubicBezTo>
                  <a:pt x="160" y="1831"/>
                  <a:pt x="318" y="1809"/>
                  <a:pt x="478" y="1798"/>
                </a:cubicBezTo>
                <a:cubicBezTo>
                  <a:pt x="522" y="1769"/>
                  <a:pt x="487" y="1787"/>
                  <a:pt x="576" y="1777"/>
                </a:cubicBezTo>
                <a:cubicBezTo>
                  <a:pt x="625" y="1772"/>
                  <a:pt x="672" y="1762"/>
                  <a:pt x="721" y="1756"/>
                </a:cubicBezTo>
                <a:cubicBezTo>
                  <a:pt x="752" y="1746"/>
                  <a:pt x="775" y="1731"/>
                  <a:pt x="805" y="1721"/>
                </a:cubicBezTo>
                <a:cubicBezTo>
                  <a:pt x="818" y="1712"/>
                  <a:pt x="836" y="1707"/>
                  <a:pt x="846" y="1694"/>
                </a:cubicBezTo>
                <a:cubicBezTo>
                  <a:pt x="851" y="1688"/>
                  <a:pt x="848" y="1678"/>
                  <a:pt x="853" y="1673"/>
                </a:cubicBezTo>
                <a:cubicBezTo>
                  <a:pt x="869" y="1657"/>
                  <a:pt x="907" y="1644"/>
                  <a:pt x="929" y="1638"/>
                </a:cubicBezTo>
                <a:cubicBezTo>
                  <a:pt x="962" y="1616"/>
                  <a:pt x="949" y="1609"/>
                  <a:pt x="985" y="1582"/>
                </a:cubicBezTo>
                <a:cubicBezTo>
                  <a:pt x="993" y="1542"/>
                  <a:pt x="997" y="1505"/>
                  <a:pt x="1020" y="1471"/>
                </a:cubicBezTo>
                <a:cubicBezTo>
                  <a:pt x="1030" y="1433"/>
                  <a:pt x="1042" y="1408"/>
                  <a:pt x="1047" y="1367"/>
                </a:cubicBezTo>
                <a:cubicBezTo>
                  <a:pt x="1051" y="1253"/>
                  <a:pt x="1044" y="1094"/>
                  <a:pt x="1082" y="979"/>
                </a:cubicBezTo>
                <a:cubicBezTo>
                  <a:pt x="1108" y="769"/>
                  <a:pt x="1100" y="770"/>
                  <a:pt x="1089" y="444"/>
                </a:cubicBezTo>
                <a:cubicBezTo>
                  <a:pt x="1108" y="389"/>
                  <a:pt x="1104" y="322"/>
                  <a:pt x="1110" y="264"/>
                </a:cubicBezTo>
                <a:cubicBezTo>
                  <a:pt x="1105" y="252"/>
                  <a:pt x="1100" y="241"/>
                  <a:pt x="1096" y="229"/>
                </a:cubicBezTo>
                <a:cubicBezTo>
                  <a:pt x="1091" y="215"/>
                  <a:pt x="1082" y="188"/>
                  <a:pt x="1082" y="188"/>
                </a:cubicBezTo>
                <a:cubicBezTo>
                  <a:pt x="1098" y="139"/>
                  <a:pt x="1105" y="75"/>
                  <a:pt x="1047" y="56"/>
                </a:cubicBezTo>
                <a:cubicBezTo>
                  <a:pt x="1037" y="21"/>
                  <a:pt x="1023" y="0"/>
                  <a:pt x="985" y="0"/>
                </a:cubicBez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018200" y="2084400"/>
            <a:ext cx="833400" cy="2301840"/>
          </a:xfrm>
          <a:custGeom>
            <a:avLst/>
            <a:gdLst/>
            <a:ahLst/>
            <a:rect l="l" t="t" r="r" b="b"/>
            <a:pathLst>
              <a:path w="525" h="1450">
                <a:moveTo>
                  <a:pt x="0" y="1450"/>
                </a:moveTo>
                <a:cubicBezTo>
                  <a:pt x="73" y="1441"/>
                  <a:pt x="133" y="1429"/>
                  <a:pt x="201" y="1409"/>
                </a:cubicBezTo>
                <a:cubicBezTo>
                  <a:pt x="206" y="1400"/>
                  <a:pt x="207" y="1387"/>
                  <a:pt x="215" y="1381"/>
                </a:cubicBezTo>
                <a:cubicBezTo>
                  <a:pt x="226" y="1372"/>
                  <a:pt x="256" y="1367"/>
                  <a:pt x="256" y="1367"/>
                </a:cubicBezTo>
                <a:cubicBezTo>
                  <a:pt x="265" y="1369"/>
                  <a:pt x="275" y="1377"/>
                  <a:pt x="284" y="1374"/>
                </a:cubicBezTo>
                <a:cubicBezTo>
                  <a:pt x="292" y="1371"/>
                  <a:pt x="292" y="1359"/>
                  <a:pt x="298" y="1353"/>
                </a:cubicBezTo>
                <a:cubicBezTo>
                  <a:pt x="316" y="1335"/>
                  <a:pt x="344" y="1333"/>
                  <a:pt x="367" y="1325"/>
                </a:cubicBezTo>
                <a:cubicBezTo>
                  <a:pt x="390" y="1302"/>
                  <a:pt x="395" y="1285"/>
                  <a:pt x="409" y="1256"/>
                </a:cubicBezTo>
                <a:cubicBezTo>
                  <a:pt x="416" y="1219"/>
                  <a:pt x="417" y="1206"/>
                  <a:pt x="444" y="1180"/>
                </a:cubicBezTo>
                <a:cubicBezTo>
                  <a:pt x="459" y="1040"/>
                  <a:pt x="433" y="1085"/>
                  <a:pt x="472" y="1027"/>
                </a:cubicBezTo>
                <a:cubicBezTo>
                  <a:pt x="478" y="995"/>
                  <a:pt x="480" y="977"/>
                  <a:pt x="499" y="951"/>
                </a:cubicBezTo>
                <a:cubicBezTo>
                  <a:pt x="525" y="874"/>
                  <a:pt x="515" y="910"/>
                  <a:pt x="513" y="742"/>
                </a:cubicBezTo>
                <a:cubicBezTo>
                  <a:pt x="511" y="592"/>
                  <a:pt x="507" y="441"/>
                  <a:pt x="499" y="291"/>
                </a:cubicBezTo>
                <a:cubicBezTo>
                  <a:pt x="496" y="239"/>
                  <a:pt x="484" y="220"/>
                  <a:pt x="465" y="180"/>
                </a:cubicBezTo>
                <a:cubicBezTo>
                  <a:pt x="425" y="97"/>
                  <a:pt x="418" y="0"/>
                  <a:pt x="305" y="0"/>
                </a:cubicBez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25560" y="2073240"/>
            <a:ext cx="925560" cy="3679920"/>
          </a:xfrm>
          <a:custGeom>
            <a:avLst/>
            <a:gdLst/>
            <a:ahLst/>
            <a:rect l="l" t="t" r="r" b="b"/>
            <a:pathLst>
              <a:path w="583" h="2318">
                <a:moveTo>
                  <a:pt x="583" y="2318"/>
                </a:moveTo>
                <a:cubicBezTo>
                  <a:pt x="526" y="2310"/>
                  <a:pt x="458" y="2307"/>
                  <a:pt x="402" y="2290"/>
                </a:cubicBezTo>
                <a:cubicBezTo>
                  <a:pt x="381" y="2284"/>
                  <a:pt x="361" y="2276"/>
                  <a:pt x="340" y="2269"/>
                </a:cubicBezTo>
                <a:cubicBezTo>
                  <a:pt x="333" y="2267"/>
                  <a:pt x="319" y="2262"/>
                  <a:pt x="319" y="2262"/>
                </a:cubicBezTo>
                <a:cubicBezTo>
                  <a:pt x="310" y="2255"/>
                  <a:pt x="278" y="2233"/>
                  <a:pt x="271" y="2221"/>
                </a:cubicBezTo>
                <a:cubicBezTo>
                  <a:pt x="252" y="2186"/>
                  <a:pt x="269" y="2184"/>
                  <a:pt x="236" y="2151"/>
                </a:cubicBezTo>
                <a:cubicBezTo>
                  <a:pt x="214" y="2085"/>
                  <a:pt x="250" y="2182"/>
                  <a:pt x="208" y="2110"/>
                </a:cubicBezTo>
                <a:cubicBezTo>
                  <a:pt x="185" y="2070"/>
                  <a:pt x="221" y="2089"/>
                  <a:pt x="180" y="2075"/>
                </a:cubicBezTo>
                <a:cubicBezTo>
                  <a:pt x="164" y="2044"/>
                  <a:pt x="154" y="2003"/>
                  <a:pt x="125" y="1985"/>
                </a:cubicBezTo>
                <a:cubicBezTo>
                  <a:pt x="123" y="1976"/>
                  <a:pt x="122" y="1966"/>
                  <a:pt x="118" y="1957"/>
                </a:cubicBezTo>
                <a:cubicBezTo>
                  <a:pt x="115" y="1949"/>
                  <a:pt x="107" y="1944"/>
                  <a:pt x="104" y="1936"/>
                </a:cubicBezTo>
                <a:cubicBezTo>
                  <a:pt x="88" y="1893"/>
                  <a:pt x="88" y="1824"/>
                  <a:pt x="49" y="1797"/>
                </a:cubicBezTo>
                <a:cubicBezTo>
                  <a:pt x="28" y="1656"/>
                  <a:pt x="35" y="1715"/>
                  <a:pt x="35" y="1443"/>
                </a:cubicBezTo>
                <a:cubicBezTo>
                  <a:pt x="35" y="1433"/>
                  <a:pt x="0" y="1037"/>
                  <a:pt x="76" y="923"/>
                </a:cubicBezTo>
                <a:cubicBezTo>
                  <a:pt x="84" y="891"/>
                  <a:pt x="89" y="858"/>
                  <a:pt x="97" y="826"/>
                </a:cubicBezTo>
                <a:cubicBezTo>
                  <a:pt x="103" y="776"/>
                  <a:pt x="103" y="723"/>
                  <a:pt x="132" y="680"/>
                </a:cubicBezTo>
                <a:cubicBezTo>
                  <a:pt x="137" y="635"/>
                  <a:pt x="139" y="603"/>
                  <a:pt x="153" y="562"/>
                </a:cubicBezTo>
                <a:cubicBezTo>
                  <a:pt x="167" y="473"/>
                  <a:pt x="176" y="406"/>
                  <a:pt x="208" y="326"/>
                </a:cubicBezTo>
                <a:cubicBezTo>
                  <a:pt x="229" y="273"/>
                  <a:pt x="225" y="234"/>
                  <a:pt x="278" y="208"/>
                </a:cubicBezTo>
                <a:cubicBezTo>
                  <a:pt x="290" y="165"/>
                  <a:pt x="292" y="122"/>
                  <a:pt x="312" y="83"/>
                </a:cubicBezTo>
                <a:cubicBezTo>
                  <a:pt x="315" y="76"/>
                  <a:pt x="314" y="67"/>
                  <a:pt x="319" y="62"/>
                </a:cubicBezTo>
                <a:cubicBezTo>
                  <a:pt x="324" y="57"/>
                  <a:pt x="334" y="59"/>
                  <a:pt x="340" y="55"/>
                </a:cubicBezTo>
                <a:cubicBezTo>
                  <a:pt x="355" y="47"/>
                  <a:pt x="368" y="37"/>
                  <a:pt x="382" y="28"/>
                </a:cubicBezTo>
                <a:cubicBezTo>
                  <a:pt x="396" y="19"/>
                  <a:pt x="406" y="0"/>
                  <a:pt x="423" y="0"/>
                </a:cubicBezTo>
                <a:cubicBezTo>
                  <a:pt x="439" y="0"/>
                  <a:pt x="456" y="0"/>
                  <a:pt x="472" y="0"/>
                </a:cubicBez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328760" y="2733840"/>
            <a:ext cx="1909800" cy="3008160"/>
          </a:xfrm>
          <a:custGeom>
            <a:avLst/>
            <a:gdLst/>
            <a:ahLst/>
            <a:rect l="l" t="t" r="r" b="b"/>
            <a:pathLst>
              <a:path w="1203" h="1825">
                <a:moveTo>
                  <a:pt x="336" y="1825"/>
                </a:moveTo>
                <a:cubicBezTo>
                  <a:pt x="272" y="1816"/>
                  <a:pt x="216" y="1798"/>
                  <a:pt x="162" y="1762"/>
                </a:cubicBezTo>
                <a:cubicBezTo>
                  <a:pt x="157" y="1755"/>
                  <a:pt x="154" y="1747"/>
                  <a:pt x="148" y="1741"/>
                </a:cubicBezTo>
                <a:cubicBezTo>
                  <a:pt x="142" y="1735"/>
                  <a:pt x="132" y="1735"/>
                  <a:pt x="128" y="1728"/>
                </a:cubicBezTo>
                <a:cubicBezTo>
                  <a:pt x="97" y="1671"/>
                  <a:pt x="101" y="1602"/>
                  <a:pt x="65" y="1547"/>
                </a:cubicBezTo>
                <a:cubicBezTo>
                  <a:pt x="58" y="1496"/>
                  <a:pt x="47" y="1452"/>
                  <a:pt x="37" y="1401"/>
                </a:cubicBezTo>
                <a:cubicBezTo>
                  <a:pt x="33" y="1378"/>
                  <a:pt x="24" y="1332"/>
                  <a:pt x="24" y="1332"/>
                </a:cubicBezTo>
                <a:cubicBezTo>
                  <a:pt x="20" y="1275"/>
                  <a:pt x="35" y="1113"/>
                  <a:pt x="10" y="1075"/>
                </a:cubicBezTo>
                <a:cubicBezTo>
                  <a:pt x="12" y="1064"/>
                  <a:pt x="18" y="1052"/>
                  <a:pt x="17" y="1041"/>
                </a:cubicBezTo>
                <a:cubicBezTo>
                  <a:pt x="16" y="1033"/>
                  <a:pt x="3" y="1028"/>
                  <a:pt x="3" y="1020"/>
                </a:cubicBezTo>
                <a:cubicBezTo>
                  <a:pt x="0" y="962"/>
                  <a:pt x="12" y="898"/>
                  <a:pt x="17" y="839"/>
                </a:cubicBezTo>
                <a:cubicBezTo>
                  <a:pt x="24" y="758"/>
                  <a:pt x="24" y="716"/>
                  <a:pt x="72" y="652"/>
                </a:cubicBezTo>
                <a:cubicBezTo>
                  <a:pt x="78" y="620"/>
                  <a:pt x="82" y="602"/>
                  <a:pt x="100" y="576"/>
                </a:cubicBezTo>
                <a:cubicBezTo>
                  <a:pt x="114" y="520"/>
                  <a:pt x="112" y="482"/>
                  <a:pt x="148" y="444"/>
                </a:cubicBezTo>
                <a:cubicBezTo>
                  <a:pt x="165" y="392"/>
                  <a:pt x="190" y="368"/>
                  <a:pt x="225" y="326"/>
                </a:cubicBezTo>
                <a:cubicBezTo>
                  <a:pt x="230" y="320"/>
                  <a:pt x="232" y="310"/>
                  <a:pt x="239" y="305"/>
                </a:cubicBezTo>
                <a:cubicBezTo>
                  <a:pt x="251" y="297"/>
                  <a:pt x="268" y="299"/>
                  <a:pt x="280" y="291"/>
                </a:cubicBezTo>
                <a:cubicBezTo>
                  <a:pt x="309" y="272"/>
                  <a:pt x="344" y="253"/>
                  <a:pt x="377" y="243"/>
                </a:cubicBezTo>
                <a:cubicBezTo>
                  <a:pt x="415" y="218"/>
                  <a:pt x="460" y="195"/>
                  <a:pt x="502" y="180"/>
                </a:cubicBezTo>
                <a:cubicBezTo>
                  <a:pt x="532" y="135"/>
                  <a:pt x="573" y="140"/>
                  <a:pt x="620" y="125"/>
                </a:cubicBezTo>
                <a:cubicBezTo>
                  <a:pt x="659" y="112"/>
                  <a:pt x="691" y="93"/>
                  <a:pt x="731" y="83"/>
                </a:cubicBezTo>
                <a:cubicBezTo>
                  <a:pt x="801" y="65"/>
                  <a:pt x="875" y="57"/>
                  <a:pt x="947" y="48"/>
                </a:cubicBezTo>
                <a:cubicBezTo>
                  <a:pt x="1028" y="20"/>
                  <a:pt x="1117" y="0"/>
                  <a:pt x="1203" y="0"/>
                </a:cubicBez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959440" y="2744640"/>
            <a:ext cx="1292400" cy="1652760"/>
          </a:xfrm>
          <a:custGeom>
            <a:avLst/>
            <a:gdLst/>
            <a:ahLst/>
            <a:rect l="l" t="t" r="r" b="b"/>
            <a:pathLst>
              <a:path w="814" h="1041">
                <a:moveTo>
                  <a:pt x="660" y="1041"/>
                </a:moveTo>
                <a:cubicBezTo>
                  <a:pt x="698" y="1025"/>
                  <a:pt x="737" y="1029"/>
                  <a:pt x="771" y="1006"/>
                </a:cubicBezTo>
                <a:cubicBezTo>
                  <a:pt x="785" y="965"/>
                  <a:pt x="788" y="918"/>
                  <a:pt x="798" y="875"/>
                </a:cubicBezTo>
                <a:cubicBezTo>
                  <a:pt x="792" y="757"/>
                  <a:pt x="814" y="543"/>
                  <a:pt x="729" y="430"/>
                </a:cubicBezTo>
                <a:cubicBezTo>
                  <a:pt x="720" y="403"/>
                  <a:pt x="707" y="388"/>
                  <a:pt x="687" y="368"/>
                </a:cubicBezTo>
                <a:cubicBezTo>
                  <a:pt x="686" y="366"/>
                  <a:pt x="676" y="328"/>
                  <a:pt x="674" y="326"/>
                </a:cubicBezTo>
                <a:cubicBezTo>
                  <a:pt x="662" y="314"/>
                  <a:pt x="632" y="299"/>
                  <a:pt x="632" y="299"/>
                </a:cubicBezTo>
                <a:cubicBezTo>
                  <a:pt x="618" y="258"/>
                  <a:pt x="567" y="253"/>
                  <a:pt x="528" y="243"/>
                </a:cubicBezTo>
                <a:cubicBezTo>
                  <a:pt x="505" y="209"/>
                  <a:pt x="520" y="225"/>
                  <a:pt x="472" y="194"/>
                </a:cubicBezTo>
                <a:cubicBezTo>
                  <a:pt x="465" y="190"/>
                  <a:pt x="451" y="181"/>
                  <a:pt x="451" y="181"/>
                </a:cubicBezTo>
                <a:cubicBezTo>
                  <a:pt x="428" y="144"/>
                  <a:pt x="385" y="146"/>
                  <a:pt x="354" y="118"/>
                </a:cubicBezTo>
                <a:cubicBezTo>
                  <a:pt x="339" y="105"/>
                  <a:pt x="327" y="90"/>
                  <a:pt x="313" y="76"/>
                </a:cubicBezTo>
                <a:cubicBezTo>
                  <a:pt x="303" y="66"/>
                  <a:pt x="284" y="69"/>
                  <a:pt x="271" y="63"/>
                </a:cubicBezTo>
                <a:cubicBezTo>
                  <a:pt x="198" y="32"/>
                  <a:pt x="282" y="66"/>
                  <a:pt x="222" y="35"/>
                </a:cubicBezTo>
                <a:cubicBezTo>
                  <a:pt x="184" y="16"/>
                  <a:pt x="138" y="14"/>
                  <a:pt x="98" y="0"/>
                </a:cubicBezTo>
                <a:cubicBezTo>
                  <a:pt x="19" y="8"/>
                  <a:pt x="51" y="7"/>
                  <a:pt x="0" y="7"/>
                </a:cubicBez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700360" y="6211800"/>
            <a:ext cx="5219280" cy="579240"/>
            <a:chOff x="2700360" y="6211800"/>
            <a:chExt cx="5219280" cy="579240"/>
          </a:xfrm>
        </p:grpSpPr>
        <p:pic>
          <p:nvPicPr>
            <p:cNvPr id="280" name="Picture 10" descr=""/>
            <p:cNvPicPr/>
            <p:nvPr/>
          </p:nvPicPr>
          <p:blipFill>
            <a:blip r:embed="rId2"/>
            <a:stretch/>
          </p:blipFill>
          <p:spPr>
            <a:xfrm>
              <a:off x="2700360" y="6211800"/>
              <a:ext cx="150948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4398840" y="6244920"/>
              <a:ext cx="352080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325760" y="62449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2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3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4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4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600000">
                                      <p:cBhvr>
                                        <p:cTn id="5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16:47:21Z</dcterms:created>
  <dc:creator>Lem5x0330</dc:creator>
  <dc:description/>
  <dc:language>en-US</dc:language>
  <cp:lastModifiedBy>Alex</cp:lastModifiedBy>
  <dcterms:modified xsi:type="dcterms:W3CDTF">2011-03-19T07:37:47Z</dcterms:modified>
  <cp:revision>171</cp:revision>
  <dc:subject/>
  <dc:title>Slide 1</dc:title>
</cp:coreProperties>
</file>