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D10-BC86-460B-A51A-E9D11DB2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851-C0C6-470E-9304-09C4447F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E51-A123-4004-9B0F-94DAD37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F35-6960-4414-8966-C4E9B170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CDF-5F78-436B-96D2-ACD398B8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74B-011F-47AF-9518-5CDA37E9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EBD-F0F1-4C79-9FAE-4C7AD52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547-2C1A-4D8E-A59A-82B25141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1FC-9E89-49EE-BBED-412A548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723-EE08-4917-9681-577A047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A86-3440-4F68-B2EE-90601F0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C57-1F4D-4A93-882A-6896B13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563B-3385-4DDF-94B8-AA299B11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2247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92280" y="1525680"/>
            <a:ext cx="592596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Vielas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blīvums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946160" y="6245280"/>
            <a:ext cx="5219280" cy="579240"/>
            <a:chOff x="1946160" y="6245280"/>
            <a:chExt cx="5219280" cy="579240"/>
          </a:xfrm>
        </p:grpSpPr>
        <p:pic>
          <p:nvPicPr>
            <p:cNvPr id="44" name="Picture 10" descr=""/>
            <p:cNvPicPr/>
            <p:nvPr/>
          </p:nvPicPr>
          <p:blipFill>
            <a:blip r:embed="rId5"/>
            <a:stretch/>
          </p:blipFill>
          <p:spPr>
            <a:xfrm>
              <a:off x="1946160" y="624528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644640" y="627840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71560" y="6278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925720" y="3967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Rīgas 33. viduss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9400" y="46339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Aleksejs Plotņiko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25720" y="527364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ffffff"/>
                </a:solidFill>
                <a:latin typeface="Arial"/>
              </a:rPr>
              <a:t>2010./2011.m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302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308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200000"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21000" y="3279600"/>
            <a:ext cx="1281240" cy="1545840"/>
            <a:chOff x="5121000" y="3279600"/>
            <a:chExt cx="1281240" cy="1545840"/>
          </a:xfrm>
        </p:grpSpPr>
        <p:sp>
          <p:nvSpPr>
            <p:cNvPr id="317" name=""/>
            <p:cNvSpPr/>
            <p:nvPr/>
          </p:nvSpPr>
          <p:spPr>
            <a:xfrm rot="16200000">
              <a:off x="5628240" y="405144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761080" y="327960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61080" y="3279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121000" y="3279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583040" y="4181400"/>
            <a:ext cx="1281600" cy="1545840"/>
            <a:chOff x="7583040" y="4181400"/>
            <a:chExt cx="1281600" cy="1545840"/>
          </a:xfrm>
        </p:grpSpPr>
        <p:sp>
          <p:nvSpPr>
            <p:cNvPr id="322" name=""/>
            <p:cNvSpPr/>
            <p:nvPr/>
          </p:nvSpPr>
          <p:spPr>
            <a:xfrm>
              <a:off x="7763040" y="4924080"/>
              <a:ext cx="693720" cy="69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8090640" y="49532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223120" y="41814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23120" y="418140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583040" y="41814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328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7907E-006 L -0.04341 0.43419 E">
                                      <p:cBhvr>
                                        <p:cTn id="5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335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341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200000"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121000" y="3279240"/>
            <a:ext cx="1281240" cy="1546560"/>
            <a:chOff x="5121000" y="3279240"/>
            <a:chExt cx="1281240" cy="1546560"/>
          </a:xfrm>
        </p:grpSpPr>
        <p:sp>
          <p:nvSpPr>
            <p:cNvPr id="350" name=""/>
            <p:cNvSpPr/>
            <p:nvPr/>
          </p:nvSpPr>
          <p:spPr>
            <a:xfrm>
              <a:off x="5435640" y="4218120"/>
              <a:ext cx="484200" cy="484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5628240" y="405180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761080" y="3279240"/>
              <a:ext cx="144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1080" y="32796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121000" y="32796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583040" y="4181400"/>
            <a:ext cx="1281600" cy="1545840"/>
            <a:chOff x="7583040" y="4181400"/>
            <a:chExt cx="1281600" cy="1545840"/>
          </a:xfrm>
        </p:grpSpPr>
        <p:sp>
          <p:nvSpPr>
            <p:cNvPr id="356" name=""/>
            <p:cNvSpPr/>
            <p:nvPr/>
          </p:nvSpPr>
          <p:spPr>
            <a:xfrm>
              <a:off x="7763040" y="4924080"/>
              <a:ext cx="693720" cy="69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8090640" y="49532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8223120" y="41814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23120" y="418140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583040" y="41814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362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6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10965E-006 L -0.00711 0.06986 E">
                                      <p:cBhvr>
                                        <p:cTn id="62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00434 -0.0618 E">
                                      <p:cBhvr>
                                        <p:cTn id="64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369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375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054400" y="3727440"/>
            <a:ext cx="1281240" cy="1545840"/>
            <a:chOff x="5054400" y="3727440"/>
            <a:chExt cx="1281240" cy="1545840"/>
          </a:xfrm>
        </p:grpSpPr>
        <p:sp>
          <p:nvSpPr>
            <p:cNvPr id="384" name=""/>
            <p:cNvSpPr/>
            <p:nvPr/>
          </p:nvSpPr>
          <p:spPr>
            <a:xfrm>
              <a:off x="5369040" y="4665600"/>
              <a:ext cx="484200" cy="483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62000" y="449964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694480" y="372744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94480" y="372744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054400" y="372744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668720" y="3714840"/>
            <a:ext cx="1281600" cy="1545840"/>
            <a:chOff x="7668720" y="3714840"/>
            <a:chExt cx="1281600" cy="1545840"/>
          </a:xfrm>
        </p:grpSpPr>
        <p:sp>
          <p:nvSpPr>
            <p:cNvPr id="390" name=""/>
            <p:cNvSpPr/>
            <p:nvPr/>
          </p:nvSpPr>
          <p:spPr>
            <a:xfrm>
              <a:off x="7848720" y="4457520"/>
              <a:ext cx="693720" cy="69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8176320" y="448668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308800" y="371484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08800" y="371484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668720" y="371484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3819600" y="731880"/>
            <a:ext cx="1361880" cy="31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397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404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410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054400" y="3727440"/>
            <a:ext cx="1281240" cy="1545840"/>
            <a:chOff x="5054400" y="3727440"/>
            <a:chExt cx="1281240" cy="1545840"/>
          </a:xfrm>
        </p:grpSpPr>
        <p:sp>
          <p:nvSpPr>
            <p:cNvPr id="419" name=""/>
            <p:cNvSpPr/>
            <p:nvPr/>
          </p:nvSpPr>
          <p:spPr>
            <a:xfrm>
              <a:off x="5369040" y="4665600"/>
              <a:ext cx="484200" cy="483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5562000" y="449964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694480" y="372744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94480" y="372744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054400" y="372744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668720" y="3714840"/>
            <a:ext cx="1281600" cy="1545840"/>
            <a:chOff x="7668720" y="3714840"/>
            <a:chExt cx="1281600" cy="1545840"/>
          </a:xfrm>
        </p:grpSpPr>
        <p:sp>
          <p:nvSpPr>
            <p:cNvPr id="425" name=""/>
            <p:cNvSpPr/>
            <p:nvPr/>
          </p:nvSpPr>
          <p:spPr>
            <a:xfrm>
              <a:off x="7848720" y="4457520"/>
              <a:ext cx="693720" cy="69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8176320" y="448668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8308800" y="371484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08800" y="371484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668720" y="371484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084320" y="5400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īvu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75160" y="54000"/>
            <a:ext cx="8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60960" y="54000"/>
            <a:ext cx="33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ada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4680" y="1082520"/>
            <a:ext cx="886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k liela masa ir 1 m</a:t>
            </a:r>
            <a:r>
              <a:rPr b="1" lang="lv-LV" sz="6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lv-LV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la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435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583000" y="2016000"/>
            <a:ext cx="171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60640" y="2773440"/>
            <a:ext cx="88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8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08600" y="3435480"/>
            <a:ext cx="3195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59480" y="1220760"/>
            <a:ext cx="217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02400" y="3314880"/>
            <a:ext cx="1784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360" y="278460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īvu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97280" y="2043000"/>
            <a:ext cx="35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82960" y="3754440"/>
            <a:ext cx="35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lpu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447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2583000" y="1220760"/>
            <a:ext cx="5521320" cy="4474080"/>
            <a:chOff x="2583000" y="1220760"/>
            <a:chExt cx="5521320" cy="4474080"/>
          </a:xfrm>
        </p:grpSpPr>
        <p:sp>
          <p:nvSpPr>
            <p:cNvPr id="451" name=""/>
            <p:cNvSpPr/>
            <p:nvPr/>
          </p:nvSpPr>
          <p:spPr>
            <a:xfrm>
              <a:off x="2583000" y="2016000"/>
              <a:ext cx="17175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ρ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60640" y="2773440"/>
              <a:ext cx="88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8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08600" y="3435480"/>
              <a:ext cx="3195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59480" y="1220760"/>
              <a:ext cx="21700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5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02400" y="3314880"/>
              <a:ext cx="17841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5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231840" y="3630600"/>
            <a:ext cx="38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m] = k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5680" y="85680"/>
            <a:ext cx="5762520" cy="335268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1840" y="4791240"/>
            <a:ext cx="38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V] = m</a:t>
            </a:r>
            <a:r>
              <a:rPr b="1" lang="lv-LV" sz="7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54640" y="4210200"/>
            <a:ext cx="46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l-G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lv-LV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= kg/m</a:t>
            </a:r>
            <a:r>
              <a:rPr b="1" lang="lv-LV" sz="7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46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60116E-006 L -0.27761 -0.28416 E">
                                      <p:cBhvr>
                                        <p:cTn id="184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98400" y="1862280"/>
            <a:ext cx="1581120" cy="158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33920" y="1862280"/>
            <a:ext cx="1581120" cy="158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73680" y="1862280"/>
            <a:ext cx="1581480" cy="158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46240" y="44928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27680" y="449280"/>
            <a:ext cx="20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46520" y="44928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īnij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1311120" y="2874600"/>
            <a:ext cx="363600" cy="1567080"/>
          </a:xfrm>
          <a:custGeom>
            <a:avLst/>
            <a:gdLst>
              <a:gd name="textAreaLeft" fmla="*/ 232200 w 363600"/>
              <a:gd name="textAreaRight" fmla="*/ 363960 w 363600"/>
              <a:gd name="textAreaTop" fmla="*/ 40680 h 1567080"/>
              <a:gd name="textAreaBottom" fmla="*/ 1526400 h 15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0800000">
            <a:off x="2743200" y="1420920"/>
            <a:ext cx="363600" cy="1566720"/>
          </a:xfrm>
          <a:custGeom>
            <a:avLst/>
            <a:gdLst>
              <a:gd name="textAreaLeft" fmla="*/ 232200 w 363600"/>
              <a:gd name="textAreaRight" fmla="*/ 363960 w 363600"/>
              <a:gd name="textAreaTop" fmla="*/ 40680 h 1566720"/>
              <a:gd name="textAreaBottom" fmla="*/ 1526040 h 15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3320000">
            <a:off x="2534760" y="3011040"/>
            <a:ext cx="243000" cy="679680"/>
          </a:xfrm>
          <a:custGeom>
            <a:avLst/>
            <a:gdLst>
              <a:gd name="textAreaLeft" fmla="*/ 155160 w 243000"/>
              <a:gd name="textAreaRight" fmla="*/ 243360 w 243000"/>
              <a:gd name="textAreaTop" fmla="*/ 17640 h 679680"/>
              <a:gd name="textAreaBottom" fmla="*/ 662040 h 6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8400" y="1413000"/>
            <a:ext cx="2028960" cy="447480"/>
          </a:xfrm>
          <a:custGeom>
            <a:avLst/>
            <a:gdLst/>
            <a:ahLst/>
            <a:rect l="l" t="t" r="r" b="b"/>
            <a:pathLst>
              <a:path w="1278" h="282">
                <a:moveTo>
                  <a:pt x="0" y="282"/>
                </a:moveTo>
                <a:lnTo>
                  <a:pt x="284" y="0"/>
                </a:lnTo>
                <a:lnTo>
                  <a:pt x="1278" y="0"/>
                </a:lnTo>
                <a:lnTo>
                  <a:pt x="996" y="2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78080" y="1417680"/>
            <a:ext cx="441360" cy="2017800"/>
          </a:xfrm>
          <a:custGeom>
            <a:avLst/>
            <a:gdLst/>
            <a:ahLst/>
            <a:rect l="l" t="t" r="r" b="b"/>
            <a:pathLst>
              <a:path w="278" h="1271">
                <a:moveTo>
                  <a:pt x="0" y="278"/>
                </a:moveTo>
                <a:lnTo>
                  <a:pt x="278" y="0"/>
                </a:lnTo>
                <a:lnTo>
                  <a:pt x="278" y="996"/>
                </a:lnTo>
                <a:lnTo>
                  <a:pt x="3" y="127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276200" y="3924360"/>
            <a:ext cx="5144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m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 rot="16200000">
            <a:off x="2987640" y="2072880"/>
            <a:ext cx="5144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m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 rot="18640200">
            <a:off x="2625480" y="3396960"/>
            <a:ext cx="51408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m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05040" y="222876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</a:t>
            </a:r>
            <a:r>
              <a:rPr b="1" lang="lv-LV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87720" y="222876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</a:t>
            </a:r>
            <a:r>
              <a:rPr b="1" lang="lv-LV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1080" y="222876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</a:t>
            </a:r>
            <a:r>
              <a:rPr b="1" lang="lv-LV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482" name="Picture 10" descr=""/>
            <p:cNvPicPr/>
            <p:nvPr/>
          </p:nvPicPr>
          <p:blipFill>
            <a:blip r:embed="rId4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98400" y="1862280"/>
            <a:ext cx="1581120" cy="158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1862280"/>
            <a:ext cx="1581120" cy="158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3680" y="1862280"/>
            <a:ext cx="1581480" cy="158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46240" y="44928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27680" y="449280"/>
            <a:ext cx="20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46520" y="44928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īnij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8400" y="1413000"/>
            <a:ext cx="2028960" cy="447480"/>
          </a:xfrm>
          <a:custGeom>
            <a:avLst/>
            <a:gdLst/>
            <a:ahLst/>
            <a:rect l="l" t="t" r="r" b="b"/>
            <a:pathLst>
              <a:path w="1278" h="282">
                <a:moveTo>
                  <a:pt x="0" y="282"/>
                </a:moveTo>
                <a:lnTo>
                  <a:pt x="284" y="0"/>
                </a:lnTo>
                <a:lnTo>
                  <a:pt x="1278" y="0"/>
                </a:lnTo>
                <a:lnTo>
                  <a:pt x="996" y="2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78080" y="1417680"/>
            <a:ext cx="441360" cy="2017800"/>
          </a:xfrm>
          <a:custGeom>
            <a:avLst/>
            <a:gdLst/>
            <a:ahLst/>
            <a:rect l="l" t="t" r="r" b="b"/>
            <a:pathLst>
              <a:path w="278" h="1271">
                <a:moveTo>
                  <a:pt x="0" y="278"/>
                </a:moveTo>
                <a:lnTo>
                  <a:pt x="278" y="0"/>
                </a:lnTo>
                <a:lnTo>
                  <a:pt x="278" y="996"/>
                </a:lnTo>
                <a:lnTo>
                  <a:pt x="3" y="127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5040" y="222876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</a:t>
            </a:r>
            <a:r>
              <a:rPr b="1" lang="lv-LV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87720" y="222876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</a:t>
            </a:r>
            <a:r>
              <a:rPr b="1" lang="lv-LV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931080" y="222876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</a:t>
            </a:r>
            <a:r>
              <a:rPr b="1" lang="lv-LV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3800" y="354960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7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562800" y="3549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93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40040" y="354960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27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6080" y="42926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lv-LV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700 kg/m</a:t>
            </a:r>
            <a:r>
              <a:rPr b="1" lang="lv-LV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60800" y="429264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lv-LV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2700 kg/m</a:t>
            </a:r>
            <a:r>
              <a:rPr b="1" lang="lv-LV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86600" y="4292640"/>
            <a:ext cx="29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lv-LV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9300 kg/m</a:t>
            </a:r>
            <a:r>
              <a:rPr b="1" lang="lv-LV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503" name="Picture 10" descr=""/>
            <p:cNvPicPr/>
            <p:nvPr/>
          </p:nvPicPr>
          <p:blipFill>
            <a:blip r:embed="rId4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419640" y="1487520"/>
            <a:ext cx="784080" cy="7840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753120" y="4536000"/>
            <a:ext cx="266760" cy="12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885960" y="3763440"/>
            <a:ext cx="144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8596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4588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3371040" y="4521600"/>
            <a:ext cx="26676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03520" y="3749760"/>
            <a:ext cx="180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0352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86344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13200" y="1487520"/>
            <a:ext cx="784440" cy="784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49900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6200000">
            <a:off x="5426640" y="4536000"/>
            <a:ext cx="266760" cy="12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559480" y="3763440"/>
            <a:ext cx="144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5948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91940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8044560" y="4521600"/>
            <a:ext cx="26676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8177040" y="3749760"/>
            <a:ext cx="180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77040" y="3749760"/>
            <a:ext cx="64008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53696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53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419640" y="1487520"/>
            <a:ext cx="784080" cy="7840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753120" y="4536000"/>
            <a:ext cx="266760" cy="12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85960" y="3763440"/>
            <a:ext cx="144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8596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4588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3371040" y="4521600"/>
            <a:ext cx="26676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503520" y="3749760"/>
            <a:ext cx="180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0352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86344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13200" y="1487520"/>
            <a:ext cx="784440" cy="784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49900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5426640" y="4536000"/>
            <a:ext cx="266760" cy="12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559480" y="3763440"/>
            <a:ext cx="144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5948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1940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8044560" y="4521600"/>
            <a:ext cx="26676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177040" y="3749760"/>
            <a:ext cx="180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7040" y="3749760"/>
            <a:ext cx="64008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53696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559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-0.03316 0.42894 E">
                                      <p:cBhvr>
                                        <p:cTn id="345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0.32361 0.44074 E">
                                      <p:cBhvr>
                                        <p:cTn id="34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2247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46160" y="6245280"/>
            <a:ext cx="5219280" cy="579240"/>
            <a:chOff x="1946160" y="6245280"/>
            <a:chExt cx="5219280" cy="579240"/>
          </a:xfrm>
        </p:grpSpPr>
        <p:pic>
          <p:nvPicPr>
            <p:cNvPr id="52" name="Picture 10" descr=""/>
            <p:cNvPicPr/>
            <p:nvPr/>
          </p:nvPicPr>
          <p:blipFill>
            <a:blip r:embed="rId1"/>
            <a:stretch/>
          </p:blipFill>
          <p:spPr>
            <a:xfrm>
              <a:off x="1946160" y="624528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44640" y="627840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560" y="6278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0"/>
            <a:ext cx="36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99"/>
                </a:solidFill>
                <a:latin typeface="Arial"/>
              </a:rPr>
              <a:t>Darba mērķ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65400"/>
            <a:ext cx="36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99"/>
                </a:solidFill>
                <a:latin typeface="Arial"/>
              </a:rPr>
              <a:t>Uzdevum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37000" y="130320"/>
            <a:ext cx="510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Tahoma"/>
              </a:rPr>
              <a:t>iepazīstināt skolēnus ar vielas blīvuma jēdzienu un tā mērvienībā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7480" y="2279520"/>
            <a:ext cx="635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Tahoma"/>
              </a:rPr>
              <a:t>izskaidrot vielas blīvuma jēdzienu, parādīt tā mērvienības un pilnveidot prasmi risināt uzdevumus ar formulu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79920" y="370692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45880" y="3763440"/>
            <a:ext cx="1281240" cy="1546560"/>
            <a:chOff x="245880" y="3763440"/>
            <a:chExt cx="1281240" cy="1546560"/>
          </a:xfrm>
        </p:grpSpPr>
        <p:sp>
          <p:nvSpPr>
            <p:cNvPr id="568" name=""/>
            <p:cNvSpPr/>
            <p:nvPr/>
          </p:nvSpPr>
          <p:spPr>
            <a:xfrm rot="16200000">
              <a:off x="753120" y="453600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885960" y="3763440"/>
              <a:ext cx="144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85960" y="37638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45880" y="37638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863440" y="3749760"/>
            <a:ext cx="1281600" cy="1545840"/>
            <a:chOff x="2863440" y="3749760"/>
            <a:chExt cx="1281600" cy="1545840"/>
          </a:xfrm>
        </p:grpSpPr>
        <p:sp>
          <p:nvSpPr>
            <p:cNvPr id="573" name=""/>
            <p:cNvSpPr/>
            <p:nvPr/>
          </p:nvSpPr>
          <p:spPr>
            <a:xfrm>
              <a:off x="3102120" y="44337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6200000">
              <a:off x="3371040" y="45216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503520" y="37497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352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86344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536960" y="3749760"/>
            <a:ext cx="1281600" cy="1545840"/>
            <a:chOff x="7536960" y="3749760"/>
            <a:chExt cx="1281600" cy="1545840"/>
          </a:xfrm>
        </p:grpSpPr>
        <p:sp>
          <p:nvSpPr>
            <p:cNvPr id="580" name=""/>
            <p:cNvSpPr/>
            <p:nvPr/>
          </p:nvSpPr>
          <p:spPr>
            <a:xfrm>
              <a:off x="7772400" y="448452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8044560" y="45216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177040" y="37497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77040" y="374976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53696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912920" y="3759120"/>
            <a:ext cx="1281240" cy="1545840"/>
            <a:chOff x="4912920" y="3759120"/>
            <a:chExt cx="1281240" cy="1545840"/>
          </a:xfrm>
        </p:grpSpPr>
        <p:sp>
          <p:nvSpPr>
            <p:cNvPr id="586" name=""/>
            <p:cNvSpPr/>
            <p:nvPr/>
          </p:nvSpPr>
          <p:spPr>
            <a:xfrm rot="16200000">
              <a:off x="5420520" y="4531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553000" y="3759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53000" y="3759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912920" y="3759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59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-0.00677 0.06852 E">
                                      <p:cBhvr>
                                        <p:cTn id="355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00764 -0.06666 E">
                                      <p:cBhvr>
                                        <p:cTn id="35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00764 -0.06666 E">
                                      <p:cBhvr>
                                        <p:cTn id="359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6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-0.00885 0.06829 E">
                                      <p:cBhvr>
                                        <p:cTn id="363" dur="1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581040" y="3754440"/>
            <a:ext cx="780840" cy="1033200"/>
            <a:chOff x="581040" y="3754440"/>
            <a:chExt cx="780840" cy="1033200"/>
          </a:xfrm>
        </p:grpSpPr>
        <p:sp>
          <p:nvSpPr>
            <p:cNvPr id="595" name=""/>
            <p:cNvSpPr/>
            <p:nvPr/>
          </p:nvSpPr>
          <p:spPr>
            <a:xfrm>
              <a:off x="581040" y="3947040"/>
              <a:ext cx="379800" cy="840600"/>
            </a:xfrm>
            <a:custGeom>
              <a:avLst/>
              <a:gdLst>
                <a:gd name="textAreaLeft" fmla="*/ 111600 w 379800"/>
                <a:gd name="textAreaRight" fmla="*/ 380160 w 379800"/>
                <a:gd name="textAreaTop" fmla="*/ 34920 h 840600"/>
                <a:gd name="textAreaBottom" fmla="*/ 805680 h 84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948960" y="3947040"/>
              <a:ext cx="379800" cy="840600"/>
            </a:xfrm>
            <a:custGeom>
              <a:avLst/>
              <a:gdLst>
                <a:gd name="textAreaLeft" fmla="*/ 111240 w 379800"/>
                <a:gd name="textAreaRight" fmla="*/ 379800 w 379800"/>
                <a:gd name="textAreaTop" fmla="*/ 34920 h 840600"/>
                <a:gd name="textAreaBottom" fmla="*/ 805680 h 84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4520" y="3754440"/>
              <a:ext cx="152640" cy="1540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6120 h 154080"/>
                <a:gd name="textAreaBottom" fmla="*/ 147960 h 1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944640" y="3754440"/>
              <a:ext cx="152640" cy="15408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6120 h 154080"/>
                <a:gd name="textAreaBottom" fmla="*/ 147960 h 1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98920" y="3820320"/>
              <a:ext cx="94320" cy="174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0640" y="417276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800" spc="-1" strike="noStrike">
                  <a:solidFill>
                    <a:srgbClr val="ffffff"/>
                  </a:solidFill>
                  <a:latin typeface="Arial"/>
                </a:rPr>
                <a:t>40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189400" y="3533760"/>
            <a:ext cx="909360" cy="1203120"/>
            <a:chOff x="5189400" y="3533760"/>
            <a:chExt cx="909360" cy="1203120"/>
          </a:xfrm>
        </p:grpSpPr>
        <p:sp>
          <p:nvSpPr>
            <p:cNvPr id="602" name=""/>
            <p:cNvSpPr/>
            <p:nvPr/>
          </p:nvSpPr>
          <p:spPr>
            <a:xfrm>
              <a:off x="5189400" y="3758040"/>
              <a:ext cx="442080" cy="978840"/>
            </a:xfrm>
            <a:custGeom>
              <a:avLst/>
              <a:gdLst>
                <a:gd name="textAreaLeft" fmla="*/ 129960 w 442080"/>
                <a:gd name="textAreaRight" fmla="*/ 442440 w 442080"/>
                <a:gd name="textAreaTop" fmla="*/ 40680 h 978840"/>
                <a:gd name="textAreaBottom" fmla="*/ 938160 h 97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618880" y="3758040"/>
              <a:ext cx="442080" cy="978840"/>
            </a:xfrm>
            <a:custGeom>
              <a:avLst/>
              <a:gdLst>
                <a:gd name="textAreaLeft" fmla="*/ 129960 w 442080"/>
                <a:gd name="textAreaRight" fmla="*/ 442440 w 442080"/>
                <a:gd name="textAreaTop" fmla="*/ 40680 h 978840"/>
                <a:gd name="textAreaBottom" fmla="*/ 938160 h 97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38160" y="3533760"/>
              <a:ext cx="177480" cy="179280"/>
            </a:xfrm>
            <a:custGeom>
              <a:avLst/>
              <a:gdLst>
                <a:gd name="textAreaLeft" fmla="*/ 52200 w 177480"/>
                <a:gd name="textAreaRight" fmla="*/ 177840 w 17748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5613120" y="3533760"/>
              <a:ext cx="177840" cy="179280"/>
            </a:xfrm>
            <a:custGeom>
              <a:avLst/>
              <a:gdLst>
                <a:gd name="textAreaLeft" fmla="*/ 52560 w 177840"/>
                <a:gd name="textAreaRight" fmla="*/ 17820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9480" y="3610440"/>
              <a:ext cx="109800" cy="20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35480" y="402408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800" spc="-1" strike="noStrike">
                  <a:solidFill>
                    <a:srgbClr val="ffffff"/>
                  </a:solidFill>
                  <a:latin typeface="Arial"/>
                </a:rPr>
                <a:t>50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200000">
            <a:off x="5479920" y="370692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200000"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09240" y="3306240"/>
            <a:ext cx="1281240" cy="1546560"/>
            <a:chOff x="309240" y="3306240"/>
            <a:chExt cx="1281240" cy="1546560"/>
          </a:xfrm>
        </p:grpSpPr>
        <p:sp>
          <p:nvSpPr>
            <p:cNvPr id="614" name=""/>
            <p:cNvSpPr/>
            <p:nvPr/>
          </p:nvSpPr>
          <p:spPr>
            <a:xfrm rot="16200000">
              <a:off x="816480" y="407880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949320" y="3306240"/>
              <a:ext cx="144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49320" y="33066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09240" y="33066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774520" y="4206960"/>
            <a:ext cx="1281600" cy="1545840"/>
            <a:chOff x="2774520" y="4206960"/>
            <a:chExt cx="1281600" cy="1545840"/>
          </a:xfrm>
        </p:grpSpPr>
        <p:sp>
          <p:nvSpPr>
            <p:cNvPr id="619" name=""/>
            <p:cNvSpPr/>
            <p:nvPr/>
          </p:nvSpPr>
          <p:spPr>
            <a:xfrm>
              <a:off x="3013200" y="48909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3282120" y="49788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414600" y="42069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14600" y="42069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774520" y="42069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7448040" y="4194000"/>
            <a:ext cx="1281600" cy="1545840"/>
            <a:chOff x="7448040" y="4194000"/>
            <a:chExt cx="1281600" cy="1545840"/>
          </a:xfrm>
        </p:grpSpPr>
        <p:sp>
          <p:nvSpPr>
            <p:cNvPr id="626" name=""/>
            <p:cNvSpPr/>
            <p:nvPr/>
          </p:nvSpPr>
          <p:spPr>
            <a:xfrm>
              <a:off x="7683480" y="49287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7955640" y="49658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088120" y="41940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88120" y="419400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448040" y="41940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989240" y="3276720"/>
            <a:ext cx="1281240" cy="1545840"/>
            <a:chOff x="4989240" y="3276720"/>
            <a:chExt cx="1281240" cy="1545840"/>
          </a:xfrm>
        </p:grpSpPr>
        <p:sp>
          <p:nvSpPr>
            <p:cNvPr id="632" name=""/>
            <p:cNvSpPr/>
            <p:nvPr/>
          </p:nvSpPr>
          <p:spPr>
            <a:xfrm rot="16200000">
              <a:off x="5496840" y="40489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629320" y="32767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29320" y="32767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989240" y="32767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637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200000">
            <a:off x="5479920" y="370692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200000"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09240" y="3306240"/>
            <a:ext cx="1281600" cy="1546560"/>
            <a:chOff x="309240" y="3306240"/>
            <a:chExt cx="1281600" cy="1546560"/>
          </a:xfrm>
        </p:grpSpPr>
        <p:sp>
          <p:nvSpPr>
            <p:cNvPr id="646" name=""/>
            <p:cNvSpPr/>
            <p:nvPr/>
          </p:nvSpPr>
          <p:spPr>
            <a:xfrm>
              <a:off x="581040" y="3946680"/>
              <a:ext cx="379440" cy="841320"/>
            </a:xfrm>
            <a:custGeom>
              <a:avLst/>
              <a:gdLst>
                <a:gd name="textAreaLeft" fmla="*/ 111600 w 379440"/>
                <a:gd name="textAreaRight" fmla="*/ 379800 w 379440"/>
                <a:gd name="textAreaTop" fmla="*/ 34920 h 841320"/>
                <a:gd name="textAreaBottom" fmla="*/ 80640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949320" y="3946680"/>
              <a:ext cx="380880" cy="84132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34920 h 841320"/>
                <a:gd name="textAreaBottom" fmla="*/ 80640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5240" y="3754440"/>
              <a:ext cx="152640" cy="1540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6120 h 154080"/>
                <a:gd name="textAreaBottom" fmla="*/ 147960 h 1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943920" y="3754440"/>
              <a:ext cx="152280" cy="15408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6120 h 154080"/>
                <a:gd name="textAreaBottom" fmla="*/ 147960 h 1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98560" y="3819600"/>
              <a:ext cx="95040" cy="176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20640" y="4173480"/>
              <a:ext cx="7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800" spc="-1" strike="noStrike">
                  <a:solidFill>
                    <a:srgbClr val="ffffff"/>
                  </a:solidFill>
                  <a:latin typeface="Arial"/>
                </a:rPr>
                <a:t>40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816840" y="40788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949320" y="3306240"/>
              <a:ext cx="144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49320" y="33066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09240" y="330660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774520" y="4206960"/>
            <a:ext cx="1281600" cy="1545840"/>
            <a:chOff x="2774520" y="4206960"/>
            <a:chExt cx="1281600" cy="1545840"/>
          </a:xfrm>
        </p:grpSpPr>
        <p:sp>
          <p:nvSpPr>
            <p:cNvPr id="657" name=""/>
            <p:cNvSpPr/>
            <p:nvPr/>
          </p:nvSpPr>
          <p:spPr>
            <a:xfrm>
              <a:off x="3013200" y="48909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3282120" y="49788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414600" y="42069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14600" y="42069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774520" y="42069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7448040" y="4194000"/>
            <a:ext cx="1281600" cy="1545840"/>
            <a:chOff x="7448040" y="4194000"/>
            <a:chExt cx="1281600" cy="1545840"/>
          </a:xfrm>
        </p:grpSpPr>
        <p:sp>
          <p:nvSpPr>
            <p:cNvPr id="664" name=""/>
            <p:cNvSpPr/>
            <p:nvPr/>
          </p:nvSpPr>
          <p:spPr>
            <a:xfrm>
              <a:off x="7683480" y="49287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6200000">
              <a:off x="7955640" y="49658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088120" y="41940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88120" y="419400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448040" y="41940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989240" y="3276720"/>
            <a:ext cx="1281240" cy="1545840"/>
            <a:chOff x="4989240" y="3276720"/>
            <a:chExt cx="1281240" cy="1545840"/>
          </a:xfrm>
        </p:grpSpPr>
        <p:sp>
          <p:nvSpPr>
            <p:cNvPr id="670" name=""/>
            <p:cNvSpPr/>
            <p:nvPr/>
          </p:nvSpPr>
          <p:spPr>
            <a:xfrm>
              <a:off x="5189400" y="3757680"/>
              <a:ext cx="443160" cy="979560"/>
            </a:xfrm>
            <a:custGeom>
              <a:avLst/>
              <a:gdLst>
                <a:gd name="textAreaLeft" fmla="*/ 130320 w 443160"/>
                <a:gd name="textAreaRight" fmla="*/ 443520 w 443160"/>
                <a:gd name="textAreaTop" fmla="*/ 40680 h 979560"/>
                <a:gd name="textAreaBottom" fmla="*/ 9388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619600" y="3757680"/>
              <a:ext cx="441360" cy="979560"/>
            </a:xfrm>
            <a:custGeom>
              <a:avLst/>
              <a:gdLst>
                <a:gd name="textAreaLeft" fmla="*/ 129960 w 441360"/>
                <a:gd name="textAreaRight" fmla="*/ 442080 w 441360"/>
                <a:gd name="textAreaTop" fmla="*/ 40680 h 979560"/>
                <a:gd name="textAreaBottom" fmla="*/ 9388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38880" y="3533760"/>
              <a:ext cx="177840" cy="179280"/>
            </a:xfrm>
            <a:custGeom>
              <a:avLst/>
              <a:gdLst>
                <a:gd name="textAreaLeft" fmla="*/ 52200 w 177840"/>
                <a:gd name="textAreaRight" fmla="*/ 17784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613480" y="3533760"/>
              <a:ext cx="177840" cy="179280"/>
            </a:xfrm>
            <a:custGeom>
              <a:avLst/>
              <a:gdLst>
                <a:gd name="textAreaLeft" fmla="*/ 52560 w 177840"/>
                <a:gd name="textAreaRight" fmla="*/ 17820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559480" y="3610080"/>
              <a:ext cx="109440" cy="204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35480" y="40244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800" spc="-1" strike="noStrike">
                  <a:solidFill>
                    <a:srgbClr val="ffffff"/>
                  </a:solidFill>
                  <a:latin typeface="Arial"/>
                </a:rPr>
                <a:t>50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5496480" y="40485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629320" y="32767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29320" y="32767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989240" y="32767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68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3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0066 0.0699 E">
                                      <p:cBhvr>
                                        <p:cTn id="387" dur="1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01007 -0.06459 E">
                                      <p:cBhvr>
                                        <p:cTn id="389" dur="1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39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937 0.07176 E">
                                      <p:cBhvr>
                                        <p:cTn id="393" dur="1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0.00764 -0.06297 E">
                                      <p:cBhvr>
                                        <p:cTn id="395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79920" y="370692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58840" y="3751200"/>
            <a:ext cx="1280880" cy="1545840"/>
            <a:chOff x="258840" y="3751200"/>
            <a:chExt cx="1280880" cy="1545840"/>
          </a:xfrm>
        </p:grpSpPr>
        <p:sp>
          <p:nvSpPr>
            <p:cNvPr id="690" name=""/>
            <p:cNvSpPr/>
            <p:nvPr/>
          </p:nvSpPr>
          <p:spPr>
            <a:xfrm>
              <a:off x="529920" y="4390920"/>
              <a:ext cx="379080" cy="840960"/>
            </a:xfrm>
            <a:custGeom>
              <a:avLst/>
              <a:gdLst>
                <a:gd name="textAreaLeft" fmla="*/ 111240 w 379080"/>
                <a:gd name="textAreaRight" fmla="*/ 379440 w 379080"/>
                <a:gd name="textAreaTop" fmla="*/ 34920 h 840960"/>
                <a:gd name="textAreaBottom" fmla="*/ 806040 h 84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897480" y="4390920"/>
              <a:ext cx="380520" cy="840960"/>
            </a:xfrm>
            <a:custGeom>
              <a:avLst/>
              <a:gdLst>
                <a:gd name="textAreaLeft" fmla="*/ 111960 w 380520"/>
                <a:gd name="textAreaRight" fmla="*/ 380880 w 380520"/>
                <a:gd name="textAreaTop" fmla="*/ 34920 h 840960"/>
                <a:gd name="textAreaBottom" fmla="*/ 806040 h 84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4120" y="4198680"/>
              <a:ext cx="152280" cy="1537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6120 h 153720"/>
                <a:gd name="textAreaBottom" fmla="*/ 1476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93520" y="4198680"/>
              <a:ext cx="151920" cy="153720"/>
            </a:xfrm>
            <a:custGeom>
              <a:avLst/>
              <a:gdLst>
                <a:gd name="textAreaLeft" fmla="*/ 45000 w 151920"/>
                <a:gd name="textAreaRight" fmla="*/ 152640 w 151920"/>
                <a:gd name="textAreaTop" fmla="*/ 6120 h 153720"/>
                <a:gd name="textAreaBottom" fmla="*/ 1476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47440" y="4263840"/>
              <a:ext cx="94680" cy="175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9520" y="46177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800" spc="-1" strike="noStrike">
                  <a:solidFill>
                    <a:srgbClr val="ffffff"/>
                  </a:solidFill>
                  <a:latin typeface="Arial"/>
                </a:rPr>
                <a:t>40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6200000">
              <a:off x="766080" y="452340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898200" y="3751200"/>
              <a:ext cx="108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98200" y="375120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58840" y="375120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2863440" y="3749760"/>
            <a:ext cx="1281600" cy="1545840"/>
            <a:chOff x="2863440" y="3749760"/>
            <a:chExt cx="1281600" cy="1545840"/>
          </a:xfrm>
        </p:grpSpPr>
        <p:sp>
          <p:nvSpPr>
            <p:cNvPr id="701" name=""/>
            <p:cNvSpPr/>
            <p:nvPr/>
          </p:nvSpPr>
          <p:spPr>
            <a:xfrm>
              <a:off x="3102120" y="44337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3371040" y="45216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503520" y="37497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0352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86344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512120" y="3774960"/>
            <a:ext cx="1280880" cy="1545840"/>
            <a:chOff x="7512120" y="3774960"/>
            <a:chExt cx="1280880" cy="1545840"/>
          </a:xfrm>
        </p:grpSpPr>
        <p:sp>
          <p:nvSpPr>
            <p:cNvPr id="708" name=""/>
            <p:cNvSpPr/>
            <p:nvPr/>
          </p:nvSpPr>
          <p:spPr>
            <a:xfrm>
              <a:off x="7746840" y="4509720"/>
              <a:ext cx="783720" cy="7844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6200000">
              <a:off x="8019000" y="454680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151480" y="377496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51480" y="37749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512120" y="377496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912920" y="3759120"/>
            <a:ext cx="1281240" cy="1545840"/>
            <a:chOff x="4912920" y="3759120"/>
            <a:chExt cx="1281240" cy="1545840"/>
          </a:xfrm>
        </p:grpSpPr>
        <p:sp>
          <p:nvSpPr>
            <p:cNvPr id="714" name=""/>
            <p:cNvSpPr/>
            <p:nvPr/>
          </p:nvSpPr>
          <p:spPr>
            <a:xfrm>
              <a:off x="5113080" y="4240080"/>
              <a:ext cx="443160" cy="979560"/>
            </a:xfrm>
            <a:custGeom>
              <a:avLst/>
              <a:gdLst>
                <a:gd name="textAreaLeft" fmla="*/ 130320 w 443160"/>
                <a:gd name="textAreaRight" fmla="*/ 443520 w 443160"/>
                <a:gd name="textAreaTop" fmla="*/ 40680 h 979560"/>
                <a:gd name="textAreaBottom" fmla="*/ 9388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543280" y="4240080"/>
              <a:ext cx="441360" cy="979560"/>
            </a:xfrm>
            <a:custGeom>
              <a:avLst/>
              <a:gdLst>
                <a:gd name="textAreaLeft" fmla="*/ 129960 w 441360"/>
                <a:gd name="textAreaRight" fmla="*/ 442080 w 441360"/>
                <a:gd name="textAreaTop" fmla="*/ 40680 h 979560"/>
                <a:gd name="textAreaBottom" fmla="*/ 9388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62560" y="4016160"/>
              <a:ext cx="177840" cy="179280"/>
            </a:xfrm>
            <a:custGeom>
              <a:avLst/>
              <a:gdLst>
                <a:gd name="textAreaLeft" fmla="*/ 52200 w 177840"/>
                <a:gd name="textAreaRight" fmla="*/ 17784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537160" y="4016160"/>
              <a:ext cx="177840" cy="179280"/>
            </a:xfrm>
            <a:custGeom>
              <a:avLst/>
              <a:gdLst>
                <a:gd name="textAreaLeft" fmla="*/ 52560 w 177840"/>
                <a:gd name="textAreaRight" fmla="*/ 17820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83160" y="4092480"/>
              <a:ext cx="109440" cy="204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59160" y="45068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800" spc="-1" strike="noStrike">
                  <a:solidFill>
                    <a:srgbClr val="ffffff"/>
                  </a:solidFill>
                  <a:latin typeface="Arial"/>
                </a:rPr>
                <a:t>50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5420160" y="4530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553000" y="3759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53000" y="3759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912920" y="3759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725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79920" y="370692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8840" y="3751200"/>
            <a:ext cx="1280880" cy="1545840"/>
            <a:chOff x="258840" y="3751200"/>
            <a:chExt cx="1280880" cy="1545840"/>
          </a:xfrm>
        </p:grpSpPr>
        <p:sp>
          <p:nvSpPr>
            <p:cNvPr id="734" name=""/>
            <p:cNvSpPr/>
            <p:nvPr/>
          </p:nvSpPr>
          <p:spPr>
            <a:xfrm>
              <a:off x="529920" y="4390920"/>
              <a:ext cx="379080" cy="840960"/>
            </a:xfrm>
            <a:custGeom>
              <a:avLst/>
              <a:gdLst>
                <a:gd name="textAreaLeft" fmla="*/ 111240 w 379080"/>
                <a:gd name="textAreaRight" fmla="*/ 379440 w 379080"/>
                <a:gd name="textAreaTop" fmla="*/ 34920 h 840960"/>
                <a:gd name="textAreaBottom" fmla="*/ 806040 h 84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897480" y="4390920"/>
              <a:ext cx="380520" cy="840960"/>
            </a:xfrm>
            <a:custGeom>
              <a:avLst/>
              <a:gdLst>
                <a:gd name="textAreaLeft" fmla="*/ 111960 w 380520"/>
                <a:gd name="textAreaRight" fmla="*/ 380880 w 380520"/>
                <a:gd name="textAreaTop" fmla="*/ 34920 h 840960"/>
                <a:gd name="textAreaBottom" fmla="*/ 806040 h 84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4120" y="4198680"/>
              <a:ext cx="152280" cy="1537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6120 h 153720"/>
                <a:gd name="textAreaBottom" fmla="*/ 1476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893520" y="4198680"/>
              <a:ext cx="151920" cy="153720"/>
            </a:xfrm>
            <a:custGeom>
              <a:avLst/>
              <a:gdLst>
                <a:gd name="textAreaLeft" fmla="*/ 45000 w 151920"/>
                <a:gd name="textAreaRight" fmla="*/ 152640 w 151920"/>
                <a:gd name="textAreaTop" fmla="*/ 6120 h 153720"/>
                <a:gd name="textAreaBottom" fmla="*/ 1476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7440" y="4263840"/>
              <a:ext cx="94680" cy="175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9520" y="46177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800" spc="-1" strike="noStrike">
                  <a:solidFill>
                    <a:srgbClr val="ffffff"/>
                  </a:solidFill>
                  <a:latin typeface="Arial"/>
                </a:rPr>
                <a:t>40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766080" y="452340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898200" y="3751200"/>
              <a:ext cx="108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98200" y="375120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58840" y="375120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863440" y="3749760"/>
            <a:ext cx="1281600" cy="1545840"/>
            <a:chOff x="2863440" y="3749760"/>
            <a:chExt cx="1281600" cy="1545840"/>
          </a:xfrm>
        </p:grpSpPr>
        <p:sp>
          <p:nvSpPr>
            <p:cNvPr id="745" name=""/>
            <p:cNvSpPr/>
            <p:nvPr/>
          </p:nvSpPr>
          <p:spPr>
            <a:xfrm>
              <a:off x="3102120" y="4433760"/>
              <a:ext cx="78408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6200000">
              <a:off x="3371040" y="45216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503520" y="37497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0352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2863440" y="37497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512120" y="3774960"/>
            <a:ext cx="1280880" cy="1545840"/>
            <a:chOff x="7512120" y="3774960"/>
            <a:chExt cx="1280880" cy="1545840"/>
          </a:xfrm>
        </p:grpSpPr>
        <p:sp>
          <p:nvSpPr>
            <p:cNvPr id="752" name=""/>
            <p:cNvSpPr/>
            <p:nvPr/>
          </p:nvSpPr>
          <p:spPr>
            <a:xfrm>
              <a:off x="7746840" y="4509720"/>
              <a:ext cx="783720" cy="7844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6200000">
              <a:off x="8019000" y="454680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8151480" y="377496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51480" y="37749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512120" y="377496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912920" y="3759120"/>
            <a:ext cx="1281240" cy="1545840"/>
            <a:chOff x="4912920" y="3759120"/>
            <a:chExt cx="1281240" cy="1545840"/>
          </a:xfrm>
        </p:grpSpPr>
        <p:sp>
          <p:nvSpPr>
            <p:cNvPr id="758" name=""/>
            <p:cNvSpPr/>
            <p:nvPr/>
          </p:nvSpPr>
          <p:spPr>
            <a:xfrm>
              <a:off x="5113080" y="4240080"/>
              <a:ext cx="443160" cy="979560"/>
            </a:xfrm>
            <a:custGeom>
              <a:avLst/>
              <a:gdLst>
                <a:gd name="textAreaLeft" fmla="*/ 130320 w 443160"/>
                <a:gd name="textAreaRight" fmla="*/ 443520 w 443160"/>
                <a:gd name="textAreaTop" fmla="*/ 40680 h 979560"/>
                <a:gd name="textAreaBottom" fmla="*/ 9388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543280" y="4240080"/>
              <a:ext cx="441360" cy="979560"/>
            </a:xfrm>
            <a:custGeom>
              <a:avLst/>
              <a:gdLst>
                <a:gd name="textAreaLeft" fmla="*/ 129960 w 441360"/>
                <a:gd name="textAreaRight" fmla="*/ 442080 w 441360"/>
                <a:gd name="textAreaTop" fmla="*/ 40680 h 979560"/>
                <a:gd name="textAreaBottom" fmla="*/ 9388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62560" y="4016160"/>
              <a:ext cx="177840" cy="179280"/>
            </a:xfrm>
            <a:custGeom>
              <a:avLst/>
              <a:gdLst>
                <a:gd name="textAreaLeft" fmla="*/ 52200 w 177840"/>
                <a:gd name="textAreaRight" fmla="*/ 17784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537160" y="4016160"/>
              <a:ext cx="177840" cy="179280"/>
            </a:xfrm>
            <a:custGeom>
              <a:avLst/>
              <a:gdLst>
                <a:gd name="textAreaLeft" fmla="*/ 52560 w 177840"/>
                <a:gd name="textAreaRight" fmla="*/ 178200 w 177840"/>
                <a:gd name="textAreaTop" fmla="*/ 7200 h 179280"/>
                <a:gd name="textAreaBottom" fmla="*/ 1720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83160" y="4092480"/>
              <a:ext cx="109440" cy="204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59160" y="45068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800" spc="-1" strike="noStrike">
                  <a:solidFill>
                    <a:srgbClr val="ffffff"/>
                  </a:solidFill>
                  <a:latin typeface="Arial"/>
                </a:rPr>
                <a:t>50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6200000">
              <a:off x="5420160" y="4530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553000" y="3759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53000" y="3759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912920" y="3759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31760" y="23184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40g=0,04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3400" y="574560"/>
            <a:ext cx="22572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31760" y="1069920"/>
            <a:ext cx="45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50g=0,0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55480" y="138744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773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419640" y="1487520"/>
            <a:ext cx="784080" cy="7840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0672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2548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188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753120" y="4536000"/>
            <a:ext cx="266760" cy="12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885960" y="3763440"/>
            <a:ext cx="144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8596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4588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3371040" y="4521600"/>
            <a:ext cx="26676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503520" y="3749760"/>
            <a:ext cx="180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0352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86344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813200" y="1487520"/>
            <a:ext cx="784440" cy="784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0240" y="371304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9000" y="371304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405400" y="6173640"/>
            <a:ext cx="2928960" cy="23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5426640" y="4536000"/>
            <a:ext cx="266760" cy="12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559480" y="3763440"/>
            <a:ext cx="144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55948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919400" y="3763800"/>
            <a:ext cx="639720" cy="12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8044560" y="4521600"/>
            <a:ext cx="26676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8177040" y="3749760"/>
            <a:ext cx="180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177040" y="3749760"/>
            <a:ext cx="64008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7536960" y="374976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31760" y="23184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40g=0,04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63400" y="574560"/>
            <a:ext cx="22572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31760" y="1069920"/>
            <a:ext cx="45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50g=0,0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5480" y="138744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805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419640" y="1487520"/>
            <a:ext cx="784080" cy="7840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813200" y="1487520"/>
            <a:ext cx="784440" cy="784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1760" y="23184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40g=0,04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63400" y="574560"/>
            <a:ext cx="22572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1760" y="1069920"/>
            <a:ext cx="45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50g=0,0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55480" y="138744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403280" y="3141720"/>
            <a:ext cx="2521080" cy="30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52680" y="49370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51120" y="5373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51120" y="602136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51120" y="580536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51120" y="5589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51120" y="5373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51120" y="515772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51120" y="4941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51120" y="472608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51120" y="451008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51120" y="429408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51120" y="40784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51120" y="386244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354480" y="387180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116000" y="6236640"/>
            <a:ext cx="3095640" cy="360360"/>
          </a:xfrm>
          <a:custGeom>
            <a:avLst/>
            <a:gdLst>
              <a:gd name="textAreaLeft" fmla="*/ 413280 w 3095640"/>
              <a:gd name="textAreaRight" fmla="*/ 2682360 w 3095640"/>
              <a:gd name="textAreaTop" fmla="*/ 47880 h 360360"/>
              <a:gd name="textAreaBottom" fmla="*/ 312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7" y="21600"/>
                </a:lnTo>
                <a:lnTo>
                  <a:pt x="2043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095640" y="3284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03280" y="5157720"/>
            <a:ext cx="2521080" cy="10796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3137040"/>
            <a:ext cx="2520720" cy="30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97760" y="4932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95840" y="536904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595840" y="601668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595840" y="580068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595840" y="558468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595840" y="536904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95840" y="51530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595840" y="493704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95840" y="472140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95840" y="450540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95840" y="428940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95840" y="407340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95840" y="385776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099200" y="38671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861080" y="6231960"/>
            <a:ext cx="3095640" cy="360360"/>
          </a:xfrm>
          <a:custGeom>
            <a:avLst/>
            <a:gdLst>
              <a:gd name="textAreaLeft" fmla="*/ 413280 w 3095640"/>
              <a:gd name="textAreaRight" fmla="*/ 2682360 w 3095640"/>
              <a:gd name="textAreaTop" fmla="*/ 47880 h 360360"/>
              <a:gd name="textAreaBottom" fmla="*/ 312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7" y="21600"/>
                </a:lnTo>
                <a:lnTo>
                  <a:pt x="2043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840360" y="327960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48360" y="5153040"/>
            <a:ext cx="2520720" cy="10796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85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3419640" y="1487520"/>
            <a:ext cx="784080" cy="7840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813200" y="1487520"/>
            <a:ext cx="784440" cy="78408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1760" y="23184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40g=0,04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63400" y="574560"/>
            <a:ext cx="22572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31760" y="1069920"/>
            <a:ext cx="45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50g=0,0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5480" y="138744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03280" y="3141720"/>
            <a:ext cx="2521080" cy="30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352680" y="49370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51120" y="5373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851120" y="602136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851120" y="580536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851120" y="5589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851120" y="5373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851120" y="515772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851120" y="494172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51120" y="472608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51120" y="451008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51120" y="429408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51120" y="40784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51120" y="3862440"/>
            <a:ext cx="113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354480" y="387180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116000" y="6236640"/>
            <a:ext cx="3095640" cy="360360"/>
          </a:xfrm>
          <a:custGeom>
            <a:avLst/>
            <a:gdLst>
              <a:gd name="textAreaLeft" fmla="*/ 413280 w 3095640"/>
              <a:gd name="textAreaRight" fmla="*/ 2682360 w 3095640"/>
              <a:gd name="textAreaTop" fmla="*/ 47880 h 360360"/>
              <a:gd name="textAreaBottom" fmla="*/ 312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7" y="21600"/>
                </a:lnTo>
                <a:lnTo>
                  <a:pt x="2043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095640" y="3284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5157720"/>
            <a:ext cx="2521080" cy="10796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48360" y="3137040"/>
            <a:ext cx="2520720" cy="30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097760" y="4932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595840" y="536904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595840" y="601668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595840" y="580068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595840" y="558468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95840" y="536904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595840" y="51530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595840" y="493704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595840" y="472140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595840" y="450540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95840" y="428940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595840" y="407340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95840" y="3857760"/>
            <a:ext cx="113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099200" y="38671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861080" y="6231960"/>
            <a:ext cx="3095640" cy="360360"/>
          </a:xfrm>
          <a:custGeom>
            <a:avLst/>
            <a:gdLst>
              <a:gd name="textAreaLeft" fmla="*/ 413280 w 3095640"/>
              <a:gd name="textAreaRight" fmla="*/ 2682360 w 3095640"/>
              <a:gd name="textAreaTop" fmla="*/ 47880 h 360360"/>
              <a:gd name="textAreaBottom" fmla="*/ 312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7" y="21600"/>
                </a:lnTo>
                <a:lnTo>
                  <a:pt x="2043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840360" y="327960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5151600"/>
            <a:ext cx="2520720" cy="10810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405080" y="4722840"/>
            <a:ext cx="2519280" cy="4348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148360" y="4718160"/>
            <a:ext cx="2519280" cy="4348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72000" y="231840"/>
            <a:ext cx="41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   = 2 l = 2</a:t>
            </a:r>
            <a:r>
              <a:rPr b="1" lang="lv-LV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83160" y="1082520"/>
            <a:ext cx="40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   = 2 l = 2</a:t>
            </a:r>
            <a:r>
              <a:rPr b="1" lang="lv-LV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889520" y="547560"/>
            <a:ext cx="22536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881600" y="139536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903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87694E-006 C -0.01406 0.00509 -0.02969 0.00209 -0.0441 0.00625 C -0.05174 0.0118 -0.06302 0.02221 -0.06632 0.03262 C -0.06875 0.04187 -0.0724 0.05182 -0.07986 0.0546 C -0.0816 0.05783 -0.08333 0.06107 -0.08542 0.06408 C -0.08715 0.06778 -0.0934 0.07125 -0.0934 0.07148 C -0.09549 0.07935 -0.09913 0.08606 -0.10295 0.09299 C -0.10399 0.09646 -0.10417 0.10132 -0.1059 0.10479 C -0.10694 0.10664 -0.10868 0.10757 -0.11007 0.10965 C -0.11319 0.11566 -0.11667 0.12469 -0.11823 0.13139 C -0.11944 0.14458 -0.11823 0.15036 -0.12344 0.15962 C -0.12621 0.19917 -0.12274 0.24729 -0.13056 0.28522 C -0.13194 0.29239 -0.13507 0.29795 -0.13611 0.30512 C -0.13715 0.31182 -0.13871 0.32501 -0.13871 0.32524 C -0.13785 0.37636 -0.13681 0.42725 -0.13316 0.47884 C -0.13542 0.50891 -0.13767 0.53204 -0.13611 0.56234 C -0.13906 0.56859 -0.13854 0.56928 -0.13611 0.57622 E">
                                      <p:cBhvr>
                                        <p:cTn id="721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7516E-006 C 0.01285 0.00116 0.01649 -0.00116 0.02517 0.00648 C 0.02795 0.01203 0.03021 0.01388 0.0349 0.01596 C 0.03733 0.0192 0.04167 0.0266 0.04566 0.02892 C 0.04792 0.0303 0.05295 0.03215 0.05295 0.03215 C 0.05677 0.03886 0.05885 0.03863 0.06372 0.04326 C 0.07205 0.05991 0.05833 0.03377 0.07101 0.05297 C 0.07813 0.06384 0.07083 0.05945 0.0783 0.06269 C 0.08628 0.07772 0.09358 0.0923 0.10122 0.10756 C 0.10278 0.1152 0.10764 0.12584 0.11198 0.13162 C 0.11563 0.14619 0.12118 0.15822 0.12639 0.17164 C 0.12778 0.18922 0.13212 0.20541 0.13368 0.22322 C 0.1349 0.26533 0.13559 0.30257 0.13368 0.34513 C 0.13438 0.39417 0.13403 0.43442 0.13125 0.48161 C 0.13385 0.52764 0.13247 0.50937 0.1349 0.5362 C 0.13281 0.55147 0.13368 0.55933 0.13368 0.5746 E">
                                      <p:cBhvr>
                                        <p:cTn id="72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4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31760" y="23184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40g=0,04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63400" y="574560"/>
            <a:ext cx="22572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31760" y="1069920"/>
            <a:ext cx="45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m   =50g=0,0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55480" y="138744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0" y="231840"/>
            <a:ext cx="41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   = 2 l = 2</a:t>
            </a:r>
            <a:r>
              <a:rPr b="1" lang="lv-LV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583160" y="1082520"/>
            <a:ext cx="40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   = 2 l = 2</a:t>
            </a:r>
            <a:r>
              <a:rPr b="1" lang="lv-LV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89520" y="547560"/>
            <a:ext cx="225360" cy="225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881600" y="139536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93760" y="2662200"/>
            <a:ext cx="14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lv-LV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81120" y="3346560"/>
            <a:ext cx="225360" cy="225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98680" y="3139920"/>
            <a:ext cx="132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74800" y="23184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0000"/>
                </a:solidFill>
                <a:latin typeface="Arial"/>
              </a:rPr>
              <a:t>0,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213600" y="231840"/>
            <a:ext cx="111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lv-LV" sz="28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lv-LV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lv-LV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00520" y="2668680"/>
            <a:ext cx="67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68520" y="2806560"/>
            <a:ext cx="34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kg/m</a:t>
            </a:r>
            <a:r>
              <a:rPr b="1" lang="lv-LV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99880" y="4513320"/>
            <a:ext cx="14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lv-LV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504800" y="4991040"/>
            <a:ext cx="132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906640" y="4519440"/>
            <a:ext cx="67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375000" y="4657680"/>
            <a:ext cx="34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 kg/m</a:t>
            </a:r>
            <a:r>
              <a:rPr b="1" lang="lv-LV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16040" y="5232240"/>
            <a:ext cx="236520" cy="2365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771560" y="106848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0000"/>
                </a:solidFill>
                <a:latin typeface="Arial"/>
              </a:rPr>
              <a:t>0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229440" y="1085760"/>
            <a:ext cx="111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lv-LV" sz="28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lv-LV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lv-LV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2021040" y="1573200"/>
            <a:ext cx="5521320" cy="4474080"/>
            <a:chOff x="2021040" y="1573200"/>
            <a:chExt cx="5521320" cy="4474080"/>
          </a:xfrm>
        </p:grpSpPr>
        <p:sp>
          <p:nvSpPr>
            <p:cNvPr id="929" name=""/>
            <p:cNvSpPr/>
            <p:nvPr/>
          </p:nvSpPr>
          <p:spPr>
            <a:xfrm>
              <a:off x="2021040" y="2368440"/>
              <a:ext cx="17175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ρ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98680" y="3125880"/>
              <a:ext cx="88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8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46640" y="3787920"/>
              <a:ext cx="3195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997520" y="1573200"/>
              <a:ext cx="21700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5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140440" y="3667320"/>
              <a:ext cx="17841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5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935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5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982E-006 L -0.00608 0.34582 E">
                                      <p:cBhvr>
                                        <p:cTn id="998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-0.50313 0.42523 E">
                                      <p:cBhvr>
                                        <p:cTn id="1006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00417 0.49629 E">
                                      <p:cBhvr>
                                        <p:cTn id="1045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-0.50243 0.57107 E">
                                      <p:cBhvr>
                                        <p:cTn id="1053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884240" y="600120"/>
            <a:ext cx="5388120" cy="4659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238560" y="2930400"/>
            <a:ext cx="267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83160" y="2930400"/>
            <a:ext cx="0" cy="233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1" action="ppaction://hlinksldjump"/>
          </p:cNvPr>
          <p:cNvSpPr/>
          <p:nvPr/>
        </p:nvSpPr>
        <p:spPr>
          <a:xfrm>
            <a:off x="3249720" y="3160800"/>
            <a:ext cx="90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" action="ppaction://hlinksldjump"/>
          </p:cNvPr>
          <p:cNvSpPr/>
          <p:nvPr/>
        </p:nvSpPr>
        <p:spPr>
          <a:xfrm>
            <a:off x="4000680" y="1208160"/>
            <a:ext cx="13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3" action="ppaction://hlinksldjump"/>
          </p:cNvPr>
          <p:cNvSpPr/>
          <p:nvPr/>
        </p:nvSpPr>
        <p:spPr>
          <a:xfrm>
            <a:off x="4944960" y="3390840"/>
            <a:ext cx="121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rId4" action="ppaction://hlinksldjump"/>
          </p:cNvPr>
          <p:cNvSpPr/>
          <p:nvPr/>
        </p:nvSpPr>
        <p:spPr>
          <a:xfrm>
            <a:off x="8097840" y="6002280"/>
            <a:ext cx="792000" cy="47484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36016" h="21600">
                <a:moveTo>
                  <a:pt x="0" y="0"/>
                </a:moveTo>
                <a:lnTo>
                  <a:pt x="36016" y="0"/>
                </a:lnTo>
                <a:lnTo>
                  <a:pt x="36016" y="21600"/>
                </a:lnTo>
                <a:lnTo>
                  <a:pt x="0" y="21600"/>
                </a:lnTo>
                <a:close/>
              </a:path>
              <a:path fill="lightenLess" w="36016" h="21600">
                <a:moveTo>
                  <a:pt x="0" y="0"/>
                </a:moveTo>
                <a:lnTo>
                  <a:pt x="36016" y="0"/>
                </a:lnTo>
                <a:lnTo>
                  <a:pt x="34616" y="1400"/>
                </a:lnTo>
                <a:lnTo>
                  <a:pt x="1400" y="1400"/>
                </a:lnTo>
                <a:close/>
              </a:path>
              <a:path fill="darken" w="36016" h="21600">
                <a:moveTo>
                  <a:pt x="36016" y="0"/>
                </a:moveTo>
                <a:lnTo>
                  <a:pt x="36016" y="21600"/>
                </a:lnTo>
                <a:lnTo>
                  <a:pt x="34616" y="20200"/>
                </a:lnTo>
                <a:lnTo>
                  <a:pt x="34616" y="1400"/>
                </a:lnTo>
                <a:close/>
              </a:path>
              <a:path fill="darkenLess" w="36016" h="21600">
                <a:moveTo>
                  <a:pt x="3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6" y="20200"/>
                </a:lnTo>
                <a:close/>
              </a:path>
              <a:path fill="lighten" w="3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6" h="21600">
                <a:moveTo>
                  <a:pt x="11002" y="3794"/>
                </a:moveTo>
                <a:lnTo>
                  <a:pt x="25015" y="10800"/>
                </a:lnTo>
                <a:lnTo>
                  <a:pt x="110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946" name="Picture 10" descr=""/>
            <p:cNvPicPr/>
            <p:nvPr/>
          </p:nvPicPr>
          <p:blipFill>
            <a:blip r:embed="rId5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57320" y="954000"/>
            <a:ext cx="784080" cy="7844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6120" y="1055520"/>
            <a:ext cx="693720" cy="69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2880" y="367524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2920" y="3726000"/>
            <a:ext cx="1281600" cy="1545840"/>
            <a:chOff x="232920" y="3726000"/>
            <a:chExt cx="1281600" cy="1545840"/>
          </a:xfrm>
        </p:grpSpPr>
        <p:sp>
          <p:nvSpPr>
            <p:cNvPr id="66" name=""/>
            <p:cNvSpPr/>
            <p:nvPr/>
          </p:nvSpPr>
          <p:spPr>
            <a:xfrm rot="16200000">
              <a:off x="740520" y="44978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73000" y="37260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3000" y="37260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32920" y="37260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850840" y="3711600"/>
            <a:ext cx="1281600" cy="1545840"/>
            <a:chOff x="2850840" y="3711600"/>
            <a:chExt cx="1281600" cy="1545840"/>
          </a:xfrm>
        </p:grpSpPr>
        <p:sp>
          <p:nvSpPr>
            <p:cNvPr id="71" name=""/>
            <p:cNvSpPr/>
            <p:nvPr/>
          </p:nvSpPr>
          <p:spPr>
            <a:xfrm rot="16200000">
              <a:off x="3358440" y="44834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490920" y="371160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0920" y="3711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850840" y="3711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043240" y="3732120"/>
            <a:ext cx="1281240" cy="1545840"/>
            <a:chOff x="5043240" y="3732120"/>
            <a:chExt cx="1281240" cy="1545840"/>
          </a:xfrm>
        </p:grpSpPr>
        <p:sp>
          <p:nvSpPr>
            <p:cNvPr id="79" name=""/>
            <p:cNvSpPr/>
            <p:nvPr/>
          </p:nvSpPr>
          <p:spPr>
            <a:xfrm rot="16200000">
              <a:off x="5550480" y="4503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683320" y="3732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332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04324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660800" y="3718080"/>
            <a:ext cx="1281600" cy="1545840"/>
            <a:chOff x="7660800" y="3718080"/>
            <a:chExt cx="1281600" cy="1545840"/>
          </a:xfrm>
        </p:grpSpPr>
        <p:sp>
          <p:nvSpPr>
            <p:cNvPr id="84" name=""/>
            <p:cNvSpPr/>
            <p:nvPr/>
          </p:nvSpPr>
          <p:spPr>
            <a:xfrm rot="16200000">
              <a:off x="8168400" y="44899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300880" y="37180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00880" y="371808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660800" y="37180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451240" y="954000"/>
            <a:ext cx="784080" cy="784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30280" y="6245280"/>
            <a:ext cx="5220000" cy="579240"/>
            <a:chOff x="2330280" y="6245280"/>
            <a:chExt cx="5220000" cy="579240"/>
          </a:xfrm>
        </p:grpSpPr>
        <p:pic>
          <p:nvPicPr>
            <p:cNvPr id="90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4528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029120" y="627840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56040" y="6278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227E-008 L -0.06511 0.50497 E"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84240" y="600120"/>
            <a:ext cx="5388120" cy="4659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38560" y="2930400"/>
            <a:ext cx="267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83160" y="2930400"/>
            <a:ext cx="0" cy="233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249720" y="3160800"/>
            <a:ext cx="90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00680" y="1208160"/>
            <a:ext cx="13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44960" y="3390840"/>
            <a:ext cx="121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8131320" y="6135840"/>
            <a:ext cx="780840" cy="430200"/>
          </a:xfrm>
          <a:custGeom>
            <a:avLst/>
            <a:gdLst>
              <a:gd name="textAreaLeft" fmla="*/ 27720 w 780840"/>
              <a:gd name="textAreaRight" fmla="*/ 753120 w 7808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9191" h="21600">
                <a:moveTo>
                  <a:pt x="0" y="0"/>
                </a:moveTo>
                <a:lnTo>
                  <a:pt x="39191" y="0"/>
                </a:lnTo>
                <a:lnTo>
                  <a:pt x="39191" y="21600"/>
                </a:lnTo>
                <a:lnTo>
                  <a:pt x="0" y="21600"/>
                </a:lnTo>
                <a:close/>
              </a:path>
              <a:path fill="lightenLess" w="39191" h="21600">
                <a:moveTo>
                  <a:pt x="0" y="0"/>
                </a:moveTo>
                <a:lnTo>
                  <a:pt x="39191" y="0"/>
                </a:lnTo>
                <a:lnTo>
                  <a:pt x="37791" y="1400"/>
                </a:lnTo>
                <a:lnTo>
                  <a:pt x="1400" y="1400"/>
                </a:lnTo>
                <a:close/>
              </a:path>
              <a:path fill="darken" w="39191" h="21600">
                <a:moveTo>
                  <a:pt x="39191" y="0"/>
                </a:moveTo>
                <a:lnTo>
                  <a:pt x="39191" y="21600"/>
                </a:lnTo>
                <a:lnTo>
                  <a:pt x="37791" y="20200"/>
                </a:lnTo>
                <a:lnTo>
                  <a:pt x="37791" y="1400"/>
                </a:lnTo>
                <a:close/>
              </a:path>
              <a:path fill="darkenLess" w="39191" h="21600">
                <a:moveTo>
                  <a:pt x="39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91" y="20200"/>
                </a:lnTo>
                <a:close/>
              </a:path>
              <a:path fill="lighten" w="39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91" h="21600">
                <a:moveTo>
                  <a:pt x="12589" y="7493"/>
                </a:moveTo>
                <a:lnTo>
                  <a:pt x="16096" y="7493"/>
                </a:lnTo>
                <a:lnTo>
                  <a:pt x="16096" y="12828"/>
                </a:lnTo>
                <a:cubicBezTo>
                  <a:pt x="16096" y="13751"/>
                  <a:pt x="16897" y="14482"/>
                  <a:pt x="17933" y="14482"/>
                </a:cubicBezTo>
                <a:lnTo>
                  <a:pt x="19595" y="14482"/>
                </a:lnTo>
                <a:cubicBezTo>
                  <a:pt x="20631" y="14482"/>
                  <a:pt x="21432" y="13751"/>
                  <a:pt x="21432" y="12828"/>
                </a:cubicBezTo>
                <a:lnTo>
                  <a:pt x="21432" y="7493"/>
                </a:lnTo>
                <a:lnTo>
                  <a:pt x="19595" y="7493"/>
                </a:lnTo>
                <a:lnTo>
                  <a:pt x="23103" y="3985"/>
                </a:lnTo>
                <a:lnTo>
                  <a:pt x="26776" y="7493"/>
                </a:lnTo>
                <a:lnTo>
                  <a:pt x="24939" y="7493"/>
                </a:lnTo>
                <a:lnTo>
                  <a:pt x="24939" y="12828"/>
                </a:lnTo>
                <a:cubicBezTo>
                  <a:pt x="24939" y="15596"/>
                  <a:pt x="22363" y="18155"/>
                  <a:pt x="19595" y="18155"/>
                </a:cubicBezTo>
                <a:lnTo>
                  <a:pt x="17933" y="18155"/>
                </a:lnTo>
                <a:cubicBezTo>
                  <a:pt x="15165" y="18155"/>
                  <a:pt x="12589" y="15596"/>
                  <a:pt x="1258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616200" y="3505320"/>
            <a:ext cx="96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958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37335E-006 L -0.16736 0.31807 E">
                                      <p:cBhvr>
                                        <p:cTn id="1083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9098E-006 L 0.13611 0.02244 E">
                                      <p:cBhvr>
                                        <p:cTn id="1090" dur="2000" fill="hold"/>
                                        <p:tgtEl>
                                          <p:spTgt spid="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6889E-006 L 0.04219 0.00648 E">
                                      <p:cBhvr>
                                        <p:cTn id="1092" dur="2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884240" y="600120"/>
            <a:ext cx="5388120" cy="4659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238560" y="2930400"/>
            <a:ext cx="267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83160" y="2930400"/>
            <a:ext cx="0" cy="233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49720" y="3160800"/>
            <a:ext cx="90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00680" y="1208160"/>
            <a:ext cx="13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44960" y="3390840"/>
            <a:ext cx="121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>
            <a:hlinkClick r:id="" action="ppaction://hlinkshowjump?jump=previousslide"/>
          </p:cNvPr>
          <p:cNvSpPr/>
          <p:nvPr/>
        </p:nvSpPr>
        <p:spPr>
          <a:xfrm>
            <a:off x="8131320" y="6135840"/>
            <a:ext cx="780840" cy="430200"/>
          </a:xfrm>
          <a:custGeom>
            <a:avLst/>
            <a:gdLst>
              <a:gd name="textAreaLeft" fmla="*/ 27720 w 780840"/>
              <a:gd name="textAreaRight" fmla="*/ 753120 w 7808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9191" h="21600">
                <a:moveTo>
                  <a:pt x="0" y="0"/>
                </a:moveTo>
                <a:lnTo>
                  <a:pt x="39191" y="0"/>
                </a:lnTo>
                <a:lnTo>
                  <a:pt x="39191" y="21600"/>
                </a:lnTo>
                <a:lnTo>
                  <a:pt x="0" y="21600"/>
                </a:lnTo>
                <a:close/>
              </a:path>
              <a:path fill="lightenLess" w="39191" h="21600">
                <a:moveTo>
                  <a:pt x="0" y="0"/>
                </a:moveTo>
                <a:lnTo>
                  <a:pt x="39191" y="0"/>
                </a:lnTo>
                <a:lnTo>
                  <a:pt x="37791" y="1400"/>
                </a:lnTo>
                <a:lnTo>
                  <a:pt x="1400" y="1400"/>
                </a:lnTo>
                <a:close/>
              </a:path>
              <a:path fill="darken" w="39191" h="21600">
                <a:moveTo>
                  <a:pt x="39191" y="0"/>
                </a:moveTo>
                <a:lnTo>
                  <a:pt x="39191" y="21600"/>
                </a:lnTo>
                <a:lnTo>
                  <a:pt x="37791" y="20200"/>
                </a:lnTo>
                <a:lnTo>
                  <a:pt x="37791" y="1400"/>
                </a:lnTo>
                <a:close/>
              </a:path>
              <a:path fill="darkenLess" w="39191" h="21600">
                <a:moveTo>
                  <a:pt x="39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91" y="20200"/>
                </a:lnTo>
                <a:close/>
              </a:path>
              <a:path fill="lighten" w="39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91" h="21600">
                <a:moveTo>
                  <a:pt x="12589" y="7493"/>
                </a:moveTo>
                <a:lnTo>
                  <a:pt x="16096" y="7493"/>
                </a:lnTo>
                <a:lnTo>
                  <a:pt x="16096" y="12828"/>
                </a:lnTo>
                <a:cubicBezTo>
                  <a:pt x="16096" y="13751"/>
                  <a:pt x="16897" y="14482"/>
                  <a:pt x="17933" y="14482"/>
                </a:cubicBezTo>
                <a:lnTo>
                  <a:pt x="19595" y="14482"/>
                </a:lnTo>
                <a:cubicBezTo>
                  <a:pt x="20631" y="14482"/>
                  <a:pt x="21432" y="13751"/>
                  <a:pt x="21432" y="12828"/>
                </a:cubicBezTo>
                <a:lnTo>
                  <a:pt x="21432" y="7493"/>
                </a:lnTo>
                <a:lnTo>
                  <a:pt x="19595" y="7493"/>
                </a:lnTo>
                <a:lnTo>
                  <a:pt x="23103" y="3985"/>
                </a:lnTo>
                <a:lnTo>
                  <a:pt x="26776" y="7493"/>
                </a:lnTo>
                <a:lnTo>
                  <a:pt x="24939" y="7493"/>
                </a:lnTo>
                <a:lnTo>
                  <a:pt x="24939" y="12828"/>
                </a:lnTo>
                <a:cubicBezTo>
                  <a:pt x="24939" y="15596"/>
                  <a:pt x="22363" y="18155"/>
                  <a:pt x="19595" y="18155"/>
                </a:cubicBezTo>
                <a:lnTo>
                  <a:pt x="17933" y="18155"/>
                </a:lnTo>
                <a:cubicBezTo>
                  <a:pt x="15165" y="18155"/>
                  <a:pt x="12589" y="15596"/>
                  <a:pt x="1258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3262320"/>
            <a:ext cx="96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4052880"/>
            <a:ext cx="1652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97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3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9098E-006 L -0.05347 2.99098E-006 E">
                                      <p:cBhvr>
                                        <p:cTn id="1113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6889E-006 L 0.00469 0.07772 E">
                                      <p:cBhvr>
                                        <p:cTn id="1115" dur="2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37335E-006 L 0.09514 0.20611 E">
                                      <p:cBhvr>
                                        <p:cTn id="1117" dur="2000" fill="hold"/>
                                        <p:tgtEl>
                                          <p:spTgt spid="9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1884240" y="600120"/>
            <a:ext cx="5388120" cy="4659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238560" y="2930400"/>
            <a:ext cx="2678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583160" y="2930400"/>
            <a:ext cx="0" cy="233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249720" y="3160800"/>
            <a:ext cx="90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00680" y="1208160"/>
            <a:ext cx="13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44960" y="339084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previousslide"/>
          </p:cNvPr>
          <p:cNvSpPr/>
          <p:nvPr/>
        </p:nvSpPr>
        <p:spPr>
          <a:xfrm>
            <a:off x="8131320" y="6135840"/>
            <a:ext cx="780840" cy="430200"/>
          </a:xfrm>
          <a:custGeom>
            <a:avLst/>
            <a:gdLst>
              <a:gd name="textAreaLeft" fmla="*/ 27720 w 780840"/>
              <a:gd name="textAreaRight" fmla="*/ 753120 w 7808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9191" h="21600">
                <a:moveTo>
                  <a:pt x="0" y="0"/>
                </a:moveTo>
                <a:lnTo>
                  <a:pt x="39191" y="0"/>
                </a:lnTo>
                <a:lnTo>
                  <a:pt x="39191" y="21600"/>
                </a:lnTo>
                <a:lnTo>
                  <a:pt x="0" y="21600"/>
                </a:lnTo>
                <a:close/>
              </a:path>
              <a:path fill="lightenLess" w="39191" h="21600">
                <a:moveTo>
                  <a:pt x="0" y="0"/>
                </a:moveTo>
                <a:lnTo>
                  <a:pt x="39191" y="0"/>
                </a:lnTo>
                <a:lnTo>
                  <a:pt x="37791" y="1400"/>
                </a:lnTo>
                <a:lnTo>
                  <a:pt x="1400" y="1400"/>
                </a:lnTo>
                <a:close/>
              </a:path>
              <a:path fill="darken" w="39191" h="21600">
                <a:moveTo>
                  <a:pt x="39191" y="0"/>
                </a:moveTo>
                <a:lnTo>
                  <a:pt x="39191" y="21600"/>
                </a:lnTo>
                <a:lnTo>
                  <a:pt x="37791" y="20200"/>
                </a:lnTo>
                <a:lnTo>
                  <a:pt x="37791" y="1400"/>
                </a:lnTo>
                <a:close/>
              </a:path>
              <a:path fill="darkenLess" w="39191" h="21600">
                <a:moveTo>
                  <a:pt x="39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91" y="20200"/>
                </a:lnTo>
                <a:close/>
              </a:path>
              <a:path fill="lighten" w="39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91" h="21600">
                <a:moveTo>
                  <a:pt x="12589" y="7493"/>
                </a:moveTo>
                <a:lnTo>
                  <a:pt x="16096" y="7493"/>
                </a:lnTo>
                <a:lnTo>
                  <a:pt x="16096" y="12828"/>
                </a:lnTo>
                <a:cubicBezTo>
                  <a:pt x="16096" y="13751"/>
                  <a:pt x="16897" y="14482"/>
                  <a:pt x="17933" y="14482"/>
                </a:cubicBezTo>
                <a:lnTo>
                  <a:pt x="19595" y="14482"/>
                </a:lnTo>
                <a:cubicBezTo>
                  <a:pt x="20631" y="14482"/>
                  <a:pt x="21432" y="13751"/>
                  <a:pt x="21432" y="12828"/>
                </a:cubicBezTo>
                <a:lnTo>
                  <a:pt x="21432" y="7493"/>
                </a:lnTo>
                <a:lnTo>
                  <a:pt x="19595" y="7493"/>
                </a:lnTo>
                <a:lnTo>
                  <a:pt x="23103" y="3985"/>
                </a:lnTo>
                <a:lnTo>
                  <a:pt x="26776" y="7493"/>
                </a:lnTo>
                <a:lnTo>
                  <a:pt x="24939" y="7493"/>
                </a:lnTo>
                <a:lnTo>
                  <a:pt x="24939" y="12828"/>
                </a:lnTo>
                <a:cubicBezTo>
                  <a:pt x="24939" y="15596"/>
                  <a:pt x="22363" y="18155"/>
                  <a:pt x="19595" y="18155"/>
                </a:cubicBezTo>
                <a:lnTo>
                  <a:pt x="17933" y="18155"/>
                </a:lnTo>
                <a:cubicBezTo>
                  <a:pt x="15165" y="18155"/>
                  <a:pt x="12589" y="15596"/>
                  <a:pt x="1258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4052880"/>
            <a:ext cx="1652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657600" y="3262320"/>
            <a:ext cx="96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984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6889E-006 L -0.23663 1.46889E-006 E">
                                      <p:cBhvr>
                                        <p:cTn id="1133" dur="2000" fill="hold"/>
                                        <p:tgtEl>
                                          <p:spTgt spid="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37335E-006 L 0.0915 0.20472 E">
                                      <p:cBhvr>
                                        <p:cTn id="1135" dur="2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9098E-006 L 0.24549 0.07194 E">
                                      <p:cBhvr>
                                        <p:cTn id="1137" dur="2000" fill="hold"/>
                                        <p:tgtEl>
                                          <p:spTgt spid="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263520" y="28728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zdev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760" y="782640"/>
            <a:ext cx="81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</a:t>
            </a:r>
            <a:r>
              <a:rPr b="1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sas koksnes masa ir 1500 kg. Noteiksim koksnes blīvu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95360" y="186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5360" y="2556000"/>
            <a:ext cx="2401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3 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7680" y="3976560"/>
            <a:ext cx="222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741760" y="1971720"/>
            <a:ext cx="0" cy="306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57680" y="2332080"/>
            <a:ext cx="8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560760" y="1989000"/>
            <a:ext cx="72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67240" y="2622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443480" y="1989000"/>
            <a:ext cx="0" cy="306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692600" y="2305080"/>
            <a:ext cx="8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396040" y="1962000"/>
            <a:ext cx="1090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24480" y="2584440"/>
            <a:ext cx="101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488280" y="22734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0 (kg/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722840" y="3741840"/>
            <a:ext cx="41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ilde: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0 kg/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1003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63520" y="28728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uzdev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4760" y="782640"/>
            <a:ext cx="810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k liels ir ledus gabala tilpu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tā masa 45 k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54080" y="229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54080" y="2967120"/>
            <a:ext cx="268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4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0 kg/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20680" y="4387680"/>
            <a:ext cx="252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741760" y="2382840"/>
            <a:ext cx="0" cy="306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857680" y="2743200"/>
            <a:ext cx="8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560760" y="2400480"/>
            <a:ext cx="72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67240" y="30337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443480" y="2400480"/>
            <a:ext cx="0" cy="30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828880" y="3916440"/>
            <a:ext cx="7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rId1" action="ppaction://hlinksldjump"/>
          </p:cNvPr>
          <p:cNvSpPr/>
          <p:nvPr/>
        </p:nvSpPr>
        <p:spPr>
          <a:xfrm>
            <a:off x="3525840" y="3976560"/>
            <a:ext cx="439560" cy="441360"/>
          </a:xfrm>
          <a:custGeom>
            <a:avLst/>
            <a:gdLst>
              <a:gd name="textAreaLeft" fmla="*/ 28440 w 439560"/>
              <a:gd name="textAreaRight" fmla="*/ 411120 w 439560"/>
              <a:gd name="textAreaTop" fmla="*/ 28440 h 441360"/>
              <a:gd name="textAreaBottom" fmla="*/ 412920 h 441360"/>
            </a:gdLst>
            <a:ahLst/>
            <a:rect l="textAreaLeft" t="textAreaTop" r="textAreaRight" b="textAreaBottom"/>
            <a:pathLst>
              <a:path w="21600" h="21688">
                <a:moveTo>
                  <a:pt x="0" y="0"/>
                </a:moveTo>
                <a:lnTo>
                  <a:pt x="21600" y="0"/>
                </a:lnTo>
                <a:lnTo>
                  <a:pt x="21600" y="21688"/>
                </a:lnTo>
                <a:lnTo>
                  <a:pt x="0" y="21688"/>
                </a:lnTo>
                <a:close/>
              </a:path>
              <a:path fill="lightenLess" w="21600" h="21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8">
                <a:moveTo>
                  <a:pt x="21600" y="0"/>
                </a:moveTo>
                <a:lnTo>
                  <a:pt x="21600" y="21688"/>
                </a:lnTo>
                <a:lnTo>
                  <a:pt x="20200" y="20288"/>
                </a:lnTo>
                <a:lnTo>
                  <a:pt x="20200" y="1400"/>
                </a:lnTo>
                <a:close/>
              </a:path>
              <a:path fill="darkenLess" w="21600" h="21688">
                <a:moveTo>
                  <a:pt x="21600" y="21688"/>
                </a:moveTo>
                <a:lnTo>
                  <a:pt x="0" y="21688"/>
                </a:lnTo>
                <a:lnTo>
                  <a:pt x="1400" y="20288"/>
                </a:lnTo>
                <a:lnTo>
                  <a:pt x="20200" y="20288"/>
                </a:lnTo>
                <a:close/>
              </a:path>
              <a:path fill="lighten" w="21600" h="21688">
                <a:moveTo>
                  <a:pt x="0" y="21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8"/>
                </a:lnTo>
                <a:close/>
              </a:path>
              <a:path fill="darken" w="21600" h="21688">
                <a:moveTo>
                  <a:pt x="10800" y="383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8">
                <a:moveTo>
                  <a:pt x="10800" y="421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8">
                <a:moveTo>
                  <a:pt x="8224" y="8268"/>
                </a:moveTo>
                <a:lnTo>
                  <a:pt x="12088" y="8268"/>
                </a:lnTo>
                <a:lnTo>
                  <a:pt x="12088" y="15266"/>
                </a:lnTo>
                <a:lnTo>
                  <a:pt x="13376" y="15266"/>
                </a:lnTo>
                <a:lnTo>
                  <a:pt x="13376" y="16188"/>
                </a:lnTo>
                <a:lnTo>
                  <a:pt x="8224" y="16188"/>
                </a:lnTo>
                <a:lnTo>
                  <a:pt x="8224" y="15266"/>
                </a:lnTo>
                <a:lnTo>
                  <a:pt x="9512" y="15266"/>
                </a:lnTo>
                <a:lnTo>
                  <a:pt x="9512" y="9173"/>
                </a:lnTo>
                <a:lnTo>
                  <a:pt x="8224" y="917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1019" name="Picture 10" descr=""/>
            <p:cNvPicPr/>
            <p:nvPr/>
          </p:nvPicPr>
          <p:blipFill>
            <a:blip r:embed="rId2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263520" y="28728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uzdev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4760" y="782640"/>
            <a:ext cx="810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k liels ir ledus gabala tilpu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tā masa 45 k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54080" y="229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54080" y="2967120"/>
            <a:ext cx="268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4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0 kg/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20680" y="4387680"/>
            <a:ext cx="252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741760" y="2382840"/>
            <a:ext cx="0" cy="306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857680" y="2743200"/>
            <a:ext cx="8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560760" y="2400480"/>
            <a:ext cx="72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567240" y="30337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443480" y="2400480"/>
            <a:ext cx="0" cy="30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03680" y="2716200"/>
            <a:ext cx="10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73640" y="2373480"/>
            <a:ext cx="12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424480" y="2995560"/>
            <a:ext cx="101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88280" y="26845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5 (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722840" y="4152960"/>
            <a:ext cx="41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ilde:  V = 0,05 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828880" y="3916440"/>
            <a:ext cx="7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79680" y="3497400"/>
            <a:ext cx="72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519360" y="4186080"/>
            <a:ext cx="5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1041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263520" y="28728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zdev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74760" y="782640"/>
            <a:ext cx="81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sa balona tilpums ir 60 m</a:t>
            </a:r>
            <a:r>
              <a:rPr b="1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ik kilogramu hēlija nepieciešams, lai to piepildī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95360" y="186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2556000"/>
            <a:ext cx="289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60 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18 kg/m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31760" y="3976560"/>
            <a:ext cx="26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741760" y="1971720"/>
            <a:ext cx="0" cy="306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857680" y="2332080"/>
            <a:ext cx="8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560760" y="1989000"/>
            <a:ext cx="72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567240" y="2622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84680" y="1978200"/>
            <a:ext cx="0" cy="30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92600" y="230508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0,18 </a:t>
            </a:r>
            <a:r>
              <a:rPr b="0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996240" y="230508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,8 (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22840" y="3741840"/>
            <a:ext cx="41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ilde:  m = 1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806560" y="3514680"/>
            <a:ext cx="180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1059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263520" y="54000"/>
            <a:ext cx="24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Uzdevum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85920" y="781200"/>
            <a:ext cx="81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bs izgatavots no vielas, kuras blīvums ir 2700 kg/m</a:t>
            </a:r>
            <a:r>
              <a:rPr b="1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uba virsmas laukums 150 cm</a:t>
            </a:r>
            <a:r>
              <a:rPr b="1" lang="lv-LV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ik liela ir kuba m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1065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66120" y="1055520"/>
            <a:ext cx="693720" cy="69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2880" y="367524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32920" y="3726000"/>
            <a:ext cx="1281600" cy="1545840"/>
            <a:chOff x="232920" y="3726000"/>
            <a:chExt cx="1281600" cy="1545840"/>
          </a:xfrm>
        </p:grpSpPr>
        <p:sp>
          <p:nvSpPr>
            <p:cNvPr id="99" name=""/>
            <p:cNvSpPr/>
            <p:nvPr/>
          </p:nvSpPr>
          <p:spPr>
            <a:xfrm>
              <a:off x="450720" y="439092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740520" y="44978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73000" y="37260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3000" y="37260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2920" y="37260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50840" y="3711600"/>
            <a:ext cx="1281600" cy="1545840"/>
            <a:chOff x="2850840" y="3711600"/>
            <a:chExt cx="1281600" cy="1545840"/>
          </a:xfrm>
        </p:grpSpPr>
        <p:sp>
          <p:nvSpPr>
            <p:cNvPr id="105" name=""/>
            <p:cNvSpPr/>
            <p:nvPr/>
          </p:nvSpPr>
          <p:spPr>
            <a:xfrm rot="16200000">
              <a:off x="3358440" y="44834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490920" y="371160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0920" y="3711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850840" y="3711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43240" y="3732120"/>
            <a:ext cx="1281240" cy="1545840"/>
            <a:chOff x="5043240" y="3732120"/>
            <a:chExt cx="1281240" cy="1545840"/>
          </a:xfrm>
        </p:grpSpPr>
        <p:sp>
          <p:nvSpPr>
            <p:cNvPr id="113" name=""/>
            <p:cNvSpPr/>
            <p:nvPr/>
          </p:nvSpPr>
          <p:spPr>
            <a:xfrm rot="16200000">
              <a:off x="5550480" y="4503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683320" y="3732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8332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04324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60800" y="3718080"/>
            <a:ext cx="1281600" cy="1545840"/>
            <a:chOff x="7660800" y="3718080"/>
            <a:chExt cx="1281600" cy="1545840"/>
          </a:xfrm>
        </p:grpSpPr>
        <p:sp>
          <p:nvSpPr>
            <p:cNvPr id="118" name=""/>
            <p:cNvSpPr/>
            <p:nvPr/>
          </p:nvSpPr>
          <p:spPr>
            <a:xfrm rot="16200000">
              <a:off x="8168400" y="44899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300880" y="37180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00880" y="371808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60800" y="37180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51240" y="954000"/>
            <a:ext cx="784080" cy="784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30280" y="6245280"/>
            <a:ext cx="5220000" cy="579240"/>
            <a:chOff x="2330280" y="6245280"/>
            <a:chExt cx="5220000" cy="579240"/>
          </a:xfrm>
        </p:grpSpPr>
        <p:pic>
          <p:nvPicPr>
            <p:cNvPr id="124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4528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029120" y="627840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6040" y="6278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48148E-006 L 0.00746 0.06805 E">
                                      <p:cBhvr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0.00694 -0.06575 E">
                                      <p:cBhvr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51240" y="954000"/>
            <a:ext cx="784080" cy="784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66120" y="1055520"/>
            <a:ext cx="693720" cy="69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400000">
            <a:off x="81288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9240" y="4165560"/>
            <a:ext cx="1281600" cy="1545840"/>
            <a:chOff x="309240" y="4165560"/>
            <a:chExt cx="1281600" cy="1545840"/>
          </a:xfrm>
        </p:grpSpPr>
        <p:sp>
          <p:nvSpPr>
            <p:cNvPr id="134" name=""/>
            <p:cNvSpPr/>
            <p:nvPr/>
          </p:nvSpPr>
          <p:spPr>
            <a:xfrm>
              <a:off x="527040" y="483048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816840" y="49374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49320" y="41655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49320" y="41655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240" y="41655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95760" y="3271680"/>
            <a:ext cx="1280880" cy="1545840"/>
            <a:chOff x="2795760" y="3271680"/>
            <a:chExt cx="1280880" cy="1545840"/>
          </a:xfrm>
        </p:grpSpPr>
        <p:sp>
          <p:nvSpPr>
            <p:cNvPr id="140" name=""/>
            <p:cNvSpPr/>
            <p:nvPr/>
          </p:nvSpPr>
          <p:spPr>
            <a:xfrm rot="16200000">
              <a:off x="3302640" y="404352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35120" y="3271680"/>
              <a:ext cx="108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120" y="327168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795760" y="3271680"/>
              <a:ext cx="63936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43240" y="3732120"/>
            <a:ext cx="1281240" cy="1545840"/>
            <a:chOff x="5043240" y="3732120"/>
            <a:chExt cx="1281240" cy="1545840"/>
          </a:xfrm>
        </p:grpSpPr>
        <p:sp>
          <p:nvSpPr>
            <p:cNvPr id="148" name=""/>
            <p:cNvSpPr/>
            <p:nvPr/>
          </p:nvSpPr>
          <p:spPr>
            <a:xfrm rot="16200000">
              <a:off x="5550480" y="4503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83320" y="3732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332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04324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60800" y="3718080"/>
            <a:ext cx="1281600" cy="1545840"/>
            <a:chOff x="7660800" y="3718080"/>
            <a:chExt cx="1281600" cy="1545840"/>
          </a:xfrm>
        </p:grpSpPr>
        <p:sp>
          <p:nvSpPr>
            <p:cNvPr id="153" name=""/>
            <p:cNvSpPr/>
            <p:nvPr/>
          </p:nvSpPr>
          <p:spPr>
            <a:xfrm rot="16200000">
              <a:off x="8168400" y="44899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300880" y="37180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00880" y="371808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660800" y="37180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330280" y="6245280"/>
            <a:ext cx="5220000" cy="579240"/>
            <a:chOff x="2330280" y="6245280"/>
            <a:chExt cx="5220000" cy="579240"/>
          </a:xfrm>
        </p:grpSpPr>
        <p:pic>
          <p:nvPicPr>
            <p:cNvPr id="158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4528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029120" y="627840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56040" y="6278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227E-008 L 0.06632 0.44229 E">
                                      <p:cBhvr>
                                        <p:cTn id="2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66120" y="1055520"/>
            <a:ext cx="693720" cy="69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400000">
            <a:off x="81288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9240" y="4165560"/>
            <a:ext cx="1281600" cy="1545840"/>
            <a:chOff x="309240" y="4165560"/>
            <a:chExt cx="1281600" cy="1545840"/>
          </a:xfrm>
        </p:grpSpPr>
        <p:sp>
          <p:nvSpPr>
            <p:cNvPr id="167" name=""/>
            <p:cNvSpPr/>
            <p:nvPr/>
          </p:nvSpPr>
          <p:spPr>
            <a:xfrm>
              <a:off x="527040" y="483048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816840" y="493740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949320" y="416556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41655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09240" y="416556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95400" y="3271320"/>
            <a:ext cx="1281240" cy="1546560"/>
            <a:chOff x="2795400" y="3271320"/>
            <a:chExt cx="1281240" cy="1546560"/>
          </a:xfrm>
        </p:grpSpPr>
        <p:sp>
          <p:nvSpPr>
            <p:cNvPr id="173" name=""/>
            <p:cNvSpPr/>
            <p:nvPr/>
          </p:nvSpPr>
          <p:spPr>
            <a:xfrm>
              <a:off x="3046320" y="397188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3302640" y="404388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435480" y="3271320"/>
              <a:ext cx="144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35480" y="327168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795400" y="3271680"/>
              <a:ext cx="63972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043240" y="3732120"/>
            <a:ext cx="1281240" cy="1545840"/>
            <a:chOff x="5043240" y="3732120"/>
            <a:chExt cx="1281240" cy="1545840"/>
          </a:xfrm>
        </p:grpSpPr>
        <p:sp>
          <p:nvSpPr>
            <p:cNvPr id="182" name=""/>
            <p:cNvSpPr/>
            <p:nvPr/>
          </p:nvSpPr>
          <p:spPr>
            <a:xfrm rot="16200000">
              <a:off x="5550480" y="4503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683320" y="3732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8332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04324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660800" y="3718080"/>
            <a:ext cx="1281600" cy="1545840"/>
            <a:chOff x="7660800" y="3718080"/>
            <a:chExt cx="1281600" cy="1545840"/>
          </a:xfrm>
        </p:grpSpPr>
        <p:sp>
          <p:nvSpPr>
            <p:cNvPr id="187" name=""/>
            <p:cNvSpPr/>
            <p:nvPr/>
          </p:nvSpPr>
          <p:spPr>
            <a:xfrm rot="16200000">
              <a:off x="8168400" y="44899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300880" y="37180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00880" y="371808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660800" y="37180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192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8.60514E-007 L -0.00069 -0.12908 E">
                                      <p:cBhvr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9456E-006 L -4.44444E-006 0.13439 E">
                                      <p:cBhvr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566120" y="1055520"/>
            <a:ext cx="693720" cy="69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201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207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43240" y="3732120"/>
            <a:ext cx="1281240" cy="1545840"/>
            <a:chOff x="5043240" y="3732120"/>
            <a:chExt cx="1281240" cy="1545840"/>
          </a:xfrm>
        </p:grpSpPr>
        <p:sp>
          <p:nvSpPr>
            <p:cNvPr id="216" name=""/>
            <p:cNvSpPr/>
            <p:nvPr/>
          </p:nvSpPr>
          <p:spPr>
            <a:xfrm rot="16200000">
              <a:off x="5550480" y="4503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683320" y="3732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8332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04324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60800" y="3718080"/>
            <a:ext cx="1281600" cy="1545840"/>
            <a:chOff x="7660800" y="3718080"/>
            <a:chExt cx="1281600" cy="1545840"/>
          </a:xfrm>
        </p:grpSpPr>
        <p:sp>
          <p:nvSpPr>
            <p:cNvPr id="221" name=""/>
            <p:cNvSpPr/>
            <p:nvPr/>
          </p:nvSpPr>
          <p:spPr>
            <a:xfrm rot="16200000">
              <a:off x="8168400" y="44899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300880" y="37180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00880" y="371808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660800" y="37180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226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9651E-006 L 0.03142 0.4971 E">
                                      <p:cBhvr>
                                        <p:cTn id="3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234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240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43240" y="3732120"/>
            <a:ext cx="1281240" cy="1545840"/>
            <a:chOff x="5043240" y="3732120"/>
            <a:chExt cx="1281240" cy="1545840"/>
          </a:xfrm>
        </p:grpSpPr>
        <p:sp>
          <p:nvSpPr>
            <p:cNvPr id="249" name=""/>
            <p:cNvSpPr/>
            <p:nvPr/>
          </p:nvSpPr>
          <p:spPr>
            <a:xfrm rot="16200000">
              <a:off x="5550480" y="450396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683320" y="3732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8332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043240" y="3732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660800" y="3718080"/>
            <a:ext cx="1281600" cy="1545840"/>
            <a:chOff x="7660800" y="3718080"/>
            <a:chExt cx="1281600" cy="1545840"/>
          </a:xfrm>
        </p:grpSpPr>
        <p:sp>
          <p:nvSpPr>
            <p:cNvPr id="254" name=""/>
            <p:cNvSpPr/>
            <p:nvPr/>
          </p:nvSpPr>
          <p:spPr>
            <a:xfrm>
              <a:off x="7840800" y="4460760"/>
              <a:ext cx="693720" cy="69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8168400" y="44899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300880" y="37180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0880" y="371808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60800" y="37180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260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-0.00746 0.06783 E">
                                      <p:cBhvr>
                                        <p:cTn id="46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00729 -0.06273 E">
                                      <p:cBhvr>
                                        <p:cTn id="48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832360" y="1265400"/>
            <a:ext cx="4842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93760" y="3675240"/>
            <a:ext cx="176400" cy="251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200000">
            <a:off x="812520" y="3674880"/>
            <a:ext cx="2752560" cy="11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9280" y="613584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8080" y="3273480"/>
            <a:ext cx="1281600" cy="1545840"/>
            <a:chOff x="298080" y="3273480"/>
            <a:chExt cx="1281600" cy="1545840"/>
          </a:xfrm>
        </p:grpSpPr>
        <p:sp>
          <p:nvSpPr>
            <p:cNvPr id="268" name=""/>
            <p:cNvSpPr/>
            <p:nvPr/>
          </p:nvSpPr>
          <p:spPr>
            <a:xfrm>
              <a:off x="515880" y="3938400"/>
              <a:ext cx="784440" cy="784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805680" y="404532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938160" y="327348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3816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98080" y="327348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73080" y="4164120"/>
            <a:ext cx="1281240" cy="1545840"/>
            <a:chOff x="2773080" y="4164120"/>
            <a:chExt cx="1281240" cy="1545840"/>
          </a:xfrm>
        </p:grpSpPr>
        <p:sp>
          <p:nvSpPr>
            <p:cNvPr id="274" name=""/>
            <p:cNvSpPr/>
            <p:nvPr/>
          </p:nvSpPr>
          <p:spPr>
            <a:xfrm>
              <a:off x="3024000" y="4863960"/>
              <a:ext cx="784440" cy="78408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280680" y="4936320"/>
              <a:ext cx="26640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13160" y="416412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1316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773080" y="416412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904080" y="3681360"/>
            <a:ext cx="176040" cy="25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200000">
            <a:off x="5622840" y="3681360"/>
            <a:ext cx="275292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9240" y="6141960"/>
            <a:ext cx="2928960" cy="23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121000" y="3279600"/>
            <a:ext cx="1281240" cy="1545840"/>
            <a:chOff x="5121000" y="3279600"/>
            <a:chExt cx="1281240" cy="1545840"/>
          </a:xfrm>
        </p:grpSpPr>
        <p:sp>
          <p:nvSpPr>
            <p:cNvPr id="283" name=""/>
            <p:cNvSpPr/>
            <p:nvPr/>
          </p:nvSpPr>
          <p:spPr>
            <a:xfrm rot="16200000">
              <a:off x="5628240" y="4051440"/>
              <a:ext cx="266760" cy="12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761080" y="3279600"/>
              <a:ext cx="144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61080" y="3279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121000" y="32796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583040" y="4181400"/>
            <a:ext cx="1281600" cy="1545840"/>
            <a:chOff x="7583040" y="4181400"/>
            <a:chExt cx="1281600" cy="1545840"/>
          </a:xfrm>
        </p:grpSpPr>
        <p:sp>
          <p:nvSpPr>
            <p:cNvPr id="288" name=""/>
            <p:cNvSpPr/>
            <p:nvPr/>
          </p:nvSpPr>
          <p:spPr>
            <a:xfrm>
              <a:off x="7763040" y="4924080"/>
              <a:ext cx="693720" cy="69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8090640" y="4953240"/>
              <a:ext cx="266760" cy="12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223120" y="4181400"/>
              <a:ext cx="180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23120" y="4181400"/>
              <a:ext cx="64008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83040" y="4181400"/>
              <a:ext cx="63972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30280" y="6278400"/>
            <a:ext cx="5220000" cy="579240"/>
            <a:chOff x="2330280" y="6278400"/>
            <a:chExt cx="5220000" cy="579240"/>
          </a:xfrm>
        </p:grpSpPr>
        <p:pic>
          <p:nvPicPr>
            <p:cNvPr id="294" name="Picture 10" descr=""/>
            <p:cNvPicPr/>
            <p:nvPr/>
          </p:nvPicPr>
          <p:blipFill>
            <a:blip r:embed="rId1"/>
            <a:stretch/>
          </p:blipFill>
          <p:spPr>
            <a:xfrm>
              <a:off x="233028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02912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5604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8:58:41Z</dcterms:created>
  <dc:creator>Alex</dc:creator>
  <dc:description/>
  <dc:language>en-US</dc:language>
  <cp:lastModifiedBy>Alex</cp:lastModifiedBy>
  <dcterms:modified xsi:type="dcterms:W3CDTF">2011-03-19T07:24:32Z</dcterms:modified>
  <cp:revision>69</cp:revision>
  <dc:subject/>
  <dc:title>Blīvums</dc:title>
</cp:coreProperties>
</file>