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EC9E-D037-4697-9097-D7E914046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29BB-29C9-45E8-B403-2E93ED2A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D1E3-7BA6-475F-B096-7B832604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9808-7AEE-4D9A-8AD6-3DE8C580F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4FF7-8282-4390-80AB-713978C12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4749-C083-43DA-AF52-E92E2F14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B5B3-B3F3-44DF-8ABA-C8D41EEC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F2E5-A304-43CD-BCFD-75D44297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7C7A-AD00-479D-A8ED-075E6B45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079E-7FC3-4139-A7C9-76685C9F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A652-9954-4CE1-B0BE-02AA6D0E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C6A7-1040-49C5-B935-B3109446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4F9C-14A4-4735-9F17-29669285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7817-CD50-47C3-BD77-59A5D8EF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C8EC-B1B0-4937-A1DC-AD00062E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71B5-89CC-4FB8-90A0-322A2D7A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9B04-D519-4081-9046-B868FD49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FCF5-188A-4144-BA59-B29507BF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5AFC-D36B-4CA8-916B-F69F9EFE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477A-FA15-4441-AC04-77275E94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4748-01E5-4510-8CCE-DCBCA583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8415-D841-44FF-B87B-1C25B8A3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ED3A-222B-4C0E-8D04-13DBF804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2E3E-1E6E-4098-9ED9-63BD6C95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DCF5-CDCD-4735-A39E-6154BEB217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FAC5-0B40-4FBC-BA1B-D430431255C2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6480360" cy="37303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3276720" y="19162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2f1311"/>
                </a:solidFill>
                <a:latin typeface="Arial"/>
              </a:rPr>
              <a:t>Rāmkalni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5651640" y="1773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2f1311"/>
                </a:solidFill>
                <a:latin typeface="Arial"/>
              </a:rPr>
              <a:t>Gaiziņkaln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Line 7"/>
          <p:cNvSpPr/>
          <p:nvPr/>
        </p:nvSpPr>
        <p:spPr>
          <a:xfrm flipH="1">
            <a:off x="4716360" y="2205000"/>
            <a:ext cx="1224000" cy="2303640"/>
          </a:xfrm>
          <a:prstGeom prst="line">
            <a:avLst/>
          </a:prstGeom>
          <a:ln w="28440">
            <a:solidFill>
              <a:srgbClr val="2ee70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Line 8"/>
          <p:cNvSpPr/>
          <p:nvPr/>
        </p:nvSpPr>
        <p:spPr>
          <a:xfrm flipH="1">
            <a:off x="3635280" y="2276640"/>
            <a:ext cx="216000" cy="2087280"/>
          </a:xfrm>
          <a:prstGeom prst="line">
            <a:avLst/>
          </a:prstGeom>
          <a:ln w="28440">
            <a:solidFill>
              <a:srgbClr val="2ee70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684360" y="3333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2f1311"/>
                </a:solidFill>
                <a:latin typeface="Arial"/>
              </a:rPr>
              <a:t>Rīga – Rāmkalni – 29 km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755640" y="1052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2f1311"/>
                </a:solidFill>
                <a:latin typeface="Arial"/>
              </a:rPr>
              <a:t>Rīga – Gaiziņkalns – 117 km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0T14:18:20Z</dcterms:created>
  <dc:creator>Gunta</dc:creator>
  <dc:description/>
  <dc:language>en-US</dc:language>
  <cp:lastModifiedBy>Admins</cp:lastModifiedBy>
  <dcterms:modified xsi:type="dcterms:W3CDTF">2013-01-23T09:35:01Z</dcterms:modified>
  <cp:revision>3</cp:revision>
  <dc:subject/>
  <dc:title>Slide 1</dc:title>
</cp:coreProperties>
</file>