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0C0A-C3A0-4F56-A457-A07C1F79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08B0-F837-44D9-B9B6-D4588D39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C5AD-7404-4A88-997D-7E3B4E94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17F7-B5C4-48FB-84C9-21F5535B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129F-496B-459E-B093-C6F8E1CE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D8F9-A990-4D51-A96A-AF5684B7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CFCF-252C-4190-BDB2-504D282F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D8B2-6E87-43DC-A49A-236F15B6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6739-53D8-4F1D-941F-B9689077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D2E5-6C4A-4716-A8D2-A3B960C9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9F39-AA25-4299-8F9E-6EE5905A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422F-FE2D-4443-93E0-11A5D9CC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B0EB-2DFC-4E28-9ECA-74B79B1F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57D7-DA98-481F-9D09-170B7E3B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5425-0D13-4216-A91A-E723287B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42CF-460D-4BFF-A356-DF43CC39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8B64-6E5E-4DB2-946D-449CA2F7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E026-43EC-4136-9CDA-B1DBA4A9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11AC-C31E-40AA-90B0-686CAFDA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8785-59B8-4422-BB3D-5258270D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9F94-055A-407A-8C59-F0B9FFDE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D979-EBBD-4AD3-AA7F-B6CA1087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96BF-9F06-47E7-811E-767654FB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09C2-C5BE-4987-B7B8-8F71B88B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13.xml"/><Relationship Id="rId22" Type="http://schemas.openxmlformats.org/officeDocument/2006/relationships/slideLayout" Target="../slideLayouts/slideLayout14.xml"/><Relationship Id="rId23" Type="http://schemas.openxmlformats.org/officeDocument/2006/relationships/slideLayout" Target="../slideLayouts/slideLayout15.xml"/><Relationship Id="rId24" Type="http://schemas.openxmlformats.org/officeDocument/2006/relationships/slideLayout" Target="../slideLayouts/slideLayout16.xml"/><Relationship Id="rId25" Type="http://schemas.openxmlformats.org/officeDocument/2006/relationships/slideLayout" Target="../slideLayouts/slideLayout17.xml"/><Relationship Id="rId26" Type="http://schemas.openxmlformats.org/officeDocument/2006/relationships/slideLayout" Target="../slideLayouts/slideLayout18.xml"/><Relationship Id="rId27" Type="http://schemas.openxmlformats.org/officeDocument/2006/relationships/slideLayout" Target="../slideLayouts/slideLayout19.xml"/><Relationship Id="rId28" Type="http://schemas.openxmlformats.org/officeDocument/2006/relationships/slideLayout" Target="../slideLayouts/slideLayout20.xml"/><Relationship Id="rId29" Type="http://schemas.openxmlformats.org/officeDocument/2006/relationships/slideLayout" Target="../slideLayouts/slideLayout21.xml"/><Relationship Id="rId30" Type="http://schemas.openxmlformats.org/officeDocument/2006/relationships/slideLayout" Target="../slideLayouts/slideLayout22.xml"/><Relationship Id="rId31" Type="http://schemas.openxmlformats.org/officeDocument/2006/relationships/slideLayout" Target="../slideLayouts/slideLayout23.xml"/><Relationship Id="rId3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18"/>
          <p:cNvGrpSpPr/>
          <p:nvPr/>
        </p:nvGrpSpPr>
        <p:grpSpPr>
          <a:xfrm>
            <a:off x="6558120" y="64080"/>
            <a:ext cx="2574720" cy="6798600"/>
            <a:chOff x="6558120" y="64080"/>
            <a:chExt cx="2574720" cy="6798600"/>
          </a:xfrm>
        </p:grpSpPr>
        <p:grpSp>
          <p:nvGrpSpPr>
            <p:cNvPr id="1" name="Group 62"/>
            <p:cNvGrpSpPr/>
            <p:nvPr/>
          </p:nvGrpSpPr>
          <p:grpSpPr>
            <a:xfrm>
              <a:off x="6952320" y="64080"/>
              <a:ext cx="2109960" cy="6618600"/>
              <a:chOff x="6952320" y="64080"/>
              <a:chExt cx="2109960" cy="6618600"/>
            </a:xfrm>
          </p:grpSpPr>
          <p:grpSp>
            <p:nvGrpSpPr>
              <p:cNvPr id="2" name="Group 44"/>
              <p:cNvGrpSpPr/>
              <p:nvPr/>
            </p:nvGrpSpPr>
            <p:grpSpPr>
              <a:xfrm>
                <a:off x="6952320" y="66600"/>
                <a:ext cx="2008440" cy="6616080"/>
                <a:chOff x="6952320" y="66600"/>
                <a:chExt cx="2008440" cy="6616080"/>
              </a:xfrm>
            </p:grpSpPr>
            <p:grpSp>
              <p:nvGrpSpPr>
                <p:cNvPr id="3" name="Freeform 233"/>
                <p:cNvGrpSpPr/>
                <p:nvPr/>
              </p:nvGrpSpPr>
              <p:grpSpPr>
                <a:xfrm>
                  <a:off x="7168320" y="66600"/>
                  <a:ext cx="693000" cy="785520"/>
                  <a:chOff x="7168320" y="66600"/>
                  <a:chExt cx="693000" cy="785520"/>
                </a:xfrm>
              </p:grpSpPr>
              <p:pic>
                <p:nvPicPr>
                  <p:cNvPr id="4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8320" y="66600"/>
                    <a:ext cx="69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" name=""/>
                  <p:cNvSpPr/>
                  <p:nvPr/>
                </p:nvSpPr>
                <p:spPr>
                  <a:xfrm rot="879600">
                    <a:off x="7254000" y="141480"/>
                    <a:ext cx="516960" cy="63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" name="Freeform 25"/>
                <p:cNvGrpSpPr/>
                <p:nvPr/>
              </p:nvGrpSpPr>
              <p:grpSpPr>
                <a:xfrm>
                  <a:off x="7553520" y="2259720"/>
                  <a:ext cx="1031760" cy="1126800"/>
                  <a:chOff x="7553520" y="2259720"/>
                  <a:chExt cx="1031760" cy="1126800"/>
                </a:xfrm>
              </p:grpSpPr>
              <p:pic>
                <p:nvPicPr>
                  <p:cNvPr id="7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6920" y="2306160"/>
                    <a:ext cx="9882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" name=""/>
                  <p:cNvSpPr/>
                  <p:nvPr/>
                </p:nvSpPr>
                <p:spPr>
                  <a:xfrm rot="20016000">
                    <a:off x="7719480" y="2367360"/>
                    <a:ext cx="699840" cy="91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" name="Freeform 29"/>
                <p:cNvGrpSpPr/>
                <p:nvPr/>
              </p:nvGrpSpPr>
              <p:grpSpPr>
                <a:xfrm>
                  <a:off x="8086680" y="922320"/>
                  <a:ext cx="874080" cy="885240"/>
                  <a:chOff x="8086680" y="922320"/>
                  <a:chExt cx="874080" cy="885240"/>
                </a:xfrm>
              </p:grpSpPr>
              <p:pic>
                <p:nvPicPr>
                  <p:cNvPr id="10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36000" y="922320"/>
                    <a:ext cx="775800" cy="88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" name=""/>
                  <p:cNvSpPr/>
                  <p:nvPr/>
                </p:nvSpPr>
                <p:spPr>
                  <a:xfrm rot="18879600">
                    <a:off x="8214840" y="1059480"/>
                    <a:ext cx="61776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" name="Freeform 33"/>
                <p:cNvGrpSpPr/>
                <p:nvPr/>
              </p:nvGrpSpPr>
              <p:grpSpPr>
                <a:xfrm>
                  <a:off x="7328520" y="3971160"/>
                  <a:ext cx="1003680" cy="1195920"/>
                  <a:chOff x="7328520" y="3971160"/>
                  <a:chExt cx="1003680" cy="1195920"/>
                </a:xfrm>
              </p:grpSpPr>
              <p:pic>
                <p:nvPicPr>
                  <p:cNvPr id="13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8520" y="3971160"/>
                    <a:ext cx="1003680" cy="11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" name=""/>
                  <p:cNvSpPr/>
                  <p:nvPr/>
                </p:nvSpPr>
                <p:spPr>
                  <a:xfrm rot="21141600">
                    <a:off x="7440480" y="4071240"/>
                    <a:ext cx="773640" cy="993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" name="Freeform 37"/>
                <p:cNvGrpSpPr/>
                <p:nvPr/>
              </p:nvGrpSpPr>
              <p:grpSpPr>
                <a:xfrm>
                  <a:off x="7465320" y="5139360"/>
                  <a:ext cx="1354320" cy="1543320"/>
                  <a:chOff x="7465320" y="5139360"/>
                  <a:chExt cx="1354320" cy="1543320"/>
                </a:xfrm>
              </p:grpSpPr>
              <p:pic>
                <p:nvPicPr>
                  <p:cNvPr id="16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4120" y="5184720"/>
                    <a:ext cx="12985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" name=""/>
                  <p:cNvSpPr/>
                  <p:nvPr/>
                </p:nvSpPr>
                <p:spPr>
                  <a:xfrm rot="1068000">
                    <a:off x="7639560" y="5261760"/>
                    <a:ext cx="1005840" cy="1297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Freeform 29"/>
                <p:cNvGrpSpPr/>
                <p:nvPr/>
              </p:nvGrpSpPr>
              <p:grpSpPr>
                <a:xfrm>
                  <a:off x="6952320" y="1848600"/>
                  <a:ext cx="874080" cy="879120"/>
                  <a:chOff x="6952320" y="1848600"/>
                  <a:chExt cx="874080" cy="879120"/>
                </a:xfrm>
              </p:grpSpPr>
              <p:pic>
                <p:nvPicPr>
                  <p:cNvPr id="19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97680" y="1848600"/>
                    <a:ext cx="78120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" name=""/>
                  <p:cNvSpPr/>
                  <p:nvPr/>
                </p:nvSpPr>
                <p:spPr>
                  <a:xfrm rot="18879600">
                    <a:off x="7080480" y="1980720"/>
                    <a:ext cx="617400" cy="61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" name="Group 50"/>
              <p:cNvGrpSpPr/>
              <p:nvPr/>
            </p:nvGrpSpPr>
            <p:grpSpPr>
              <a:xfrm>
                <a:off x="7627680" y="78120"/>
                <a:ext cx="1434600" cy="5131800"/>
                <a:chOff x="7627680" y="78120"/>
                <a:chExt cx="1434600" cy="5131800"/>
              </a:xfrm>
            </p:grpSpPr>
            <p:grpSp>
              <p:nvGrpSpPr>
                <p:cNvPr id="22" name="Freeform 45"/>
                <p:cNvGrpSpPr/>
                <p:nvPr/>
              </p:nvGrpSpPr>
              <p:grpSpPr>
                <a:xfrm>
                  <a:off x="7849080" y="4016520"/>
                  <a:ext cx="989280" cy="1193400"/>
                  <a:chOff x="7849080" y="4016520"/>
                  <a:chExt cx="989280" cy="1193400"/>
                </a:xfrm>
              </p:grpSpPr>
              <p:pic>
                <p:nvPicPr>
                  <p:cNvPr id="23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8240" y="4037400"/>
                    <a:ext cx="931680" cy="11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" name=""/>
                  <p:cNvSpPr/>
                  <p:nvPr/>
                </p:nvSpPr>
                <p:spPr>
                  <a:xfrm rot="20600400">
                    <a:off x="7981200" y="4098600"/>
                    <a:ext cx="724680" cy="102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" name="Freeform 49"/>
                <p:cNvGrpSpPr/>
                <p:nvPr/>
              </p:nvGrpSpPr>
              <p:grpSpPr>
                <a:xfrm>
                  <a:off x="7627680" y="1013400"/>
                  <a:ext cx="1091160" cy="1144800"/>
                  <a:chOff x="7627680" y="1013400"/>
                  <a:chExt cx="1091160" cy="1144800"/>
                </a:xfrm>
              </p:grpSpPr>
              <p:pic>
                <p:nvPicPr>
                  <p:cNvPr id="26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09760" y="1031040"/>
                    <a:ext cx="927000" cy="11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" name=""/>
                  <p:cNvSpPr/>
                  <p:nvPr/>
                </p:nvSpPr>
                <p:spPr>
                  <a:xfrm rot="19358400">
                    <a:off x="7845480" y="1115640"/>
                    <a:ext cx="655560" cy="93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" name="Freeform 53"/>
                <p:cNvGrpSpPr/>
                <p:nvPr/>
              </p:nvGrpSpPr>
              <p:grpSpPr>
                <a:xfrm>
                  <a:off x="8191440" y="78120"/>
                  <a:ext cx="870840" cy="971640"/>
                  <a:chOff x="8191440" y="78120"/>
                  <a:chExt cx="870840" cy="971640"/>
                </a:xfrm>
              </p:grpSpPr>
              <p:pic>
                <p:nvPicPr>
                  <p:cNvPr id="29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3280" y="121320"/>
                    <a:ext cx="767880" cy="8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" name=""/>
                  <p:cNvSpPr/>
                  <p:nvPr/>
                </p:nvSpPr>
                <p:spPr>
                  <a:xfrm rot="19929600">
                    <a:off x="8346240" y="162720"/>
                    <a:ext cx="560880" cy="80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" name="Freeform 53"/>
                <p:cNvSpPr/>
                <p:nvPr/>
              </p:nvSpPr>
              <p:spPr>
                <a:xfrm rot="1159800">
                  <a:off x="8330400" y="3231360"/>
                  <a:ext cx="377640" cy="5403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53"/>
                <p:cNvSpPr/>
                <p:nvPr/>
              </p:nvSpPr>
              <p:spPr>
                <a:xfrm rot="20991000">
                  <a:off x="8629200" y="900000"/>
                  <a:ext cx="295200" cy="42264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" name="Group 56"/>
              <p:cNvGrpSpPr/>
              <p:nvPr/>
            </p:nvGrpSpPr>
            <p:grpSpPr>
              <a:xfrm>
                <a:off x="7472880" y="64080"/>
                <a:ext cx="1555200" cy="6003000"/>
                <a:chOff x="7472880" y="64080"/>
                <a:chExt cx="1555200" cy="6003000"/>
              </a:xfrm>
            </p:grpSpPr>
            <p:sp>
              <p:nvSpPr>
                <p:cNvPr id="34" name="Freeform 69"/>
                <p:cNvSpPr/>
                <p:nvPr/>
              </p:nvSpPr>
              <p:spPr>
                <a:xfrm rot="474000">
                  <a:off x="7995960" y="4843800"/>
                  <a:ext cx="956520" cy="116280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73"/>
                <p:cNvSpPr/>
                <p:nvPr/>
              </p:nvSpPr>
              <p:spPr>
                <a:xfrm rot="20414400">
                  <a:off x="7590240" y="153360"/>
                  <a:ext cx="669600" cy="81180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77"/>
                <p:cNvSpPr/>
                <p:nvPr/>
              </p:nvSpPr>
              <p:spPr>
                <a:xfrm rot="20957400">
                  <a:off x="7872120" y="3769560"/>
                  <a:ext cx="592560" cy="71748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81"/>
                <p:cNvSpPr/>
                <p:nvPr/>
              </p:nvSpPr>
              <p:spPr>
                <a:xfrm rot="924000">
                  <a:off x="8019360" y="1771200"/>
                  <a:ext cx="710280" cy="85500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" name="Freeform 8"/>
            <p:cNvGrpSpPr/>
            <p:nvPr/>
          </p:nvGrpSpPr>
          <p:grpSpPr>
            <a:xfrm>
              <a:off x="8150400" y="2712240"/>
              <a:ext cx="982440" cy="1349280"/>
              <a:chOff x="8150400" y="2712240"/>
              <a:chExt cx="982440" cy="1349280"/>
            </a:xfrm>
          </p:grpSpPr>
          <p:pic>
            <p:nvPicPr>
              <p:cNvPr id="39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50400" y="2712240"/>
                <a:ext cx="98244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" name=""/>
              <p:cNvSpPr/>
              <p:nvPr/>
            </p:nvSpPr>
            <p:spPr>
              <a:xfrm>
                <a:off x="8242200" y="2810880"/>
                <a:ext cx="802080" cy="11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" name="Freeform 12"/>
            <p:cNvGrpSpPr/>
            <p:nvPr/>
          </p:nvGrpSpPr>
          <p:grpSpPr>
            <a:xfrm>
              <a:off x="6558120" y="5795280"/>
              <a:ext cx="1394640" cy="1067400"/>
              <a:chOff x="6558120" y="5795280"/>
              <a:chExt cx="1394640" cy="1067400"/>
            </a:xfrm>
          </p:grpSpPr>
          <p:pic>
            <p:nvPicPr>
              <p:cNvPr id="42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95280"/>
                <a:ext cx="13946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" name=""/>
              <p:cNvSpPr/>
              <p:nvPr/>
            </p:nvSpPr>
            <p:spPr>
              <a:xfrm>
                <a:off x="6658560" y="5900760"/>
                <a:ext cx="1194120" cy="85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" name="Freeform 16"/>
            <p:cNvSpPr/>
            <p:nvPr/>
          </p:nvSpPr>
          <p:spPr>
            <a:xfrm>
              <a:off x="8111520" y="6207480"/>
              <a:ext cx="904320" cy="54144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C74C-11D3-45A7-9D93-5CC33EEDD1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18"/>
          <p:cNvGrpSpPr/>
          <p:nvPr/>
        </p:nvGrpSpPr>
        <p:grpSpPr>
          <a:xfrm>
            <a:off x="6558120" y="64080"/>
            <a:ext cx="2574720" cy="6798600"/>
            <a:chOff x="6558120" y="64080"/>
            <a:chExt cx="2574720" cy="6798600"/>
          </a:xfrm>
        </p:grpSpPr>
        <p:grpSp>
          <p:nvGrpSpPr>
            <p:cNvPr id="87" name="Group 62"/>
            <p:cNvGrpSpPr/>
            <p:nvPr/>
          </p:nvGrpSpPr>
          <p:grpSpPr>
            <a:xfrm>
              <a:off x="6952320" y="64080"/>
              <a:ext cx="2109960" cy="6618600"/>
              <a:chOff x="6952320" y="64080"/>
              <a:chExt cx="2109960" cy="6618600"/>
            </a:xfrm>
          </p:grpSpPr>
          <p:grpSp>
            <p:nvGrpSpPr>
              <p:cNvPr id="88" name="Group 44"/>
              <p:cNvGrpSpPr/>
              <p:nvPr/>
            </p:nvGrpSpPr>
            <p:grpSpPr>
              <a:xfrm>
                <a:off x="6952320" y="66600"/>
                <a:ext cx="2008440" cy="6616080"/>
                <a:chOff x="6952320" y="66600"/>
                <a:chExt cx="2008440" cy="6616080"/>
              </a:xfrm>
            </p:grpSpPr>
            <p:grpSp>
              <p:nvGrpSpPr>
                <p:cNvPr id="89" name="Freeform 233"/>
                <p:cNvGrpSpPr/>
                <p:nvPr/>
              </p:nvGrpSpPr>
              <p:grpSpPr>
                <a:xfrm>
                  <a:off x="7168320" y="66600"/>
                  <a:ext cx="693000" cy="785520"/>
                  <a:chOff x="7168320" y="66600"/>
                  <a:chExt cx="693000" cy="785520"/>
                </a:xfrm>
              </p:grpSpPr>
              <p:pic>
                <p:nvPicPr>
                  <p:cNvPr id="90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8320" y="66600"/>
                    <a:ext cx="69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" name=""/>
                  <p:cNvSpPr/>
                  <p:nvPr/>
                </p:nvSpPr>
                <p:spPr>
                  <a:xfrm rot="879600">
                    <a:off x="7254000" y="141480"/>
                    <a:ext cx="516960" cy="63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Freeform 25"/>
                <p:cNvGrpSpPr/>
                <p:nvPr/>
              </p:nvGrpSpPr>
              <p:grpSpPr>
                <a:xfrm>
                  <a:off x="7553520" y="2259720"/>
                  <a:ext cx="1031760" cy="1126800"/>
                  <a:chOff x="7553520" y="2259720"/>
                  <a:chExt cx="1031760" cy="1126800"/>
                </a:xfrm>
              </p:grpSpPr>
              <p:pic>
                <p:nvPicPr>
                  <p:cNvPr id="93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6920" y="2306160"/>
                    <a:ext cx="9882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" name=""/>
                  <p:cNvSpPr/>
                  <p:nvPr/>
                </p:nvSpPr>
                <p:spPr>
                  <a:xfrm rot="20016000">
                    <a:off x="7719480" y="2367360"/>
                    <a:ext cx="699840" cy="91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Freeform 29"/>
                <p:cNvGrpSpPr/>
                <p:nvPr/>
              </p:nvGrpSpPr>
              <p:grpSpPr>
                <a:xfrm>
                  <a:off x="8086680" y="922320"/>
                  <a:ext cx="874080" cy="885240"/>
                  <a:chOff x="8086680" y="922320"/>
                  <a:chExt cx="874080" cy="885240"/>
                </a:xfrm>
              </p:grpSpPr>
              <p:pic>
                <p:nvPicPr>
                  <p:cNvPr id="96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36000" y="922320"/>
                    <a:ext cx="775800" cy="88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" name=""/>
                  <p:cNvSpPr/>
                  <p:nvPr/>
                </p:nvSpPr>
                <p:spPr>
                  <a:xfrm rot="18879600">
                    <a:off x="8214840" y="1059480"/>
                    <a:ext cx="61776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Freeform 33"/>
                <p:cNvGrpSpPr/>
                <p:nvPr/>
              </p:nvGrpSpPr>
              <p:grpSpPr>
                <a:xfrm>
                  <a:off x="7328520" y="3971160"/>
                  <a:ext cx="1003680" cy="1195920"/>
                  <a:chOff x="7328520" y="3971160"/>
                  <a:chExt cx="1003680" cy="1195920"/>
                </a:xfrm>
              </p:grpSpPr>
              <p:pic>
                <p:nvPicPr>
                  <p:cNvPr id="99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8520" y="3971160"/>
                    <a:ext cx="1003680" cy="11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" name=""/>
                  <p:cNvSpPr/>
                  <p:nvPr/>
                </p:nvSpPr>
                <p:spPr>
                  <a:xfrm rot="21141600">
                    <a:off x="7440480" y="4071240"/>
                    <a:ext cx="773640" cy="993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Freeform 37"/>
                <p:cNvGrpSpPr/>
                <p:nvPr/>
              </p:nvGrpSpPr>
              <p:grpSpPr>
                <a:xfrm>
                  <a:off x="7465320" y="5139360"/>
                  <a:ext cx="1354320" cy="1543320"/>
                  <a:chOff x="7465320" y="5139360"/>
                  <a:chExt cx="1354320" cy="1543320"/>
                </a:xfrm>
              </p:grpSpPr>
              <p:pic>
                <p:nvPicPr>
                  <p:cNvPr id="102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4120" y="5184720"/>
                    <a:ext cx="12985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" name=""/>
                  <p:cNvSpPr/>
                  <p:nvPr/>
                </p:nvSpPr>
                <p:spPr>
                  <a:xfrm rot="1068000">
                    <a:off x="7639560" y="5261760"/>
                    <a:ext cx="1005840" cy="1297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Freeform 29"/>
                <p:cNvGrpSpPr/>
                <p:nvPr/>
              </p:nvGrpSpPr>
              <p:grpSpPr>
                <a:xfrm>
                  <a:off x="6952320" y="1848600"/>
                  <a:ext cx="874080" cy="879120"/>
                  <a:chOff x="6952320" y="1848600"/>
                  <a:chExt cx="874080" cy="879120"/>
                </a:xfrm>
              </p:grpSpPr>
              <p:pic>
                <p:nvPicPr>
                  <p:cNvPr id="105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97680" y="1848600"/>
                    <a:ext cx="78120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6" name=""/>
                  <p:cNvSpPr/>
                  <p:nvPr/>
                </p:nvSpPr>
                <p:spPr>
                  <a:xfrm rot="18879600">
                    <a:off x="7080480" y="1980720"/>
                    <a:ext cx="617400" cy="61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50"/>
              <p:cNvGrpSpPr/>
              <p:nvPr/>
            </p:nvGrpSpPr>
            <p:grpSpPr>
              <a:xfrm>
                <a:off x="7627680" y="78120"/>
                <a:ext cx="1434600" cy="5131800"/>
                <a:chOff x="7627680" y="78120"/>
                <a:chExt cx="1434600" cy="5131800"/>
              </a:xfrm>
            </p:grpSpPr>
            <p:grpSp>
              <p:nvGrpSpPr>
                <p:cNvPr id="108" name="Freeform 45"/>
                <p:cNvGrpSpPr/>
                <p:nvPr/>
              </p:nvGrpSpPr>
              <p:grpSpPr>
                <a:xfrm>
                  <a:off x="7849080" y="4016520"/>
                  <a:ext cx="989280" cy="1193400"/>
                  <a:chOff x="7849080" y="4016520"/>
                  <a:chExt cx="989280" cy="1193400"/>
                </a:xfrm>
              </p:grpSpPr>
              <p:pic>
                <p:nvPicPr>
                  <p:cNvPr id="109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8240" y="4037400"/>
                    <a:ext cx="931680" cy="11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0" name=""/>
                  <p:cNvSpPr/>
                  <p:nvPr/>
                </p:nvSpPr>
                <p:spPr>
                  <a:xfrm rot="20600400">
                    <a:off x="7981200" y="4098600"/>
                    <a:ext cx="724680" cy="102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Freeform 49"/>
                <p:cNvGrpSpPr/>
                <p:nvPr/>
              </p:nvGrpSpPr>
              <p:grpSpPr>
                <a:xfrm>
                  <a:off x="7627680" y="1013400"/>
                  <a:ext cx="1091160" cy="1144800"/>
                  <a:chOff x="7627680" y="1013400"/>
                  <a:chExt cx="1091160" cy="1144800"/>
                </a:xfrm>
              </p:grpSpPr>
              <p:pic>
                <p:nvPicPr>
                  <p:cNvPr id="112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09760" y="1031040"/>
                    <a:ext cx="927000" cy="11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" name=""/>
                  <p:cNvSpPr/>
                  <p:nvPr/>
                </p:nvSpPr>
                <p:spPr>
                  <a:xfrm rot="19358400">
                    <a:off x="7845480" y="1115640"/>
                    <a:ext cx="655560" cy="93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Freeform 53"/>
                <p:cNvGrpSpPr/>
                <p:nvPr/>
              </p:nvGrpSpPr>
              <p:grpSpPr>
                <a:xfrm>
                  <a:off x="8191440" y="78120"/>
                  <a:ext cx="870840" cy="971640"/>
                  <a:chOff x="8191440" y="78120"/>
                  <a:chExt cx="870840" cy="971640"/>
                </a:xfrm>
              </p:grpSpPr>
              <p:pic>
                <p:nvPicPr>
                  <p:cNvPr id="115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3280" y="121320"/>
                    <a:ext cx="767880" cy="8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 rot="19929600">
                    <a:off x="8346240" y="162720"/>
                    <a:ext cx="560880" cy="80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Freeform 53"/>
                <p:cNvSpPr/>
                <p:nvPr/>
              </p:nvSpPr>
              <p:spPr>
                <a:xfrm rot="1159800">
                  <a:off x="8330400" y="3231360"/>
                  <a:ext cx="377640" cy="5403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53"/>
                <p:cNvSpPr/>
                <p:nvPr/>
              </p:nvSpPr>
              <p:spPr>
                <a:xfrm rot="20991000">
                  <a:off x="8629200" y="900000"/>
                  <a:ext cx="295200" cy="42264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Group 56"/>
              <p:cNvGrpSpPr/>
              <p:nvPr/>
            </p:nvGrpSpPr>
            <p:grpSpPr>
              <a:xfrm>
                <a:off x="7472880" y="64080"/>
                <a:ext cx="1555200" cy="6003000"/>
                <a:chOff x="7472880" y="64080"/>
                <a:chExt cx="1555200" cy="6003000"/>
              </a:xfrm>
            </p:grpSpPr>
            <p:sp>
              <p:nvSpPr>
                <p:cNvPr id="120" name="Freeform 69"/>
                <p:cNvSpPr/>
                <p:nvPr/>
              </p:nvSpPr>
              <p:spPr>
                <a:xfrm rot="474000">
                  <a:off x="7995960" y="4843800"/>
                  <a:ext cx="956520" cy="116280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73"/>
                <p:cNvSpPr/>
                <p:nvPr/>
              </p:nvSpPr>
              <p:spPr>
                <a:xfrm rot="20414400">
                  <a:off x="7590240" y="153360"/>
                  <a:ext cx="669600" cy="81180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77"/>
                <p:cNvSpPr/>
                <p:nvPr/>
              </p:nvSpPr>
              <p:spPr>
                <a:xfrm rot="20957400">
                  <a:off x="7872120" y="3769560"/>
                  <a:ext cx="592560" cy="71748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81"/>
                <p:cNvSpPr/>
                <p:nvPr/>
              </p:nvSpPr>
              <p:spPr>
                <a:xfrm rot="924000">
                  <a:off x="8019360" y="1771200"/>
                  <a:ext cx="710280" cy="85500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Freeform 8"/>
            <p:cNvGrpSpPr/>
            <p:nvPr/>
          </p:nvGrpSpPr>
          <p:grpSpPr>
            <a:xfrm>
              <a:off x="8150400" y="2712240"/>
              <a:ext cx="982440" cy="1349280"/>
              <a:chOff x="8150400" y="2712240"/>
              <a:chExt cx="982440" cy="1349280"/>
            </a:xfrm>
          </p:grpSpPr>
          <p:pic>
            <p:nvPicPr>
              <p:cNvPr id="125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50400" y="2712240"/>
                <a:ext cx="98244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8242200" y="2810880"/>
                <a:ext cx="802080" cy="11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" name="Freeform 12"/>
            <p:cNvGrpSpPr/>
            <p:nvPr/>
          </p:nvGrpSpPr>
          <p:grpSpPr>
            <a:xfrm>
              <a:off x="6558120" y="5795280"/>
              <a:ext cx="1394640" cy="1067400"/>
              <a:chOff x="6558120" y="5795280"/>
              <a:chExt cx="1394640" cy="1067400"/>
            </a:xfrm>
          </p:grpSpPr>
          <p:pic>
            <p:nvPicPr>
              <p:cNvPr id="128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95280"/>
                <a:ext cx="13946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6658560" y="5900760"/>
                <a:ext cx="1194120" cy="85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" name="Freeform 16"/>
            <p:cNvSpPr/>
            <p:nvPr/>
          </p:nvSpPr>
          <p:spPr>
            <a:xfrm>
              <a:off x="8111520" y="6207480"/>
              <a:ext cx="904320" cy="54144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Oval 31"/>
          <p:cNvGrpSpPr/>
          <p:nvPr/>
        </p:nvGrpSpPr>
        <p:grpSpPr>
          <a:xfrm>
            <a:off x="5456160" y="1414440"/>
            <a:ext cx="1133640" cy="1133640"/>
            <a:chOff x="5456160" y="1414440"/>
            <a:chExt cx="1133640" cy="1133640"/>
          </a:xfrm>
        </p:grpSpPr>
        <p:pic>
          <p:nvPicPr>
            <p:cNvPr id="132" name="Oval 31" descr=""/>
            <p:cNvPicPr/>
            <p:nvPr/>
          </p:nvPicPr>
          <p:blipFill>
            <a:blip r:embed="rId13"/>
            <a:stretch/>
          </p:blipFill>
          <p:spPr>
            <a:xfrm>
              <a:off x="5456160" y="14144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Oval 32"/>
          <p:cNvGrpSpPr/>
          <p:nvPr/>
        </p:nvGrpSpPr>
        <p:grpSpPr>
          <a:xfrm>
            <a:off x="5626080" y="1390680"/>
            <a:ext cx="878040" cy="871560"/>
            <a:chOff x="5626080" y="1390680"/>
            <a:chExt cx="878040" cy="871560"/>
          </a:xfrm>
        </p:grpSpPr>
        <p:pic>
          <p:nvPicPr>
            <p:cNvPr id="135" name="Oval 32" descr=""/>
            <p:cNvPicPr/>
            <p:nvPr/>
          </p:nvPicPr>
          <p:blipFill>
            <a:blip r:embed="rId14"/>
            <a:stretch/>
          </p:blipFill>
          <p:spPr>
            <a:xfrm>
              <a:off x="5626080" y="139068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Oval 28"/>
          <p:cNvGrpSpPr/>
          <p:nvPr/>
        </p:nvGrpSpPr>
        <p:grpSpPr>
          <a:xfrm>
            <a:off x="5237280" y="1871640"/>
            <a:ext cx="645840" cy="646200"/>
            <a:chOff x="5237280" y="1871640"/>
            <a:chExt cx="645840" cy="646200"/>
          </a:xfrm>
        </p:grpSpPr>
        <p:pic>
          <p:nvPicPr>
            <p:cNvPr id="138" name="Oval 28" descr=""/>
            <p:cNvPicPr/>
            <p:nvPr/>
          </p:nvPicPr>
          <p:blipFill>
            <a:blip r:embed="rId15"/>
            <a:stretch/>
          </p:blipFill>
          <p:spPr>
            <a:xfrm>
              <a:off x="5237280" y="1871640"/>
              <a:ext cx="645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Oval 30"/>
          <p:cNvGrpSpPr/>
          <p:nvPr/>
        </p:nvGrpSpPr>
        <p:grpSpPr>
          <a:xfrm>
            <a:off x="5400720" y="1792440"/>
            <a:ext cx="536400" cy="529920"/>
            <a:chOff x="5400720" y="1792440"/>
            <a:chExt cx="536400" cy="529920"/>
          </a:xfrm>
        </p:grpSpPr>
        <p:pic>
          <p:nvPicPr>
            <p:cNvPr id="141" name="Oval 30" descr=""/>
            <p:cNvPicPr/>
            <p:nvPr/>
          </p:nvPicPr>
          <p:blipFill>
            <a:blip r:embed="rId16"/>
            <a:stretch/>
          </p:blipFill>
          <p:spPr>
            <a:xfrm>
              <a:off x="5400720" y="1792440"/>
              <a:ext cx="5364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Oval 27"/>
          <p:cNvGrpSpPr/>
          <p:nvPr/>
        </p:nvGrpSpPr>
        <p:grpSpPr>
          <a:xfrm>
            <a:off x="4700520" y="2060640"/>
            <a:ext cx="298440" cy="298440"/>
            <a:chOff x="4700520" y="2060640"/>
            <a:chExt cx="298440" cy="298440"/>
          </a:xfrm>
        </p:grpSpPr>
        <p:pic>
          <p:nvPicPr>
            <p:cNvPr id="144" name="Oval 27" descr=""/>
            <p:cNvPicPr/>
            <p:nvPr/>
          </p:nvPicPr>
          <p:blipFill>
            <a:blip r:embed="rId17"/>
            <a:stretch/>
          </p:blipFill>
          <p:spPr>
            <a:xfrm>
              <a:off x="470052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Oval 29"/>
          <p:cNvGrpSpPr/>
          <p:nvPr/>
        </p:nvGrpSpPr>
        <p:grpSpPr>
          <a:xfrm>
            <a:off x="6108840" y="969840"/>
            <a:ext cx="304560" cy="304920"/>
            <a:chOff x="6108840" y="969840"/>
            <a:chExt cx="304560" cy="304920"/>
          </a:xfrm>
        </p:grpSpPr>
        <p:pic>
          <p:nvPicPr>
            <p:cNvPr id="147" name="Oval 29" descr=""/>
            <p:cNvPicPr/>
            <p:nvPr/>
          </p:nvPicPr>
          <p:blipFill>
            <a:blip r:embed="rId18"/>
            <a:stretch/>
          </p:blipFill>
          <p:spPr>
            <a:xfrm>
              <a:off x="6108840" y="9698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Oval 33"/>
          <p:cNvGrpSpPr/>
          <p:nvPr/>
        </p:nvGrpSpPr>
        <p:grpSpPr>
          <a:xfrm>
            <a:off x="5035680" y="1871640"/>
            <a:ext cx="242640" cy="243000"/>
            <a:chOff x="5035680" y="1871640"/>
            <a:chExt cx="242640" cy="243000"/>
          </a:xfrm>
        </p:grpSpPr>
        <p:pic>
          <p:nvPicPr>
            <p:cNvPr id="150" name="Oval 33" descr=""/>
            <p:cNvPicPr/>
            <p:nvPr/>
          </p:nvPicPr>
          <p:blipFill>
            <a:blip r:embed="rId19"/>
            <a:stretch/>
          </p:blipFill>
          <p:spPr>
            <a:xfrm>
              <a:off x="5035680" y="1871640"/>
              <a:ext cx="242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Oval 34"/>
          <p:cNvGrpSpPr/>
          <p:nvPr/>
        </p:nvGrpSpPr>
        <p:grpSpPr>
          <a:xfrm>
            <a:off x="6126120" y="1036800"/>
            <a:ext cx="244440" cy="242640"/>
            <a:chOff x="6126120" y="1036800"/>
            <a:chExt cx="244440" cy="242640"/>
          </a:xfrm>
        </p:grpSpPr>
        <p:pic>
          <p:nvPicPr>
            <p:cNvPr id="153" name="Oval 34" descr=""/>
            <p:cNvPicPr/>
            <p:nvPr/>
          </p:nvPicPr>
          <p:blipFill>
            <a:blip r:embed="rId20"/>
            <a:stretch/>
          </p:blipFill>
          <p:spPr>
            <a:xfrm>
              <a:off x="6126120" y="103680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BC24-1CAB-4D22-A542-7C2E2A0812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1"/>
    <p:sldLayoutId id="2147483663" r:id="rId22"/>
    <p:sldLayoutId id="2147483664" r:id="rId23"/>
    <p:sldLayoutId id="2147483665" r:id="rId24"/>
    <p:sldLayoutId id="2147483666" r:id="rId25"/>
    <p:sldLayoutId id="2147483667" r:id="rId26"/>
    <p:sldLayoutId id="2147483668" r:id="rId27"/>
    <p:sldLayoutId id="2147483669" r:id="rId28"/>
    <p:sldLayoutId id="2147483670" r:id="rId29"/>
    <p:sldLayoutId id="2147483671" r:id="rId30"/>
    <p:sldLayoutId id="2147483672" r:id="rId31"/>
    <p:sldLayoutId id="2147483673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5"/>
          <p:cNvSpPr/>
          <p:nvPr/>
        </p:nvSpPr>
        <p:spPr>
          <a:xfrm>
            <a:off x="34920" y="804960"/>
            <a:ext cx="748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Lapiņu ģimenes izdevum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Rāmkalnos un Gaiziņkaln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Diagramma 4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598032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4:28:11Z</dcterms:created>
  <dc:creator>Gunta</dc:creator>
  <dc:description/>
  <dc:language>en-US</dc:language>
  <cp:lastModifiedBy>Admins</cp:lastModifiedBy>
  <dcterms:modified xsi:type="dcterms:W3CDTF">2013-01-22T13:18:21Z</dcterms:modified>
  <cp:revision>5</cp:revision>
  <dc:subject/>
  <dc:title>Slide 1</dc:title>
</cp:coreProperties>
</file>