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4EB-C05E-44DD-89E2-A3609CEF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ED1-116D-49D6-9BEF-0744D5DD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444-59A9-45B8-A341-6928D9F3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00B-ACBE-4F13-821E-39B6A677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ACF6-E4E8-4AC9-B0EB-56D08EED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17F8-A139-46E9-9807-DC1E579E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7604-9787-4747-A049-A877F99F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6CEC-9710-4C35-B1AF-63E6CE4A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82FE-1E34-4700-843C-88D4EB62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6628-7A2D-4F3A-B142-C28E77F2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A028-0F6E-4775-B30B-00A13BD9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0A9-9320-4F25-93F2-0173B503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7168-FE6E-4A43-811C-71FC8BDA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EF05-2202-42A8-92B6-76974E40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0ED0-3AC9-40BA-BFDF-1F62C3BE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67DC-53B4-4870-A3C0-E8D99803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A6CC-0C55-4884-B9A7-F21E0643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991-2D02-4251-AF45-5BFC27A2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3C0-CE0C-4424-8BF6-B7BFD5DD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3BA-B44F-4C94-9FF7-39B86DF5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31E-6522-4BE1-893C-C4573EA6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22D-2A6F-4E93-B606-ACE8B9B4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2C5-F0E4-43E5-A742-FE855E7F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7F5-3EB6-4089-A30E-A2D48929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6C8C-73FE-4563-BB13-FEC49AA8C9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B34F-5A72-45E2-8C6A-AA252C687EF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 u="sng">
                <a:solidFill>
                  <a:srgbClr val="000000"/>
                </a:solidFill>
                <a:uFillTx/>
                <a:latin typeface="Arial"/>
              </a:rPr>
              <a:t>Stundas tēma: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Ziemas atpūtas plānoša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9280" y="2924280"/>
            <a:ext cx="75614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2f1311"/>
                </a:solidFill>
                <a:uFillTx/>
                <a:latin typeface="Arial"/>
              </a:rPr>
              <a:t>Stundas mērķi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2f1311"/>
                </a:solidFill>
                <a:latin typeface="Arial"/>
              </a:rPr>
              <a:t>Sekmēt skolēnu finanšu pratības prasmju attīstību, veicot aprēķinus par ģimenes izdevumiem Latvijas slēpošanās trasē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4:44:28Z</dcterms:created>
  <dc:creator>Gunta</dc:creator>
  <dc:description/>
  <dc:language>en-US</dc:language>
  <cp:lastModifiedBy>Admins</cp:lastModifiedBy>
  <dcterms:modified xsi:type="dcterms:W3CDTF">2013-01-21T08:27:46Z</dcterms:modified>
  <cp:revision>2</cp:revision>
  <dc:subject/>
  <dc:title>Stundas tēma: Ziemas atpūtas plānošana</dc:title>
</cp:coreProperties>
</file>