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BBC-34DE-4B87-B56E-AF8FABD7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EE7-BDC5-42C6-ABB4-2198DDF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1E9-74CD-450F-8263-7C53634B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07E-0D71-408B-9809-C759FBDB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AD4-0D86-491F-A20C-F9C8B63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9D8-FF26-4BA1-93B8-22AA5A4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8D3-364C-466C-90DD-90D8E4E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945-77C3-400A-AB7C-005FAE3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006-0B22-4DBD-A5FC-FB43A613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F8A-94D0-499D-B544-3ED0A57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DE2-BD3E-4031-A3F8-840B41B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3DD-34DE-4242-8983-7CF107D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2F4-2C3F-4089-A627-A74E476DD57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tura vietturis 3" descr=""/>
          <p:cNvPicPr/>
          <p:nvPr/>
        </p:nvPicPr>
        <p:blipFill>
          <a:blip r:embed="rId1"/>
          <a:stretch/>
        </p:blipFill>
        <p:spPr>
          <a:xfrm>
            <a:off x="414360" y="596880"/>
            <a:ext cx="83152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5:19:52Z</dcterms:created>
  <dc:creator>Admins</dc:creator>
  <dc:description/>
  <dc:language>en-US</dc:language>
  <cp:lastModifiedBy>Admins</cp:lastModifiedBy>
  <dcterms:modified xsi:type="dcterms:W3CDTF">2016-11-21T15:21:54Z</dcterms:modified>
  <cp:revision>2</cp:revision>
  <dc:subject/>
  <dc:title>PowerPoint prezentācija</dc:title>
</cp:coreProperties>
</file>