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9AD0-0CB7-4025-BFAB-932AF4B5C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E60C-E0E3-4B87-B2A0-0F08E997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5EAC-F4E2-48D7-AC2C-350BC4EA5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0364-75CA-4099-B7A3-6613F880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8739-4CE9-43C0-A9A1-FB092672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21A0-4400-4A67-AF89-EC83E50F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8A58-A8EA-43A5-9B40-5CF162AD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0620-578C-4EC0-8ED1-A95C9923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3152-C86C-46F0-8D2F-994C6F24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27D5-9F75-4517-83FD-C345703C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EB7D-CF36-45B0-A0A4-D53B225F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2448-DB93-4F2F-BF8E-348E027E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3915-E9A4-43A0-AFA4-940ACD67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0D42-9FB9-4533-9943-44503130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A816-E51D-4AFB-8D41-47D3B55F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8975-FE81-4AE4-BC02-29EFA4F1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F6B6-26F4-444C-9CA4-FAACE29AA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86856-A1CE-4C41-BE75-81DD512D9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98EAB-361E-46C8-B8A6-A3D57B9B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6B8B6-E6D6-43A4-83F4-299FA36B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A3C01-5D65-4C45-9965-39522604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040FF-CDE7-40DC-9A29-69BF46D0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B56F-C51B-4A7E-BB64-94CA5D3A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81C97-386D-4D95-A43D-AAC39D03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0F23C-12A0-4B98-A17D-514F6377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C6C8D-655C-4BEE-8746-F87767EA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7F01D-55FC-4FC1-A403-556AD082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A7C74-A188-4B9C-A1C9-04289448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60B57-1272-44BA-B836-F41A4228B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A72B5-35CC-4F8A-9110-A4A898FB5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CAA61-5BB2-4209-975C-77A301FF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0F450-E96A-4971-AE45-C740E907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E063E-FFF2-4E62-AC2B-A4681A0A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09EA-A26E-4BE7-87C4-AFCA3E70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772C4-B658-46B7-A3D8-E708405F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B4BA6-B883-41C0-9AD9-EE6BC76E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B4620-BDD2-426C-8CF5-7C2566A9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F780D-FEEC-432B-812D-3CC25807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4077A-5A65-419E-8A7A-E8E8C812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10EFE-AFA9-4B81-8679-4C612217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9C269-03F9-48DA-915C-580B8E0E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B8B88-103E-42CB-A858-048EC5C9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8B447-B0D5-4C09-A545-B7758AF36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F6E63-6A8E-446B-A00B-6D996D4EF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2FAD-4658-45C1-8149-E97D2F14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C085F-050B-4DBC-85E3-EBC89414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107D4-0B6D-4E5D-A301-B7B300DD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CF9CF-904E-409D-8B61-402F20B0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2DD0B-1FEC-4AC9-BB5A-2921987F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613B6-E68B-4B2C-9225-07CF3250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465F7-99E2-4B10-91CB-B32CFB4F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7674B-2FA0-4C8C-A026-1A093603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E2AEE-1C8E-4ABC-9966-C28878D1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86DE0-5A5E-4D33-A7CA-859BFADD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EB6CD-E7CB-4478-A48F-06771541E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BE77-2737-4A75-92D6-5788CE23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F2B2E-2FC8-4A08-A885-8FA26777D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6C01-16D1-4630-85C3-371CE1C7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269F-67D0-4E3D-926A-59B18CDF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AD4E-3D98-4F27-AA30-3A56F5A5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2C78-1C74-4FCD-9514-1E951E7EB37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40B6-BC74-4CA5-9183-8980BD5DE54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C9FF-9E0A-4616-A276-4EE7C96051C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B24F-B385-4CA1-86F3-128B5CB8FAC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C731-716B-47A6-A58F-8B0F316BE32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http://artjunkies.net/uploads/posts/2008-09/1221396742_n-map_final.jpg"/>
          <p:cNvPicPr/>
          <p:nvPr/>
        </p:nvPicPr>
        <p:blipFill>
          <a:blip r:embed="rId1"/>
          <a:srcRect l="0" t="0" r="0" b="894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2" descr=""/>
          <p:cNvPicPr/>
          <p:nvPr/>
        </p:nvPicPr>
        <p:blipFill>
          <a:blip r:embed="rId2"/>
          <a:stretch/>
        </p:blipFill>
        <p:spPr>
          <a:xfrm>
            <a:off x="1828800" y="1182600"/>
            <a:ext cx="567540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http://vglib.ru/sourse/fr590p/1079.jpg"/>
          <p:cNvPicPr/>
          <p:nvPr/>
        </p:nvPicPr>
        <p:blipFill>
          <a:blip r:embed="rId1"/>
          <a:srcRect l="0" t="0" r="0" b="5100"/>
          <a:stretch/>
        </p:blipFill>
        <p:spPr>
          <a:xfrm rot="867600">
            <a:off x="5317920" y="2717640"/>
            <a:ext cx="3333600" cy="35420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http://www.norge.ru/file/mod_news/2009_06/image_viking008.jpg"/>
          <p:cNvPicPr/>
          <p:nvPr/>
        </p:nvPicPr>
        <p:blipFill>
          <a:blip r:embed="rId2"/>
          <a:srcRect l="25866" t="0" r="30497" b="0"/>
          <a:stretch/>
        </p:blipFill>
        <p:spPr>
          <a:xfrm>
            <a:off x="3857760" y="785880"/>
            <a:ext cx="1928520" cy="28382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http://folkler.ru/images/50.jpg"/>
          <p:cNvPicPr/>
          <p:nvPr/>
        </p:nvPicPr>
        <p:blipFill>
          <a:blip r:embed="rId3"/>
          <a:stretch/>
        </p:blipFill>
        <p:spPr>
          <a:xfrm>
            <a:off x="133200" y="781200"/>
            <a:ext cx="451188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http://desktop.spbland.ru/foto/1024-1213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1"/>
          <p:cNvSpPr/>
          <p:nvPr/>
        </p:nvSpPr>
        <p:spPr>
          <a:xfrm>
            <a:off x="460080" y="428760"/>
            <a:ext cx="86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la – sauszemes daļa, kuru visapkārt ieskauj ūdens. Vislielākā sala pasaulē i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lv-LV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Grenlan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http://new-history2005.narod.ru/go6.jpg"/>
          <p:cNvPicPr/>
          <p:nvPr/>
        </p:nvPicPr>
        <p:blipFill>
          <a:blip r:embed="rId1"/>
          <a:stretch/>
        </p:blipFill>
        <p:spPr>
          <a:xfrm>
            <a:off x="3067200" y="781200"/>
            <a:ext cx="2681280" cy="1931760"/>
          </a:xfrm>
          <a:prstGeom prst="rect">
            <a:avLst/>
          </a:prstGeom>
          <a:ln w="0">
            <a:noFill/>
          </a:ln>
        </p:spPr>
      </p:pic>
      <p:sp>
        <p:nvSpPr>
          <p:cNvPr id="236" name="TextBox 3"/>
          <p:cNvSpPr/>
          <p:nvPr/>
        </p:nvSpPr>
        <p:spPr>
          <a:xfrm>
            <a:off x="285840" y="27860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b050"/>
                </a:solidFill>
                <a:latin typeface="Perpetua"/>
              </a:rPr>
              <a:t>Pussala – sauszemes daļa, kas stiepjas jūrā, ezerā, upē, ko no trim pusēm apsk</a:t>
            </a:r>
            <a:r>
              <a:rPr b="0" lang="en-US" sz="1800" spc="-1" strike="noStrike">
                <a:solidFill>
                  <a:srgbClr val="00b050"/>
                </a:solidFill>
                <a:latin typeface="Perpetua"/>
              </a:rPr>
              <a:t>a</a:t>
            </a:r>
            <a:r>
              <a:rPr b="0" lang="lv-LV" sz="1800" spc="-1" strike="noStrike">
                <a:solidFill>
                  <a:srgbClr val="00b050"/>
                </a:solidFill>
                <a:latin typeface="Perpetua"/>
              </a:rPr>
              <a:t>lo ūd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6"/>
          <p:cNvSpPr/>
          <p:nvPr/>
        </p:nvSpPr>
        <p:spPr>
          <a:xfrm>
            <a:off x="571680" y="3357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7030a0"/>
                </a:solidFill>
                <a:latin typeface="Perpetua"/>
              </a:rPr>
              <a:t>Upēs grīva - </a:t>
            </a:r>
            <a:r>
              <a:rPr b="0" lang="en-US" sz="1800" spc="-1" strike="noStrike">
                <a:solidFill>
                  <a:srgbClr val="7030a0"/>
                </a:solidFill>
                <a:latin typeface="Perpetua"/>
              </a:rPr>
              <a:t>upes posms pie ietekas jūrā, ezerā</a:t>
            </a:r>
            <a:r>
              <a:rPr b="0" lang="lv-LV" sz="1800" spc="-1" strike="noStrike">
                <a:solidFill>
                  <a:srgbClr val="7030a0"/>
                </a:solidFill>
                <a:latin typeface="Perpetu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http://www.elwhainfo.org/files/Image/Aerial%20River%20Mouth.preview.jpg"/>
          <p:cNvPicPr/>
          <p:nvPr/>
        </p:nvPicPr>
        <p:blipFill>
          <a:blip r:embed="rId2"/>
          <a:stretch/>
        </p:blipFill>
        <p:spPr>
          <a:xfrm>
            <a:off x="2500200" y="3857760"/>
            <a:ext cx="4000680" cy="2671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428760" y="642960"/>
            <a:ext cx="7858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Monotype Corsiva"/>
              </a:rPr>
              <a:t>Uzdevum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Monotype Corsiva"/>
              </a:rPr>
              <a:t>Kā vikingus sauca citas taut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Monotype Corsiva"/>
              </a:rPr>
              <a:t>Kādu salu vikingi atklāj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Monotype Corsiva"/>
              </a:rPr>
              <a:t>Pa kādām jūrām tie kuģoj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Monotype Corsiva"/>
              </a:rPr>
              <a:t>Kā tu raksturotu viking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http://www.askrobinwalker.com/files/2127328/uploaded/question_mark_3d.png"/>
          <p:cNvPicPr/>
          <p:nvPr/>
        </p:nvPicPr>
        <p:blipFill>
          <a:blip r:embed="rId1"/>
          <a:stretch/>
        </p:blipFill>
        <p:spPr>
          <a:xfrm>
            <a:off x="5572080" y="0"/>
            <a:ext cx="343368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2-23T15:30:57Z</dcterms:modified>
  <cp:revision>7</cp:revision>
  <dc:subject/>
  <dc:title>Слайд 1</dc:title>
</cp:coreProperties>
</file>