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63B-6EB6-45EA-8CE5-01F4DE3A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39A-529F-48FD-9E2B-30CC155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A46-5607-4766-9BCA-D84C6BFD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6BD-817C-4C28-ABB8-18D68C45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72F-E926-4BB2-B787-9A2E739A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B09-4702-4F3B-BAFF-BC8F6D32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139-AD85-41F6-B94D-2B4F570B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E7D-60AA-4205-85A5-E30F3846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B26C-88D1-41D6-A840-9DCBF5C3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1EA-B131-4A68-BD6F-392E8FFB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458-41D8-4D67-8206-3F540C41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6B2-8391-428B-9E23-DD9533F3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DBBF-E2D7-4196-94CE-DE15F9AB4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6BPxLYqM2g" TargetMode="External"/><Relationship Id="rId2" Type="http://schemas.openxmlformats.org/officeDocument/2006/relationships/hyperlink" Target="http://www.youtube.com/watch?v=etc0If6jjN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жская средняя школа №33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и литературы в 10а классе</a:t>
            </a:r>
            <a:br>
              <a:rPr sz="3600"/>
            </a:b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  Конфликт отцов  и детей. Кто кому что должен? (А.С.Пушкин «Скупой рыцарь»)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960" y="4642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Елена Мальц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сотрудни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76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астье – это родство отца и сы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охранить счастливые отношени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ому что долже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http://www.infovoronezh.ru/images/News/1269927836_full.jpg"/>
          <p:cNvPicPr/>
          <p:nvPr/>
        </p:nvPicPr>
        <p:blipFill>
          <a:blip r:embed="rId1"/>
          <a:stretch/>
        </p:blipFill>
        <p:spPr>
          <a:xfrm>
            <a:off x="1785960" y="3429000"/>
            <a:ext cx="47624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маленькой трагедии Пушкин пристально вглядывается в какой-нибудь порок. В «Скупом рыцаре» это 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714240" y="2928960"/>
            <a:ext cx="7715520" cy="3506760"/>
          </a:xfrm>
          <a:prstGeom prst="rect">
            <a:avLst/>
          </a:prstGeom>
          <a:solidFill>
            <a:srgbClr val="558ed5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дын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омерие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щеслав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н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нос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 праздность, уны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чнос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жадность, скупость, сребро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воугод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обжо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дострасти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 блуд, похоть, распут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Botticelli_ad"/>
          <p:cNvPicPr/>
          <p:nvPr/>
        </p:nvPicPr>
        <p:blipFill>
          <a:blip r:embed="rId1"/>
          <a:stretch/>
        </p:blipFill>
        <p:spPr>
          <a:xfrm>
            <a:off x="-176040" y="0"/>
            <a:ext cx="981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840" y="-36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и Ада у Дан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круг . Некрещеные младенцы и добродетельные нехристиан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круг. Сладострастники (блудники и прелюбодеи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круг. Чревоугодники  (обжоры и гурманы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круг. Скупцы и расточит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круг. Гневные и ленивы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й круг. Еретики и лжеучите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й круг. Насильники (Тираны и разбойники. Самоубийцы, игроки и моты. Богохульники, содомиты и лихоимы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й круг. Обманувшие недоверившихся. (Сводники и обольстители.  Льстецы. Святокупцы.  Прорицатели, гадатели, звездочёты, колдуньи.  Мздоимцы, взяточники. Лицемеры. Воры. Лукавые советчики. Зачинщики раздора. Алхимики, лжесвидетели, фальшивомонетчик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й круг. Обманувшие доверившихся. (Предатели родных.  Предатели родины и единомышленников.  Предатели друзей и сотрапезников.  Предатели благодетелей, величества божеского и человеческого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основе развития действия в драматическом произведении лежит конфликт. Основной конфликт в трагедии внешний: между  _____________________ и _________________________. Отец   считает, что богатство _______________________________________.  Цель сына –_____________________________________. Конфликт усугубляется участием __________________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изведение состоит из ________ сцен. Кульминацией является _______________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 сце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и пути её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6143760" y="1571760"/>
            <a:ext cx="2747880" cy="38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071880" y="1500120"/>
            <a:ext cx="282096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214200" y="1500120"/>
            <a:ext cx="2876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и пути её реш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вариант. Занять денег (Взять кредит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вариант. Получить наследств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вариант. Помощь государ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 вариант. 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 вариант.  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льная характеристика отца и сын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28760" y="928800"/>
          <a:ext cx="8229600" cy="5027400"/>
        </p:xfrm>
        <a:graphic>
          <a:graphicData uri="http://schemas.openxmlformats.org/drawingml/2006/table">
            <a:tbl>
              <a:tblPr/>
              <a:tblGrid>
                <a:gridCol w="4900320"/>
                <a:gridCol w="1643400"/>
                <a:gridCol w="1685880"/>
              </a:tblGrid>
              <a:tr h="610200"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екс чести рыцар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Верь всему, чему учит Церковь, и соблюдай все ее запове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Выказывай уважение всем немощным и стань их защитни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Не солги и будь верным данному слов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Будь щедрым и оказывай всем милости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Везде и всегда будь поборником Права и Добра и борись с несправедливостью и зл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4200" y="1143000"/>
            <a:ext cx="8786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отцов  и детей. Кто кому что должен?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571760" y="2500200"/>
            <a:ext cx="575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858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 Альберу или Барон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сохранить добрые отношения между родителями и деть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ttÄlu rezultÄti vaicÄjumam âÑ Ð²ÐµÑÐ½Ð¾Ð¹ Ð°Ð½Ð¸Ð¼Ð°ÑÐ¸Ñâ"/>
          <p:cNvPicPr/>
          <p:nvPr/>
        </p:nvPicPr>
        <p:blipFill>
          <a:blip r:embed="rId1"/>
          <a:stretch/>
        </p:blipFill>
        <p:spPr>
          <a:xfrm>
            <a:off x="857160" y="1000080"/>
            <a:ext cx="7383600" cy="4810320"/>
          </a:xfrm>
          <a:prstGeom prst="rect">
            <a:avLst/>
          </a:prstGeom>
          <a:ln w="0">
            <a:noFill/>
          </a:ln>
        </p:spPr>
      </p:pic>
      <p:pic>
        <p:nvPicPr>
          <p:cNvPr id="44" name="srednevekovaja_muzika_-_ricarskaja_(zf.fm).mp3" descr=""/>
          <p:cNvPicPr/>
          <p:nvPr/>
        </p:nvPicPr>
        <p:blipFill>
          <a:blip r:embed="rId2"/>
          <a:stretch/>
        </p:blipFill>
        <p:spPr>
          <a:xfrm>
            <a:off x="850104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64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2"/>
          <p:cNvSpPr/>
          <p:nvPr/>
        </p:nvSpPr>
        <p:spPr>
          <a:xfrm>
            <a:off x="357120" y="142920"/>
            <a:ext cx="857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стать счастливым, нужно заполни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и – работо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це – любов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 – це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– полезным знани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– надеж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https://www.b17.ru/foto/uploaded/aa6c6e6262201656f9941a01c8fe78ea.jpg"/>
          <p:cNvPicPr/>
          <p:nvPr/>
        </p:nvPicPr>
        <p:blipFill>
          <a:blip r:embed="rId1"/>
          <a:stretch/>
        </p:blipFill>
        <p:spPr>
          <a:xfrm>
            <a:off x="2357280" y="3286080"/>
            <a:ext cx="42865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F:\Скупой рыцарь\d311bb05b1.jpg"/>
          <p:cNvPicPr/>
          <p:nvPr/>
        </p:nvPicPr>
        <p:blipFill>
          <a:blip r:embed="rId1"/>
          <a:stretch/>
        </p:blipFill>
        <p:spPr>
          <a:xfrm>
            <a:off x="1870200" y="0"/>
            <a:ext cx="540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ÐÐ°ÑÑÐ¸Ð½ÐºÐ¸ Ð¿Ð¾ Ð·Ð°Ð¿ÑÐ¾ÑÑ Ð´ÐµÑÐ¸ Ð½Ð°ÑÐµ Ð·ÐµÑÐºÐ°Ð»Ð¾"/>
          <p:cNvPicPr/>
          <p:nvPr/>
        </p:nvPicPr>
        <p:blipFill>
          <a:blip r:embed="rId1"/>
          <a:stretch/>
        </p:blipFill>
        <p:spPr>
          <a:xfrm>
            <a:off x="714240" y="642960"/>
            <a:ext cx="77709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286160" y="1571760"/>
            <a:ext cx="428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а католической церкви Латвии Збигнев Станкевич пожелал латвийцам заметить огонек, скрытый в окружающих нас людях. И посмотреть на них как на друзей, а не как на чужих, чтобы растопить стену непонимания и отч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, которая сокрыта в Христовом Воскресении - способна преобразить нашу жизнь и помочь нам посмотреть друг на друга другими глазами. И дать силу преодолеть наши проблемы», - заявил архиеписк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3909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286160" y="1571760"/>
            <a:ext cx="464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католической церкви Латвии Збигнев Станкевич пожелал латвийцам заметить огонек, скрытый в окружающих нас людях. И посмотреть на них как на друзей, а не как на чужих, чтобы растопить стену непонимания и отчу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йна, которая сокрыта в Христовом Воскресении - способна преобразить нашу жизнь и помочь нам посмотреть друг на друга другими глазами. И дать силу преодолеть наши проблемы», - заявил архиеписко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3909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бы это значил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Nik\Documents\28056277_819540868246501_7231100888990143281_n.jpg"/>
          <p:cNvPicPr/>
          <p:nvPr/>
        </p:nvPicPr>
        <p:blipFill>
          <a:blip r:embed="rId1"/>
          <a:stretch/>
        </p:blipFill>
        <p:spPr>
          <a:xfrm>
            <a:off x="2571840" y="1571760"/>
            <a:ext cx="35719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к мудрецу пришел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мудрый! Помоги мне! Мне плохо. Моя дочь не понимает меня. Она не слышит меня. Она не говорит со мной. Она жестокая. Зачем ей сердц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ец сказа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ты вернешься домой, напиши ее портрет, отнеси его дочери и молча отдай 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ующий день к мудрецу ворвался разгневанный человек и воскликну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 ты посоветовал мне вчера совершить этот глупый поступок!? Было плохо.  А стало еще хуже! Она вернула мне рисунок, полная негодовани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она сказала тебе? — спросил мудр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казала:</a:t>
            </a: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?????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ÐÐ°ÑÑÐ¸Ð½ÐºÐ¸ Ð¿Ð¾ Ð·Ð°Ð¿ÑÐ¾ÑÑ ÐºÐ¾Ð½ÑÐ»Ð¸ÐºÑ Ð¾ÑÑÐ¾Ð² Ð¸ Ð´ÐµÑÐµÐ¹"/>
          <p:cNvPicPr/>
          <p:nvPr/>
        </p:nvPicPr>
        <p:blipFill>
          <a:blip r:embed="rId1"/>
          <a:stretch/>
        </p:blipFill>
        <p:spPr>
          <a:xfrm>
            <a:off x="6072120" y="4786200"/>
            <a:ext cx="28447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казала: «Зачем ты мне это принес? Разве тебе недостаточно зеркала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ÐÐ°ÑÑÐ¸Ð½ÐºÐ¸ Ð¿Ð¾ Ð·Ð°Ð¿ÑÐ¾ÑÑ Ð´ÐµÑÐ¸ Ð¾ÑÑÐ°Ð¶ÐµÐ½Ð¸Ðµ ÑÐ¾Ð´Ð¸ÑÐµÐ»ÐµÐ¹"/>
          <p:cNvPicPr/>
          <p:nvPr/>
        </p:nvPicPr>
        <p:blipFill>
          <a:blip r:embed="rId1"/>
          <a:stretch/>
        </p:blipFill>
        <p:spPr>
          <a:xfrm>
            <a:off x="1357200" y="3286080"/>
            <a:ext cx="60724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ÐÐ·ÑÐ¾ÑÐ»ÐµÑ,Ð¾Ð½Ð¸ Ð½Ð°ÑÐ¸Ð½Ð°ÑÑ Ð¸Ñ ÑÑÐ´Ð¸ÑÑ...ÐÐ½Ð¾Ð³Ð´Ð° Ð¾Ð½Ð¸ Ð¸Ñ ÐÑÐ¾ÑÐ°ÑÑ..."/>
          <p:cNvPicPr/>
          <p:nvPr/>
        </p:nvPicPr>
        <p:blipFill>
          <a:blip r:embed="rId1"/>
          <a:stretch/>
        </p:blipFill>
        <p:spPr>
          <a:xfrm>
            <a:off x="1428840" y="-9360"/>
            <a:ext cx="613404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отцов  и детей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кому что долже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571464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Пушкин «Скупой рыцар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ÐÐ°ÑÑÐ¸Ð½ÐºÐ¸ Ð¿Ð¾ Ð·Ð°Ð¿ÑÐ¾ÑÑ Ð¡ÐºÑÐ¿Ð¾Ð¹ ÑÑÑÐ°ÑÑ Ð¸Ð»Ð»ÑÑÑÑÐ°ÑÐ¸Ð¸"/>
          <p:cNvPicPr/>
          <p:nvPr/>
        </p:nvPicPr>
        <p:blipFill>
          <a:blip r:embed="rId1"/>
          <a:stretch/>
        </p:blipFill>
        <p:spPr>
          <a:xfrm>
            <a:off x="1285920" y="1500120"/>
            <a:ext cx="66675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робей (фрагменты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тча о вороб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youtube.com/watch?v=M6BPxLYqM2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ец и сын. Любите родителей! (русская верс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etc0If6jj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1T07:22:46Z</dcterms:created>
  <dc:creator>Nik</dc:creator>
  <dc:description/>
  <dc:language>en-US</dc:language>
  <cp:lastModifiedBy>User</cp:lastModifiedBy>
  <dcterms:modified xsi:type="dcterms:W3CDTF">2019-04-21T17:08:48Z</dcterms:modified>
  <cp:revision>77</cp:revision>
  <dc:subject/>
  <dc:title>Скупой рыцарь</dc:title>
</cp:coreProperties>
</file>