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E49-3154-4EC0-A13E-EB206E9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C65-1E9D-470D-A721-C06A90B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279-C540-412F-B846-0B2F2CED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E5D-F010-4B49-8524-6EA96C1D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6B3-A5C7-4350-88AF-994DF0A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E74-0F2E-4C53-8556-2BFF714D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7D2-6DEC-4C15-BA6E-A035B7E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195-3057-477F-8FEE-0E234E58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EAD-060B-42B3-8C12-360C676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F04-15B5-495D-BD1A-5E19A7E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807-5333-4371-A475-7EE3A406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590-A085-4718-A4C1-0578A99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216C-821E-4115-9E07-3C1432D97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жская средняя школа №33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5 классе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 Как научиться в мире жить? Анализ текста Ш.Сильверстайна «Щедрое дерево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6720" y="4495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Елена Мальце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2501640" cy="22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ÐÐ°ÑÑÐ¸Ð½ÐºÐ¸ Ð¿Ð¾ Ð·Ð°Ð¿ÑÐ¾ÑÑ ÑÐµÐ´ÑÑÐ¹"/>
          <p:cNvPicPr/>
          <p:nvPr/>
        </p:nvPicPr>
        <p:blipFill>
          <a:blip r:embed="rId3"/>
          <a:stretch/>
        </p:blipFill>
        <p:spPr>
          <a:xfrm>
            <a:off x="6400800" y="3581280"/>
            <a:ext cx="2286000" cy="2211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231948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2971800" y="2133720"/>
            <a:ext cx="3206880" cy="21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6"/>
          <a:stretch/>
        </p:blipFill>
        <p:spPr>
          <a:xfrm>
            <a:off x="6477120" y="76320"/>
            <a:ext cx="2361960" cy="285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ttÄlu rezultÄti vaicÄjumam âÐ¿Ð¾Ð´Ð²ÐµÐ´ÐµÐ¼ Ð¸ÑÐ¾Ð³Ð¸â"/>
          <p:cNvPicPr/>
          <p:nvPr/>
        </p:nvPicPr>
        <p:blipFill>
          <a:blip r:embed="rId7"/>
          <a:stretch/>
        </p:blipFill>
        <p:spPr>
          <a:xfrm>
            <a:off x="2819520" y="4419720"/>
            <a:ext cx="2877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22860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ОСТЬ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кон. рус.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казание бескорыстной помощи други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хотная трата на друг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ЫЙ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хотно делящийся с другими своими средствами, имуществом и т.п.; не жалеющий тратить, расходовать что-либо.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ый челове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егко, охотно наделяющий чем-либо.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ый на похвал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о размерам, значительный по ценности.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ое вознагражде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огатый, обильный чем-либо.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был щедрым на яблок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12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228600" y="3048120"/>
            <a:ext cx="17524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с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е отсутствие щедрости)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505320" y="3048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ость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248520" y="3048120"/>
            <a:ext cx="26668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оч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нужный избыток щедрости, граничащий с неуважением к себе)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228600" y="304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елдон Аллан Сильверстайн. Щедрое дерево.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6" name="Picture 7" descr="Картинки по запросу щедрое дерево"/>
          <p:cNvPicPr/>
          <p:nvPr/>
        </p:nvPicPr>
        <p:blipFill>
          <a:blip r:embed="rId1"/>
          <a:stretch/>
        </p:blipFill>
        <p:spPr>
          <a:xfrm>
            <a:off x="3657600" y="10666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2743200" cy="3781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80880" y="4952880"/>
            <a:ext cx="304812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930 – 1999)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мериканский карикатурист, писатель, музыкант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57200" y="129528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95280" y="1371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09480" y="10666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397160"/>
          <a:ext cx="807732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2819520"/>
                <a:gridCol w="32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ы жизн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и состояния Мальчика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и состояния Яблон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тво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ость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елость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илой возраст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ость 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ef397"/>
                        </a:gs>
                        <a:gs pos="100000">
                          <a:srgbClr val="eafae0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93" name="TextBox 5"/>
          <p:cNvSpPr/>
          <p:nvPr/>
        </p:nvSpPr>
        <p:spPr>
          <a:xfrm>
            <a:off x="533520" y="4572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жить с героями рассказа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 рассказа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50288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ь соавтор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 продолже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-228600" y="30492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ём итоги урока!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ttÄlu rezultÄti vaicÄjumam âÐ¿Ð¾Ð´Ð²ÐµÐ´ÐµÐ¼ Ð¸ÑÐ¾Ð³Ð¸â"/>
          <p:cNvPicPr/>
          <p:nvPr/>
        </p:nvPicPr>
        <p:blipFill>
          <a:blip r:embed="rId2"/>
          <a:stretch/>
        </p:blipFill>
        <p:spPr>
          <a:xfrm>
            <a:off x="2209680" y="13716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292400" y="378000"/>
            <a:ext cx="6870600" cy="4809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19320" y="5181480"/>
            <a:ext cx="7010280" cy="1191240"/>
          </a:xfrm>
          <a:prstGeom prst="rect">
            <a:avLst/>
          </a:prstGeom>
          <a:solidFill>
            <a:srgbClr val="1b59b5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Жизнь – это бесконечная лестница.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ждая ступень имеет своё название: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оброта, щедрость, мудрость..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ÐÐ°ÑÑÐ¸Ð½ÐºÐ¸ Ð¿Ð¾ Ð·Ð°Ð¿ÑÐ¾ÑÑ Ð»ÐµÑÑÐ½Ð¸ÑÐ° ÑÑÐ¿ÐµÑÐ°"/>
          <p:cNvPicPr/>
          <p:nvPr/>
        </p:nvPicPr>
        <p:blipFill>
          <a:blip r:embed="rId2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19520" y="5181480"/>
            <a:ext cx="6172200" cy="838440"/>
          </a:xfrm>
          <a:prstGeom prst="rect">
            <a:avLst/>
          </a:prstGeom>
          <a:solidFill>
            <a:srgbClr val="cf68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чился (училась) 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114800" y="4343400"/>
            <a:ext cx="4876920" cy="838080"/>
          </a:xfrm>
          <a:prstGeom prst="rect">
            <a:avLst/>
          </a:prstGeom>
          <a:solidFill>
            <a:srgbClr val="cf68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знал(а)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800600" y="3505320"/>
            <a:ext cx="4191120" cy="838080"/>
          </a:xfrm>
          <a:prstGeom prst="rect">
            <a:avLst/>
          </a:prstGeom>
          <a:solidFill>
            <a:srgbClr val="cf68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нял(а)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0" y="380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стница успеха на уроке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59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292400" y="378000"/>
            <a:ext cx="687060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1219320" y="5181480"/>
            <a:ext cx="7010280" cy="1191240"/>
          </a:xfrm>
          <a:prstGeom prst="rect">
            <a:avLst/>
          </a:prstGeom>
          <a:solidFill>
            <a:srgbClr val="1b59b5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Жизнь – это бесконечная лестница.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ждая ступень имеет своё название: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оброта, щедрость, мудрость..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учиться в мире жить?</a:t>
            </a:r>
            <a:endParaRPr b="0" lang="en-US" sz="32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468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знать не дан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будет он ж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ано выбирать одн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ему с этим временем быть – жить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 жить, 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 жить, жи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 жить, 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 жить, 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учиться в мире жи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любить, уметь прощ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 конца себя отда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 конца себя отд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 жить, 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учиться просто жи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юдьми родными рядом бы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мечтать, вместе люб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м мигом своим до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и по запросу жить"/>
          <p:cNvPicPr/>
          <p:nvPr/>
        </p:nvPicPr>
        <p:blipFill>
          <a:blip r:embed="rId1"/>
          <a:stretch/>
        </p:blipFill>
        <p:spPr>
          <a:xfrm>
            <a:off x="5000760" y="2214720"/>
            <a:ext cx="3862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Как научиться в мире жить? </a:t>
            </a: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51" name="Picture 35" descr="I:\щедрое дерево\grustit.png"/>
          <p:cNvPicPr/>
          <p:nvPr/>
        </p:nvPicPr>
        <p:blipFill>
          <a:blip r:embed="rId1"/>
          <a:stretch/>
        </p:blipFill>
        <p:spPr>
          <a:xfrm>
            <a:off x="2895480" y="2362320"/>
            <a:ext cx="3505320" cy="40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1"/>
          <p:cNvSpPr/>
          <p:nvPr/>
        </p:nvSpPr>
        <p:spPr>
          <a:xfrm>
            <a:off x="228600" y="304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елдон Аллан Сильверстайн. Щедрое дерево.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" name="Picture 7" descr="Картинки по запросу щедрое дерево"/>
          <p:cNvPicPr/>
          <p:nvPr/>
        </p:nvPicPr>
        <p:blipFill>
          <a:blip r:embed="rId1"/>
          <a:stretch/>
        </p:blipFill>
        <p:spPr>
          <a:xfrm>
            <a:off x="3657600" y="10666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2743200" cy="3781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80880" y="4952880"/>
            <a:ext cx="304812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930 – 1999)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мериканский карикатурист, писатель, музыкант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слова урока</a:t>
            </a: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ое значени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зна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сотрудничества</a:t>
            </a:r>
            <a:endParaRPr b="0" lang="en-US" sz="5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ttÄlu rezultÄti vaicÄjumam âÑÐ¾ÑÑÑÐ´Ð½Ð¸ÑÐµÑÑÐ²Ð¾ pngâ"/>
          <p:cNvPicPr/>
          <p:nvPr/>
        </p:nvPicPr>
        <p:blipFill>
          <a:blip r:embed="rId1"/>
          <a:stretch/>
        </p:blipFill>
        <p:spPr>
          <a:xfrm>
            <a:off x="1752480" y="1541520"/>
            <a:ext cx="57913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объяснения лексического значения слова</a:t>
            </a:r>
            <a:br>
              <a:rPr sz="2800"/>
            </a:br>
            <a:endParaRPr b="0" lang="en-US" sz="28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дрость</a:t>
            </a:r>
            <a:endParaRPr b="0" lang="en-US" sz="5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-сим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ание значени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sosceles Triangle 3"/>
          <p:cNvSpPr/>
          <p:nvPr/>
        </p:nvSpPr>
        <p:spPr>
          <a:xfrm>
            <a:off x="2743200" y="1371600"/>
            <a:ext cx="3270240" cy="2514600"/>
          </a:xfrm>
          <a:prstGeom prst="triangle">
            <a:avLst>
              <a:gd name="adj" fmla="val 50000"/>
            </a:avLst>
          </a:prstGeom>
          <a:solidFill>
            <a:srgbClr val="eff5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k</dc:creator>
  <dc:description/>
  <dc:language>en-US</dc:language>
  <cp:lastModifiedBy>User</cp:lastModifiedBy>
  <dcterms:modified xsi:type="dcterms:W3CDTF">2019-04-21T17:21:13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