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FA81-81E2-40C2-B77C-5FB329EEA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80F7-6640-4907-9171-B8A8B5FB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51F3-F4F0-46D1-A47C-3D6951FD2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0DE5-B7F4-4A85-8576-092AF178E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E0AC-3DEF-4912-9A2B-826CF614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7B5E-F11E-44B5-8D40-DB403F68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4D4F-91CC-45A2-8278-D686F299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9205-A04C-40B0-8B46-84C69A98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95F5-61F0-4E10-B952-EC6DADC5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1402-DB43-4857-937C-8DF9FF38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49B3-C492-4542-B9B8-A4D19321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6E6A-6B3F-48A8-9928-0F16FEA1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D6A7-1D4D-4BCC-A299-14A17F1990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IEVADS STATISTIK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ērķis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Izvērtē, kādus datus nepieciešams iegūt un apkop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Izvērtē, kādus datus nepieciešams apkopot, atbilstoši pētāmai problēmai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lv-LV" sz="2800" spc="-1" strike="noStrike">
                <a:solidFill>
                  <a:srgbClr val="000000"/>
                </a:solidFill>
                <a:latin typeface="Arial"/>
              </a:rPr>
              <a:t>Skolā tiek organizēts konkurss par sportiskāko 8.klasi. Kā rīkoties, lai konkursa rezultāti būtu iespējami objektīvāk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800" spc="-1" strike="noStrike" u="sng">
                <a:solidFill>
                  <a:srgbClr val="000000"/>
                </a:solidFill>
                <a:uFillTx/>
                <a:latin typeface="Arial"/>
              </a:rPr>
              <a:t>Kuri no minētajiem datiem noderēs konkursa rīkotāji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lašu atzīmju saraksti sport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lašu vidējās atzīmes visos priekšmetos kop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Sporta stundu kavējumu saraksti pa klasē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Sporta skolas apmeklētāju saraks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Rudens krosa rezultā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Izvērtē, kādus datus nepieciešams apkopot, atbilstoši pētāmai problēmai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Skolā tiek organizēts konkurss par sportiskāko 8. klasi. Kā rīkoties, lai konkursa rezultāti būtu iespējami objektīvāk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ādu informāciju nepieciešams savākt, lai noskaidrotu, kura no 8. klasēm ir sportiskāk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tu ieteiktu darīt konkursa rīkotājiem, ja izrādītos, ka visām klasēm ir vienādas vidējās atzīmes sportā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Attēlo datus sektoru diagrammā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ptaujā tika noskaidrots, ka puse klases (50%) vasarā katru dienu brauca ar divriteni, ceturtdaļa (25%) ar divriteni brauca ne biežāk kā reizi nedēļā, bet ceturtdaļa (25%) to nedarīja nemaz. Attēlo šo informāciju sektoru diagrammā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Attēlo datus sektoru diagrammās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lv-LV" sz="3600" spc="-1" strike="noStrike">
                <a:solidFill>
                  <a:srgbClr val="000000"/>
                </a:solidFill>
                <a:latin typeface="Arial"/>
              </a:rPr>
              <a:t>Latvijai ir sauszemes robeža ar 4 valstīm: ar Igauniju – 343 km, ar Krieviju – 282 km, ar Baltkrieviju – 167 km, ar Lietuvu – 576 km. Krasta līnijas garums – 494 km. Attēlo šo informāciju sektoru diagrammā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Iegūst un atlasa nepieciešamo informāciju, izmantojot dažādas</a:t>
            </a:r>
            <a:br>
              <a:rPr sz="2800"/>
            </a:b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meto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lv-LV" sz="3600" spc="-1" strike="noStrike">
                <a:solidFill>
                  <a:srgbClr val="000000"/>
                </a:solidFill>
                <a:latin typeface="Arial"/>
              </a:rPr>
              <a:t>Kā tu varētu noskaidrot, cik bieži un kāpēc tavi klasesbiedri apmeklējuši skolas bibliotēku pēdējā mēneša laikā? Pamato informācijas iegūšanas metodes izvēli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5:51:38Z</dcterms:created>
  <dc:creator>Natashka</dc:creator>
  <dc:description/>
  <dc:language>en-US</dc:language>
  <cp:lastModifiedBy>Natashka</cp:lastModifiedBy>
  <dcterms:modified xsi:type="dcterms:W3CDTF">2011-11-07T15:57:09Z</dcterms:modified>
  <cp:revision>2</cp:revision>
  <dc:subject/>
  <dc:title>Slide 1</dc:title>
</cp:coreProperties>
</file>