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1FC-3A55-4B2D-83D3-33CAF3EE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D1B-5E64-4946-9E0F-40E111B1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01B-25A2-4259-B571-5584DAF4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BD8-8E75-40A9-B00E-5A4ED8D4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476-7A69-4C8A-85A0-1C908E8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223-7464-4E3E-8ECB-5F8B504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19B-397C-436E-8D81-A7A977E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0DD-4117-45C7-A899-3AE4C054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1EE-07DD-4312-94F0-20473808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8B4-9CBC-4528-8EFC-5531D28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502-74E1-4EAA-88CE-E955526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2DE-92F5-4FB0-A8A5-8BF4DAD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36C-9728-4138-AF35-CAA385FD0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Uzdevumi par telpiskiem ķermeņi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Mērķi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: turpināt veidot prasmes atlasīt un pielietot nepieciešamas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rēķini tilpumu piramīdai, ja pamata paralelograma mala ir 6 cm un pret to novilktais augstums ir 5 cm, bet piramīdas augstums ir 14 c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prēķin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lakusleņķi attiecas kā 3:5. Aprēķini šos blakusleņķ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aisnleņķa trijstūra katetes ir 2cm un 4 cm garas. Aprēķini trijstūra šauro leņķu sinusu skaitlisko vērtīb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enādmalu trijstūra augstums ir 6 cm. Aprēķini trijstūra mal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eksistē tāds regulārs daudzstūris, kura katrs leņķis ir 1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li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uba skaldnes laukums ir 49 c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. Aprēķini kuba tilpum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Cilindra virsmas laukum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969920"/>
            <a:ext cx="3382920" cy="294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 rot="10807200">
            <a:off x="4209480" y="2028960"/>
            <a:ext cx="49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Cilindra virsmas laukums vienāds ar tā divu pamatu laukumu un sānu virsmas laukuma summu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Cilindra tilpum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275560"/>
            <a:ext cx="52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Cilindra tilpums ir tā pamata laukuma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un augstuma reizinājum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5272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prēķin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ilindra augstums ir 13 cm, bet pamata rādiuss ir 3 cm. Aprēķini cilindra pamata laukumu un cilindra tilpumu! (aprēķinos izmanto 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ilindra augstums ir 5,1 cm, bet pamata riņķa diametrs ir 2 cm. Aprēķini cilindra pamata laukumu, cilindra sānu virsmas un pilnas virsmas laukumus! (aprēķinos izmanto 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isnas prizmas pamatā trijstūris, kura malu garumi ir 17 cm, 39 cm un 44 cm. Aprēķini prizmas tilpumu un sānu virsmas laukumu, ja prizmas augstums 9 c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s trijstūra piramīdas pamata malas garums 12 cm, sānu skaldnes augstums 4 cm. Aprēķini piramīdas sānu virsmu un tilpum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rēķini taisnas prizmas virsmas laukumu un tilpumu, ja tās pamats ir rombs, kura mala ir 15 cm un augstums ir 10 cm, bet prizmas augstums ir 3 c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isnas prizmas pamats ir taisnleņķa trapece, kuras pamati ir 8 cm un 5 cm, bet garākā sānu mala ir vienāda ar īsāko pamatu. Aprēķini prizmas virsmas laukumu un tilpumu, ja prizmas augstums ir 10 c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35:11Z</dcterms:created>
  <dc:creator>Natashka</dc:creator>
  <dc:description/>
  <dc:language>en-US</dc:language>
  <cp:lastModifiedBy>Natashka</cp:lastModifiedBy>
  <dcterms:modified xsi:type="dcterms:W3CDTF">2013-04-28T09:55:38Z</dcterms:modified>
  <cp:revision>4</cp:revision>
  <dc:subject/>
  <dc:title>Uzdevumi ģeometrijas kursa atkārtošanai</dc:title>
</cp:coreProperties>
</file>