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D7C-ED1C-496D-B125-89CA9B85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0BC-3224-4740-8E0A-0F92676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103-1B2B-430E-8B5C-C13EDC72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CF4-DDC3-4A22-9F51-D254F856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2C4-C10F-4EBB-814C-3FA5896E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24E-A4F2-43A2-84F8-C01D5EEB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5BB-F05C-4F38-9274-CD70187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59B-714D-4032-B65F-9003C82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1D3-2544-4BA9-AAA5-EECB9109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1F-D986-47CF-8C4F-A89AB54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F7A-529F-4183-8F1B-D0720A1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51-2B8A-4D21-9645-21DA45C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6AF5-B3C0-4A92-B5FC-37FB434B2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image" Target="../media/image4.png"/><Relationship Id="rId22" Type="http://schemas.openxmlformats.org/officeDocument/2006/relationships/slide" Target="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840" y="324576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Ziņkārīgu matemātiķu konkur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1773360"/>
            <a:ext cx="72741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Ziņkārīgu matemātiķu konkur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    </a:t>
            </a:r>
            <a:r>
              <a:rPr b="0" lang="lv-LV" sz="5400" spc="-1" strike="noStrike">
                <a:solidFill>
                  <a:srgbClr val="000000"/>
                </a:solidFill>
                <a:latin typeface="Calibri"/>
              </a:rPr>
              <a:t>Nogrieznis, kas savieno trijstūra virsotni ar pretējās malas viduspunkt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Apgalvojums, kuru jāpierād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Apgalvojums, kas ir acimredzā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Taisnes, kas nekrustojas plakn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Leņķis, kas ir mazāks par taisn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1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Riņķa līnijas rādiuss vienāds ar 0,6cm. Kāds ir diametrs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12.    </a:t>
            </a:r>
            <a:r>
              <a:rPr b="0" lang="lv-LV" sz="5600" spc="-1" strike="noStrike">
                <a:solidFill>
                  <a:srgbClr val="000000"/>
                </a:solidFill>
                <a:latin typeface="Calibri"/>
              </a:rPr>
              <a:t>Kādu zīmi ir jāieliek starp divnieku un trijnieku, lai iegūtu skaitli kas lielāks par 2 un mazāks par 3</a:t>
            </a: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3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Kā saucas otra punkta koordināta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1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Daudzstūra visu malu garumu summa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Figūra, kas veidojas starp diviem stariem?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.В. Ломо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847800" y="944640"/>
            <a:ext cx="74181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Divu attiecību vienādīb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7.    Его носят на голове английские лорды и американские сэ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8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Plakne, kurā atzīmē punktus un konstruē grafik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9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Kā sauc asi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ОУ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0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Vienādu skaitļu reizināju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лево 3"/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3520" indent="-3427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Mākslinieku konkurs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3520" indent="-3427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3520" indent="-3427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5; 1) (6; 2) (6; 3) (5; 6) (4; 7) (5;8) (6;8) (8; 9) (9; 9) (7;8) (9;8) (6; 7) (7; 6) (9; 6) (11; 5) (12;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3520" indent="-3427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12; 2) (13; 3) (12; 1) (7; 1) (8; 2) (9; 2) (8; 3) (6; 1) (5; 1) и (5; 7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3520" indent="-34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тот час, когда создател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 создавал вокруг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 создал математику -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арицу всех нау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игреки, и иксы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агают дружно в ряд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ужною толпой они нас веселят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коль на жизненном пут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овезет, мой друг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ы вспомни математику -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арицу всех нау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рынке и в спортзал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 нужен чисел ряд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усть они тебя повеселят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8" descr="Dock.jpg"/>
          <p:cNvPicPr/>
          <p:nvPr/>
        </p:nvPicPr>
        <p:blipFill>
          <a:blip r:embed="rId1"/>
          <a:stretch/>
        </p:blipFill>
        <p:spPr>
          <a:xfrm>
            <a:off x="-158760" y="-158760"/>
            <a:ext cx="9461520" cy="71262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2"/>
          <a:stretch/>
        </p:blipFill>
        <p:spPr>
          <a:xfrm>
            <a:off x="30240" y="2066760"/>
            <a:ext cx="927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66600"/>
            <a:ext cx="5722920" cy="12016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407880" y="1268280"/>
            <a:ext cx="8029800" cy="5035680"/>
          </a:xfrm>
          <a:prstGeom prst="rect">
            <a:avLst/>
          </a:prstGeom>
          <a:ln w="0">
            <a:noFill/>
          </a:ln>
        </p:spPr>
      </p:pic>
      <p:sp>
        <p:nvSpPr>
          <p:cNvPr id="47" name="Улыбающееся лицо 5">
            <a:hlinkClick r:id="rId3" action="ppaction://hlinksldjump"/>
          </p:cNvPr>
          <p:cNvSpPr/>
          <p:nvPr/>
        </p:nvSpPr>
        <p:spPr>
          <a:xfrm>
            <a:off x="7643880" y="5572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Прямоугольник 3" descr=""/>
          <p:cNvPicPr/>
          <p:nvPr/>
        </p:nvPicPr>
        <p:blipFill>
          <a:blip r:embed="rId21"/>
          <a:stretch/>
        </p:blipFill>
        <p:spPr>
          <a:xfrm>
            <a:off x="566640" y="255600"/>
            <a:ext cx="7723440" cy="1774800"/>
          </a:xfrm>
          <a:prstGeom prst="rect">
            <a:avLst/>
          </a:prstGeom>
          <a:ln w="0">
            <a:noFill/>
          </a:ln>
        </p:spPr>
      </p:pic>
      <p:sp>
        <p:nvSpPr>
          <p:cNvPr id="50" name="5-конечная звезда 5">
            <a:hlinkClick r:id="rId22" action="ppaction://hlinksldjump"/>
          </p:cNvPr>
          <p:cNvSpPr/>
          <p:nvPr/>
        </p:nvSpPr>
        <p:spPr>
          <a:xfrm>
            <a:off x="7885080" y="333360"/>
            <a:ext cx="714240" cy="714240"/>
          </a:xfrm>
          <a:custGeom>
            <a:avLst/>
            <a:gdLst>
              <a:gd name="textAreaLeft" fmla="*/ 220680 w 714240"/>
              <a:gd name="textAreaRight" fmla="*/ 493560 w 71424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714380" h="714380">
                <a:moveTo>
                  <a:pt x="1" y="272868"/>
                </a:moveTo>
                <a:lnTo>
                  <a:pt x="272870" y="272870"/>
                </a:lnTo>
                <a:lnTo>
                  <a:pt x="357190" y="0"/>
                </a:lnTo>
                <a:lnTo>
                  <a:pt x="441510" y="272870"/>
                </a:lnTo>
                <a:lnTo>
                  <a:pt x="714379" y="272868"/>
                </a:lnTo>
                <a:lnTo>
                  <a:pt x="493622" y="441509"/>
                </a:lnTo>
                <a:lnTo>
                  <a:pt x="577946" y="714378"/>
                </a:lnTo>
                <a:lnTo>
                  <a:pt x="357190" y="545734"/>
                </a:lnTo>
                <a:lnTo>
                  <a:pt x="136434" y="714378"/>
                </a:lnTo>
                <a:lnTo>
                  <a:pt x="220758" y="44150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Kā sauc vienādību, kurā ir  mainīgais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трелка влево 3">
            <a:hlinkClick r:id="rId1" action="ppaction://hlinksldjump"/>
          </p:cNvPr>
          <p:cNvSpPr/>
          <p:nvPr/>
        </p:nvSpPr>
        <p:spPr>
          <a:xfrm>
            <a:off x="7715160" y="614376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Ar kādu burtu apzīmē abscisu ass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Kāds skaitlis nevar būt daļas saucējā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Skaitļa simta daļ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0" lang="lv-LV" sz="6000" spc="-1" strike="noStrike">
                <a:solidFill>
                  <a:srgbClr val="000000"/>
                </a:solidFill>
                <a:latin typeface="Calibri"/>
              </a:rPr>
              <a:t>Skaitlis kas pārveido vienādojumu par patiesu vienādību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лево 3">
            <a:hlinkClick r:id="rId1" action="ppaction://hlinksldjump"/>
          </p:cNvPr>
          <p:cNvSpPr/>
          <p:nvPr/>
        </p:nvSpPr>
        <p:spPr>
          <a:xfrm>
            <a:off x="7929720" y="57862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9:45:06Z</dcterms:created>
  <dc:creator>Костя</dc:creator>
  <dc:description/>
  <dc:language>en-US</dc:language>
  <cp:lastModifiedBy>Natashka</cp:lastModifiedBy>
  <dcterms:modified xsi:type="dcterms:W3CDTF">2012-11-20T18:42:29Z</dcterms:modified>
  <cp:revision>27</cp:revision>
  <dc:subject/>
  <dc:title>Слайд 1</dc:title>
</cp:coreProperties>
</file>