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70C-B1A7-4E74-8232-B3B37F8A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803-B157-48DD-8AA4-87364DD5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A22-CCBC-42F3-A641-8D48BC05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0DB-772C-41E1-8F33-A0C55D33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D712-433E-4D0A-8D90-5B1907E9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FFC2-8B97-4D65-A89C-43EE5B56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76C6-F942-45FD-B479-386EABAA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A616-982B-475E-9530-6541914F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307C-7727-4949-8717-3FA77CE3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59F0-CD86-43A1-8E32-1BD5E3D4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5CD8-649A-4EE8-A587-49B38760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713-A159-4103-8644-E4764490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2372-FBD9-41E8-AC3D-F7B433C8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F94E-8241-49A2-9DD0-729A9885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3395-5FB7-4251-AA6F-618D0E00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D29F-6B65-46D5-A175-7CA57302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5390-2D30-4DA3-B3BA-B8A272A4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DC6-C4BF-47BD-BA28-FAF20B6C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A28-76A4-4588-9327-DEDFE38C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4E3-DBA6-4524-BFA8-601C3009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DB0-FAE6-427D-9B78-85543CE9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9F8-16B8-4CF3-9BC7-89D92E88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EBD-6A61-4E41-80AB-C61C4388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F5A-5801-4022-B4B8-FA12DE35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5C69-35C5-4AB0-91EF-AC9C35F6CA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BBF4-2CAD-4BA5-94D1-777A55E2A3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330066"/>
                </a:solidFill>
                <a:latin typeface="Arial"/>
              </a:rPr>
              <a:t>Vingrinājuma uzdevumi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ērķis: turpināt attīstīt prasmes veikt darbības galv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7488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lv-LV" sz="2800" spc="-1" strike="noStrike">
                <a:solidFill>
                  <a:srgbClr val="330066"/>
                </a:solidFill>
                <a:latin typeface="Arial"/>
              </a:rPr>
              <a:t>Sakārto skaitļus augošā secībā!</a:t>
            </a:r>
            <a:br>
              <a:rPr sz="2800"/>
            </a:b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Расставь числа в порядке возрастания!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43588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0000"/>
                </a:solidFill>
                <a:latin typeface="Arial"/>
              </a:rPr>
              <a:t>3984; 587; 91; 465; 82051; 24763; 17; 110011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330066"/>
                </a:solidFill>
                <a:latin typeface="Arial"/>
              </a:rPr>
              <a:t>Pārveido mērvienībās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I. vari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2kg 16g =         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50m = 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   d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215 s =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    min     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4t =       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2 ha 8 a =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v-LV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II. vari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3kg 42g =         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30m = 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   d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128 s =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    min     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7t =       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5 ha 2 a =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v-LV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330066"/>
                </a:solidFill>
                <a:latin typeface="Arial"/>
              </a:rPr>
              <a:t>Atbilde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I. vari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2kg 16g = 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Arial"/>
              </a:rPr>
              <a:t>2016 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50m = 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Arial"/>
              </a:rPr>
              <a:t>500 d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215 s= 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Arial"/>
              </a:rPr>
              <a:t>3 min 35 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4t = 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Arial"/>
              </a:rPr>
              <a:t>40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2 ha 8 a = 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Arial"/>
              </a:rPr>
              <a:t>20800 m</a:t>
            </a:r>
            <a:r>
              <a:rPr b="1" lang="lv-LV" sz="2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II. vari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3kg 42g = 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Arial"/>
              </a:rPr>
              <a:t>3042 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30m = 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Arial"/>
              </a:rPr>
              <a:t>300 d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128 s = 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Arial"/>
              </a:rPr>
              <a:t>2 min 8 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7t = 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Arial"/>
              </a:rPr>
              <a:t>70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5 ha 2 a = 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Arial"/>
              </a:rPr>
              <a:t>50200 m</a:t>
            </a:r>
            <a:r>
              <a:rPr b="1" lang="lv-LV" sz="2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191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330066"/>
                </a:solidFill>
                <a:latin typeface="Arial"/>
              </a:rPr>
              <a:t>Darbs grupā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22040"/>
            <a:ext cx="753264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330066"/>
                </a:solidFill>
                <a:latin typeface="Arial"/>
              </a:rPr>
              <a:t>Uzraksti visus dažādos </a:t>
            </a:r>
            <a:r>
              <a:rPr b="0" lang="lv-LV" sz="3200" spc="-1" strike="noStrike" u="sng">
                <a:solidFill>
                  <a:srgbClr val="330066"/>
                </a:solidFill>
                <a:uFillTx/>
                <a:latin typeface="Arial"/>
              </a:rPr>
              <a:t>trīsciparu</a:t>
            </a:r>
            <a:r>
              <a:rPr b="0" lang="lv-LV" sz="3200" spc="-1" strike="noStrike">
                <a:solidFill>
                  <a:srgbClr val="330066"/>
                </a:solidFill>
                <a:latin typeface="Arial"/>
              </a:rPr>
              <a:t> skaitļus, kurus var izveidot </a:t>
            </a:r>
            <a:br>
              <a:rPr sz="3200"/>
            </a:br>
            <a:r>
              <a:rPr b="0" lang="lv-LV" sz="3200" spc="-1" strike="noStrike">
                <a:solidFill>
                  <a:srgbClr val="330066"/>
                </a:solidFill>
                <a:latin typeface="Arial"/>
              </a:rPr>
              <a:t>no cipariem 3,6,8, j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skaitlī visi cipari ir dažād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е цифры раз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skaitlī cipari var atkārto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фры могут повторяться)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278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900" spc="-1" strike="noStrike">
                <a:solidFill>
                  <a:srgbClr val="330066"/>
                </a:solidFill>
                <a:latin typeface="Arial"/>
              </a:rPr>
              <a:t>Uzmini skaitli, ja zināms, ka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0000"/>
                </a:solidFill>
                <a:latin typeface="Arial"/>
              </a:rPr>
              <a:t>a) tas ir vislielākais pieccipar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000" spc="-1" strike="noStrike">
                <a:solidFill>
                  <a:srgbClr val="000000"/>
                </a:solidFill>
                <a:latin typeface="Arial"/>
              </a:rPr>
              <a:t>pāra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ёт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lv-LV" sz="3000" spc="-1" strike="noStrike">
                <a:solidFill>
                  <a:srgbClr val="000000"/>
                </a:solidFill>
                <a:latin typeface="Arial"/>
              </a:rPr>
              <a:t> skaitlis, kam visi cipari atšķirīgi un mazāki nekā 6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lv-LV" sz="3000" spc="-1" strike="noStrike">
                <a:solidFill>
                  <a:srgbClr val="000000"/>
                </a:solidFill>
                <a:latin typeface="Arial"/>
              </a:rPr>
              <a:t>) šim skaitlim visi cipari atšķirīgi un katrs cipars, sākot ar trešo no kreisās puses, ir divu iepriekšējo ciparu summa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этом числе все цифры различные и каждая цифра, начиная с левой третьей – сумма двух предыдущих цифр!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330066"/>
                </a:solidFill>
                <a:latin typeface="Arial"/>
              </a:rPr>
              <a:t>Pašvērtēju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я оцениваю свою работу на урок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я оцениваю работу класса на урок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то запомнилось лучше всег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то не получилос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000" spc="-1" strike="noStrike">
                <a:solidFill>
                  <a:srgbClr val="330066"/>
                </a:solidFill>
                <a:latin typeface="Arial"/>
              </a:rPr>
              <a:t>Paldies par darbu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shka</cp:lastModifiedBy>
  <dcterms:modified xsi:type="dcterms:W3CDTF">2012-10-03T16:58:21Z</dcterms:modified>
  <cp:revision>1</cp:revision>
  <dc:subject/>
  <dc:title>PowerPoint Presentation</dc:title>
</cp:coreProperties>
</file>