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gif" ContentType="image/gif"/>
  <Override PartName="/ppt/media/image9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062C9-5520-49FC-B890-C5933C20D2A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Rectangle 6"/>
          <p:cNvSpPr/>
          <p:nvPr/>
        </p:nvSpPr>
        <p:spPr>
          <a:xfrm>
            <a:off x="388152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635040"/>
                <a:tab algn="l" pos="1270080"/>
                <a:tab algn="l" pos="1903320"/>
                <a:tab algn="l" pos="2538360"/>
                <a:tab algn="l" pos="2755800"/>
                <a:tab algn="l" pos="3149640"/>
                <a:tab algn="l" pos="3543480"/>
                <a:tab algn="l" pos="3936960"/>
                <a:tab algn="l" pos="4330800"/>
                <a:tab algn="l" pos="4724280"/>
                <a:tab algn="l" pos="5118120"/>
                <a:tab algn="l" pos="5511960"/>
                <a:tab algn="l" pos="5905440"/>
                <a:tab algn="l" pos="6299280"/>
                <a:tab algn="l" pos="6692760"/>
                <a:tab algn="l" pos="7086600"/>
                <a:tab algn="l" pos="7480440"/>
                <a:tab algn="l" pos="7873920"/>
                <a:tab algn="l" pos="8267760"/>
                <a:tab algn="l" pos="8661240"/>
                <a:tab algn="l" pos="9055080"/>
                <a:tab algn="l" pos="9448920"/>
                <a:tab algn="l" pos="9842400"/>
                <a:tab algn="l" pos="10236240"/>
              </a:tabLst>
            </a:pPr>
            <a:fld id="{006BE4BB-0563-4748-8C6C-ED3139024D83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0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979F6-F81B-4FEA-8795-EA0FB25C7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EF8BF-1271-4E1D-AB3B-237924B42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9C45-EF03-4AD1-82A5-F3669F5B3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AE414-E086-444E-8B89-122DDCE96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57F2A-9125-4885-B3F4-891934951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8EC64-6B6A-4998-B442-D78B8F8C2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68F13-1124-49AF-8F87-718290CF4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EFA2A-9C9F-41CB-BA2F-AA3A79F3E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B512F-4397-4E09-BF1C-8DEDCB585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F9743-3B89-4872-A343-A4BBB65CD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A879B-0AA5-4DEF-AFDC-A8E0DE48E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B3F99-6521-499E-8F36-17C439ADB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F66D3-43D3-40D7-A3BD-E4D517309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0B6FF-A871-40BD-AAA0-723096333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33B85-EB2F-4BCD-8B08-C7A100027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D0CA6-8632-4B48-A376-4F1465BF8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B70E7-7FAF-4BBF-8D28-8E8F2CF7C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7E081-EB8D-451A-ABF4-77853AB2D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3B981-6EF3-4DAB-9C03-A52E8A4B7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B518-20FF-49DE-A782-985880FBA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3E912-9A29-4268-9632-64CF4B78B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EE618-74EB-4A37-AF49-D61E0B4F6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087DD-6DAC-4150-A7C7-4D1DAD622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10BF-4B0D-4298-9511-C14A903BB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1E9C3-6440-4F45-ADE1-21EE3D4898C9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428EC-F4B6-4B22-A000-3FA68B84F226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7.jpe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9.png"/><Relationship Id="rId13" Type="http://schemas.openxmlformats.org/officeDocument/2006/relationships/image" Target="../media/image7.jpeg"/><Relationship Id="rId14" Type="http://schemas.openxmlformats.org/officeDocument/2006/relationships/image" Target="../media/image8.png"/><Relationship Id="rId15" Type="http://schemas.openxmlformats.org/officeDocument/2006/relationships/image" Target="../media/image8.png"/><Relationship Id="rId16" Type="http://schemas.openxmlformats.org/officeDocument/2006/relationships/image" Target="../media/image9.png"/><Relationship Id="rId17" Type="http://schemas.openxmlformats.org/officeDocument/2006/relationships/image" Target="../media/image7.jpeg"/><Relationship Id="rId18" Type="http://schemas.openxmlformats.org/officeDocument/2006/relationships/image" Target="../media/image10.png"/><Relationship Id="rId19" Type="http://schemas.openxmlformats.org/officeDocument/2006/relationships/image" Target="../media/image11.png"/><Relationship Id="rId20" Type="http://schemas.openxmlformats.org/officeDocument/2006/relationships/image" Target="../media/image12.png"/><Relationship Id="rId21" Type="http://schemas.openxmlformats.org/officeDocument/2006/relationships/image" Target="../media/image7.jpeg"/><Relationship Id="rId22" Type="http://schemas.openxmlformats.org/officeDocument/2006/relationships/image" Target="../media/image10.png"/><Relationship Id="rId23" Type="http://schemas.openxmlformats.org/officeDocument/2006/relationships/image" Target="../media/image11.png"/><Relationship Id="rId24" Type="http://schemas.openxmlformats.org/officeDocument/2006/relationships/image" Target="../media/image12.png"/><Relationship Id="rId25" Type="http://schemas.openxmlformats.org/officeDocument/2006/relationships/slideLayout" Target="../slideLayouts/slideLayout1.xml"/><Relationship Id="rId2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5400" spc="-1" strike="noStrike">
                <a:solidFill>
                  <a:srgbClr val="000000"/>
                </a:solidFill>
                <a:latin typeface="Arial"/>
              </a:rPr>
              <a:t>Daļa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116000" y="3429000"/>
            <a:ext cx="6400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Galvas rēķi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6F636-6A60-4DA0-8F32-FDDF67DCD22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14"/>
          <p:cNvSpPr/>
          <p:nvPr/>
        </p:nvSpPr>
        <p:spPr>
          <a:xfrm>
            <a:off x="3348000" y="3284640"/>
            <a:ext cx="5472000" cy="27367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12"/>
          <p:cNvSpPr/>
          <p:nvPr/>
        </p:nvSpPr>
        <p:spPr>
          <a:xfrm>
            <a:off x="1403280" y="0"/>
            <a:ext cx="2233800" cy="381636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0" y="40428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008000"/>
                </a:solidFill>
                <a:latin typeface="Arial"/>
              </a:rPr>
              <a:t>Galvas rēķini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99" name="Picture 5" descr="baby18[1]"/>
          <p:cNvPicPr/>
          <p:nvPr/>
        </p:nvPicPr>
        <p:blipFill>
          <a:blip r:embed="rId3"/>
          <a:stretch/>
        </p:blipFill>
        <p:spPr>
          <a:xfrm>
            <a:off x="5940360" y="1268280"/>
            <a:ext cx="1154160" cy="202896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6"/>
          <p:cNvSpPr/>
          <p:nvPr/>
        </p:nvSpPr>
        <p:spPr>
          <a:xfrm>
            <a:off x="3616200" y="3284640"/>
            <a:ext cx="5527800" cy="27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ahoma"/>
                <a:ea typeface="Arial"/>
              </a:rPr>
              <a:t>Чему равна половина часа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ahoma"/>
                <a:ea typeface="Arial"/>
              </a:rPr>
              <a:t>Какой части метра равен 1 см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ahoma"/>
                <a:ea typeface="Arial"/>
              </a:rPr>
              <a:t>Чему равна одна десятая часть метра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ahoma"/>
                <a:ea typeface="Arial"/>
              </a:rPr>
              <a:t>Чему равна одна сотая часть метра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ahoma"/>
                <a:ea typeface="Arial"/>
              </a:rPr>
              <a:t>Какой части тонны равен 1 кг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ahoma"/>
                <a:ea typeface="Arial"/>
              </a:rPr>
              <a:t>Чему равна одна тысячная часть килограмма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1476360" y="404640"/>
            <a:ext cx="2735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Arial"/>
              </a:rPr>
              <a:t>Saskaiti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10"/>
          <p:cNvSpPr/>
          <p:nvPr/>
        </p:nvSpPr>
        <p:spPr>
          <a:xfrm>
            <a:off x="0" y="119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Object 9"/>
              <p:cNvSpPr txBox="1"/>
              <p:nvPr/>
            </p:nvSpPr>
            <p:spPr>
              <a:xfrm>
                <a:off x="1908000" y="765000"/>
                <a:ext cx="1752840" cy="295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</m:e>
                      <m:e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7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den>
                        </m:f>
                      </m:e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7</m:t>
                            </m:r>
                          </m:den>
                        </m:f>
                      </m:e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4" name="Text Box 11"/>
          <p:cNvSpPr/>
          <p:nvPr/>
        </p:nvSpPr>
        <p:spPr>
          <a:xfrm>
            <a:off x="250920" y="476280"/>
            <a:ext cx="280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13"/>
          <p:cNvSpPr/>
          <p:nvPr/>
        </p:nvSpPr>
        <p:spPr>
          <a:xfrm>
            <a:off x="3132000" y="1413000"/>
            <a:ext cx="5543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1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66ff"/>
                                      </p:to>
                                    </p:animClr>
                                    <p:animClr clrSpc="rgb">
                                      <p:cBhvr>
                                        <p:cTn id="7" dur="1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66ff"/>
                                      </p:to>
                                    </p:animClr>
                                    <p:set>
                                      <p:cBhvr>
                                        <p:cTn id="8" dur="1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" dur="1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66ff"/>
                                      </p:to>
                                    </p:animClr>
                                    <p:animClr clrSpc="rgb">
                                      <p:cBhvr>
                                        <p:cTn id="18" dur="1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66ff"/>
                                      </p:to>
                                    </p:animClr>
                                    <p:set>
                                      <p:cBhvr>
                                        <p:cTn id="19" dur="1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9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0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1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2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416320" y="333000"/>
            <a:ext cx="672768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lv-LV" sz="2400" spc="-1" strike="noStrike">
                <a:solidFill>
                  <a:srgbClr val="009999"/>
                </a:solidFill>
                <a:latin typeface="Arial"/>
              </a:rPr>
              <a:t>Pieraksti iespējamas attiecības</a:t>
            </a: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2214720" y="2205000"/>
            <a:ext cx="1692000" cy="6811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3911760" y="2922480"/>
            <a:ext cx="1692000" cy="6811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3911760" y="2205000"/>
            <a:ext cx="1699920" cy="6811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7"/>
          <p:cNvSpPr/>
          <p:nvPr/>
        </p:nvSpPr>
        <p:spPr>
          <a:xfrm>
            <a:off x="2214720" y="2922480"/>
            <a:ext cx="1698480" cy="6811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10"/>
          <p:cNvSpPr/>
          <p:nvPr/>
        </p:nvSpPr>
        <p:spPr>
          <a:xfrm>
            <a:off x="1890720" y="2860560"/>
            <a:ext cx="54673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-41040" bIns="-4104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20"/>
          <p:cNvSpPr/>
          <p:nvPr/>
        </p:nvSpPr>
        <p:spPr>
          <a:xfrm>
            <a:off x="5611680" y="2205000"/>
            <a:ext cx="1697040" cy="68112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21"/>
          <p:cNvSpPr/>
          <p:nvPr/>
        </p:nvSpPr>
        <p:spPr>
          <a:xfrm>
            <a:off x="5611680" y="2922480"/>
            <a:ext cx="1698840" cy="6811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22"/>
          <p:cNvSpPr/>
          <p:nvPr/>
        </p:nvSpPr>
        <p:spPr>
          <a:xfrm>
            <a:off x="7308720" y="2205000"/>
            <a:ext cx="1698840" cy="6811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23"/>
          <p:cNvSpPr/>
          <p:nvPr/>
        </p:nvSpPr>
        <p:spPr>
          <a:xfrm>
            <a:off x="7308720" y="2922480"/>
            <a:ext cx="1692360" cy="6811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24"/>
          <p:cNvSpPr/>
          <p:nvPr/>
        </p:nvSpPr>
        <p:spPr>
          <a:xfrm>
            <a:off x="3492360" y="3943440"/>
            <a:ext cx="488484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lv-LV" sz="2500" spc="-1" strike="noStrike">
                <a:solidFill>
                  <a:srgbClr val="ff3300"/>
                </a:solidFill>
                <a:latin typeface="Arial"/>
              </a:rPr>
              <a:t>          </a:t>
            </a:r>
            <a:r>
              <a:rPr b="1" lang="ru-RU" sz="2500" spc="-1" strike="noStrike">
                <a:solidFill>
                  <a:srgbClr val="ff3300"/>
                </a:solidFill>
                <a:latin typeface="Arial"/>
              </a:rPr>
              <a:t>а) </a:t>
            </a:r>
            <a:r>
              <a:rPr b="1" lang="lv-LV" sz="2500" spc="-1" strike="noStrike">
                <a:solidFill>
                  <a:srgbClr val="ff3300"/>
                </a:solidFill>
                <a:latin typeface="Arial"/>
              </a:rPr>
              <a:t>zaļas pret dzeltenām               b</a:t>
            </a:r>
            <a:r>
              <a:rPr b="1" lang="ru-RU" sz="2500" spc="-1" strike="noStrike">
                <a:solidFill>
                  <a:srgbClr val="ff3300"/>
                </a:solidFill>
                <a:latin typeface="Arial"/>
              </a:rPr>
              <a:t>) </a:t>
            </a:r>
            <a:r>
              <a:rPr b="1" lang="lv-LV" sz="2500" spc="-1" strike="noStrike">
                <a:solidFill>
                  <a:srgbClr val="ff3300"/>
                </a:solidFill>
                <a:latin typeface="Arial"/>
              </a:rPr>
              <a:t>zaļas pret rozā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lv-LV" sz="2500" spc="-1" strike="noStrike">
                <a:solidFill>
                  <a:srgbClr val="ff3300"/>
                </a:solidFill>
                <a:latin typeface="Arial"/>
              </a:rPr>
              <a:t>       </a:t>
            </a:r>
            <a:r>
              <a:rPr b="1" lang="lv-LV" sz="2500" spc="-1" strike="noStrike">
                <a:solidFill>
                  <a:srgbClr val="ff3300"/>
                </a:solidFill>
                <a:latin typeface="Arial"/>
              </a:rPr>
              <a:t>c</a:t>
            </a:r>
            <a:r>
              <a:rPr b="1" lang="ru-RU" sz="2500" spc="-1" strike="noStrike">
                <a:solidFill>
                  <a:srgbClr val="ff3300"/>
                </a:solidFill>
                <a:latin typeface="Arial"/>
              </a:rPr>
              <a:t>) </a:t>
            </a:r>
            <a:r>
              <a:rPr b="1" lang="lv-LV" sz="2500" spc="-1" strike="noStrike">
                <a:solidFill>
                  <a:srgbClr val="ff3300"/>
                </a:solidFill>
                <a:latin typeface="Arial"/>
              </a:rPr>
              <a:t>dzeltenas pret rozā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mb dir="horz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9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9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9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9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9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9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9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9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2000"/>
                            </p:stCondLst>
                            <p:childTnLst>
                              <p:par>
                                <p:cTn id="93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50960" y="333000"/>
            <a:ext cx="6593040" cy="313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На столе стоят кружки.</a:t>
            </a:r>
            <a:br>
              <a:rPr sz="3600"/>
            </a:b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Что означают отношения:</a:t>
            </a:r>
            <a:br>
              <a:rPr sz="3600"/>
            </a:b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а) 6 к 10</a:t>
            </a:r>
            <a:br>
              <a:rPr sz="3600"/>
            </a:b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б) 4 к 10</a:t>
            </a:r>
            <a:br>
              <a:rPr sz="3600"/>
            </a:b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в)  4 к 6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grpSp>
        <p:nvGrpSpPr>
          <p:cNvPr id="118" name="Group 3"/>
          <p:cNvGrpSpPr/>
          <p:nvPr/>
        </p:nvGrpSpPr>
        <p:grpSpPr>
          <a:xfrm>
            <a:off x="4369680" y="1995120"/>
            <a:ext cx="2367000" cy="2277720"/>
            <a:chOff x="4369680" y="1995120"/>
            <a:chExt cx="2367000" cy="2277720"/>
          </a:xfrm>
        </p:grpSpPr>
        <p:grpSp>
          <p:nvGrpSpPr>
            <p:cNvPr id="119" name="Group 4"/>
            <p:cNvGrpSpPr/>
            <p:nvPr/>
          </p:nvGrpSpPr>
          <p:grpSpPr>
            <a:xfrm>
              <a:off x="4369680" y="1995120"/>
              <a:ext cx="2367000" cy="2277720"/>
              <a:chOff x="4369680" y="1995120"/>
              <a:chExt cx="2367000" cy="2277720"/>
            </a:xfrm>
          </p:grpSpPr>
          <p:sp>
            <p:nvSpPr>
              <p:cNvPr id="120" name="Freeform 5"/>
              <p:cNvSpPr/>
              <p:nvPr/>
            </p:nvSpPr>
            <p:spPr>
              <a:xfrm rot="19282200">
                <a:off x="4665960" y="2524680"/>
                <a:ext cx="1866240" cy="1308600"/>
              </a:xfrm>
              <a:custGeom>
                <a:avLst/>
                <a:gdLst>
                  <a:gd name="textAreaLeft" fmla="*/ 0 w 1866240"/>
                  <a:gd name="textAreaRight" fmla="*/ 1866600 w 1866240"/>
                  <a:gd name="textAreaTop" fmla="*/ 0 h 1308600"/>
                  <a:gd name="textAreaBottom" fmla="*/ 1308960 h 1308600"/>
                </a:gdLst>
                <a:ahLst/>
                <a:rect l="textAreaLeft" t="textAreaTop" r="textAreaRight" b="textAreaBottom"/>
                <a:pathLst>
                  <a:path w="1746" h="1169">
                    <a:moveTo>
                      <a:pt x="29" y="69"/>
                    </a:moveTo>
                    <a:cubicBezTo>
                      <a:pt x="0" y="157"/>
                      <a:pt x="101" y="557"/>
                      <a:pt x="157" y="717"/>
                    </a:cubicBezTo>
                    <a:cubicBezTo>
                      <a:pt x="213" y="877"/>
                      <a:pt x="298" y="961"/>
                      <a:pt x="365" y="1029"/>
                    </a:cubicBezTo>
                    <a:cubicBezTo>
                      <a:pt x="432" y="1097"/>
                      <a:pt x="461" y="1109"/>
                      <a:pt x="557" y="1125"/>
                    </a:cubicBezTo>
                    <a:cubicBezTo>
                      <a:pt x="653" y="1141"/>
                      <a:pt x="821" y="1126"/>
                      <a:pt x="941" y="1125"/>
                    </a:cubicBezTo>
                    <a:cubicBezTo>
                      <a:pt x="1061" y="1124"/>
                      <a:pt x="1176" y="1169"/>
                      <a:pt x="1277" y="1117"/>
                    </a:cubicBezTo>
                    <a:cubicBezTo>
                      <a:pt x="1378" y="1065"/>
                      <a:pt x="1485" y="920"/>
                      <a:pt x="1549" y="813"/>
                    </a:cubicBezTo>
                    <a:cubicBezTo>
                      <a:pt x="1613" y="706"/>
                      <a:pt x="1632" y="602"/>
                      <a:pt x="1661" y="477"/>
                    </a:cubicBezTo>
                    <a:cubicBezTo>
                      <a:pt x="1690" y="352"/>
                      <a:pt x="1746" y="122"/>
                      <a:pt x="1725" y="61"/>
                    </a:cubicBezTo>
                    <a:cubicBezTo>
                      <a:pt x="1704" y="0"/>
                      <a:pt x="1597" y="88"/>
                      <a:pt x="1533" y="109"/>
                    </a:cubicBezTo>
                    <a:cubicBezTo>
                      <a:pt x="1469" y="130"/>
                      <a:pt x="1458" y="173"/>
                      <a:pt x="1341" y="189"/>
                    </a:cubicBezTo>
                    <a:cubicBezTo>
                      <a:pt x="1224" y="205"/>
                      <a:pt x="997" y="205"/>
                      <a:pt x="829" y="205"/>
                    </a:cubicBezTo>
                    <a:cubicBezTo>
                      <a:pt x="661" y="205"/>
                      <a:pt x="466" y="212"/>
                      <a:pt x="333" y="189"/>
                    </a:cubicBezTo>
                    <a:cubicBezTo>
                      <a:pt x="200" y="166"/>
                      <a:pt x="92" y="94"/>
                      <a:pt x="29" y="69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ffff"/>
                  </a:gs>
                  <a:gs pos="50000">
                    <a:srgbClr val="ffffff"/>
                  </a:gs>
                  <a:gs pos="100000">
                    <a:srgbClr val="00ffff"/>
                  </a:gs>
                </a:gsLst>
                <a:lin ang="21216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Oval 6"/>
              <p:cNvSpPr/>
              <p:nvPr/>
            </p:nvSpPr>
            <p:spPr>
              <a:xfrm rot="19282200">
                <a:off x="4284720" y="2530080"/>
                <a:ext cx="1846080" cy="375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ff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800" rIns="82800" tIns="41400" bIns="414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828720"/>
                    <a:tab algn="l" pos="1657440"/>
                    <a:tab algn="l" pos="2486160"/>
                    <a:tab algn="l" pos="3314880"/>
                    <a:tab algn="l" pos="4143240"/>
                    <a:tab algn="l" pos="4971960"/>
                    <a:tab algn="l" pos="5800680"/>
                    <a:tab algn="l" pos="6629400"/>
                    <a:tab algn="l" pos="7458120"/>
                    <a:tab algn="l" pos="8286840"/>
                    <a:tab algn="l" pos="9115560"/>
                    <a:tab algn="l" pos="9944280"/>
                    <a:tab algn="l" pos="107726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Freeform 7"/>
              <p:cNvSpPr/>
              <p:nvPr/>
            </p:nvSpPr>
            <p:spPr>
              <a:xfrm rot="20133000">
                <a:off x="6019920" y="2204640"/>
                <a:ext cx="505440" cy="912600"/>
              </a:xfrm>
              <a:custGeom>
                <a:avLst/>
                <a:gdLst>
                  <a:gd name="textAreaLeft" fmla="*/ 0 w 505440"/>
                  <a:gd name="textAreaRight" fmla="*/ 505800 w 505440"/>
                  <a:gd name="textAreaTop" fmla="*/ 0 h 912600"/>
                  <a:gd name="textAreaBottom" fmla="*/ 912960 h 912600"/>
                </a:gdLst>
                <a:ahLst/>
                <a:rect l="textAreaLeft" t="textAreaTop" r="textAreaRight" b="textAreaBottom"/>
                <a:pathLst>
                  <a:path w="377" h="623">
                    <a:moveTo>
                      <a:pt x="102" y="270"/>
                    </a:moveTo>
                    <a:cubicBezTo>
                      <a:pt x="102" y="262"/>
                      <a:pt x="101" y="259"/>
                      <a:pt x="103" y="248"/>
                    </a:cubicBezTo>
                    <a:cubicBezTo>
                      <a:pt x="105" y="237"/>
                      <a:pt x="105" y="219"/>
                      <a:pt x="112" y="203"/>
                    </a:cubicBezTo>
                    <a:cubicBezTo>
                      <a:pt x="119" y="187"/>
                      <a:pt x="132" y="167"/>
                      <a:pt x="145" y="149"/>
                    </a:cubicBezTo>
                    <a:cubicBezTo>
                      <a:pt x="158" y="131"/>
                      <a:pt x="169" y="103"/>
                      <a:pt x="190" y="92"/>
                    </a:cubicBezTo>
                    <a:cubicBezTo>
                      <a:pt x="211" y="81"/>
                      <a:pt x="253" y="72"/>
                      <a:pt x="271" y="83"/>
                    </a:cubicBezTo>
                    <a:cubicBezTo>
                      <a:pt x="289" y="94"/>
                      <a:pt x="295" y="131"/>
                      <a:pt x="298" y="158"/>
                    </a:cubicBezTo>
                    <a:cubicBezTo>
                      <a:pt x="301" y="185"/>
                      <a:pt x="299" y="216"/>
                      <a:pt x="289" y="245"/>
                    </a:cubicBezTo>
                    <a:cubicBezTo>
                      <a:pt x="279" y="274"/>
                      <a:pt x="259" y="308"/>
                      <a:pt x="235" y="332"/>
                    </a:cubicBezTo>
                    <a:cubicBezTo>
                      <a:pt x="211" y="356"/>
                      <a:pt x="171" y="374"/>
                      <a:pt x="145" y="389"/>
                    </a:cubicBezTo>
                    <a:cubicBezTo>
                      <a:pt x="119" y="404"/>
                      <a:pt x="96" y="410"/>
                      <a:pt x="76" y="425"/>
                    </a:cubicBezTo>
                    <a:cubicBezTo>
                      <a:pt x="56" y="440"/>
                      <a:pt x="33" y="458"/>
                      <a:pt x="22" y="479"/>
                    </a:cubicBezTo>
                    <a:cubicBezTo>
                      <a:pt x="11" y="500"/>
                      <a:pt x="9" y="531"/>
                      <a:pt x="7" y="554"/>
                    </a:cubicBezTo>
                    <a:cubicBezTo>
                      <a:pt x="5" y="577"/>
                      <a:pt x="0" y="615"/>
                      <a:pt x="7" y="619"/>
                    </a:cubicBezTo>
                    <a:cubicBezTo>
                      <a:pt x="13" y="623"/>
                      <a:pt x="36" y="601"/>
                      <a:pt x="46" y="581"/>
                    </a:cubicBezTo>
                    <a:cubicBezTo>
                      <a:pt x="56" y="560"/>
                      <a:pt x="47" y="520"/>
                      <a:pt x="71" y="497"/>
                    </a:cubicBezTo>
                    <a:cubicBezTo>
                      <a:pt x="95" y="474"/>
                      <a:pt x="151" y="468"/>
                      <a:pt x="192" y="444"/>
                    </a:cubicBezTo>
                    <a:cubicBezTo>
                      <a:pt x="233" y="420"/>
                      <a:pt x="287" y="401"/>
                      <a:pt x="318" y="354"/>
                    </a:cubicBezTo>
                    <a:cubicBezTo>
                      <a:pt x="349" y="307"/>
                      <a:pt x="373" y="220"/>
                      <a:pt x="375" y="167"/>
                    </a:cubicBezTo>
                    <a:cubicBezTo>
                      <a:pt x="377" y="113"/>
                      <a:pt x="352" y="59"/>
                      <a:pt x="329" y="31"/>
                    </a:cubicBezTo>
                    <a:cubicBezTo>
                      <a:pt x="307" y="3"/>
                      <a:pt x="272" y="0"/>
                      <a:pt x="242" y="0"/>
                    </a:cubicBezTo>
                    <a:cubicBezTo>
                      <a:pt x="212" y="0"/>
                      <a:pt x="173" y="18"/>
                      <a:pt x="147" y="34"/>
                    </a:cubicBezTo>
                    <a:cubicBezTo>
                      <a:pt x="121" y="51"/>
                      <a:pt x="100" y="69"/>
                      <a:pt x="85" y="102"/>
                    </a:cubicBezTo>
                    <a:cubicBezTo>
                      <a:pt x="70" y="136"/>
                      <a:pt x="55" y="198"/>
                      <a:pt x="54" y="230"/>
                    </a:cubicBezTo>
                    <a:cubicBezTo>
                      <a:pt x="53" y="262"/>
                      <a:pt x="74" y="285"/>
                      <a:pt x="82" y="295"/>
                    </a:cubicBezTo>
                    <a:cubicBezTo>
                      <a:pt x="91" y="305"/>
                      <a:pt x="102" y="299"/>
                      <a:pt x="105" y="295"/>
                    </a:cubicBezTo>
                    <a:cubicBezTo>
                      <a:pt x="108" y="291"/>
                      <a:pt x="104" y="278"/>
                      <a:pt x="102" y="27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00ffff"/>
                  </a:gs>
                  <a:gs pos="100000">
                    <a:srgbClr val="ffffff"/>
                  </a:gs>
                </a:gsLst>
                <a:lin ang="20370000"/>
              </a:gra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Group 8"/>
            <p:cNvGrpSpPr/>
            <p:nvPr/>
          </p:nvGrpSpPr>
          <p:grpSpPr>
            <a:xfrm>
              <a:off x="5087520" y="2783160"/>
              <a:ext cx="1144080" cy="1037160"/>
              <a:chOff x="5087520" y="2783160"/>
              <a:chExt cx="1144080" cy="1037160"/>
            </a:xfrm>
          </p:grpSpPr>
          <p:sp>
            <p:nvSpPr>
              <p:cNvPr id="124" name="Freeform 9"/>
              <p:cNvSpPr/>
              <p:nvPr/>
            </p:nvSpPr>
            <p:spPr>
              <a:xfrm rot="11800800">
                <a:off x="5371920" y="3224880"/>
                <a:ext cx="349200" cy="304200"/>
              </a:xfrm>
              <a:custGeom>
                <a:avLst/>
                <a:gdLst>
                  <a:gd name="textAreaLeft" fmla="*/ 0 w 349200"/>
                  <a:gd name="textAreaRight" fmla="*/ 349560 w 34920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507" h="352">
                    <a:moveTo>
                      <a:pt x="0" y="240"/>
                    </a:moveTo>
                    <a:cubicBezTo>
                      <a:pt x="56" y="251"/>
                      <a:pt x="253" y="352"/>
                      <a:pt x="336" y="320"/>
                    </a:cubicBezTo>
                    <a:cubicBezTo>
                      <a:pt x="419" y="288"/>
                      <a:pt x="485" y="96"/>
                      <a:pt x="496" y="48"/>
                    </a:cubicBezTo>
                    <a:cubicBezTo>
                      <a:pt x="507" y="0"/>
                      <a:pt x="435" y="35"/>
                      <a:pt x="400" y="32"/>
                    </a:cubicBezTo>
                    <a:cubicBezTo>
                      <a:pt x="365" y="29"/>
                      <a:pt x="339" y="24"/>
                      <a:pt x="288" y="32"/>
                    </a:cubicBezTo>
                    <a:cubicBezTo>
                      <a:pt x="237" y="40"/>
                      <a:pt x="136" y="56"/>
                      <a:pt x="96" y="80"/>
                    </a:cubicBezTo>
                    <a:cubicBezTo>
                      <a:pt x="56" y="104"/>
                      <a:pt x="64" y="152"/>
                      <a:pt x="48" y="176"/>
                    </a:cubicBezTo>
                    <a:cubicBezTo>
                      <a:pt x="32" y="200"/>
                      <a:pt x="16" y="212"/>
                      <a:pt x="0" y="224"/>
                    </a:cubicBezTo>
                  </a:path>
                </a:pathLst>
              </a:custGeom>
              <a:solidFill>
                <a:srgbClr val="008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Freeform 10"/>
              <p:cNvSpPr/>
              <p:nvPr/>
            </p:nvSpPr>
            <p:spPr>
              <a:xfrm rot="11800800">
                <a:off x="5495400" y="3472200"/>
                <a:ext cx="349200" cy="304200"/>
              </a:xfrm>
              <a:custGeom>
                <a:avLst/>
                <a:gdLst>
                  <a:gd name="textAreaLeft" fmla="*/ 0 w 349200"/>
                  <a:gd name="textAreaRight" fmla="*/ 349560 w 34920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507" h="352">
                    <a:moveTo>
                      <a:pt x="0" y="240"/>
                    </a:moveTo>
                    <a:cubicBezTo>
                      <a:pt x="56" y="251"/>
                      <a:pt x="253" y="352"/>
                      <a:pt x="336" y="320"/>
                    </a:cubicBezTo>
                    <a:cubicBezTo>
                      <a:pt x="419" y="288"/>
                      <a:pt x="485" y="96"/>
                      <a:pt x="496" y="48"/>
                    </a:cubicBezTo>
                    <a:cubicBezTo>
                      <a:pt x="507" y="0"/>
                      <a:pt x="435" y="35"/>
                      <a:pt x="400" y="32"/>
                    </a:cubicBezTo>
                    <a:cubicBezTo>
                      <a:pt x="365" y="29"/>
                      <a:pt x="339" y="24"/>
                      <a:pt x="288" y="32"/>
                    </a:cubicBezTo>
                    <a:cubicBezTo>
                      <a:pt x="237" y="40"/>
                      <a:pt x="136" y="56"/>
                      <a:pt x="96" y="80"/>
                    </a:cubicBezTo>
                    <a:cubicBezTo>
                      <a:pt x="56" y="104"/>
                      <a:pt x="64" y="152"/>
                      <a:pt x="48" y="176"/>
                    </a:cubicBezTo>
                    <a:cubicBezTo>
                      <a:pt x="32" y="200"/>
                      <a:pt x="16" y="212"/>
                      <a:pt x="0" y="224"/>
                    </a:cubicBezTo>
                  </a:path>
                </a:pathLst>
              </a:custGeom>
              <a:solidFill>
                <a:srgbClr val="008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Freeform 11"/>
              <p:cNvSpPr/>
              <p:nvPr/>
            </p:nvSpPr>
            <p:spPr>
              <a:xfrm rot="18119400">
                <a:off x="5444280" y="2892960"/>
                <a:ext cx="434880" cy="317880"/>
              </a:xfrm>
              <a:custGeom>
                <a:avLst/>
                <a:gdLst>
                  <a:gd name="textAreaLeft" fmla="*/ 0 w 434880"/>
                  <a:gd name="textAreaRight" fmla="*/ 435240 w 434880"/>
                  <a:gd name="textAreaTop" fmla="*/ 0 h 317880"/>
                  <a:gd name="textAreaBottom" fmla="*/ 318240 h 317880"/>
                </a:gdLst>
                <a:ahLst/>
                <a:rect l="textAreaLeft" t="textAreaTop" r="textAreaRight" b="textAreaBottom"/>
                <a:pathLst>
                  <a:path w="507" h="352">
                    <a:moveTo>
                      <a:pt x="0" y="240"/>
                    </a:moveTo>
                    <a:cubicBezTo>
                      <a:pt x="56" y="251"/>
                      <a:pt x="253" y="352"/>
                      <a:pt x="336" y="320"/>
                    </a:cubicBezTo>
                    <a:cubicBezTo>
                      <a:pt x="419" y="288"/>
                      <a:pt x="485" y="96"/>
                      <a:pt x="496" y="48"/>
                    </a:cubicBezTo>
                    <a:cubicBezTo>
                      <a:pt x="507" y="0"/>
                      <a:pt x="435" y="35"/>
                      <a:pt x="400" y="32"/>
                    </a:cubicBezTo>
                    <a:cubicBezTo>
                      <a:pt x="365" y="29"/>
                      <a:pt x="339" y="24"/>
                      <a:pt x="288" y="32"/>
                    </a:cubicBezTo>
                    <a:cubicBezTo>
                      <a:pt x="237" y="40"/>
                      <a:pt x="136" y="56"/>
                      <a:pt x="96" y="80"/>
                    </a:cubicBezTo>
                    <a:cubicBezTo>
                      <a:pt x="56" y="104"/>
                      <a:pt x="64" y="152"/>
                      <a:pt x="48" y="176"/>
                    </a:cubicBezTo>
                    <a:cubicBezTo>
                      <a:pt x="32" y="200"/>
                      <a:pt x="16" y="212"/>
                      <a:pt x="0" y="224"/>
                    </a:cubicBezTo>
                  </a:path>
                </a:pathLst>
              </a:custGeom>
              <a:solidFill>
                <a:srgbClr val="33cc33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Freeform 12"/>
              <p:cNvSpPr/>
              <p:nvPr/>
            </p:nvSpPr>
            <p:spPr>
              <a:xfrm rot="664800">
                <a:off x="5112360" y="3159360"/>
                <a:ext cx="453960" cy="304200"/>
              </a:xfrm>
              <a:custGeom>
                <a:avLst/>
                <a:gdLst>
                  <a:gd name="textAreaLeft" fmla="*/ 0 w 453960"/>
                  <a:gd name="textAreaRight" fmla="*/ 454320 w 45396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507" h="352">
                    <a:moveTo>
                      <a:pt x="0" y="240"/>
                    </a:moveTo>
                    <a:cubicBezTo>
                      <a:pt x="56" y="251"/>
                      <a:pt x="253" y="352"/>
                      <a:pt x="336" y="320"/>
                    </a:cubicBezTo>
                    <a:cubicBezTo>
                      <a:pt x="419" y="288"/>
                      <a:pt x="485" y="96"/>
                      <a:pt x="496" y="48"/>
                    </a:cubicBezTo>
                    <a:cubicBezTo>
                      <a:pt x="507" y="0"/>
                      <a:pt x="435" y="35"/>
                      <a:pt x="400" y="32"/>
                    </a:cubicBezTo>
                    <a:cubicBezTo>
                      <a:pt x="365" y="29"/>
                      <a:pt x="339" y="24"/>
                      <a:pt x="288" y="32"/>
                    </a:cubicBezTo>
                    <a:cubicBezTo>
                      <a:pt x="237" y="40"/>
                      <a:pt x="136" y="56"/>
                      <a:pt x="96" y="80"/>
                    </a:cubicBezTo>
                    <a:cubicBezTo>
                      <a:pt x="56" y="104"/>
                      <a:pt x="64" y="152"/>
                      <a:pt x="48" y="176"/>
                    </a:cubicBezTo>
                    <a:cubicBezTo>
                      <a:pt x="32" y="200"/>
                      <a:pt x="16" y="212"/>
                      <a:pt x="0" y="224"/>
                    </a:cubicBezTo>
                  </a:path>
                </a:pathLst>
              </a:custGeom>
              <a:solidFill>
                <a:srgbClr val="33cc33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8" name="Group 13"/>
              <p:cNvGrpSpPr/>
              <p:nvPr/>
            </p:nvGrpSpPr>
            <p:grpSpPr>
              <a:xfrm>
                <a:off x="5927760" y="3204720"/>
                <a:ext cx="303840" cy="321120"/>
                <a:chOff x="5927760" y="3204720"/>
                <a:chExt cx="303840" cy="321120"/>
              </a:xfrm>
            </p:grpSpPr>
            <p:grpSp>
              <p:nvGrpSpPr>
                <p:cNvPr id="129" name="Group 14"/>
                <p:cNvGrpSpPr/>
                <p:nvPr/>
              </p:nvGrpSpPr>
              <p:grpSpPr>
                <a:xfrm>
                  <a:off x="5927760" y="3222720"/>
                  <a:ext cx="303840" cy="303120"/>
                  <a:chOff x="5927760" y="3222720"/>
                  <a:chExt cx="303840" cy="303120"/>
                </a:xfrm>
              </p:grpSpPr>
              <p:sp>
                <p:nvSpPr>
                  <p:cNvPr id="130" name="Freeform 15"/>
                  <p:cNvSpPr/>
                  <p:nvPr/>
                </p:nvSpPr>
                <p:spPr>
                  <a:xfrm rot="8513400">
                    <a:off x="6078240" y="3229200"/>
                    <a:ext cx="96840" cy="216000"/>
                  </a:xfrm>
                  <a:custGeom>
                    <a:avLst/>
                    <a:gdLst>
                      <a:gd name="textAreaLeft" fmla="*/ 0 w 96840"/>
                      <a:gd name="textAreaRight" fmla="*/ 97200 w 96840"/>
                      <a:gd name="textAreaTop" fmla="*/ 0 h 216000"/>
                      <a:gd name="textAreaBottom" fmla="*/ 216360 h 216000"/>
                    </a:gdLst>
                    <a:ahLst/>
                    <a:rect l="textAreaLeft" t="textAreaTop" r="textAreaRight" b="textAreaBottom"/>
                    <a:pathLst>
                      <a:path w="296" h="552">
                        <a:moveTo>
                          <a:pt x="296" y="528"/>
                        </a:moveTo>
                        <a:cubicBezTo>
                          <a:pt x="224" y="540"/>
                          <a:pt x="152" y="552"/>
                          <a:pt x="104" y="528"/>
                        </a:cubicBezTo>
                        <a:cubicBezTo>
                          <a:pt x="56" y="504"/>
                          <a:pt x="16" y="440"/>
                          <a:pt x="8" y="384"/>
                        </a:cubicBezTo>
                        <a:cubicBezTo>
                          <a:pt x="0" y="328"/>
                          <a:pt x="24" y="248"/>
                          <a:pt x="56" y="192"/>
                        </a:cubicBezTo>
                        <a:cubicBezTo>
                          <a:pt x="88" y="136"/>
                          <a:pt x="160" y="80"/>
                          <a:pt x="200" y="48"/>
                        </a:cubicBezTo>
                        <a:cubicBezTo>
                          <a:pt x="240" y="16"/>
                          <a:pt x="268" y="8"/>
                          <a:pt x="296" y="0"/>
                        </a:cubicBezTo>
                      </a:path>
                    </a:pathLst>
                  </a:custGeom>
                  <a:solidFill>
                    <a:srgbClr val="ff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Freeform 16"/>
                  <p:cNvSpPr/>
                  <p:nvPr/>
                </p:nvSpPr>
                <p:spPr>
                  <a:xfrm flipH="1" rot="8512800">
                    <a:off x="5980680" y="3294720"/>
                    <a:ext cx="122760" cy="216000"/>
                  </a:xfrm>
                  <a:custGeom>
                    <a:avLst/>
                    <a:gdLst>
                      <a:gd name="textAreaLeft" fmla="*/ -360 w 122760"/>
                      <a:gd name="textAreaRight" fmla="*/ 122760 w 122760"/>
                      <a:gd name="textAreaTop" fmla="*/ 0 h 216000"/>
                      <a:gd name="textAreaBottom" fmla="*/ 216360 h 216000"/>
                    </a:gdLst>
                    <a:ahLst/>
                    <a:rect l="textAreaLeft" t="textAreaTop" r="textAreaRight" b="textAreaBottom"/>
                    <a:pathLst>
                      <a:path w="296" h="552">
                        <a:moveTo>
                          <a:pt x="296" y="528"/>
                        </a:moveTo>
                        <a:cubicBezTo>
                          <a:pt x="224" y="540"/>
                          <a:pt x="152" y="552"/>
                          <a:pt x="104" y="528"/>
                        </a:cubicBezTo>
                        <a:cubicBezTo>
                          <a:pt x="56" y="504"/>
                          <a:pt x="16" y="440"/>
                          <a:pt x="8" y="384"/>
                        </a:cubicBezTo>
                        <a:cubicBezTo>
                          <a:pt x="0" y="328"/>
                          <a:pt x="24" y="248"/>
                          <a:pt x="56" y="192"/>
                        </a:cubicBezTo>
                        <a:cubicBezTo>
                          <a:pt x="88" y="136"/>
                          <a:pt x="160" y="80"/>
                          <a:pt x="200" y="48"/>
                        </a:cubicBezTo>
                        <a:cubicBezTo>
                          <a:pt x="240" y="16"/>
                          <a:pt x="268" y="8"/>
                          <a:pt x="296" y="0"/>
                        </a:cubicBezTo>
                      </a:path>
                    </a:pathLst>
                  </a:custGeom>
                  <a:solidFill>
                    <a:srgbClr val="ff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Freeform 17"/>
                <p:cNvSpPr/>
                <p:nvPr/>
              </p:nvSpPr>
              <p:spPr>
                <a:xfrm flipV="1" rot="19463400">
                  <a:off x="6067080" y="3315600"/>
                  <a:ext cx="15480" cy="18720"/>
                </a:xfrm>
                <a:custGeom>
                  <a:avLst/>
                  <a:gdLst>
                    <a:gd name="textAreaLeft" fmla="*/ 0 w 15480"/>
                    <a:gd name="textAreaRight" fmla="*/ 15840 w 15480"/>
                    <a:gd name="textAreaTop" fmla="*/ 360 h 18720"/>
                    <a:gd name="textAreaBottom" fmla="*/ 19440 h 18720"/>
                  </a:gdLst>
                  <a:ahLst/>
                  <a:rect l="textAreaLeft" t="textAreaTop" r="textAreaRight" b="textAreaBottom"/>
                  <a:pathLst>
                    <a:path w="192" h="288">
                      <a:moveTo>
                        <a:pt x="0" y="288"/>
                      </a:moveTo>
                      <a:lnTo>
                        <a:pt x="192" y="288"/>
                      </a:lnTo>
                      <a:lnTo>
                        <a:pt x="48" y="0"/>
                      </a:lnTo>
                      <a:lnTo>
                        <a:pt x="0" y="288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Freeform 18"/>
                <p:cNvSpPr/>
                <p:nvPr/>
              </p:nvSpPr>
              <p:spPr>
                <a:xfrm flipV="1" rot="19463400">
                  <a:off x="5992200" y="3346560"/>
                  <a:ext cx="15480" cy="18720"/>
                </a:xfrm>
                <a:custGeom>
                  <a:avLst/>
                  <a:gdLst>
                    <a:gd name="textAreaLeft" fmla="*/ 0 w 15480"/>
                    <a:gd name="textAreaRight" fmla="*/ 15840 w 15480"/>
                    <a:gd name="textAreaTop" fmla="*/ 360 h 18720"/>
                    <a:gd name="textAreaBottom" fmla="*/ 19440 h 18720"/>
                  </a:gdLst>
                  <a:ahLst/>
                  <a:rect l="textAreaLeft" t="textAreaTop" r="textAreaRight" b="textAreaBottom"/>
                  <a:pathLst>
                    <a:path w="192" h="288">
                      <a:moveTo>
                        <a:pt x="0" y="288"/>
                      </a:moveTo>
                      <a:lnTo>
                        <a:pt x="192" y="288"/>
                      </a:lnTo>
                      <a:lnTo>
                        <a:pt x="48" y="0"/>
                      </a:lnTo>
                      <a:lnTo>
                        <a:pt x="0" y="288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Freeform 19"/>
                <p:cNvSpPr/>
                <p:nvPr/>
              </p:nvSpPr>
              <p:spPr>
                <a:xfrm flipV="1" rot="19463400">
                  <a:off x="6015960" y="3352320"/>
                  <a:ext cx="15480" cy="18720"/>
                </a:xfrm>
                <a:custGeom>
                  <a:avLst/>
                  <a:gdLst>
                    <a:gd name="textAreaLeft" fmla="*/ 0 w 15480"/>
                    <a:gd name="textAreaRight" fmla="*/ 15840 w 15480"/>
                    <a:gd name="textAreaTop" fmla="*/ 360 h 18720"/>
                    <a:gd name="textAreaBottom" fmla="*/ 19440 h 18720"/>
                  </a:gdLst>
                  <a:ahLst/>
                  <a:rect l="textAreaLeft" t="textAreaTop" r="textAreaRight" b="textAreaBottom"/>
                  <a:pathLst>
                    <a:path w="192" h="288">
                      <a:moveTo>
                        <a:pt x="0" y="288"/>
                      </a:moveTo>
                      <a:lnTo>
                        <a:pt x="192" y="288"/>
                      </a:lnTo>
                      <a:lnTo>
                        <a:pt x="48" y="0"/>
                      </a:lnTo>
                      <a:lnTo>
                        <a:pt x="0" y="288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Freeform 20"/>
                <p:cNvSpPr/>
                <p:nvPr/>
              </p:nvSpPr>
              <p:spPr>
                <a:xfrm flipV="1" rot="19463400">
                  <a:off x="6052320" y="3349440"/>
                  <a:ext cx="15480" cy="18720"/>
                </a:xfrm>
                <a:custGeom>
                  <a:avLst/>
                  <a:gdLst>
                    <a:gd name="textAreaLeft" fmla="*/ 0 w 15480"/>
                    <a:gd name="textAreaRight" fmla="*/ 15840 w 15480"/>
                    <a:gd name="textAreaTop" fmla="*/ 360 h 18720"/>
                    <a:gd name="textAreaBottom" fmla="*/ 19440 h 18720"/>
                  </a:gdLst>
                  <a:ahLst/>
                  <a:rect l="textAreaLeft" t="textAreaTop" r="textAreaRight" b="textAreaBottom"/>
                  <a:pathLst>
                    <a:path w="192" h="288">
                      <a:moveTo>
                        <a:pt x="0" y="288"/>
                      </a:moveTo>
                      <a:lnTo>
                        <a:pt x="192" y="288"/>
                      </a:lnTo>
                      <a:lnTo>
                        <a:pt x="48" y="0"/>
                      </a:lnTo>
                      <a:lnTo>
                        <a:pt x="0" y="288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Freeform 21"/>
                <p:cNvSpPr/>
                <p:nvPr/>
              </p:nvSpPr>
              <p:spPr>
                <a:xfrm flipV="1" rot="19463400">
                  <a:off x="6061680" y="3389040"/>
                  <a:ext cx="15480" cy="18720"/>
                </a:xfrm>
                <a:custGeom>
                  <a:avLst/>
                  <a:gdLst>
                    <a:gd name="textAreaLeft" fmla="*/ 0 w 15480"/>
                    <a:gd name="textAreaRight" fmla="*/ 15840 w 15480"/>
                    <a:gd name="textAreaTop" fmla="*/ 360 h 18720"/>
                    <a:gd name="textAreaBottom" fmla="*/ 19440 h 18720"/>
                  </a:gdLst>
                  <a:ahLst/>
                  <a:rect l="textAreaLeft" t="textAreaTop" r="textAreaRight" b="textAreaBottom"/>
                  <a:pathLst>
                    <a:path w="192" h="288">
                      <a:moveTo>
                        <a:pt x="0" y="288"/>
                      </a:moveTo>
                      <a:lnTo>
                        <a:pt x="192" y="288"/>
                      </a:lnTo>
                      <a:lnTo>
                        <a:pt x="48" y="0"/>
                      </a:lnTo>
                      <a:lnTo>
                        <a:pt x="0" y="288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Freeform 22"/>
                <p:cNvSpPr/>
                <p:nvPr/>
              </p:nvSpPr>
              <p:spPr>
                <a:xfrm flipV="1" rot="19463400">
                  <a:off x="6059880" y="3413520"/>
                  <a:ext cx="15480" cy="18720"/>
                </a:xfrm>
                <a:custGeom>
                  <a:avLst/>
                  <a:gdLst>
                    <a:gd name="textAreaLeft" fmla="*/ 0 w 15480"/>
                    <a:gd name="textAreaRight" fmla="*/ 15840 w 15480"/>
                    <a:gd name="textAreaTop" fmla="*/ 360 h 18720"/>
                    <a:gd name="textAreaBottom" fmla="*/ 19440 h 18720"/>
                  </a:gdLst>
                  <a:ahLst/>
                  <a:rect l="textAreaLeft" t="textAreaTop" r="textAreaRight" b="textAreaBottom"/>
                  <a:pathLst>
                    <a:path w="192" h="288">
                      <a:moveTo>
                        <a:pt x="0" y="288"/>
                      </a:moveTo>
                      <a:lnTo>
                        <a:pt x="192" y="288"/>
                      </a:lnTo>
                      <a:lnTo>
                        <a:pt x="48" y="0"/>
                      </a:lnTo>
                      <a:lnTo>
                        <a:pt x="0" y="288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Freeform 23"/>
                <p:cNvSpPr/>
                <p:nvPr/>
              </p:nvSpPr>
              <p:spPr>
                <a:xfrm flipV="1" rot="19463400">
                  <a:off x="6083640" y="3419640"/>
                  <a:ext cx="15480" cy="18720"/>
                </a:xfrm>
                <a:custGeom>
                  <a:avLst/>
                  <a:gdLst>
                    <a:gd name="textAreaLeft" fmla="*/ 0 w 15480"/>
                    <a:gd name="textAreaRight" fmla="*/ 15840 w 15480"/>
                    <a:gd name="textAreaTop" fmla="*/ 360 h 18720"/>
                    <a:gd name="textAreaBottom" fmla="*/ 19440 h 18720"/>
                  </a:gdLst>
                  <a:ahLst/>
                  <a:rect l="textAreaLeft" t="textAreaTop" r="textAreaRight" b="textAreaBottom"/>
                  <a:pathLst>
                    <a:path w="192" h="288">
                      <a:moveTo>
                        <a:pt x="0" y="288"/>
                      </a:moveTo>
                      <a:lnTo>
                        <a:pt x="192" y="288"/>
                      </a:lnTo>
                      <a:lnTo>
                        <a:pt x="48" y="0"/>
                      </a:lnTo>
                      <a:lnTo>
                        <a:pt x="0" y="288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Freeform 24"/>
                <p:cNvSpPr/>
                <p:nvPr/>
              </p:nvSpPr>
              <p:spPr>
                <a:xfrm flipV="1" rot="19463400">
                  <a:off x="6120000" y="3416760"/>
                  <a:ext cx="15480" cy="18720"/>
                </a:xfrm>
                <a:custGeom>
                  <a:avLst/>
                  <a:gdLst>
                    <a:gd name="textAreaLeft" fmla="*/ 0 w 15480"/>
                    <a:gd name="textAreaRight" fmla="*/ 15840 w 15480"/>
                    <a:gd name="textAreaTop" fmla="*/ 360 h 18720"/>
                    <a:gd name="textAreaBottom" fmla="*/ 19440 h 18720"/>
                  </a:gdLst>
                  <a:ahLst/>
                  <a:rect l="textAreaLeft" t="textAreaTop" r="textAreaRight" b="textAreaBottom"/>
                  <a:pathLst>
                    <a:path w="192" h="288">
                      <a:moveTo>
                        <a:pt x="0" y="288"/>
                      </a:moveTo>
                      <a:lnTo>
                        <a:pt x="192" y="288"/>
                      </a:lnTo>
                      <a:lnTo>
                        <a:pt x="48" y="0"/>
                      </a:lnTo>
                      <a:lnTo>
                        <a:pt x="0" y="288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Freeform 25"/>
                <p:cNvSpPr/>
                <p:nvPr/>
              </p:nvSpPr>
              <p:spPr>
                <a:xfrm flipV="1" rot="19463400">
                  <a:off x="6001560" y="3385800"/>
                  <a:ext cx="15480" cy="18720"/>
                </a:xfrm>
                <a:custGeom>
                  <a:avLst/>
                  <a:gdLst>
                    <a:gd name="textAreaLeft" fmla="*/ 0 w 15480"/>
                    <a:gd name="textAreaRight" fmla="*/ 15840 w 15480"/>
                    <a:gd name="textAreaTop" fmla="*/ 360 h 18720"/>
                    <a:gd name="textAreaBottom" fmla="*/ 19440 h 18720"/>
                  </a:gdLst>
                  <a:ahLst/>
                  <a:rect l="textAreaLeft" t="textAreaTop" r="textAreaRight" b="textAreaBottom"/>
                  <a:pathLst>
                    <a:path w="192" h="288">
                      <a:moveTo>
                        <a:pt x="0" y="288"/>
                      </a:moveTo>
                      <a:lnTo>
                        <a:pt x="192" y="288"/>
                      </a:lnTo>
                      <a:lnTo>
                        <a:pt x="48" y="0"/>
                      </a:lnTo>
                      <a:lnTo>
                        <a:pt x="0" y="288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Freeform 26"/>
                <p:cNvSpPr/>
                <p:nvPr/>
              </p:nvSpPr>
              <p:spPr>
                <a:xfrm flipV="1" rot="19463400">
                  <a:off x="6024960" y="3392280"/>
                  <a:ext cx="15480" cy="18720"/>
                </a:xfrm>
                <a:custGeom>
                  <a:avLst/>
                  <a:gdLst>
                    <a:gd name="textAreaLeft" fmla="*/ 0 w 15480"/>
                    <a:gd name="textAreaRight" fmla="*/ 15840 w 15480"/>
                    <a:gd name="textAreaTop" fmla="*/ 360 h 18720"/>
                    <a:gd name="textAreaBottom" fmla="*/ 19440 h 18720"/>
                  </a:gdLst>
                  <a:ahLst/>
                  <a:rect l="textAreaLeft" t="textAreaTop" r="textAreaRight" b="textAreaBottom"/>
                  <a:pathLst>
                    <a:path w="192" h="288">
                      <a:moveTo>
                        <a:pt x="0" y="288"/>
                      </a:moveTo>
                      <a:lnTo>
                        <a:pt x="192" y="288"/>
                      </a:lnTo>
                      <a:lnTo>
                        <a:pt x="48" y="0"/>
                      </a:lnTo>
                      <a:lnTo>
                        <a:pt x="0" y="288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Freeform 27"/>
                <p:cNvSpPr/>
                <p:nvPr/>
              </p:nvSpPr>
              <p:spPr>
                <a:xfrm flipH="1" flipV="1" rot="19463400">
                  <a:off x="6098040" y="3386520"/>
                  <a:ext cx="15480" cy="18720"/>
                </a:xfrm>
                <a:custGeom>
                  <a:avLst/>
                  <a:gdLst>
                    <a:gd name="textAreaLeft" fmla="*/ -360 w 15480"/>
                    <a:gd name="textAreaRight" fmla="*/ 15480 w 15480"/>
                    <a:gd name="textAreaTop" fmla="*/ 360 h 18720"/>
                    <a:gd name="textAreaBottom" fmla="*/ 19440 h 18720"/>
                  </a:gdLst>
                  <a:ahLst/>
                  <a:rect l="textAreaLeft" t="textAreaTop" r="textAreaRight" b="textAreaBottom"/>
                  <a:pathLst>
                    <a:path w="192" h="288">
                      <a:moveTo>
                        <a:pt x="0" y="288"/>
                      </a:moveTo>
                      <a:lnTo>
                        <a:pt x="192" y="288"/>
                      </a:lnTo>
                      <a:lnTo>
                        <a:pt x="48" y="0"/>
                      </a:lnTo>
                      <a:lnTo>
                        <a:pt x="0" y="288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Freeform 28"/>
                <p:cNvSpPr/>
                <p:nvPr/>
              </p:nvSpPr>
              <p:spPr>
                <a:xfrm flipH="1" flipV="1" rot="19463400">
                  <a:off x="6123240" y="3368160"/>
                  <a:ext cx="15480" cy="18720"/>
                </a:xfrm>
                <a:custGeom>
                  <a:avLst/>
                  <a:gdLst>
                    <a:gd name="textAreaLeft" fmla="*/ -360 w 15480"/>
                    <a:gd name="textAreaRight" fmla="*/ 15480 w 15480"/>
                    <a:gd name="textAreaTop" fmla="*/ 360 h 18720"/>
                    <a:gd name="textAreaBottom" fmla="*/ 19440 h 18720"/>
                  </a:gdLst>
                  <a:ahLst/>
                  <a:rect l="textAreaLeft" t="textAreaTop" r="textAreaRight" b="textAreaBottom"/>
                  <a:pathLst>
                    <a:path w="192" h="288">
                      <a:moveTo>
                        <a:pt x="0" y="288"/>
                      </a:moveTo>
                      <a:lnTo>
                        <a:pt x="192" y="288"/>
                      </a:lnTo>
                      <a:lnTo>
                        <a:pt x="48" y="0"/>
                      </a:lnTo>
                      <a:lnTo>
                        <a:pt x="0" y="288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Freeform 29"/>
                <p:cNvSpPr/>
                <p:nvPr/>
              </p:nvSpPr>
              <p:spPr>
                <a:xfrm flipH="1" flipV="1" rot="19463400">
                  <a:off x="6089040" y="3346560"/>
                  <a:ext cx="15480" cy="18720"/>
                </a:xfrm>
                <a:custGeom>
                  <a:avLst/>
                  <a:gdLst>
                    <a:gd name="textAreaLeft" fmla="*/ -360 w 15480"/>
                    <a:gd name="textAreaRight" fmla="*/ 15480 w 15480"/>
                    <a:gd name="textAreaTop" fmla="*/ 360 h 18720"/>
                    <a:gd name="textAreaBottom" fmla="*/ 19440 h 18720"/>
                  </a:gdLst>
                  <a:ahLst/>
                  <a:rect l="textAreaLeft" t="textAreaTop" r="textAreaRight" b="textAreaBottom"/>
                  <a:pathLst>
                    <a:path w="192" h="288">
                      <a:moveTo>
                        <a:pt x="0" y="288"/>
                      </a:moveTo>
                      <a:lnTo>
                        <a:pt x="192" y="288"/>
                      </a:lnTo>
                      <a:lnTo>
                        <a:pt x="48" y="0"/>
                      </a:lnTo>
                      <a:lnTo>
                        <a:pt x="0" y="288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Freeform 30"/>
                <p:cNvSpPr/>
                <p:nvPr/>
              </p:nvSpPr>
              <p:spPr>
                <a:xfrm flipH="1" flipV="1" rot="19463400">
                  <a:off x="6103440" y="3313080"/>
                  <a:ext cx="15480" cy="18720"/>
                </a:xfrm>
                <a:custGeom>
                  <a:avLst/>
                  <a:gdLst>
                    <a:gd name="textAreaLeft" fmla="*/ -360 w 15480"/>
                    <a:gd name="textAreaRight" fmla="*/ 15480 w 15480"/>
                    <a:gd name="textAreaTop" fmla="*/ 360 h 18720"/>
                    <a:gd name="textAreaBottom" fmla="*/ 19440 h 18720"/>
                  </a:gdLst>
                  <a:ahLst/>
                  <a:rect l="textAreaLeft" t="textAreaTop" r="textAreaRight" b="textAreaBottom"/>
                  <a:pathLst>
                    <a:path w="192" h="288">
                      <a:moveTo>
                        <a:pt x="0" y="288"/>
                      </a:moveTo>
                      <a:lnTo>
                        <a:pt x="192" y="288"/>
                      </a:lnTo>
                      <a:lnTo>
                        <a:pt x="48" y="0"/>
                      </a:lnTo>
                      <a:lnTo>
                        <a:pt x="0" y="288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Freeform 31"/>
                <p:cNvSpPr/>
                <p:nvPr/>
              </p:nvSpPr>
              <p:spPr>
                <a:xfrm flipH="1" flipV="1" rot="19463400">
                  <a:off x="6081480" y="3282480"/>
                  <a:ext cx="15480" cy="18720"/>
                </a:xfrm>
                <a:custGeom>
                  <a:avLst/>
                  <a:gdLst>
                    <a:gd name="textAreaLeft" fmla="*/ -360 w 15480"/>
                    <a:gd name="textAreaRight" fmla="*/ 15480 w 15480"/>
                    <a:gd name="textAreaTop" fmla="*/ 360 h 18720"/>
                    <a:gd name="textAreaBottom" fmla="*/ 19440 h 18720"/>
                  </a:gdLst>
                  <a:ahLst/>
                  <a:rect l="textAreaLeft" t="textAreaTop" r="textAreaRight" b="textAreaBottom"/>
                  <a:pathLst>
                    <a:path w="192" h="288">
                      <a:moveTo>
                        <a:pt x="0" y="288"/>
                      </a:moveTo>
                      <a:lnTo>
                        <a:pt x="192" y="288"/>
                      </a:lnTo>
                      <a:lnTo>
                        <a:pt x="48" y="0"/>
                      </a:lnTo>
                      <a:lnTo>
                        <a:pt x="0" y="288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plant"/>
                <p:cNvSpPr/>
                <p:nvPr/>
              </p:nvSpPr>
              <p:spPr>
                <a:xfrm rot="19463400">
                  <a:off x="5948640" y="3232080"/>
                  <a:ext cx="123480" cy="91440"/>
                </a:xfrm>
                <a:custGeom>
                  <a:avLst/>
                  <a:gdLst>
                    <a:gd name="textAreaLeft" fmla="*/ 40320 w 123480"/>
                    <a:gd name="textAreaRight" fmla="*/ 83520 w 123480"/>
                    <a:gd name="textAreaTop" fmla="*/ 42480 h 91440"/>
                    <a:gd name="textAreaBottom" fmla="*/ 57600 h 914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9368" y="9002"/>
                      </a:moveTo>
                      <a:lnTo>
                        <a:pt x="9254" y="8422"/>
                      </a:lnTo>
                      <a:lnTo>
                        <a:pt x="9139" y="7935"/>
                      </a:lnTo>
                      <a:lnTo>
                        <a:pt x="8819" y="7355"/>
                      </a:lnTo>
                      <a:lnTo>
                        <a:pt x="8475" y="6728"/>
                      </a:lnTo>
                      <a:lnTo>
                        <a:pt x="8040" y="6287"/>
                      </a:lnTo>
                      <a:lnTo>
                        <a:pt x="7421" y="5707"/>
                      </a:lnTo>
                      <a:lnTo>
                        <a:pt x="6574" y="5429"/>
                      </a:lnTo>
                      <a:lnTo>
                        <a:pt x="5452" y="5313"/>
                      </a:lnTo>
                      <a:lnTo>
                        <a:pt x="4856" y="5220"/>
                      </a:lnTo>
                      <a:lnTo>
                        <a:pt x="4169" y="5220"/>
                      </a:lnTo>
                      <a:lnTo>
                        <a:pt x="3665" y="5104"/>
                      </a:lnTo>
                      <a:lnTo>
                        <a:pt x="3001" y="4872"/>
                      </a:lnTo>
                      <a:lnTo>
                        <a:pt x="2497" y="4756"/>
                      </a:lnTo>
                      <a:lnTo>
                        <a:pt x="2062" y="4408"/>
                      </a:lnTo>
                      <a:lnTo>
                        <a:pt x="1603" y="4083"/>
                      </a:lnTo>
                      <a:lnTo>
                        <a:pt x="1283" y="3689"/>
                      </a:lnTo>
                      <a:lnTo>
                        <a:pt x="1283" y="4315"/>
                      </a:lnTo>
                      <a:lnTo>
                        <a:pt x="1489" y="5104"/>
                      </a:lnTo>
                      <a:lnTo>
                        <a:pt x="1832" y="6055"/>
                      </a:lnTo>
                      <a:lnTo>
                        <a:pt x="2382" y="6914"/>
                      </a:lnTo>
                      <a:lnTo>
                        <a:pt x="2680" y="7471"/>
                      </a:lnTo>
                      <a:lnTo>
                        <a:pt x="3115" y="7935"/>
                      </a:lnTo>
                      <a:lnTo>
                        <a:pt x="3573" y="8213"/>
                      </a:lnTo>
                      <a:lnTo>
                        <a:pt x="4077" y="8654"/>
                      </a:lnTo>
                      <a:lnTo>
                        <a:pt x="4627" y="9002"/>
                      </a:lnTo>
                      <a:lnTo>
                        <a:pt x="5245" y="9234"/>
                      </a:lnTo>
                      <a:lnTo>
                        <a:pt x="6024" y="9443"/>
                      </a:lnTo>
                      <a:lnTo>
                        <a:pt x="6757" y="9628"/>
                      </a:lnTo>
                      <a:lnTo>
                        <a:pt x="5177" y="10069"/>
                      </a:lnTo>
                      <a:lnTo>
                        <a:pt x="3963" y="10649"/>
                      </a:lnTo>
                      <a:lnTo>
                        <a:pt x="3344" y="11044"/>
                      </a:lnTo>
                      <a:lnTo>
                        <a:pt x="2886" y="11600"/>
                      </a:lnTo>
                      <a:lnTo>
                        <a:pt x="2497" y="12041"/>
                      </a:lnTo>
                      <a:lnTo>
                        <a:pt x="1947" y="12343"/>
                      </a:lnTo>
                      <a:lnTo>
                        <a:pt x="1168" y="12668"/>
                      </a:lnTo>
                      <a:lnTo>
                        <a:pt x="0" y="12900"/>
                      </a:lnTo>
                      <a:lnTo>
                        <a:pt x="435" y="13248"/>
                      </a:lnTo>
                      <a:lnTo>
                        <a:pt x="779" y="13456"/>
                      </a:lnTo>
                      <a:lnTo>
                        <a:pt x="1283" y="13642"/>
                      </a:lnTo>
                      <a:lnTo>
                        <a:pt x="1718" y="13758"/>
                      </a:lnTo>
                      <a:lnTo>
                        <a:pt x="2680" y="13851"/>
                      </a:lnTo>
                      <a:lnTo>
                        <a:pt x="3573" y="13758"/>
                      </a:lnTo>
                      <a:lnTo>
                        <a:pt x="4512" y="13526"/>
                      </a:lnTo>
                      <a:lnTo>
                        <a:pt x="5360" y="13248"/>
                      </a:lnTo>
                      <a:lnTo>
                        <a:pt x="6139" y="12900"/>
                      </a:lnTo>
                      <a:lnTo>
                        <a:pt x="6757" y="12552"/>
                      </a:lnTo>
                      <a:lnTo>
                        <a:pt x="6459" y="13132"/>
                      </a:lnTo>
                      <a:lnTo>
                        <a:pt x="6139" y="13642"/>
                      </a:lnTo>
                      <a:lnTo>
                        <a:pt x="5910" y="14199"/>
                      </a:lnTo>
                      <a:lnTo>
                        <a:pt x="5681" y="14663"/>
                      </a:lnTo>
                      <a:lnTo>
                        <a:pt x="5681" y="15150"/>
                      </a:lnTo>
                      <a:lnTo>
                        <a:pt x="5681" y="15730"/>
                      </a:lnTo>
                      <a:lnTo>
                        <a:pt x="5681" y="16241"/>
                      </a:lnTo>
                      <a:lnTo>
                        <a:pt x="5795" y="16913"/>
                      </a:lnTo>
                      <a:lnTo>
                        <a:pt x="5910" y="17586"/>
                      </a:lnTo>
                      <a:lnTo>
                        <a:pt x="5910" y="18213"/>
                      </a:lnTo>
                      <a:lnTo>
                        <a:pt x="5795" y="18885"/>
                      </a:lnTo>
                      <a:lnTo>
                        <a:pt x="5566" y="19396"/>
                      </a:lnTo>
                      <a:lnTo>
                        <a:pt x="5245" y="19976"/>
                      </a:lnTo>
                      <a:lnTo>
                        <a:pt x="4971" y="20370"/>
                      </a:lnTo>
                      <a:lnTo>
                        <a:pt x="4512" y="20811"/>
                      </a:lnTo>
                      <a:lnTo>
                        <a:pt x="4077" y="21043"/>
                      </a:lnTo>
                      <a:lnTo>
                        <a:pt x="5177" y="20927"/>
                      </a:lnTo>
                      <a:lnTo>
                        <a:pt x="6253" y="20486"/>
                      </a:lnTo>
                      <a:lnTo>
                        <a:pt x="7421" y="19976"/>
                      </a:lnTo>
                      <a:lnTo>
                        <a:pt x="8361" y="19187"/>
                      </a:lnTo>
                      <a:lnTo>
                        <a:pt x="8819" y="18769"/>
                      </a:lnTo>
                      <a:lnTo>
                        <a:pt x="9139" y="18213"/>
                      </a:lnTo>
                      <a:lnTo>
                        <a:pt x="9437" y="17772"/>
                      </a:lnTo>
                      <a:lnTo>
                        <a:pt x="9643" y="17261"/>
                      </a:lnTo>
                      <a:lnTo>
                        <a:pt x="9872" y="16681"/>
                      </a:lnTo>
                      <a:lnTo>
                        <a:pt x="9872" y="16171"/>
                      </a:lnTo>
                      <a:lnTo>
                        <a:pt x="9872" y="15614"/>
                      </a:lnTo>
                      <a:lnTo>
                        <a:pt x="9758" y="15057"/>
                      </a:lnTo>
                      <a:lnTo>
                        <a:pt x="10216" y="15498"/>
                      </a:lnTo>
                      <a:lnTo>
                        <a:pt x="10537" y="16241"/>
                      </a:lnTo>
                      <a:lnTo>
                        <a:pt x="10834" y="17145"/>
                      </a:lnTo>
                      <a:lnTo>
                        <a:pt x="11041" y="18213"/>
                      </a:lnTo>
                      <a:lnTo>
                        <a:pt x="11155" y="19187"/>
                      </a:lnTo>
                      <a:lnTo>
                        <a:pt x="11155" y="20185"/>
                      </a:lnTo>
                      <a:lnTo>
                        <a:pt x="11155" y="20579"/>
                      </a:lnTo>
                      <a:lnTo>
                        <a:pt x="11041" y="21043"/>
                      </a:lnTo>
                      <a:lnTo>
                        <a:pt x="10926" y="21391"/>
                      </a:lnTo>
                      <a:lnTo>
                        <a:pt x="10766" y="21600"/>
                      </a:lnTo>
                      <a:lnTo>
                        <a:pt x="11499" y="21484"/>
                      </a:lnTo>
                      <a:lnTo>
                        <a:pt x="12323" y="21043"/>
                      </a:lnTo>
                      <a:lnTo>
                        <a:pt x="13102" y="20370"/>
                      </a:lnTo>
                      <a:lnTo>
                        <a:pt x="13606" y="19628"/>
                      </a:lnTo>
                      <a:lnTo>
                        <a:pt x="13950" y="19071"/>
                      </a:lnTo>
                      <a:lnTo>
                        <a:pt x="14064" y="18677"/>
                      </a:lnTo>
                      <a:lnTo>
                        <a:pt x="14179" y="18097"/>
                      </a:lnTo>
                      <a:lnTo>
                        <a:pt x="14293" y="17586"/>
                      </a:lnTo>
                      <a:lnTo>
                        <a:pt x="14179" y="16913"/>
                      </a:lnTo>
                      <a:lnTo>
                        <a:pt x="14064" y="16241"/>
                      </a:lnTo>
                      <a:lnTo>
                        <a:pt x="13835" y="15614"/>
                      </a:lnTo>
                      <a:lnTo>
                        <a:pt x="13560" y="14872"/>
                      </a:lnTo>
                      <a:lnTo>
                        <a:pt x="13950" y="14941"/>
                      </a:lnTo>
                      <a:lnTo>
                        <a:pt x="14408" y="15150"/>
                      </a:lnTo>
                      <a:lnTo>
                        <a:pt x="14843" y="15266"/>
                      </a:lnTo>
                      <a:lnTo>
                        <a:pt x="15232" y="15614"/>
                      </a:lnTo>
                      <a:lnTo>
                        <a:pt x="15576" y="15846"/>
                      </a:lnTo>
                      <a:lnTo>
                        <a:pt x="15897" y="16171"/>
                      </a:lnTo>
                      <a:lnTo>
                        <a:pt x="16126" y="16473"/>
                      </a:lnTo>
                      <a:lnTo>
                        <a:pt x="16240" y="16913"/>
                      </a:lnTo>
                      <a:lnTo>
                        <a:pt x="16515" y="17261"/>
                      </a:lnTo>
                      <a:lnTo>
                        <a:pt x="17088" y="17586"/>
                      </a:lnTo>
                      <a:lnTo>
                        <a:pt x="17798" y="17865"/>
                      </a:lnTo>
                      <a:lnTo>
                        <a:pt x="18576" y="18097"/>
                      </a:lnTo>
                      <a:lnTo>
                        <a:pt x="19424" y="18213"/>
                      </a:lnTo>
                      <a:lnTo>
                        <a:pt x="20317" y="18213"/>
                      </a:lnTo>
                      <a:lnTo>
                        <a:pt x="21050" y="18213"/>
                      </a:lnTo>
                      <a:lnTo>
                        <a:pt x="21600" y="17865"/>
                      </a:lnTo>
                      <a:lnTo>
                        <a:pt x="21165" y="17656"/>
                      </a:lnTo>
                      <a:lnTo>
                        <a:pt x="20592" y="17470"/>
                      </a:lnTo>
                      <a:lnTo>
                        <a:pt x="20088" y="17029"/>
                      </a:lnTo>
                      <a:lnTo>
                        <a:pt x="19653" y="16681"/>
                      </a:lnTo>
                      <a:lnTo>
                        <a:pt x="19195" y="16241"/>
                      </a:lnTo>
                      <a:lnTo>
                        <a:pt x="18920" y="15962"/>
                      </a:lnTo>
                      <a:lnTo>
                        <a:pt x="18576" y="15498"/>
                      </a:lnTo>
                      <a:lnTo>
                        <a:pt x="18576" y="15057"/>
                      </a:lnTo>
                      <a:lnTo>
                        <a:pt x="18485" y="14756"/>
                      </a:lnTo>
                      <a:lnTo>
                        <a:pt x="18256" y="14199"/>
                      </a:lnTo>
                      <a:lnTo>
                        <a:pt x="17912" y="13526"/>
                      </a:lnTo>
                      <a:lnTo>
                        <a:pt x="17523" y="13016"/>
                      </a:lnTo>
                      <a:lnTo>
                        <a:pt x="16973" y="12436"/>
                      </a:lnTo>
                      <a:lnTo>
                        <a:pt x="16355" y="12041"/>
                      </a:lnTo>
                      <a:lnTo>
                        <a:pt x="16011" y="11832"/>
                      </a:lnTo>
                      <a:lnTo>
                        <a:pt x="15690" y="11716"/>
                      </a:lnTo>
                      <a:lnTo>
                        <a:pt x="15232" y="11716"/>
                      </a:lnTo>
                      <a:lnTo>
                        <a:pt x="14843" y="11716"/>
                      </a:lnTo>
                      <a:lnTo>
                        <a:pt x="15461" y="11252"/>
                      </a:lnTo>
                      <a:lnTo>
                        <a:pt x="16126" y="10858"/>
                      </a:lnTo>
                      <a:lnTo>
                        <a:pt x="16973" y="10649"/>
                      </a:lnTo>
                      <a:lnTo>
                        <a:pt x="17798" y="10417"/>
                      </a:lnTo>
                      <a:lnTo>
                        <a:pt x="18806" y="10301"/>
                      </a:lnTo>
                      <a:lnTo>
                        <a:pt x="19653" y="10301"/>
                      </a:lnTo>
                      <a:lnTo>
                        <a:pt x="20478" y="10417"/>
                      </a:lnTo>
                      <a:lnTo>
                        <a:pt x="21256" y="10533"/>
                      </a:lnTo>
                      <a:lnTo>
                        <a:pt x="20707" y="9837"/>
                      </a:lnTo>
                      <a:lnTo>
                        <a:pt x="19859" y="9234"/>
                      </a:lnTo>
                      <a:lnTo>
                        <a:pt x="18806" y="8538"/>
                      </a:lnTo>
                      <a:lnTo>
                        <a:pt x="17637" y="8144"/>
                      </a:lnTo>
                      <a:lnTo>
                        <a:pt x="16973" y="8027"/>
                      </a:lnTo>
                      <a:lnTo>
                        <a:pt x="16355" y="7935"/>
                      </a:lnTo>
                      <a:lnTo>
                        <a:pt x="15805" y="7935"/>
                      </a:lnTo>
                      <a:lnTo>
                        <a:pt x="15118" y="8027"/>
                      </a:lnTo>
                      <a:lnTo>
                        <a:pt x="14614" y="8144"/>
                      </a:lnTo>
                      <a:lnTo>
                        <a:pt x="14064" y="8422"/>
                      </a:lnTo>
                      <a:lnTo>
                        <a:pt x="13606" y="8886"/>
                      </a:lnTo>
                      <a:lnTo>
                        <a:pt x="13217" y="9327"/>
                      </a:lnTo>
                      <a:lnTo>
                        <a:pt x="13606" y="8538"/>
                      </a:lnTo>
                      <a:lnTo>
                        <a:pt x="13950" y="7935"/>
                      </a:lnTo>
                      <a:lnTo>
                        <a:pt x="14293" y="7123"/>
                      </a:lnTo>
                      <a:lnTo>
                        <a:pt x="14499" y="6519"/>
                      </a:lnTo>
                      <a:lnTo>
                        <a:pt x="14614" y="5823"/>
                      </a:lnTo>
                      <a:lnTo>
                        <a:pt x="14614" y="5220"/>
                      </a:lnTo>
                      <a:lnTo>
                        <a:pt x="14408" y="4524"/>
                      </a:lnTo>
                      <a:lnTo>
                        <a:pt x="14064" y="3898"/>
                      </a:lnTo>
                      <a:lnTo>
                        <a:pt x="13606" y="3225"/>
                      </a:lnTo>
                      <a:lnTo>
                        <a:pt x="13331" y="2598"/>
                      </a:lnTo>
                      <a:lnTo>
                        <a:pt x="13102" y="2042"/>
                      </a:lnTo>
                      <a:lnTo>
                        <a:pt x="12896" y="1485"/>
                      </a:lnTo>
                      <a:lnTo>
                        <a:pt x="12781" y="1090"/>
                      </a:lnTo>
                      <a:lnTo>
                        <a:pt x="12667" y="626"/>
                      </a:lnTo>
                      <a:lnTo>
                        <a:pt x="12667" y="278"/>
                      </a:lnTo>
                      <a:lnTo>
                        <a:pt x="12667" y="0"/>
                      </a:lnTo>
                      <a:lnTo>
                        <a:pt x="12163" y="394"/>
                      </a:lnTo>
                      <a:lnTo>
                        <a:pt x="11728" y="974"/>
                      </a:lnTo>
                      <a:lnTo>
                        <a:pt x="11155" y="1601"/>
                      </a:lnTo>
                      <a:lnTo>
                        <a:pt x="10766" y="2390"/>
                      </a:lnTo>
                      <a:lnTo>
                        <a:pt x="10330" y="3109"/>
                      </a:lnTo>
                      <a:lnTo>
                        <a:pt x="10101" y="3898"/>
                      </a:lnTo>
                      <a:lnTo>
                        <a:pt x="9987" y="4524"/>
                      </a:lnTo>
                      <a:lnTo>
                        <a:pt x="10101" y="5220"/>
                      </a:lnTo>
                      <a:lnTo>
                        <a:pt x="10216" y="5823"/>
                      </a:lnTo>
                      <a:lnTo>
                        <a:pt x="10330" y="6403"/>
                      </a:lnTo>
                      <a:lnTo>
                        <a:pt x="10330" y="6914"/>
                      </a:lnTo>
                      <a:lnTo>
                        <a:pt x="10216" y="7471"/>
                      </a:lnTo>
                      <a:lnTo>
                        <a:pt x="10101" y="7935"/>
                      </a:lnTo>
                      <a:lnTo>
                        <a:pt x="9872" y="8329"/>
                      </a:lnTo>
                      <a:lnTo>
                        <a:pt x="9643" y="8654"/>
                      </a:lnTo>
                      <a:lnTo>
                        <a:pt x="9368" y="9002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8" name="Freeform 33"/>
              <p:cNvSpPr/>
              <p:nvPr/>
            </p:nvSpPr>
            <p:spPr>
              <a:xfrm rot="19463400">
                <a:off x="5654160" y="3001320"/>
                <a:ext cx="466560" cy="527040"/>
              </a:xfrm>
              <a:custGeom>
                <a:avLst/>
                <a:gdLst>
                  <a:gd name="textAreaLeft" fmla="*/ 0 w 466560"/>
                  <a:gd name="textAreaRight" fmla="*/ 466920 w 466560"/>
                  <a:gd name="textAreaTop" fmla="*/ 0 h 527040"/>
                  <a:gd name="textAreaBottom" fmla="*/ 527400 h 527040"/>
                </a:gdLst>
                <a:ahLst/>
                <a:rect l="textAreaLeft" t="textAreaTop" r="textAreaRight" b="textAreaBottom"/>
                <a:pathLst>
                  <a:path w="515" h="557">
                    <a:moveTo>
                      <a:pt x="480" y="192"/>
                    </a:moveTo>
                    <a:cubicBezTo>
                      <a:pt x="483" y="187"/>
                      <a:pt x="515" y="190"/>
                      <a:pt x="480" y="160"/>
                    </a:cubicBezTo>
                    <a:cubicBezTo>
                      <a:pt x="445" y="130"/>
                      <a:pt x="339" y="0"/>
                      <a:pt x="272" y="13"/>
                    </a:cubicBezTo>
                    <a:cubicBezTo>
                      <a:pt x="205" y="26"/>
                      <a:pt x="125" y="146"/>
                      <a:pt x="80" y="237"/>
                    </a:cubicBezTo>
                    <a:cubicBezTo>
                      <a:pt x="35" y="328"/>
                      <a:pt x="17" y="490"/>
                      <a:pt x="0" y="557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Freeform 34"/>
              <p:cNvSpPr/>
              <p:nvPr/>
            </p:nvSpPr>
            <p:spPr>
              <a:xfrm rot="19463400">
                <a:off x="5643360" y="3088800"/>
                <a:ext cx="50400" cy="605880"/>
              </a:xfrm>
              <a:custGeom>
                <a:avLst/>
                <a:gdLst>
                  <a:gd name="textAreaLeft" fmla="*/ 0 w 50400"/>
                  <a:gd name="textAreaRight" fmla="*/ 50760 w 50400"/>
                  <a:gd name="textAreaTop" fmla="*/ 0 h 605880"/>
                  <a:gd name="textAreaBottom" fmla="*/ 606240 h 605880"/>
                </a:gdLst>
                <a:ahLst/>
                <a:rect l="textAreaLeft" t="textAreaTop" r="textAreaRight" b="textAreaBottom"/>
                <a:pathLst>
                  <a:path w="56" h="640">
                    <a:moveTo>
                      <a:pt x="0" y="0"/>
                    </a:moveTo>
                    <a:cubicBezTo>
                      <a:pt x="5" y="51"/>
                      <a:pt x="40" y="197"/>
                      <a:pt x="48" y="304"/>
                    </a:cubicBezTo>
                    <a:cubicBezTo>
                      <a:pt x="56" y="411"/>
                      <a:pt x="40" y="516"/>
                      <a:pt x="48" y="640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0" name="Group 35"/>
              <p:cNvGrpSpPr/>
              <p:nvPr/>
            </p:nvGrpSpPr>
            <p:grpSpPr>
              <a:xfrm>
                <a:off x="5379120" y="3032280"/>
                <a:ext cx="218520" cy="225360"/>
                <a:chOff x="5379120" y="3032280"/>
                <a:chExt cx="218520" cy="225360"/>
              </a:xfrm>
            </p:grpSpPr>
            <p:grpSp>
              <p:nvGrpSpPr>
                <p:cNvPr id="151" name="Group 36"/>
                <p:cNvGrpSpPr/>
                <p:nvPr/>
              </p:nvGrpSpPr>
              <p:grpSpPr>
                <a:xfrm>
                  <a:off x="5379120" y="3032280"/>
                  <a:ext cx="218520" cy="225360"/>
                  <a:chOff x="5379120" y="3032280"/>
                  <a:chExt cx="218520" cy="225360"/>
                </a:xfrm>
              </p:grpSpPr>
              <p:sp>
                <p:nvSpPr>
                  <p:cNvPr id="152" name="Freeform 37"/>
                  <p:cNvSpPr/>
                  <p:nvPr/>
                </p:nvSpPr>
                <p:spPr>
                  <a:xfrm rot="1879800">
                    <a:off x="5397480" y="3133080"/>
                    <a:ext cx="70920" cy="90360"/>
                  </a:xfrm>
                  <a:custGeom>
                    <a:avLst/>
                    <a:gdLst>
                      <a:gd name="textAreaLeft" fmla="*/ 0 w 70920"/>
                      <a:gd name="textAreaRight" fmla="*/ 71280 w 70920"/>
                      <a:gd name="textAreaTop" fmla="*/ 0 h 90360"/>
                      <a:gd name="textAreaBottom" fmla="*/ 90720 h 90360"/>
                    </a:gdLst>
                    <a:ahLst/>
                    <a:rect l="textAreaLeft" t="textAreaTop" r="textAreaRight" b="textAreaBottom"/>
                    <a:pathLst>
                      <a:path w="224" h="328">
                        <a:moveTo>
                          <a:pt x="168" y="8"/>
                        </a:moveTo>
                        <a:cubicBezTo>
                          <a:pt x="136" y="0"/>
                          <a:pt x="48" y="56"/>
                          <a:pt x="24" y="104"/>
                        </a:cubicBezTo>
                        <a:cubicBezTo>
                          <a:pt x="0" y="152"/>
                          <a:pt x="8" y="264"/>
                          <a:pt x="24" y="296"/>
                        </a:cubicBezTo>
                        <a:cubicBezTo>
                          <a:pt x="40" y="328"/>
                          <a:pt x="88" y="320"/>
                          <a:pt x="120" y="296"/>
                        </a:cubicBezTo>
                        <a:cubicBezTo>
                          <a:pt x="152" y="272"/>
                          <a:pt x="208" y="200"/>
                          <a:pt x="216" y="152"/>
                        </a:cubicBezTo>
                        <a:cubicBezTo>
                          <a:pt x="224" y="104"/>
                          <a:pt x="200" y="16"/>
                          <a:pt x="168" y="8"/>
                        </a:cubicBezTo>
                        <a:close/>
                      </a:path>
                    </a:pathLst>
                  </a:cu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920" bIns="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" name="Freeform 38"/>
                  <p:cNvSpPr/>
                  <p:nvPr/>
                </p:nvSpPr>
                <p:spPr>
                  <a:xfrm rot="19463400">
                    <a:off x="5448600" y="3165120"/>
                    <a:ext cx="72360" cy="78840"/>
                  </a:xfrm>
                  <a:custGeom>
                    <a:avLst/>
                    <a:gdLst>
                      <a:gd name="textAreaLeft" fmla="*/ 0 w 72360"/>
                      <a:gd name="textAreaRight" fmla="*/ 72720 w 72360"/>
                      <a:gd name="textAreaTop" fmla="*/ 0 h 78840"/>
                      <a:gd name="textAreaBottom" fmla="*/ 79200 h 78840"/>
                    </a:gdLst>
                    <a:ahLst/>
                    <a:rect l="textAreaLeft" t="textAreaTop" r="textAreaRight" b="textAreaBottom"/>
                    <a:pathLst>
                      <a:path w="224" h="328">
                        <a:moveTo>
                          <a:pt x="168" y="8"/>
                        </a:moveTo>
                        <a:cubicBezTo>
                          <a:pt x="136" y="0"/>
                          <a:pt x="48" y="56"/>
                          <a:pt x="24" y="104"/>
                        </a:cubicBezTo>
                        <a:cubicBezTo>
                          <a:pt x="0" y="152"/>
                          <a:pt x="8" y="264"/>
                          <a:pt x="24" y="296"/>
                        </a:cubicBezTo>
                        <a:cubicBezTo>
                          <a:pt x="40" y="328"/>
                          <a:pt x="88" y="320"/>
                          <a:pt x="120" y="296"/>
                        </a:cubicBezTo>
                        <a:cubicBezTo>
                          <a:pt x="152" y="272"/>
                          <a:pt x="208" y="200"/>
                          <a:pt x="216" y="152"/>
                        </a:cubicBezTo>
                        <a:cubicBezTo>
                          <a:pt x="224" y="104"/>
                          <a:pt x="200" y="16"/>
                          <a:pt x="168" y="8"/>
                        </a:cubicBezTo>
                        <a:close/>
                      </a:path>
                    </a:pathLst>
                  </a:cu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400" bIns="32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" name="Freeform 39"/>
                  <p:cNvSpPr/>
                  <p:nvPr/>
                </p:nvSpPr>
                <p:spPr>
                  <a:xfrm rot="1656600">
                    <a:off x="5509440" y="3072240"/>
                    <a:ext cx="71280" cy="90360"/>
                  </a:xfrm>
                  <a:custGeom>
                    <a:avLst/>
                    <a:gdLst>
                      <a:gd name="textAreaLeft" fmla="*/ 0 w 71280"/>
                      <a:gd name="textAreaRight" fmla="*/ 71640 w 71280"/>
                      <a:gd name="textAreaTop" fmla="*/ 0 h 90360"/>
                      <a:gd name="textAreaBottom" fmla="*/ 90720 h 90360"/>
                    </a:gdLst>
                    <a:ahLst/>
                    <a:rect l="textAreaLeft" t="textAreaTop" r="textAreaRight" b="textAreaBottom"/>
                    <a:pathLst>
                      <a:path w="224" h="328">
                        <a:moveTo>
                          <a:pt x="168" y="8"/>
                        </a:moveTo>
                        <a:cubicBezTo>
                          <a:pt x="136" y="0"/>
                          <a:pt x="48" y="56"/>
                          <a:pt x="24" y="104"/>
                        </a:cubicBezTo>
                        <a:cubicBezTo>
                          <a:pt x="0" y="152"/>
                          <a:pt x="8" y="264"/>
                          <a:pt x="24" y="296"/>
                        </a:cubicBezTo>
                        <a:cubicBezTo>
                          <a:pt x="40" y="328"/>
                          <a:pt x="88" y="320"/>
                          <a:pt x="120" y="296"/>
                        </a:cubicBezTo>
                        <a:cubicBezTo>
                          <a:pt x="152" y="272"/>
                          <a:pt x="208" y="200"/>
                          <a:pt x="216" y="152"/>
                        </a:cubicBezTo>
                        <a:cubicBezTo>
                          <a:pt x="224" y="104"/>
                          <a:pt x="200" y="16"/>
                          <a:pt x="168" y="8"/>
                        </a:cubicBezTo>
                        <a:close/>
                      </a:path>
                    </a:pathLst>
                  </a:cu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920" bIns="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" name="Freeform 40"/>
                  <p:cNvSpPr/>
                  <p:nvPr/>
                </p:nvSpPr>
                <p:spPr>
                  <a:xfrm rot="4896600">
                    <a:off x="5407920" y="3086280"/>
                    <a:ext cx="71280" cy="90360"/>
                  </a:xfrm>
                  <a:custGeom>
                    <a:avLst/>
                    <a:gdLst>
                      <a:gd name="textAreaLeft" fmla="*/ 0 w 71280"/>
                      <a:gd name="textAreaRight" fmla="*/ 71640 w 71280"/>
                      <a:gd name="textAreaTop" fmla="*/ 0 h 90360"/>
                      <a:gd name="textAreaBottom" fmla="*/ 90720 h 90360"/>
                    </a:gdLst>
                    <a:ahLst/>
                    <a:rect l="textAreaLeft" t="textAreaTop" r="textAreaRight" b="textAreaBottom"/>
                    <a:pathLst>
                      <a:path w="224" h="328">
                        <a:moveTo>
                          <a:pt x="168" y="8"/>
                        </a:moveTo>
                        <a:cubicBezTo>
                          <a:pt x="136" y="0"/>
                          <a:pt x="48" y="56"/>
                          <a:pt x="24" y="104"/>
                        </a:cubicBezTo>
                        <a:cubicBezTo>
                          <a:pt x="0" y="152"/>
                          <a:pt x="8" y="264"/>
                          <a:pt x="24" y="296"/>
                        </a:cubicBezTo>
                        <a:cubicBezTo>
                          <a:pt x="40" y="328"/>
                          <a:pt x="88" y="320"/>
                          <a:pt x="120" y="296"/>
                        </a:cubicBezTo>
                        <a:cubicBezTo>
                          <a:pt x="152" y="272"/>
                          <a:pt x="208" y="200"/>
                          <a:pt x="216" y="152"/>
                        </a:cubicBezTo>
                        <a:cubicBezTo>
                          <a:pt x="224" y="104"/>
                          <a:pt x="200" y="16"/>
                          <a:pt x="168" y="8"/>
                        </a:cubicBezTo>
                        <a:close/>
                      </a:path>
                    </a:pathLst>
                  </a:cu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920" bIns="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" name="Freeform 41"/>
                  <p:cNvSpPr/>
                  <p:nvPr/>
                </p:nvSpPr>
                <p:spPr>
                  <a:xfrm rot="19463400">
                    <a:off x="5452200" y="3045960"/>
                    <a:ext cx="72360" cy="78840"/>
                  </a:xfrm>
                  <a:custGeom>
                    <a:avLst/>
                    <a:gdLst>
                      <a:gd name="textAreaLeft" fmla="*/ 0 w 72360"/>
                      <a:gd name="textAreaRight" fmla="*/ 72720 w 72360"/>
                      <a:gd name="textAreaTop" fmla="*/ 0 h 78840"/>
                      <a:gd name="textAreaBottom" fmla="*/ 79200 h 78840"/>
                    </a:gdLst>
                    <a:ahLst/>
                    <a:rect l="textAreaLeft" t="textAreaTop" r="textAreaRight" b="textAreaBottom"/>
                    <a:pathLst>
                      <a:path w="224" h="328">
                        <a:moveTo>
                          <a:pt x="168" y="8"/>
                        </a:moveTo>
                        <a:cubicBezTo>
                          <a:pt x="136" y="0"/>
                          <a:pt x="48" y="56"/>
                          <a:pt x="24" y="104"/>
                        </a:cubicBezTo>
                        <a:cubicBezTo>
                          <a:pt x="0" y="152"/>
                          <a:pt x="8" y="264"/>
                          <a:pt x="24" y="296"/>
                        </a:cubicBezTo>
                        <a:cubicBezTo>
                          <a:pt x="40" y="328"/>
                          <a:pt x="88" y="320"/>
                          <a:pt x="120" y="296"/>
                        </a:cubicBezTo>
                        <a:cubicBezTo>
                          <a:pt x="152" y="272"/>
                          <a:pt x="208" y="200"/>
                          <a:pt x="216" y="152"/>
                        </a:cubicBezTo>
                        <a:cubicBezTo>
                          <a:pt x="224" y="104"/>
                          <a:pt x="200" y="16"/>
                          <a:pt x="168" y="8"/>
                        </a:cubicBezTo>
                        <a:close/>
                      </a:path>
                    </a:pathLst>
                  </a:cu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400" bIns="32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" name="Freeform 42"/>
                  <p:cNvSpPr/>
                  <p:nvPr/>
                </p:nvSpPr>
                <p:spPr>
                  <a:xfrm rot="19463400">
                    <a:off x="5473080" y="3135240"/>
                    <a:ext cx="36000" cy="31320"/>
                  </a:xfrm>
                  <a:custGeom>
                    <a:avLst/>
                    <a:gdLst>
                      <a:gd name="textAreaLeft" fmla="*/ 0 w 36000"/>
                      <a:gd name="textAreaRight" fmla="*/ 36360 w 36000"/>
                      <a:gd name="textAreaTop" fmla="*/ 0 h 31320"/>
                      <a:gd name="textAreaBottom" fmla="*/ 31680 h 31320"/>
                    </a:gdLst>
                    <a:ahLst/>
                    <a:rect l="textAreaLeft" t="textAreaTop" r="textAreaRight" b="textAreaBottom"/>
                    <a:pathLst>
                      <a:path w="224" h="328">
                        <a:moveTo>
                          <a:pt x="168" y="8"/>
                        </a:moveTo>
                        <a:cubicBezTo>
                          <a:pt x="136" y="0"/>
                          <a:pt x="48" y="56"/>
                          <a:pt x="24" y="104"/>
                        </a:cubicBezTo>
                        <a:cubicBezTo>
                          <a:pt x="0" y="152"/>
                          <a:pt x="8" y="264"/>
                          <a:pt x="24" y="296"/>
                        </a:cubicBezTo>
                        <a:cubicBezTo>
                          <a:pt x="40" y="328"/>
                          <a:pt x="88" y="320"/>
                          <a:pt x="120" y="296"/>
                        </a:cubicBezTo>
                        <a:cubicBezTo>
                          <a:pt x="152" y="272"/>
                          <a:pt x="208" y="200"/>
                          <a:pt x="216" y="152"/>
                        </a:cubicBezTo>
                        <a:cubicBezTo>
                          <a:pt x="224" y="104"/>
                          <a:pt x="200" y="16"/>
                          <a:pt x="168" y="8"/>
                        </a:cubicBezTo>
                        <a:close/>
                      </a:path>
                    </a:pathLst>
                  </a:custGeom>
                  <a:solidFill>
                    <a:srgbClr val="33cc33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58" name="Freeform 43"/>
                <p:cNvSpPr/>
                <p:nvPr/>
              </p:nvSpPr>
              <p:spPr>
                <a:xfrm rot="4579800">
                  <a:off x="5507280" y="3132360"/>
                  <a:ext cx="71280" cy="90360"/>
                </a:xfrm>
                <a:custGeom>
                  <a:avLst/>
                  <a:gdLst>
                    <a:gd name="textAreaLeft" fmla="*/ 0 w 71280"/>
                    <a:gd name="textAreaRight" fmla="*/ 71640 w 71280"/>
                    <a:gd name="textAreaTop" fmla="*/ 0 h 90360"/>
                    <a:gd name="textAreaBottom" fmla="*/ 90720 h 90360"/>
                  </a:gdLst>
                  <a:ahLst/>
                  <a:rect l="textAreaLeft" t="textAreaTop" r="textAreaRight" b="textAreaBottom"/>
                  <a:pathLst>
                    <a:path w="224" h="328">
                      <a:moveTo>
                        <a:pt x="168" y="8"/>
                      </a:moveTo>
                      <a:cubicBezTo>
                        <a:pt x="136" y="0"/>
                        <a:pt x="48" y="56"/>
                        <a:pt x="24" y="104"/>
                      </a:cubicBezTo>
                      <a:cubicBezTo>
                        <a:pt x="0" y="152"/>
                        <a:pt x="8" y="264"/>
                        <a:pt x="24" y="296"/>
                      </a:cubicBezTo>
                      <a:cubicBezTo>
                        <a:pt x="40" y="328"/>
                        <a:pt x="88" y="320"/>
                        <a:pt x="120" y="296"/>
                      </a:cubicBezTo>
                      <a:cubicBezTo>
                        <a:pt x="152" y="272"/>
                        <a:pt x="208" y="200"/>
                        <a:pt x="216" y="152"/>
                      </a:cubicBezTo>
                      <a:cubicBezTo>
                        <a:pt x="224" y="104"/>
                        <a:pt x="200" y="16"/>
                        <a:pt x="168" y="8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9" name="Freeform 44"/>
              <p:cNvSpPr/>
              <p:nvPr/>
            </p:nvSpPr>
            <p:spPr>
              <a:xfrm rot="19463400">
                <a:off x="5666760" y="3053520"/>
                <a:ext cx="376560" cy="487440"/>
              </a:xfrm>
              <a:custGeom>
                <a:avLst/>
                <a:gdLst>
                  <a:gd name="textAreaLeft" fmla="*/ 0 w 376560"/>
                  <a:gd name="textAreaRight" fmla="*/ 376920 w 376560"/>
                  <a:gd name="textAreaTop" fmla="*/ 0 h 487440"/>
                  <a:gd name="textAreaBottom" fmla="*/ 487800 h 487440"/>
                </a:gdLst>
                <a:ahLst/>
                <a:rect l="textAreaLeft" t="textAreaTop" r="textAreaRight" b="textAreaBottom"/>
                <a:pathLst>
                  <a:path w="416" h="515">
                    <a:moveTo>
                      <a:pt x="384" y="211"/>
                    </a:moveTo>
                    <a:cubicBezTo>
                      <a:pt x="387" y="206"/>
                      <a:pt x="416" y="214"/>
                      <a:pt x="384" y="179"/>
                    </a:cubicBezTo>
                    <a:cubicBezTo>
                      <a:pt x="352" y="144"/>
                      <a:pt x="250" y="0"/>
                      <a:pt x="192" y="3"/>
                    </a:cubicBezTo>
                    <a:cubicBezTo>
                      <a:pt x="134" y="6"/>
                      <a:pt x="69" y="110"/>
                      <a:pt x="37" y="195"/>
                    </a:cubicBezTo>
                    <a:cubicBezTo>
                      <a:pt x="5" y="280"/>
                      <a:pt x="8" y="448"/>
                      <a:pt x="0" y="515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Freeform 45"/>
              <p:cNvSpPr/>
              <p:nvPr/>
            </p:nvSpPr>
            <p:spPr>
              <a:xfrm rot="19463400">
                <a:off x="5714640" y="3190680"/>
                <a:ext cx="311400" cy="367920"/>
              </a:xfrm>
              <a:custGeom>
                <a:avLst/>
                <a:gdLst>
                  <a:gd name="textAreaLeft" fmla="*/ 0 w 311400"/>
                  <a:gd name="textAreaRight" fmla="*/ 311760 w 311400"/>
                  <a:gd name="textAreaTop" fmla="*/ 0 h 367920"/>
                  <a:gd name="textAreaBottom" fmla="*/ 368280 h 367920"/>
                </a:gdLst>
                <a:ahLst/>
                <a:rect l="textAreaLeft" t="textAreaTop" r="textAreaRight" b="textAreaBottom"/>
                <a:pathLst>
                  <a:path w="344" h="389">
                    <a:moveTo>
                      <a:pt x="320" y="149"/>
                    </a:moveTo>
                    <a:cubicBezTo>
                      <a:pt x="317" y="152"/>
                      <a:pt x="344" y="189"/>
                      <a:pt x="320" y="165"/>
                    </a:cubicBezTo>
                    <a:cubicBezTo>
                      <a:pt x="296" y="141"/>
                      <a:pt x="216" y="10"/>
                      <a:pt x="176" y="5"/>
                    </a:cubicBezTo>
                    <a:cubicBezTo>
                      <a:pt x="136" y="0"/>
                      <a:pt x="109" y="69"/>
                      <a:pt x="80" y="133"/>
                    </a:cubicBezTo>
                    <a:cubicBezTo>
                      <a:pt x="51" y="197"/>
                      <a:pt x="17" y="336"/>
                      <a:pt x="0" y="389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1" name="Group 46"/>
              <p:cNvGrpSpPr/>
              <p:nvPr/>
            </p:nvGrpSpPr>
            <p:grpSpPr>
              <a:xfrm>
                <a:off x="5529240" y="2868480"/>
                <a:ext cx="218520" cy="225360"/>
                <a:chOff x="5529240" y="2868480"/>
                <a:chExt cx="218520" cy="225360"/>
              </a:xfrm>
            </p:grpSpPr>
            <p:grpSp>
              <p:nvGrpSpPr>
                <p:cNvPr id="162" name="Group 47"/>
                <p:cNvGrpSpPr/>
                <p:nvPr/>
              </p:nvGrpSpPr>
              <p:grpSpPr>
                <a:xfrm>
                  <a:off x="5529240" y="2868480"/>
                  <a:ext cx="218520" cy="225360"/>
                  <a:chOff x="5529240" y="2868480"/>
                  <a:chExt cx="218520" cy="225360"/>
                </a:xfrm>
              </p:grpSpPr>
              <p:sp>
                <p:nvSpPr>
                  <p:cNvPr id="163" name="Freeform 48"/>
                  <p:cNvSpPr/>
                  <p:nvPr/>
                </p:nvSpPr>
                <p:spPr>
                  <a:xfrm rot="1879800">
                    <a:off x="5547600" y="2969280"/>
                    <a:ext cx="70920" cy="90360"/>
                  </a:xfrm>
                  <a:custGeom>
                    <a:avLst/>
                    <a:gdLst>
                      <a:gd name="textAreaLeft" fmla="*/ 0 w 70920"/>
                      <a:gd name="textAreaRight" fmla="*/ 71280 w 70920"/>
                      <a:gd name="textAreaTop" fmla="*/ 0 h 90360"/>
                      <a:gd name="textAreaBottom" fmla="*/ 90720 h 90360"/>
                    </a:gdLst>
                    <a:ahLst/>
                    <a:rect l="textAreaLeft" t="textAreaTop" r="textAreaRight" b="textAreaBottom"/>
                    <a:pathLst>
                      <a:path w="224" h="328">
                        <a:moveTo>
                          <a:pt x="168" y="8"/>
                        </a:moveTo>
                        <a:cubicBezTo>
                          <a:pt x="136" y="0"/>
                          <a:pt x="48" y="56"/>
                          <a:pt x="24" y="104"/>
                        </a:cubicBezTo>
                        <a:cubicBezTo>
                          <a:pt x="0" y="152"/>
                          <a:pt x="8" y="264"/>
                          <a:pt x="24" y="296"/>
                        </a:cubicBezTo>
                        <a:cubicBezTo>
                          <a:pt x="40" y="328"/>
                          <a:pt x="88" y="320"/>
                          <a:pt x="120" y="296"/>
                        </a:cubicBezTo>
                        <a:cubicBezTo>
                          <a:pt x="152" y="272"/>
                          <a:pt x="208" y="200"/>
                          <a:pt x="216" y="152"/>
                        </a:cubicBezTo>
                        <a:cubicBezTo>
                          <a:pt x="224" y="104"/>
                          <a:pt x="200" y="16"/>
                          <a:pt x="168" y="8"/>
                        </a:cubicBezTo>
                        <a:close/>
                      </a:path>
                    </a:pathLst>
                  </a:cu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920" bIns="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4" name="Freeform 49"/>
                  <p:cNvSpPr/>
                  <p:nvPr/>
                </p:nvSpPr>
                <p:spPr>
                  <a:xfrm rot="19463400">
                    <a:off x="5598720" y="3001320"/>
                    <a:ext cx="72360" cy="78840"/>
                  </a:xfrm>
                  <a:custGeom>
                    <a:avLst/>
                    <a:gdLst>
                      <a:gd name="textAreaLeft" fmla="*/ 0 w 72360"/>
                      <a:gd name="textAreaRight" fmla="*/ 72720 w 72360"/>
                      <a:gd name="textAreaTop" fmla="*/ 0 h 78840"/>
                      <a:gd name="textAreaBottom" fmla="*/ 79200 h 78840"/>
                    </a:gdLst>
                    <a:ahLst/>
                    <a:rect l="textAreaLeft" t="textAreaTop" r="textAreaRight" b="textAreaBottom"/>
                    <a:pathLst>
                      <a:path w="224" h="328">
                        <a:moveTo>
                          <a:pt x="168" y="8"/>
                        </a:moveTo>
                        <a:cubicBezTo>
                          <a:pt x="136" y="0"/>
                          <a:pt x="48" y="56"/>
                          <a:pt x="24" y="104"/>
                        </a:cubicBezTo>
                        <a:cubicBezTo>
                          <a:pt x="0" y="152"/>
                          <a:pt x="8" y="264"/>
                          <a:pt x="24" y="296"/>
                        </a:cubicBezTo>
                        <a:cubicBezTo>
                          <a:pt x="40" y="328"/>
                          <a:pt x="88" y="320"/>
                          <a:pt x="120" y="296"/>
                        </a:cubicBezTo>
                        <a:cubicBezTo>
                          <a:pt x="152" y="272"/>
                          <a:pt x="208" y="200"/>
                          <a:pt x="216" y="152"/>
                        </a:cubicBezTo>
                        <a:cubicBezTo>
                          <a:pt x="224" y="104"/>
                          <a:pt x="200" y="16"/>
                          <a:pt x="168" y="8"/>
                        </a:cubicBezTo>
                        <a:close/>
                      </a:path>
                    </a:pathLst>
                  </a:cu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400" bIns="32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5" name="Freeform 50"/>
                  <p:cNvSpPr/>
                  <p:nvPr/>
                </p:nvSpPr>
                <p:spPr>
                  <a:xfrm rot="1656600">
                    <a:off x="5659560" y="2908440"/>
                    <a:ext cx="71280" cy="90360"/>
                  </a:xfrm>
                  <a:custGeom>
                    <a:avLst/>
                    <a:gdLst>
                      <a:gd name="textAreaLeft" fmla="*/ 0 w 71280"/>
                      <a:gd name="textAreaRight" fmla="*/ 71640 w 71280"/>
                      <a:gd name="textAreaTop" fmla="*/ 0 h 90360"/>
                      <a:gd name="textAreaBottom" fmla="*/ 90720 h 90360"/>
                    </a:gdLst>
                    <a:ahLst/>
                    <a:rect l="textAreaLeft" t="textAreaTop" r="textAreaRight" b="textAreaBottom"/>
                    <a:pathLst>
                      <a:path w="224" h="328">
                        <a:moveTo>
                          <a:pt x="168" y="8"/>
                        </a:moveTo>
                        <a:cubicBezTo>
                          <a:pt x="136" y="0"/>
                          <a:pt x="48" y="56"/>
                          <a:pt x="24" y="104"/>
                        </a:cubicBezTo>
                        <a:cubicBezTo>
                          <a:pt x="0" y="152"/>
                          <a:pt x="8" y="264"/>
                          <a:pt x="24" y="296"/>
                        </a:cubicBezTo>
                        <a:cubicBezTo>
                          <a:pt x="40" y="328"/>
                          <a:pt x="88" y="320"/>
                          <a:pt x="120" y="296"/>
                        </a:cubicBezTo>
                        <a:cubicBezTo>
                          <a:pt x="152" y="272"/>
                          <a:pt x="208" y="200"/>
                          <a:pt x="216" y="152"/>
                        </a:cubicBezTo>
                        <a:cubicBezTo>
                          <a:pt x="224" y="104"/>
                          <a:pt x="200" y="16"/>
                          <a:pt x="168" y="8"/>
                        </a:cubicBezTo>
                        <a:close/>
                      </a:path>
                    </a:pathLst>
                  </a:cu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920" bIns="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6" name="Freeform 51"/>
                  <p:cNvSpPr/>
                  <p:nvPr/>
                </p:nvSpPr>
                <p:spPr>
                  <a:xfrm rot="4896600">
                    <a:off x="5558040" y="2922480"/>
                    <a:ext cx="71280" cy="90360"/>
                  </a:xfrm>
                  <a:custGeom>
                    <a:avLst/>
                    <a:gdLst>
                      <a:gd name="textAreaLeft" fmla="*/ 0 w 71280"/>
                      <a:gd name="textAreaRight" fmla="*/ 71640 w 71280"/>
                      <a:gd name="textAreaTop" fmla="*/ 0 h 90360"/>
                      <a:gd name="textAreaBottom" fmla="*/ 90720 h 90360"/>
                    </a:gdLst>
                    <a:ahLst/>
                    <a:rect l="textAreaLeft" t="textAreaTop" r="textAreaRight" b="textAreaBottom"/>
                    <a:pathLst>
                      <a:path w="224" h="328">
                        <a:moveTo>
                          <a:pt x="168" y="8"/>
                        </a:moveTo>
                        <a:cubicBezTo>
                          <a:pt x="136" y="0"/>
                          <a:pt x="48" y="56"/>
                          <a:pt x="24" y="104"/>
                        </a:cubicBezTo>
                        <a:cubicBezTo>
                          <a:pt x="0" y="152"/>
                          <a:pt x="8" y="264"/>
                          <a:pt x="24" y="296"/>
                        </a:cubicBezTo>
                        <a:cubicBezTo>
                          <a:pt x="40" y="328"/>
                          <a:pt x="88" y="320"/>
                          <a:pt x="120" y="296"/>
                        </a:cubicBezTo>
                        <a:cubicBezTo>
                          <a:pt x="152" y="272"/>
                          <a:pt x="208" y="200"/>
                          <a:pt x="216" y="152"/>
                        </a:cubicBezTo>
                        <a:cubicBezTo>
                          <a:pt x="224" y="104"/>
                          <a:pt x="200" y="16"/>
                          <a:pt x="168" y="8"/>
                        </a:cubicBezTo>
                        <a:close/>
                      </a:path>
                    </a:pathLst>
                  </a:cu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920" bIns="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7" name="Freeform 52"/>
                  <p:cNvSpPr/>
                  <p:nvPr/>
                </p:nvSpPr>
                <p:spPr>
                  <a:xfrm rot="19463400">
                    <a:off x="5602320" y="2882160"/>
                    <a:ext cx="72360" cy="78840"/>
                  </a:xfrm>
                  <a:custGeom>
                    <a:avLst/>
                    <a:gdLst>
                      <a:gd name="textAreaLeft" fmla="*/ 0 w 72360"/>
                      <a:gd name="textAreaRight" fmla="*/ 72720 w 72360"/>
                      <a:gd name="textAreaTop" fmla="*/ 0 h 78840"/>
                      <a:gd name="textAreaBottom" fmla="*/ 79200 h 78840"/>
                    </a:gdLst>
                    <a:ahLst/>
                    <a:rect l="textAreaLeft" t="textAreaTop" r="textAreaRight" b="textAreaBottom"/>
                    <a:pathLst>
                      <a:path w="224" h="328">
                        <a:moveTo>
                          <a:pt x="168" y="8"/>
                        </a:moveTo>
                        <a:cubicBezTo>
                          <a:pt x="136" y="0"/>
                          <a:pt x="48" y="56"/>
                          <a:pt x="24" y="104"/>
                        </a:cubicBezTo>
                        <a:cubicBezTo>
                          <a:pt x="0" y="152"/>
                          <a:pt x="8" y="264"/>
                          <a:pt x="24" y="296"/>
                        </a:cubicBezTo>
                        <a:cubicBezTo>
                          <a:pt x="40" y="328"/>
                          <a:pt x="88" y="320"/>
                          <a:pt x="120" y="296"/>
                        </a:cubicBezTo>
                        <a:cubicBezTo>
                          <a:pt x="152" y="272"/>
                          <a:pt x="208" y="200"/>
                          <a:pt x="216" y="152"/>
                        </a:cubicBezTo>
                        <a:cubicBezTo>
                          <a:pt x="224" y="104"/>
                          <a:pt x="200" y="16"/>
                          <a:pt x="168" y="8"/>
                        </a:cubicBezTo>
                        <a:close/>
                      </a:path>
                    </a:pathLst>
                  </a:cu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400" bIns="32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8" name="Freeform 53"/>
                  <p:cNvSpPr/>
                  <p:nvPr/>
                </p:nvSpPr>
                <p:spPr>
                  <a:xfrm rot="19463400">
                    <a:off x="5623200" y="2971440"/>
                    <a:ext cx="36000" cy="31320"/>
                  </a:xfrm>
                  <a:custGeom>
                    <a:avLst/>
                    <a:gdLst>
                      <a:gd name="textAreaLeft" fmla="*/ 0 w 36000"/>
                      <a:gd name="textAreaRight" fmla="*/ 36360 w 36000"/>
                      <a:gd name="textAreaTop" fmla="*/ 0 h 31320"/>
                      <a:gd name="textAreaBottom" fmla="*/ 31680 h 31320"/>
                    </a:gdLst>
                    <a:ahLst/>
                    <a:rect l="textAreaLeft" t="textAreaTop" r="textAreaRight" b="textAreaBottom"/>
                    <a:pathLst>
                      <a:path w="224" h="328">
                        <a:moveTo>
                          <a:pt x="168" y="8"/>
                        </a:moveTo>
                        <a:cubicBezTo>
                          <a:pt x="136" y="0"/>
                          <a:pt x="48" y="56"/>
                          <a:pt x="24" y="104"/>
                        </a:cubicBezTo>
                        <a:cubicBezTo>
                          <a:pt x="0" y="152"/>
                          <a:pt x="8" y="264"/>
                          <a:pt x="24" y="296"/>
                        </a:cubicBezTo>
                        <a:cubicBezTo>
                          <a:pt x="40" y="328"/>
                          <a:pt x="88" y="320"/>
                          <a:pt x="120" y="296"/>
                        </a:cubicBezTo>
                        <a:cubicBezTo>
                          <a:pt x="152" y="272"/>
                          <a:pt x="208" y="200"/>
                          <a:pt x="216" y="152"/>
                        </a:cubicBezTo>
                        <a:cubicBezTo>
                          <a:pt x="224" y="104"/>
                          <a:pt x="200" y="16"/>
                          <a:pt x="168" y="8"/>
                        </a:cubicBezTo>
                        <a:close/>
                      </a:path>
                    </a:pathLst>
                  </a:custGeom>
                  <a:solidFill>
                    <a:srgbClr val="33cc33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69" name="Freeform 54"/>
                <p:cNvSpPr/>
                <p:nvPr/>
              </p:nvSpPr>
              <p:spPr>
                <a:xfrm rot="4579800">
                  <a:off x="5657760" y="2968560"/>
                  <a:ext cx="71280" cy="90360"/>
                </a:xfrm>
                <a:custGeom>
                  <a:avLst/>
                  <a:gdLst>
                    <a:gd name="textAreaLeft" fmla="*/ 0 w 71280"/>
                    <a:gd name="textAreaRight" fmla="*/ 71640 w 71280"/>
                    <a:gd name="textAreaTop" fmla="*/ 0 h 90360"/>
                    <a:gd name="textAreaBottom" fmla="*/ 90720 h 90360"/>
                  </a:gdLst>
                  <a:ahLst/>
                  <a:rect l="textAreaLeft" t="textAreaTop" r="textAreaRight" b="textAreaBottom"/>
                  <a:pathLst>
                    <a:path w="224" h="328">
                      <a:moveTo>
                        <a:pt x="168" y="8"/>
                      </a:moveTo>
                      <a:cubicBezTo>
                        <a:pt x="136" y="0"/>
                        <a:pt x="48" y="56"/>
                        <a:pt x="24" y="104"/>
                      </a:cubicBezTo>
                      <a:cubicBezTo>
                        <a:pt x="0" y="152"/>
                        <a:pt x="8" y="264"/>
                        <a:pt x="24" y="296"/>
                      </a:cubicBezTo>
                      <a:cubicBezTo>
                        <a:pt x="40" y="328"/>
                        <a:pt x="88" y="320"/>
                        <a:pt x="120" y="296"/>
                      </a:cubicBezTo>
                      <a:cubicBezTo>
                        <a:pt x="152" y="272"/>
                        <a:pt x="208" y="200"/>
                        <a:pt x="216" y="152"/>
                      </a:cubicBezTo>
                      <a:cubicBezTo>
                        <a:pt x="224" y="104"/>
                        <a:pt x="200" y="16"/>
                        <a:pt x="168" y="8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0" name="Group 55"/>
              <p:cNvGrpSpPr/>
              <p:nvPr/>
            </p:nvGrpSpPr>
            <p:grpSpPr>
              <a:xfrm>
                <a:off x="5927760" y="2981160"/>
                <a:ext cx="303840" cy="321120"/>
                <a:chOff x="5927760" y="2981160"/>
                <a:chExt cx="303840" cy="321120"/>
              </a:xfrm>
            </p:grpSpPr>
            <p:grpSp>
              <p:nvGrpSpPr>
                <p:cNvPr id="171" name="Group 56"/>
                <p:cNvGrpSpPr/>
                <p:nvPr/>
              </p:nvGrpSpPr>
              <p:grpSpPr>
                <a:xfrm>
                  <a:off x="5927760" y="2999160"/>
                  <a:ext cx="303840" cy="303120"/>
                  <a:chOff x="5927760" y="2999160"/>
                  <a:chExt cx="303840" cy="303120"/>
                </a:xfrm>
              </p:grpSpPr>
              <p:sp>
                <p:nvSpPr>
                  <p:cNvPr id="172" name="Freeform 57"/>
                  <p:cNvSpPr/>
                  <p:nvPr/>
                </p:nvSpPr>
                <p:spPr>
                  <a:xfrm rot="8513400">
                    <a:off x="6078240" y="3005640"/>
                    <a:ext cx="96840" cy="216000"/>
                  </a:xfrm>
                  <a:custGeom>
                    <a:avLst/>
                    <a:gdLst>
                      <a:gd name="textAreaLeft" fmla="*/ 0 w 96840"/>
                      <a:gd name="textAreaRight" fmla="*/ 97200 w 96840"/>
                      <a:gd name="textAreaTop" fmla="*/ 0 h 216000"/>
                      <a:gd name="textAreaBottom" fmla="*/ 216360 h 216000"/>
                    </a:gdLst>
                    <a:ahLst/>
                    <a:rect l="textAreaLeft" t="textAreaTop" r="textAreaRight" b="textAreaBottom"/>
                    <a:pathLst>
                      <a:path w="296" h="552">
                        <a:moveTo>
                          <a:pt x="296" y="528"/>
                        </a:moveTo>
                        <a:cubicBezTo>
                          <a:pt x="224" y="540"/>
                          <a:pt x="152" y="552"/>
                          <a:pt x="104" y="528"/>
                        </a:cubicBezTo>
                        <a:cubicBezTo>
                          <a:pt x="56" y="504"/>
                          <a:pt x="16" y="440"/>
                          <a:pt x="8" y="384"/>
                        </a:cubicBezTo>
                        <a:cubicBezTo>
                          <a:pt x="0" y="328"/>
                          <a:pt x="24" y="248"/>
                          <a:pt x="56" y="192"/>
                        </a:cubicBezTo>
                        <a:cubicBezTo>
                          <a:pt x="88" y="136"/>
                          <a:pt x="160" y="80"/>
                          <a:pt x="200" y="48"/>
                        </a:cubicBezTo>
                        <a:cubicBezTo>
                          <a:pt x="240" y="16"/>
                          <a:pt x="268" y="8"/>
                          <a:pt x="296" y="0"/>
                        </a:cubicBezTo>
                      </a:path>
                    </a:pathLst>
                  </a:custGeom>
                  <a:solidFill>
                    <a:srgbClr val="ff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" name="Freeform 58"/>
                  <p:cNvSpPr/>
                  <p:nvPr/>
                </p:nvSpPr>
                <p:spPr>
                  <a:xfrm flipH="1" rot="8512800">
                    <a:off x="5980680" y="3071160"/>
                    <a:ext cx="122760" cy="216000"/>
                  </a:xfrm>
                  <a:custGeom>
                    <a:avLst/>
                    <a:gdLst>
                      <a:gd name="textAreaLeft" fmla="*/ -360 w 122760"/>
                      <a:gd name="textAreaRight" fmla="*/ 122760 w 122760"/>
                      <a:gd name="textAreaTop" fmla="*/ 0 h 216000"/>
                      <a:gd name="textAreaBottom" fmla="*/ 216360 h 216000"/>
                    </a:gdLst>
                    <a:ahLst/>
                    <a:rect l="textAreaLeft" t="textAreaTop" r="textAreaRight" b="textAreaBottom"/>
                    <a:pathLst>
                      <a:path w="296" h="552">
                        <a:moveTo>
                          <a:pt x="296" y="528"/>
                        </a:moveTo>
                        <a:cubicBezTo>
                          <a:pt x="224" y="540"/>
                          <a:pt x="152" y="552"/>
                          <a:pt x="104" y="528"/>
                        </a:cubicBezTo>
                        <a:cubicBezTo>
                          <a:pt x="56" y="504"/>
                          <a:pt x="16" y="440"/>
                          <a:pt x="8" y="384"/>
                        </a:cubicBezTo>
                        <a:cubicBezTo>
                          <a:pt x="0" y="328"/>
                          <a:pt x="24" y="248"/>
                          <a:pt x="56" y="192"/>
                        </a:cubicBezTo>
                        <a:cubicBezTo>
                          <a:pt x="88" y="136"/>
                          <a:pt x="160" y="80"/>
                          <a:pt x="200" y="48"/>
                        </a:cubicBezTo>
                        <a:cubicBezTo>
                          <a:pt x="240" y="16"/>
                          <a:pt x="268" y="8"/>
                          <a:pt x="296" y="0"/>
                        </a:cubicBezTo>
                      </a:path>
                    </a:pathLst>
                  </a:custGeom>
                  <a:solidFill>
                    <a:srgbClr val="ff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74" name="Freeform 59"/>
                <p:cNvSpPr/>
                <p:nvPr/>
              </p:nvSpPr>
              <p:spPr>
                <a:xfrm flipV="1" rot="19463400">
                  <a:off x="6067440" y="3092040"/>
                  <a:ext cx="15480" cy="18720"/>
                </a:xfrm>
                <a:custGeom>
                  <a:avLst/>
                  <a:gdLst>
                    <a:gd name="textAreaLeft" fmla="*/ 0 w 15480"/>
                    <a:gd name="textAreaRight" fmla="*/ 15840 w 15480"/>
                    <a:gd name="textAreaTop" fmla="*/ 360 h 18720"/>
                    <a:gd name="textAreaBottom" fmla="*/ 19440 h 18720"/>
                  </a:gdLst>
                  <a:ahLst/>
                  <a:rect l="textAreaLeft" t="textAreaTop" r="textAreaRight" b="textAreaBottom"/>
                  <a:pathLst>
                    <a:path w="192" h="288">
                      <a:moveTo>
                        <a:pt x="0" y="288"/>
                      </a:moveTo>
                      <a:lnTo>
                        <a:pt x="192" y="288"/>
                      </a:lnTo>
                      <a:lnTo>
                        <a:pt x="48" y="0"/>
                      </a:lnTo>
                      <a:lnTo>
                        <a:pt x="0" y="288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Freeform 60"/>
                <p:cNvSpPr/>
                <p:nvPr/>
              </p:nvSpPr>
              <p:spPr>
                <a:xfrm flipV="1" rot="19463400">
                  <a:off x="5992200" y="3122640"/>
                  <a:ext cx="15480" cy="18720"/>
                </a:xfrm>
                <a:custGeom>
                  <a:avLst/>
                  <a:gdLst>
                    <a:gd name="textAreaLeft" fmla="*/ 0 w 15480"/>
                    <a:gd name="textAreaRight" fmla="*/ 15840 w 15480"/>
                    <a:gd name="textAreaTop" fmla="*/ 360 h 18720"/>
                    <a:gd name="textAreaBottom" fmla="*/ 19440 h 18720"/>
                  </a:gdLst>
                  <a:ahLst/>
                  <a:rect l="textAreaLeft" t="textAreaTop" r="textAreaRight" b="textAreaBottom"/>
                  <a:pathLst>
                    <a:path w="192" h="288">
                      <a:moveTo>
                        <a:pt x="0" y="288"/>
                      </a:moveTo>
                      <a:lnTo>
                        <a:pt x="192" y="288"/>
                      </a:lnTo>
                      <a:lnTo>
                        <a:pt x="48" y="0"/>
                      </a:lnTo>
                      <a:lnTo>
                        <a:pt x="0" y="288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Freeform 61"/>
                <p:cNvSpPr/>
                <p:nvPr/>
              </p:nvSpPr>
              <p:spPr>
                <a:xfrm flipV="1" rot="19463400">
                  <a:off x="6015960" y="3128760"/>
                  <a:ext cx="15480" cy="18720"/>
                </a:xfrm>
                <a:custGeom>
                  <a:avLst/>
                  <a:gdLst>
                    <a:gd name="textAreaLeft" fmla="*/ 0 w 15480"/>
                    <a:gd name="textAreaRight" fmla="*/ 15840 w 15480"/>
                    <a:gd name="textAreaTop" fmla="*/ 360 h 18720"/>
                    <a:gd name="textAreaBottom" fmla="*/ 19440 h 18720"/>
                  </a:gdLst>
                  <a:ahLst/>
                  <a:rect l="textAreaLeft" t="textAreaTop" r="textAreaRight" b="textAreaBottom"/>
                  <a:pathLst>
                    <a:path w="192" h="288">
                      <a:moveTo>
                        <a:pt x="0" y="288"/>
                      </a:moveTo>
                      <a:lnTo>
                        <a:pt x="192" y="288"/>
                      </a:lnTo>
                      <a:lnTo>
                        <a:pt x="48" y="0"/>
                      </a:lnTo>
                      <a:lnTo>
                        <a:pt x="0" y="288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Freeform 62"/>
                <p:cNvSpPr/>
                <p:nvPr/>
              </p:nvSpPr>
              <p:spPr>
                <a:xfrm flipV="1" rot="19463400">
                  <a:off x="6052320" y="3125880"/>
                  <a:ext cx="15480" cy="18720"/>
                </a:xfrm>
                <a:custGeom>
                  <a:avLst/>
                  <a:gdLst>
                    <a:gd name="textAreaLeft" fmla="*/ 0 w 15480"/>
                    <a:gd name="textAreaRight" fmla="*/ 15840 w 15480"/>
                    <a:gd name="textAreaTop" fmla="*/ 360 h 18720"/>
                    <a:gd name="textAreaBottom" fmla="*/ 19440 h 18720"/>
                  </a:gdLst>
                  <a:ahLst/>
                  <a:rect l="textAreaLeft" t="textAreaTop" r="textAreaRight" b="textAreaBottom"/>
                  <a:pathLst>
                    <a:path w="192" h="288">
                      <a:moveTo>
                        <a:pt x="0" y="288"/>
                      </a:moveTo>
                      <a:lnTo>
                        <a:pt x="192" y="288"/>
                      </a:lnTo>
                      <a:lnTo>
                        <a:pt x="48" y="0"/>
                      </a:lnTo>
                      <a:lnTo>
                        <a:pt x="0" y="288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Freeform 63"/>
                <p:cNvSpPr/>
                <p:nvPr/>
              </p:nvSpPr>
              <p:spPr>
                <a:xfrm flipV="1" rot="19463400">
                  <a:off x="6062040" y="3165480"/>
                  <a:ext cx="15480" cy="18720"/>
                </a:xfrm>
                <a:custGeom>
                  <a:avLst/>
                  <a:gdLst>
                    <a:gd name="textAreaLeft" fmla="*/ 0 w 15480"/>
                    <a:gd name="textAreaRight" fmla="*/ 15840 w 15480"/>
                    <a:gd name="textAreaTop" fmla="*/ 360 h 18720"/>
                    <a:gd name="textAreaBottom" fmla="*/ 19440 h 18720"/>
                  </a:gdLst>
                  <a:ahLst/>
                  <a:rect l="textAreaLeft" t="textAreaTop" r="textAreaRight" b="textAreaBottom"/>
                  <a:pathLst>
                    <a:path w="192" h="288">
                      <a:moveTo>
                        <a:pt x="0" y="288"/>
                      </a:moveTo>
                      <a:lnTo>
                        <a:pt x="192" y="288"/>
                      </a:lnTo>
                      <a:lnTo>
                        <a:pt x="48" y="0"/>
                      </a:lnTo>
                      <a:lnTo>
                        <a:pt x="0" y="288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Freeform 64"/>
                <p:cNvSpPr/>
                <p:nvPr/>
              </p:nvSpPr>
              <p:spPr>
                <a:xfrm flipV="1" rot="19463400">
                  <a:off x="6059880" y="3189960"/>
                  <a:ext cx="15480" cy="18720"/>
                </a:xfrm>
                <a:custGeom>
                  <a:avLst/>
                  <a:gdLst>
                    <a:gd name="textAreaLeft" fmla="*/ 0 w 15480"/>
                    <a:gd name="textAreaRight" fmla="*/ 15840 w 15480"/>
                    <a:gd name="textAreaTop" fmla="*/ 360 h 18720"/>
                    <a:gd name="textAreaBottom" fmla="*/ 19440 h 18720"/>
                  </a:gdLst>
                  <a:ahLst/>
                  <a:rect l="textAreaLeft" t="textAreaTop" r="textAreaRight" b="textAreaBottom"/>
                  <a:pathLst>
                    <a:path w="192" h="288">
                      <a:moveTo>
                        <a:pt x="0" y="288"/>
                      </a:moveTo>
                      <a:lnTo>
                        <a:pt x="192" y="288"/>
                      </a:lnTo>
                      <a:lnTo>
                        <a:pt x="48" y="0"/>
                      </a:lnTo>
                      <a:lnTo>
                        <a:pt x="0" y="288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Freeform 65"/>
                <p:cNvSpPr/>
                <p:nvPr/>
              </p:nvSpPr>
              <p:spPr>
                <a:xfrm flipV="1" rot="19463400">
                  <a:off x="6083640" y="3196080"/>
                  <a:ext cx="15480" cy="18720"/>
                </a:xfrm>
                <a:custGeom>
                  <a:avLst/>
                  <a:gdLst>
                    <a:gd name="textAreaLeft" fmla="*/ 0 w 15480"/>
                    <a:gd name="textAreaRight" fmla="*/ 15840 w 15480"/>
                    <a:gd name="textAreaTop" fmla="*/ 360 h 18720"/>
                    <a:gd name="textAreaBottom" fmla="*/ 19440 h 18720"/>
                  </a:gdLst>
                  <a:ahLst/>
                  <a:rect l="textAreaLeft" t="textAreaTop" r="textAreaRight" b="textAreaBottom"/>
                  <a:pathLst>
                    <a:path w="192" h="288">
                      <a:moveTo>
                        <a:pt x="0" y="288"/>
                      </a:moveTo>
                      <a:lnTo>
                        <a:pt x="192" y="288"/>
                      </a:lnTo>
                      <a:lnTo>
                        <a:pt x="48" y="0"/>
                      </a:lnTo>
                      <a:lnTo>
                        <a:pt x="0" y="288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Freeform 66"/>
                <p:cNvSpPr/>
                <p:nvPr/>
              </p:nvSpPr>
              <p:spPr>
                <a:xfrm flipV="1" rot="19463400">
                  <a:off x="6120360" y="3193200"/>
                  <a:ext cx="15480" cy="18720"/>
                </a:xfrm>
                <a:custGeom>
                  <a:avLst/>
                  <a:gdLst>
                    <a:gd name="textAreaLeft" fmla="*/ 0 w 15480"/>
                    <a:gd name="textAreaRight" fmla="*/ 15840 w 15480"/>
                    <a:gd name="textAreaTop" fmla="*/ 360 h 18720"/>
                    <a:gd name="textAreaBottom" fmla="*/ 19440 h 18720"/>
                  </a:gdLst>
                  <a:ahLst/>
                  <a:rect l="textAreaLeft" t="textAreaTop" r="textAreaRight" b="textAreaBottom"/>
                  <a:pathLst>
                    <a:path w="192" h="288">
                      <a:moveTo>
                        <a:pt x="0" y="288"/>
                      </a:moveTo>
                      <a:lnTo>
                        <a:pt x="192" y="288"/>
                      </a:lnTo>
                      <a:lnTo>
                        <a:pt x="48" y="0"/>
                      </a:lnTo>
                      <a:lnTo>
                        <a:pt x="0" y="288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Freeform 67"/>
                <p:cNvSpPr/>
                <p:nvPr/>
              </p:nvSpPr>
              <p:spPr>
                <a:xfrm flipV="1" rot="19463400">
                  <a:off x="6001560" y="3162240"/>
                  <a:ext cx="15480" cy="18720"/>
                </a:xfrm>
                <a:custGeom>
                  <a:avLst/>
                  <a:gdLst>
                    <a:gd name="textAreaLeft" fmla="*/ 0 w 15480"/>
                    <a:gd name="textAreaRight" fmla="*/ 15840 w 15480"/>
                    <a:gd name="textAreaTop" fmla="*/ 360 h 18720"/>
                    <a:gd name="textAreaBottom" fmla="*/ 19440 h 18720"/>
                  </a:gdLst>
                  <a:ahLst/>
                  <a:rect l="textAreaLeft" t="textAreaTop" r="textAreaRight" b="textAreaBottom"/>
                  <a:pathLst>
                    <a:path w="192" h="288">
                      <a:moveTo>
                        <a:pt x="0" y="288"/>
                      </a:moveTo>
                      <a:lnTo>
                        <a:pt x="192" y="288"/>
                      </a:lnTo>
                      <a:lnTo>
                        <a:pt x="48" y="0"/>
                      </a:lnTo>
                      <a:lnTo>
                        <a:pt x="0" y="288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Freeform 68"/>
                <p:cNvSpPr/>
                <p:nvPr/>
              </p:nvSpPr>
              <p:spPr>
                <a:xfrm flipV="1" rot="19463400">
                  <a:off x="6025320" y="3168720"/>
                  <a:ext cx="15480" cy="18720"/>
                </a:xfrm>
                <a:custGeom>
                  <a:avLst/>
                  <a:gdLst>
                    <a:gd name="textAreaLeft" fmla="*/ 0 w 15480"/>
                    <a:gd name="textAreaRight" fmla="*/ 15840 w 15480"/>
                    <a:gd name="textAreaTop" fmla="*/ 360 h 18720"/>
                    <a:gd name="textAreaBottom" fmla="*/ 19440 h 18720"/>
                  </a:gdLst>
                  <a:ahLst/>
                  <a:rect l="textAreaLeft" t="textAreaTop" r="textAreaRight" b="textAreaBottom"/>
                  <a:pathLst>
                    <a:path w="192" h="288">
                      <a:moveTo>
                        <a:pt x="0" y="288"/>
                      </a:moveTo>
                      <a:lnTo>
                        <a:pt x="192" y="288"/>
                      </a:lnTo>
                      <a:lnTo>
                        <a:pt x="48" y="0"/>
                      </a:lnTo>
                      <a:lnTo>
                        <a:pt x="0" y="288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Freeform 69"/>
                <p:cNvSpPr/>
                <p:nvPr/>
              </p:nvSpPr>
              <p:spPr>
                <a:xfrm flipH="1" flipV="1" rot="19463400">
                  <a:off x="6098040" y="3162600"/>
                  <a:ext cx="15480" cy="18720"/>
                </a:xfrm>
                <a:custGeom>
                  <a:avLst/>
                  <a:gdLst>
                    <a:gd name="textAreaLeft" fmla="*/ -360 w 15480"/>
                    <a:gd name="textAreaRight" fmla="*/ 15480 w 15480"/>
                    <a:gd name="textAreaTop" fmla="*/ 360 h 18720"/>
                    <a:gd name="textAreaBottom" fmla="*/ 19440 h 18720"/>
                  </a:gdLst>
                  <a:ahLst/>
                  <a:rect l="textAreaLeft" t="textAreaTop" r="textAreaRight" b="textAreaBottom"/>
                  <a:pathLst>
                    <a:path w="192" h="288">
                      <a:moveTo>
                        <a:pt x="0" y="288"/>
                      </a:moveTo>
                      <a:lnTo>
                        <a:pt x="192" y="288"/>
                      </a:lnTo>
                      <a:lnTo>
                        <a:pt x="48" y="0"/>
                      </a:lnTo>
                      <a:lnTo>
                        <a:pt x="0" y="288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Freeform 70"/>
                <p:cNvSpPr/>
                <p:nvPr/>
              </p:nvSpPr>
              <p:spPr>
                <a:xfrm flipH="1" flipV="1" rot="19463400">
                  <a:off x="6123600" y="3144600"/>
                  <a:ext cx="15480" cy="18720"/>
                </a:xfrm>
                <a:custGeom>
                  <a:avLst/>
                  <a:gdLst>
                    <a:gd name="textAreaLeft" fmla="*/ -360 w 15480"/>
                    <a:gd name="textAreaRight" fmla="*/ 15480 w 15480"/>
                    <a:gd name="textAreaTop" fmla="*/ 360 h 18720"/>
                    <a:gd name="textAreaBottom" fmla="*/ 19440 h 18720"/>
                  </a:gdLst>
                  <a:ahLst/>
                  <a:rect l="textAreaLeft" t="textAreaTop" r="textAreaRight" b="textAreaBottom"/>
                  <a:pathLst>
                    <a:path w="192" h="288">
                      <a:moveTo>
                        <a:pt x="0" y="288"/>
                      </a:moveTo>
                      <a:lnTo>
                        <a:pt x="192" y="288"/>
                      </a:lnTo>
                      <a:lnTo>
                        <a:pt x="48" y="0"/>
                      </a:lnTo>
                      <a:lnTo>
                        <a:pt x="0" y="288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Freeform 71"/>
                <p:cNvSpPr/>
                <p:nvPr/>
              </p:nvSpPr>
              <p:spPr>
                <a:xfrm flipH="1" flipV="1" rot="19463400">
                  <a:off x="6089040" y="3123000"/>
                  <a:ext cx="15480" cy="18720"/>
                </a:xfrm>
                <a:custGeom>
                  <a:avLst/>
                  <a:gdLst>
                    <a:gd name="textAreaLeft" fmla="*/ -360 w 15480"/>
                    <a:gd name="textAreaRight" fmla="*/ 15480 w 15480"/>
                    <a:gd name="textAreaTop" fmla="*/ 360 h 18720"/>
                    <a:gd name="textAreaBottom" fmla="*/ 19440 h 18720"/>
                  </a:gdLst>
                  <a:ahLst/>
                  <a:rect l="textAreaLeft" t="textAreaTop" r="textAreaRight" b="textAreaBottom"/>
                  <a:pathLst>
                    <a:path w="192" h="288">
                      <a:moveTo>
                        <a:pt x="0" y="288"/>
                      </a:moveTo>
                      <a:lnTo>
                        <a:pt x="192" y="288"/>
                      </a:lnTo>
                      <a:lnTo>
                        <a:pt x="48" y="0"/>
                      </a:lnTo>
                      <a:lnTo>
                        <a:pt x="0" y="288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Freeform 72"/>
                <p:cNvSpPr/>
                <p:nvPr/>
              </p:nvSpPr>
              <p:spPr>
                <a:xfrm flipH="1" flipV="1" rot="19463400">
                  <a:off x="6103440" y="3089160"/>
                  <a:ext cx="15480" cy="18720"/>
                </a:xfrm>
                <a:custGeom>
                  <a:avLst/>
                  <a:gdLst>
                    <a:gd name="textAreaLeft" fmla="*/ -360 w 15480"/>
                    <a:gd name="textAreaRight" fmla="*/ 15480 w 15480"/>
                    <a:gd name="textAreaTop" fmla="*/ 360 h 18720"/>
                    <a:gd name="textAreaBottom" fmla="*/ 19440 h 18720"/>
                  </a:gdLst>
                  <a:ahLst/>
                  <a:rect l="textAreaLeft" t="textAreaTop" r="textAreaRight" b="textAreaBottom"/>
                  <a:pathLst>
                    <a:path w="192" h="288">
                      <a:moveTo>
                        <a:pt x="0" y="288"/>
                      </a:moveTo>
                      <a:lnTo>
                        <a:pt x="192" y="288"/>
                      </a:lnTo>
                      <a:lnTo>
                        <a:pt x="48" y="0"/>
                      </a:lnTo>
                      <a:lnTo>
                        <a:pt x="0" y="288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Freeform 73"/>
                <p:cNvSpPr/>
                <p:nvPr/>
              </p:nvSpPr>
              <p:spPr>
                <a:xfrm flipH="1" flipV="1" rot="19463400">
                  <a:off x="6081480" y="3058920"/>
                  <a:ext cx="15480" cy="18720"/>
                </a:xfrm>
                <a:custGeom>
                  <a:avLst/>
                  <a:gdLst>
                    <a:gd name="textAreaLeft" fmla="*/ -360 w 15480"/>
                    <a:gd name="textAreaRight" fmla="*/ 15480 w 15480"/>
                    <a:gd name="textAreaTop" fmla="*/ 360 h 18720"/>
                    <a:gd name="textAreaBottom" fmla="*/ 19440 h 18720"/>
                  </a:gdLst>
                  <a:ahLst/>
                  <a:rect l="textAreaLeft" t="textAreaTop" r="textAreaRight" b="textAreaBottom"/>
                  <a:pathLst>
                    <a:path w="192" h="288">
                      <a:moveTo>
                        <a:pt x="0" y="288"/>
                      </a:moveTo>
                      <a:lnTo>
                        <a:pt x="192" y="288"/>
                      </a:lnTo>
                      <a:lnTo>
                        <a:pt x="48" y="0"/>
                      </a:lnTo>
                      <a:lnTo>
                        <a:pt x="0" y="288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plant"/>
                <p:cNvSpPr/>
                <p:nvPr/>
              </p:nvSpPr>
              <p:spPr>
                <a:xfrm rot="19463400">
                  <a:off x="5948640" y="3008520"/>
                  <a:ext cx="123480" cy="91440"/>
                </a:xfrm>
                <a:custGeom>
                  <a:avLst/>
                  <a:gdLst>
                    <a:gd name="textAreaLeft" fmla="*/ 40320 w 123480"/>
                    <a:gd name="textAreaRight" fmla="*/ 83520 w 123480"/>
                    <a:gd name="textAreaTop" fmla="*/ 42480 h 91440"/>
                    <a:gd name="textAreaBottom" fmla="*/ 57600 h 914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9368" y="9002"/>
                      </a:moveTo>
                      <a:lnTo>
                        <a:pt x="9254" y="8422"/>
                      </a:lnTo>
                      <a:lnTo>
                        <a:pt x="9139" y="7935"/>
                      </a:lnTo>
                      <a:lnTo>
                        <a:pt x="8819" y="7355"/>
                      </a:lnTo>
                      <a:lnTo>
                        <a:pt x="8475" y="6728"/>
                      </a:lnTo>
                      <a:lnTo>
                        <a:pt x="8040" y="6287"/>
                      </a:lnTo>
                      <a:lnTo>
                        <a:pt x="7421" y="5707"/>
                      </a:lnTo>
                      <a:lnTo>
                        <a:pt x="6574" y="5429"/>
                      </a:lnTo>
                      <a:lnTo>
                        <a:pt x="5452" y="5313"/>
                      </a:lnTo>
                      <a:lnTo>
                        <a:pt x="4856" y="5220"/>
                      </a:lnTo>
                      <a:lnTo>
                        <a:pt x="4169" y="5220"/>
                      </a:lnTo>
                      <a:lnTo>
                        <a:pt x="3665" y="5104"/>
                      </a:lnTo>
                      <a:lnTo>
                        <a:pt x="3001" y="4872"/>
                      </a:lnTo>
                      <a:lnTo>
                        <a:pt x="2497" y="4756"/>
                      </a:lnTo>
                      <a:lnTo>
                        <a:pt x="2062" y="4408"/>
                      </a:lnTo>
                      <a:lnTo>
                        <a:pt x="1603" y="4083"/>
                      </a:lnTo>
                      <a:lnTo>
                        <a:pt x="1283" y="3689"/>
                      </a:lnTo>
                      <a:lnTo>
                        <a:pt x="1283" y="4315"/>
                      </a:lnTo>
                      <a:lnTo>
                        <a:pt x="1489" y="5104"/>
                      </a:lnTo>
                      <a:lnTo>
                        <a:pt x="1832" y="6055"/>
                      </a:lnTo>
                      <a:lnTo>
                        <a:pt x="2382" y="6914"/>
                      </a:lnTo>
                      <a:lnTo>
                        <a:pt x="2680" y="7471"/>
                      </a:lnTo>
                      <a:lnTo>
                        <a:pt x="3115" y="7935"/>
                      </a:lnTo>
                      <a:lnTo>
                        <a:pt x="3573" y="8213"/>
                      </a:lnTo>
                      <a:lnTo>
                        <a:pt x="4077" y="8654"/>
                      </a:lnTo>
                      <a:lnTo>
                        <a:pt x="4627" y="9002"/>
                      </a:lnTo>
                      <a:lnTo>
                        <a:pt x="5245" y="9234"/>
                      </a:lnTo>
                      <a:lnTo>
                        <a:pt x="6024" y="9443"/>
                      </a:lnTo>
                      <a:lnTo>
                        <a:pt x="6757" y="9628"/>
                      </a:lnTo>
                      <a:lnTo>
                        <a:pt x="5177" y="10069"/>
                      </a:lnTo>
                      <a:lnTo>
                        <a:pt x="3963" y="10649"/>
                      </a:lnTo>
                      <a:lnTo>
                        <a:pt x="3344" y="11044"/>
                      </a:lnTo>
                      <a:lnTo>
                        <a:pt x="2886" y="11600"/>
                      </a:lnTo>
                      <a:lnTo>
                        <a:pt x="2497" y="12041"/>
                      </a:lnTo>
                      <a:lnTo>
                        <a:pt x="1947" y="12343"/>
                      </a:lnTo>
                      <a:lnTo>
                        <a:pt x="1168" y="12668"/>
                      </a:lnTo>
                      <a:lnTo>
                        <a:pt x="0" y="12900"/>
                      </a:lnTo>
                      <a:lnTo>
                        <a:pt x="435" y="13248"/>
                      </a:lnTo>
                      <a:lnTo>
                        <a:pt x="779" y="13456"/>
                      </a:lnTo>
                      <a:lnTo>
                        <a:pt x="1283" y="13642"/>
                      </a:lnTo>
                      <a:lnTo>
                        <a:pt x="1718" y="13758"/>
                      </a:lnTo>
                      <a:lnTo>
                        <a:pt x="2680" y="13851"/>
                      </a:lnTo>
                      <a:lnTo>
                        <a:pt x="3573" y="13758"/>
                      </a:lnTo>
                      <a:lnTo>
                        <a:pt x="4512" y="13526"/>
                      </a:lnTo>
                      <a:lnTo>
                        <a:pt x="5360" y="13248"/>
                      </a:lnTo>
                      <a:lnTo>
                        <a:pt x="6139" y="12900"/>
                      </a:lnTo>
                      <a:lnTo>
                        <a:pt x="6757" y="12552"/>
                      </a:lnTo>
                      <a:lnTo>
                        <a:pt x="6459" y="13132"/>
                      </a:lnTo>
                      <a:lnTo>
                        <a:pt x="6139" y="13642"/>
                      </a:lnTo>
                      <a:lnTo>
                        <a:pt x="5910" y="14199"/>
                      </a:lnTo>
                      <a:lnTo>
                        <a:pt x="5681" y="14663"/>
                      </a:lnTo>
                      <a:lnTo>
                        <a:pt x="5681" y="15150"/>
                      </a:lnTo>
                      <a:lnTo>
                        <a:pt x="5681" y="15730"/>
                      </a:lnTo>
                      <a:lnTo>
                        <a:pt x="5681" y="16241"/>
                      </a:lnTo>
                      <a:lnTo>
                        <a:pt x="5795" y="16913"/>
                      </a:lnTo>
                      <a:lnTo>
                        <a:pt x="5910" y="17586"/>
                      </a:lnTo>
                      <a:lnTo>
                        <a:pt x="5910" y="18213"/>
                      </a:lnTo>
                      <a:lnTo>
                        <a:pt x="5795" y="18885"/>
                      </a:lnTo>
                      <a:lnTo>
                        <a:pt x="5566" y="19396"/>
                      </a:lnTo>
                      <a:lnTo>
                        <a:pt x="5245" y="19976"/>
                      </a:lnTo>
                      <a:lnTo>
                        <a:pt x="4971" y="20370"/>
                      </a:lnTo>
                      <a:lnTo>
                        <a:pt x="4512" y="20811"/>
                      </a:lnTo>
                      <a:lnTo>
                        <a:pt x="4077" y="21043"/>
                      </a:lnTo>
                      <a:lnTo>
                        <a:pt x="5177" y="20927"/>
                      </a:lnTo>
                      <a:lnTo>
                        <a:pt x="6253" y="20486"/>
                      </a:lnTo>
                      <a:lnTo>
                        <a:pt x="7421" y="19976"/>
                      </a:lnTo>
                      <a:lnTo>
                        <a:pt x="8361" y="19187"/>
                      </a:lnTo>
                      <a:lnTo>
                        <a:pt x="8819" y="18769"/>
                      </a:lnTo>
                      <a:lnTo>
                        <a:pt x="9139" y="18213"/>
                      </a:lnTo>
                      <a:lnTo>
                        <a:pt x="9437" y="17772"/>
                      </a:lnTo>
                      <a:lnTo>
                        <a:pt x="9643" y="17261"/>
                      </a:lnTo>
                      <a:lnTo>
                        <a:pt x="9872" y="16681"/>
                      </a:lnTo>
                      <a:lnTo>
                        <a:pt x="9872" y="16171"/>
                      </a:lnTo>
                      <a:lnTo>
                        <a:pt x="9872" y="15614"/>
                      </a:lnTo>
                      <a:lnTo>
                        <a:pt x="9758" y="15057"/>
                      </a:lnTo>
                      <a:lnTo>
                        <a:pt x="10216" y="15498"/>
                      </a:lnTo>
                      <a:lnTo>
                        <a:pt x="10537" y="16241"/>
                      </a:lnTo>
                      <a:lnTo>
                        <a:pt x="10834" y="17145"/>
                      </a:lnTo>
                      <a:lnTo>
                        <a:pt x="11041" y="18213"/>
                      </a:lnTo>
                      <a:lnTo>
                        <a:pt x="11155" y="19187"/>
                      </a:lnTo>
                      <a:lnTo>
                        <a:pt x="11155" y="20185"/>
                      </a:lnTo>
                      <a:lnTo>
                        <a:pt x="11155" y="20579"/>
                      </a:lnTo>
                      <a:lnTo>
                        <a:pt x="11041" y="21043"/>
                      </a:lnTo>
                      <a:lnTo>
                        <a:pt x="10926" y="21391"/>
                      </a:lnTo>
                      <a:lnTo>
                        <a:pt x="10766" y="21600"/>
                      </a:lnTo>
                      <a:lnTo>
                        <a:pt x="11499" y="21484"/>
                      </a:lnTo>
                      <a:lnTo>
                        <a:pt x="12323" y="21043"/>
                      </a:lnTo>
                      <a:lnTo>
                        <a:pt x="13102" y="20370"/>
                      </a:lnTo>
                      <a:lnTo>
                        <a:pt x="13606" y="19628"/>
                      </a:lnTo>
                      <a:lnTo>
                        <a:pt x="13950" y="19071"/>
                      </a:lnTo>
                      <a:lnTo>
                        <a:pt x="14064" y="18677"/>
                      </a:lnTo>
                      <a:lnTo>
                        <a:pt x="14179" y="18097"/>
                      </a:lnTo>
                      <a:lnTo>
                        <a:pt x="14293" y="17586"/>
                      </a:lnTo>
                      <a:lnTo>
                        <a:pt x="14179" y="16913"/>
                      </a:lnTo>
                      <a:lnTo>
                        <a:pt x="14064" y="16241"/>
                      </a:lnTo>
                      <a:lnTo>
                        <a:pt x="13835" y="15614"/>
                      </a:lnTo>
                      <a:lnTo>
                        <a:pt x="13560" y="14872"/>
                      </a:lnTo>
                      <a:lnTo>
                        <a:pt x="13950" y="14941"/>
                      </a:lnTo>
                      <a:lnTo>
                        <a:pt x="14408" y="15150"/>
                      </a:lnTo>
                      <a:lnTo>
                        <a:pt x="14843" y="15266"/>
                      </a:lnTo>
                      <a:lnTo>
                        <a:pt x="15232" y="15614"/>
                      </a:lnTo>
                      <a:lnTo>
                        <a:pt x="15576" y="15846"/>
                      </a:lnTo>
                      <a:lnTo>
                        <a:pt x="15897" y="16171"/>
                      </a:lnTo>
                      <a:lnTo>
                        <a:pt x="16126" y="16473"/>
                      </a:lnTo>
                      <a:lnTo>
                        <a:pt x="16240" y="16913"/>
                      </a:lnTo>
                      <a:lnTo>
                        <a:pt x="16515" y="17261"/>
                      </a:lnTo>
                      <a:lnTo>
                        <a:pt x="17088" y="17586"/>
                      </a:lnTo>
                      <a:lnTo>
                        <a:pt x="17798" y="17865"/>
                      </a:lnTo>
                      <a:lnTo>
                        <a:pt x="18576" y="18097"/>
                      </a:lnTo>
                      <a:lnTo>
                        <a:pt x="19424" y="18213"/>
                      </a:lnTo>
                      <a:lnTo>
                        <a:pt x="20317" y="18213"/>
                      </a:lnTo>
                      <a:lnTo>
                        <a:pt x="21050" y="18213"/>
                      </a:lnTo>
                      <a:lnTo>
                        <a:pt x="21600" y="17865"/>
                      </a:lnTo>
                      <a:lnTo>
                        <a:pt x="21165" y="17656"/>
                      </a:lnTo>
                      <a:lnTo>
                        <a:pt x="20592" y="17470"/>
                      </a:lnTo>
                      <a:lnTo>
                        <a:pt x="20088" y="17029"/>
                      </a:lnTo>
                      <a:lnTo>
                        <a:pt x="19653" y="16681"/>
                      </a:lnTo>
                      <a:lnTo>
                        <a:pt x="19195" y="16241"/>
                      </a:lnTo>
                      <a:lnTo>
                        <a:pt x="18920" y="15962"/>
                      </a:lnTo>
                      <a:lnTo>
                        <a:pt x="18576" y="15498"/>
                      </a:lnTo>
                      <a:lnTo>
                        <a:pt x="18576" y="15057"/>
                      </a:lnTo>
                      <a:lnTo>
                        <a:pt x="18485" y="14756"/>
                      </a:lnTo>
                      <a:lnTo>
                        <a:pt x="18256" y="14199"/>
                      </a:lnTo>
                      <a:lnTo>
                        <a:pt x="17912" y="13526"/>
                      </a:lnTo>
                      <a:lnTo>
                        <a:pt x="17523" y="13016"/>
                      </a:lnTo>
                      <a:lnTo>
                        <a:pt x="16973" y="12436"/>
                      </a:lnTo>
                      <a:lnTo>
                        <a:pt x="16355" y="12041"/>
                      </a:lnTo>
                      <a:lnTo>
                        <a:pt x="16011" y="11832"/>
                      </a:lnTo>
                      <a:lnTo>
                        <a:pt x="15690" y="11716"/>
                      </a:lnTo>
                      <a:lnTo>
                        <a:pt x="15232" y="11716"/>
                      </a:lnTo>
                      <a:lnTo>
                        <a:pt x="14843" y="11716"/>
                      </a:lnTo>
                      <a:lnTo>
                        <a:pt x="15461" y="11252"/>
                      </a:lnTo>
                      <a:lnTo>
                        <a:pt x="16126" y="10858"/>
                      </a:lnTo>
                      <a:lnTo>
                        <a:pt x="16973" y="10649"/>
                      </a:lnTo>
                      <a:lnTo>
                        <a:pt x="17798" y="10417"/>
                      </a:lnTo>
                      <a:lnTo>
                        <a:pt x="18806" y="10301"/>
                      </a:lnTo>
                      <a:lnTo>
                        <a:pt x="19653" y="10301"/>
                      </a:lnTo>
                      <a:lnTo>
                        <a:pt x="20478" y="10417"/>
                      </a:lnTo>
                      <a:lnTo>
                        <a:pt x="21256" y="10533"/>
                      </a:lnTo>
                      <a:lnTo>
                        <a:pt x="20707" y="9837"/>
                      </a:lnTo>
                      <a:lnTo>
                        <a:pt x="19859" y="9234"/>
                      </a:lnTo>
                      <a:lnTo>
                        <a:pt x="18806" y="8538"/>
                      </a:lnTo>
                      <a:lnTo>
                        <a:pt x="17637" y="8144"/>
                      </a:lnTo>
                      <a:lnTo>
                        <a:pt x="16973" y="8027"/>
                      </a:lnTo>
                      <a:lnTo>
                        <a:pt x="16355" y="7935"/>
                      </a:lnTo>
                      <a:lnTo>
                        <a:pt x="15805" y="7935"/>
                      </a:lnTo>
                      <a:lnTo>
                        <a:pt x="15118" y="8027"/>
                      </a:lnTo>
                      <a:lnTo>
                        <a:pt x="14614" y="8144"/>
                      </a:lnTo>
                      <a:lnTo>
                        <a:pt x="14064" y="8422"/>
                      </a:lnTo>
                      <a:lnTo>
                        <a:pt x="13606" y="8886"/>
                      </a:lnTo>
                      <a:lnTo>
                        <a:pt x="13217" y="9327"/>
                      </a:lnTo>
                      <a:lnTo>
                        <a:pt x="13606" y="8538"/>
                      </a:lnTo>
                      <a:lnTo>
                        <a:pt x="13950" y="7935"/>
                      </a:lnTo>
                      <a:lnTo>
                        <a:pt x="14293" y="7123"/>
                      </a:lnTo>
                      <a:lnTo>
                        <a:pt x="14499" y="6519"/>
                      </a:lnTo>
                      <a:lnTo>
                        <a:pt x="14614" y="5823"/>
                      </a:lnTo>
                      <a:lnTo>
                        <a:pt x="14614" y="5220"/>
                      </a:lnTo>
                      <a:lnTo>
                        <a:pt x="14408" y="4524"/>
                      </a:lnTo>
                      <a:lnTo>
                        <a:pt x="14064" y="3898"/>
                      </a:lnTo>
                      <a:lnTo>
                        <a:pt x="13606" y="3225"/>
                      </a:lnTo>
                      <a:lnTo>
                        <a:pt x="13331" y="2598"/>
                      </a:lnTo>
                      <a:lnTo>
                        <a:pt x="13102" y="2042"/>
                      </a:lnTo>
                      <a:lnTo>
                        <a:pt x="12896" y="1485"/>
                      </a:lnTo>
                      <a:lnTo>
                        <a:pt x="12781" y="1090"/>
                      </a:lnTo>
                      <a:lnTo>
                        <a:pt x="12667" y="626"/>
                      </a:lnTo>
                      <a:lnTo>
                        <a:pt x="12667" y="278"/>
                      </a:lnTo>
                      <a:lnTo>
                        <a:pt x="12667" y="0"/>
                      </a:lnTo>
                      <a:lnTo>
                        <a:pt x="12163" y="394"/>
                      </a:lnTo>
                      <a:lnTo>
                        <a:pt x="11728" y="974"/>
                      </a:lnTo>
                      <a:lnTo>
                        <a:pt x="11155" y="1601"/>
                      </a:lnTo>
                      <a:lnTo>
                        <a:pt x="10766" y="2390"/>
                      </a:lnTo>
                      <a:lnTo>
                        <a:pt x="10330" y="3109"/>
                      </a:lnTo>
                      <a:lnTo>
                        <a:pt x="10101" y="3898"/>
                      </a:lnTo>
                      <a:lnTo>
                        <a:pt x="9987" y="4524"/>
                      </a:lnTo>
                      <a:lnTo>
                        <a:pt x="10101" y="5220"/>
                      </a:lnTo>
                      <a:lnTo>
                        <a:pt x="10216" y="5823"/>
                      </a:lnTo>
                      <a:lnTo>
                        <a:pt x="10330" y="6403"/>
                      </a:lnTo>
                      <a:lnTo>
                        <a:pt x="10330" y="6914"/>
                      </a:lnTo>
                      <a:lnTo>
                        <a:pt x="10216" y="7471"/>
                      </a:lnTo>
                      <a:lnTo>
                        <a:pt x="10101" y="7935"/>
                      </a:lnTo>
                      <a:lnTo>
                        <a:pt x="9872" y="8329"/>
                      </a:lnTo>
                      <a:lnTo>
                        <a:pt x="9643" y="8654"/>
                      </a:lnTo>
                      <a:lnTo>
                        <a:pt x="9368" y="9002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0" name="Group 75"/>
              <p:cNvGrpSpPr/>
              <p:nvPr/>
            </p:nvGrpSpPr>
            <p:grpSpPr>
              <a:xfrm>
                <a:off x="5795280" y="3020040"/>
                <a:ext cx="303840" cy="321120"/>
                <a:chOff x="5795280" y="3020040"/>
                <a:chExt cx="303840" cy="321120"/>
              </a:xfrm>
            </p:grpSpPr>
            <p:grpSp>
              <p:nvGrpSpPr>
                <p:cNvPr id="191" name="Group 76"/>
                <p:cNvGrpSpPr/>
                <p:nvPr/>
              </p:nvGrpSpPr>
              <p:grpSpPr>
                <a:xfrm>
                  <a:off x="5795280" y="3038040"/>
                  <a:ext cx="303840" cy="303120"/>
                  <a:chOff x="5795280" y="3038040"/>
                  <a:chExt cx="303840" cy="303120"/>
                </a:xfrm>
              </p:grpSpPr>
              <p:sp>
                <p:nvSpPr>
                  <p:cNvPr id="192" name="Freeform 77"/>
                  <p:cNvSpPr/>
                  <p:nvPr/>
                </p:nvSpPr>
                <p:spPr>
                  <a:xfrm rot="8513400">
                    <a:off x="5945760" y="3044520"/>
                    <a:ext cx="96840" cy="216000"/>
                  </a:xfrm>
                  <a:custGeom>
                    <a:avLst/>
                    <a:gdLst>
                      <a:gd name="textAreaLeft" fmla="*/ 0 w 96840"/>
                      <a:gd name="textAreaRight" fmla="*/ 97200 w 96840"/>
                      <a:gd name="textAreaTop" fmla="*/ 0 h 216000"/>
                      <a:gd name="textAreaBottom" fmla="*/ 216360 h 216000"/>
                    </a:gdLst>
                    <a:ahLst/>
                    <a:rect l="textAreaLeft" t="textAreaTop" r="textAreaRight" b="textAreaBottom"/>
                    <a:pathLst>
                      <a:path w="296" h="552">
                        <a:moveTo>
                          <a:pt x="296" y="528"/>
                        </a:moveTo>
                        <a:cubicBezTo>
                          <a:pt x="224" y="540"/>
                          <a:pt x="152" y="552"/>
                          <a:pt x="104" y="528"/>
                        </a:cubicBezTo>
                        <a:cubicBezTo>
                          <a:pt x="56" y="504"/>
                          <a:pt x="16" y="440"/>
                          <a:pt x="8" y="384"/>
                        </a:cubicBezTo>
                        <a:cubicBezTo>
                          <a:pt x="0" y="328"/>
                          <a:pt x="24" y="248"/>
                          <a:pt x="56" y="192"/>
                        </a:cubicBezTo>
                        <a:cubicBezTo>
                          <a:pt x="88" y="136"/>
                          <a:pt x="160" y="80"/>
                          <a:pt x="200" y="48"/>
                        </a:cubicBezTo>
                        <a:cubicBezTo>
                          <a:pt x="240" y="16"/>
                          <a:pt x="268" y="8"/>
                          <a:pt x="296" y="0"/>
                        </a:cubicBezTo>
                      </a:path>
                    </a:pathLst>
                  </a:custGeom>
                  <a:solidFill>
                    <a:srgbClr val="ff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3" name="Freeform 78"/>
                  <p:cNvSpPr/>
                  <p:nvPr/>
                </p:nvSpPr>
                <p:spPr>
                  <a:xfrm flipH="1" rot="8512800">
                    <a:off x="5848200" y="3110040"/>
                    <a:ext cx="122760" cy="216000"/>
                  </a:xfrm>
                  <a:custGeom>
                    <a:avLst/>
                    <a:gdLst>
                      <a:gd name="textAreaLeft" fmla="*/ -360 w 122760"/>
                      <a:gd name="textAreaRight" fmla="*/ 122760 w 122760"/>
                      <a:gd name="textAreaTop" fmla="*/ 0 h 216000"/>
                      <a:gd name="textAreaBottom" fmla="*/ 216360 h 216000"/>
                    </a:gdLst>
                    <a:ahLst/>
                    <a:rect l="textAreaLeft" t="textAreaTop" r="textAreaRight" b="textAreaBottom"/>
                    <a:pathLst>
                      <a:path w="296" h="552">
                        <a:moveTo>
                          <a:pt x="296" y="528"/>
                        </a:moveTo>
                        <a:cubicBezTo>
                          <a:pt x="224" y="540"/>
                          <a:pt x="152" y="552"/>
                          <a:pt x="104" y="528"/>
                        </a:cubicBezTo>
                        <a:cubicBezTo>
                          <a:pt x="56" y="504"/>
                          <a:pt x="16" y="440"/>
                          <a:pt x="8" y="384"/>
                        </a:cubicBezTo>
                        <a:cubicBezTo>
                          <a:pt x="0" y="328"/>
                          <a:pt x="24" y="248"/>
                          <a:pt x="56" y="192"/>
                        </a:cubicBezTo>
                        <a:cubicBezTo>
                          <a:pt x="88" y="136"/>
                          <a:pt x="160" y="80"/>
                          <a:pt x="200" y="48"/>
                        </a:cubicBezTo>
                        <a:cubicBezTo>
                          <a:pt x="240" y="16"/>
                          <a:pt x="268" y="8"/>
                          <a:pt x="296" y="0"/>
                        </a:cubicBezTo>
                      </a:path>
                    </a:pathLst>
                  </a:custGeom>
                  <a:solidFill>
                    <a:srgbClr val="ff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94" name="Freeform 79"/>
                <p:cNvSpPr/>
                <p:nvPr/>
              </p:nvSpPr>
              <p:spPr>
                <a:xfrm flipV="1" rot="19463400">
                  <a:off x="5934960" y="3130920"/>
                  <a:ext cx="15480" cy="18720"/>
                </a:xfrm>
                <a:custGeom>
                  <a:avLst/>
                  <a:gdLst>
                    <a:gd name="textAreaLeft" fmla="*/ 0 w 15480"/>
                    <a:gd name="textAreaRight" fmla="*/ 15840 w 15480"/>
                    <a:gd name="textAreaTop" fmla="*/ 360 h 18720"/>
                    <a:gd name="textAreaBottom" fmla="*/ 19440 h 18720"/>
                  </a:gdLst>
                  <a:ahLst/>
                  <a:rect l="textAreaLeft" t="textAreaTop" r="textAreaRight" b="textAreaBottom"/>
                  <a:pathLst>
                    <a:path w="192" h="288">
                      <a:moveTo>
                        <a:pt x="0" y="288"/>
                      </a:moveTo>
                      <a:lnTo>
                        <a:pt x="192" y="288"/>
                      </a:lnTo>
                      <a:lnTo>
                        <a:pt x="48" y="0"/>
                      </a:lnTo>
                      <a:lnTo>
                        <a:pt x="0" y="288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Freeform 80"/>
                <p:cNvSpPr/>
                <p:nvPr/>
              </p:nvSpPr>
              <p:spPr>
                <a:xfrm flipV="1" rot="19463400">
                  <a:off x="5860080" y="3161880"/>
                  <a:ext cx="15480" cy="18720"/>
                </a:xfrm>
                <a:custGeom>
                  <a:avLst/>
                  <a:gdLst>
                    <a:gd name="textAreaLeft" fmla="*/ 0 w 15480"/>
                    <a:gd name="textAreaRight" fmla="*/ 15840 w 15480"/>
                    <a:gd name="textAreaTop" fmla="*/ 360 h 18720"/>
                    <a:gd name="textAreaBottom" fmla="*/ 19440 h 18720"/>
                  </a:gdLst>
                  <a:ahLst/>
                  <a:rect l="textAreaLeft" t="textAreaTop" r="textAreaRight" b="textAreaBottom"/>
                  <a:pathLst>
                    <a:path w="192" h="288">
                      <a:moveTo>
                        <a:pt x="0" y="288"/>
                      </a:moveTo>
                      <a:lnTo>
                        <a:pt x="192" y="288"/>
                      </a:lnTo>
                      <a:lnTo>
                        <a:pt x="48" y="0"/>
                      </a:lnTo>
                      <a:lnTo>
                        <a:pt x="0" y="288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Freeform 81"/>
                <p:cNvSpPr/>
                <p:nvPr/>
              </p:nvSpPr>
              <p:spPr>
                <a:xfrm flipV="1" rot="19463400">
                  <a:off x="5883840" y="3167640"/>
                  <a:ext cx="15480" cy="18720"/>
                </a:xfrm>
                <a:custGeom>
                  <a:avLst/>
                  <a:gdLst>
                    <a:gd name="textAreaLeft" fmla="*/ 0 w 15480"/>
                    <a:gd name="textAreaRight" fmla="*/ 15840 w 15480"/>
                    <a:gd name="textAreaTop" fmla="*/ 360 h 18720"/>
                    <a:gd name="textAreaBottom" fmla="*/ 19440 h 18720"/>
                  </a:gdLst>
                  <a:ahLst/>
                  <a:rect l="textAreaLeft" t="textAreaTop" r="textAreaRight" b="textAreaBottom"/>
                  <a:pathLst>
                    <a:path w="192" h="288">
                      <a:moveTo>
                        <a:pt x="0" y="288"/>
                      </a:moveTo>
                      <a:lnTo>
                        <a:pt x="192" y="288"/>
                      </a:lnTo>
                      <a:lnTo>
                        <a:pt x="48" y="0"/>
                      </a:lnTo>
                      <a:lnTo>
                        <a:pt x="0" y="288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Freeform 82"/>
                <p:cNvSpPr/>
                <p:nvPr/>
              </p:nvSpPr>
              <p:spPr>
                <a:xfrm flipV="1" rot="19463400">
                  <a:off x="5920200" y="3164760"/>
                  <a:ext cx="15480" cy="18720"/>
                </a:xfrm>
                <a:custGeom>
                  <a:avLst/>
                  <a:gdLst>
                    <a:gd name="textAreaLeft" fmla="*/ 0 w 15480"/>
                    <a:gd name="textAreaRight" fmla="*/ 15840 w 15480"/>
                    <a:gd name="textAreaTop" fmla="*/ 360 h 18720"/>
                    <a:gd name="textAreaBottom" fmla="*/ 19440 h 18720"/>
                  </a:gdLst>
                  <a:ahLst/>
                  <a:rect l="textAreaLeft" t="textAreaTop" r="textAreaRight" b="textAreaBottom"/>
                  <a:pathLst>
                    <a:path w="192" h="288">
                      <a:moveTo>
                        <a:pt x="0" y="288"/>
                      </a:moveTo>
                      <a:lnTo>
                        <a:pt x="192" y="288"/>
                      </a:lnTo>
                      <a:lnTo>
                        <a:pt x="48" y="0"/>
                      </a:lnTo>
                      <a:lnTo>
                        <a:pt x="0" y="288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Freeform 83"/>
                <p:cNvSpPr/>
                <p:nvPr/>
              </p:nvSpPr>
              <p:spPr>
                <a:xfrm flipV="1" rot="19463400">
                  <a:off x="5929560" y="3204360"/>
                  <a:ext cx="15480" cy="18720"/>
                </a:xfrm>
                <a:custGeom>
                  <a:avLst/>
                  <a:gdLst>
                    <a:gd name="textAreaLeft" fmla="*/ 0 w 15480"/>
                    <a:gd name="textAreaRight" fmla="*/ 15840 w 15480"/>
                    <a:gd name="textAreaTop" fmla="*/ 360 h 18720"/>
                    <a:gd name="textAreaBottom" fmla="*/ 19440 h 18720"/>
                  </a:gdLst>
                  <a:ahLst/>
                  <a:rect l="textAreaLeft" t="textAreaTop" r="textAreaRight" b="textAreaBottom"/>
                  <a:pathLst>
                    <a:path w="192" h="288">
                      <a:moveTo>
                        <a:pt x="0" y="288"/>
                      </a:moveTo>
                      <a:lnTo>
                        <a:pt x="192" y="288"/>
                      </a:lnTo>
                      <a:lnTo>
                        <a:pt x="48" y="0"/>
                      </a:lnTo>
                      <a:lnTo>
                        <a:pt x="0" y="288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Freeform 84"/>
                <p:cNvSpPr/>
                <p:nvPr/>
              </p:nvSpPr>
              <p:spPr>
                <a:xfrm flipV="1" rot="19463400">
                  <a:off x="5927400" y="3228840"/>
                  <a:ext cx="15480" cy="18720"/>
                </a:xfrm>
                <a:custGeom>
                  <a:avLst/>
                  <a:gdLst>
                    <a:gd name="textAreaLeft" fmla="*/ 0 w 15480"/>
                    <a:gd name="textAreaRight" fmla="*/ 15840 w 15480"/>
                    <a:gd name="textAreaTop" fmla="*/ 360 h 18720"/>
                    <a:gd name="textAreaBottom" fmla="*/ 19440 h 18720"/>
                  </a:gdLst>
                  <a:ahLst/>
                  <a:rect l="textAreaLeft" t="textAreaTop" r="textAreaRight" b="textAreaBottom"/>
                  <a:pathLst>
                    <a:path w="192" h="288">
                      <a:moveTo>
                        <a:pt x="0" y="288"/>
                      </a:moveTo>
                      <a:lnTo>
                        <a:pt x="192" y="288"/>
                      </a:lnTo>
                      <a:lnTo>
                        <a:pt x="48" y="0"/>
                      </a:lnTo>
                      <a:lnTo>
                        <a:pt x="0" y="288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Freeform 85"/>
                <p:cNvSpPr/>
                <p:nvPr/>
              </p:nvSpPr>
              <p:spPr>
                <a:xfrm flipV="1" rot="19463400">
                  <a:off x="5951160" y="3234960"/>
                  <a:ext cx="15480" cy="18720"/>
                </a:xfrm>
                <a:custGeom>
                  <a:avLst/>
                  <a:gdLst>
                    <a:gd name="textAreaLeft" fmla="*/ 0 w 15480"/>
                    <a:gd name="textAreaRight" fmla="*/ 15840 w 15480"/>
                    <a:gd name="textAreaTop" fmla="*/ 360 h 18720"/>
                    <a:gd name="textAreaBottom" fmla="*/ 19440 h 18720"/>
                  </a:gdLst>
                  <a:ahLst/>
                  <a:rect l="textAreaLeft" t="textAreaTop" r="textAreaRight" b="textAreaBottom"/>
                  <a:pathLst>
                    <a:path w="192" h="288">
                      <a:moveTo>
                        <a:pt x="0" y="288"/>
                      </a:moveTo>
                      <a:lnTo>
                        <a:pt x="192" y="288"/>
                      </a:lnTo>
                      <a:lnTo>
                        <a:pt x="48" y="0"/>
                      </a:lnTo>
                      <a:lnTo>
                        <a:pt x="0" y="288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Freeform 86"/>
                <p:cNvSpPr/>
                <p:nvPr/>
              </p:nvSpPr>
              <p:spPr>
                <a:xfrm flipV="1" rot="19463400">
                  <a:off x="5987880" y="3232080"/>
                  <a:ext cx="15480" cy="18720"/>
                </a:xfrm>
                <a:custGeom>
                  <a:avLst/>
                  <a:gdLst>
                    <a:gd name="textAreaLeft" fmla="*/ 0 w 15480"/>
                    <a:gd name="textAreaRight" fmla="*/ 15840 w 15480"/>
                    <a:gd name="textAreaTop" fmla="*/ 360 h 18720"/>
                    <a:gd name="textAreaBottom" fmla="*/ 19440 h 18720"/>
                  </a:gdLst>
                  <a:ahLst/>
                  <a:rect l="textAreaLeft" t="textAreaTop" r="textAreaRight" b="textAreaBottom"/>
                  <a:pathLst>
                    <a:path w="192" h="288">
                      <a:moveTo>
                        <a:pt x="0" y="288"/>
                      </a:moveTo>
                      <a:lnTo>
                        <a:pt x="192" y="288"/>
                      </a:lnTo>
                      <a:lnTo>
                        <a:pt x="48" y="0"/>
                      </a:lnTo>
                      <a:lnTo>
                        <a:pt x="0" y="288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Freeform 87"/>
                <p:cNvSpPr/>
                <p:nvPr/>
              </p:nvSpPr>
              <p:spPr>
                <a:xfrm flipV="1" rot="19463400">
                  <a:off x="5869080" y="3201120"/>
                  <a:ext cx="15480" cy="18720"/>
                </a:xfrm>
                <a:custGeom>
                  <a:avLst/>
                  <a:gdLst>
                    <a:gd name="textAreaLeft" fmla="*/ 0 w 15480"/>
                    <a:gd name="textAreaRight" fmla="*/ 15840 w 15480"/>
                    <a:gd name="textAreaTop" fmla="*/ 360 h 18720"/>
                    <a:gd name="textAreaBottom" fmla="*/ 19440 h 18720"/>
                  </a:gdLst>
                  <a:ahLst/>
                  <a:rect l="textAreaLeft" t="textAreaTop" r="textAreaRight" b="textAreaBottom"/>
                  <a:pathLst>
                    <a:path w="192" h="288">
                      <a:moveTo>
                        <a:pt x="0" y="288"/>
                      </a:moveTo>
                      <a:lnTo>
                        <a:pt x="192" y="288"/>
                      </a:lnTo>
                      <a:lnTo>
                        <a:pt x="48" y="0"/>
                      </a:lnTo>
                      <a:lnTo>
                        <a:pt x="0" y="288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Freeform 88"/>
                <p:cNvSpPr/>
                <p:nvPr/>
              </p:nvSpPr>
              <p:spPr>
                <a:xfrm flipV="1" rot="19463400">
                  <a:off x="5892840" y="3207600"/>
                  <a:ext cx="15480" cy="18720"/>
                </a:xfrm>
                <a:custGeom>
                  <a:avLst/>
                  <a:gdLst>
                    <a:gd name="textAreaLeft" fmla="*/ 0 w 15480"/>
                    <a:gd name="textAreaRight" fmla="*/ 15840 w 15480"/>
                    <a:gd name="textAreaTop" fmla="*/ 360 h 18720"/>
                    <a:gd name="textAreaBottom" fmla="*/ 19440 h 18720"/>
                  </a:gdLst>
                  <a:ahLst/>
                  <a:rect l="textAreaLeft" t="textAreaTop" r="textAreaRight" b="textAreaBottom"/>
                  <a:pathLst>
                    <a:path w="192" h="288">
                      <a:moveTo>
                        <a:pt x="0" y="288"/>
                      </a:moveTo>
                      <a:lnTo>
                        <a:pt x="192" y="288"/>
                      </a:lnTo>
                      <a:lnTo>
                        <a:pt x="48" y="0"/>
                      </a:lnTo>
                      <a:lnTo>
                        <a:pt x="0" y="288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Freeform 89"/>
                <p:cNvSpPr/>
                <p:nvPr/>
              </p:nvSpPr>
              <p:spPr>
                <a:xfrm flipH="1" flipV="1" rot="19463400">
                  <a:off x="5965560" y="3201840"/>
                  <a:ext cx="15480" cy="18720"/>
                </a:xfrm>
                <a:custGeom>
                  <a:avLst/>
                  <a:gdLst>
                    <a:gd name="textAreaLeft" fmla="*/ -360 w 15480"/>
                    <a:gd name="textAreaRight" fmla="*/ 15480 w 15480"/>
                    <a:gd name="textAreaTop" fmla="*/ 360 h 18720"/>
                    <a:gd name="textAreaBottom" fmla="*/ 19440 h 18720"/>
                  </a:gdLst>
                  <a:ahLst/>
                  <a:rect l="textAreaLeft" t="textAreaTop" r="textAreaRight" b="textAreaBottom"/>
                  <a:pathLst>
                    <a:path w="192" h="288">
                      <a:moveTo>
                        <a:pt x="0" y="288"/>
                      </a:moveTo>
                      <a:lnTo>
                        <a:pt x="192" y="288"/>
                      </a:lnTo>
                      <a:lnTo>
                        <a:pt x="48" y="0"/>
                      </a:lnTo>
                      <a:lnTo>
                        <a:pt x="0" y="288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Freeform 90"/>
                <p:cNvSpPr/>
                <p:nvPr/>
              </p:nvSpPr>
              <p:spPr>
                <a:xfrm flipH="1" flipV="1" rot="19463400">
                  <a:off x="5991120" y="3183480"/>
                  <a:ext cx="15480" cy="18720"/>
                </a:xfrm>
                <a:custGeom>
                  <a:avLst/>
                  <a:gdLst>
                    <a:gd name="textAreaLeft" fmla="*/ -360 w 15480"/>
                    <a:gd name="textAreaRight" fmla="*/ 15480 w 15480"/>
                    <a:gd name="textAreaTop" fmla="*/ 360 h 18720"/>
                    <a:gd name="textAreaBottom" fmla="*/ 19440 h 18720"/>
                  </a:gdLst>
                  <a:ahLst/>
                  <a:rect l="textAreaLeft" t="textAreaTop" r="textAreaRight" b="textAreaBottom"/>
                  <a:pathLst>
                    <a:path w="192" h="288">
                      <a:moveTo>
                        <a:pt x="0" y="288"/>
                      </a:moveTo>
                      <a:lnTo>
                        <a:pt x="192" y="288"/>
                      </a:lnTo>
                      <a:lnTo>
                        <a:pt x="48" y="0"/>
                      </a:lnTo>
                      <a:lnTo>
                        <a:pt x="0" y="288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Freeform 91"/>
                <p:cNvSpPr/>
                <p:nvPr/>
              </p:nvSpPr>
              <p:spPr>
                <a:xfrm flipH="1" flipV="1" rot="19463400">
                  <a:off x="5956560" y="3161880"/>
                  <a:ext cx="15480" cy="18720"/>
                </a:xfrm>
                <a:custGeom>
                  <a:avLst/>
                  <a:gdLst>
                    <a:gd name="textAreaLeft" fmla="*/ -360 w 15480"/>
                    <a:gd name="textAreaRight" fmla="*/ 15480 w 15480"/>
                    <a:gd name="textAreaTop" fmla="*/ 360 h 18720"/>
                    <a:gd name="textAreaBottom" fmla="*/ 19440 h 18720"/>
                  </a:gdLst>
                  <a:ahLst/>
                  <a:rect l="textAreaLeft" t="textAreaTop" r="textAreaRight" b="textAreaBottom"/>
                  <a:pathLst>
                    <a:path w="192" h="288">
                      <a:moveTo>
                        <a:pt x="0" y="288"/>
                      </a:moveTo>
                      <a:lnTo>
                        <a:pt x="192" y="288"/>
                      </a:lnTo>
                      <a:lnTo>
                        <a:pt x="48" y="0"/>
                      </a:lnTo>
                      <a:lnTo>
                        <a:pt x="0" y="288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Freeform 92"/>
                <p:cNvSpPr/>
                <p:nvPr/>
              </p:nvSpPr>
              <p:spPr>
                <a:xfrm flipH="1" flipV="1" rot="19463400">
                  <a:off x="5970960" y="3128400"/>
                  <a:ext cx="15480" cy="18720"/>
                </a:xfrm>
                <a:custGeom>
                  <a:avLst/>
                  <a:gdLst>
                    <a:gd name="textAreaLeft" fmla="*/ -360 w 15480"/>
                    <a:gd name="textAreaRight" fmla="*/ 15480 w 15480"/>
                    <a:gd name="textAreaTop" fmla="*/ 360 h 18720"/>
                    <a:gd name="textAreaBottom" fmla="*/ 19440 h 18720"/>
                  </a:gdLst>
                  <a:ahLst/>
                  <a:rect l="textAreaLeft" t="textAreaTop" r="textAreaRight" b="textAreaBottom"/>
                  <a:pathLst>
                    <a:path w="192" h="288">
                      <a:moveTo>
                        <a:pt x="0" y="288"/>
                      </a:moveTo>
                      <a:lnTo>
                        <a:pt x="192" y="288"/>
                      </a:lnTo>
                      <a:lnTo>
                        <a:pt x="48" y="0"/>
                      </a:lnTo>
                      <a:lnTo>
                        <a:pt x="0" y="288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Freeform 93"/>
                <p:cNvSpPr/>
                <p:nvPr/>
              </p:nvSpPr>
              <p:spPr>
                <a:xfrm flipH="1" flipV="1" rot="19463400">
                  <a:off x="5949360" y="3097800"/>
                  <a:ext cx="15480" cy="18720"/>
                </a:xfrm>
                <a:custGeom>
                  <a:avLst/>
                  <a:gdLst>
                    <a:gd name="textAreaLeft" fmla="*/ -360 w 15480"/>
                    <a:gd name="textAreaRight" fmla="*/ 15480 w 15480"/>
                    <a:gd name="textAreaTop" fmla="*/ 360 h 18720"/>
                    <a:gd name="textAreaBottom" fmla="*/ 19440 h 18720"/>
                  </a:gdLst>
                  <a:ahLst/>
                  <a:rect l="textAreaLeft" t="textAreaTop" r="textAreaRight" b="textAreaBottom"/>
                  <a:pathLst>
                    <a:path w="192" h="288">
                      <a:moveTo>
                        <a:pt x="0" y="288"/>
                      </a:moveTo>
                      <a:lnTo>
                        <a:pt x="192" y="288"/>
                      </a:lnTo>
                      <a:lnTo>
                        <a:pt x="48" y="0"/>
                      </a:lnTo>
                      <a:lnTo>
                        <a:pt x="0" y="288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plant"/>
                <p:cNvSpPr/>
                <p:nvPr/>
              </p:nvSpPr>
              <p:spPr>
                <a:xfrm rot="19463400">
                  <a:off x="5816160" y="3047400"/>
                  <a:ext cx="123480" cy="91440"/>
                </a:xfrm>
                <a:custGeom>
                  <a:avLst/>
                  <a:gdLst>
                    <a:gd name="textAreaLeft" fmla="*/ 40320 w 123480"/>
                    <a:gd name="textAreaRight" fmla="*/ 83520 w 123480"/>
                    <a:gd name="textAreaTop" fmla="*/ 42480 h 91440"/>
                    <a:gd name="textAreaBottom" fmla="*/ 57600 h 914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9368" y="9002"/>
                      </a:moveTo>
                      <a:lnTo>
                        <a:pt x="9254" y="8422"/>
                      </a:lnTo>
                      <a:lnTo>
                        <a:pt x="9139" y="7935"/>
                      </a:lnTo>
                      <a:lnTo>
                        <a:pt x="8819" y="7355"/>
                      </a:lnTo>
                      <a:lnTo>
                        <a:pt x="8475" y="6728"/>
                      </a:lnTo>
                      <a:lnTo>
                        <a:pt x="8040" y="6287"/>
                      </a:lnTo>
                      <a:lnTo>
                        <a:pt x="7421" y="5707"/>
                      </a:lnTo>
                      <a:lnTo>
                        <a:pt x="6574" y="5429"/>
                      </a:lnTo>
                      <a:lnTo>
                        <a:pt x="5452" y="5313"/>
                      </a:lnTo>
                      <a:lnTo>
                        <a:pt x="4856" y="5220"/>
                      </a:lnTo>
                      <a:lnTo>
                        <a:pt x="4169" y="5220"/>
                      </a:lnTo>
                      <a:lnTo>
                        <a:pt x="3665" y="5104"/>
                      </a:lnTo>
                      <a:lnTo>
                        <a:pt x="3001" y="4872"/>
                      </a:lnTo>
                      <a:lnTo>
                        <a:pt x="2497" y="4756"/>
                      </a:lnTo>
                      <a:lnTo>
                        <a:pt x="2062" y="4408"/>
                      </a:lnTo>
                      <a:lnTo>
                        <a:pt x="1603" y="4083"/>
                      </a:lnTo>
                      <a:lnTo>
                        <a:pt x="1283" y="3689"/>
                      </a:lnTo>
                      <a:lnTo>
                        <a:pt x="1283" y="4315"/>
                      </a:lnTo>
                      <a:lnTo>
                        <a:pt x="1489" y="5104"/>
                      </a:lnTo>
                      <a:lnTo>
                        <a:pt x="1832" y="6055"/>
                      </a:lnTo>
                      <a:lnTo>
                        <a:pt x="2382" y="6914"/>
                      </a:lnTo>
                      <a:lnTo>
                        <a:pt x="2680" y="7471"/>
                      </a:lnTo>
                      <a:lnTo>
                        <a:pt x="3115" y="7935"/>
                      </a:lnTo>
                      <a:lnTo>
                        <a:pt x="3573" y="8213"/>
                      </a:lnTo>
                      <a:lnTo>
                        <a:pt x="4077" y="8654"/>
                      </a:lnTo>
                      <a:lnTo>
                        <a:pt x="4627" y="9002"/>
                      </a:lnTo>
                      <a:lnTo>
                        <a:pt x="5245" y="9234"/>
                      </a:lnTo>
                      <a:lnTo>
                        <a:pt x="6024" y="9443"/>
                      </a:lnTo>
                      <a:lnTo>
                        <a:pt x="6757" y="9628"/>
                      </a:lnTo>
                      <a:lnTo>
                        <a:pt x="5177" y="10069"/>
                      </a:lnTo>
                      <a:lnTo>
                        <a:pt x="3963" y="10649"/>
                      </a:lnTo>
                      <a:lnTo>
                        <a:pt x="3344" y="11044"/>
                      </a:lnTo>
                      <a:lnTo>
                        <a:pt x="2886" y="11600"/>
                      </a:lnTo>
                      <a:lnTo>
                        <a:pt x="2497" y="12041"/>
                      </a:lnTo>
                      <a:lnTo>
                        <a:pt x="1947" y="12343"/>
                      </a:lnTo>
                      <a:lnTo>
                        <a:pt x="1168" y="12668"/>
                      </a:lnTo>
                      <a:lnTo>
                        <a:pt x="0" y="12900"/>
                      </a:lnTo>
                      <a:lnTo>
                        <a:pt x="435" y="13248"/>
                      </a:lnTo>
                      <a:lnTo>
                        <a:pt x="779" y="13456"/>
                      </a:lnTo>
                      <a:lnTo>
                        <a:pt x="1283" y="13642"/>
                      </a:lnTo>
                      <a:lnTo>
                        <a:pt x="1718" y="13758"/>
                      </a:lnTo>
                      <a:lnTo>
                        <a:pt x="2680" y="13851"/>
                      </a:lnTo>
                      <a:lnTo>
                        <a:pt x="3573" y="13758"/>
                      </a:lnTo>
                      <a:lnTo>
                        <a:pt x="4512" y="13526"/>
                      </a:lnTo>
                      <a:lnTo>
                        <a:pt x="5360" y="13248"/>
                      </a:lnTo>
                      <a:lnTo>
                        <a:pt x="6139" y="12900"/>
                      </a:lnTo>
                      <a:lnTo>
                        <a:pt x="6757" y="12552"/>
                      </a:lnTo>
                      <a:lnTo>
                        <a:pt x="6459" y="13132"/>
                      </a:lnTo>
                      <a:lnTo>
                        <a:pt x="6139" y="13642"/>
                      </a:lnTo>
                      <a:lnTo>
                        <a:pt x="5910" y="14199"/>
                      </a:lnTo>
                      <a:lnTo>
                        <a:pt x="5681" y="14663"/>
                      </a:lnTo>
                      <a:lnTo>
                        <a:pt x="5681" y="15150"/>
                      </a:lnTo>
                      <a:lnTo>
                        <a:pt x="5681" y="15730"/>
                      </a:lnTo>
                      <a:lnTo>
                        <a:pt x="5681" y="16241"/>
                      </a:lnTo>
                      <a:lnTo>
                        <a:pt x="5795" y="16913"/>
                      </a:lnTo>
                      <a:lnTo>
                        <a:pt x="5910" y="17586"/>
                      </a:lnTo>
                      <a:lnTo>
                        <a:pt x="5910" y="18213"/>
                      </a:lnTo>
                      <a:lnTo>
                        <a:pt x="5795" y="18885"/>
                      </a:lnTo>
                      <a:lnTo>
                        <a:pt x="5566" y="19396"/>
                      </a:lnTo>
                      <a:lnTo>
                        <a:pt x="5245" y="19976"/>
                      </a:lnTo>
                      <a:lnTo>
                        <a:pt x="4971" y="20370"/>
                      </a:lnTo>
                      <a:lnTo>
                        <a:pt x="4512" y="20811"/>
                      </a:lnTo>
                      <a:lnTo>
                        <a:pt x="4077" y="21043"/>
                      </a:lnTo>
                      <a:lnTo>
                        <a:pt x="5177" y="20927"/>
                      </a:lnTo>
                      <a:lnTo>
                        <a:pt x="6253" y="20486"/>
                      </a:lnTo>
                      <a:lnTo>
                        <a:pt x="7421" y="19976"/>
                      </a:lnTo>
                      <a:lnTo>
                        <a:pt x="8361" y="19187"/>
                      </a:lnTo>
                      <a:lnTo>
                        <a:pt x="8819" y="18769"/>
                      </a:lnTo>
                      <a:lnTo>
                        <a:pt x="9139" y="18213"/>
                      </a:lnTo>
                      <a:lnTo>
                        <a:pt x="9437" y="17772"/>
                      </a:lnTo>
                      <a:lnTo>
                        <a:pt x="9643" y="17261"/>
                      </a:lnTo>
                      <a:lnTo>
                        <a:pt x="9872" y="16681"/>
                      </a:lnTo>
                      <a:lnTo>
                        <a:pt x="9872" y="16171"/>
                      </a:lnTo>
                      <a:lnTo>
                        <a:pt x="9872" y="15614"/>
                      </a:lnTo>
                      <a:lnTo>
                        <a:pt x="9758" y="15057"/>
                      </a:lnTo>
                      <a:lnTo>
                        <a:pt x="10216" y="15498"/>
                      </a:lnTo>
                      <a:lnTo>
                        <a:pt x="10537" y="16241"/>
                      </a:lnTo>
                      <a:lnTo>
                        <a:pt x="10834" y="17145"/>
                      </a:lnTo>
                      <a:lnTo>
                        <a:pt x="11041" y="18213"/>
                      </a:lnTo>
                      <a:lnTo>
                        <a:pt x="11155" y="19187"/>
                      </a:lnTo>
                      <a:lnTo>
                        <a:pt x="11155" y="20185"/>
                      </a:lnTo>
                      <a:lnTo>
                        <a:pt x="11155" y="20579"/>
                      </a:lnTo>
                      <a:lnTo>
                        <a:pt x="11041" y="21043"/>
                      </a:lnTo>
                      <a:lnTo>
                        <a:pt x="10926" y="21391"/>
                      </a:lnTo>
                      <a:lnTo>
                        <a:pt x="10766" y="21600"/>
                      </a:lnTo>
                      <a:lnTo>
                        <a:pt x="11499" y="21484"/>
                      </a:lnTo>
                      <a:lnTo>
                        <a:pt x="12323" y="21043"/>
                      </a:lnTo>
                      <a:lnTo>
                        <a:pt x="13102" y="20370"/>
                      </a:lnTo>
                      <a:lnTo>
                        <a:pt x="13606" y="19628"/>
                      </a:lnTo>
                      <a:lnTo>
                        <a:pt x="13950" y="19071"/>
                      </a:lnTo>
                      <a:lnTo>
                        <a:pt x="14064" y="18677"/>
                      </a:lnTo>
                      <a:lnTo>
                        <a:pt x="14179" y="18097"/>
                      </a:lnTo>
                      <a:lnTo>
                        <a:pt x="14293" y="17586"/>
                      </a:lnTo>
                      <a:lnTo>
                        <a:pt x="14179" y="16913"/>
                      </a:lnTo>
                      <a:lnTo>
                        <a:pt x="14064" y="16241"/>
                      </a:lnTo>
                      <a:lnTo>
                        <a:pt x="13835" y="15614"/>
                      </a:lnTo>
                      <a:lnTo>
                        <a:pt x="13560" y="14872"/>
                      </a:lnTo>
                      <a:lnTo>
                        <a:pt x="13950" y="14941"/>
                      </a:lnTo>
                      <a:lnTo>
                        <a:pt x="14408" y="15150"/>
                      </a:lnTo>
                      <a:lnTo>
                        <a:pt x="14843" y="15266"/>
                      </a:lnTo>
                      <a:lnTo>
                        <a:pt x="15232" y="15614"/>
                      </a:lnTo>
                      <a:lnTo>
                        <a:pt x="15576" y="15846"/>
                      </a:lnTo>
                      <a:lnTo>
                        <a:pt x="15897" y="16171"/>
                      </a:lnTo>
                      <a:lnTo>
                        <a:pt x="16126" y="16473"/>
                      </a:lnTo>
                      <a:lnTo>
                        <a:pt x="16240" y="16913"/>
                      </a:lnTo>
                      <a:lnTo>
                        <a:pt x="16515" y="17261"/>
                      </a:lnTo>
                      <a:lnTo>
                        <a:pt x="17088" y="17586"/>
                      </a:lnTo>
                      <a:lnTo>
                        <a:pt x="17798" y="17865"/>
                      </a:lnTo>
                      <a:lnTo>
                        <a:pt x="18576" y="18097"/>
                      </a:lnTo>
                      <a:lnTo>
                        <a:pt x="19424" y="18213"/>
                      </a:lnTo>
                      <a:lnTo>
                        <a:pt x="20317" y="18213"/>
                      </a:lnTo>
                      <a:lnTo>
                        <a:pt x="21050" y="18213"/>
                      </a:lnTo>
                      <a:lnTo>
                        <a:pt x="21600" y="17865"/>
                      </a:lnTo>
                      <a:lnTo>
                        <a:pt x="21165" y="17656"/>
                      </a:lnTo>
                      <a:lnTo>
                        <a:pt x="20592" y="17470"/>
                      </a:lnTo>
                      <a:lnTo>
                        <a:pt x="20088" y="17029"/>
                      </a:lnTo>
                      <a:lnTo>
                        <a:pt x="19653" y="16681"/>
                      </a:lnTo>
                      <a:lnTo>
                        <a:pt x="19195" y="16241"/>
                      </a:lnTo>
                      <a:lnTo>
                        <a:pt x="18920" y="15962"/>
                      </a:lnTo>
                      <a:lnTo>
                        <a:pt x="18576" y="15498"/>
                      </a:lnTo>
                      <a:lnTo>
                        <a:pt x="18576" y="15057"/>
                      </a:lnTo>
                      <a:lnTo>
                        <a:pt x="18485" y="14756"/>
                      </a:lnTo>
                      <a:lnTo>
                        <a:pt x="18256" y="14199"/>
                      </a:lnTo>
                      <a:lnTo>
                        <a:pt x="17912" y="13526"/>
                      </a:lnTo>
                      <a:lnTo>
                        <a:pt x="17523" y="13016"/>
                      </a:lnTo>
                      <a:lnTo>
                        <a:pt x="16973" y="12436"/>
                      </a:lnTo>
                      <a:lnTo>
                        <a:pt x="16355" y="12041"/>
                      </a:lnTo>
                      <a:lnTo>
                        <a:pt x="16011" y="11832"/>
                      </a:lnTo>
                      <a:lnTo>
                        <a:pt x="15690" y="11716"/>
                      </a:lnTo>
                      <a:lnTo>
                        <a:pt x="15232" y="11716"/>
                      </a:lnTo>
                      <a:lnTo>
                        <a:pt x="14843" y="11716"/>
                      </a:lnTo>
                      <a:lnTo>
                        <a:pt x="15461" y="11252"/>
                      </a:lnTo>
                      <a:lnTo>
                        <a:pt x="16126" y="10858"/>
                      </a:lnTo>
                      <a:lnTo>
                        <a:pt x="16973" y="10649"/>
                      </a:lnTo>
                      <a:lnTo>
                        <a:pt x="17798" y="10417"/>
                      </a:lnTo>
                      <a:lnTo>
                        <a:pt x="18806" y="10301"/>
                      </a:lnTo>
                      <a:lnTo>
                        <a:pt x="19653" y="10301"/>
                      </a:lnTo>
                      <a:lnTo>
                        <a:pt x="20478" y="10417"/>
                      </a:lnTo>
                      <a:lnTo>
                        <a:pt x="21256" y="10533"/>
                      </a:lnTo>
                      <a:lnTo>
                        <a:pt x="20707" y="9837"/>
                      </a:lnTo>
                      <a:lnTo>
                        <a:pt x="19859" y="9234"/>
                      </a:lnTo>
                      <a:lnTo>
                        <a:pt x="18806" y="8538"/>
                      </a:lnTo>
                      <a:lnTo>
                        <a:pt x="17637" y="8144"/>
                      </a:lnTo>
                      <a:lnTo>
                        <a:pt x="16973" y="8027"/>
                      </a:lnTo>
                      <a:lnTo>
                        <a:pt x="16355" y="7935"/>
                      </a:lnTo>
                      <a:lnTo>
                        <a:pt x="15805" y="7935"/>
                      </a:lnTo>
                      <a:lnTo>
                        <a:pt x="15118" y="8027"/>
                      </a:lnTo>
                      <a:lnTo>
                        <a:pt x="14614" y="8144"/>
                      </a:lnTo>
                      <a:lnTo>
                        <a:pt x="14064" y="8422"/>
                      </a:lnTo>
                      <a:lnTo>
                        <a:pt x="13606" y="8886"/>
                      </a:lnTo>
                      <a:lnTo>
                        <a:pt x="13217" y="9327"/>
                      </a:lnTo>
                      <a:lnTo>
                        <a:pt x="13606" y="8538"/>
                      </a:lnTo>
                      <a:lnTo>
                        <a:pt x="13950" y="7935"/>
                      </a:lnTo>
                      <a:lnTo>
                        <a:pt x="14293" y="7123"/>
                      </a:lnTo>
                      <a:lnTo>
                        <a:pt x="14499" y="6519"/>
                      </a:lnTo>
                      <a:lnTo>
                        <a:pt x="14614" y="5823"/>
                      </a:lnTo>
                      <a:lnTo>
                        <a:pt x="14614" y="5220"/>
                      </a:lnTo>
                      <a:lnTo>
                        <a:pt x="14408" y="4524"/>
                      </a:lnTo>
                      <a:lnTo>
                        <a:pt x="14064" y="3898"/>
                      </a:lnTo>
                      <a:lnTo>
                        <a:pt x="13606" y="3225"/>
                      </a:lnTo>
                      <a:lnTo>
                        <a:pt x="13331" y="2598"/>
                      </a:lnTo>
                      <a:lnTo>
                        <a:pt x="13102" y="2042"/>
                      </a:lnTo>
                      <a:lnTo>
                        <a:pt x="12896" y="1485"/>
                      </a:lnTo>
                      <a:lnTo>
                        <a:pt x="12781" y="1090"/>
                      </a:lnTo>
                      <a:lnTo>
                        <a:pt x="12667" y="626"/>
                      </a:lnTo>
                      <a:lnTo>
                        <a:pt x="12667" y="278"/>
                      </a:lnTo>
                      <a:lnTo>
                        <a:pt x="12667" y="0"/>
                      </a:lnTo>
                      <a:lnTo>
                        <a:pt x="12163" y="394"/>
                      </a:lnTo>
                      <a:lnTo>
                        <a:pt x="11728" y="974"/>
                      </a:lnTo>
                      <a:lnTo>
                        <a:pt x="11155" y="1601"/>
                      </a:lnTo>
                      <a:lnTo>
                        <a:pt x="10766" y="2390"/>
                      </a:lnTo>
                      <a:lnTo>
                        <a:pt x="10330" y="3109"/>
                      </a:lnTo>
                      <a:lnTo>
                        <a:pt x="10101" y="3898"/>
                      </a:lnTo>
                      <a:lnTo>
                        <a:pt x="9987" y="4524"/>
                      </a:lnTo>
                      <a:lnTo>
                        <a:pt x="10101" y="5220"/>
                      </a:lnTo>
                      <a:lnTo>
                        <a:pt x="10216" y="5823"/>
                      </a:lnTo>
                      <a:lnTo>
                        <a:pt x="10330" y="6403"/>
                      </a:lnTo>
                      <a:lnTo>
                        <a:pt x="10330" y="6914"/>
                      </a:lnTo>
                      <a:lnTo>
                        <a:pt x="10216" y="7471"/>
                      </a:lnTo>
                      <a:lnTo>
                        <a:pt x="10101" y="7935"/>
                      </a:lnTo>
                      <a:lnTo>
                        <a:pt x="9872" y="8329"/>
                      </a:lnTo>
                      <a:lnTo>
                        <a:pt x="9643" y="8654"/>
                      </a:lnTo>
                      <a:lnTo>
                        <a:pt x="9368" y="9002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0" name="Freeform 95"/>
              <p:cNvSpPr/>
              <p:nvPr/>
            </p:nvSpPr>
            <p:spPr>
              <a:xfrm rot="664800">
                <a:off x="5482800" y="3365280"/>
                <a:ext cx="212760" cy="117720"/>
              </a:xfrm>
              <a:custGeom>
                <a:avLst/>
                <a:gdLst>
                  <a:gd name="textAreaLeft" fmla="*/ 0 w 212760"/>
                  <a:gd name="textAreaRight" fmla="*/ 213120 w 212760"/>
                  <a:gd name="textAreaTop" fmla="*/ 0 h 117720"/>
                  <a:gd name="textAreaBottom" fmla="*/ 118080 h 117720"/>
                </a:gdLst>
                <a:ahLst/>
                <a:rect l="textAreaLeft" t="textAreaTop" r="textAreaRight" b="textAreaBottom"/>
                <a:pathLst>
                  <a:path w="507" h="352">
                    <a:moveTo>
                      <a:pt x="0" y="240"/>
                    </a:moveTo>
                    <a:cubicBezTo>
                      <a:pt x="56" y="251"/>
                      <a:pt x="253" y="352"/>
                      <a:pt x="336" y="320"/>
                    </a:cubicBezTo>
                    <a:cubicBezTo>
                      <a:pt x="419" y="288"/>
                      <a:pt x="485" y="96"/>
                      <a:pt x="496" y="48"/>
                    </a:cubicBezTo>
                    <a:cubicBezTo>
                      <a:pt x="507" y="0"/>
                      <a:pt x="435" y="35"/>
                      <a:pt x="400" y="32"/>
                    </a:cubicBezTo>
                    <a:cubicBezTo>
                      <a:pt x="365" y="29"/>
                      <a:pt x="339" y="24"/>
                      <a:pt x="288" y="32"/>
                    </a:cubicBezTo>
                    <a:cubicBezTo>
                      <a:pt x="237" y="40"/>
                      <a:pt x="136" y="56"/>
                      <a:pt x="96" y="80"/>
                    </a:cubicBezTo>
                    <a:cubicBezTo>
                      <a:pt x="56" y="104"/>
                      <a:pt x="64" y="152"/>
                      <a:pt x="48" y="176"/>
                    </a:cubicBezTo>
                    <a:cubicBezTo>
                      <a:pt x="32" y="200"/>
                      <a:pt x="16" y="212"/>
                      <a:pt x="0" y="224"/>
                    </a:cubicBezTo>
                  </a:path>
                </a:pathLst>
              </a:custGeom>
              <a:solidFill>
                <a:srgbClr val="33cc33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Freeform 96"/>
              <p:cNvSpPr/>
              <p:nvPr/>
            </p:nvSpPr>
            <p:spPr>
              <a:xfrm rot="664800">
                <a:off x="5607000" y="3562560"/>
                <a:ext cx="213120" cy="117720"/>
              </a:xfrm>
              <a:custGeom>
                <a:avLst/>
                <a:gdLst>
                  <a:gd name="textAreaLeft" fmla="*/ 0 w 213120"/>
                  <a:gd name="textAreaRight" fmla="*/ 213480 w 213120"/>
                  <a:gd name="textAreaTop" fmla="*/ 0 h 117720"/>
                  <a:gd name="textAreaBottom" fmla="*/ 118080 h 117720"/>
                </a:gdLst>
                <a:ahLst/>
                <a:rect l="textAreaLeft" t="textAreaTop" r="textAreaRight" b="textAreaBottom"/>
                <a:pathLst>
                  <a:path w="507" h="352">
                    <a:moveTo>
                      <a:pt x="0" y="240"/>
                    </a:moveTo>
                    <a:cubicBezTo>
                      <a:pt x="56" y="251"/>
                      <a:pt x="253" y="352"/>
                      <a:pt x="336" y="320"/>
                    </a:cubicBezTo>
                    <a:cubicBezTo>
                      <a:pt x="419" y="288"/>
                      <a:pt x="485" y="96"/>
                      <a:pt x="496" y="48"/>
                    </a:cubicBezTo>
                    <a:cubicBezTo>
                      <a:pt x="507" y="0"/>
                      <a:pt x="435" y="35"/>
                      <a:pt x="400" y="32"/>
                    </a:cubicBezTo>
                    <a:cubicBezTo>
                      <a:pt x="365" y="29"/>
                      <a:pt x="339" y="24"/>
                      <a:pt x="288" y="32"/>
                    </a:cubicBezTo>
                    <a:cubicBezTo>
                      <a:pt x="237" y="40"/>
                      <a:pt x="136" y="56"/>
                      <a:pt x="96" y="80"/>
                    </a:cubicBezTo>
                    <a:cubicBezTo>
                      <a:pt x="56" y="104"/>
                      <a:pt x="64" y="152"/>
                      <a:pt x="48" y="176"/>
                    </a:cubicBezTo>
                    <a:cubicBezTo>
                      <a:pt x="32" y="200"/>
                      <a:pt x="16" y="212"/>
                      <a:pt x="0" y="224"/>
                    </a:cubicBezTo>
                  </a:path>
                </a:pathLst>
              </a:custGeom>
              <a:solidFill>
                <a:srgbClr val="33cc33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Freeform 97"/>
              <p:cNvSpPr/>
              <p:nvPr/>
            </p:nvSpPr>
            <p:spPr>
              <a:xfrm rot="7140000">
                <a:off x="5726520" y="3421800"/>
                <a:ext cx="203760" cy="123120"/>
              </a:xfrm>
              <a:custGeom>
                <a:avLst/>
                <a:gdLst>
                  <a:gd name="textAreaLeft" fmla="*/ 0 w 203760"/>
                  <a:gd name="textAreaRight" fmla="*/ 204120 w 203760"/>
                  <a:gd name="textAreaTop" fmla="*/ 0 h 123120"/>
                  <a:gd name="textAreaBottom" fmla="*/ 123480 h 123120"/>
                </a:gdLst>
                <a:ahLst/>
                <a:rect l="textAreaLeft" t="textAreaTop" r="textAreaRight" b="textAreaBottom"/>
                <a:pathLst>
                  <a:path w="507" h="352">
                    <a:moveTo>
                      <a:pt x="0" y="240"/>
                    </a:moveTo>
                    <a:cubicBezTo>
                      <a:pt x="56" y="251"/>
                      <a:pt x="253" y="352"/>
                      <a:pt x="336" y="320"/>
                    </a:cubicBezTo>
                    <a:cubicBezTo>
                      <a:pt x="419" y="288"/>
                      <a:pt x="485" y="96"/>
                      <a:pt x="496" y="48"/>
                    </a:cubicBezTo>
                    <a:cubicBezTo>
                      <a:pt x="507" y="0"/>
                      <a:pt x="435" y="35"/>
                      <a:pt x="400" y="32"/>
                    </a:cubicBezTo>
                    <a:cubicBezTo>
                      <a:pt x="365" y="29"/>
                      <a:pt x="339" y="24"/>
                      <a:pt x="288" y="32"/>
                    </a:cubicBezTo>
                    <a:cubicBezTo>
                      <a:pt x="237" y="40"/>
                      <a:pt x="136" y="56"/>
                      <a:pt x="96" y="80"/>
                    </a:cubicBezTo>
                    <a:cubicBezTo>
                      <a:pt x="56" y="104"/>
                      <a:pt x="64" y="152"/>
                      <a:pt x="48" y="176"/>
                    </a:cubicBezTo>
                    <a:cubicBezTo>
                      <a:pt x="32" y="200"/>
                      <a:pt x="16" y="212"/>
                      <a:pt x="0" y="224"/>
                    </a:cubicBezTo>
                  </a:path>
                </a:pathLst>
              </a:custGeom>
              <a:solidFill>
                <a:srgbClr val="33cc33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3" name="Group 98"/>
          <p:cNvGrpSpPr/>
          <p:nvPr/>
        </p:nvGrpSpPr>
        <p:grpSpPr>
          <a:xfrm>
            <a:off x="4500720" y="3284640"/>
            <a:ext cx="2176560" cy="1312920"/>
            <a:chOff x="4500720" y="3284640"/>
            <a:chExt cx="2176560" cy="1312920"/>
          </a:xfrm>
        </p:grpSpPr>
        <p:sp>
          <p:nvSpPr>
            <p:cNvPr id="214" name="Freeform 99"/>
            <p:cNvSpPr/>
            <p:nvPr/>
          </p:nvSpPr>
          <p:spPr>
            <a:xfrm>
              <a:off x="4500720" y="3284640"/>
              <a:ext cx="1875240" cy="1312920"/>
            </a:xfrm>
            <a:custGeom>
              <a:avLst/>
              <a:gdLst>
                <a:gd name="textAreaLeft" fmla="*/ 0 w 1875240"/>
                <a:gd name="textAreaRight" fmla="*/ 1875600 w 1875240"/>
                <a:gd name="textAreaTop" fmla="*/ 0 h 1312920"/>
                <a:gd name="textAreaBottom" fmla="*/ 1313280 h 1312920"/>
              </a:gdLst>
              <a:ahLst/>
              <a:rect l="textAreaLeft" t="textAreaTop" r="textAreaRight" b="textAreaBottom"/>
              <a:pathLst>
                <a:path w="1317" h="966">
                  <a:moveTo>
                    <a:pt x="19" y="129"/>
                  </a:moveTo>
                  <a:cubicBezTo>
                    <a:pt x="38" y="220"/>
                    <a:pt x="89" y="474"/>
                    <a:pt x="134" y="594"/>
                  </a:cubicBezTo>
                  <a:cubicBezTo>
                    <a:pt x="179" y="714"/>
                    <a:pt x="240" y="795"/>
                    <a:pt x="290" y="851"/>
                  </a:cubicBezTo>
                  <a:cubicBezTo>
                    <a:pt x="340" y="907"/>
                    <a:pt x="362" y="917"/>
                    <a:pt x="434" y="930"/>
                  </a:cubicBezTo>
                  <a:cubicBezTo>
                    <a:pt x="506" y="943"/>
                    <a:pt x="632" y="931"/>
                    <a:pt x="723" y="930"/>
                  </a:cubicBezTo>
                  <a:cubicBezTo>
                    <a:pt x="813" y="929"/>
                    <a:pt x="899" y="966"/>
                    <a:pt x="975" y="923"/>
                  </a:cubicBezTo>
                  <a:cubicBezTo>
                    <a:pt x="1051" y="880"/>
                    <a:pt x="1131" y="761"/>
                    <a:pt x="1179" y="673"/>
                  </a:cubicBezTo>
                  <a:cubicBezTo>
                    <a:pt x="1227" y="585"/>
                    <a:pt x="1241" y="499"/>
                    <a:pt x="1263" y="397"/>
                  </a:cubicBezTo>
                  <a:cubicBezTo>
                    <a:pt x="1285" y="294"/>
                    <a:pt x="1305" y="108"/>
                    <a:pt x="1311" y="54"/>
                  </a:cubicBezTo>
                  <a:cubicBezTo>
                    <a:pt x="1317" y="0"/>
                    <a:pt x="1305" y="66"/>
                    <a:pt x="1297" y="75"/>
                  </a:cubicBezTo>
                  <a:cubicBezTo>
                    <a:pt x="1289" y="84"/>
                    <a:pt x="1288" y="94"/>
                    <a:pt x="1261" y="105"/>
                  </a:cubicBezTo>
                  <a:cubicBezTo>
                    <a:pt x="1234" y="116"/>
                    <a:pt x="1203" y="128"/>
                    <a:pt x="1135" y="141"/>
                  </a:cubicBezTo>
                  <a:cubicBezTo>
                    <a:pt x="1067" y="154"/>
                    <a:pt x="949" y="176"/>
                    <a:pt x="853" y="183"/>
                  </a:cubicBezTo>
                  <a:cubicBezTo>
                    <a:pt x="757" y="190"/>
                    <a:pt x="661" y="189"/>
                    <a:pt x="559" y="183"/>
                  </a:cubicBezTo>
                  <a:cubicBezTo>
                    <a:pt x="457" y="177"/>
                    <a:pt x="318" y="159"/>
                    <a:pt x="241" y="147"/>
                  </a:cubicBezTo>
                  <a:cubicBezTo>
                    <a:pt x="164" y="135"/>
                    <a:pt x="131" y="121"/>
                    <a:pt x="97" y="111"/>
                  </a:cubicBezTo>
                  <a:cubicBezTo>
                    <a:pt x="63" y="101"/>
                    <a:pt x="50" y="98"/>
                    <a:pt x="37" y="87"/>
                  </a:cubicBezTo>
                  <a:cubicBezTo>
                    <a:pt x="24" y="76"/>
                    <a:pt x="22" y="38"/>
                    <a:pt x="19" y="45"/>
                  </a:cubicBezTo>
                  <a:cubicBezTo>
                    <a:pt x="16" y="52"/>
                    <a:pt x="0" y="38"/>
                    <a:pt x="19" y="129"/>
                  </a:cubicBezTo>
                  <a:close/>
                </a:path>
              </a:pathLst>
            </a:custGeom>
            <a:gradFill rotWithShape="0">
              <a:gsLst>
                <a:gs pos="0">
                  <a:srgbClr val="00ffff"/>
                </a:gs>
                <a:gs pos="50000">
                  <a:srgbClr val="ffffff"/>
                </a:gs>
                <a:gs pos="100000">
                  <a:srgbClr val="00ffff"/>
                </a:gs>
              </a:gsLst>
              <a:lin ang="189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Freeform 100"/>
            <p:cNvSpPr/>
            <p:nvPr/>
          </p:nvSpPr>
          <p:spPr>
            <a:xfrm rot="850200">
              <a:off x="6068160" y="3484080"/>
              <a:ext cx="505080" cy="91188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911880"/>
                <a:gd name="textAreaBottom" fmla="*/ 912240 h 911880"/>
              </a:gdLst>
              <a:ahLst/>
              <a:rect l="textAreaLeft" t="textAreaTop" r="textAreaRight" b="textAreaBottom"/>
              <a:pathLst>
                <a:path w="377" h="623">
                  <a:moveTo>
                    <a:pt x="102" y="270"/>
                  </a:moveTo>
                  <a:cubicBezTo>
                    <a:pt x="102" y="262"/>
                    <a:pt x="101" y="259"/>
                    <a:pt x="103" y="248"/>
                  </a:cubicBezTo>
                  <a:cubicBezTo>
                    <a:pt x="105" y="237"/>
                    <a:pt x="105" y="219"/>
                    <a:pt x="112" y="203"/>
                  </a:cubicBezTo>
                  <a:cubicBezTo>
                    <a:pt x="119" y="187"/>
                    <a:pt x="132" y="167"/>
                    <a:pt x="145" y="149"/>
                  </a:cubicBezTo>
                  <a:cubicBezTo>
                    <a:pt x="158" y="131"/>
                    <a:pt x="169" y="103"/>
                    <a:pt x="190" y="92"/>
                  </a:cubicBezTo>
                  <a:cubicBezTo>
                    <a:pt x="211" y="81"/>
                    <a:pt x="253" y="72"/>
                    <a:pt x="271" y="83"/>
                  </a:cubicBezTo>
                  <a:cubicBezTo>
                    <a:pt x="289" y="94"/>
                    <a:pt x="295" y="131"/>
                    <a:pt x="298" y="158"/>
                  </a:cubicBezTo>
                  <a:cubicBezTo>
                    <a:pt x="301" y="185"/>
                    <a:pt x="299" y="216"/>
                    <a:pt x="289" y="245"/>
                  </a:cubicBezTo>
                  <a:cubicBezTo>
                    <a:pt x="279" y="274"/>
                    <a:pt x="259" y="308"/>
                    <a:pt x="235" y="332"/>
                  </a:cubicBezTo>
                  <a:cubicBezTo>
                    <a:pt x="211" y="356"/>
                    <a:pt x="171" y="374"/>
                    <a:pt x="145" y="389"/>
                  </a:cubicBezTo>
                  <a:cubicBezTo>
                    <a:pt x="119" y="404"/>
                    <a:pt x="96" y="410"/>
                    <a:pt x="76" y="425"/>
                  </a:cubicBezTo>
                  <a:cubicBezTo>
                    <a:pt x="56" y="440"/>
                    <a:pt x="33" y="458"/>
                    <a:pt x="22" y="479"/>
                  </a:cubicBezTo>
                  <a:cubicBezTo>
                    <a:pt x="11" y="500"/>
                    <a:pt x="9" y="531"/>
                    <a:pt x="7" y="554"/>
                  </a:cubicBezTo>
                  <a:cubicBezTo>
                    <a:pt x="5" y="577"/>
                    <a:pt x="0" y="615"/>
                    <a:pt x="7" y="619"/>
                  </a:cubicBezTo>
                  <a:cubicBezTo>
                    <a:pt x="13" y="623"/>
                    <a:pt x="36" y="601"/>
                    <a:pt x="46" y="581"/>
                  </a:cubicBezTo>
                  <a:cubicBezTo>
                    <a:pt x="56" y="560"/>
                    <a:pt x="47" y="520"/>
                    <a:pt x="71" y="497"/>
                  </a:cubicBezTo>
                  <a:cubicBezTo>
                    <a:pt x="95" y="474"/>
                    <a:pt x="151" y="468"/>
                    <a:pt x="192" y="444"/>
                  </a:cubicBezTo>
                  <a:cubicBezTo>
                    <a:pt x="233" y="420"/>
                    <a:pt x="287" y="401"/>
                    <a:pt x="318" y="354"/>
                  </a:cubicBezTo>
                  <a:cubicBezTo>
                    <a:pt x="349" y="307"/>
                    <a:pt x="373" y="220"/>
                    <a:pt x="375" y="167"/>
                  </a:cubicBezTo>
                  <a:cubicBezTo>
                    <a:pt x="377" y="113"/>
                    <a:pt x="352" y="59"/>
                    <a:pt x="329" y="31"/>
                  </a:cubicBezTo>
                  <a:cubicBezTo>
                    <a:pt x="307" y="3"/>
                    <a:pt x="272" y="0"/>
                    <a:pt x="242" y="0"/>
                  </a:cubicBezTo>
                  <a:cubicBezTo>
                    <a:pt x="212" y="0"/>
                    <a:pt x="173" y="18"/>
                    <a:pt x="147" y="34"/>
                  </a:cubicBezTo>
                  <a:cubicBezTo>
                    <a:pt x="121" y="51"/>
                    <a:pt x="100" y="69"/>
                    <a:pt x="85" y="102"/>
                  </a:cubicBezTo>
                  <a:cubicBezTo>
                    <a:pt x="70" y="136"/>
                    <a:pt x="55" y="198"/>
                    <a:pt x="54" y="230"/>
                  </a:cubicBezTo>
                  <a:cubicBezTo>
                    <a:pt x="53" y="262"/>
                    <a:pt x="74" y="285"/>
                    <a:pt x="82" y="295"/>
                  </a:cubicBezTo>
                  <a:cubicBezTo>
                    <a:pt x="91" y="305"/>
                    <a:pt x="102" y="299"/>
                    <a:pt x="105" y="295"/>
                  </a:cubicBezTo>
                  <a:cubicBezTo>
                    <a:pt x="108" y="291"/>
                    <a:pt x="104" y="278"/>
                    <a:pt x="102" y="27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00ffff"/>
                </a:gs>
                <a:gs pos="100000">
                  <a:srgbClr val="ffffff"/>
                </a:gs>
              </a:gsLst>
              <a:lin ang="18048000"/>
            </a:gra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6" name="Group 101"/>
            <p:cNvGrpSpPr/>
            <p:nvPr/>
          </p:nvGrpSpPr>
          <p:grpSpPr>
            <a:xfrm>
              <a:off x="4871520" y="3534480"/>
              <a:ext cx="1028880" cy="954720"/>
              <a:chOff x="4871520" y="3534480"/>
              <a:chExt cx="1028880" cy="954720"/>
            </a:xfrm>
          </p:grpSpPr>
          <p:sp>
            <p:nvSpPr>
              <p:cNvPr id="217" name="Freeform 102"/>
              <p:cNvSpPr/>
              <p:nvPr/>
            </p:nvSpPr>
            <p:spPr>
              <a:xfrm rot="14356200">
                <a:off x="5061960" y="3843720"/>
                <a:ext cx="348840" cy="304200"/>
              </a:xfrm>
              <a:custGeom>
                <a:avLst/>
                <a:gdLst>
                  <a:gd name="textAreaLeft" fmla="*/ 0 w 348840"/>
                  <a:gd name="textAreaRight" fmla="*/ 349200 w 34884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507" h="352">
                    <a:moveTo>
                      <a:pt x="0" y="240"/>
                    </a:moveTo>
                    <a:cubicBezTo>
                      <a:pt x="56" y="251"/>
                      <a:pt x="253" y="352"/>
                      <a:pt x="336" y="320"/>
                    </a:cubicBezTo>
                    <a:cubicBezTo>
                      <a:pt x="419" y="288"/>
                      <a:pt x="485" y="96"/>
                      <a:pt x="496" y="48"/>
                    </a:cubicBezTo>
                    <a:cubicBezTo>
                      <a:pt x="507" y="0"/>
                      <a:pt x="435" y="35"/>
                      <a:pt x="400" y="32"/>
                    </a:cubicBezTo>
                    <a:cubicBezTo>
                      <a:pt x="365" y="29"/>
                      <a:pt x="339" y="24"/>
                      <a:pt x="288" y="32"/>
                    </a:cubicBezTo>
                    <a:cubicBezTo>
                      <a:pt x="237" y="40"/>
                      <a:pt x="136" y="56"/>
                      <a:pt x="96" y="80"/>
                    </a:cubicBezTo>
                    <a:cubicBezTo>
                      <a:pt x="56" y="104"/>
                      <a:pt x="64" y="152"/>
                      <a:pt x="48" y="176"/>
                    </a:cubicBezTo>
                    <a:cubicBezTo>
                      <a:pt x="32" y="200"/>
                      <a:pt x="16" y="212"/>
                      <a:pt x="0" y="224"/>
                    </a:cubicBezTo>
                  </a:path>
                </a:pathLst>
              </a:custGeom>
              <a:solidFill>
                <a:srgbClr val="008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Freeform 103"/>
              <p:cNvSpPr/>
              <p:nvPr/>
            </p:nvSpPr>
            <p:spPr>
              <a:xfrm rot="14356200">
                <a:off x="4986000" y="4109040"/>
                <a:ext cx="348840" cy="304560"/>
              </a:xfrm>
              <a:custGeom>
                <a:avLst/>
                <a:gdLst>
                  <a:gd name="textAreaLeft" fmla="*/ 0 w 348840"/>
                  <a:gd name="textAreaRight" fmla="*/ 349200 w 348840"/>
                  <a:gd name="textAreaTop" fmla="*/ 0 h 304560"/>
                  <a:gd name="textAreaBottom" fmla="*/ 304920 h 304560"/>
                </a:gdLst>
                <a:ahLst/>
                <a:rect l="textAreaLeft" t="textAreaTop" r="textAreaRight" b="textAreaBottom"/>
                <a:pathLst>
                  <a:path w="507" h="352">
                    <a:moveTo>
                      <a:pt x="0" y="240"/>
                    </a:moveTo>
                    <a:cubicBezTo>
                      <a:pt x="56" y="251"/>
                      <a:pt x="253" y="352"/>
                      <a:pt x="336" y="320"/>
                    </a:cubicBezTo>
                    <a:cubicBezTo>
                      <a:pt x="419" y="288"/>
                      <a:pt x="485" y="96"/>
                      <a:pt x="496" y="48"/>
                    </a:cubicBezTo>
                    <a:cubicBezTo>
                      <a:pt x="507" y="0"/>
                      <a:pt x="435" y="35"/>
                      <a:pt x="400" y="32"/>
                    </a:cubicBezTo>
                    <a:cubicBezTo>
                      <a:pt x="365" y="29"/>
                      <a:pt x="339" y="24"/>
                      <a:pt x="288" y="32"/>
                    </a:cubicBezTo>
                    <a:cubicBezTo>
                      <a:pt x="237" y="40"/>
                      <a:pt x="136" y="56"/>
                      <a:pt x="96" y="80"/>
                    </a:cubicBezTo>
                    <a:cubicBezTo>
                      <a:pt x="56" y="104"/>
                      <a:pt x="64" y="152"/>
                      <a:pt x="48" y="176"/>
                    </a:cubicBezTo>
                    <a:cubicBezTo>
                      <a:pt x="32" y="200"/>
                      <a:pt x="16" y="212"/>
                      <a:pt x="0" y="224"/>
                    </a:cubicBezTo>
                  </a:path>
                </a:pathLst>
              </a:custGeom>
              <a:solidFill>
                <a:srgbClr val="008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Freeform 104"/>
              <p:cNvSpPr/>
              <p:nvPr/>
            </p:nvSpPr>
            <p:spPr>
              <a:xfrm rot="20674800">
                <a:off x="5324040" y="3675600"/>
                <a:ext cx="434880" cy="317520"/>
              </a:xfrm>
              <a:custGeom>
                <a:avLst/>
                <a:gdLst>
                  <a:gd name="textAreaLeft" fmla="*/ 0 w 434880"/>
                  <a:gd name="textAreaRight" fmla="*/ 435240 w 434880"/>
                  <a:gd name="textAreaTop" fmla="*/ 0 h 317520"/>
                  <a:gd name="textAreaBottom" fmla="*/ 317520 h 317520"/>
                </a:gdLst>
                <a:ahLst/>
                <a:rect l="textAreaLeft" t="textAreaTop" r="textAreaRight" b="textAreaBottom"/>
                <a:pathLst>
                  <a:path w="507" h="352">
                    <a:moveTo>
                      <a:pt x="0" y="240"/>
                    </a:moveTo>
                    <a:cubicBezTo>
                      <a:pt x="56" y="251"/>
                      <a:pt x="253" y="352"/>
                      <a:pt x="336" y="320"/>
                    </a:cubicBezTo>
                    <a:cubicBezTo>
                      <a:pt x="419" y="288"/>
                      <a:pt x="485" y="96"/>
                      <a:pt x="496" y="48"/>
                    </a:cubicBezTo>
                    <a:cubicBezTo>
                      <a:pt x="507" y="0"/>
                      <a:pt x="435" y="35"/>
                      <a:pt x="400" y="32"/>
                    </a:cubicBezTo>
                    <a:cubicBezTo>
                      <a:pt x="365" y="29"/>
                      <a:pt x="339" y="24"/>
                      <a:pt x="288" y="32"/>
                    </a:cubicBezTo>
                    <a:cubicBezTo>
                      <a:pt x="237" y="40"/>
                      <a:pt x="136" y="56"/>
                      <a:pt x="96" y="80"/>
                    </a:cubicBezTo>
                    <a:cubicBezTo>
                      <a:pt x="56" y="104"/>
                      <a:pt x="64" y="152"/>
                      <a:pt x="48" y="176"/>
                    </a:cubicBezTo>
                    <a:cubicBezTo>
                      <a:pt x="32" y="200"/>
                      <a:pt x="16" y="212"/>
                      <a:pt x="0" y="224"/>
                    </a:cubicBezTo>
                  </a:path>
                </a:pathLst>
              </a:custGeom>
              <a:solidFill>
                <a:srgbClr val="33cc33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Freeform 105"/>
              <p:cNvSpPr/>
              <p:nvPr/>
            </p:nvSpPr>
            <p:spPr>
              <a:xfrm rot="3220200">
                <a:off x="4901400" y="3655080"/>
                <a:ext cx="453600" cy="304200"/>
              </a:xfrm>
              <a:custGeom>
                <a:avLst/>
                <a:gdLst>
                  <a:gd name="textAreaLeft" fmla="*/ 0 w 453600"/>
                  <a:gd name="textAreaRight" fmla="*/ 453960 w 45360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507" h="352">
                    <a:moveTo>
                      <a:pt x="0" y="240"/>
                    </a:moveTo>
                    <a:cubicBezTo>
                      <a:pt x="56" y="251"/>
                      <a:pt x="253" y="352"/>
                      <a:pt x="336" y="320"/>
                    </a:cubicBezTo>
                    <a:cubicBezTo>
                      <a:pt x="419" y="288"/>
                      <a:pt x="485" y="96"/>
                      <a:pt x="496" y="48"/>
                    </a:cubicBezTo>
                    <a:cubicBezTo>
                      <a:pt x="507" y="0"/>
                      <a:pt x="435" y="35"/>
                      <a:pt x="400" y="32"/>
                    </a:cubicBezTo>
                    <a:cubicBezTo>
                      <a:pt x="365" y="29"/>
                      <a:pt x="339" y="24"/>
                      <a:pt x="288" y="32"/>
                    </a:cubicBezTo>
                    <a:cubicBezTo>
                      <a:pt x="237" y="40"/>
                      <a:pt x="136" y="56"/>
                      <a:pt x="96" y="80"/>
                    </a:cubicBezTo>
                    <a:cubicBezTo>
                      <a:pt x="56" y="104"/>
                      <a:pt x="64" y="152"/>
                      <a:pt x="48" y="176"/>
                    </a:cubicBezTo>
                    <a:cubicBezTo>
                      <a:pt x="32" y="200"/>
                      <a:pt x="16" y="212"/>
                      <a:pt x="0" y="224"/>
                    </a:cubicBezTo>
                  </a:path>
                </a:pathLst>
              </a:custGeom>
              <a:solidFill>
                <a:srgbClr val="33cc33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1" name="Group 106"/>
              <p:cNvGrpSpPr/>
              <p:nvPr/>
            </p:nvGrpSpPr>
            <p:grpSpPr>
              <a:xfrm>
                <a:off x="5514840" y="4183920"/>
                <a:ext cx="233640" cy="286920"/>
                <a:chOff x="5514840" y="4183920"/>
                <a:chExt cx="233640" cy="286920"/>
              </a:xfrm>
            </p:grpSpPr>
            <p:grpSp>
              <p:nvGrpSpPr>
                <p:cNvPr id="222" name="Group 107"/>
                <p:cNvGrpSpPr/>
                <p:nvPr/>
              </p:nvGrpSpPr>
              <p:grpSpPr>
                <a:xfrm>
                  <a:off x="5514840" y="4238280"/>
                  <a:ext cx="233640" cy="232560"/>
                  <a:chOff x="5514840" y="4238280"/>
                  <a:chExt cx="233640" cy="232560"/>
                </a:xfrm>
              </p:grpSpPr>
              <p:sp>
                <p:nvSpPr>
                  <p:cNvPr id="223" name="Freeform 108"/>
                  <p:cNvSpPr/>
                  <p:nvPr/>
                </p:nvSpPr>
                <p:spPr>
                  <a:xfrm rot="11068800">
                    <a:off x="5643000" y="4251240"/>
                    <a:ext cx="96840" cy="216000"/>
                  </a:xfrm>
                  <a:custGeom>
                    <a:avLst/>
                    <a:gdLst>
                      <a:gd name="textAreaLeft" fmla="*/ 0 w 96840"/>
                      <a:gd name="textAreaRight" fmla="*/ 97200 w 96840"/>
                      <a:gd name="textAreaTop" fmla="*/ 0 h 216000"/>
                      <a:gd name="textAreaBottom" fmla="*/ 216360 h 216000"/>
                    </a:gdLst>
                    <a:ahLst/>
                    <a:rect l="textAreaLeft" t="textAreaTop" r="textAreaRight" b="textAreaBottom"/>
                    <a:pathLst>
                      <a:path w="296" h="552">
                        <a:moveTo>
                          <a:pt x="296" y="528"/>
                        </a:moveTo>
                        <a:cubicBezTo>
                          <a:pt x="224" y="540"/>
                          <a:pt x="152" y="552"/>
                          <a:pt x="104" y="528"/>
                        </a:cubicBezTo>
                        <a:cubicBezTo>
                          <a:pt x="56" y="504"/>
                          <a:pt x="16" y="440"/>
                          <a:pt x="8" y="384"/>
                        </a:cubicBezTo>
                        <a:cubicBezTo>
                          <a:pt x="0" y="328"/>
                          <a:pt x="24" y="248"/>
                          <a:pt x="56" y="192"/>
                        </a:cubicBezTo>
                        <a:cubicBezTo>
                          <a:pt x="88" y="136"/>
                          <a:pt x="160" y="80"/>
                          <a:pt x="200" y="48"/>
                        </a:cubicBezTo>
                        <a:cubicBezTo>
                          <a:pt x="240" y="16"/>
                          <a:pt x="268" y="8"/>
                          <a:pt x="296" y="0"/>
                        </a:cubicBezTo>
                      </a:path>
                    </a:pathLst>
                  </a:custGeom>
                  <a:solidFill>
                    <a:srgbClr val="ff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Freeform 109"/>
                  <p:cNvSpPr/>
                  <p:nvPr/>
                </p:nvSpPr>
                <p:spPr>
                  <a:xfrm flipH="1" rot="11068200">
                    <a:off x="5523120" y="4242600"/>
                    <a:ext cx="123120" cy="216000"/>
                  </a:xfrm>
                  <a:custGeom>
                    <a:avLst/>
                    <a:gdLst>
                      <a:gd name="textAreaLeft" fmla="*/ 360 w 123120"/>
                      <a:gd name="textAreaRight" fmla="*/ 123840 w 123120"/>
                      <a:gd name="textAreaTop" fmla="*/ 0 h 216000"/>
                      <a:gd name="textAreaBottom" fmla="*/ 216360 h 216000"/>
                    </a:gdLst>
                    <a:ahLst/>
                    <a:rect l="textAreaLeft" t="textAreaTop" r="textAreaRight" b="textAreaBottom"/>
                    <a:pathLst>
                      <a:path w="296" h="552">
                        <a:moveTo>
                          <a:pt x="296" y="528"/>
                        </a:moveTo>
                        <a:cubicBezTo>
                          <a:pt x="224" y="540"/>
                          <a:pt x="152" y="552"/>
                          <a:pt x="104" y="528"/>
                        </a:cubicBezTo>
                        <a:cubicBezTo>
                          <a:pt x="56" y="504"/>
                          <a:pt x="16" y="440"/>
                          <a:pt x="8" y="384"/>
                        </a:cubicBezTo>
                        <a:cubicBezTo>
                          <a:pt x="0" y="328"/>
                          <a:pt x="24" y="248"/>
                          <a:pt x="56" y="192"/>
                        </a:cubicBezTo>
                        <a:cubicBezTo>
                          <a:pt x="88" y="136"/>
                          <a:pt x="160" y="80"/>
                          <a:pt x="200" y="48"/>
                        </a:cubicBezTo>
                        <a:cubicBezTo>
                          <a:pt x="240" y="16"/>
                          <a:pt x="268" y="8"/>
                          <a:pt x="296" y="0"/>
                        </a:cubicBezTo>
                      </a:path>
                    </a:pathLst>
                  </a:custGeom>
                  <a:solidFill>
                    <a:srgbClr val="ff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Freeform 110"/>
                <p:cNvSpPr/>
                <p:nvPr/>
              </p:nvSpPr>
              <p:spPr>
                <a:xfrm flipV="1" rot="418200">
                  <a:off x="5652720" y="4305600"/>
                  <a:ext cx="15480" cy="18720"/>
                </a:xfrm>
                <a:custGeom>
                  <a:avLst/>
                  <a:gdLst>
                    <a:gd name="textAreaLeft" fmla="*/ 0 w 15480"/>
                    <a:gd name="textAreaRight" fmla="*/ 15840 w 15480"/>
                    <a:gd name="textAreaTop" fmla="*/ 360 h 18720"/>
                    <a:gd name="textAreaBottom" fmla="*/ 19440 h 18720"/>
                  </a:gdLst>
                  <a:ahLst/>
                  <a:rect l="textAreaLeft" t="textAreaTop" r="textAreaRight" b="textAreaBottom"/>
                  <a:pathLst>
                    <a:path w="192" h="288">
                      <a:moveTo>
                        <a:pt x="0" y="288"/>
                      </a:moveTo>
                      <a:lnTo>
                        <a:pt x="192" y="288"/>
                      </a:lnTo>
                      <a:lnTo>
                        <a:pt x="48" y="0"/>
                      </a:lnTo>
                      <a:lnTo>
                        <a:pt x="0" y="288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Freeform 111"/>
                <p:cNvSpPr/>
                <p:nvPr/>
              </p:nvSpPr>
              <p:spPr>
                <a:xfrm flipV="1" rot="418200">
                  <a:off x="5577480" y="4277160"/>
                  <a:ext cx="15480" cy="18720"/>
                </a:xfrm>
                <a:custGeom>
                  <a:avLst/>
                  <a:gdLst>
                    <a:gd name="textAreaLeft" fmla="*/ 0 w 15480"/>
                    <a:gd name="textAreaRight" fmla="*/ 15840 w 15480"/>
                    <a:gd name="textAreaTop" fmla="*/ 360 h 18720"/>
                    <a:gd name="textAreaBottom" fmla="*/ 19440 h 18720"/>
                  </a:gdLst>
                  <a:ahLst/>
                  <a:rect l="textAreaLeft" t="textAreaTop" r="textAreaRight" b="textAreaBottom"/>
                  <a:pathLst>
                    <a:path w="192" h="288">
                      <a:moveTo>
                        <a:pt x="0" y="288"/>
                      </a:moveTo>
                      <a:lnTo>
                        <a:pt x="192" y="288"/>
                      </a:lnTo>
                      <a:lnTo>
                        <a:pt x="48" y="0"/>
                      </a:lnTo>
                      <a:lnTo>
                        <a:pt x="0" y="288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Freeform 112"/>
                <p:cNvSpPr/>
                <p:nvPr/>
              </p:nvSpPr>
              <p:spPr>
                <a:xfrm flipV="1" rot="418200">
                  <a:off x="5590440" y="4298040"/>
                  <a:ext cx="15480" cy="18720"/>
                </a:xfrm>
                <a:custGeom>
                  <a:avLst/>
                  <a:gdLst>
                    <a:gd name="textAreaLeft" fmla="*/ 0 w 15480"/>
                    <a:gd name="textAreaRight" fmla="*/ 15840 w 15480"/>
                    <a:gd name="textAreaTop" fmla="*/ 360 h 18720"/>
                    <a:gd name="textAreaBottom" fmla="*/ 19440 h 18720"/>
                  </a:gdLst>
                  <a:ahLst/>
                  <a:rect l="textAreaLeft" t="textAreaTop" r="textAreaRight" b="textAreaBottom"/>
                  <a:pathLst>
                    <a:path w="192" h="288">
                      <a:moveTo>
                        <a:pt x="0" y="288"/>
                      </a:moveTo>
                      <a:lnTo>
                        <a:pt x="192" y="288"/>
                      </a:lnTo>
                      <a:lnTo>
                        <a:pt x="48" y="0"/>
                      </a:lnTo>
                      <a:lnTo>
                        <a:pt x="0" y="288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Freeform 113"/>
                <p:cNvSpPr/>
                <p:nvPr/>
              </p:nvSpPr>
              <p:spPr>
                <a:xfrm flipV="1" rot="418200">
                  <a:off x="5619600" y="4320360"/>
                  <a:ext cx="15480" cy="18720"/>
                </a:xfrm>
                <a:custGeom>
                  <a:avLst/>
                  <a:gdLst>
                    <a:gd name="textAreaLeft" fmla="*/ 0 w 15480"/>
                    <a:gd name="textAreaRight" fmla="*/ 15840 w 15480"/>
                    <a:gd name="textAreaTop" fmla="*/ 360 h 18720"/>
                    <a:gd name="textAreaBottom" fmla="*/ 19440 h 18720"/>
                  </a:gdLst>
                  <a:ahLst/>
                  <a:rect l="textAreaLeft" t="textAreaTop" r="textAreaRight" b="textAreaBottom"/>
                  <a:pathLst>
                    <a:path w="192" h="288">
                      <a:moveTo>
                        <a:pt x="0" y="288"/>
                      </a:moveTo>
                      <a:lnTo>
                        <a:pt x="192" y="288"/>
                      </a:lnTo>
                      <a:lnTo>
                        <a:pt x="48" y="0"/>
                      </a:lnTo>
                      <a:lnTo>
                        <a:pt x="0" y="288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Freeform 114"/>
                <p:cNvSpPr/>
                <p:nvPr/>
              </p:nvSpPr>
              <p:spPr>
                <a:xfrm flipV="1" rot="418200">
                  <a:off x="5599440" y="4355640"/>
                  <a:ext cx="15480" cy="18720"/>
                </a:xfrm>
                <a:custGeom>
                  <a:avLst/>
                  <a:gdLst>
                    <a:gd name="textAreaLeft" fmla="*/ 0 w 15480"/>
                    <a:gd name="textAreaRight" fmla="*/ 15840 w 15480"/>
                    <a:gd name="textAreaTop" fmla="*/ 360 h 18720"/>
                    <a:gd name="textAreaBottom" fmla="*/ 19440 h 18720"/>
                  </a:gdLst>
                  <a:ahLst/>
                  <a:rect l="textAreaLeft" t="textAreaTop" r="textAreaRight" b="textAreaBottom"/>
                  <a:pathLst>
                    <a:path w="192" h="288">
                      <a:moveTo>
                        <a:pt x="0" y="288"/>
                      </a:moveTo>
                      <a:lnTo>
                        <a:pt x="192" y="288"/>
                      </a:lnTo>
                      <a:lnTo>
                        <a:pt x="48" y="0"/>
                      </a:lnTo>
                      <a:lnTo>
                        <a:pt x="0" y="288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Freeform 115"/>
                <p:cNvSpPr/>
                <p:nvPr/>
              </p:nvSpPr>
              <p:spPr>
                <a:xfrm flipV="1" rot="418200">
                  <a:off x="5581440" y="4372560"/>
                  <a:ext cx="15480" cy="18720"/>
                </a:xfrm>
                <a:custGeom>
                  <a:avLst/>
                  <a:gdLst>
                    <a:gd name="textAreaLeft" fmla="*/ 0 w 15480"/>
                    <a:gd name="textAreaRight" fmla="*/ 15840 w 15480"/>
                    <a:gd name="textAreaTop" fmla="*/ 360 h 18720"/>
                    <a:gd name="textAreaBottom" fmla="*/ 19440 h 18720"/>
                  </a:gdLst>
                  <a:ahLst/>
                  <a:rect l="textAreaLeft" t="textAreaTop" r="textAreaRight" b="textAreaBottom"/>
                  <a:pathLst>
                    <a:path w="192" h="288">
                      <a:moveTo>
                        <a:pt x="0" y="288"/>
                      </a:moveTo>
                      <a:lnTo>
                        <a:pt x="192" y="288"/>
                      </a:lnTo>
                      <a:lnTo>
                        <a:pt x="48" y="0"/>
                      </a:lnTo>
                      <a:lnTo>
                        <a:pt x="0" y="288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Freeform 116"/>
                <p:cNvSpPr/>
                <p:nvPr/>
              </p:nvSpPr>
              <p:spPr>
                <a:xfrm flipV="1" rot="418200">
                  <a:off x="5594760" y="4393080"/>
                  <a:ext cx="15480" cy="18720"/>
                </a:xfrm>
                <a:custGeom>
                  <a:avLst/>
                  <a:gdLst>
                    <a:gd name="textAreaLeft" fmla="*/ 0 w 15480"/>
                    <a:gd name="textAreaRight" fmla="*/ 15840 w 15480"/>
                    <a:gd name="textAreaTop" fmla="*/ 360 h 18720"/>
                    <a:gd name="textAreaBottom" fmla="*/ 19440 h 18720"/>
                  </a:gdLst>
                  <a:ahLst/>
                  <a:rect l="textAreaLeft" t="textAreaTop" r="textAreaRight" b="textAreaBottom"/>
                  <a:pathLst>
                    <a:path w="192" h="288">
                      <a:moveTo>
                        <a:pt x="0" y="288"/>
                      </a:moveTo>
                      <a:lnTo>
                        <a:pt x="192" y="288"/>
                      </a:lnTo>
                      <a:lnTo>
                        <a:pt x="48" y="0"/>
                      </a:lnTo>
                      <a:lnTo>
                        <a:pt x="0" y="288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Freeform 117"/>
                <p:cNvSpPr/>
                <p:nvPr/>
              </p:nvSpPr>
              <p:spPr>
                <a:xfrm flipV="1" rot="418200">
                  <a:off x="5623920" y="4415760"/>
                  <a:ext cx="15480" cy="18720"/>
                </a:xfrm>
                <a:custGeom>
                  <a:avLst/>
                  <a:gdLst>
                    <a:gd name="textAreaLeft" fmla="*/ 0 w 15480"/>
                    <a:gd name="textAreaRight" fmla="*/ 15840 w 15480"/>
                    <a:gd name="textAreaTop" fmla="*/ 360 h 18720"/>
                    <a:gd name="textAreaBottom" fmla="*/ 19440 h 18720"/>
                  </a:gdLst>
                  <a:ahLst/>
                  <a:rect l="textAreaLeft" t="textAreaTop" r="textAreaRight" b="textAreaBottom"/>
                  <a:pathLst>
                    <a:path w="192" h="288">
                      <a:moveTo>
                        <a:pt x="0" y="288"/>
                      </a:moveTo>
                      <a:lnTo>
                        <a:pt x="192" y="288"/>
                      </a:lnTo>
                      <a:lnTo>
                        <a:pt x="48" y="0"/>
                      </a:lnTo>
                      <a:lnTo>
                        <a:pt x="0" y="288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Freeform 118"/>
                <p:cNvSpPr/>
                <p:nvPr/>
              </p:nvSpPr>
              <p:spPr>
                <a:xfrm flipV="1" rot="418200">
                  <a:off x="5556960" y="4312800"/>
                  <a:ext cx="15480" cy="18720"/>
                </a:xfrm>
                <a:custGeom>
                  <a:avLst/>
                  <a:gdLst>
                    <a:gd name="textAreaLeft" fmla="*/ 0 w 15480"/>
                    <a:gd name="textAreaRight" fmla="*/ 15840 w 15480"/>
                    <a:gd name="textAreaTop" fmla="*/ 360 h 18720"/>
                    <a:gd name="textAreaBottom" fmla="*/ 19440 h 18720"/>
                  </a:gdLst>
                  <a:ahLst/>
                  <a:rect l="textAreaLeft" t="textAreaTop" r="textAreaRight" b="textAreaBottom"/>
                  <a:pathLst>
                    <a:path w="192" h="288">
                      <a:moveTo>
                        <a:pt x="0" y="288"/>
                      </a:moveTo>
                      <a:lnTo>
                        <a:pt x="192" y="288"/>
                      </a:lnTo>
                      <a:lnTo>
                        <a:pt x="48" y="0"/>
                      </a:lnTo>
                      <a:lnTo>
                        <a:pt x="0" y="288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Freeform 119"/>
                <p:cNvSpPr/>
                <p:nvPr/>
              </p:nvSpPr>
              <p:spPr>
                <a:xfrm flipV="1" rot="418200">
                  <a:off x="5570280" y="4333320"/>
                  <a:ext cx="15480" cy="18720"/>
                </a:xfrm>
                <a:custGeom>
                  <a:avLst/>
                  <a:gdLst>
                    <a:gd name="textAreaLeft" fmla="*/ 0 w 15480"/>
                    <a:gd name="textAreaRight" fmla="*/ 15840 w 15480"/>
                    <a:gd name="textAreaTop" fmla="*/ 360 h 18720"/>
                    <a:gd name="textAreaBottom" fmla="*/ 19440 h 18720"/>
                  </a:gdLst>
                  <a:ahLst/>
                  <a:rect l="textAreaLeft" t="textAreaTop" r="textAreaRight" b="textAreaBottom"/>
                  <a:pathLst>
                    <a:path w="192" h="288">
                      <a:moveTo>
                        <a:pt x="0" y="288"/>
                      </a:moveTo>
                      <a:lnTo>
                        <a:pt x="192" y="288"/>
                      </a:lnTo>
                      <a:lnTo>
                        <a:pt x="48" y="0"/>
                      </a:lnTo>
                      <a:lnTo>
                        <a:pt x="0" y="288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Freeform 120"/>
                <p:cNvSpPr/>
                <p:nvPr/>
              </p:nvSpPr>
              <p:spPr>
                <a:xfrm flipH="1" flipV="1" rot="418200">
                  <a:off x="5627880" y="4377960"/>
                  <a:ext cx="15480" cy="18720"/>
                </a:xfrm>
                <a:custGeom>
                  <a:avLst/>
                  <a:gdLst>
                    <a:gd name="textAreaLeft" fmla="*/ -360 w 15480"/>
                    <a:gd name="textAreaRight" fmla="*/ 15480 w 15480"/>
                    <a:gd name="textAreaTop" fmla="*/ 360 h 18720"/>
                    <a:gd name="textAreaBottom" fmla="*/ 19440 h 18720"/>
                  </a:gdLst>
                  <a:ahLst/>
                  <a:rect l="textAreaLeft" t="textAreaTop" r="textAreaRight" b="textAreaBottom"/>
                  <a:pathLst>
                    <a:path w="192" h="288">
                      <a:moveTo>
                        <a:pt x="0" y="288"/>
                      </a:moveTo>
                      <a:lnTo>
                        <a:pt x="192" y="288"/>
                      </a:lnTo>
                      <a:lnTo>
                        <a:pt x="48" y="0"/>
                      </a:lnTo>
                      <a:lnTo>
                        <a:pt x="0" y="288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Freeform 121"/>
                <p:cNvSpPr/>
                <p:nvPr/>
              </p:nvSpPr>
              <p:spPr>
                <a:xfrm flipH="1" flipV="1" rot="418200">
                  <a:off x="5658840" y="4381920"/>
                  <a:ext cx="15480" cy="18720"/>
                </a:xfrm>
                <a:custGeom>
                  <a:avLst/>
                  <a:gdLst>
                    <a:gd name="textAreaLeft" fmla="*/ -360 w 15480"/>
                    <a:gd name="textAreaRight" fmla="*/ 15480 w 15480"/>
                    <a:gd name="textAreaTop" fmla="*/ 360 h 18720"/>
                    <a:gd name="textAreaBottom" fmla="*/ 19440 h 18720"/>
                  </a:gdLst>
                  <a:ahLst/>
                  <a:rect l="textAreaLeft" t="textAreaTop" r="textAreaRight" b="textAreaBottom"/>
                  <a:pathLst>
                    <a:path w="192" h="288">
                      <a:moveTo>
                        <a:pt x="0" y="288"/>
                      </a:moveTo>
                      <a:lnTo>
                        <a:pt x="192" y="288"/>
                      </a:lnTo>
                      <a:lnTo>
                        <a:pt x="48" y="0"/>
                      </a:lnTo>
                      <a:lnTo>
                        <a:pt x="0" y="288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Freeform 122"/>
                <p:cNvSpPr/>
                <p:nvPr/>
              </p:nvSpPr>
              <p:spPr>
                <a:xfrm flipH="1" flipV="1" rot="418200">
                  <a:off x="5647680" y="4342680"/>
                  <a:ext cx="15480" cy="18720"/>
                </a:xfrm>
                <a:custGeom>
                  <a:avLst/>
                  <a:gdLst>
                    <a:gd name="textAreaLeft" fmla="*/ -360 w 15480"/>
                    <a:gd name="textAreaRight" fmla="*/ 15480 w 15480"/>
                    <a:gd name="textAreaTop" fmla="*/ 360 h 18720"/>
                    <a:gd name="textAreaBottom" fmla="*/ 19440 h 18720"/>
                  </a:gdLst>
                  <a:ahLst/>
                  <a:rect l="textAreaLeft" t="textAreaTop" r="textAreaRight" b="textAreaBottom"/>
                  <a:pathLst>
                    <a:path w="192" h="288">
                      <a:moveTo>
                        <a:pt x="0" y="288"/>
                      </a:moveTo>
                      <a:lnTo>
                        <a:pt x="192" y="288"/>
                      </a:lnTo>
                      <a:lnTo>
                        <a:pt x="48" y="0"/>
                      </a:lnTo>
                      <a:lnTo>
                        <a:pt x="0" y="288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Freeform 123"/>
                <p:cNvSpPr/>
                <p:nvPr/>
              </p:nvSpPr>
              <p:spPr>
                <a:xfrm flipH="1" flipV="1" rot="418200">
                  <a:off x="5681520" y="4327920"/>
                  <a:ext cx="15480" cy="18720"/>
                </a:xfrm>
                <a:custGeom>
                  <a:avLst/>
                  <a:gdLst>
                    <a:gd name="textAreaLeft" fmla="*/ -360 w 15480"/>
                    <a:gd name="textAreaRight" fmla="*/ 15480 w 15480"/>
                    <a:gd name="textAreaTop" fmla="*/ 360 h 18720"/>
                    <a:gd name="textAreaBottom" fmla="*/ 19440 h 18720"/>
                  </a:gdLst>
                  <a:ahLst/>
                  <a:rect l="textAreaLeft" t="textAreaTop" r="textAreaRight" b="textAreaBottom"/>
                  <a:pathLst>
                    <a:path w="192" h="288">
                      <a:moveTo>
                        <a:pt x="0" y="288"/>
                      </a:moveTo>
                      <a:lnTo>
                        <a:pt x="192" y="288"/>
                      </a:lnTo>
                      <a:lnTo>
                        <a:pt x="48" y="0"/>
                      </a:lnTo>
                      <a:lnTo>
                        <a:pt x="0" y="288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Freeform 124"/>
                <p:cNvSpPr/>
                <p:nvPr/>
              </p:nvSpPr>
              <p:spPr>
                <a:xfrm flipH="1" flipV="1" rot="418200">
                  <a:off x="5685840" y="4290480"/>
                  <a:ext cx="15480" cy="18720"/>
                </a:xfrm>
                <a:custGeom>
                  <a:avLst/>
                  <a:gdLst>
                    <a:gd name="textAreaLeft" fmla="*/ -360 w 15480"/>
                    <a:gd name="textAreaRight" fmla="*/ 15480 w 15480"/>
                    <a:gd name="textAreaTop" fmla="*/ 360 h 18720"/>
                    <a:gd name="textAreaBottom" fmla="*/ 19440 h 18720"/>
                  </a:gdLst>
                  <a:ahLst/>
                  <a:rect l="textAreaLeft" t="textAreaTop" r="textAreaRight" b="textAreaBottom"/>
                  <a:pathLst>
                    <a:path w="192" h="288">
                      <a:moveTo>
                        <a:pt x="0" y="288"/>
                      </a:moveTo>
                      <a:lnTo>
                        <a:pt x="192" y="288"/>
                      </a:lnTo>
                      <a:lnTo>
                        <a:pt x="48" y="0"/>
                      </a:lnTo>
                      <a:lnTo>
                        <a:pt x="0" y="288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plant"/>
                <p:cNvSpPr/>
                <p:nvPr/>
              </p:nvSpPr>
              <p:spPr>
                <a:xfrm rot="418200">
                  <a:off x="5584320" y="4190760"/>
                  <a:ext cx="123840" cy="91440"/>
                </a:xfrm>
                <a:custGeom>
                  <a:avLst/>
                  <a:gdLst>
                    <a:gd name="textAreaLeft" fmla="*/ 40680 w 123840"/>
                    <a:gd name="textAreaRight" fmla="*/ 83520 w 123840"/>
                    <a:gd name="textAreaTop" fmla="*/ 42480 h 91440"/>
                    <a:gd name="textAreaBottom" fmla="*/ 57600 h 914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9368" y="9002"/>
                      </a:moveTo>
                      <a:lnTo>
                        <a:pt x="9254" y="8422"/>
                      </a:lnTo>
                      <a:lnTo>
                        <a:pt x="9139" y="7935"/>
                      </a:lnTo>
                      <a:lnTo>
                        <a:pt x="8819" y="7355"/>
                      </a:lnTo>
                      <a:lnTo>
                        <a:pt x="8475" y="6728"/>
                      </a:lnTo>
                      <a:lnTo>
                        <a:pt x="8040" y="6287"/>
                      </a:lnTo>
                      <a:lnTo>
                        <a:pt x="7421" y="5707"/>
                      </a:lnTo>
                      <a:lnTo>
                        <a:pt x="6574" y="5429"/>
                      </a:lnTo>
                      <a:lnTo>
                        <a:pt x="5452" y="5313"/>
                      </a:lnTo>
                      <a:lnTo>
                        <a:pt x="4856" y="5220"/>
                      </a:lnTo>
                      <a:lnTo>
                        <a:pt x="4169" y="5220"/>
                      </a:lnTo>
                      <a:lnTo>
                        <a:pt x="3665" y="5104"/>
                      </a:lnTo>
                      <a:lnTo>
                        <a:pt x="3001" y="4872"/>
                      </a:lnTo>
                      <a:lnTo>
                        <a:pt x="2497" y="4756"/>
                      </a:lnTo>
                      <a:lnTo>
                        <a:pt x="2062" y="4408"/>
                      </a:lnTo>
                      <a:lnTo>
                        <a:pt x="1603" y="4083"/>
                      </a:lnTo>
                      <a:lnTo>
                        <a:pt x="1283" y="3689"/>
                      </a:lnTo>
                      <a:lnTo>
                        <a:pt x="1283" y="4315"/>
                      </a:lnTo>
                      <a:lnTo>
                        <a:pt x="1489" y="5104"/>
                      </a:lnTo>
                      <a:lnTo>
                        <a:pt x="1832" y="6055"/>
                      </a:lnTo>
                      <a:lnTo>
                        <a:pt x="2382" y="6914"/>
                      </a:lnTo>
                      <a:lnTo>
                        <a:pt x="2680" y="7471"/>
                      </a:lnTo>
                      <a:lnTo>
                        <a:pt x="3115" y="7935"/>
                      </a:lnTo>
                      <a:lnTo>
                        <a:pt x="3573" y="8213"/>
                      </a:lnTo>
                      <a:lnTo>
                        <a:pt x="4077" y="8654"/>
                      </a:lnTo>
                      <a:lnTo>
                        <a:pt x="4627" y="9002"/>
                      </a:lnTo>
                      <a:lnTo>
                        <a:pt x="5245" y="9234"/>
                      </a:lnTo>
                      <a:lnTo>
                        <a:pt x="6024" y="9443"/>
                      </a:lnTo>
                      <a:lnTo>
                        <a:pt x="6757" y="9628"/>
                      </a:lnTo>
                      <a:lnTo>
                        <a:pt x="5177" y="10069"/>
                      </a:lnTo>
                      <a:lnTo>
                        <a:pt x="3963" y="10649"/>
                      </a:lnTo>
                      <a:lnTo>
                        <a:pt x="3344" y="11044"/>
                      </a:lnTo>
                      <a:lnTo>
                        <a:pt x="2886" y="11600"/>
                      </a:lnTo>
                      <a:lnTo>
                        <a:pt x="2497" y="12041"/>
                      </a:lnTo>
                      <a:lnTo>
                        <a:pt x="1947" y="12343"/>
                      </a:lnTo>
                      <a:lnTo>
                        <a:pt x="1168" y="12668"/>
                      </a:lnTo>
                      <a:lnTo>
                        <a:pt x="0" y="12900"/>
                      </a:lnTo>
                      <a:lnTo>
                        <a:pt x="435" y="13248"/>
                      </a:lnTo>
                      <a:lnTo>
                        <a:pt x="779" y="13456"/>
                      </a:lnTo>
                      <a:lnTo>
                        <a:pt x="1283" y="13642"/>
                      </a:lnTo>
                      <a:lnTo>
                        <a:pt x="1718" y="13758"/>
                      </a:lnTo>
                      <a:lnTo>
                        <a:pt x="2680" y="13851"/>
                      </a:lnTo>
                      <a:lnTo>
                        <a:pt x="3573" y="13758"/>
                      </a:lnTo>
                      <a:lnTo>
                        <a:pt x="4512" y="13526"/>
                      </a:lnTo>
                      <a:lnTo>
                        <a:pt x="5360" y="13248"/>
                      </a:lnTo>
                      <a:lnTo>
                        <a:pt x="6139" y="12900"/>
                      </a:lnTo>
                      <a:lnTo>
                        <a:pt x="6757" y="12552"/>
                      </a:lnTo>
                      <a:lnTo>
                        <a:pt x="6459" y="13132"/>
                      </a:lnTo>
                      <a:lnTo>
                        <a:pt x="6139" y="13642"/>
                      </a:lnTo>
                      <a:lnTo>
                        <a:pt x="5910" y="14199"/>
                      </a:lnTo>
                      <a:lnTo>
                        <a:pt x="5681" y="14663"/>
                      </a:lnTo>
                      <a:lnTo>
                        <a:pt x="5681" y="15150"/>
                      </a:lnTo>
                      <a:lnTo>
                        <a:pt x="5681" y="15730"/>
                      </a:lnTo>
                      <a:lnTo>
                        <a:pt x="5681" y="16241"/>
                      </a:lnTo>
                      <a:lnTo>
                        <a:pt x="5795" y="16913"/>
                      </a:lnTo>
                      <a:lnTo>
                        <a:pt x="5910" y="17586"/>
                      </a:lnTo>
                      <a:lnTo>
                        <a:pt x="5910" y="18213"/>
                      </a:lnTo>
                      <a:lnTo>
                        <a:pt x="5795" y="18885"/>
                      </a:lnTo>
                      <a:lnTo>
                        <a:pt x="5566" y="19396"/>
                      </a:lnTo>
                      <a:lnTo>
                        <a:pt x="5245" y="19976"/>
                      </a:lnTo>
                      <a:lnTo>
                        <a:pt x="4971" y="20370"/>
                      </a:lnTo>
                      <a:lnTo>
                        <a:pt x="4512" y="20811"/>
                      </a:lnTo>
                      <a:lnTo>
                        <a:pt x="4077" y="21043"/>
                      </a:lnTo>
                      <a:lnTo>
                        <a:pt x="5177" y="20927"/>
                      </a:lnTo>
                      <a:lnTo>
                        <a:pt x="6253" y="20486"/>
                      </a:lnTo>
                      <a:lnTo>
                        <a:pt x="7421" y="19976"/>
                      </a:lnTo>
                      <a:lnTo>
                        <a:pt x="8361" y="19187"/>
                      </a:lnTo>
                      <a:lnTo>
                        <a:pt x="8819" y="18769"/>
                      </a:lnTo>
                      <a:lnTo>
                        <a:pt x="9139" y="18213"/>
                      </a:lnTo>
                      <a:lnTo>
                        <a:pt x="9437" y="17772"/>
                      </a:lnTo>
                      <a:lnTo>
                        <a:pt x="9643" y="17261"/>
                      </a:lnTo>
                      <a:lnTo>
                        <a:pt x="9872" y="16681"/>
                      </a:lnTo>
                      <a:lnTo>
                        <a:pt x="9872" y="16171"/>
                      </a:lnTo>
                      <a:lnTo>
                        <a:pt x="9872" y="15614"/>
                      </a:lnTo>
                      <a:lnTo>
                        <a:pt x="9758" y="15057"/>
                      </a:lnTo>
                      <a:lnTo>
                        <a:pt x="10216" y="15498"/>
                      </a:lnTo>
                      <a:lnTo>
                        <a:pt x="10537" y="16241"/>
                      </a:lnTo>
                      <a:lnTo>
                        <a:pt x="10834" y="17145"/>
                      </a:lnTo>
                      <a:lnTo>
                        <a:pt x="11041" y="18213"/>
                      </a:lnTo>
                      <a:lnTo>
                        <a:pt x="11155" y="19187"/>
                      </a:lnTo>
                      <a:lnTo>
                        <a:pt x="11155" y="20185"/>
                      </a:lnTo>
                      <a:lnTo>
                        <a:pt x="11155" y="20579"/>
                      </a:lnTo>
                      <a:lnTo>
                        <a:pt x="11041" y="21043"/>
                      </a:lnTo>
                      <a:lnTo>
                        <a:pt x="10926" y="21391"/>
                      </a:lnTo>
                      <a:lnTo>
                        <a:pt x="10766" y="21600"/>
                      </a:lnTo>
                      <a:lnTo>
                        <a:pt x="11499" y="21484"/>
                      </a:lnTo>
                      <a:lnTo>
                        <a:pt x="12323" y="21043"/>
                      </a:lnTo>
                      <a:lnTo>
                        <a:pt x="13102" y="20370"/>
                      </a:lnTo>
                      <a:lnTo>
                        <a:pt x="13606" y="19628"/>
                      </a:lnTo>
                      <a:lnTo>
                        <a:pt x="13950" y="19071"/>
                      </a:lnTo>
                      <a:lnTo>
                        <a:pt x="14064" y="18677"/>
                      </a:lnTo>
                      <a:lnTo>
                        <a:pt x="14179" y="18097"/>
                      </a:lnTo>
                      <a:lnTo>
                        <a:pt x="14293" y="17586"/>
                      </a:lnTo>
                      <a:lnTo>
                        <a:pt x="14179" y="16913"/>
                      </a:lnTo>
                      <a:lnTo>
                        <a:pt x="14064" y="16241"/>
                      </a:lnTo>
                      <a:lnTo>
                        <a:pt x="13835" y="15614"/>
                      </a:lnTo>
                      <a:lnTo>
                        <a:pt x="13560" y="14872"/>
                      </a:lnTo>
                      <a:lnTo>
                        <a:pt x="13950" y="14941"/>
                      </a:lnTo>
                      <a:lnTo>
                        <a:pt x="14408" y="15150"/>
                      </a:lnTo>
                      <a:lnTo>
                        <a:pt x="14843" y="15266"/>
                      </a:lnTo>
                      <a:lnTo>
                        <a:pt x="15232" y="15614"/>
                      </a:lnTo>
                      <a:lnTo>
                        <a:pt x="15576" y="15846"/>
                      </a:lnTo>
                      <a:lnTo>
                        <a:pt x="15897" y="16171"/>
                      </a:lnTo>
                      <a:lnTo>
                        <a:pt x="16126" y="16473"/>
                      </a:lnTo>
                      <a:lnTo>
                        <a:pt x="16240" y="16913"/>
                      </a:lnTo>
                      <a:lnTo>
                        <a:pt x="16515" y="17261"/>
                      </a:lnTo>
                      <a:lnTo>
                        <a:pt x="17088" y="17586"/>
                      </a:lnTo>
                      <a:lnTo>
                        <a:pt x="17798" y="17865"/>
                      </a:lnTo>
                      <a:lnTo>
                        <a:pt x="18576" y="18097"/>
                      </a:lnTo>
                      <a:lnTo>
                        <a:pt x="19424" y="18213"/>
                      </a:lnTo>
                      <a:lnTo>
                        <a:pt x="20317" y="18213"/>
                      </a:lnTo>
                      <a:lnTo>
                        <a:pt x="21050" y="18213"/>
                      </a:lnTo>
                      <a:lnTo>
                        <a:pt x="21600" y="17865"/>
                      </a:lnTo>
                      <a:lnTo>
                        <a:pt x="21165" y="17656"/>
                      </a:lnTo>
                      <a:lnTo>
                        <a:pt x="20592" y="17470"/>
                      </a:lnTo>
                      <a:lnTo>
                        <a:pt x="20088" y="17029"/>
                      </a:lnTo>
                      <a:lnTo>
                        <a:pt x="19653" y="16681"/>
                      </a:lnTo>
                      <a:lnTo>
                        <a:pt x="19195" y="16241"/>
                      </a:lnTo>
                      <a:lnTo>
                        <a:pt x="18920" y="15962"/>
                      </a:lnTo>
                      <a:lnTo>
                        <a:pt x="18576" y="15498"/>
                      </a:lnTo>
                      <a:lnTo>
                        <a:pt x="18576" y="15057"/>
                      </a:lnTo>
                      <a:lnTo>
                        <a:pt x="18485" y="14756"/>
                      </a:lnTo>
                      <a:lnTo>
                        <a:pt x="18256" y="14199"/>
                      </a:lnTo>
                      <a:lnTo>
                        <a:pt x="17912" y="13526"/>
                      </a:lnTo>
                      <a:lnTo>
                        <a:pt x="17523" y="13016"/>
                      </a:lnTo>
                      <a:lnTo>
                        <a:pt x="16973" y="12436"/>
                      </a:lnTo>
                      <a:lnTo>
                        <a:pt x="16355" y="12041"/>
                      </a:lnTo>
                      <a:lnTo>
                        <a:pt x="16011" y="11832"/>
                      </a:lnTo>
                      <a:lnTo>
                        <a:pt x="15690" y="11716"/>
                      </a:lnTo>
                      <a:lnTo>
                        <a:pt x="15232" y="11716"/>
                      </a:lnTo>
                      <a:lnTo>
                        <a:pt x="14843" y="11716"/>
                      </a:lnTo>
                      <a:lnTo>
                        <a:pt x="15461" y="11252"/>
                      </a:lnTo>
                      <a:lnTo>
                        <a:pt x="16126" y="10858"/>
                      </a:lnTo>
                      <a:lnTo>
                        <a:pt x="16973" y="10649"/>
                      </a:lnTo>
                      <a:lnTo>
                        <a:pt x="17798" y="10417"/>
                      </a:lnTo>
                      <a:lnTo>
                        <a:pt x="18806" y="10301"/>
                      </a:lnTo>
                      <a:lnTo>
                        <a:pt x="19653" y="10301"/>
                      </a:lnTo>
                      <a:lnTo>
                        <a:pt x="20478" y="10417"/>
                      </a:lnTo>
                      <a:lnTo>
                        <a:pt x="21256" y="10533"/>
                      </a:lnTo>
                      <a:lnTo>
                        <a:pt x="20707" y="9837"/>
                      </a:lnTo>
                      <a:lnTo>
                        <a:pt x="19859" y="9234"/>
                      </a:lnTo>
                      <a:lnTo>
                        <a:pt x="18806" y="8538"/>
                      </a:lnTo>
                      <a:lnTo>
                        <a:pt x="17637" y="8144"/>
                      </a:lnTo>
                      <a:lnTo>
                        <a:pt x="16973" y="8027"/>
                      </a:lnTo>
                      <a:lnTo>
                        <a:pt x="16355" y="7935"/>
                      </a:lnTo>
                      <a:lnTo>
                        <a:pt x="15805" y="7935"/>
                      </a:lnTo>
                      <a:lnTo>
                        <a:pt x="15118" y="8027"/>
                      </a:lnTo>
                      <a:lnTo>
                        <a:pt x="14614" y="8144"/>
                      </a:lnTo>
                      <a:lnTo>
                        <a:pt x="14064" y="8422"/>
                      </a:lnTo>
                      <a:lnTo>
                        <a:pt x="13606" y="8886"/>
                      </a:lnTo>
                      <a:lnTo>
                        <a:pt x="13217" y="9327"/>
                      </a:lnTo>
                      <a:lnTo>
                        <a:pt x="13606" y="8538"/>
                      </a:lnTo>
                      <a:lnTo>
                        <a:pt x="13950" y="7935"/>
                      </a:lnTo>
                      <a:lnTo>
                        <a:pt x="14293" y="7123"/>
                      </a:lnTo>
                      <a:lnTo>
                        <a:pt x="14499" y="6519"/>
                      </a:lnTo>
                      <a:lnTo>
                        <a:pt x="14614" y="5823"/>
                      </a:lnTo>
                      <a:lnTo>
                        <a:pt x="14614" y="5220"/>
                      </a:lnTo>
                      <a:lnTo>
                        <a:pt x="14408" y="4524"/>
                      </a:lnTo>
                      <a:lnTo>
                        <a:pt x="14064" y="3898"/>
                      </a:lnTo>
                      <a:lnTo>
                        <a:pt x="13606" y="3225"/>
                      </a:lnTo>
                      <a:lnTo>
                        <a:pt x="13331" y="2598"/>
                      </a:lnTo>
                      <a:lnTo>
                        <a:pt x="13102" y="2042"/>
                      </a:lnTo>
                      <a:lnTo>
                        <a:pt x="12896" y="1485"/>
                      </a:lnTo>
                      <a:lnTo>
                        <a:pt x="12781" y="1090"/>
                      </a:lnTo>
                      <a:lnTo>
                        <a:pt x="12667" y="626"/>
                      </a:lnTo>
                      <a:lnTo>
                        <a:pt x="12667" y="278"/>
                      </a:lnTo>
                      <a:lnTo>
                        <a:pt x="12667" y="0"/>
                      </a:lnTo>
                      <a:lnTo>
                        <a:pt x="12163" y="394"/>
                      </a:lnTo>
                      <a:lnTo>
                        <a:pt x="11728" y="974"/>
                      </a:lnTo>
                      <a:lnTo>
                        <a:pt x="11155" y="1601"/>
                      </a:lnTo>
                      <a:lnTo>
                        <a:pt x="10766" y="2390"/>
                      </a:lnTo>
                      <a:lnTo>
                        <a:pt x="10330" y="3109"/>
                      </a:lnTo>
                      <a:lnTo>
                        <a:pt x="10101" y="3898"/>
                      </a:lnTo>
                      <a:lnTo>
                        <a:pt x="9987" y="4524"/>
                      </a:lnTo>
                      <a:lnTo>
                        <a:pt x="10101" y="5220"/>
                      </a:lnTo>
                      <a:lnTo>
                        <a:pt x="10216" y="5823"/>
                      </a:lnTo>
                      <a:lnTo>
                        <a:pt x="10330" y="6403"/>
                      </a:lnTo>
                      <a:lnTo>
                        <a:pt x="10330" y="6914"/>
                      </a:lnTo>
                      <a:lnTo>
                        <a:pt x="10216" y="7471"/>
                      </a:lnTo>
                      <a:lnTo>
                        <a:pt x="10101" y="7935"/>
                      </a:lnTo>
                      <a:lnTo>
                        <a:pt x="9872" y="8329"/>
                      </a:lnTo>
                      <a:lnTo>
                        <a:pt x="9643" y="8654"/>
                      </a:lnTo>
                      <a:lnTo>
                        <a:pt x="9368" y="9002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1" name="Freeform 126"/>
              <p:cNvSpPr/>
              <p:nvPr/>
            </p:nvSpPr>
            <p:spPr>
              <a:xfrm rot="418200">
                <a:off x="5330160" y="3880440"/>
                <a:ext cx="466560" cy="526680"/>
              </a:xfrm>
              <a:custGeom>
                <a:avLst/>
                <a:gdLst>
                  <a:gd name="textAreaLeft" fmla="*/ 0 w 466560"/>
                  <a:gd name="textAreaRight" fmla="*/ 466920 w 466560"/>
                  <a:gd name="textAreaTop" fmla="*/ 0 h 526680"/>
                  <a:gd name="textAreaBottom" fmla="*/ 527040 h 526680"/>
                </a:gdLst>
                <a:ahLst/>
                <a:rect l="textAreaLeft" t="textAreaTop" r="textAreaRight" b="textAreaBottom"/>
                <a:pathLst>
                  <a:path w="515" h="557">
                    <a:moveTo>
                      <a:pt x="480" y="192"/>
                    </a:moveTo>
                    <a:cubicBezTo>
                      <a:pt x="483" y="187"/>
                      <a:pt x="515" y="190"/>
                      <a:pt x="480" y="160"/>
                    </a:cubicBezTo>
                    <a:cubicBezTo>
                      <a:pt x="445" y="130"/>
                      <a:pt x="339" y="0"/>
                      <a:pt x="272" y="13"/>
                    </a:cubicBezTo>
                    <a:cubicBezTo>
                      <a:pt x="205" y="26"/>
                      <a:pt x="125" y="146"/>
                      <a:pt x="80" y="237"/>
                    </a:cubicBezTo>
                    <a:cubicBezTo>
                      <a:pt x="35" y="328"/>
                      <a:pt x="17" y="490"/>
                      <a:pt x="0" y="557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Freeform 127"/>
              <p:cNvSpPr/>
              <p:nvPr/>
            </p:nvSpPr>
            <p:spPr>
              <a:xfrm rot="418200">
                <a:off x="5291280" y="3786840"/>
                <a:ext cx="50760" cy="605160"/>
              </a:xfrm>
              <a:custGeom>
                <a:avLst/>
                <a:gdLst>
                  <a:gd name="textAreaLeft" fmla="*/ 0 w 50760"/>
                  <a:gd name="textAreaRight" fmla="*/ 51120 w 50760"/>
                  <a:gd name="textAreaTop" fmla="*/ 0 h 605160"/>
                  <a:gd name="textAreaBottom" fmla="*/ 605520 h 605160"/>
                </a:gdLst>
                <a:ahLst/>
                <a:rect l="textAreaLeft" t="textAreaTop" r="textAreaRight" b="textAreaBottom"/>
                <a:pathLst>
                  <a:path w="56" h="640">
                    <a:moveTo>
                      <a:pt x="0" y="0"/>
                    </a:moveTo>
                    <a:cubicBezTo>
                      <a:pt x="5" y="51"/>
                      <a:pt x="40" y="197"/>
                      <a:pt x="48" y="304"/>
                    </a:cubicBezTo>
                    <a:cubicBezTo>
                      <a:pt x="56" y="411"/>
                      <a:pt x="40" y="516"/>
                      <a:pt x="48" y="640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3" name="Group 128"/>
              <p:cNvGrpSpPr/>
              <p:nvPr/>
            </p:nvGrpSpPr>
            <p:grpSpPr>
              <a:xfrm>
                <a:off x="5235480" y="3691080"/>
                <a:ext cx="230760" cy="208440"/>
                <a:chOff x="5235480" y="3691080"/>
                <a:chExt cx="230760" cy="208440"/>
              </a:xfrm>
            </p:grpSpPr>
            <p:grpSp>
              <p:nvGrpSpPr>
                <p:cNvPr id="244" name="Group 129"/>
                <p:cNvGrpSpPr/>
                <p:nvPr/>
              </p:nvGrpSpPr>
              <p:grpSpPr>
                <a:xfrm>
                  <a:off x="5235480" y="3691080"/>
                  <a:ext cx="230760" cy="180000"/>
                  <a:chOff x="5235480" y="3691080"/>
                  <a:chExt cx="230760" cy="180000"/>
                </a:xfrm>
              </p:grpSpPr>
              <p:sp>
                <p:nvSpPr>
                  <p:cNvPr id="245" name="Freeform 130"/>
                  <p:cNvSpPr/>
                  <p:nvPr/>
                </p:nvSpPr>
                <p:spPr>
                  <a:xfrm rot="4435200">
                    <a:off x="5253120" y="3727440"/>
                    <a:ext cx="70920" cy="90720"/>
                  </a:xfrm>
                  <a:custGeom>
                    <a:avLst/>
                    <a:gdLst>
                      <a:gd name="textAreaLeft" fmla="*/ 0 w 70920"/>
                      <a:gd name="textAreaRight" fmla="*/ 71280 w 70920"/>
                      <a:gd name="textAreaTop" fmla="*/ 0 h 90720"/>
                      <a:gd name="textAreaBottom" fmla="*/ 91080 h 90720"/>
                    </a:gdLst>
                    <a:ahLst/>
                    <a:rect l="textAreaLeft" t="textAreaTop" r="textAreaRight" b="textAreaBottom"/>
                    <a:pathLst>
                      <a:path w="224" h="328">
                        <a:moveTo>
                          <a:pt x="168" y="8"/>
                        </a:moveTo>
                        <a:cubicBezTo>
                          <a:pt x="136" y="0"/>
                          <a:pt x="48" y="56"/>
                          <a:pt x="24" y="104"/>
                        </a:cubicBezTo>
                        <a:cubicBezTo>
                          <a:pt x="0" y="152"/>
                          <a:pt x="8" y="264"/>
                          <a:pt x="24" y="296"/>
                        </a:cubicBezTo>
                        <a:cubicBezTo>
                          <a:pt x="40" y="328"/>
                          <a:pt x="88" y="320"/>
                          <a:pt x="120" y="296"/>
                        </a:cubicBezTo>
                        <a:cubicBezTo>
                          <a:pt x="152" y="272"/>
                          <a:pt x="208" y="200"/>
                          <a:pt x="216" y="152"/>
                        </a:cubicBezTo>
                        <a:cubicBezTo>
                          <a:pt x="224" y="104"/>
                          <a:pt x="200" y="16"/>
                          <a:pt x="168" y="8"/>
                        </a:cubicBezTo>
                        <a:close/>
                      </a:path>
                    </a:pathLst>
                  </a:cu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4280" bIns="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Freeform 131"/>
                  <p:cNvSpPr/>
                  <p:nvPr/>
                </p:nvSpPr>
                <p:spPr>
                  <a:xfrm rot="418200">
                    <a:off x="5272200" y="3787920"/>
                    <a:ext cx="72360" cy="78840"/>
                  </a:xfrm>
                  <a:custGeom>
                    <a:avLst/>
                    <a:gdLst>
                      <a:gd name="textAreaLeft" fmla="*/ 0 w 72360"/>
                      <a:gd name="textAreaRight" fmla="*/ 72720 w 72360"/>
                      <a:gd name="textAreaTop" fmla="*/ 0 h 78840"/>
                      <a:gd name="textAreaBottom" fmla="*/ 79200 h 78840"/>
                    </a:gdLst>
                    <a:ahLst/>
                    <a:rect l="textAreaLeft" t="textAreaTop" r="textAreaRight" b="textAreaBottom"/>
                    <a:pathLst>
                      <a:path w="224" h="328">
                        <a:moveTo>
                          <a:pt x="168" y="8"/>
                        </a:moveTo>
                        <a:cubicBezTo>
                          <a:pt x="136" y="0"/>
                          <a:pt x="48" y="56"/>
                          <a:pt x="24" y="104"/>
                        </a:cubicBezTo>
                        <a:cubicBezTo>
                          <a:pt x="0" y="152"/>
                          <a:pt x="8" y="264"/>
                          <a:pt x="24" y="296"/>
                        </a:cubicBezTo>
                        <a:cubicBezTo>
                          <a:pt x="40" y="328"/>
                          <a:pt x="88" y="320"/>
                          <a:pt x="120" y="296"/>
                        </a:cubicBezTo>
                        <a:cubicBezTo>
                          <a:pt x="152" y="272"/>
                          <a:pt x="208" y="200"/>
                          <a:pt x="216" y="152"/>
                        </a:cubicBezTo>
                        <a:cubicBezTo>
                          <a:pt x="224" y="104"/>
                          <a:pt x="200" y="16"/>
                          <a:pt x="168" y="8"/>
                        </a:cubicBezTo>
                        <a:close/>
                      </a:path>
                    </a:pathLst>
                  </a:cu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400" bIns="32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7" name="Freeform 132"/>
                  <p:cNvSpPr/>
                  <p:nvPr/>
                </p:nvSpPr>
                <p:spPr>
                  <a:xfrm rot="4212000">
                    <a:off x="5375880" y="3758760"/>
                    <a:ext cx="70920" cy="90360"/>
                  </a:xfrm>
                  <a:custGeom>
                    <a:avLst/>
                    <a:gdLst>
                      <a:gd name="textAreaLeft" fmla="*/ 0 w 70920"/>
                      <a:gd name="textAreaRight" fmla="*/ 71280 w 70920"/>
                      <a:gd name="textAreaTop" fmla="*/ 0 h 90360"/>
                      <a:gd name="textAreaBottom" fmla="*/ 90720 h 90360"/>
                    </a:gdLst>
                    <a:ahLst/>
                    <a:rect l="textAreaLeft" t="textAreaTop" r="textAreaRight" b="textAreaBottom"/>
                    <a:pathLst>
                      <a:path w="224" h="328">
                        <a:moveTo>
                          <a:pt x="168" y="8"/>
                        </a:moveTo>
                        <a:cubicBezTo>
                          <a:pt x="136" y="0"/>
                          <a:pt x="48" y="56"/>
                          <a:pt x="24" y="104"/>
                        </a:cubicBezTo>
                        <a:cubicBezTo>
                          <a:pt x="0" y="152"/>
                          <a:pt x="8" y="264"/>
                          <a:pt x="24" y="296"/>
                        </a:cubicBezTo>
                        <a:cubicBezTo>
                          <a:pt x="40" y="328"/>
                          <a:pt x="88" y="320"/>
                          <a:pt x="120" y="296"/>
                        </a:cubicBezTo>
                        <a:cubicBezTo>
                          <a:pt x="152" y="272"/>
                          <a:pt x="208" y="200"/>
                          <a:pt x="216" y="152"/>
                        </a:cubicBezTo>
                        <a:cubicBezTo>
                          <a:pt x="224" y="104"/>
                          <a:pt x="200" y="16"/>
                          <a:pt x="168" y="8"/>
                        </a:cubicBezTo>
                        <a:close/>
                      </a:path>
                    </a:pathLst>
                  </a:cu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920" bIns="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8" name="Freeform 133"/>
                  <p:cNvSpPr/>
                  <p:nvPr/>
                </p:nvSpPr>
                <p:spPr>
                  <a:xfrm rot="7452000">
                    <a:off x="5292000" y="3700440"/>
                    <a:ext cx="70920" cy="90360"/>
                  </a:xfrm>
                  <a:custGeom>
                    <a:avLst/>
                    <a:gdLst>
                      <a:gd name="textAreaLeft" fmla="*/ 0 w 70920"/>
                      <a:gd name="textAreaRight" fmla="*/ 71280 w 70920"/>
                      <a:gd name="textAreaTop" fmla="*/ 0 h 90360"/>
                      <a:gd name="textAreaBottom" fmla="*/ 90720 h 90360"/>
                    </a:gdLst>
                    <a:ahLst/>
                    <a:rect l="textAreaLeft" t="textAreaTop" r="textAreaRight" b="textAreaBottom"/>
                    <a:pathLst>
                      <a:path w="224" h="328">
                        <a:moveTo>
                          <a:pt x="168" y="8"/>
                        </a:moveTo>
                        <a:cubicBezTo>
                          <a:pt x="136" y="0"/>
                          <a:pt x="48" y="56"/>
                          <a:pt x="24" y="104"/>
                        </a:cubicBezTo>
                        <a:cubicBezTo>
                          <a:pt x="0" y="152"/>
                          <a:pt x="8" y="264"/>
                          <a:pt x="24" y="296"/>
                        </a:cubicBezTo>
                        <a:cubicBezTo>
                          <a:pt x="40" y="328"/>
                          <a:pt x="88" y="320"/>
                          <a:pt x="120" y="296"/>
                        </a:cubicBezTo>
                        <a:cubicBezTo>
                          <a:pt x="152" y="272"/>
                          <a:pt x="208" y="200"/>
                          <a:pt x="216" y="152"/>
                        </a:cubicBezTo>
                        <a:cubicBezTo>
                          <a:pt x="224" y="104"/>
                          <a:pt x="200" y="16"/>
                          <a:pt x="168" y="8"/>
                        </a:cubicBezTo>
                        <a:close/>
                      </a:path>
                    </a:pathLst>
                  </a:cu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920" bIns="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" name="Freeform 134"/>
                  <p:cNvSpPr/>
                  <p:nvPr/>
                </p:nvSpPr>
                <p:spPr>
                  <a:xfrm rot="418200">
                    <a:off x="5356080" y="3702600"/>
                    <a:ext cx="72360" cy="78840"/>
                  </a:xfrm>
                  <a:custGeom>
                    <a:avLst/>
                    <a:gdLst>
                      <a:gd name="textAreaLeft" fmla="*/ 0 w 72360"/>
                      <a:gd name="textAreaRight" fmla="*/ 72720 w 72360"/>
                      <a:gd name="textAreaTop" fmla="*/ 0 h 78840"/>
                      <a:gd name="textAreaBottom" fmla="*/ 79200 h 78840"/>
                    </a:gdLst>
                    <a:ahLst/>
                    <a:rect l="textAreaLeft" t="textAreaTop" r="textAreaRight" b="textAreaBottom"/>
                    <a:pathLst>
                      <a:path w="224" h="328">
                        <a:moveTo>
                          <a:pt x="168" y="8"/>
                        </a:moveTo>
                        <a:cubicBezTo>
                          <a:pt x="136" y="0"/>
                          <a:pt x="48" y="56"/>
                          <a:pt x="24" y="104"/>
                        </a:cubicBezTo>
                        <a:cubicBezTo>
                          <a:pt x="0" y="152"/>
                          <a:pt x="8" y="264"/>
                          <a:pt x="24" y="296"/>
                        </a:cubicBezTo>
                        <a:cubicBezTo>
                          <a:pt x="40" y="328"/>
                          <a:pt x="88" y="320"/>
                          <a:pt x="120" y="296"/>
                        </a:cubicBezTo>
                        <a:cubicBezTo>
                          <a:pt x="152" y="272"/>
                          <a:pt x="208" y="200"/>
                          <a:pt x="216" y="152"/>
                        </a:cubicBezTo>
                        <a:cubicBezTo>
                          <a:pt x="224" y="104"/>
                          <a:pt x="200" y="16"/>
                          <a:pt x="168" y="8"/>
                        </a:cubicBezTo>
                        <a:close/>
                      </a:path>
                    </a:pathLst>
                  </a:cu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400" bIns="32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0" name="Freeform 135"/>
                  <p:cNvSpPr/>
                  <p:nvPr/>
                </p:nvSpPr>
                <p:spPr>
                  <a:xfrm rot="418200">
                    <a:off x="5331600" y="3776760"/>
                    <a:ext cx="36000" cy="31320"/>
                  </a:xfrm>
                  <a:custGeom>
                    <a:avLst/>
                    <a:gdLst>
                      <a:gd name="textAreaLeft" fmla="*/ 0 w 36000"/>
                      <a:gd name="textAreaRight" fmla="*/ 36360 w 36000"/>
                      <a:gd name="textAreaTop" fmla="*/ 0 h 31320"/>
                      <a:gd name="textAreaBottom" fmla="*/ 31680 h 31320"/>
                    </a:gdLst>
                    <a:ahLst/>
                    <a:rect l="textAreaLeft" t="textAreaTop" r="textAreaRight" b="textAreaBottom"/>
                    <a:pathLst>
                      <a:path w="224" h="328">
                        <a:moveTo>
                          <a:pt x="168" y="8"/>
                        </a:moveTo>
                        <a:cubicBezTo>
                          <a:pt x="136" y="0"/>
                          <a:pt x="48" y="56"/>
                          <a:pt x="24" y="104"/>
                        </a:cubicBezTo>
                        <a:cubicBezTo>
                          <a:pt x="0" y="152"/>
                          <a:pt x="8" y="264"/>
                          <a:pt x="24" y="296"/>
                        </a:cubicBezTo>
                        <a:cubicBezTo>
                          <a:pt x="40" y="328"/>
                          <a:pt x="88" y="320"/>
                          <a:pt x="120" y="296"/>
                        </a:cubicBezTo>
                        <a:cubicBezTo>
                          <a:pt x="152" y="272"/>
                          <a:pt x="208" y="200"/>
                          <a:pt x="216" y="152"/>
                        </a:cubicBezTo>
                        <a:cubicBezTo>
                          <a:pt x="224" y="104"/>
                          <a:pt x="200" y="16"/>
                          <a:pt x="168" y="8"/>
                        </a:cubicBezTo>
                        <a:close/>
                      </a:path>
                    </a:pathLst>
                  </a:custGeom>
                  <a:solidFill>
                    <a:srgbClr val="33cc33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1" name="Freeform 136"/>
                <p:cNvSpPr/>
                <p:nvPr/>
              </p:nvSpPr>
              <p:spPr>
                <a:xfrm rot="7135200">
                  <a:off x="5334840" y="3801600"/>
                  <a:ext cx="70920" cy="90360"/>
                </a:xfrm>
                <a:custGeom>
                  <a:avLst/>
                  <a:gdLst>
                    <a:gd name="textAreaLeft" fmla="*/ 0 w 70920"/>
                    <a:gd name="textAreaRight" fmla="*/ 71280 w 70920"/>
                    <a:gd name="textAreaTop" fmla="*/ 0 h 90360"/>
                    <a:gd name="textAreaBottom" fmla="*/ 90720 h 90360"/>
                  </a:gdLst>
                  <a:ahLst/>
                  <a:rect l="textAreaLeft" t="textAreaTop" r="textAreaRight" b="textAreaBottom"/>
                  <a:pathLst>
                    <a:path w="224" h="328">
                      <a:moveTo>
                        <a:pt x="168" y="8"/>
                      </a:moveTo>
                      <a:cubicBezTo>
                        <a:pt x="136" y="0"/>
                        <a:pt x="48" y="56"/>
                        <a:pt x="24" y="104"/>
                      </a:cubicBezTo>
                      <a:cubicBezTo>
                        <a:pt x="0" y="152"/>
                        <a:pt x="8" y="264"/>
                        <a:pt x="24" y="296"/>
                      </a:cubicBezTo>
                      <a:cubicBezTo>
                        <a:pt x="40" y="328"/>
                        <a:pt x="88" y="320"/>
                        <a:pt x="120" y="296"/>
                      </a:cubicBezTo>
                      <a:cubicBezTo>
                        <a:pt x="152" y="272"/>
                        <a:pt x="208" y="200"/>
                        <a:pt x="216" y="152"/>
                      </a:cubicBezTo>
                      <a:cubicBezTo>
                        <a:pt x="224" y="104"/>
                        <a:pt x="200" y="16"/>
                        <a:pt x="168" y="8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2" name="Freeform 137"/>
              <p:cNvSpPr/>
              <p:nvPr/>
            </p:nvSpPr>
            <p:spPr>
              <a:xfrm rot="418200">
                <a:off x="5329800" y="3902400"/>
                <a:ext cx="376920" cy="487080"/>
              </a:xfrm>
              <a:custGeom>
                <a:avLst/>
                <a:gdLst>
                  <a:gd name="textAreaLeft" fmla="*/ 0 w 376920"/>
                  <a:gd name="textAreaRight" fmla="*/ 377280 w 376920"/>
                  <a:gd name="textAreaTop" fmla="*/ 0 h 487080"/>
                  <a:gd name="textAreaBottom" fmla="*/ 487440 h 487080"/>
                </a:gdLst>
                <a:ahLst/>
                <a:rect l="textAreaLeft" t="textAreaTop" r="textAreaRight" b="textAreaBottom"/>
                <a:pathLst>
                  <a:path w="416" h="515">
                    <a:moveTo>
                      <a:pt x="384" y="211"/>
                    </a:moveTo>
                    <a:cubicBezTo>
                      <a:pt x="387" y="206"/>
                      <a:pt x="416" y="214"/>
                      <a:pt x="384" y="179"/>
                    </a:cubicBezTo>
                    <a:cubicBezTo>
                      <a:pt x="352" y="144"/>
                      <a:pt x="250" y="0"/>
                      <a:pt x="192" y="3"/>
                    </a:cubicBezTo>
                    <a:cubicBezTo>
                      <a:pt x="134" y="6"/>
                      <a:pt x="69" y="110"/>
                      <a:pt x="37" y="195"/>
                    </a:cubicBezTo>
                    <a:cubicBezTo>
                      <a:pt x="5" y="280"/>
                      <a:pt x="8" y="448"/>
                      <a:pt x="0" y="515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Freeform 138"/>
              <p:cNvSpPr/>
              <p:nvPr/>
            </p:nvSpPr>
            <p:spPr>
              <a:xfrm rot="418200">
                <a:off x="5321160" y="4029120"/>
                <a:ext cx="311760" cy="367560"/>
              </a:xfrm>
              <a:custGeom>
                <a:avLst/>
                <a:gdLst>
                  <a:gd name="textAreaLeft" fmla="*/ 0 w 311760"/>
                  <a:gd name="textAreaRight" fmla="*/ 311760 w 311760"/>
                  <a:gd name="textAreaTop" fmla="*/ 0 h 367560"/>
                  <a:gd name="textAreaBottom" fmla="*/ 367920 h 367560"/>
                </a:gdLst>
                <a:ahLst/>
                <a:rect l="textAreaLeft" t="textAreaTop" r="textAreaRight" b="textAreaBottom"/>
                <a:pathLst>
                  <a:path w="344" h="389">
                    <a:moveTo>
                      <a:pt x="320" y="149"/>
                    </a:moveTo>
                    <a:cubicBezTo>
                      <a:pt x="317" y="152"/>
                      <a:pt x="344" y="189"/>
                      <a:pt x="320" y="165"/>
                    </a:cubicBezTo>
                    <a:cubicBezTo>
                      <a:pt x="296" y="141"/>
                      <a:pt x="216" y="10"/>
                      <a:pt x="176" y="5"/>
                    </a:cubicBezTo>
                    <a:cubicBezTo>
                      <a:pt x="136" y="0"/>
                      <a:pt x="109" y="69"/>
                      <a:pt x="80" y="133"/>
                    </a:cubicBezTo>
                    <a:cubicBezTo>
                      <a:pt x="51" y="197"/>
                      <a:pt x="17" y="336"/>
                      <a:pt x="0" y="389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4" name="Group 139"/>
              <p:cNvGrpSpPr/>
              <p:nvPr/>
            </p:nvGrpSpPr>
            <p:grpSpPr>
              <a:xfrm>
                <a:off x="5456520" y="3672000"/>
                <a:ext cx="231120" cy="208440"/>
                <a:chOff x="5456520" y="3672000"/>
                <a:chExt cx="231120" cy="208440"/>
              </a:xfrm>
            </p:grpSpPr>
            <p:grpSp>
              <p:nvGrpSpPr>
                <p:cNvPr id="255" name="Group 140"/>
                <p:cNvGrpSpPr/>
                <p:nvPr/>
              </p:nvGrpSpPr>
              <p:grpSpPr>
                <a:xfrm>
                  <a:off x="5456520" y="3672000"/>
                  <a:ext cx="231120" cy="180000"/>
                  <a:chOff x="5456520" y="3672000"/>
                  <a:chExt cx="231120" cy="180000"/>
                </a:xfrm>
              </p:grpSpPr>
              <p:sp>
                <p:nvSpPr>
                  <p:cNvPr id="256" name="Freeform 141"/>
                  <p:cNvSpPr/>
                  <p:nvPr/>
                </p:nvSpPr>
                <p:spPr>
                  <a:xfrm rot="4435200">
                    <a:off x="5474160" y="3708360"/>
                    <a:ext cx="70920" cy="90720"/>
                  </a:xfrm>
                  <a:custGeom>
                    <a:avLst/>
                    <a:gdLst>
                      <a:gd name="textAreaLeft" fmla="*/ 0 w 70920"/>
                      <a:gd name="textAreaRight" fmla="*/ 71280 w 70920"/>
                      <a:gd name="textAreaTop" fmla="*/ 0 h 90720"/>
                      <a:gd name="textAreaBottom" fmla="*/ 91080 h 90720"/>
                    </a:gdLst>
                    <a:ahLst/>
                    <a:rect l="textAreaLeft" t="textAreaTop" r="textAreaRight" b="textAreaBottom"/>
                    <a:pathLst>
                      <a:path w="224" h="328">
                        <a:moveTo>
                          <a:pt x="168" y="8"/>
                        </a:moveTo>
                        <a:cubicBezTo>
                          <a:pt x="136" y="0"/>
                          <a:pt x="48" y="56"/>
                          <a:pt x="24" y="104"/>
                        </a:cubicBezTo>
                        <a:cubicBezTo>
                          <a:pt x="0" y="152"/>
                          <a:pt x="8" y="264"/>
                          <a:pt x="24" y="296"/>
                        </a:cubicBezTo>
                        <a:cubicBezTo>
                          <a:pt x="40" y="328"/>
                          <a:pt x="88" y="320"/>
                          <a:pt x="120" y="296"/>
                        </a:cubicBezTo>
                        <a:cubicBezTo>
                          <a:pt x="152" y="272"/>
                          <a:pt x="208" y="200"/>
                          <a:pt x="216" y="152"/>
                        </a:cubicBezTo>
                        <a:cubicBezTo>
                          <a:pt x="224" y="104"/>
                          <a:pt x="200" y="16"/>
                          <a:pt x="168" y="8"/>
                        </a:cubicBezTo>
                        <a:close/>
                      </a:path>
                    </a:pathLst>
                  </a:cu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4280" bIns="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Freeform 142"/>
                  <p:cNvSpPr/>
                  <p:nvPr/>
                </p:nvSpPr>
                <p:spPr>
                  <a:xfrm rot="418200">
                    <a:off x="5493600" y="3768840"/>
                    <a:ext cx="72360" cy="78840"/>
                  </a:xfrm>
                  <a:custGeom>
                    <a:avLst/>
                    <a:gdLst>
                      <a:gd name="textAreaLeft" fmla="*/ 0 w 72360"/>
                      <a:gd name="textAreaRight" fmla="*/ 72720 w 72360"/>
                      <a:gd name="textAreaTop" fmla="*/ 0 h 78840"/>
                      <a:gd name="textAreaBottom" fmla="*/ 79200 h 78840"/>
                    </a:gdLst>
                    <a:ahLst/>
                    <a:rect l="textAreaLeft" t="textAreaTop" r="textAreaRight" b="textAreaBottom"/>
                    <a:pathLst>
                      <a:path w="224" h="328">
                        <a:moveTo>
                          <a:pt x="168" y="8"/>
                        </a:moveTo>
                        <a:cubicBezTo>
                          <a:pt x="136" y="0"/>
                          <a:pt x="48" y="56"/>
                          <a:pt x="24" y="104"/>
                        </a:cubicBezTo>
                        <a:cubicBezTo>
                          <a:pt x="0" y="152"/>
                          <a:pt x="8" y="264"/>
                          <a:pt x="24" y="296"/>
                        </a:cubicBezTo>
                        <a:cubicBezTo>
                          <a:pt x="40" y="328"/>
                          <a:pt x="88" y="320"/>
                          <a:pt x="120" y="296"/>
                        </a:cubicBezTo>
                        <a:cubicBezTo>
                          <a:pt x="152" y="272"/>
                          <a:pt x="208" y="200"/>
                          <a:pt x="216" y="152"/>
                        </a:cubicBezTo>
                        <a:cubicBezTo>
                          <a:pt x="224" y="104"/>
                          <a:pt x="200" y="16"/>
                          <a:pt x="168" y="8"/>
                        </a:cubicBezTo>
                        <a:close/>
                      </a:path>
                    </a:pathLst>
                  </a:cu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400" bIns="32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8" name="Freeform 143"/>
                  <p:cNvSpPr/>
                  <p:nvPr/>
                </p:nvSpPr>
                <p:spPr>
                  <a:xfrm rot="4212000">
                    <a:off x="5597280" y="3739680"/>
                    <a:ext cx="70920" cy="90360"/>
                  </a:xfrm>
                  <a:custGeom>
                    <a:avLst/>
                    <a:gdLst>
                      <a:gd name="textAreaLeft" fmla="*/ 0 w 70920"/>
                      <a:gd name="textAreaRight" fmla="*/ 71280 w 70920"/>
                      <a:gd name="textAreaTop" fmla="*/ 0 h 90360"/>
                      <a:gd name="textAreaBottom" fmla="*/ 90720 h 90360"/>
                    </a:gdLst>
                    <a:ahLst/>
                    <a:rect l="textAreaLeft" t="textAreaTop" r="textAreaRight" b="textAreaBottom"/>
                    <a:pathLst>
                      <a:path w="224" h="328">
                        <a:moveTo>
                          <a:pt x="168" y="8"/>
                        </a:moveTo>
                        <a:cubicBezTo>
                          <a:pt x="136" y="0"/>
                          <a:pt x="48" y="56"/>
                          <a:pt x="24" y="104"/>
                        </a:cubicBezTo>
                        <a:cubicBezTo>
                          <a:pt x="0" y="152"/>
                          <a:pt x="8" y="264"/>
                          <a:pt x="24" y="296"/>
                        </a:cubicBezTo>
                        <a:cubicBezTo>
                          <a:pt x="40" y="328"/>
                          <a:pt x="88" y="320"/>
                          <a:pt x="120" y="296"/>
                        </a:cubicBezTo>
                        <a:cubicBezTo>
                          <a:pt x="152" y="272"/>
                          <a:pt x="208" y="200"/>
                          <a:pt x="216" y="152"/>
                        </a:cubicBezTo>
                        <a:cubicBezTo>
                          <a:pt x="224" y="104"/>
                          <a:pt x="200" y="16"/>
                          <a:pt x="168" y="8"/>
                        </a:cubicBezTo>
                        <a:close/>
                      </a:path>
                    </a:pathLst>
                  </a:cu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920" bIns="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9" name="Freeform 144"/>
                  <p:cNvSpPr/>
                  <p:nvPr/>
                </p:nvSpPr>
                <p:spPr>
                  <a:xfrm rot="7452000">
                    <a:off x="5513040" y="3681360"/>
                    <a:ext cx="70920" cy="90360"/>
                  </a:xfrm>
                  <a:custGeom>
                    <a:avLst/>
                    <a:gdLst>
                      <a:gd name="textAreaLeft" fmla="*/ 0 w 70920"/>
                      <a:gd name="textAreaRight" fmla="*/ 71280 w 70920"/>
                      <a:gd name="textAreaTop" fmla="*/ 0 h 90360"/>
                      <a:gd name="textAreaBottom" fmla="*/ 90720 h 90360"/>
                    </a:gdLst>
                    <a:ahLst/>
                    <a:rect l="textAreaLeft" t="textAreaTop" r="textAreaRight" b="textAreaBottom"/>
                    <a:pathLst>
                      <a:path w="224" h="328">
                        <a:moveTo>
                          <a:pt x="168" y="8"/>
                        </a:moveTo>
                        <a:cubicBezTo>
                          <a:pt x="136" y="0"/>
                          <a:pt x="48" y="56"/>
                          <a:pt x="24" y="104"/>
                        </a:cubicBezTo>
                        <a:cubicBezTo>
                          <a:pt x="0" y="152"/>
                          <a:pt x="8" y="264"/>
                          <a:pt x="24" y="296"/>
                        </a:cubicBezTo>
                        <a:cubicBezTo>
                          <a:pt x="40" y="328"/>
                          <a:pt x="88" y="320"/>
                          <a:pt x="120" y="296"/>
                        </a:cubicBezTo>
                        <a:cubicBezTo>
                          <a:pt x="152" y="272"/>
                          <a:pt x="208" y="200"/>
                          <a:pt x="216" y="152"/>
                        </a:cubicBezTo>
                        <a:cubicBezTo>
                          <a:pt x="224" y="104"/>
                          <a:pt x="200" y="16"/>
                          <a:pt x="168" y="8"/>
                        </a:cubicBezTo>
                        <a:close/>
                      </a:path>
                    </a:pathLst>
                  </a:cu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920" bIns="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0" name="Freeform 145"/>
                  <p:cNvSpPr/>
                  <p:nvPr/>
                </p:nvSpPr>
                <p:spPr>
                  <a:xfrm rot="418200">
                    <a:off x="5577480" y="3683520"/>
                    <a:ext cx="72360" cy="78840"/>
                  </a:xfrm>
                  <a:custGeom>
                    <a:avLst/>
                    <a:gdLst>
                      <a:gd name="textAreaLeft" fmla="*/ 0 w 72360"/>
                      <a:gd name="textAreaRight" fmla="*/ 72720 w 72360"/>
                      <a:gd name="textAreaTop" fmla="*/ 0 h 78840"/>
                      <a:gd name="textAreaBottom" fmla="*/ 79200 h 78840"/>
                    </a:gdLst>
                    <a:ahLst/>
                    <a:rect l="textAreaLeft" t="textAreaTop" r="textAreaRight" b="textAreaBottom"/>
                    <a:pathLst>
                      <a:path w="224" h="328">
                        <a:moveTo>
                          <a:pt x="168" y="8"/>
                        </a:moveTo>
                        <a:cubicBezTo>
                          <a:pt x="136" y="0"/>
                          <a:pt x="48" y="56"/>
                          <a:pt x="24" y="104"/>
                        </a:cubicBezTo>
                        <a:cubicBezTo>
                          <a:pt x="0" y="152"/>
                          <a:pt x="8" y="264"/>
                          <a:pt x="24" y="296"/>
                        </a:cubicBezTo>
                        <a:cubicBezTo>
                          <a:pt x="40" y="328"/>
                          <a:pt x="88" y="320"/>
                          <a:pt x="120" y="296"/>
                        </a:cubicBezTo>
                        <a:cubicBezTo>
                          <a:pt x="152" y="272"/>
                          <a:pt x="208" y="200"/>
                          <a:pt x="216" y="152"/>
                        </a:cubicBezTo>
                        <a:cubicBezTo>
                          <a:pt x="224" y="104"/>
                          <a:pt x="200" y="16"/>
                          <a:pt x="168" y="8"/>
                        </a:cubicBezTo>
                        <a:close/>
                      </a:path>
                    </a:pathLst>
                  </a:cu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400" bIns="32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1" name="Freeform 146"/>
                  <p:cNvSpPr/>
                  <p:nvPr/>
                </p:nvSpPr>
                <p:spPr>
                  <a:xfrm rot="418200">
                    <a:off x="5553000" y="3757680"/>
                    <a:ext cx="36000" cy="31320"/>
                  </a:xfrm>
                  <a:custGeom>
                    <a:avLst/>
                    <a:gdLst>
                      <a:gd name="textAreaLeft" fmla="*/ 0 w 36000"/>
                      <a:gd name="textAreaRight" fmla="*/ 36360 w 36000"/>
                      <a:gd name="textAreaTop" fmla="*/ 0 h 31320"/>
                      <a:gd name="textAreaBottom" fmla="*/ 31680 h 31320"/>
                    </a:gdLst>
                    <a:ahLst/>
                    <a:rect l="textAreaLeft" t="textAreaTop" r="textAreaRight" b="textAreaBottom"/>
                    <a:pathLst>
                      <a:path w="224" h="328">
                        <a:moveTo>
                          <a:pt x="168" y="8"/>
                        </a:moveTo>
                        <a:cubicBezTo>
                          <a:pt x="136" y="0"/>
                          <a:pt x="48" y="56"/>
                          <a:pt x="24" y="104"/>
                        </a:cubicBezTo>
                        <a:cubicBezTo>
                          <a:pt x="0" y="152"/>
                          <a:pt x="8" y="264"/>
                          <a:pt x="24" y="296"/>
                        </a:cubicBezTo>
                        <a:cubicBezTo>
                          <a:pt x="40" y="328"/>
                          <a:pt x="88" y="320"/>
                          <a:pt x="120" y="296"/>
                        </a:cubicBezTo>
                        <a:cubicBezTo>
                          <a:pt x="152" y="272"/>
                          <a:pt x="208" y="200"/>
                          <a:pt x="216" y="152"/>
                        </a:cubicBezTo>
                        <a:cubicBezTo>
                          <a:pt x="224" y="104"/>
                          <a:pt x="200" y="16"/>
                          <a:pt x="168" y="8"/>
                        </a:cubicBezTo>
                        <a:close/>
                      </a:path>
                    </a:pathLst>
                  </a:custGeom>
                  <a:solidFill>
                    <a:srgbClr val="33cc33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2" name="Freeform 147"/>
                <p:cNvSpPr/>
                <p:nvPr/>
              </p:nvSpPr>
              <p:spPr>
                <a:xfrm rot="7135200">
                  <a:off x="5556240" y="3782520"/>
                  <a:ext cx="70920" cy="90360"/>
                </a:xfrm>
                <a:custGeom>
                  <a:avLst/>
                  <a:gdLst>
                    <a:gd name="textAreaLeft" fmla="*/ 0 w 70920"/>
                    <a:gd name="textAreaRight" fmla="*/ 71280 w 70920"/>
                    <a:gd name="textAreaTop" fmla="*/ 0 h 90360"/>
                    <a:gd name="textAreaBottom" fmla="*/ 90720 h 90360"/>
                  </a:gdLst>
                  <a:ahLst/>
                  <a:rect l="textAreaLeft" t="textAreaTop" r="textAreaRight" b="textAreaBottom"/>
                  <a:pathLst>
                    <a:path w="224" h="328">
                      <a:moveTo>
                        <a:pt x="168" y="8"/>
                      </a:moveTo>
                      <a:cubicBezTo>
                        <a:pt x="136" y="0"/>
                        <a:pt x="48" y="56"/>
                        <a:pt x="24" y="104"/>
                      </a:cubicBezTo>
                      <a:cubicBezTo>
                        <a:pt x="0" y="152"/>
                        <a:pt x="8" y="264"/>
                        <a:pt x="24" y="296"/>
                      </a:cubicBezTo>
                      <a:cubicBezTo>
                        <a:pt x="40" y="328"/>
                        <a:pt x="88" y="320"/>
                        <a:pt x="120" y="296"/>
                      </a:cubicBezTo>
                      <a:cubicBezTo>
                        <a:pt x="152" y="272"/>
                        <a:pt x="208" y="200"/>
                        <a:pt x="216" y="152"/>
                      </a:cubicBezTo>
                      <a:cubicBezTo>
                        <a:pt x="224" y="104"/>
                        <a:pt x="200" y="16"/>
                        <a:pt x="168" y="8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3" name="Group 148"/>
              <p:cNvGrpSpPr/>
              <p:nvPr/>
            </p:nvGrpSpPr>
            <p:grpSpPr>
              <a:xfrm>
                <a:off x="5666400" y="4019400"/>
                <a:ext cx="234000" cy="286920"/>
                <a:chOff x="5666400" y="4019400"/>
                <a:chExt cx="234000" cy="286920"/>
              </a:xfrm>
            </p:grpSpPr>
            <p:grpSp>
              <p:nvGrpSpPr>
                <p:cNvPr id="264" name="Group 149"/>
                <p:cNvGrpSpPr/>
                <p:nvPr/>
              </p:nvGrpSpPr>
              <p:grpSpPr>
                <a:xfrm>
                  <a:off x="5666400" y="4073760"/>
                  <a:ext cx="234000" cy="232560"/>
                  <a:chOff x="5666400" y="4073760"/>
                  <a:chExt cx="234000" cy="232560"/>
                </a:xfrm>
              </p:grpSpPr>
              <p:sp>
                <p:nvSpPr>
                  <p:cNvPr id="265" name="Freeform 150"/>
                  <p:cNvSpPr/>
                  <p:nvPr/>
                </p:nvSpPr>
                <p:spPr>
                  <a:xfrm rot="11068800">
                    <a:off x="5794920" y="4086720"/>
                    <a:ext cx="96840" cy="216000"/>
                  </a:xfrm>
                  <a:custGeom>
                    <a:avLst/>
                    <a:gdLst>
                      <a:gd name="textAreaLeft" fmla="*/ 0 w 96840"/>
                      <a:gd name="textAreaRight" fmla="*/ 97200 w 96840"/>
                      <a:gd name="textAreaTop" fmla="*/ 0 h 216000"/>
                      <a:gd name="textAreaBottom" fmla="*/ 216360 h 216000"/>
                    </a:gdLst>
                    <a:ahLst/>
                    <a:rect l="textAreaLeft" t="textAreaTop" r="textAreaRight" b="textAreaBottom"/>
                    <a:pathLst>
                      <a:path w="296" h="552">
                        <a:moveTo>
                          <a:pt x="296" y="528"/>
                        </a:moveTo>
                        <a:cubicBezTo>
                          <a:pt x="224" y="540"/>
                          <a:pt x="152" y="552"/>
                          <a:pt x="104" y="528"/>
                        </a:cubicBezTo>
                        <a:cubicBezTo>
                          <a:pt x="56" y="504"/>
                          <a:pt x="16" y="440"/>
                          <a:pt x="8" y="384"/>
                        </a:cubicBezTo>
                        <a:cubicBezTo>
                          <a:pt x="0" y="328"/>
                          <a:pt x="24" y="248"/>
                          <a:pt x="56" y="192"/>
                        </a:cubicBezTo>
                        <a:cubicBezTo>
                          <a:pt x="88" y="136"/>
                          <a:pt x="160" y="80"/>
                          <a:pt x="200" y="48"/>
                        </a:cubicBezTo>
                        <a:cubicBezTo>
                          <a:pt x="240" y="16"/>
                          <a:pt x="268" y="8"/>
                          <a:pt x="296" y="0"/>
                        </a:cubicBezTo>
                      </a:path>
                    </a:pathLst>
                  </a:custGeom>
                  <a:solidFill>
                    <a:srgbClr val="ff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6" name="Freeform 151"/>
                  <p:cNvSpPr/>
                  <p:nvPr/>
                </p:nvSpPr>
                <p:spPr>
                  <a:xfrm flipH="1" rot="11068200">
                    <a:off x="5674680" y="4078080"/>
                    <a:ext cx="123120" cy="216000"/>
                  </a:xfrm>
                  <a:custGeom>
                    <a:avLst/>
                    <a:gdLst>
                      <a:gd name="textAreaLeft" fmla="*/ 360 w 123120"/>
                      <a:gd name="textAreaRight" fmla="*/ 123840 w 123120"/>
                      <a:gd name="textAreaTop" fmla="*/ 0 h 216000"/>
                      <a:gd name="textAreaBottom" fmla="*/ 216360 h 216000"/>
                    </a:gdLst>
                    <a:ahLst/>
                    <a:rect l="textAreaLeft" t="textAreaTop" r="textAreaRight" b="textAreaBottom"/>
                    <a:pathLst>
                      <a:path w="296" h="552">
                        <a:moveTo>
                          <a:pt x="296" y="528"/>
                        </a:moveTo>
                        <a:cubicBezTo>
                          <a:pt x="224" y="540"/>
                          <a:pt x="152" y="552"/>
                          <a:pt x="104" y="528"/>
                        </a:cubicBezTo>
                        <a:cubicBezTo>
                          <a:pt x="56" y="504"/>
                          <a:pt x="16" y="440"/>
                          <a:pt x="8" y="384"/>
                        </a:cubicBezTo>
                        <a:cubicBezTo>
                          <a:pt x="0" y="328"/>
                          <a:pt x="24" y="248"/>
                          <a:pt x="56" y="192"/>
                        </a:cubicBezTo>
                        <a:cubicBezTo>
                          <a:pt x="88" y="136"/>
                          <a:pt x="160" y="80"/>
                          <a:pt x="200" y="48"/>
                        </a:cubicBezTo>
                        <a:cubicBezTo>
                          <a:pt x="240" y="16"/>
                          <a:pt x="268" y="8"/>
                          <a:pt x="296" y="0"/>
                        </a:cubicBezTo>
                      </a:path>
                    </a:pathLst>
                  </a:custGeom>
                  <a:solidFill>
                    <a:srgbClr val="ff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7" name="Freeform 152"/>
                <p:cNvSpPr/>
                <p:nvPr/>
              </p:nvSpPr>
              <p:spPr>
                <a:xfrm flipV="1" rot="418200">
                  <a:off x="5804640" y="4141080"/>
                  <a:ext cx="15480" cy="18720"/>
                </a:xfrm>
                <a:custGeom>
                  <a:avLst/>
                  <a:gdLst>
                    <a:gd name="textAreaLeft" fmla="*/ 0 w 15480"/>
                    <a:gd name="textAreaRight" fmla="*/ 15840 w 15480"/>
                    <a:gd name="textAreaTop" fmla="*/ 360 h 18720"/>
                    <a:gd name="textAreaBottom" fmla="*/ 19440 h 18720"/>
                  </a:gdLst>
                  <a:ahLst/>
                  <a:rect l="textAreaLeft" t="textAreaTop" r="textAreaRight" b="textAreaBottom"/>
                  <a:pathLst>
                    <a:path w="192" h="288">
                      <a:moveTo>
                        <a:pt x="0" y="288"/>
                      </a:moveTo>
                      <a:lnTo>
                        <a:pt x="192" y="288"/>
                      </a:lnTo>
                      <a:lnTo>
                        <a:pt x="48" y="0"/>
                      </a:lnTo>
                      <a:lnTo>
                        <a:pt x="0" y="288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Freeform 153"/>
                <p:cNvSpPr/>
                <p:nvPr/>
              </p:nvSpPr>
              <p:spPr>
                <a:xfrm flipV="1" rot="418200">
                  <a:off x="5729040" y="4112640"/>
                  <a:ext cx="15480" cy="18720"/>
                </a:xfrm>
                <a:custGeom>
                  <a:avLst/>
                  <a:gdLst>
                    <a:gd name="textAreaLeft" fmla="*/ 0 w 15480"/>
                    <a:gd name="textAreaRight" fmla="*/ 15840 w 15480"/>
                    <a:gd name="textAreaTop" fmla="*/ 360 h 18720"/>
                    <a:gd name="textAreaBottom" fmla="*/ 19440 h 18720"/>
                  </a:gdLst>
                  <a:ahLst/>
                  <a:rect l="textAreaLeft" t="textAreaTop" r="textAreaRight" b="textAreaBottom"/>
                  <a:pathLst>
                    <a:path w="192" h="288">
                      <a:moveTo>
                        <a:pt x="0" y="288"/>
                      </a:moveTo>
                      <a:lnTo>
                        <a:pt x="192" y="288"/>
                      </a:lnTo>
                      <a:lnTo>
                        <a:pt x="48" y="0"/>
                      </a:lnTo>
                      <a:lnTo>
                        <a:pt x="0" y="288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Freeform 154"/>
                <p:cNvSpPr/>
                <p:nvPr/>
              </p:nvSpPr>
              <p:spPr>
                <a:xfrm flipV="1" rot="418200">
                  <a:off x="5742000" y="4133520"/>
                  <a:ext cx="15480" cy="18720"/>
                </a:xfrm>
                <a:custGeom>
                  <a:avLst/>
                  <a:gdLst>
                    <a:gd name="textAreaLeft" fmla="*/ 0 w 15480"/>
                    <a:gd name="textAreaRight" fmla="*/ 15840 w 15480"/>
                    <a:gd name="textAreaTop" fmla="*/ 360 h 18720"/>
                    <a:gd name="textAreaBottom" fmla="*/ 19440 h 18720"/>
                  </a:gdLst>
                  <a:ahLst/>
                  <a:rect l="textAreaLeft" t="textAreaTop" r="textAreaRight" b="textAreaBottom"/>
                  <a:pathLst>
                    <a:path w="192" h="288">
                      <a:moveTo>
                        <a:pt x="0" y="288"/>
                      </a:moveTo>
                      <a:lnTo>
                        <a:pt x="192" y="288"/>
                      </a:lnTo>
                      <a:lnTo>
                        <a:pt x="48" y="0"/>
                      </a:lnTo>
                      <a:lnTo>
                        <a:pt x="0" y="288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Freeform 155"/>
                <p:cNvSpPr/>
                <p:nvPr/>
              </p:nvSpPr>
              <p:spPr>
                <a:xfrm flipV="1" rot="418200">
                  <a:off x="5771160" y="4155840"/>
                  <a:ext cx="15480" cy="18720"/>
                </a:xfrm>
                <a:custGeom>
                  <a:avLst/>
                  <a:gdLst>
                    <a:gd name="textAreaLeft" fmla="*/ 0 w 15480"/>
                    <a:gd name="textAreaRight" fmla="*/ 15840 w 15480"/>
                    <a:gd name="textAreaTop" fmla="*/ 360 h 18720"/>
                    <a:gd name="textAreaBottom" fmla="*/ 19440 h 18720"/>
                  </a:gdLst>
                  <a:ahLst/>
                  <a:rect l="textAreaLeft" t="textAreaTop" r="textAreaRight" b="textAreaBottom"/>
                  <a:pathLst>
                    <a:path w="192" h="288">
                      <a:moveTo>
                        <a:pt x="0" y="288"/>
                      </a:moveTo>
                      <a:lnTo>
                        <a:pt x="192" y="288"/>
                      </a:lnTo>
                      <a:lnTo>
                        <a:pt x="48" y="0"/>
                      </a:lnTo>
                      <a:lnTo>
                        <a:pt x="0" y="288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Freeform 156"/>
                <p:cNvSpPr/>
                <p:nvPr/>
              </p:nvSpPr>
              <p:spPr>
                <a:xfrm flipV="1" rot="418200">
                  <a:off x="5751000" y="4191120"/>
                  <a:ext cx="15480" cy="18720"/>
                </a:xfrm>
                <a:custGeom>
                  <a:avLst/>
                  <a:gdLst>
                    <a:gd name="textAreaLeft" fmla="*/ 0 w 15480"/>
                    <a:gd name="textAreaRight" fmla="*/ 15840 w 15480"/>
                    <a:gd name="textAreaTop" fmla="*/ 360 h 18720"/>
                    <a:gd name="textAreaBottom" fmla="*/ 19440 h 18720"/>
                  </a:gdLst>
                  <a:ahLst/>
                  <a:rect l="textAreaLeft" t="textAreaTop" r="textAreaRight" b="textAreaBottom"/>
                  <a:pathLst>
                    <a:path w="192" h="288">
                      <a:moveTo>
                        <a:pt x="0" y="288"/>
                      </a:moveTo>
                      <a:lnTo>
                        <a:pt x="192" y="288"/>
                      </a:lnTo>
                      <a:lnTo>
                        <a:pt x="48" y="0"/>
                      </a:lnTo>
                      <a:lnTo>
                        <a:pt x="0" y="288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Freeform 157"/>
                <p:cNvSpPr/>
                <p:nvPr/>
              </p:nvSpPr>
              <p:spPr>
                <a:xfrm flipV="1" rot="418200">
                  <a:off x="5733000" y="4207680"/>
                  <a:ext cx="15480" cy="18720"/>
                </a:xfrm>
                <a:custGeom>
                  <a:avLst/>
                  <a:gdLst>
                    <a:gd name="textAreaLeft" fmla="*/ 0 w 15480"/>
                    <a:gd name="textAreaRight" fmla="*/ 15840 w 15480"/>
                    <a:gd name="textAreaTop" fmla="*/ 360 h 18720"/>
                    <a:gd name="textAreaBottom" fmla="*/ 19440 h 18720"/>
                  </a:gdLst>
                  <a:ahLst/>
                  <a:rect l="textAreaLeft" t="textAreaTop" r="textAreaRight" b="textAreaBottom"/>
                  <a:pathLst>
                    <a:path w="192" h="288">
                      <a:moveTo>
                        <a:pt x="0" y="288"/>
                      </a:moveTo>
                      <a:lnTo>
                        <a:pt x="192" y="288"/>
                      </a:lnTo>
                      <a:lnTo>
                        <a:pt x="48" y="0"/>
                      </a:lnTo>
                      <a:lnTo>
                        <a:pt x="0" y="288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Freeform 158"/>
                <p:cNvSpPr/>
                <p:nvPr/>
              </p:nvSpPr>
              <p:spPr>
                <a:xfrm flipV="1" rot="418200">
                  <a:off x="5746320" y="4228560"/>
                  <a:ext cx="15480" cy="18720"/>
                </a:xfrm>
                <a:custGeom>
                  <a:avLst/>
                  <a:gdLst>
                    <a:gd name="textAreaLeft" fmla="*/ 0 w 15480"/>
                    <a:gd name="textAreaRight" fmla="*/ 15840 w 15480"/>
                    <a:gd name="textAreaTop" fmla="*/ 360 h 18720"/>
                    <a:gd name="textAreaBottom" fmla="*/ 19440 h 18720"/>
                  </a:gdLst>
                  <a:ahLst/>
                  <a:rect l="textAreaLeft" t="textAreaTop" r="textAreaRight" b="textAreaBottom"/>
                  <a:pathLst>
                    <a:path w="192" h="288">
                      <a:moveTo>
                        <a:pt x="0" y="288"/>
                      </a:moveTo>
                      <a:lnTo>
                        <a:pt x="192" y="288"/>
                      </a:lnTo>
                      <a:lnTo>
                        <a:pt x="48" y="0"/>
                      </a:lnTo>
                      <a:lnTo>
                        <a:pt x="0" y="288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Freeform 159"/>
                <p:cNvSpPr/>
                <p:nvPr/>
              </p:nvSpPr>
              <p:spPr>
                <a:xfrm flipV="1" rot="418200">
                  <a:off x="5775480" y="4251240"/>
                  <a:ext cx="15480" cy="18720"/>
                </a:xfrm>
                <a:custGeom>
                  <a:avLst/>
                  <a:gdLst>
                    <a:gd name="textAreaLeft" fmla="*/ 0 w 15480"/>
                    <a:gd name="textAreaRight" fmla="*/ 15840 w 15480"/>
                    <a:gd name="textAreaTop" fmla="*/ 360 h 18720"/>
                    <a:gd name="textAreaBottom" fmla="*/ 19440 h 18720"/>
                  </a:gdLst>
                  <a:ahLst/>
                  <a:rect l="textAreaLeft" t="textAreaTop" r="textAreaRight" b="textAreaBottom"/>
                  <a:pathLst>
                    <a:path w="192" h="288">
                      <a:moveTo>
                        <a:pt x="0" y="288"/>
                      </a:moveTo>
                      <a:lnTo>
                        <a:pt x="192" y="288"/>
                      </a:lnTo>
                      <a:lnTo>
                        <a:pt x="48" y="0"/>
                      </a:lnTo>
                      <a:lnTo>
                        <a:pt x="0" y="288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Freeform 160"/>
                <p:cNvSpPr/>
                <p:nvPr/>
              </p:nvSpPr>
              <p:spPr>
                <a:xfrm flipV="1" rot="418200">
                  <a:off x="5708880" y="4148280"/>
                  <a:ext cx="15480" cy="18720"/>
                </a:xfrm>
                <a:custGeom>
                  <a:avLst/>
                  <a:gdLst>
                    <a:gd name="textAreaLeft" fmla="*/ 0 w 15480"/>
                    <a:gd name="textAreaRight" fmla="*/ 15840 w 15480"/>
                    <a:gd name="textAreaTop" fmla="*/ 360 h 18720"/>
                    <a:gd name="textAreaBottom" fmla="*/ 19440 h 18720"/>
                  </a:gdLst>
                  <a:ahLst/>
                  <a:rect l="textAreaLeft" t="textAreaTop" r="textAreaRight" b="textAreaBottom"/>
                  <a:pathLst>
                    <a:path w="192" h="288">
                      <a:moveTo>
                        <a:pt x="0" y="288"/>
                      </a:moveTo>
                      <a:lnTo>
                        <a:pt x="192" y="288"/>
                      </a:lnTo>
                      <a:lnTo>
                        <a:pt x="48" y="0"/>
                      </a:lnTo>
                      <a:lnTo>
                        <a:pt x="0" y="288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Freeform 161"/>
                <p:cNvSpPr/>
                <p:nvPr/>
              </p:nvSpPr>
              <p:spPr>
                <a:xfrm flipV="1" rot="418200">
                  <a:off x="5722200" y="4168800"/>
                  <a:ext cx="15480" cy="18720"/>
                </a:xfrm>
                <a:custGeom>
                  <a:avLst/>
                  <a:gdLst>
                    <a:gd name="textAreaLeft" fmla="*/ 0 w 15480"/>
                    <a:gd name="textAreaRight" fmla="*/ 15840 w 15480"/>
                    <a:gd name="textAreaTop" fmla="*/ 360 h 18720"/>
                    <a:gd name="textAreaBottom" fmla="*/ 19440 h 18720"/>
                  </a:gdLst>
                  <a:ahLst/>
                  <a:rect l="textAreaLeft" t="textAreaTop" r="textAreaRight" b="textAreaBottom"/>
                  <a:pathLst>
                    <a:path w="192" h="288">
                      <a:moveTo>
                        <a:pt x="0" y="288"/>
                      </a:moveTo>
                      <a:lnTo>
                        <a:pt x="192" y="288"/>
                      </a:lnTo>
                      <a:lnTo>
                        <a:pt x="48" y="0"/>
                      </a:lnTo>
                      <a:lnTo>
                        <a:pt x="0" y="288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Freeform 162"/>
                <p:cNvSpPr/>
                <p:nvPr/>
              </p:nvSpPr>
              <p:spPr>
                <a:xfrm flipH="1" flipV="1" rot="418200">
                  <a:off x="5779440" y="4213440"/>
                  <a:ext cx="15480" cy="18720"/>
                </a:xfrm>
                <a:custGeom>
                  <a:avLst/>
                  <a:gdLst>
                    <a:gd name="textAreaLeft" fmla="*/ -360 w 15480"/>
                    <a:gd name="textAreaRight" fmla="*/ 15480 w 15480"/>
                    <a:gd name="textAreaTop" fmla="*/ 360 h 18720"/>
                    <a:gd name="textAreaBottom" fmla="*/ 19440 h 18720"/>
                  </a:gdLst>
                  <a:ahLst/>
                  <a:rect l="textAreaLeft" t="textAreaTop" r="textAreaRight" b="textAreaBottom"/>
                  <a:pathLst>
                    <a:path w="192" h="288">
                      <a:moveTo>
                        <a:pt x="0" y="288"/>
                      </a:moveTo>
                      <a:lnTo>
                        <a:pt x="192" y="288"/>
                      </a:lnTo>
                      <a:lnTo>
                        <a:pt x="48" y="0"/>
                      </a:lnTo>
                      <a:lnTo>
                        <a:pt x="0" y="288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Freeform 163"/>
                <p:cNvSpPr/>
                <p:nvPr/>
              </p:nvSpPr>
              <p:spPr>
                <a:xfrm flipH="1" flipV="1" rot="418200">
                  <a:off x="5810760" y="4217400"/>
                  <a:ext cx="15480" cy="18720"/>
                </a:xfrm>
                <a:custGeom>
                  <a:avLst/>
                  <a:gdLst>
                    <a:gd name="textAreaLeft" fmla="*/ -360 w 15480"/>
                    <a:gd name="textAreaRight" fmla="*/ 15480 w 15480"/>
                    <a:gd name="textAreaTop" fmla="*/ 360 h 18720"/>
                    <a:gd name="textAreaBottom" fmla="*/ 19440 h 18720"/>
                  </a:gdLst>
                  <a:ahLst/>
                  <a:rect l="textAreaLeft" t="textAreaTop" r="textAreaRight" b="textAreaBottom"/>
                  <a:pathLst>
                    <a:path w="192" h="288">
                      <a:moveTo>
                        <a:pt x="0" y="288"/>
                      </a:moveTo>
                      <a:lnTo>
                        <a:pt x="192" y="288"/>
                      </a:lnTo>
                      <a:lnTo>
                        <a:pt x="48" y="0"/>
                      </a:lnTo>
                      <a:lnTo>
                        <a:pt x="0" y="288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Freeform 164"/>
                <p:cNvSpPr/>
                <p:nvPr/>
              </p:nvSpPr>
              <p:spPr>
                <a:xfrm flipH="1" flipV="1" rot="418200">
                  <a:off x="5799240" y="4178160"/>
                  <a:ext cx="15480" cy="18720"/>
                </a:xfrm>
                <a:custGeom>
                  <a:avLst/>
                  <a:gdLst>
                    <a:gd name="textAreaLeft" fmla="*/ -360 w 15480"/>
                    <a:gd name="textAreaRight" fmla="*/ 15480 w 15480"/>
                    <a:gd name="textAreaTop" fmla="*/ 360 h 18720"/>
                    <a:gd name="textAreaBottom" fmla="*/ 19440 h 18720"/>
                  </a:gdLst>
                  <a:ahLst/>
                  <a:rect l="textAreaLeft" t="textAreaTop" r="textAreaRight" b="textAreaBottom"/>
                  <a:pathLst>
                    <a:path w="192" h="288">
                      <a:moveTo>
                        <a:pt x="0" y="288"/>
                      </a:moveTo>
                      <a:lnTo>
                        <a:pt x="192" y="288"/>
                      </a:lnTo>
                      <a:lnTo>
                        <a:pt x="48" y="0"/>
                      </a:lnTo>
                      <a:lnTo>
                        <a:pt x="0" y="288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Freeform 165"/>
                <p:cNvSpPr/>
                <p:nvPr/>
              </p:nvSpPr>
              <p:spPr>
                <a:xfrm flipH="1" flipV="1" rot="418200">
                  <a:off x="5833080" y="4163400"/>
                  <a:ext cx="15480" cy="18720"/>
                </a:xfrm>
                <a:custGeom>
                  <a:avLst/>
                  <a:gdLst>
                    <a:gd name="textAreaLeft" fmla="*/ -360 w 15480"/>
                    <a:gd name="textAreaRight" fmla="*/ 15480 w 15480"/>
                    <a:gd name="textAreaTop" fmla="*/ 360 h 18720"/>
                    <a:gd name="textAreaBottom" fmla="*/ 19440 h 18720"/>
                  </a:gdLst>
                  <a:ahLst/>
                  <a:rect l="textAreaLeft" t="textAreaTop" r="textAreaRight" b="textAreaBottom"/>
                  <a:pathLst>
                    <a:path w="192" h="288">
                      <a:moveTo>
                        <a:pt x="0" y="288"/>
                      </a:moveTo>
                      <a:lnTo>
                        <a:pt x="192" y="288"/>
                      </a:lnTo>
                      <a:lnTo>
                        <a:pt x="48" y="0"/>
                      </a:lnTo>
                      <a:lnTo>
                        <a:pt x="0" y="288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Freeform 166"/>
                <p:cNvSpPr/>
                <p:nvPr/>
              </p:nvSpPr>
              <p:spPr>
                <a:xfrm flipH="1" flipV="1" rot="418200">
                  <a:off x="5837760" y="4125960"/>
                  <a:ext cx="15480" cy="18720"/>
                </a:xfrm>
                <a:custGeom>
                  <a:avLst/>
                  <a:gdLst>
                    <a:gd name="textAreaLeft" fmla="*/ -360 w 15480"/>
                    <a:gd name="textAreaRight" fmla="*/ 15480 w 15480"/>
                    <a:gd name="textAreaTop" fmla="*/ 360 h 18720"/>
                    <a:gd name="textAreaBottom" fmla="*/ 19440 h 18720"/>
                  </a:gdLst>
                  <a:ahLst/>
                  <a:rect l="textAreaLeft" t="textAreaTop" r="textAreaRight" b="textAreaBottom"/>
                  <a:pathLst>
                    <a:path w="192" h="288">
                      <a:moveTo>
                        <a:pt x="0" y="288"/>
                      </a:moveTo>
                      <a:lnTo>
                        <a:pt x="192" y="288"/>
                      </a:lnTo>
                      <a:lnTo>
                        <a:pt x="48" y="0"/>
                      </a:lnTo>
                      <a:lnTo>
                        <a:pt x="0" y="288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plant"/>
                <p:cNvSpPr/>
                <p:nvPr/>
              </p:nvSpPr>
              <p:spPr>
                <a:xfrm rot="418200">
                  <a:off x="5735880" y="4026240"/>
                  <a:ext cx="123840" cy="91440"/>
                </a:xfrm>
                <a:custGeom>
                  <a:avLst/>
                  <a:gdLst>
                    <a:gd name="textAreaLeft" fmla="*/ 40680 w 123840"/>
                    <a:gd name="textAreaRight" fmla="*/ 83520 w 123840"/>
                    <a:gd name="textAreaTop" fmla="*/ 42480 h 91440"/>
                    <a:gd name="textAreaBottom" fmla="*/ 57600 h 914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9368" y="9002"/>
                      </a:moveTo>
                      <a:lnTo>
                        <a:pt x="9254" y="8422"/>
                      </a:lnTo>
                      <a:lnTo>
                        <a:pt x="9139" y="7935"/>
                      </a:lnTo>
                      <a:lnTo>
                        <a:pt x="8819" y="7355"/>
                      </a:lnTo>
                      <a:lnTo>
                        <a:pt x="8475" y="6728"/>
                      </a:lnTo>
                      <a:lnTo>
                        <a:pt x="8040" y="6287"/>
                      </a:lnTo>
                      <a:lnTo>
                        <a:pt x="7421" y="5707"/>
                      </a:lnTo>
                      <a:lnTo>
                        <a:pt x="6574" y="5429"/>
                      </a:lnTo>
                      <a:lnTo>
                        <a:pt x="5452" y="5313"/>
                      </a:lnTo>
                      <a:lnTo>
                        <a:pt x="4856" y="5220"/>
                      </a:lnTo>
                      <a:lnTo>
                        <a:pt x="4169" y="5220"/>
                      </a:lnTo>
                      <a:lnTo>
                        <a:pt x="3665" y="5104"/>
                      </a:lnTo>
                      <a:lnTo>
                        <a:pt x="3001" y="4872"/>
                      </a:lnTo>
                      <a:lnTo>
                        <a:pt x="2497" y="4756"/>
                      </a:lnTo>
                      <a:lnTo>
                        <a:pt x="2062" y="4408"/>
                      </a:lnTo>
                      <a:lnTo>
                        <a:pt x="1603" y="4083"/>
                      </a:lnTo>
                      <a:lnTo>
                        <a:pt x="1283" y="3689"/>
                      </a:lnTo>
                      <a:lnTo>
                        <a:pt x="1283" y="4315"/>
                      </a:lnTo>
                      <a:lnTo>
                        <a:pt x="1489" y="5104"/>
                      </a:lnTo>
                      <a:lnTo>
                        <a:pt x="1832" y="6055"/>
                      </a:lnTo>
                      <a:lnTo>
                        <a:pt x="2382" y="6914"/>
                      </a:lnTo>
                      <a:lnTo>
                        <a:pt x="2680" y="7471"/>
                      </a:lnTo>
                      <a:lnTo>
                        <a:pt x="3115" y="7935"/>
                      </a:lnTo>
                      <a:lnTo>
                        <a:pt x="3573" y="8213"/>
                      </a:lnTo>
                      <a:lnTo>
                        <a:pt x="4077" y="8654"/>
                      </a:lnTo>
                      <a:lnTo>
                        <a:pt x="4627" y="9002"/>
                      </a:lnTo>
                      <a:lnTo>
                        <a:pt x="5245" y="9234"/>
                      </a:lnTo>
                      <a:lnTo>
                        <a:pt x="6024" y="9443"/>
                      </a:lnTo>
                      <a:lnTo>
                        <a:pt x="6757" y="9628"/>
                      </a:lnTo>
                      <a:lnTo>
                        <a:pt x="5177" y="10069"/>
                      </a:lnTo>
                      <a:lnTo>
                        <a:pt x="3963" y="10649"/>
                      </a:lnTo>
                      <a:lnTo>
                        <a:pt x="3344" y="11044"/>
                      </a:lnTo>
                      <a:lnTo>
                        <a:pt x="2886" y="11600"/>
                      </a:lnTo>
                      <a:lnTo>
                        <a:pt x="2497" y="12041"/>
                      </a:lnTo>
                      <a:lnTo>
                        <a:pt x="1947" y="12343"/>
                      </a:lnTo>
                      <a:lnTo>
                        <a:pt x="1168" y="12668"/>
                      </a:lnTo>
                      <a:lnTo>
                        <a:pt x="0" y="12900"/>
                      </a:lnTo>
                      <a:lnTo>
                        <a:pt x="435" y="13248"/>
                      </a:lnTo>
                      <a:lnTo>
                        <a:pt x="779" y="13456"/>
                      </a:lnTo>
                      <a:lnTo>
                        <a:pt x="1283" y="13642"/>
                      </a:lnTo>
                      <a:lnTo>
                        <a:pt x="1718" y="13758"/>
                      </a:lnTo>
                      <a:lnTo>
                        <a:pt x="2680" y="13851"/>
                      </a:lnTo>
                      <a:lnTo>
                        <a:pt x="3573" y="13758"/>
                      </a:lnTo>
                      <a:lnTo>
                        <a:pt x="4512" y="13526"/>
                      </a:lnTo>
                      <a:lnTo>
                        <a:pt x="5360" y="13248"/>
                      </a:lnTo>
                      <a:lnTo>
                        <a:pt x="6139" y="12900"/>
                      </a:lnTo>
                      <a:lnTo>
                        <a:pt x="6757" y="12552"/>
                      </a:lnTo>
                      <a:lnTo>
                        <a:pt x="6459" y="13132"/>
                      </a:lnTo>
                      <a:lnTo>
                        <a:pt x="6139" y="13642"/>
                      </a:lnTo>
                      <a:lnTo>
                        <a:pt x="5910" y="14199"/>
                      </a:lnTo>
                      <a:lnTo>
                        <a:pt x="5681" y="14663"/>
                      </a:lnTo>
                      <a:lnTo>
                        <a:pt x="5681" y="15150"/>
                      </a:lnTo>
                      <a:lnTo>
                        <a:pt x="5681" y="15730"/>
                      </a:lnTo>
                      <a:lnTo>
                        <a:pt x="5681" y="16241"/>
                      </a:lnTo>
                      <a:lnTo>
                        <a:pt x="5795" y="16913"/>
                      </a:lnTo>
                      <a:lnTo>
                        <a:pt x="5910" y="17586"/>
                      </a:lnTo>
                      <a:lnTo>
                        <a:pt x="5910" y="18213"/>
                      </a:lnTo>
                      <a:lnTo>
                        <a:pt x="5795" y="18885"/>
                      </a:lnTo>
                      <a:lnTo>
                        <a:pt x="5566" y="19396"/>
                      </a:lnTo>
                      <a:lnTo>
                        <a:pt x="5245" y="19976"/>
                      </a:lnTo>
                      <a:lnTo>
                        <a:pt x="4971" y="20370"/>
                      </a:lnTo>
                      <a:lnTo>
                        <a:pt x="4512" y="20811"/>
                      </a:lnTo>
                      <a:lnTo>
                        <a:pt x="4077" y="21043"/>
                      </a:lnTo>
                      <a:lnTo>
                        <a:pt x="5177" y="20927"/>
                      </a:lnTo>
                      <a:lnTo>
                        <a:pt x="6253" y="20486"/>
                      </a:lnTo>
                      <a:lnTo>
                        <a:pt x="7421" y="19976"/>
                      </a:lnTo>
                      <a:lnTo>
                        <a:pt x="8361" y="19187"/>
                      </a:lnTo>
                      <a:lnTo>
                        <a:pt x="8819" y="18769"/>
                      </a:lnTo>
                      <a:lnTo>
                        <a:pt x="9139" y="18213"/>
                      </a:lnTo>
                      <a:lnTo>
                        <a:pt x="9437" y="17772"/>
                      </a:lnTo>
                      <a:lnTo>
                        <a:pt x="9643" y="17261"/>
                      </a:lnTo>
                      <a:lnTo>
                        <a:pt x="9872" y="16681"/>
                      </a:lnTo>
                      <a:lnTo>
                        <a:pt x="9872" y="16171"/>
                      </a:lnTo>
                      <a:lnTo>
                        <a:pt x="9872" y="15614"/>
                      </a:lnTo>
                      <a:lnTo>
                        <a:pt x="9758" y="15057"/>
                      </a:lnTo>
                      <a:lnTo>
                        <a:pt x="10216" y="15498"/>
                      </a:lnTo>
                      <a:lnTo>
                        <a:pt x="10537" y="16241"/>
                      </a:lnTo>
                      <a:lnTo>
                        <a:pt x="10834" y="17145"/>
                      </a:lnTo>
                      <a:lnTo>
                        <a:pt x="11041" y="18213"/>
                      </a:lnTo>
                      <a:lnTo>
                        <a:pt x="11155" y="19187"/>
                      </a:lnTo>
                      <a:lnTo>
                        <a:pt x="11155" y="20185"/>
                      </a:lnTo>
                      <a:lnTo>
                        <a:pt x="11155" y="20579"/>
                      </a:lnTo>
                      <a:lnTo>
                        <a:pt x="11041" y="21043"/>
                      </a:lnTo>
                      <a:lnTo>
                        <a:pt x="10926" y="21391"/>
                      </a:lnTo>
                      <a:lnTo>
                        <a:pt x="10766" y="21600"/>
                      </a:lnTo>
                      <a:lnTo>
                        <a:pt x="11499" y="21484"/>
                      </a:lnTo>
                      <a:lnTo>
                        <a:pt x="12323" y="21043"/>
                      </a:lnTo>
                      <a:lnTo>
                        <a:pt x="13102" y="20370"/>
                      </a:lnTo>
                      <a:lnTo>
                        <a:pt x="13606" y="19628"/>
                      </a:lnTo>
                      <a:lnTo>
                        <a:pt x="13950" y="19071"/>
                      </a:lnTo>
                      <a:lnTo>
                        <a:pt x="14064" y="18677"/>
                      </a:lnTo>
                      <a:lnTo>
                        <a:pt x="14179" y="18097"/>
                      </a:lnTo>
                      <a:lnTo>
                        <a:pt x="14293" y="17586"/>
                      </a:lnTo>
                      <a:lnTo>
                        <a:pt x="14179" y="16913"/>
                      </a:lnTo>
                      <a:lnTo>
                        <a:pt x="14064" y="16241"/>
                      </a:lnTo>
                      <a:lnTo>
                        <a:pt x="13835" y="15614"/>
                      </a:lnTo>
                      <a:lnTo>
                        <a:pt x="13560" y="14872"/>
                      </a:lnTo>
                      <a:lnTo>
                        <a:pt x="13950" y="14941"/>
                      </a:lnTo>
                      <a:lnTo>
                        <a:pt x="14408" y="15150"/>
                      </a:lnTo>
                      <a:lnTo>
                        <a:pt x="14843" y="15266"/>
                      </a:lnTo>
                      <a:lnTo>
                        <a:pt x="15232" y="15614"/>
                      </a:lnTo>
                      <a:lnTo>
                        <a:pt x="15576" y="15846"/>
                      </a:lnTo>
                      <a:lnTo>
                        <a:pt x="15897" y="16171"/>
                      </a:lnTo>
                      <a:lnTo>
                        <a:pt x="16126" y="16473"/>
                      </a:lnTo>
                      <a:lnTo>
                        <a:pt x="16240" y="16913"/>
                      </a:lnTo>
                      <a:lnTo>
                        <a:pt x="16515" y="17261"/>
                      </a:lnTo>
                      <a:lnTo>
                        <a:pt x="17088" y="17586"/>
                      </a:lnTo>
                      <a:lnTo>
                        <a:pt x="17798" y="17865"/>
                      </a:lnTo>
                      <a:lnTo>
                        <a:pt x="18576" y="18097"/>
                      </a:lnTo>
                      <a:lnTo>
                        <a:pt x="19424" y="18213"/>
                      </a:lnTo>
                      <a:lnTo>
                        <a:pt x="20317" y="18213"/>
                      </a:lnTo>
                      <a:lnTo>
                        <a:pt x="21050" y="18213"/>
                      </a:lnTo>
                      <a:lnTo>
                        <a:pt x="21600" y="17865"/>
                      </a:lnTo>
                      <a:lnTo>
                        <a:pt x="21165" y="17656"/>
                      </a:lnTo>
                      <a:lnTo>
                        <a:pt x="20592" y="17470"/>
                      </a:lnTo>
                      <a:lnTo>
                        <a:pt x="20088" y="17029"/>
                      </a:lnTo>
                      <a:lnTo>
                        <a:pt x="19653" y="16681"/>
                      </a:lnTo>
                      <a:lnTo>
                        <a:pt x="19195" y="16241"/>
                      </a:lnTo>
                      <a:lnTo>
                        <a:pt x="18920" y="15962"/>
                      </a:lnTo>
                      <a:lnTo>
                        <a:pt x="18576" y="15498"/>
                      </a:lnTo>
                      <a:lnTo>
                        <a:pt x="18576" y="15057"/>
                      </a:lnTo>
                      <a:lnTo>
                        <a:pt x="18485" y="14756"/>
                      </a:lnTo>
                      <a:lnTo>
                        <a:pt x="18256" y="14199"/>
                      </a:lnTo>
                      <a:lnTo>
                        <a:pt x="17912" y="13526"/>
                      </a:lnTo>
                      <a:lnTo>
                        <a:pt x="17523" y="13016"/>
                      </a:lnTo>
                      <a:lnTo>
                        <a:pt x="16973" y="12436"/>
                      </a:lnTo>
                      <a:lnTo>
                        <a:pt x="16355" y="12041"/>
                      </a:lnTo>
                      <a:lnTo>
                        <a:pt x="16011" y="11832"/>
                      </a:lnTo>
                      <a:lnTo>
                        <a:pt x="15690" y="11716"/>
                      </a:lnTo>
                      <a:lnTo>
                        <a:pt x="15232" y="11716"/>
                      </a:lnTo>
                      <a:lnTo>
                        <a:pt x="14843" y="11716"/>
                      </a:lnTo>
                      <a:lnTo>
                        <a:pt x="15461" y="11252"/>
                      </a:lnTo>
                      <a:lnTo>
                        <a:pt x="16126" y="10858"/>
                      </a:lnTo>
                      <a:lnTo>
                        <a:pt x="16973" y="10649"/>
                      </a:lnTo>
                      <a:lnTo>
                        <a:pt x="17798" y="10417"/>
                      </a:lnTo>
                      <a:lnTo>
                        <a:pt x="18806" y="10301"/>
                      </a:lnTo>
                      <a:lnTo>
                        <a:pt x="19653" y="10301"/>
                      </a:lnTo>
                      <a:lnTo>
                        <a:pt x="20478" y="10417"/>
                      </a:lnTo>
                      <a:lnTo>
                        <a:pt x="21256" y="10533"/>
                      </a:lnTo>
                      <a:lnTo>
                        <a:pt x="20707" y="9837"/>
                      </a:lnTo>
                      <a:lnTo>
                        <a:pt x="19859" y="9234"/>
                      </a:lnTo>
                      <a:lnTo>
                        <a:pt x="18806" y="8538"/>
                      </a:lnTo>
                      <a:lnTo>
                        <a:pt x="17637" y="8144"/>
                      </a:lnTo>
                      <a:lnTo>
                        <a:pt x="16973" y="8027"/>
                      </a:lnTo>
                      <a:lnTo>
                        <a:pt x="16355" y="7935"/>
                      </a:lnTo>
                      <a:lnTo>
                        <a:pt x="15805" y="7935"/>
                      </a:lnTo>
                      <a:lnTo>
                        <a:pt x="15118" y="8027"/>
                      </a:lnTo>
                      <a:lnTo>
                        <a:pt x="14614" y="8144"/>
                      </a:lnTo>
                      <a:lnTo>
                        <a:pt x="14064" y="8422"/>
                      </a:lnTo>
                      <a:lnTo>
                        <a:pt x="13606" y="8886"/>
                      </a:lnTo>
                      <a:lnTo>
                        <a:pt x="13217" y="9327"/>
                      </a:lnTo>
                      <a:lnTo>
                        <a:pt x="13606" y="8538"/>
                      </a:lnTo>
                      <a:lnTo>
                        <a:pt x="13950" y="7935"/>
                      </a:lnTo>
                      <a:lnTo>
                        <a:pt x="14293" y="7123"/>
                      </a:lnTo>
                      <a:lnTo>
                        <a:pt x="14499" y="6519"/>
                      </a:lnTo>
                      <a:lnTo>
                        <a:pt x="14614" y="5823"/>
                      </a:lnTo>
                      <a:lnTo>
                        <a:pt x="14614" y="5220"/>
                      </a:lnTo>
                      <a:lnTo>
                        <a:pt x="14408" y="4524"/>
                      </a:lnTo>
                      <a:lnTo>
                        <a:pt x="14064" y="3898"/>
                      </a:lnTo>
                      <a:lnTo>
                        <a:pt x="13606" y="3225"/>
                      </a:lnTo>
                      <a:lnTo>
                        <a:pt x="13331" y="2598"/>
                      </a:lnTo>
                      <a:lnTo>
                        <a:pt x="13102" y="2042"/>
                      </a:lnTo>
                      <a:lnTo>
                        <a:pt x="12896" y="1485"/>
                      </a:lnTo>
                      <a:lnTo>
                        <a:pt x="12781" y="1090"/>
                      </a:lnTo>
                      <a:lnTo>
                        <a:pt x="12667" y="626"/>
                      </a:lnTo>
                      <a:lnTo>
                        <a:pt x="12667" y="278"/>
                      </a:lnTo>
                      <a:lnTo>
                        <a:pt x="12667" y="0"/>
                      </a:lnTo>
                      <a:lnTo>
                        <a:pt x="12163" y="394"/>
                      </a:lnTo>
                      <a:lnTo>
                        <a:pt x="11728" y="974"/>
                      </a:lnTo>
                      <a:lnTo>
                        <a:pt x="11155" y="1601"/>
                      </a:lnTo>
                      <a:lnTo>
                        <a:pt x="10766" y="2390"/>
                      </a:lnTo>
                      <a:lnTo>
                        <a:pt x="10330" y="3109"/>
                      </a:lnTo>
                      <a:lnTo>
                        <a:pt x="10101" y="3898"/>
                      </a:lnTo>
                      <a:lnTo>
                        <a:pt x="9987" y="4524"/>
                      </a:lnTo>
                      <a:lnTo>
                        <a:pt x="10101" y="5220"/>
                      </a:lnTo>
                      <a:lnTo>
                        <a:pt x="10216" y="5823"/>
                      </a:lnTo>
                      <a:lnTo>
                        <a:pt x="10330" y="6403"/>
                      </a:lnTo>
                      <a:lnTo>
                        <a:pt x="10330" y="6914"/>
                      </a:lnTo>
                      <a:lnTo>
                        <a:pt x="10216" y="7471"/>
                      </a:lnTo>
                      <a:lnTo>
                        <a:pt x="10101" y="7935"/>
                      </a:lnTo>
                      <a:lnTo>
                        <a:pt x="9872" y="8329"/>
                      </a:lnTo>
                      <a:lnTo>
                        <a:pt x="9643" y="8654"/>
                      </a:lnTo>
                      <a:lnTo>
                        <a:pt x="9368" y="9002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3" name="Group 168"/>
              <p:cNvGrpSpPr/>
              <p:nvPr/>
            </p:nvGrpSpPr>
            <p:grpSpPr>
              <a:xfrm>
                <a:off x="5542200" y="3958560"/>
                <a:ext cx="234000" cy="286560"/>
                <a:chOff x="5542200" y="3958560"/>
                <a:chExt cx="234000" cy="286560"/>
              </a:xfrm>
            </p:grpSpPr>
            <p:grpSp>
              <p:nvGrpSpPr>
                <p:cNvPr id="284" name="Group 169"/>
                <p:cNvGrpSpPr/>
                <p:nvPr/>
              </p:nvGrpSpPr>
              <p:grpSpPr>
                <a:xfrm>
                  <a:off x="5542200" y="4012920"/>
                  <a:ext cx="234000" cy="232200"/>
                  <a:chOff x="5542200" y="4012920"/>
                  <a:chExt cx="234000" cy="232200"/>
                </a:xfrm>
              </p:grpSpPr>
              <p:sp>
                <p:nvSpPr>
                  <p:cNvPr id="285" name="Freeform 170"/>
                  <p:cNvSpPr/>
                  <p:nvPr/>
                </p:nvSpPr>
                <p:spPr>
                  <a:xfrm rot="11068800">
                    <a:off x="5670720" y="4025520"/>
                    <a:ext cx="96840" cy="216000"/>
                  </a:xfrm>
                  <a:custGeom>
                    <a:avLst/>
                    <a:gdLst>
                      <a:gd name="textAreaLeft" fmla="*/ 0 w 96840"/>
                      <a:gd name="textAreaRight" fmla="*/ 97200 w 96840"/>
                      <a:gd name="textAreaTop" fmla="*/ 0 h 216000"/>
                      <a:gd name="textAreaBottom" fmla="*/ 216360 h 216000"/>
                    </a:gdLst>
                    <a:ahLst/>
                    <a:rect l="textAreaLeft" t="textAreaTop" r="textAreaRight" b="textAreaBottom"/>
                    <a:pathLst>
                      <a:path w="296" h="552">
                        <a:moveTo>
                          <a:pt x="296" y="528"/>
                        </a:moveTo>
                        <a:cubicBezTo>
                          <a:pt x="224" y="540"/>
                          <a:pt x="152" y="552"/>
                          <a:pt x="104" y="528"/>
                        </a:cubicBezTo>
                        <a:cubicBezTo>
                          <a:pt x="56" y="504"/>
                          <a:pt x="16" y="440"/>
                          <a:pt x="8" y="384"/>
                        </a:cubicBezTo>
                        <a:cubicBezTo>
                          <a:pt x="0" y="328"/>
                          <a:pt x="24" y="248"/>
                          <a:pt x="56" y="192"/>
                        </a:cubicBezTo>
                        <a:cubicBezTo>
                          <a:pt x="88" y="136"/>
                          <a:pt x="160" y="80"/>
                          <a:pt x="200" y="48"/>
                        </a:cubicBezTo>
                        <a:cubicBezTo>
                          <a:pt x="240" y="16"/>
                          <a:pt x="268" y="8"/>
                          <a:pt x="296" y="0"/>
                        </a:cubicBezTo>
                      </a:path>
                    </a:pathLst>
                  </a:custGeom>
                  <a:solidFill>
                    <a:srgbClr val="ff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Freeform 171"/>
                  <p:cNvSpPr/>
                  <p:nvPr/>
                </p:nvSpPr>
                <p:spPr>
                  <a:xfrm flipH="1" rot="11068200">
                    <a:off x="5550480" y="4017240"/>
                    <a:ext cx="123120" cy="216000"/>
                  </a:xfrm>
                  <a:custGeom>
                    <a:avLst/>
                    <a:gdLst>
                      <a:gd name="textAreaLeft" fmla="*/ 360 w 123120"/>
                      <a:gd name="textAreaRight" fmla="*/ 123840 w 123120"/>
                      <a:gd name="textAreaTop" fmla="*/ 0 h 216000"/>
                      <a:gd name="textAreaBottom" fmla="*/ 216360 h 216000"/>
                    </a:gdLst>
                    <a:ahLst/>
                    <a:rect l="textAreaLeft" t="textAreaTop" r="textAreaRight" b="textAreaBottom"/>
                    <a:pathLst>
                      <a:path w="296" h="552">
                        <a:moveTo>
                          <a:pt x="296" y="528"/>
                        </a:moveTo>
                        <a:cubicBezTo>
                          <a:pt x="224" y="540"/>
                          <a:pt x="152" y="552"/>
                          <a:pt x="104" y="528"/>
                        </a:cubicBezTo>
                        <a:cubicBezTo>
                          <a:pt x="56" y="504"/>
                          <a:pt x="16" y="440"/>
                          <a:pt x="8" y="384"/>
                        </a:cubicBezTo>
                        <a:cubicBezTo>
                          <a:pt x="0" y="328"/>
                          <a:pt x="24" y="248"/>
                          <a:pt x="56" y="192"/>
                        </a:cubicBezTo>
                        <a:cubicBezTo>
                          <a:pt x="88" y="136"/>
                          <a:pt x="160" y="80"/>
                          <a:pt x="200" y="48"/>
                        </a:cubicBezTo>
                        <a:cubicBezTo>
                          <a:pt x="240" y="16"/>
                          <a:pt x="268" y="8"/>
                          <a:pt x="296" y="0"/>
                        </a:cubicBezTo>
                      </a:path>
                    </a:pathLst>
                  </a:custGeom>
                  <a:solidFill>
                    <a:srgbClr val="ff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7" name="Freeform 172"/>
                <p:cNvSpPr/>
                <p:nvPr/>
              </p:nvSpPr>
              <p:spPr>
                <a:xfrm flipV="1" rot="418200">
                  <a:off x="5680440" y="4080240"/>
                  <a:ext cx="15480" cy="18720"/>
                </a:xfrm>
                <a:custGeom>
                  <a:avLst/>
                  <a:gdLst>
                    <a:gd name="textAreaLeft" fmla="*/ 0 w 15480"/>
                    <a:gd name="textAreaRight" fmla="*/ 15840 w 15480"/>
                    <a:gd name="textAreaTop" fmla="*/ 360 h 18720"/>
                    <a:gd name="textAreaBottom" fmla="*/ 19440 h 18720"/>
                  </a:gdLst>
                  <a:ahLst/>
                  <a:rect l="textAreaLeft" t="textAreaTop" r="textAreaRight" b="textAreaBottom"/>
                  <a:pathLst>
                    <a:path w="192" h="288">
                      <a:moveTo>
                        <a:pt x="0" y="288"/>
                      </a:moveTo>
                      <a:lnTo>
                        <a:pt x="192" y="288"/>
                      </a:lnTo>
                      <a:lnTo>
                        <a:pt x="48" y="0"/>
                      </a:lnTo>
                      <a:lnTo>
                        <a:pt x="0" y="288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Freeform 173"/>
                <p:cNvSpPr/>
                <p:nvPr/>
              </p:nvSpPr>
              <p:spPr>
                <a:xfrm flipV="1" rot="418200">
                  <a:off x="5604840" y="4051800"/>
                  <a:ext cx="15480" cy="18720"/>
                </a:xfrm>
                <a:custGeom>
                  <a:avLst/>
                  <a:gdLst>
                    <a:gd name="textAreaLeft" fmla="*/ 0 w 15480"/>
                    <a:gd name="textAreaRight" fmla="*/ 15840 w 15480"/>
                    <a:gd name="textAreaTop" fmla="*/ 360 h 18720"/>
                    <a:gd name="textAreaBottom" fmla="*/ 19440 h 18720"/>
                  </a:gdLst>
                  <a:ahLst/>
                  <a:rect l="textAreaLeft" t="textAreaTop" r="textAreaRight" b="textAreaBottom"/>
                  <a:pathLst>
                    <a:path w="192" h="288">
                      <a:moveTo>
                        <a:pt x="0" y="288"/>
                      </a:moveTo>
                      <a:lnTo>
                        <a:pt x="192" y="288"/>
                      </a:lnTo>
                      <a:lnTo>
                        <a:pt x="48" y="0"/>
                      </a:lnTo>
                      <a:lnTo>
                        <a:pt x="0" y="288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Freeform 174"/>
                <p:cNvSpPr/>
                <p:nvPr/>
              </p:nvSpPr>
              <p:spPr>
                <a:xfrm flipV="1" rot="418200">
                  <a:off x="5617800" y="4072680"/>
                  <a:ext cx="15480" cy="18720"/>
                </a:xfrm>
                <a:custGeom>
                  <a:avLst/>
                  <a:gdLst>
                    <a:gd name="textAreaLeft" fmla="*/ 0 w 15480"/>
                    <a:gd name="textAreaRight" fmla="*/ 15840 w 15480"/>
                    <a:gd name="textAreaTop" fmla="*/ 360 h 18720"/>
                    <a:gd name="textAreaBottom" fmla="*/ 19440 h 18720"/>
                  </a:gdLst>
                  <a:ahLst/>
                  <a:rect l="textAreaLeft" t="textAreaTop" r="textAreaRight" b="textAreaBottom"/>
                  <a:pathLst>
                    <a:path w="192" h="288">
                      <a:moveTo>
                        <a:pt x="0" y="288"/>
                      </a:moveTo>
                      <a:lnTo>
                        <a:pt x="192" y="288"/>
                      </a:lnTo>
                      <a:lnTo>
                        <a:pt x="48" y="0"/>
                      </a:lnTo>
                      <a:lnTo>
                        <a:pt x="0" y="288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Freeform 175"/>
                <p:cNvSpPr/>
                <p:nvPr/>
              </p:nvSpPr>
              <p:spPr>
                <a:xfrm flipV="1" rot="418200">
                  <a:off x="5646960" y="4095000"/>
                  <a:ext cx="15480" cy="18720"/>
                </a:xfrm>
                <a:custGeom>
                  <a:avLst/>
                  <a:gdLst>
                    <a:gd name="textAreaLeft" fmla="*/ 0 w 15480"/>
                    <a:gd name="textAreaRight" fmla="*/ 15840 w 15480"/>
                    <a:gd name="textAreaTop" fmla="*/ 360 h 18720"/>
                    <a:gd name="textAreaBottom" fmla="*/ 19440 h 18720"/>
                  </a:gdLst>
                  <a:ahLst/>
                  <a:rect l="textAreaLeft" t="textAreaTop" r="textAreaRight" b="textAreaBottom"/>
                  <a:pathLst>
                    <a:path w="192" h="288">
                      <a:moveTo>
                        <a:pt x="0" y="288"/>
                      </a:moveTo>
                      <a:lnTo>
                        <a:pt x="192" y="288"/>
                      </a:lnTo>
                      <a:lnTo>
                        <a:pt x="48" y="0"/>
                      </a:lnTo>
                      <a:lnTo>
                        <a:pt x="0" y="288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Freeform 176"/>
                <p:cNvSpPr/>
                <p:nvPr/>
              </p:nvSpPr>
              <p:spPr>
                <a:xfrm flipV="1" rot="418200">
                  <a:off x="5626800" y="4130280"/>
                  <a:ext cx="15480" cy="18720"/>
                </a:xfrm>
                <a:custGeom>
                  <a:avLst/>
                  <a:gdLst>
                    <a:gd name="textAreaLeft" fmla="*/ 0 w 15480"/>
                    <a:gd name="textAreaRight" fmla="*/ 15840 w 15480"/>
                    <a:gd name="textAreaTop" fmla="*/ 360 h 18720"/>
                    <a:gd name="textAreaBottom" fmla="*/ 19440 h 18720"/>
                  </a:gdLst>
                  <a:ahLst/>
                  <a:rect l="textAreaLeft" t="textAreaTop" r="textAreaRight" b="textAreaBottom"/>
                  <a:pathLst>
                    <a:path w="192" h="288">
                      <a:moveTo>
                        <a:pt x="0" y="288"/>
                      </a:moveTo>
                      <a:lnTo>
                        <a:pt x="192" y="288"/>
                      </a:lnTo>
                      <a:lnTo>
                        <a:pt x="48" y="0"/>
                      </a:lnTo>
                      <a:lnTo>
                        <a:pt x="0" y="288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Freeform 177"/>
                <p:cNvSpPr/>
                <p:nvPr/>
              </p:nvSpPr>
              <p:spPr>
                <a:xfrm flipV="1" rot="418200">
                  <a:off x="5608800" y="4146840"/>
                  <a:ext cx="15480" cy="18720"/>
                </a:xfrm>
                <a:custGeom>
                  <a:avLst/>
                  <a:gdLst>
                    <a:gd name="textAreaLeft" fmla="*/ 0 w 15480"/>
                    <a:gd name="textAreaRight" fmla="*/ 15840 w 15480"/>
                    <a:gd name="textAreaTop" fmla="*/ 360 h 18720"/>
                    <a:gd name="textAreaBottom" fmla="*/ 19440 h 18720"/>
                  </a:gdLst>
                  <a:ahLst/>
                  <a:rect l="textAreaLeft" t="textAreaTop" r="textAreaRight" b="textAreaBottom"/>
                  <a:pathLst>
                    <a:path w="192" h="288">
                      <a:moveTo>
                        <a:pt x="0" y="288"/>
                      </a:moveTo>
                      <a:lnTo>
                        <a:pt x="192" y="288"/>
                      </a:lnTo>
                      <a:lnTo>
                        <a:pt x="48" y="0"/>
                      </a:lnTo>
                      <a:lnTo>
                        <a:pt x="0" y="288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Freeform 178"/>
                <p:cNvSpPr/>
                <p:nvPr/>
              </p:nvSpPr>
              <p:spPr>
                <a:xfrm flipV="1" rot="418200">
                  <a:off x="5622120" y="4167720"/>
                  <a:ext cx="15480" cy="18720"/>
                </a:xfrm>
                <a:custGeom>
                  <a:avLst/>
                  <a:gdLst>
                    <a:gd name="textAreaLeft" fmla="*/ 0 w 15480"/>
                    <a:gd name="textAreaRight" fmla="*/ 15840 w 15480"/>
                    <a:gd name="textAreaTop" fmla="*/ 360 h 18720"/>
                    <a:gd name="textAreaBottom" fmla="*/ 19440 h 18720"/>
                  </a:gdLst>
                  <a:ahLst/>
                  <a:rect l="textAreaLeft" t="textAreaTop" r="textAreaRight" b="textAreaBottom"/>
                  <a:pathLst>
                    <a:path w="192" h="288">
                      <a:moveTo>
                        <a:pt x="0" y="288"/>
                      </a:moveTo>
                      <a:lnTo>
                        <a:pt x="192" y="288"/>
                      </a:lnTo>
                      <a:lnTo>
                        <a:pt x="48" y="0"/>
                      </a:lnTo>
                      <a:lnTo>
                        <a:pt x="0" y="288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Freeform 179"/>
                <p:cNvSpPr/>
                <p:nvPr/>
              </p:nvSpPr>
              <p:spPr>
                <a:xfrm flipV="1" rot="418200">
                  <a:off x="5651280" y="4190040"/>
                  <a:ext cx="15480" cy="18720"/>
                </a:xfrm>
                <a:custGeom>
                  <a:avLst/>
                  <a:gdLst>
                    <a:gd name="textAreaLeft" fmla="*/ 0 w 15480"/>
                    <a:gd name="textAreaRight" fmla="*/ 15840 w 15480"/>
                    <a:gd name="textAreaTop" fmla="*/ 360 h 18720"/>
                    <a:gd name="textAreaBottom" fmla="*/ 19440 h 18720"/>
                  </a:gdLst>
                  <a:ahLst/>
                  <a:rect l="textAreaLeft" t="textAreaTop" r="textAreaRight" b="textAreaBottom"/>
                  <a:pathLst>
                    <a:path w="192" h="288">
                      <a:moveTo>
                        <a:pt x="0" y="288"/>
                      </a:moveTo>
                      <a:lnTo>
                        <a:pt x="192" y="288"/>
                      </a:lnTo>
                      <a:lnTo>
                        <a:pt x="48" y="0"/>
                      </a:lnTo>
                      <a:lnTo>
                        <a:pt x="0" y="288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Freeform 180"/>
                <p:cNvSpPr/>
                <p:nvPr/>
              </p:nvSpPr>
              <p:spPr>
                <a:xfrm flipV="1" rot="418200">
                  <a:off x="5584680" y="4087440"/>
                  <a:ext cx="15480" cy="18720"/>
                </a:xfrm>
                <a:custGeom>
                  <a:avLst/>
                  <a:gdLst>
                    <a:gd name="textAreaLeft" fmla="*/ 0 w 15480"/>
                    <a:gd name="textAreaRight" fmla="*/ 15840 w 15480"/>
                    <a:gd name="textAreaTop" fmla="*/ 360 h 18720"/>
                    <a:gd name="textAreaBottom" fmla="*/ 19440 h 18720"/>
                  </a:gdLst>
                  <a:ahLst/>
                  <a:rect l="textAreaLeft" t="textAreaTop" r="textAreaRight" b="textAreaBottom"/>
                  <a:pathLst>
                    <a:path w="192" h="288">
                      <a:moveTo>
                        <a:pt x="0" y="288"/>
                      </a:moveTo>
                      <a:lnTo>
                        <a:pt x="192" y="288"/>
                      </a:lnTo>
                      <a:lnTo>
                        <a:pt x="48" y="0"/>
                      </a:lnTo>
                      <a:lnTo>
                        <a:pt x="0" y="288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Freeform 181"/>
                <p:cNvSpPr/>
                <p:nvPr/>
              </p:nvSpPr>
              <p:spPr>
                <a:xfrm flipV="1" rot="418200">
                  <a:off x="5598000" y="4107960"/>
                  <a:ext cx="15480" cy="18720"/>
                </a:xfrm>
                <a:custGeom>
                  <a:avLst/>
                  <a:gdLst>
                    <a:gd name="textAreaLeft" fmla="*/ 0 w 15480"/>
                    <a:gd name="textAreaRight" fmla="*/ 15840 w 15480"/>
                    <a:gd name="textAreaTop" fmla="*/ 360 h 18720"/>
                    <a:gd name="textAreaBottom" fmla="*/ 19440 h 18720"/>
                  </a:gdLst>
                  <a:ahLst/>
                  <a:rect l="textAreaLeft" t="textAreaTop" r="textAreaRight" b="textAreaBottom"/>
                  <a:pathLst>
                    <a:path w="192" h="288">
                      <a:moveTo>
                        <a:pt x="0" y="288"/>
                      </a:moveTo>
                      <a:lnTo>
                        <a:pt x="192" y="288"/>
                      </a:lnTo>
                      <a:lnTo>
                        <a:pt x="48" y="0"/>
                      </a:lnTo>
                      <a:lnTo>
                        <a:pt x="0" y="288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Freeform 182"/>
                <p:cNvSpPr/>
                <p:nvPr/>
              </p:nvSpPr>
              <p:spPr>
                <a:xfrm flipH="1" flipV="1" rot="418200">
                  <a:off x="5655240" y="4152600"/>
                  <a:ext cx="15480" cy="18720"/>
                </a:xfrm>
                <a:custGeom>
                  <a:avLst/>
                  <a:gdLst>
                    <a:gd name="textAreaLeft" fmla="*/ -360 w 15480"/>
                    <a:gd name="textAreaRight" fmla="*/ 15480 w 15480"/>
                    <a:gd name="textAreaTop" fmla="*/ 360 h 18720"/>
                    <a:gd name="textAreaBottom" fmla="*/ 19440 h 18720"/>
                  </a:gdLst>
                  <a:ahLst/>
                  <a:rect l="textAreaLeft" t="textAreaTop" r="textAreaRight" b="textAreaBottom"/>
                  <a:pathLst>
                    <a:path w="192" h="288">
                      <a:moveTo>
                        <a:pt x="0" y="288"/>
                      </a:moveTo>
                      <a:lnTo>
                        <a:pt x="192" y="288"/>
                      </a:lnTo>
                      <a:lnTo>
                        <a:pt x="48" y="0"/>
                      </a:lnTo>
                      <a:lnTo>
                        <a:pt x="0" y="288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Freeform 183"/>
                <p:cNvSpPr/>
                <p:nvPr/>
              </p:nvSpPr>
              <p:spPr>
                <a:xfrm flipH="1" flipV="1" rot="418200">
                  <a:off x="5686200" y="4156560"/>
                  <a:ext cx="15480" cy="18720"/>
                </a:xfrm>
                <a:custGeom>
                  <a:avLst/>
                  <a:gdLst>
                    <a:gd name="textAreaLeft" fmla="*/ -360 w 15480"/>
                    <a:gd name="textAreaRight" fmla="*/ 15480 w 15480"/>
                    <a:gd name="textAreaTop" fmla="*/ 360 h 18720"/>
                    <a:gd name="textAreaBottom" fmla="*/ 19440 h 18720"/>
                  </a:gdLst>
                  <a:ahLst/>
                  <a:rect l="textAreaLeft" t="textAreaTop" r="textAreaRight" b="textAreaBottom"/>
                  <a:pathLst>
                    <a:path w="192" h="288">
                      <a:moveTo>
                        <a:pt x="0" y="288"/>
                      </a:moveTo>
                      <a:lnTo>
                        <a:pt x="192" y="288"/>
                      </a:lnTo>
                      <a:lnTo>
                        <a:pt x="48" y="0"/>
                      </a:lnTo>
                      <a:lnTo>
                        <a:pt x="0" y="288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Freeform 184"/>
                <p:cNvSpPr/>
                <p:nvPr/>
              </p:nvSpPr>
              <p:spPr>
                <a:xfrm flipH="1" flipV="1" rot="418200">
                  <a:off x="5675040" y="4117320"/>
                  <a:ext cx="15480" cy="18720"/>
                </a:xfrm>
                <a:custGeom>
                  <a:avLst/>
                  <a:gdLst>
                    <a:gd name="textAreaLeft" fmla="*/ -360 w 15480"/>
                    <a:gd name="textAreaRight" fmla="*/ 15480 w 15480"/>
                    <a:gd name="textAreaTop" fmla="*/ 360 h 18720"/>
                    <a:gd name="textAreaBottom" fmla="*/ 19440 h 18720"/>
                  </a:gdLst>
                  <a:ahLst/>
                  <a:rect l="textAreaLeft" t="textAreaTop" r="textAreaRight" b="textAreaBottom"/>
                  <a:pathLst>
                    <a:path w="192" h="288">
                      <a:moveTo>
                        <a:pt x="0" y="288"/>
                      </a:moveTo>
                      <a:lnTo>
                        <a:pt x="192" y="288"/>
                      </a:lnTo>
                      <a:lnTo>
                        <a:pt x="48" y="0"/>
                      </a:lnTo>
                      <a:lnTo>
                        <a:pt x="0" y="288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Freeform 185"/>
                <p:cNvSpPr/>
                <p:nvPr/>
              </p:nvSpPr>
              <p:spPr>
                <a:xfrm flipH="1" flipV="1" rot="418200">
                  <a:off x="5708880" y="4102560"/>
                  <a:ext cx="15480" cy="18720"/>
                </a:xfrm>
                <a:custGeom>
                  <a:avLst/>
                  <a:gdLst>
                    <a:gd name="textAreaLeft" fmla="*/ -360 w 15480"/>
                    <a:gd name="textAreaRight" fmla="*/ 15480 w 15480"/>
                    <a:gd name="textAreaTop" fmla="*/ 360 h 18720"/>
                    <a:gd name="textAreaBottom" fmla="*/ 19440 h 18720"/>
                  </a:gdLst>
                  <a:ahLst/>
                  <a:rect l="textAreaLeft" t="textAreaTop" r="textAreaRight" b="textAreaBottom"/>
                  <a:pathLst>
                    <a:path w="192" h="288">
                      <a:moveTo>
                        <a:pt x="0" y="288"/>
                      </a:moveTo>
                      <a:lnTo>
                        <a:pt x="192" y="288"/>
                      </a:lnTo>
                      <a:lnTo>
                        <a:pt x="48" y="0"/>
                      </a:lnTo>
                      <a:lnTo>
                        <a:pt x="0" y="288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Freeform 186"/>
                <p:cNvSpPr/>
                <p:nvPr/>
              </p:nvSpPr>
              <p:spPr>
                <a:xfrm flipH="1" flipV="1" rot="418200">
                  <a:off x="5713560" y="4065120"/>
                  <a:ext cx="15480" cy="18720"/>
                </a:xfrm>
                <a:custGeom>
                  <a:avLst/>
                  <a:gdLst>
                    <a:gd name="textAreaLeft" fmla="*/ -360 w 15480"/>
                    <a:gd name="textAreaRight" fmla="*/ 15480 w 15480"/>
                    <a:gd name="textAreaTop" fmla="*/ 360 h 18720"/>
                    <a:gd name="textAreaBottom" fmla="*/ 19440 h 18720"/>
                  </a:gdLst>
                  <a:ahLst/>
                  <a:rect l="textAreaLeft" t="textAreaTop" r="textAreaRight" b="textAreaBottom"/>
                  <a:pathLst>
                    <a:path w="192" h="288">
                      <a:moveTo>
                        <a:pt x="0" y="288"/>
                      </a:moveTo>
                      <a:lnTo>
                        <a:pt x="192" y="288"/>
                      </a:lnTo>
                      <a:lnTo>
                        <a:pt x="48" y="0"/>
                      </a:lnTo>
                      <a:lnTo>
                        <a:pt x="0" y="288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plant"/>
                <p:cNvSpPr/>
                <p:nvPr/>
              </p:nvSpPr>
              <p:spPr>
                <a:xfrm rot="418200">
                  <a:off x="5611680" y="3965400"/>
                  <a:ext cx="123840" cy="91440"/>
                </a:xfrm>
                <a:custGeom>
                  <a:avLst/>
                  <a:gdLst>
                    <a:gd name="textAreaLeft" fmla="*/ 40680 w 123840"/>
                    <a:gd name="textAreaRight" fmla="*/ 83520 w 123840"/>
                    <a:gd name="textAreaTop" fmla="*/ 42480 h 91440"/>
                    <a:gd name="textAreaBottom" fmla="*/ 57600 h 914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9368" y="9002"/>
                      </a:moveTo>
                      <a:lnTo>
                        <a:pt x="9254" y="8422"/>
                      </a:lnTo>
                      <a:lnTo>
                        <a:pt x="9139" y="7935"/>
                      </a:lnTo>
                      <a:lnTo>
                        <a:pt x="8819" y="7355"/>
                      </a:lnTo>
                      <a:lnTo>
                        <a:pt x="8475" y="6728"/>
                      </a:lnTo>
                      <a:lnTo>
                        <a:pt x="8040" y="6287"/>
                      </a:lnTo>
                      <a:lnTo>
                        <a:pt x="7421" y="5707"/>
                      </a:lnTo>
                      <a:lnTo>
                        <a:pt x="6574" y="5429"/>
                      </a:lnTo>
                      <a:lnTo>
                        <a:pt x="5452" y="5313"/>
                      </a:lnTo>
                      <a:lnTo>
                        <a:pt x="4856" y="5220"/>
                      </a:lnTo>
                      <a:lnTo>
                        <a:pt x="4169" y="5220"/>
                      </a:lnTo>
                      <a:lnTo>
                        <a:pt x="3665" y="5104"/>
                      </a:lnTo>
                      <a:lnTo>
                        <a:pt x="3001" y="4872"/>
                      </a:lnTo>
                      <a:lnTo>
                        <a:pt x="2497" y="4756"/>
                      </a:lnTo>
                      <a:lnTo>
                        <a:pt x="2062" y="4408"/>
                      </a:lnTo>
                      <a:lnTo>
                        <a:pt x="1603" y="4083"/>
                      </a:lnTo>
                      <a:lnTo>
                        <a:pt x="1283" y="3689"/>
                      </a:lnTo>
                      <a:lnTo>
                        <a:pt x="1283" y="4315"/>
                      </a:lnTo>
                      <a:lnTo>
                        <a:pt x="1489" y="5104"/>
                      </a:lnTo>
                      <a:lnTo>
                        <a:pt x="1832" y="6055"/>
                      </a:lnTo>
                      <a:lnTo>
                        <a:pt x="2382" y="6914"/>
                      </a:lnTo>
                      <a:lnTo>
                        <a:pt x="2680" y="7471"/>
                      </a:lnTo>
                      <a:lnTo>
                        <a:pt x="3115" y="7935"/>
                      </a:lnTo>
                      <a:lnTo>
                        <a:pt x="3573" y="8213"/>
                      </a:lnTo>
                      <a:lnTo>
                        <a:pt x="4077" y="8654"/>
                      </a:lnTo>
                      <a:lnTo>
                        <a:pt x="4627" y="9002"/>
                      </a:lnTo>
                      <a:lnTo>
                        <a:pt x="5245" y="9234"/>
                      </a:lnTo>
                      <a:lnTo>
                        <a:pt x="6024" y="9443"/>
                      </a:lnTo>
                      <a:lnTo>
                        <a:pt x="6757" y="9628"/>
                      </a:lnTo>
                      <a:lnTo>
                        <a:pt x="5177" y="10069"/>
                      </a:lnTo>
                      <a:lnTo>
                        <a:pt x="3963" y="10649"/>
                      </a:lnTo>
                      <a:lnTo>
                        <a:pt x="3344" y="11044"/>
                      </a:lnTo>
                      <a:lnTo>
                        <a:pt x="2886" y="11600"/>
                      </a:lnTo>
                      <a:lnTo>
                        <a:pt x="2497" y="12041"/>
                      </a:lnTo>
                      <a:lnTo>
                        <a:pt x="1947" y="12343"/>
                      </a:lnTo>
                      <a:lnTo>
                        <a:pt x="1168" y="12668"/>
                      </a:lnTo>
                      <a:lnTo>
                        <a:pt x="0" y="12900"/>
                      </a:lnTo>
                      <a:lnTo>
                        <a:pt x="435" y="13248"/>
                      </a:lnTo>
                      <a:lnTo>
                        <a:pt x="779" y="13456"/>
                      </a:lnTo>
                      <a:lnTo>
                        <a:pt x="1283" y="13642"/>
                      </a:lnTo>
                      <a:lnTo>
                        <a:pt x="1718" y="13758"/>
                      </a:lnTo>
                      <a:lnTo>
                        <a:pt x="2680" y="13851"/>
                      </a:lnTo>
                      <a:lnTo>
                        <a:pt x="3573" y="13758"/>
                      </a:lnTo>
                      <a:lnTo>
                        <a:pt x="4512" y="13526"/>
                      </a:lnTo>
                      <a:lnTo>
                        <a:pt x="5360" y="13248"/>
                      </a:lnTo>
                      <a:lnTo>
                        <a:pt x="6139" y="12900"/>
                      </a:lnTo>
                      <a:lnTo>
                        <a:pt x="6757" y="12552"/>
                      </a:lnTo>
                      <a:lnTo>
                        <a:pt x="6459" y="13132"/>
                      </a:lnTo>
                      <a:lnTo>
                        <a:pt x="6139" y="13642"/>
                      </a:lnTo>
                      <a:lnTo>
                        <a:pt x="5910" y="14199"/>
                      </a:lnTo>
                      <a:lnTo>
                        <a:pt x="5681" y="14663"/>
                      </a:lnTo>
                      <a:lnTo>
                        <a:pt x="5681" y="15150"/>
                      </a:lnTo>
                      <a:lnTo>
                        <a:pt x="5681" y="15730"/>
                      </a:lnTo>
                      <a:lnTo>
                        <a:pt x="5681" y="16241"/>
                      </a:lnTo>
                      <a:lnTo>
                        <a:pt x="5795" y="16913"/>
                      </a:lnTo>
                      <a:lnTo>
                        <a:pt x="5910" y="17586"/>
                      </a:lnTo>
                      <a:lnTo>
                        <a:pt x="5910" y="18213"/>
                      </a:lnTo>
                      <a:lnTo>
                        <a:pt x="5795" y="18885"/>
                      </a:lnTo>
                      <a:lnTo>
                        <a:pt x="5566" y="19396"/>
                      </a:lnTo>
                      <a:lnTo>
                        <a:pt x="5245" y="19976"/>
                      </a:lnTo>
                      <a:lnTo>
                        <a:pt x="4971" y="20370"/>
                      </a:lnTo>
                      <a:lnTo>
                        <a:pt x="4512" y="20811"/>
                      </a:lnTo>
                      <a:lnTo>
                        <a:pt x="4077" y="21043"/>
                      </a:lnTo>
                      <a:lnTo>
                        <a:pt x="5177" y="20927"/>
                      </a:lnTo>
                      <a:lnTo>
                        <a:pt x="6253" y="20486"/>
                      </a:lnTo>
                      <a:lnTo>
                        <a:pt x="7421" y="19976"/>
                      </a:lnTo>
                      <a:lnTo>
                        <a:pt x="8361" y="19187"/>
                      </a:lnTo>
                      <a:lnTo>
                        <a:pt x="8819" y="18769"/>
                      </a:lnTo>
                      <a:lnTo>
                        <a:pt x="9139" y="18213"/>
                      </a:lnTo>
                      <a:lnTo>
                        <a:pt x="9437" y="17772"/>
                      </a:lnTo>
                      <a:lnTo>
                        <a:pt x="9643" y="17261"/>
                      </a:lnTo>
                      <a:lnTo>
                        <a:pt x="9872" y="16681"/>
                      </a:lnTo>
                      <a:lnTo>
                        <a:pt x="9872" y="16171"/>
                      </a:lnTo>
                      <a:lnTo>
                        <a:pt x="9872" y="15614"/>
                      </a:lnTo>
                      <a:lnTo>
                        <a:pt x="9758" y="15057"/>
                      </a:lnTo>
                      <a:lnTo>
                        <a:pt x="10216" y="15498"/>
                      </a:lnTo>
                      <a:lnTo>
                        <a:pt x="10537" y="16241"/>
                      </a:lnTo>
                      <a:lnTo>
                        <a:pt x="10834" y="17145"/>
                      </a:lnTo>
                      <a:lnTo>
                        <a:pt x="11041" y="18213"/>
                      </a:lnTo>
                      <a:lnTo>
                        <a:pt x="11155" y="19187"/>
                      </a:lnTo>
                      <a:lnTo>
                        <a:pt x="11155" y="20185"/>
                      </a:lnTo>
                      <a:lnTo>
                        <a:pt x="11155" y="20579"/>
                      </a:lnTo>
                      <a:lnTo>
                        <a:pt x="11041" y="21043"/>
                      </a:lnTo>
                      <a:lnTo>
                        <a:pt x="10926" y="21391"/>
                      </a:lnTo>
                      <a:lnTo>
                        <a:pt x="10766" y="21600"/>
                      </a:lnTo>
                      <a:lnTo>
                        <a:pt x="11499" y="21484"/>
                      </a:lnTo>
                      <a:lnTo>
                        <a:pt x="12323" y="21043"/>
                      </a:lnTo>
                      <a:lnTo>
                        <a:pt x="13102" y="20370"/>
                      </a:lnTo>
                      <a:lnTo>
                        <a:pt x="13606" y="19628"/>
                      </a:lnTo>
                      <a:lnTo>
                        <a:pt x="13950" y="19071"/>
                      </a:lnTo>
                      <a:lnTo>
                        <a:pt x="14064" y="18677"/>
                      </a:lnTo>
                      <a:lnTo>
                        <a:pt x="14179" y="18097"/>
                      </a:lnTo>
                      <a:lnTo>
                        <a:pt x="14293" y="17586"/>
                      </a:lnTo>
                      <a:lnTo>
                        <a:pt x="14179" y="16913"/>
                      </a:lnTo>
                      <a:lnTo>
                        <a:pt x="14064" y="16241"/>
                      </a:lnTo>
                      <a:lnTo>
                        <a:pt x="13835" y="15614"/>
                      </a:lnTo>
                      <a:lnTo>
                        <a:pt x="13560" y="14872"/>
                      </a:lnTo>
                      <a:lnTo>
                        <a:pt x="13950" y="14941"/>
                      </a:lnTo>
                      <a:lnTo>
                        <a:pt x="14408" y="15150"/>
                      </a:lnTo>
                      <a:lnTo>
                        <a:pt x="14843" y="15266"/>
                      </a:lnTo>
                      <a:lnTo>
                        <a:pt x="15232" y="15614"/>
                      </a:lnTo>
                      <a:lnTo>
                        <a:pt x="15576" y="15846"/>
                      </a:lnTo>
                      <a:lnTo>
                        <a:pt x="15897" y="16171"/>
                      </a:lnTo>
                      <a:lnTo>
                        <a:pt x="16126" y="16473"/>
                      </a:lnTo>
                      <a:lnTo>
                        <a:pt x="16240" y="16913"/>
                      </a:lnTo>
                      <a:lnTo>
                        <a:pt x="16515" y="17261"/>
                      </a:lnTo>
                      <a:lnTo>
                        <a:pt x="17088" y="17586"/>
                      </a:lnTo>
                      <a:lnTo>
                        <a:pt x="17798" y="17865"/>
                      </a:lnTo>
                      <a:lnTo>
                        <a:pt x="18576" y="18097"/>
                      </a:lnTo>
                      <a:lnTo>
                        <a:pt x="19424" y="18213"/>
                      </a:lnTo>
                      <a:lnTo>
                        <a:pt x="20317" y="18213"/>
                      </a:lnTo>
                      <a:lnTo>
                        <a:pt x="21050" y="18213"/>
                      </a:lnTo>
                      <a:lnTo>
                        <a:pt x="21600" y="17865"/>
                      </a:lnTo>
                      <a:lnTo>
                        <a:pt x="21165" y="17656"/>
                      </a:lnTo>
                      <a:lnTo>
                        <a:pt x="20592" y="17470"/>
                      </a:lnTo>
                      <a:lnTo>
                        <a:pt x="20088" y="17029"/>
                      </a:lnTo>
                      <a:lnTo>
                        <a:pt x="19653" y="16681"/>
                      </a:lnTo>
                      <a:lnTo>
                        <a:pt x="19195" y="16241"/>
                      </a:lnTo>
                      <a:lnTo>
                        <a:pt x="18920" y="15962"/>
                      </a:lnTo>
                      <a:lnTo>
                        <a:pt x="18576" y="15498"/>
                      </a:lnTo>
                      <a:lnTo>
                        <a:pt x="18576" y="15057"/>
                      </a:lnTo>
                      <a:lnTo>
                        <a:pt x="18485" y="14756"/>
                      </a:lnTo>
                      <a:lnTo>
                        <a:pt x="18256" y="14199"/>
                      </a:lnTo>
                      <a:lnTo>
                        <a:pt x="17912" y="13526"/>
                      </a:lnTo>
                      <a:lnTo>
                        <a:pt x="17523" y="13016"/>
                      </a:lnTo>
                      <a:lnTo>
                        <a:pt x="16973" y="12436"/>
                      </a:lnTo>
                      <a:lnTo>
                        <a:pt x="16355" y="12041"/>
                      </a:lnTo>
                      <a:lnTo>
                        <a:pt x="16011" y="11832"/>
                      </a:lnTo>
                      <a:lnTo>
                        <a:pt x="15690" y="11716"/>
                      </a:lnTo>
                      <a:lnTo>
                        <a:pt x="15232" y="11716"/>
                      </a:lnTo>
                      <a:lnTo>
                        <a:pt x="14843" y="11716"/>
                      </a:lnTo>
                      <a:lnTo>
                        <a:pt x="15461" y="11252"/>
                      </a:lnTo>
                      <a:lnTo>
                        <a:pt x="16126" y="10858"/>
                      </a:lnTo>
                      <a:lnTo>
                        <a:pt x="16973" y="10649"/>
                      </a:lnTo>
                      <a:lnTo>
                        <a:pt x="17798" y="10417"/>
                      </a:lnTo>
                      <a:lnTo>
                        <a:pt x="18806" y="10301"/>
                      </a:lnTo>
                      <a:lnTo>
                        <a:pt x="19653" y="10301"/>
                      </a:lnTo>
                      <a:lnTo>
                        <a:pt x="20478" y="10417"/>
                      </a:lnTo>
                      <a:lnTo>
                        <a:pt x="21256" y="10533"/>
                      </a:lnTo>
                      <a:lnTo>
                        <a:pt x="20707" y="9837"/>
                      </a:lnTo>
                      <a:lnTo>
                        <a:pt x="19859" y="9234"/>
                      </a:lnTo>
                      <a:lnTo>
                        <a:pt x="18806" y="8538"/>
                      </a:lnTo>
                      <a:lnTo>
                        <a:pt x="17637" y="8144"/>
                      </a:lnTo>
                      <a:lnTo>
                        <a:pt x="16973" y="8027"/>
                      </a:lnTo>
                      <a:lnTo>
                        <a:pt x="16355" y="7935"/>
                      </a:lnTo>
                      <a:lnTo>
                        <a:pt x="15805" y="7935"/>
                      </a:lnTo>
                      <a:lnTo>
                        <a:pt x="15118" y="8027"/>
                      </a:lnTo>
                      <a:lnTo>
                        <a:pt x="14614" y="8144"/>
                      </a:lnTo>
                      <a:lnTo>
                        <a:pt x="14064" y="8422"/>
                      </a:lnTo>
                      <a:lnTo>
                        <a:pt x="13606" y="8886"/>
                      </a:lnTo>
                      <a:lnTo>
                        <a:pt x="13217" y="9327"/>
                      </a:lnTo>
                      <a:lnTo>
                        <a:pt x="13606" y="8538"/>
                      </a:lnTo>
                      <a:lnTo>
                        <a:pt x="13950" y="7935"/>
                      </a:lnTo>
                      <a:lnTo>
                        <a:pt x="14293" y="7123"/>
                      </a:lnTo>
                      <a:lnTo>
                        <a:pt x="14499" y="6519"/>
                      </a:lnTo>
                      <a:lnTo>
                        <a:pt x="14614" y="5823"/>
                      </a:lnTo>
                      <a:lnTo>
                        <a:pt x="14614" y="5220"/>
                      </a:lnTo>
                      <a:lnTo>
                        <a:pt x="14408" y="4524"/>
                      </a:lnTo>
                      <a:lnTo>
                        <a:pt x="14064" y="3898"/>
                      </a:lnTo>
                      <a:lnTo>
                        <a:pt x="13606" y="3225"/>
                      </a:lnTo>
                      <a:lnTo>
                        <a:pt x="13331" y="2598"/>
                      </a:lnTo>
                      <a:lnTo>
                        <a:pt x="13102" y="2042"/>
                      </a:lnTo>
                      <a:lnTo>
                        <a:pt x="12896" y="1485"/>
                      </a:lnTo>
                      <a:lnTo>
                        <a:pt x="12781" y="1090"/>
                      </a:lnTo>
                      <a:lnTo>
                        <a:pt x="12667" y="626"/>
                      </a:lnTo>
                      <a:lnTo>
                        <a:pt x="12667" y="278"/>
                      </a:lnTo>
                      <a:lnTo>
                        <a:pt x="12667" y="0"/>
                      </a:lnTo>
                      <a:lnTo>
                        <a:pt x="12163" y="394"/>
                      </a:lnTo>
                      <a:lnTo>
                        <a:pt x="11728" y="974"/>
                      </a:lnTo>
                      <a:lnTo>
                        <a:pt x="11155" y="1601"/>
                      </a:lnTo>
                      <a:lnTo>
                        <a:pt x="10766" y="2390"/>
                      </a:lnTo>
                      <a:lnTo>
                        <a:pt x="10330" y="3109"/>
                      </a:lnTo>
                      <a:lnTo>
                        <a:pt x="10101" y="3898"/>
                      </a:lnTo>
                      <a:lnTo>
                        <a:pt x="9987" y="4524"/>
                      </a:lnTo>
                      <a:lnTo>
                        <a:pt x="10101" y="5220"/>
                      </a:lnTo>
                      <a:lnTo>
                        <a:pt x="10216" y="5823"/>
                      </a:lnTo>
                      <a:lnTo>
                        <a:pt x="10330" y="6403"/>
                      </a:lnTo>
                      <a:lnTo>
                        <a:pt x="10330" y="6914"/>
                      </a:lnTo>
                      <a:lnTo>
                        <a:pt x="10216" y="7471"/>
                      </a:lnTo>
                      <a:lnTo>
                        <a:pt x="10101" y="7935"/>
                      </a:lnTo>
                      <a:lnTo>
                        <a:pt x="9872" y="8329"/>
                      </a:lnTo>
                      <a:lnTo>
                        <a:pt x="9643" y="8654"/>
                      </a:lnTo>
                      <a:lnTo>
                        <a:pt x="9368" y="9002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03" name="Freeform 188"/>
              <p:cNvSpPr/>
              <p:nvPr/>
            </p:nvSpPr>
            <p:spPr>
              <a:xfrm rot="3220200">
                <a:off x="5129640" y="4000680"/>
                <a:ext cx="212760" cy="117720"/>
              </a:xfrm>
              <a:custGeom>
                <a:avLst/>
                <a:gdLst>
                  <a:gd name="textAreaLeft" fmla="*/ 0 w 212760"/>
                  <a:gd name="textAreaRight" fmla="*/ 213120 w 212760"/>
                  <a:gd name="textAreaTop" fmla="*/ 0 h 117720"/>
                  <a:gd name="textAreaBottom" fmla="*/ 118080 h 117720"/>
                </a:gdLst>
                <a:ahLst/>
                <a:rect l="textAreaLeft" t="textAreaTop" r="textAreaRight" b="textAreaBottom"/>
                <a:pathLst>
                  <a:path w="507" h="352">
                    <a:moveTo>
                      <a:pt x="0" y="240"/>
                    </a:moveTo>
                    <a:cubicBezTo>
                      <a:pt x="56" y="251"/>
                      <a:pt x="253" y="352"/>
                      <a:pt x="336" y="320"/>
                    </a:cubicBezTo>
                    <a:cubicBezTo>
                      <a:pt x="419" y="288"/>
                      <a:pt x="485" y="96"/>
                      <a:pt x="496" y="48"/>
                    </a:cubicBezTo>
                    <a:cubicBezTo>
                      <a:pt x="507" y="0"/>
                      <a:pt x="435" y="35"/>
                      <a:pt x="400" y="32"/>
                    </a:cubicBezTo>
                    <a:cubicBezTo>
                      <a:pt x="365" y="29"/>
                      <a:pt x="339" y="24"/>
                      <a:pt x="288" y="32"/>
                    </a:cubicBezTo>
                    <a:cubicBezTo>
                      <a:pt x="237" y="40"/>
                      <a:pt x="136" y="56"/>
                      <a:pt x="96" y="80"/>
                    </a:cubicBezTo>
                    <a:cubicBezTo>
                      <a:pt x="56" y="104"/>
                      <a:pt x="64" y="152"/>
                      <a:pt x="48" y="176"/>
                    </a:cubicBezTo>
                    <a:cubicBezTo>
                      <a:pt x="32" y="200"/>
                      <a:pt x="16" y="212"/>
                      <a:pt x="0" y="224"/>
                    </a:cubicBezTo>
                  </a:path>
                </a:pathLst>
              </a:custGeom>
              <a:solidFill>
                <a:srgbClr val="33cc33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Freeform 189"/>
              <p:cNvSpPr/>
              <p:nvPr/>
            </p:nvSpPr>
            <p:spPr>
              <a:xfrm rot="3220200">
                <a:off x="5088240" y="4229640"/>
                <a:ext cx="212760" cy="117720"/>
              </a:xfrm>
              <a:custGeom>
                <a:avLst/>
                <a:gdLst>
                  <a:gd name="textAreaLeft" fmla="*/ 0 w 212760"/>
                  <a:gd name="textAreaRight" fmla="*/ 213120 w 212760"/>
                  <a:gd name="textAreaTop" fmla="*/ 0 h 117720"/>
                  <a:gd name="textAreaBottom" fmla="*/ 118080 h 117720"/>
                </a:gdLst>
                <a:ahLst/>
                <a:rect l="textAreaLeft" t="textAreaTop" r="textAreaRight" b="textAreaBottom"/>
                <a:pathLst>
                  <a:path w="507" h="352">
                    <a:moveTo>
                      <a:pt x="0" y="240"/>
                    </a:moveTo>
                    <a:cubicBezTo>
                      <a:pt x="56" y="251"/>
                      <a:pt x="253" y="352"/>
                      <a:pt x="336" y="320"/>
                    </a:cubicBezTo>
                    <a:cubicBezTo>
                      <a:pt x="419" y="288"/>
                      <a:pt x="485" y="96"/>
                      <a:pt x="496" y="48"/>
                    </a:cubicBezTo>
                    <a:cubicBezTo>
                      <a:pt x="507" y="0"/>
                      <a:pt x="435" y="35"/>
                      <a:pt x="400" y="32"/>
                    </a:cubicBezTo>
                    <a:cubicBezTo>
                      <a:pt x="365" y="29"/>
                      <a:pt x="339" y="24"/>
                      <a:pt x="288" y="32"/>
                    </a:cubicBezTo>
                    <a:cubicBezTo>
                      <a:pt x="237" y="40"/>
                      <a:pt x="136" y="56"/>
                      <a:pt x="96" y="80"/>
                    </a:cubicBezTo>
                    <a:cubicBezTo>
                      <a:pt x="56" y="104"/>
                      <a:pt x="64" y="152"/>
                      <a:pt x="48" y="176"/>
                    </a:cubicBezTo>
                    <a:cubicBezTo>
                      <a:pt x="32" y="200"/>
                      <a:pt x="16" y="212"/>
                      <a:pt x="0" y="224"/>
                    </a:cubicBezTo>
                  </a:path>
                </a:pathLst>
              </a:custGeom>
              <a:solidFill>
                <a:srgbClr val="33cc33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Freeform 190"/>
              <p:cNvSpPr/>
              <p:nvPr/>
            </p:nvSpPr>
            <p:spPr>
              <a:xfrm rot="9695400">
                <a:off x="5270760" y="4203000"/>
                <a:ext cx="203760" cy="122760"/>
              </a:xfrm>
              <a:custGeom>
                <a:avLst/>
                <a:gdLst>
                  <a:gd name="textAreaLeft" fmla="*/ 0 w 203760"/>
                  <a:gd name="textAreaRight" fmla="*/ 204120 w 203760"/>
                  <a:gd name="textAreaTop" fmla="*/ 0 h 122760"/>
                  <a:gd name="textAreaBottom" fmla="*/ 123120 h 122760"/>
                </a:gdLst>
                <a:ahLst/>
                <a:rect l="textAreaLeft" t="textAreaTop" r="textAreaRight" b="textAreaBottom"/>
                <a:pathLst>
                  <a:path w="507" h="352">
                    <a:moveTo>
                      <a:pt x="0" y="240"/>
                    </a:moveTo>
                    <a:cubicBezTo>
                      <a:pt x="56" y="251"/>
                      <a:pt x="253" y="352"/>
                      <a:pt x="336" y="320"/>
                    </a:cubicBezTo>
                    <a:cubicBezTo>
                      <a:pt x="419" y="288"/>
                      <a:pt x="485" y="96"/>
                      <a:pt x="496" y="48"/>
                    </a:cubicBezTo>
                    <a:cubicBezTo>
                      <a:pt x="507" y="0"/>
                      <a:pt x="435" y="35"/>
                      <a:pt x="400" y="32"/>
                    </a:cubicBezTo>
                    <a:cubicBezTo>
                      <a:pt x="365" y="29"/>
                      <a:pt x="339" y="24"/>
                      <a:pt x="288" y="32"/>
                    </a:cubicBezTo>
                    <a:cubicBezTo>
                      <a:pt x="237" y="40"/>
                      <a:pt x="136" y="56"/>
                      <a:pt x="96" y="80"/>
                    </a:cubicBezTo>
                    <a:cubicBezTo>
                      <a:pt x="56" y="104"/>
                      <a:pt x="64" y="152"/>
                      <a:pt x="48" y="176"/>
                    </a:cubicBezTo>
                    <a:cubicBezTo>
                      <a:pt x="32" y="200"/>
                      <a:pt x="16" y="212"/>
                      <a:pt x="0" y="224"/>
                    </a:cubicBezTo>
                  </a:path>
                </a:pathLst>
              </a:custGeom>
              <a:solidFill>
                <a:srgbClr val="33cc33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6" name="Group 191"/>
          <p:cNvGrpSpPr/>
          <p:nvPr/>
        </p:nvGrpSpPr>
        <p:grpSpPr>
          <a:xfrm>
            <a:off x="5047200" y="4248000"/>
            <a:ext cx="2419560" cy="2356920"/>
            <a:chOff x="5047200" y="4248000"/>
            <a:chExt cx="2419560" cy="2356920"/>
          </a:xfrm>
        </p:grpSpPr>
        <p:sp>
          <p:nvSpPr>
            <p:cNvPr id="307" name="Freeform 192"/>
            <p:cNvSpPr/>
            <p:nvPr/>
          </p:nvSpPr>
          <p:spPr>
            <a:xfrm rot="19282200">
              <a:off x="5353920" y="4782600"/>
              <a:ext cx="1886760" cy="1384920"/>
            </a:xfrm>
            <a:custGeom>
              <a:avLst/>
              <a:gdLst>
                <a:gd name="textAreaLeft" fmla="*/ 0 w 1886760"/>
                <a:gd name="textAreaRight" fmla="*/ 1887120 w 1886760"/>
                <a:gd name="textAreaTop" fmla="*/ 0 h 1384920"/>
                <a:gd name="textAreaBottom" fmla="*/ 1385280 h 1384920"/>
              </a:gdLst>
              <a:ahLst/>
              <a:rect l="textAreaLeft" t="textAreaTop" r="textAreaRight" b="textAreaBottom"/>
              <a:pathLst>
                <a:path w="1746" h="1169">
                  <a:moveTo>
                    <a:pt x="29" y="69"/>
                  </a:moveTo>
                  <a:cubicBezTo>
                    <a:pt x="0" y="157"/>
                    <a:pt x="101" y="557"/>
                    <a:pt x="157" y="717"/>
                  </a:cubicBezTo>
                  <a:cubicBezTo>
                    <a:pt x="213" y="877"/>
                    <a:pt x="298" y="961"/>
                    <a:pt x="365" y="1029"/>
                  </a:cubicBezTo>
                  <a:cubicBezTo>
                    <a:pt x="432" y="1097"/>
                    <a:pt x="461" y="1109"/>
                    <a:pt x="557" y="1125"/>
                  </a:cubicBezTo>
                  <a:cubicBezTo>
                    <a:pt x="653" y="1141"/>
                    <a:pt x="821" y="1126"/>
                    <a:pt x="941" y="1125"/>
                  </a:cubicBezTo>
                  <a:cubicBezTo>
                    <a:pt x="1061" y="1124"/>
                    <a:pt x="1176" y="1169"/>
                    <a:pt x="1277" y="1117"/>
                  </a:cubicBezTo>
                  <a:cubicBezTo>
                    <a:pt x="1378" y="1065"/>
                    <a:pt x="1485" y="920"/>
                    <a:pt x="1549" y="813"/>
                  </a:cubicBezTo>
                  <a:cubicBezTo>
                    <a:pt x="1613" y="706"/>
                    <a:pt x="1632" y="602"/>
                    <a:pt x="1661" y="477"/>
                  </a:cubicBezTo>
                  <a:cubicBezTo>
                    <a:pt x="1690" y="352"/>
                    <a:pt x="1746" y="122"/>
                    <a:pt x="1725" y="61"/>
                  </a:cubicBezTo>
                  <a:cubicBezTo>
                    <a:pt x="1704" y="0"/>
                    <a:pt x="1597" y="88"/>
                    <a:pt x="1533" y="109"/>
                  </a:cubicBezTo>
                  <a:cubicBezTo>
                    <a:pt x="1469" y="130"/>
                    <a:pt x="1458" y="173"/>
                    <a:pt x="1341" y="189"/>
                  </a:cubicBezTo>
                  <a:cubicBezTo>
                    <a:pt x="1224" y="205"/>
                    <a:pt x="997" y="205"/>
                    <a:pt x="829" y="205"/>
                  </a:cubicBezTo>
                  <a:cubicBezTo>
                    <a:pt x="661" y="205"/>
                    <a:pt x="466" y="212"/>
                    <a:pt x="333" y="189"/>
                  </a:cubicBezTo>
                  <a:cubicBezTo>
                    <a:pt x="200" y="166"/>
                    <a:pt x="92" y="94"/>
                    <a:pt x="29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00ffff"/>
                </a:gs>
                <a:gs pos="50000">
                  <a:srgbClr val="ffffff"/>
                </a:gs>
                <a:gs pos="100000">
                  <a:srgbClr val="00ffff"/>
                </a:gs>
              </a:gsLst>
              <a:lin ang="189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Oval 193"/>
            <p:cNvSpPr/>
            <p:nvPr/>
          </p:nvSpPr>
          <p:spPr>
            <a:xfrm rot="19282200">
              <a:off x="4966920" y="4787280"/>
              <a:ext cx="1868040" cy="397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800" rIns="82800" tIns="41400" bIns="414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82872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Freeform 194"/>
            <p:cNvSpPr/>
            <p:nvPr/>
          </p:nvSpPr>
          <p:spPr>
            <a:xfrm rot="20133000">
              <a:off x="6722280" y="4443480"/>
              <a:ext cx="510840" cy="966240"/>
            </a:xfrm>
            <a:custGeom>
              <a:avLst/>
              <a:gdLst>
                <a:gd name="textAreaLeft" fmla="*/ 0 w 510840"/>
                <a:gd name="textAreaRight" fmla="*/ 511200 w 510840"/>
                <a:gd name="textAreaTop" fmla="*/ 0 h 966240"/>
                <a:gd name="textAreaBottom" fmla="*/ 966600 h 966240"/>
              </a:gdLst>
              <a:ahLst/>
              <a:rect l="textAreaLeft" t="textAreaTop" r="textAreaRight" b="textAreaBottom"/>
              <a:pathLst>
                <a:path w="377" h="623">
                  <a:moveTo>
                    <a:pt x="102" y="270"/>
                  </a:moveTo>
                  <a:cubicBezTo>
                    <a:pt x="102" y="262"/>
                    <a:pt x="101" y="259"/>
                    <a:pt x="103" y="248"/>
                  </a:cubicBezTo>
                  <a:cubicBezTo>
                    <a:pt x="105" y="237"/>
                    <a:pt x="105" y="219"/>
                    <a:pt x="112" y="203"/>
                  </a:cubicBezTo>
                  <a:cubicBezTo>
                    <a:pt x="119" y="187"/>
                    <a:pt x="132" y="167"/>
                    <a:pt x="145" y="149"/>
                  </a:cubicBezTo>
                  <a:cubicBezTo>
                    <a:pt x="158" y="131"/>
                    <a:pt x="169" y="103"/>
                    <a:pt x="190" y="92"/>
                  </a:cubicBezTo>
                  <a:cubicBezTo>
                    <a:pt x="211" y="81"/>
                    <a:pt x="253" y="72"/>
                    <a:pt x="271" y="83"/>
                  </a:cubicBezTo>
                  <a:cubicBezTo>
                    <a:pt x="289" y="94"/>
                    <a:pt x="295" y="131"/>
                    <a:pt x="298" y="158"/>
                  </a:cubicBezTo>
                  <a:cubicBezTo>
                    <a:pt x="301" y="185"/>
                    <a:pt x="299" y="216"/>
                    <a:pt x="289" y="245"/>
                  </a:cubicBezTo>
                  <a:cubicBezTo>
                    <a:pt x="279" y="274"/>
                    <a:pt x="259" y="308"/>
                    <a:pt x="235" y="332"/>
                  </a:cubicBezTo>
                  <a:cubicBezTo>
                    <a:pt x="211" y="356"/>
                    <a:pt x="171" y="374"/>
                    <a:pt x="145" y="389"/>
                  </a:cubicBezTo>
                  <a:cubicBezTo>
                    <a:pt x="119" y="404"/>
                    <a:pt x="96" y="410"/>
                    <a:pt x="76" y="425"/>
                  </a:cubicBezTo>
                  <a:cubicBezTo>
                    <a:pt x="56" y="440"/>
                    <a:pt x="33" y="458"/>
                    <a:pt x="22" y="479"/>
                  </a:cubicBezTo>
                  <a:cubicBezTo>
                    <a:pt x="11" y="500"/>
                    <a:pt x="9" y="531"/>
                    <a:pt x="7" y="554"/>
                  </a:cubicBezTo>
                  <a:cubicBezTo>
                    <a:pt x="5" y="577"/>
                    <a:pt x="0" y="615"/>
                    <a:pt x="7" y="619"/>
                  </a:cubicBezTo>
                  <a:cubicBezTo>
                    <a:pt x="13" y="623"/>
                    <a:pt x="36" y="601"/>
                    <a:pt x="46" y="581"/>
                  </a:cubicBezTo>
                  <a:cubicBezTo>
                    <a:pt x="56" y="560"/>
                    <a:pt x="47" y="520"/>
                    <a:pt x="71" y="497"/>
                  </a:cubicBezTo>
                  <a:cubicBezTo>
                    <a:pt x="95" y="474"/>
                    <a:pt x="151" y="468"/>
                    <a:pt x="192" y="444"/>
                  </a:cubicBezTo>
                  <a:cubicBezTo>
                    <a:pt x="233" y="420"/>
                    <a:pt x="287" y="401"/>
                    <a:pt x="318" y="354"/>
                  </a:cubicBezTo>
                  <a:cubicBezTo>
                    <a:pt x="349" y="307"/>
                    <a:pt x="373" y="220"/>
                    <a:pt x="375" y="167"/>
                  </a:cubicBezTo>
                  <a:cubicBezTo>
                    <a:pt x="377" y="113"/>
                    <a:pt x="352" y="59"/>
                    <a:pt x="329" y="31"/>
                  </a:cubicBezTo>
                  <a:cubicBezTo>
                    <a:pt x="307" y="3"/>
                    <a:pt x="272" y="0"/>
                    <a:pt x="242" y="0"/>
                  </a:cubicBezTo>
                  <a:cubicBezTo>
                    <a:pt x="212" y="0"/>
                    <a:pt x="173" y="18"/>
                    <a:pt x="147" y="34"/>
                  </a:cubicBezTo>
                  <a:cubicBezTo>
                    <a:pt x="121" y="51"/>
                    <a:pt x="100" y="69"/>
                    <a:pt x="85" y="102"/>
                  </a:cubicBezTo>
                  <a:cubicBezTo>
                    <a:pt x="70" y="136"/>
                    <a:pt x="55" y="198"/>
                    <a:pt x="54" y="230"/>
                  </a:cubicBezTo>
                  <a:cubicBezTo>
                    <a:pt x="53" y="262"/>
                    <a:pt x="74" y="285"/>
                    <a:pt x="82" y="295"/>
                  </a:cubicBezTo>
                  <a:cubicBezTo>
                    <a:pt x="91" y="305"/>
                    <a:pt x="102" y="299"/>
                    <a:pt x="105" y="295"/>
                  </a:cubicBezTo>
                  <a:cubicBezTo>
                    <a:pt x="108" y="291"/>
                    <a:pt x="104" y="278"/>
                    <a:pt x="102" y="27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00ffff"/>
                </a:gs>
                <a:gs pos="100000">
                  <a:srgbClr val="ffffff"/>
                </a:gs>
              </a:gsLst>
              <a:lin ang="18048000"/>
            </a:gra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0" name="Group 195"/>
            <p:cNvGrpSpPr/>
            <p:nvPr/>
          </p:nvGrpSpPr>
          <p:grpSpPr>
            <a:xfrm>
              <a:off x="5685480" y="5068800"/>
              <a:ext cx="1218960" cy="995040"/>
              <a:chOff x="5685480" y="5068800"/>
              <a:chExt cx="1218960" cy="995040"/>
            </a:xfrm>
          </p:grpSpPr>
          <p:sp>
            <p:nvSpPr>
              <p:cNvPr id="311" name="Freeform 196"/>
              <p:cNvSpPr/>
              <p:nvPr/>
            </p:nvSpPr>
            <p:spPr>
              <a:xfrm flipH="1" rot="8094600">
                <a:off x="6178680" y="5188680"/>
                <a:ext cx="469080" cy="314640"/>
              </a:xfrm>
              <a:custGeom>
                <a:avLst/>
                <a:gdLst>
                  <a:gd name="textAreaLeft" fmla="*/ -360 w 469080"/>
                  <a:gd name="textAreaRight" fmla="*/ 469080 w 469080"/>
                  <a:gd name="textAreaTop" fmla="*/ 0 h 314640"/>
                  <a:gd name="textAreaBottom" fmla="*/ 315000 h 314640"/>
                </a:gdLst>
                <a:ahLst/>
                <a:rect l="textAreaLeft" t="textAreaTop" r="textAreaRight" b="textAreaBottom"/>
                <a:pathLst>
                  <a:path w="1025" h="808">
                    <a:moveTo>
                      <a:pt x="49" y="523"/>
                    </a:moveTo>
                    <a:cubicBezTo>
                      <a:pt x="57" y="531"/>
                      <a:pt x="42" y="535"/>
                      <a:pt x="49" y="571"/>
                    </a:cubicBezTo>
                    <a:cubicBezTo>
                      <a:pt x="56" y="607"/>
                      <a:pt x="53" y="735"/>
                      <a:pt x="89" y="739"/>
                    </a:cubicBezTo>
                    <a:cubicBezTo>
                      <a:pt x="125" y="743"/>
                      <a:pt x="228" y="616"/>
                      <a:pt x="265" y="595"/>
                    </a:cubicBezTo>
                    <a:cubicBezTo>
                      <a:pt x="302" y="574"/>
                      <a:pt x="310" y="579"/>
                      <a:pt x="313" y="611"/>
                    </a:cubicBezTo>
                    <a:cubicBezTo>
                      <a:pt x="316" y="643"/>
                      <a:pt x="252" y="766"/>
                      <a:pt x="281" y="787"/>
                    </a:cubicBezTo>
                    <a:cubicBezTo>
                      <a:pt x="310" y="808"/>
                      <a:pt x="441" y="758"/>
                      <a:pt x="489" y="739"/>
                    </a:cubicBezTo>
                    <a:cubicBezTo>
                      <a:pt x="537" y="720"/>
                      <a:pt x="548" y="675"/>
                      <a:pt x="569" y="675"/>
                    </a:cubicBezTo>
                    <a:cubicBezTo>
                      <a:pt x="590" y="675"/>
                      <a:pt x="568" y="740"/>
                      <a:pt x="617" y="739"/>
                    </a:cubicBezTo>
                    <a:cubicBezTo>
                      <a:pt x="666" y="738"/>
                      <a:pt x="800" y="679"/>
                      <a:pt x="865" y="667"/>
                    </a:cubicBezTo>
                    <a:cubicBezTo>
                      <a:pt x="930" y="655"/>
                      <a:pt x="993" y="675"/>
                      <a:pt x="1009" y="667"/>
                    </a:cubicBezTo>
                    <a:cubicBezTo>
                      <a:pt x="1025" y="659"/>
                      <a:pt x="984" y="652"/>
                      <a:pt x="961" y="619"/>
                    </a:cubicBezTo>
                    <a:cubicBezTo>
                      <a:pt x="938" y="586"/>
                      <a:pt x="882" y="511"/>
                      <a:pt x="873" y="467"/>
                    </a:cubicBezTo>
                    <a:cubicBezTo>
                      <a:pt x="864" y="423"/>
                      <a:pt x="905" y="387"/>
                      <a:pt x="905" y="355"/>
                    </a:cubicBezTo>
                    <a:cubicBezTo>
                      <a:pt x="905" y="323"/>
                      <a:pt x="916" y="272"/>
                      <a:pt x="873" y="275"/>
                    </a:cubicBezTo>
                    <a:cubicBezTo>
                      <a:pt x="830" y="278"/>
                      <a:pt x="684" y="376"/>
                      <a:pt x="649" y="371"/>
                    </a:cubicBezTo>
                    <a:cubicBezTo>
                      <a:pt x="614" y="366"/>
                      <a:pt x="668" y="275"/>
                      <a:pt x="665" y="243"/>
                    </a:cubicBezTo>
                    <a:cubicBezTo>
                      <a:pt x="662" y="211"/>
                      <a:pt x="638" y="200"/>
                      <a:pt x="633" y="179"/>
                    </a:cubicBezTo>
                    <a:cubicBezTo>
                      <a:pt x="628" y="158"/>
                      <a:pt x="690" y="106"/>
                      <a:pt x="633" y="115"/>
                    </a:cubicBezTo>
                    <a:cubicBezTo>
                      <a:pt x="576" y="124"/>
                      <a:pt x="326" y="224"/>
                      <a:pt x="289" y="235"/>
                    </a:cubicBezTo>
                    <a:cubicBezTo>
                      <a:pt x="252" y="246"/>
                      <a:pt x="397" y="196"/>
                      <a:pt x="409" y="179"/>
                    </a:cubicBezTo>
                    <a:cubicBezTo>
                      <a:pt x="421" y="162"/>
                      <a:pt x="380" y="155"/>
                      <a:pt x="361" y="131"/>
                    </a:cubicBezTo>
                    <a:cubicBezTo>
                      <a:pt x="342" y="107"/>
                      <a:pt x="350" y="0"/>
                      <a:pt x="297" y="35"/>
                    </a:cubicBezTo>
                    <a:cubicBezTo>
                      <a:pt x="244" y="70"/>
                      <a:pt x="82" y="258"/>
                      <a:pt x="41" y="339"/>
                    </a:cubicBezTo>
                    <a:cubicBezTo>
                      <a:pt x="0" y="420"/>
                      <a:pt x="47" y="485"/>
                      <a:pt x="49" y="52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ff00"/>
                  </a:gs>
                  <a:gs pos="50000">
                    <a:srgbClr val="003300"/>
                  </a:gs>
                  <a:gs pos="100000">
                    <a:srgbClr val="00ff00"/>
                  </a:gs>
                </a:gsLst>
                <a:lin ang="21096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Freeform 197"/>
              <p:cNvSpPr/>
              <p:nvPr/>
            </p:nvSpPr>
            <p:spPr>
              <a:xfrm flipH="1" rot="12109800">
                <a:off x="6207840" y="5526360"/>
                <a:ext cx="471960" cy="312480"/>
              </a:xfrm>
              <a:custGeom>
                <a:avLst/>
                <a:gdLst>
                  <a:gd name="textAreaLeft" fmla="*/ -360 w 471960"/>
                  <a:gd name="textAreaRight" fmla="*/ 471960 w 471960"/>
                  <a:gd name="textAreaTop" fmla="*/ 0 h 312480"/>
                  <a:gd name="textAreaBottom" fmla="*/ 312840 h 312480"/>
                </a:gdLst>
                <a:ahLst/>
                <a:rect l="textAreaLeft" t="textAreaTop" r="textAreaRight" b="textAreaBottom"/>
                <a:pathLst>
                  <a:path w="1025" h="808">
                    <a:moveTo>
                      <a:pt x="49" y="523"/>
                    </a:moveTo>
                    <a:cubicBezTo>
                      <a:pt x="57" y="531"/>
                      <a:pt x="42" y="535"/>
                      <a:pt x="49" y="571"/>
                    </a:cubicBezTo>
                    <a:cubicBezTo>
                      <a:pt x="56" y="607"/>
                      <a:pt x="53" y="735"/>
                      <a:pt x="89" y="739"/>
                    </a:cubicBezTo>
                    <a:cubicBezTo>
                      <a:pt x="125" y="743"/>
                      <a:pt x="228" y="616"/>
                      <a:pt x="265" y="595"/>
                    </a:cubicBezTo>
                    <a:cubicBezTo>
                      <a:pt x="302" y="574"/>
                      <a:pt x="310" y="579"/>
                      <a:pt x="313" y="611"/>
                    </a:cubicBezTo>
                    <a:cubicBezTo>
                      <a:pt x="316" y="643"/>
                      <a:pt x="252" y="766"/>
                      <a:pt x="281" y="787"/>
                    </a:cubicBezTo>
                    <a:cubicBezTo>
                      <a:pt x="310" y="808"/>
                      <a:pt x="441" y="758"/>
                      <a:pt x="489" y="739"/>
                    </a:cubicBezTo>
                    <a:cubicBezTo>
                      <a:pt x="537" y="720"/>
                      <a:pt x="548" y="675"/>
                      <a:pt x="569" y="675"/>
                    </a:cubicBezTo>
                    <a:cubicBezTo>
                      <a:pt x="590" y="675"/>
                      <a:pt x="568" y="740"/>
                      <a:pt x="617" y="739"/>
                    </a:cubicBezTo>
                    <a:cubicBezTo>
                      <a:pt x="666" y="738"/>
                      <a:pt x="800" y="679"/>
                      <a:pt x="865" y="667"/>
                    </a:cubicBezTo>
                    <a:cubicBezTo>
                      <a:pt x="930" y="655"/>
                      <a:pt x="993" y="675"/>
                      <a:pt x="1009" y="667"/>
                    </a:cubicBezTo>
                    <a:cubicBezTo>
                      <a:pt x="1025" y="659"/>
                      <a:pt x="984" y="652"/>
                      <a:pt x="961" y="619"/>
                    </a:cubicBezTo>
                    <a:cubicBezTo>
                      <a:pt x="938" y="586"/>
                      <a:pt x="882" y="511"/>
                      <a:pt x="873" y="467"/>
                    </a:cubicBezTo>
                    <a:cubicBezTo>
                      <a:pt x="864" y="423"/>
                      <a:pt x="905" y="387"/>
                      <a:pt x="905" y="355"/>
                    </a:cubicBezTo>
                    <a:cubicBezTo>
                      <a:pt x="905" y="323"/>
                      <a:pt x="916" y="272"/>
                      <a:pt x="873" y="275"/>
                    </a:cubicBezTo>
                    <a:cubicBezTo>
                      <a:pt x="830" y="278"/>
                      <a:pt x="684" y="376"/>
                      <a:pt x="649" y="371"/>
                    </a:cubicBezTo>
                    <a:cubicBezTo>
                      <a:pt x="614" y="366"/>
                      <a:pt x="668" y="275"/>
                      <a:pt x="665" y="243"/>
                    </a:cubicBezTo>
                    <a:cubicBezTo>
                      <a:pt x="662" y="211"/>
                      <a:pt x="638" y="200"/>
                      <a:pt x="633" y="179"/>
                    </a:cubicBezTo>
                    <a:cubicBezTo>
                      <a:pt x="628" y="158"/>
                      <a:pt x="690" y="106"/>
                      <a:pt x="633" y="115"/>
                    </a:cubicBezTo>
                    <a:cubicBezTo>
                      <a:pt x="576" y="124"/>
                      <a:pt x="326" y="224"/>
                      <a:pt x="289" y="235"/>
                    </a:cubicBezTo>
                    <a:cubicBezTo>
                      <a:pt x="252" y="246"/>
                      <a:pt x="397" y="196"/>
                      <a:pt x="409" y="179"/>
                    </a:cubicBezTo>
                    <a:cubicBezTo>
                      <a:pt x="421" y="162"/>
                      <a:pt x="380" y="155"/>
                      <a:pt x="361" y="131"/>
                    </a:cubicBezTo>
                    <a:cubicBezTo>
                      <a:pt x="342" y="107"/>
                      <a:pt x="350" y="0"/>
                      <a:pt x="297" y="35"/>
                    </a:cubicBezTo>
                    <a:cubicBezTo>
                      <a:pt x="244" y="70"/>
                      <a:pt x="82" y="258"/>
                      <a:pt x="41" y="339"/>
                    </a:cubicBezTo>
                    <a:cubicBezTo>
                      <a:pt x="0" y="420"/>
                      <a:pt x="47" y="485"/>
                      <a:pt x="49" y="52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ff00"/>
                  </a:gs>
                  <a:gs pos="50000">
                    <a:srgbClr val="003300"/>
                  </a:gs>
                  <a:gs pos="100000">
                    <a:srgbClr val="00ff00"/>
                  </a:gs>
                </a:gsLst>
                <a:lin ang="351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Freeform 198"/>
              <p:cNvSpPr/>
              <p:nvPr/>
            </p:nvSpPr>
            <p:spPr>
              <a:xfrm flipV="1" rot="5898600">
                <a:off x="5963040" y="5173560"/>
                <a:ext cx="719280" cy="760680"/>
              </a:xfrm>
              <a:custGeom>
                <a:avLst/>
                <a:gdLst>
                  <a:gd name="textAreaLeft" fmla="*/ 0 w 719280"/>
                  <a:gd name="textAreaRight" fmla="*/ 719640 w 719280"/>
                  <a:gd name="textAreaTop" fmla="*/ -360 h 760680"/>
                  <a:gd name="textAreaBottom" fmla="*/ 760680 h 760680"/>
                </a:gdLst>
                <a:ahLst/>
                <a:rect l="textAreaLeft" t="textAreaTop" r="textAreaRight" b="textAreaBottom"/>
                <a:pathLst>
                  <a:path w="1104" h="1160">
                    <a:moveTo>
                      <a:pt x="1104" y="0"/>
                    </a:moveTo>
                    <a:cubicBezTo>
                      <a:pt x="980" y="16"/>
                      <a:pt x="856" y="32"/>
                      <a:pt x="768" y="96"/>
                    </a:cubicBezTo>
                    <a:cubicBezTo>
                      <a:pt x="680" y="160"/>
                      <a:pt x="640" y="264"/>
                      <a:pt x="576" y="384"/>
                    </a:cubicBezTo>
                    <a:cubicBezTo>
                      <a:pt x="512" y="504"/>
                      <a:pt x="448" y="696"/>
                      <a:pt x="384" y="816"/>
                    </a:cubicBezTo>
                    <a:cubicBezTo>
                      <a:pt x="320" y="936"/>
                      <a:pt x="256" y="1048"/>
                      <a:pt x="192" y="1104"/>
                    </a:cubicBezTo>
                    <a:cubicBezTo>
                      <a:pt x="128" y="1160"/>
                      <a:pt x="64" y="1156"/>
                      <a:pt x="0" y="1152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14" name="Group 199"/>
              <p:cNvGrpSpPr/>
              <p:nvPr/>
            </p:nvGrpSpPr>
            <p:grpSpPr>
              <a:xfrm>
                <a:off x="6192720" y="5365800"/>
                <a:ext cx="151560" cy="185040"/>
                <a:chOff x="6192720" y="5365800"/>
                <a:chExt cx="151560" cy="185040"/>
              </a:xfrm>
            </p:grpSpPr>
            <p:sp>
              <p:nvSpPr>
                <p:cNvPr id="315" name="Oval 200"/>
                <p:cNvSpPr/>
                <p:nvPr/>
              </p:nvSpPr>
              <p:spPr>
                <a:xfrm flipV="1" rot="5898600">
                  <a:off x="6210720" y="5373000"/>
                  <a:ext cx="124920" cy="125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0066"/>
                    </a:gs>
                    <a:gs pos="100000">
                      <a:srgbClr val="8c003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2800" rIns="82800" tIns="41400" bIns="414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828720"/>
                      <a:tab algn="l" pos="1657440"/>
                      <a:tab algn="l" pos="2486160"/>
                      <a:tab algn="l" pos="3314880"/>
                      <a:tab algn="l" pos="4143240"/>
                      <a:tab algn="l" pos="4971960"/>
                      <a:tab algn="l" pos="5800680"/>
                      <a:tab algn="l" pos="6629400"/>
                      <a:tab algn="l" pos="7458120"/>
                      <a:tab algn="l" pos="8286840"/>
                      <a:tab algn="l" pos="9115560"/>
                      <a:tab algn="l" pos="9944280"/>
                      <a:tab algn="l" pos="107726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Line 201"/>
                <p:cNvSpPr/>
                <p:nvPr/>
              </p:nvSpPr>
              <p:spPr>
                <a:xfrm flipH="1">
                  <a:off x="6192720" y="5493600"/>
                  <a:ext cx="40320" cy="57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7" name="Group 202"/>
              <p:cNvGrpSpPr/>
              <p:nvPr/>
            </p:nvGrpSpPr>
            <p:grpSpPr>
              <a:xfrm>
                <a:off x="5959800" y="5340600"/>
                <a:ext cx="184320" cy="243360"/>
                <a:chOff x="5959800" y="5340600"/>
                <a:chExt cx="184320" cy="243360"/>
              </a:xfrm>
            </p:grpSpPr>
            <p:sp>
              <p:nvSpPr>
                <p:cNvPr id="318" name="Oval 203"/>
                <p:cNvSpPr/>
                <p:nvPr/>
              </p:nvSpPr>
              <p:spPr>
                <a:xfrm flipV="1" rot="4384200">
                  <a:off x="5982120" y="5353920"/>
                  <a:ext cx="139320" cy="150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0066"/>
                    </a:gs>
                    <a:gs pos="100000">
                      <a:srgbClr val="8c003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2800" rIns="82800" tIns="41400" bIns="414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828720"/>
                      <a:tab algn="l" pos="1657440"/>
                      <a:tab algn="l" pos="2486160"/>
                      <a:tab algn="l" pos="3314880"/>
                      <a:tab algn="l" pos="4143240"/>
                      <a:tab algn="l" pos="4971960"/>
                      <a:tab algn="l" pos="5800680"/>
                      <a:tab algn="l" pos="6629400"/>
                      <a:tab algn="l" pos="7458120"/>
                      <a:tab algn="l" pos="8286840"/>
                      <a:tab algn="l" pos="9115560"/>
                      <a:tab algn="l" pos="9944280"/>
                      <a:tab algn="l" pos="107726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Line 204"/>
                <p:cNvSpPr/>
                <p:nvPr/>
              </p:nvSpPr>
              <p:spPr>
                <a:xfrm flipH="1">
                  <a:off x="6021000" y="5506560"/>
                  <a:ext cx="15480" cy="774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0" name="Group 205"/>
              <p:cNvGrpSpPr/>
              <p:nvPr/>
            </p:nvGrpSpPr>
            <p:grpSpPr>
              <a:xfrm>
                <a:off x="6640560" y="5243040"/>
                <a:ext cx="97920" cy="128520"/>
                <a:chOff x="6640560" y="5243040"/>
                <a:chExt cx="97920" cy="128520"/>
              </a:xfrm>
            </p:grpSpPr>
            <p:sp>
              <p:nvSpPr>
                <p:cNvPr id="321" name="Oval 206"/>
                <p:cNvSpPr/>
                <p:nvPr/>
              </p:nvSpPr>
              <p:spPr>
                <a:xfrm flipV="1" rot="5254800">
                  <a:off x="6647760" y="5238720"/>
                  <a:ext cx="82800" cy="94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0066"/>
                    </a:gs>
                    <a:gs pos="100000">
                      <a:srgbClr val="8c003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2800" rIns="82800" tIns="25560" bIns="2556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828720"/>
                      <a:tab algn="l" pos="1657440"/>
                      <a:tab algn="l" pos="2486160"/>
                      <a:tab algn="l" pos="3314880"/>
                      <a:tab algn="l" pos="4143240"/>
                      <a:tab algn="l" pos="4971960"/>
                      <a:tab algn="l" pos="5800680"/>
                      <a:tab algn="l" pos="6629400"/>
                      <a:tab algn="l" pos="7458120"/>
                      <a:tab algn="l" pos="8286840"/>
                      <a:tab algn="l" pos="9115560"/>
                      <a:tab algn="l" pos="9944280"/>
                      <a:tab algn="l" pos="107726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Line 207"/>
                <p:cNvSpPr/>
                <p:nvPr/>
              </p:nvSpPr>
              <p:spPr>
                <a:xfrm flipH="1">
                  <a:off x="6645600" y="5329440"/>
                  <a:ext cx="21600" cy="421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3" name="Group 208"/>
              <p:cNvGrpSpPr/>
              <p:nvPr/>
            </p:nvGrpSpPr>
            <p:grpSpPr>
              <a:xfrm>
                <a:off x="6732360" y="5221440"/>
                <a:ext cx="111600" cy="123480"/>
                <a:chOff x="6732360" y="5221440"/>
                <a:chExt cx="111600" cy="123480"/>
              </a:xfrm>
            </p:grpSpPr>
            <p:sp>
              <p:nvSpPr>
                <p:cNvPr id="324" name="Oval 209"/>
                <p:cNvSpPr/>
                <p:nvPr/>
              </p:nvSpPr>
              <p:spPr>
                <a:xfrm flipV="1" rot="5898600">
                  <a:off x="6749280" y="5221800"/>
                  <a:ext cx="83160" cy="94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0066"/>
                    </a:gs>
                    <a:gs pos="100000">
                      <a:srgbClr val="8c003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2800" rIns="82800" tIns="25560" bIns="2556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828720"/>
                      <a:tab algn="l" pos="1657440"/>
                      <a:tab algn="l" pos="2486160"/>
                      <a:tab algn="l" pos="3314880"/>
                      <a:tab algn="l" pos="4143240"/>
                      <a:tab algn="l" pos="4971960"/>
                      <a:tab algn="l" pos="5800680"/>
                      <a:tab algn="l" pos="6629400"/>
                      <a:tab algn="l" pos="7458120"/>
                      <a:tab algn="l" pos="8286840"/>
                      <a:tab algn="l" pos="9115560"/>
                      <a:tab algn="l" pos="9944280"/>
                      <a:tab algn="l" pos="107726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Line 210"/>
                <p:cNvSpPr/>
                <p:nvPr/>
              </p:nvSpPr>
              <p:spPr>
                <a:xfrm flipH="1">
                  <a:off x="6732360" y="5307120"/>
                  <a:ext cx="29160" cy="378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6" name="Group 211"/>
              <p:cNvGrpSpPr/>
              <p:nvPr/>
            </p:nvGrpSpPr>
            <p:grpSpPr>
              <a:xfrm>
                <a:off x="6330960" y="5511960"/>
                <a:ext cx="142200" cy="203400"/>
                <a:chOff x="6330960" y="5511960"/>
                <a:chExt cx="142200" cy="203400"/>
              </a:xfrm>
            </p:grpSpPr>
            <p:sp>
              <p:nvSpPr>
                <p:cNvPr id="327" name="Oval 212"/>
                <p:cNvSpPr/>
                <p:nvPr/>
              </p:nvSpPr>
              <p:spPr>
                <a:xfrm flipH="1" flipV="1" rot="5898600">
                  <a:off x="6338880" y="5581800"/>
                  <a:ext cx="124920" cy="125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0066"/>
                    </a:gs>
                    <a:gs pos="100000">
                      <a:srgbClr val="8c003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2800" rIns="82800" tIns="41400" bIns="414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828720"/>
                      <a:tab algn="l" pos="1657440"/>
                      <a:tab algn="l" pos="2486160"/>
                      <a:tab algn="l" pos="3314880"/>
                      <a:tab algn="l" pos="4143240"/>
                      <a:tab algn="l" pos="4971960"/>
                      <a:tab algn="l" pos="5800680"/>
                      <a:tab algn="l" pos="6629400"/>
                      <a:tab algn="l" pos="7458120"/>
                      <a:tab algn="l" pos="8286840"/>
                      <a:tab algn="l" pos="9115560"/>
                      <a:tab algn="l" pos="9944280"/>
                      <a:tab algn="l" pos="107726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Line 213"/>
                <p:cNvSpPr/>
                <p:nvPr/>
              </p:nvSpPr>
              <p:spPr>
                <a:xfrm flipH="1" flipV="1">
                  <a:off x="6357960" y="5511960"/>
                  <a:ext cx="21960" cy="66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9" name="Group 214"/>
              <p:cNvGrpSpPr/>
              <p:nvPr/>
            </p:nvGrpSpPr>
            <p:grpSpPr>
              <a:xfrm>
                <a:off x="6504840" y="5411160"/>
                <a:ext cx="142200" cy="203400"/>
                <a:chOff x="6504840" y="5411160"/>
                <a:chExt cx="142200" cy="203400"/>
              </a:xfrm>
            </p:grpSpPr>
            <p:sp>
              <p:nvSpPr>
                <p:cNvPr id="330" name="Oval 215"/>
                <p:cNvSpPr/>
                <p:nvPr/>
              </p:nvSpPr>
              <p:spPr>
                <a:xfrm flipH="1" flipV="1" rot="5898600">
                  <a:off x="6512760" y="5481000"/>
                  <a:ext cx="124920" cy="125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0066"/>
                    </a:gs>
                    <a:gs pos="100000">
                      <a:srgbClr val="8c003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2800" rIns="82800" tIns="41400" bIns="414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828720"/>
                      <a:tab algn="l" pos="1657440"/>
                      <a:tab algn="l" pos="2486160"/>
                      <a:tab algn="l" pos="3314880"/>
                      <a:tab algn="l" pos="4143240"/>
                      <a:tab algn="l" pos="4971960"/>
                      <a:tab algn="l" pos="5800680"/>
                      <a:tab algn="l" pos="6629400"/>
                      <a:tab algn="l" pos="7458120"/>
                      <a:tab algn="l" pos="8286840"/>
                      <a:tab algn="l" pos="9115560"/>
                      <a:tab algn="l" pos="9944280"/>
                      <a:tab algn="l" pos="107726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Line 216"/>
                <p:cNvSpPr/>
                <p:nvPr/>
              </p:nvSpPr>
              <p:spPr>
                <a:xfrm flipH="1" flipV="1">
                  <a:off x="6531480" y="5411160"/>
                  <a:ext cx="22320" cy="66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2" name="Group 217"/>
              <p:cNvGrpSpPr/>
              <p:nvPr/>
            </p:nvGrpSpPr>
            <p:grpSpPr>
              <a:xfrm>
                <a:off x="6577560" y="5397840"/>
                <a:ext cx="153720" cy="124560"/>
                <a:chOff x="6577560" y="5397840"/>
                <a:chExt cx="153720" cy="124560"/>
              </a:xfrm>
            </p:grpSpPr>
            <p:sp>
              <p:nvSpPr>
                <p:cNvPr id="333" name="Oval 218"/>
                <p:cNvSpPr/>
                <p:nvPr/>
              </p:nvSpPr>
              <p:spPr>
                <a:xfrm flipH="1" flipV="1" rot="2946600">
                  <a:off x="6625800" y="5413320"/>
                  <a:ext cx="84240" cy="93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0066"/>
                    </a:gs>
                    <a:gs pos="100000">
                      <a:srgbClr val="8c003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2800" rIns="82800" tIns="24480" bIns="2448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828720"/>
                      <a:tab algn="l" pos="1657440"/>
                      <a:tab algn="l" pos="2486160"/>
                      <a:tab algn="l" pos="3314880"/>
                      <a:tab algn="l" pos="4143240"/>
                      <a:tab algn="l" pos="4971960"/>
                      <a:tab algn="l" pos="5800680"/>
                      <a:tab algn="l" pos="6629400"/>
                      <a:tab algn="l" pos="7458120"/>
                      <a:tab algn="l" pos="8286840"/>
                      <a:tab algn="l" pos="9115560"/>
                      <a:tab algn="l" pos="9944280"/>
                      <a:tab algn="l" pos="107726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Line 219"/>
                <p:cNvSpPr/>
                <p:nvPr/>
              </p:nvSpPr>
              <p:spPr>
                <a:xfrm flipH="1" flipV="1">
                  <a:off x="6577560" y="5427000"/>
                  <a:ext cx="45360" cy="165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5" name="Group 220"/>
              <p:cNvGrpSpPr/>
              <p:nvPr/>
            </p:nvGrpSpPr>
            <p:grpSpPr>
              <a:xfrm>
                <a:off x="6722280" y="5280840"/>
                <a:ext cx="182160" cy="140760"/>
                <a:chOff x="6722280" y="5280840"/>
                <a:chExt cx="182160" cy="140760"/>
              </a:xfrm>
            </p:grpSpPr>
            <p:sp>
              <p:nvSpPr>
                <p:cNvPr id="336" name="Oval 221"/>
                <p:cNvSpPr/>
                <p:nvPr/>
              </p:nvSpPr>
              <p:spPr>
                <a:xfrm flipH="1" flipV="1" rot="1805400">
                  <a:off x="6784920" y="5298120"/>
                  <a:ext cx="99720" cy="104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0066"/>
                    </a:gs>
                    <a:gs pos="100000">
                      <a:srgbClr val="8c003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2800" rIns="82800" tIns="33120" bIns="331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828720"/>
                      <a:tab algn="l" pos="1657440"/>
                      <a:tab algn="l" pos="2486160"/>
                      <a:tab algn="l" pos="3314880"/>
                      <a:tab algn="l" pos="4143240"/>
                      <a:tab algn="l" pos="4971960"/>
                      <a:tab algn="l" pos="5800680"/>
                      <a:tab algn="l" pos="6629400"/>
                      <a:tab algn="l" pos="7458120"/>
                      <a:tab algn="l" pos="8286840"/>
                      <a:tab algn="l" pos="9115560"/>
                      <a:tab algn="l" pos="9944280"/>
                      <a:tab algn="l" pos="107726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Line 222"/>
                <p:cNvSpPr/>
                <p:nvPr/>
              </p:nvSpPr>
              <p:spPr>
                <a:xfrm flipH="1" flipV="1">
                  <a:off x="6722280" y="5347440"/>
                  <a:ext cx="56160" cy="21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8" name="Group 223"/>
              <p:cNvGrpSpPr/>
              <p:nvPr/>
            </p:nvGrpSpPr>
            <p:grpSpPr>
              <a:xfrm>
                <a:off x="6505560" y="5257440"/>
                <a:ext cx="131040" cy="192240"/>
                <a:chOff x="6505560" y="5257440"/>
                <a:chExt cx="131040" cy="192240"/>
              </a:xfrm>
            </p:grpSpPr>
            <p:sp>
              <p:nvSpPr>
                <p:cNvPr id="339" name="Oval 224"/>
                <p:cNvSpPr/>
                <p:nvPr/>
              </p:nvSpPr>
              <p:spPr>
                <a:xfrm flipV="1" rot="5254800">
                  <a:off x="6508440" y="5259240"/>
                  <a:ext cx="124920" cy="125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0066"/>
                    </a:gs>
                    <a:gs pos="100000">
                      <a:srgbClr val="8c003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2800" rIns="82800" tIns="41400" bIns="414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828720"/>
                      <a:tab algn="l" pos="1657440"/>
                      <a:tab algn="l" pos="2486160"/>
                      <a:tab algn="l" pos="3314880"/>
                      <a:tab algn="l" pos="4143240"/>
                      <a:tab algn="l" pos="4971960"/>
                      <a:tab algn="l" pos="5800680"/>
                      <a:tab algn="l" pos="6629400"/>
                      <a:tab algn="l" pos="7458120"/>
                      <a:tab algn="l" pos="8286840"/>
                      <a:tab algn="l" pos="9115560"/>
                      <a:tab algn="l" pos="9944280"/>
                      <a:tab algn="l" pos="107726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Line 225"/>
                <p:cNvSpPr/>
                <p:nvPr/>
              </p:nvSpPr>
              <p:spPr>
                <a:xfrm flipH="1">
                  <a:off x="6513120" y="5385960"/>
                  <a:ext cx="28800" cy="637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1" name="Group 226"/>
              <p:cNvGrpSpPr/>
              <p:nvPr/>
            </p:nvGrpSpPr>
            <p:grpSpPr>
              <a:xfrm>
                <a:off x="6702120" y="5374440"/>
                <a:ext cx="134640" cy="115560"/>
                <a:chOff x="6702120" y="5374440"/>
                <a:chExt cx="134640" cy="115560"/>
              </a:xfrm>
            </p:grpSpPr>
            <p:sp>
              <p:nvSpPr>
                <p:cNvPr id="342" name="Oval 227"/>
                <p:cNvSpPr/>
                <p:nvPr/>
              </p:nvSpPr>
              <p:spPr>
                <a:xfrm flipH="1" flipV="1" rot="4034400">
                  <a:off x="6735240" y="5386320"/>
                  <a:ext cx="83880" cy="93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0066"/>
                    </a:gs>
                    <a:gs pos="100000">
                      <a:srgbClr val="8c003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2800" rIns="82800" tIns="24480" bIns="2448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828720"/>
                      <a:tab algn="l" pos="1657440"/>
                      <a:tab algn="l" pos="2486160"/>
                      <a:tab algn="l" pos="3314880"/>
                      <a:tab algn="l" pos="4143240"/>
                      <a:tab algn="l" pos="4971960"/>
                      <a:tab algn="l" pos="5800680"/>
                      <a:tab algn="l" pos="6629400"/>
                      <a:tab algn="l" pos="7458120"/>
                      <a:tab algn="l" pos="8286840"/>
                      <a:tab algn="l" pos="9115560"/>
                      <a:tab algn="l" pos="9944280"/>
                      <a:tab algn="l" pos="107726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Line 228"/>
                <p:cNvSpPr/>
                <p:nvPr/>
              </p:nvSpPr>
              <p:spPr>
                <a:xfrm flipH="1" flipV="1">
                  <a:off x="6702120" y="5374440"/>
                  <a:ext cx="37440" cy="295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4" name="Group 229"/>
              <p:cNvGrpSpPr/>
              <p:nvPr/>
            </p:nvGrpSpPr>
            <p:grpSpPr>
              <a:xfrm>
                <a:off x="6095160" y="5542200"/>
                <a:ext cx="179640" cy="270000"/>
                <a:chOff x="6095160" y="5542200"/>
                <a:chExt cx="179640" cy="270000"/>
              </a:xfrm>
            </p:grpSpPr>
            <p:sp>
              <p:nvSpPr>
                <p:cNvPr id="345" name="Oval 230"/>
                <p:cNvSpPr/>
                <p:nvPr/>
              </p:nvSpPr>
              <p:spPr>
                <a:xfrm flipH="1" flipV="1" rot="5898600">
                  <a:off x="6100920" y="5639040"/>
                  <a:ext cx="166680" cy="157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0066"/>
                    </a:gs>
                    <a:gs pos="100000">
                      <a:srgbClr val="8c003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2800" rIns="82800" tIns="41400" bIns="414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828720"/>
                      <a:tab algn="l" pos="1657440"/>
                      <a:tab algn="l" pos="2486160"/>
                      <a:tab algn="l" pos="3314880"/>
                      <a:tab algn="l" pos="4143240"/>
                      <a:tab algn="l" pos="4971960"/>
                      <a:tab algn="l" pos="5800680"/>
                      <a:tab algn="l" pos="6629400"/>
                      <a:tab algn="l" pos="7458120"/>
                      <a:tab algn="l" pos="8286840"/>
                      <a:tab algn="l" pos="9115560"/>
                      <a:tab algn="l" pos="9944280"/>
                      <a:tab algn="l" pos="107726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Line 231"/>
                <p:cNvSpPr/>
                <p:nvPr/>
              </p:nvSpPr>
              <p:spPr>
                <a:xfrm flipH="1" flipV="1">
                  <a:off x="6130800" y="5542200"/>
                  <a:ext cx="27000" cy="878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Freeform 232"/>
              <p:cNvSpPr/>
              <p:nvPr/>
            </p:nvSpPr>
            <p:spPr>
              <a:xfrm flipV="1" rot="16698600">
                <a:off x="5640480" y="5393880"/>
                <a:ext cx="469080" cy="314640"/>
              </a:xfrm>
              <a:custGeom>
                <a:avLst/>
                <a:gdLst>
                  <a:gd name="textAreaLeft" fmla="*/ 0 w 469080"/>
                  <a:gd name="textAreaRight" fmla="*/ 469440 w 469080"/>
                  <a:gd name="textAreaTop" fmla="*/ 360 h 314640"/>
                  <a:gd name="textAreaBottom" fmla="*/ 315360 h 314640"/>
                </a:gdLst>
                <a:ahLst/>
                <a:rect l="textAreaLeft" t="textAreaTop" r="textAreaRight" b="textAreaBottom"/>
                <a:pathLst>
                  <a:path w="1025" h="808">
                    <a:moveTo>
                      <a:pt x="49" y="523"/>
                    </a:moveTo>
                    <a:cubicBezTo>
                      <a:pt x="57" y="531"/>
                      <a:pt x="42" y="535"/>
                      <a:pt x="49" y="571"/>
                    </a:cubicBezTo>
                    <a:cubicBezTo>
                      <a:pt x="56" y="607"/>
                      <a:pt x="53" y="735"/>
                      <a:pt x="89" y="739"/>
                    </a:cubicBezTo>
                    <a:cubicBezTo>
                      <a:pt x="125" y="743"/>
                      <a:pt x="228" y="616"/>
                      <a:pt x="265" y="595"/>
                    </a:cubicBezTo>
                    <a:cubicBezTo>
                      <a:pt x="302" y="574"/>
                      <a:pt x="310" y="579"/>
                      <a:pt x="313" y="611"/>
                    </a:cubicBezTo>
                    <a:cubicBezTo>
                      <a:pt x="316" y="643"/>
                      <a:pt x="252" y="766"/>
                      <a:pt x="281" y="787"/>
                    </a:cubicBezTo>
                    <a:cubicBezTo>
                      <a:pt x="310" y="808"/>
                      <a:pt x="441" y="758"/>
                      <a:pt x="489" y="739"/>
                    </a:cubicBezTo>
                    <a:cubicBezTo>
                      <a:pt x="537" y="720"/>
                      <a:pt x="548" y="675"/>
                      <a:pt x="569" y="675"/>
                    </a:cubicBezTo>
                    <a:cubicBezTo>
                      <a:pt x="590" y="675"/>
                      <a:pt x="568" y="740"/>
                      <a:pt x="617" y="739"/>
                    </a:cubicBezTo>
                    <a:cubicBezTo>
                      <a:pt x="666" y="738"/>
                      <a:pt x="800" y="679"/>
                      <a:pt x="865" y="667"/>
                    </a:cubicBezTo>
                    <a:cubicBezTo>
                      <a:pt x="930" y="655"/>
                      <a:pt x="993" y="675"/>
                      <a:pt x="1009" y="667"/>
                    </a:cubicBezTo>
                    <a:cubicBezTo>
                      <a:pt x="1025" y="659"/>
                      <a:pt x="984" y="652"/>
                      <a:pt x="961" y="619"/>
                    </a:cubicBezTo>
                    <a:cubicBezTo>
                      <a:pt x="938" y="586"/>
                      <a:pt x="882" y="511"/>
                      <a:pt x="873" y="467"/>
                    </a:cubicBezTo>
                    <a:cubicBezTo>
                      <a:pt x="864" y="423"/>
                      <a:pt x="905" y="387"/>
                      <a:pt x="905" y="355"/>
                    </a:cubicBezTo>
                    <a:cubicBezTo>
                      <a:pt x="905" y="323"/>
                      <a:pt x="916" y="272"/>
                      <a:pt x="873" y="275"/>
                    </a:cubicBezTo>
                    <a:cubicBezTo>
                      <a:pt x="830" y="278"/>
                      <a:pt x="684" y="376"/>
                      <a:pt x="649" y="371"/>
                    </a:cubicBezTo>
                    <a:cubicBezTo>
                      <a:pt x="614" y="366"/>
                      <a:pt x="668" y="275"/>
                      <a:pt x="665" y="243"/>
                    </a:cubicBezTo>
                    <a:cubicBezTo>
                      <a:pt x="662" y="211"/>
                      <a:pt x="638" y="200"/>
                      <a:pt x="633" y="179"/>
                    </a:cubicBezTo>
                    <a:cubicBezTo>
                      <a:pt x="628" y="158"/>
                      <a:pt x="690" y="106"/>
                      <a:pt x="633" y="115"/>
                    </a:cubicBezTo>
                    <a:cubicBezTo>
                      <a:pt x="576" y="124"/>
                      <a:pt x="326" y="224"/>
                      <a:pt x="289" y="235"/>
                    </a:cubicBezTo>
                    <a:cubicBezTo>
                      <a:pt x="252" y="246"/>
                      <a:pt x="397" y="196"/>
                      <a:pt x="409" y="179"/>
                    </a:cubicBezTo>
                    <a:cubicBezTo>
                      <a:pt x="421" y="162"/>
                      <a:pt x="380" y="155"/>
                      <a:pt x="361" y="131"/>
                    </a:cubicBezTo>
                    <a:cubicBezTo>
                      <a:pt x="342" y="107"/>
                      <a:pt x="350" y="0"/>
                      <a:pt x="297" y="35"/>
                    </a:cubicBezTo>
                    <a:cubicBezTo>
                      <a:pt x="244" y="70"/>
                      <a:pt x="82" y="258"/>
                      <a:pt x="41" y="339"/>
                    </a:cubicBezTo>
                    <a:cubicBezTo>
                      <a:pt x="0" y="420"/>
                      <a:pt x="47" y="485"/>
                      <a:pt x="49" y="52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ff00"/>
                  </a:gs>
                  <a:gs pos="50000">
                    <a:srgbClr val="003300"/>
                  </a:gs>
                  <a:gs pos="100000">
                    <a:srgbClr val="00ff00"/>
                  </a:gs>
                </a:gsLst>
                <a:lin ang="81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48" name="Group 233"/>
              <p:cNvGrpSpPr/>
              <p:nvPr/>
            </p:nvGrpSpPr>
            <p:grpSpPr>
              <a:xfrm>
                <a:off x="5932080" y="5770080"/>
                <a:ext cx="245160" cy="293760"/>
                <a:chOff x="5932080" y="5770080"/>
                <a:chExt cx="245160" cy="293760"/>
              </a:xfrm>
            </p:grpSpPr>
            <p:sp>
              <p:nvSpPr>
                <p:cNvPr id="349" name="Oval 234"/>
                <p:cNvSpPr/>
                <p:nvPr/>
              </p:nvSpPr>
              <p:spPr>
                <a:xfrm flipH="1" flipV="1" rot="4904400">
                  <a:off x="5962320" y="5848560"/>
                  <a:ext cx="198000" cy="2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0066"/>
                    </a:gs>
                    <a:gs pos="100000">
                      <a:srgbClr val="8c003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2800" rIns="82800" tIns="41400" bIns="414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828720"/>
                      <a:tab algn="l" pos="1657440"/>
                      <a:tab algn="l" pos="2486160"/>
                      <a:tab algn="l" pos="3314880"/>
                      <a:tab algn="l" pos="4143240"/>
                      <a:tab algn="l" pos="4971960"/>
                      <a:tab algn="l" pos="5800680"/>
                      <a:tab algn="l" pos="6629400"/>
                      <a:tab algn="l" pos="7458120"/>
                      <a:tab algn="l" pos="8286840"/>
                      <a:tab algn="l" pos="9115560"/>
                      <a:tab algn="l" pos="9944280"/>
                      <a:tab algn="l" pos="107726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Line 235"/>
                <p:cNvSpPr/>
                <p:nvPr/>
              </p:nvSpPr>
              <p:spPr>
                <a:xfrm flipH="1" flipV="1">
                  <a:off x="5932080" y="5770080"/>
                  <a:ext cx="64800" cy="903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51" name="Group 236"/>
          <p:cNvGrpSpPr/>
          <p:nvPr/>
        </p:nvGrpSpPr>
        <p:grpSpPr>
          <a:xfrm>
            <a:off x="6415560" y="1920960"/>
            <a:ext cx="2418840" cy="2356200"/>
            <a:chOff x="6415560" y="1920960"/>
            <a:chExt cx="2418840" cy="2356200"/>
          </a:xfrm>
        </p:grpSpPr>
        <p:sp>
          <p:nvSpPr>
            <p:cNvPr id="352" name="Freeform 237"/>
            <p:cNvSpPr/>
            <p:nvPr/>
          </p:nvSpPr>
          <p:spPr>
            <a:xfrm rot="19282200">
              <a:off x="6721920" y="2455200"/>
              <a:ext cx="1886760" cy="1384560"/>
            </a:xfrm>
            <a:custGeom>
              <a:avLst/>
              <a:gdLst>
                <a:gd name="textAreaLeft" fmla="*/ 0 w 1886760"/>
                <a:gd name="textAreaRight" fmla="*/ 1887120 w 1886760"/>
                <a:gd name="textAreaTop" fmla="*/ 0 h 1384560"/>
                <a:gd name="textAreaBottom" fmla="*/ 1384920 h 1384560"/>
              </a:gdLst>
              <a:ahLst/>
              <a:rect l="textAreaLeft" t="textAreaTop" r="textAreaRight" b="textAreaBottom"/>
              <a:pathLst>
                <a:path w="1746" h="1169">
                  <a:moveTo>
                    <a:pt x="29" y="69"/>
                  </a:moveTo>
                  <a:cubicBezTo>
                    <a:pt x="0" y="157"/>
                    <a:pt x="101" y="557"/>
                    <a:pt x="157" y="717"/>
                  </a:cubicBezTo>
                  <a:cubicBezTo>
                    <a:pt x="213" y="877"/>
                    <a:pt x="298" y="961"/>
                    <a:pt x="365" y="1029"/>
                  </a:cubicBezTo>
                  <a:cubicBezTo>
                    <a:pt x="432" y="1097"/>
                    <a:pt x="461" y="1109"/>
                    <a:pt x="557" y="1125"/>
                  </a:cubicBezTo>
                  <a:cubicBezTo>
                    <a:pt x="653" y="1141"/>
                    <a:pt x="821" y="1126"/>
                    <a:pt x="941" y="1125"/>
                  </a:cubicBezTo>
                  <a:cubicBezTo>
                    <a:pt x="1061" y="1124"/>
                    <a:pt x="1176" y="1169"/>
                    <a:pt x="1277" y="1117"/>
                  </a:cubicBezTo>
                  <a:cubicBezTo>
                    <a:pt x="1378" y="1065"/>
                    <a:pt x="1485" y="920"/>
                    <a:pt x="1549" y="813"/>
                  </a:cubicBezTo>
                  <a:cubicBezTo>
                    <a:pt x="1613" y="706"/>
                    <a:pt x="1632" y="602"/>
                    <a:pt x="1661" y="477"/>
                  </a:cubicBezTo>
                  <a:cubicBezTo>
                    <a:pt x="1690" y="352"/>
                    <a:pt x="1746" y="122"/>
                    <a:pt x="1725" y="61"/>
                  </a:cubicBezTo>
                  <a:cubicBezTo>
                    <a:pt x="1704" y="0"/>
                    <a:pt x="1597" y="88"/>
                    <a:pt x="1533" y="109"/>
                  </a:cubicBezTo>
                  <a:cubicBezTo>
                    <a:pt x="1469" y="130"/>
                    <a:pt x="1458" y="173"/>
                    <a:pt x="1341" y="189"/>
                  </a:cubicBezTo>
                  <a:cubicBezTo>
                    <a:pt x="1224" y="205"/>
                    <a:pt x="997" y="205"/>
                    <a:pt x="829" y="205"/>
                  </a:cubicBezTo>
                  <a:cubicBezTo>
                    <a:pt x="661" y="205"/>
                    <a:pt x="466" y="212"/>
                    <a:pt x="333" y="189"/>
                  </a:cubicBezTo>
                  <a:cubicBezTo>
                    <a:pt x="200" y="166"/>
                    <a:pt x="92" y="94"/>
                    <a:pt x="29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00ffff"/>
                </a:gs>
                <a:gs pos="50000">
                  <a:srgbClr val="ffffff"/>
                </a:gs>
                <a:gs pos="100000">
                  <a:srgbClr val="00ffff"/>
                </a:gs>
              </a:gsLst>
              <a:lin ang="189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Oval 238"/>
            <p:cNvSpPr/>
            <p:nvPr/>
          </p:nvSpPr>
          <p:spPr>
            <a:xfrm rot="19282200">
              <a:off x="6335280" y="2460240"/>
              <a:ext cx="1868040" cy="397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800" rIns="82800" tIns="41400" bIns="414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82872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Freeform 239"/>
            <p:cNvSpPr/>
            <p:nvPr/>
          </p:nvSpPr>
          <p:spPr>
            <a:xfrm rot="20133000">
              <a:off x="8090280" y="2116080"/>
              <a:ext cx="510840" cy="966240"/>
            </a:xfrm>
            <a:custGeom>
              <a:avLst/>
              <a:gdLst>
                <a:gd name="textAreaLeft" fmla="*/ 0 w 510840"/>
                <a:gd name="textAreaRight" fmla="*/ 511200 w 510840"/>
                <a:gd name="textAreaTop" fmla="*/ 0 h 966240"/>
                <a:gd name="textAreaBottom" fmla="*/ 966600 h 966240"/>
              </a:gdLst>
              <a:ahLst/>
              <a:rect l="textAreaLeft" t="textAreaTop" r="textAreaRight" b="textAreaBottom"/>
              <a:pathLst>
                <a:path w="377" h="623">
                  <a:moveTo>
                    <a:pt x="102" y="270"/>
                  </a:moveTo>
                  <a:cubicBezTo>
                    <a:pt x="102" y="262"/>
                    <a:pt x="101" y="259"/>
                    <a:pt x="103" y="248"/>
                  </a:cubicBezTo>
                  <a:cubicBezTo>
                    <a:pt x="105" y="237"/>
                    <a:pt x="105" y="219"/>
                    <a:pt x="112" y="203"/>
                  </a:cubicBezTo>
                  <a:cubicBezTo>
                    <a:pt x="119" y="187"/>
                    <a:pt x="132" y="167"/>
                    <a:pt x="145" y="149"/>
                  </a:cubicBezTo>
                  <a:cubicBezTo>
                    <a:pt x="158" y="131"/>
                    <a:pt x="169" y="103"/>
                    <a:pt x="190" y="92"/>
                  </a:cubicBezTo>
                  <a:cubicBezTo>
                    <a:pt x="211" y="81"/>
                    <a:pt x="253" y="72"/>
                    <a:pt x="271" y="83"/>
                  </a:cubicBezTo>
                  <a:cubicBezTo>
                    <a:pt x="289" y="94"/>
                    <a:pt x="295" y="131"/>
                    <a:pt x="298" y="158"/>
                  </a:cubicBezTo>
                  <a:cubicBezTo>
                    <a:pt x="301" y="185"/>
                    <a:pt x="299" y="216"/>
                    <a:pt x="289" y="245"/>
                  </a:cubicBezTo>
                  <a:cubicBezTo>
                    <a:pt x="279" y="274"/>
                    <a:pt x="259" y="308"/>
                    <a:pt x="235" y="332"/>
                  </a:cubicBezTo>
                  <a:cubicBezTo>
                    <a:pt x="211" y="356"/>
                    <a:pt x="171" y="374"/>
                    <a:pt x="145" y="389"/>
                  </a:cubicBezTo>
                  <a:cubicBezTo>
                    <a:pt x="119" y="404"/>
                    <a:pt x="96" y="410"/>
                    <a:pt x="76" y="425"/>
                  </a:cubicBezTo>
                  <a:cubicBezTo>
                    <a:pt x="56" y="440"/>
                    <a:pt x="33" y="458"/>
                    <a:pt x="22" y="479"/>
                  </a:cubicBezTo>
                  <a:cubicBezTo>
                    <a:pt x="11" y="500"/>
                    <a:pt x="9" y="531"/>
                    <a:pt x="7" y="554"/>
                  </a:cubicBezTo>
                  <a:cubicBezTo>
                    <a:pt x="5" y="577"/>
                    <a:pt x="0" y="615"/>
                    <a:pt x="7" y="619"/>
                  </a:cubicBezTo>
                  <a:cubicBezTo>
                    <a:pt x="13" y="623"/>
                    <a:pt x="36" y="601"/>
                    <a:pt x="46" y="581"/>
                  </a:cubicBezTo>
                  <a:cubicBezTo>
                    <a:pt x="56" y="560"/>
                    <a:pt x="47" y="520"/>
                    <a:pt x="71" y="497"/>
                  </a:cubicBezTo>
                  <a:cubicBezTo>
                    <a:pt x="95" y="474"/>
                    <a:pt x="151" y="468"/>
                    <a:pt x="192" y="444"/>
                  </a:cubicBezTo>
                  <a:cubicBezTo>
                    <a:pt x="233" y="420"/>
                    <a:pt x="287" y="401"/>
                    <a:pt x="318" y="354"/>
                  </a:cubicBezTo>
                  <a:cubicBezTo>
                    <a:pt x="349" y="307"/>
                    <a:pt x="373" y="220"/>
                    <a:pt x="375" y="167"/>
                  </a:cubicBezTo>
                  <a:cubicBezTo>
                    <a:pt x="377" y="113"/>
                    <a:pt x="352" y="59"/>
                    <a:pt x="329" y="31"/>
                  </a:cubicBezTo>
                  <a:cubicBezTo>
                    <a:pt x="307" y="3"/>
                    <a:pt x="272" y="0"/>
                    <a:pt x="242" y="0"/>
                  </a:cubicBezTo>
                  <a:cubicBezTo>
                    <a:pt x="212" y="0"/>
                    <a:pt x="173" y="18"/>
                    <a:pt x="147" y="34"/>
                  </a:cubicBezTo>
                  <a:cubicBezTo>
                    <a:pt x="121" y="51"/>
                    <a:pt x="100" y="69"/>
                    <a:pt x="85" y="102"/>
                  </a:cubicBezTo>
                  <a:cubicBezTo>
                    <a:pt x="70" y="136"/>
                    <a:pt x="55" y="198"/>
                    <a:pt x="54" y="230"/>
                  </a:cubicBezTo>
                  <a:cubicBezTo>
                    <a:pt x="53" y="262"/>
                    <a:pt x="74" y="285"/>
                    <a:pt x="82" y="295"/>
                  </a:cubicBezTo>
                  <a:cubicBezTo>
                    <a:pt x="91" y="305"/>
                    <a:pt x="102" y="299"/>
                    <a:pt x="105" y="295"/>
                  </a:cubicBezTo>
                  <a:cubicBezTo>
                    <a:pt x="108" y="291"/>
                    <a:pt x="104" y="278"/>
                    <a:pt x="102" y="27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00ffff"/>
                </a:gs>
                <a:gs pos="100000">
                  <a:srgbClr val="ffffff"/>
                </a:gs>
              </a:gsLst>
              <a:lin ang="18048000"/>
            </a:gra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5" name="Group 240"/>
            <p:cNvGrpSpPr/>
            <p:nvPr/>
          </p:nvGrpSpPr>
          <p:grpSpPr>
            <a:xfrm>
              <a:off x="7053480" y="2741760"/>
              <a:ext cx="1218600" cy="994680"/>
              <a:chOff x="7053480" y="2741760"/>
              <a:chExt cx="1218600" cy="994680"/>
            </a:xfrm>
          </p:grpSpPr>
          <p:sp>
            <p:nvSpPr>
              <p:cNvPr id="356" name="Freeform 241"/>
              <p:cNvSpPr/>
              <p:nvPr/>
            </p:nvSpPr>
            <p:spPr>
              <a:xfrm flipH="1" rot="8094600">
                <a:off x="7546680" y="2861640"/>
                <a:ext cx="469080" cy="314640"/>
              </a:xfrm>
              <a:custGeom>
                <a:avLst/>
                <a:gdLst>
                  <a:gd name="textAreaLeft" fmla="*/ -360 w 469080"/>
                  <a:gd name="textAreaRight" fmla="*/ 469080 w 469080"/>
                  <a:gd name="textAreaTop" fmla="*/ 0 h 314640"/>
                  <a:gd name="textAreaBottom" fmla="*/ 315000 h 314640"/>
                </a:gdLst>
                <a:ahLst/>
                <a:rect l="textAreaLeft" t="textAreaTop" r="textAreaRight" b="textAreaBottom"/>
                <a:pathLst>
                  <a:path w="1025" h="808">
                    <a:moveTo>
                      <a:pt x="49" y="523"/>
                    </a:moveTo>
                    <a:cubicBezTo>
                      <a:pt x="57" y="531"/>
                      <a:pt x="42" y="535"/>
                      <a:pt x="49" y="571"/>
                    </a:cubicBezTo>
                    <a:cubicBezTo>
                      <a:pt x="56" y="607"/>
                      <a:pt x="53" y="735"/>
                      <a:pt x="89" y="739"/>
                    </a:cubicBezTo>
                    <a:cubicBezTo>
                      <a:pt x="125" y="743"/>
                      <a:pt x="228" y="616"/>
                      <a:pt x="265" y="595"/>
                    </a:cubicBezTo>
                    <a:cubicBezTo>
                      <a:pt x="302" y="574"/>
                      <a:pt x="310" y="579"/>
                      <a:pt x="313" y="611"/>
                    </a:cubicBezTo>
                    <a:cubicBezTo>
                      <a:pt x="316" y="643"/>
                      <a:pt x="252" y="766"/>
                      <a:pt x="281" y="787"/>
                    </a:cubicBezTo>
                    <a:cubicBezTo>
                      <a:pt x="310" y="808"/>
                      <a:pt x="441" y="758"/>
                      <a:pt x="489" y="739"/>
                    </a:cubicBezTo>
                    <a:cubicBezTo>
                      <a:pt x="537" y="720"/>
                      <a:pt x="548" y="675"/>
                      <a:pt x="569" y="675"/>
                    </a:cubicBezTo>
                    <a:cubicBezTo>
                      <a:pt x="590" y="675"/>
                      <a:pt x="568" y="740"/>
                      <a:pt x="617" y="739"/>
                    </a:cubicBezTo>
                    <a:cubicBezTo>
                      <a:pt x="666" y="738"/>
                      <a:pt x="800" y="679"/>
                      <a:pt x="865" y="667"/>
                    </a:cubicBezTo>
                    <a:cubicBezTo>
                      <a:pt x="930" y="655"/>
                      <a:pt x="993" y="675"/>
                      <a:pt x="1009" y="667"/>
                    </a:cubicBezTo>
                    <a:cubicBezTo>
                      <a:pt x="1025" y="659"/>
                      <a:pt x="984" y="652"/>
                      <a:pt x="961" y="619"/>
                    </a:cubicBezTo>
                    <a:cubicBezTo>
                      <a:pt x="938" y="586"/>
                      <a:pt x="882" y="511"/>
                      <a:pt x="873" y="467"/>
                    </a:cubicBezTo>
                    <a:cubicBezTo>
                      <a:pt x="864" y="423"/>
                      <a:pt x="905" y="387"/>
                      <a:pt x="905" y="355"/>
                    </a:cubicBezTo>
                    <a:cubicBezTo>
                      <a:pt x="905" y="323"/>
                      <a:pt x="916" y="272"/>
                      <a:pt x="873" y="275"/>
                    </a:cubicBezTo>
                    <a:cubicBezTo>
                      <a:pt x="830" y="278"/>
                      <a:pt x="684" y="376"/>
                      <a:pt x="649" y="371"/>
                    </a:cubicBezTo>
                    <a:cubicBezTo>
                      <a:pt x="614" y="366"/>
                      <a:pt x="668" y="275"/>
                      <a:pt x="665" y="243"/>
                    </a:cubicBezTo>
                    <a:cubicBezTo>
                      <a:pt x="662" y="211"/>
                      <a:pt x="638" y="200"/>
                      <a:pt x="633" y="179"/>
                    </a:cubicBezTo>
                    <a:cubicBezTo>
                      <a:pt x="628" y="158"/>
                      <a:pt x="690" y="106"/>
                      <a:pt x="633" y="115"/>
                    </a:cubicBezTo>
                    <a:cubicBezTo>
                      <a:pt x="576" y="124"/>
                      <a:pt x="326" y="224"/>
                      <a:pt x="289" y="235"/>
                    </a:cubicBezTo>
                    <a:cubicBezTo>
                      <a:pt x="252" y="246"/>
                      <a:pt x="397" y="196"/>
                      <a:pt x="409" y="179"/>
                    </a:cubicBezTo>
                    <a:cubicBezTo>
                      <a:pt x="421" y="162"/>
                      <a:pt x="380" y="155"/>
                      <a:pt x="361" y="131"/>
                    </a:cubicBezTo>
                    <a:cubicBezTo>
                      <a:pt x="342" y="107"/>
                      <a:pt x="350" y="0"/>
                      <a:pt x="297" y="35"/>
                    </a:cubicBezTo>
                    <a:cubicBezTo>
                      <a:pt x="244" y="70"/>
                      <a:pt x="82" y="258"/>
                      <a:pt x="41" y="339"/>
                    </a:cubicBezTo>
                    <a:cubicBezTo>
                      <a:pt x="0" y="420"/>
                      <a:pt x="47" y="485"/>
                      <a:pt x="49" y="52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ff00"/>
                  </a:gs>
                  <a:gs pos="50000">
                    <a:srgbClr val="003300"/>
                  </a:gs>
                  <a:gs pos="100000">
                    <a:srgbClr val="00ff00"/>
                  </a:gs>
                </a:gsLst>
                <a:lin ang="21096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Freeform 242"/>
              <p:cNvSpPr/>
              <p:nvPr/>
            </p:nvSpPr>
            <p:spPr>
              <a:xfrm flipH="1" rot="12109800">
                <a:off x="7575840" y="3198960"/>
                <a:ext cx="471960" cy="312480"/>
              </a:xfrm>
              <a:custGeom>
                <a:avLst/>
                <a:gdLst>
                  <a:gd name="textAreaLeft" fmla="*/ -360 w 471960"/>
                  <a:gd name="textAreaRight" fmla="*/ 471960 w 471960"/>
                  <a:gd name="textAreaTop" fmla="*/ 0 h 312480"/>
                  <a:gd name="textAreaBottom" fmla="*/ 312840 h 312480"/>
                </a:gdLst>
                <a:ahLst/>
                <a:rect l="textAreaLeft" t="textAreaTop" r="textAreaRight" b="textAreaBottom"/>
                <a:pathLst>
                  <a:path w="1025" h="808">
                    <a:moveTo>
                      <a:pt x="49" y="523"/>
                    </a:moveTo>
                    <a:cubicBezTo>
                      <a:pt x="57" y="531"/>
                      <a:pt x="42" y="535"/>
                      <a:pt x="49" y="571"/>
                    </a:cubicBezTo>
                    <a:cubicBezTo>
                      <a:pt x="56" y="607"/>
                      <a:pt x="53" y="735"/>
                      <a:pt x="89" y="739"/>
                    </a:cubicBezTo>
                    <a:cubicBezTo>
                      <a:pt x="125" y="743"/>
                      <a:pt x="228" y="616"/>
                      <a:pt x="265" y="595"/>
                    </a:cubicBezTo>
                    <a:cubicBezTo>
                      <a:pt x="302" y="574"/>
                      <a:pt x="310" y="579"/>
                      <a:pt x="313" y="611"/>
                    </a:cubicBezTo>
                    <a:cubicBezTo>
                      <a:pt x="316" y="643"/>
                      <a:pt x="252" y="766"/>
                      <a:pt x="281" y="787"/>
                    </a:cubicBezTo>
                    <a:cubicBezTo>
                      <a:pt x="310" y="808"/>
                      <a:pt x="441" y="758"/>
                      <a:pt x="489" y="739"/>
                    </a:cubicBezTo>
                    <a:cubicBezTo>
                      <a:pt x="537" y="720"/>
                      <a:pt x="548" y="675"/>
                      <a:pt x="569" y="675"/>
                    </a:cubicBezTo>
                    <a:cubicBezTo>
                      <a:pt x="590" y="675"/>
                      <a:pt x="568" y="740"/>
                      <a:pt x="617" y="739"/>
                    </a:cubicBezTo>
                    <a:cubicBezTo>
                      <a:pt x="666" y="738"/>
                      <a:pt x="800" y="679"/>
                      <a:pt x="865" y="667"/>
                    </a:cubicBezTo>
                    <a:cubicBezTo>
                      <a:pt x="930" y="655"/>
                      <a:pt x="993" y="675"/>
                      <a:pt x="1009" y="667"/>
                    </a:cubicBezTo>
                    <a:cubicBezTo>
                      <a:pt x="1025" y="659"/>
                      <a:pt x="984" y="652"/>
                      <a:pt x="961" y="619"/>
                    </a:cubicBezTo>
                    <a:cubicBezTo>
                      <a:pt x="938" y="586"/>
                      <a:pt x="882" y="511"/>
                      <a:pt x="873" y="467"/>
                    </a:cubicBezTo>
                    <a:cubicBezTo>
                      <a:pt x="864" y="423"/>
                      <a:pt x="905" y="387"/>
                      <a:pt x="905" y="355"/>
                    </a:cubicBezTo>
                    <a:cubicBezTo>
                      <a:pt x="905" y="323"/>
                      <a:pt x="916" y="272"/>
                      <a:pt x="873" y="275"/>
                    </a:cubicBezTo>
                    <a:cubicBezTo>
                      <a:pt x="830" y="278"/>
                      <a:pt x="684" y="376"/>
                      <a:pt x="649" y="371"/>
                    </a:cubicBezTo>
                    <a:cubicBezTo>
                      <a:pt x="614" y="366"/>
                      <a:pt x="668" y="275"/>
                      <a:pt x="665" y="243"/>
                    </a:cubicBezTo>
                    <a:cubicBezTo>
                      <a:pt x="662" y="211"/>
                      <a:pt x="638" y="200"/>
                      <a:pt x="633" y="179"/>
                    </a:cubicBezTo>
                    <a:cubicBezTo>
                      <a:pt x="628" y="158"/>
                      <a:pt x="690" y="106"/>
                      <a:pt x="633" y="115"/>
                    </a:cubicBezTo>
                    <a:cubicBezTo>
                      <a:pt x="576" y="124"/>
                      <a:pt x="326" y="224"/>
                      <a:pt x="289" y="235"/>
                    </a:cubicBezTo>
                    <a:cubicBezTo>
                      <a:pt x="252" y="246"/>
                      <a:pt x="397" y="196"/>
                      <a:pt x="409" y="179"/>
                    </a:cubicBezTo>
                    <a:cubicBezTo>
                      <a:pt x="421" y="162"/>
                      <a:pt x="380" y="155"/>
                      <a:pt x="361" y="131"/>
                    </a:cubicBezTo>
                    <a:cubicBezTo>
                      <a:pt x="342" y="107"/>
                      <a:pt x="350" y="0"/>
                      <a:pt x="297" y="35"/>
                    </a:cubicBezTo>
                    <a:cubicBezTo>
                      <a:pt x="244" y="70"/>
                      <a:pt x="82" y="258"/>
                      <a:pt x="41" y="339"/>
                    </a:cubicBezTo>
                    <a:cubicBezTo>
                      <a:pt x="0" y="420"/>
                      <a:pt x="47" y="485"/>
                      <a:pt x="49" y="52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ff00"/>
                  </a:gs>
                  <a:gs pos="50000">
                    <a:srgbClr val="003300"/>
                  </a:gs>
                  <a:gs pos="100000">
                    <a:srgbClr val="00ff00"/>
                  </a:gs>
                </a:gsLst>
                <a:lin ang="351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Freeform 243"/>
              <p:cNvSpPr/>
              <p:nvPr/>
            </p:nvSpPr>
            <p:spPr>
              <a:xfrm flipV="1" rot="5898600">
                <a:off x="7331040" y="2846160"/>
                <a:ext cx="719280" cy="760320"/>
              </a:xfrm>
              <a:custGeom>
                <a:avLst/>
                <a:gdLst>
                  <a:gd name="textAreaLeft" fmla="*/ 0 w 719280"/>
                  <a:gd name="textAreaRight" fmla="*/ 719640 w 719280"/>
                  <a:gd name="textAreaTop" fmla="*/ 360 h 760320"/>
                  <a:gd name="textAreaBottom" fmla="*/ 761040 h 760320"/>
                </a:gdLst>
                <a:ahLst/>
                <a:rect l="textAreaLeft" t="textAreaTop" r="textAreaRight" b="textAreaBottom"/>
                <a:pathLst>
                  <a:path w="1104" h="1160">
                    <a:moveTo>
                      <a:pt x="1104" y="0"/>
                    </a:moveTo>
                    <a:cubicBezTo>
                      <a:pt x="980" y="16"/>
                      <a:pt x="856" y="32"/>
                      <a:pt x="768" y="96"/>
                    </a:cubicBezTo>
                    <a:cubicBezTo>
                      <a:pt x="680" y="160"/>
                      <a:pt x="640" y="264"/>
                      <a:pt x="576" y="384"/>
                    </a:cubicBezTo>
                    <a:cubicBezTo>
                      <a:pt x="512" y="504"/>
                      <a:pt x="448" y="696"/>
                      <a:pt x="384" y="816"/>
                    </a:cubicBezTo>
                    <a:cubicBezTo>
                      <a:pt x="320" y="936"/>
                      <a:pt x="256" y="1048"/>
                      <a:pt x="192" y="1104"/>
                    </a:cubicBezTo>
                    <a:cubicBezTo>
                      <a:pt x="128" y="1160"/>
                      <a:pt x="64" y="1156"/>
                      <a:pt x="0" y="1152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59" name="Group 244"/>
              <p:cNvGrpSpPr/>
              <p:nvPr/>
            </p:nvGrpSpPr>
            <p:grpSpPr>
              <a:xfrm>
                <a:off x="7561080" y="3038400"/>
                <a:ext cx="151200" cy="185040"/>
                <a:chOff x="7561080" y="3038400"/>
                <a:chExt cx="151200" cy="185040"/>
              </a:xfrm>
            </p:grpSpPr>
            <p:sp>
              <p:nvSpPr>
                <p:cNvPr id="360" name="Oval 245"/>
                <p:cNvSpPr/>
                <p:nvPr/>
              </p:nvSpPr>
              <p:spPr>
                <a:xfrm flipV="1" rot="5898600">
                  <a:off x="7578720" y="3045600"/>
                  <a:ext cx="124920" cy="125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0066"/>
                    </a:gs>
                    <a:gs pos="100000">
                      <a:srgbClr val="8c003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2800" rIns="82800" tIns="41400" bIns="41400" anchor="t" anchorCtr="1" vert="eaVer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828720"/>
                      <a:tab algn="l" pos="1657440"/>
                      <a:tab algn="l" pos="2486160"/>
                      <a:tab algn="l" pos="3314880"/>
                      <a:tab algn="l" pos="4143240"/>
                      <a:tab algn="l" pos="4971960"/>
                      <a:tab algn="l" pos="5800680"/>
                      <a:tab algn="l" pos="6629400"/>
                      <a:tab algn="l" pos="7458120"/>
                      <a:tab algn="l" pos="8286840"/>
                      <a:tab algn="l" pos="9115560"/>
                      <a:tab algn="l" pos="9944280"/>
                      <a:tab algn="l" pos="107726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Line 246"/>
                <p:cNvSpPr/>
                <p:nvPr/>
              </p:nvSpPr>
              <p:spPr>
                <a:xfrm flipH="1">
                  <a:off x="7561080" y="3166560"/>
                  <a:ext cx="39960" cy="568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2" name="Group 247"/>
              <p:cNvGrpSpPr/>
              <p:nvPr/>
            </p:nvGrpSpPr>
            <p:grpSpPr>
              <a:xfrm>
                <a:off x="7327800" y="3012840"/>
                <a:ext cx="184320" cy="243720"/>
                <a:chOff x="7327800" y="3012840"/>
                <a:chExt cx="184320" cy="243720"/>
              </a:xfrm>
            </p:grpSpPr>
            <p:sp>
              <p:nvSpPr>
                <p:cNvPr id="363" name="Oval 248"/>
                <p:cNvSpPr/>
                <p:nvPr/>
              </p:nvSpPr>
              <p:spPr>
                <a:xfrm flipV="1" rot="4384200">
                  <a:off x="7350120" y="3026160"/>
                  <a:ext cx="139320" cy="150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0066"/>
                    </a:gs>
                    <a:gs pos="100000">
                      <a:srgbClr val="8c003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2800" rIns="82800" tIns="41400" bIns="41400" anchor="t" anchorCtr="1" vert="eaVer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828720"/>
                      <a:tab algn="l" pos="1657440"/>
                      <a:tab algn="l" pos="2486160"/>
                      <a:tab algn="l" pos="3314880"/>
                      <a:tab algn="l" pos="4143240"/>
                      <a:tab algn="l" pos="4971960"/>
                      <a:tab algn="l" pos="5800680"/>
                      <a:tab algn="l" pos="6629400"/>
                      <a:tab algn="l" pos="7458120"/>
                      <a:tab algn="l" pos="8286840"/>
                      <a:tab algn="l" pos="9115560"/>
                      <a:tab algn="l" pos="9944280"/>
                      <a:tab algn="l" pos="107726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Line 249"/>
                <p:cNvSpPr/>
                <p:nvPr/>
              </p:nvSpPr>
              <p:spPr>
                <a:xfrm flipH="1">
                  <a:off x="7388640" y="3179160"/>
                  <a:ext cx="15480" cy="774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5" name="Group 250"/>
              <p:cNvGrpSpPr/>
              <p:nvPr/>
            </p:nvGrpSpPr>
            <p:grpSpPr>
              <a:xfrm>
                <a:off x="8008200" y="2915640"/>
                <a:ext cx="97920" cy="128520"/>
                <a:chOff x="8008200" y="2915640"/>
                <a:chExt cx="97920" cy="128520"/>
              </a:xfrm>
            </p:grpSpPr>
            <p:sp>
              <p:nvSpPr>
                <p:cNvPr id="366" name="Oval 251"/>
                <p:cNvSpPr/>
                <p:nvPr/>
              </p:nvSpPr>
              <p:spPr>
                <a:xfrm flipV="1" rot="5254800">
                  <a:off x="8015400" y="2911320"/>
                  <a:ext cx="82800" cy="94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0066"/>
                    </a:gs>
                    <a:gs pos="100000">
                      <a:srgbClr val="8c003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2800" rIns="82800" tIns="25560" bIns="25560" anchor="t" anchorCtr="1" vert="eaVer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828720"/>
                      <a:tab algn="l" pos="1657440"/>
                      <a:tab algn="l" pos="2486160"/>
                      <a:tab algn="l" pos="3314880"/>
                      <a:tab algn="l" pos="4143240"/>
                      <a:tab algn="l" pos="4971960"/>
                      <a:tab algn="l" pos="5800680"/>
                      <a:tab algn="l" pos="6629400"/>
                      <a:tab algn="l" pos="7458120"/>
                      <a:tab algn="l" pos="8286840"/>
                      <a:tab algn="l" pos="9115560"/>
                      <a:tab algn="l" pos="9944280"/>
                      <a:tab algn="l" pos="107726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Line 252"/>
                <p:cNvSpPr/>
                <p:nvPr/>
              </p:nvSpPr>
              <p:spPr>
                <a:xfrm flipH="1">
                  <a:off x="8013600" y="3002040"/>
                  <a:ext cx="21600" cy="421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8" name="Group 253"/>
              <p:cNvGrpSpPr/>
              <p:nvPr/>
            </p:nvGrpSpPr>
            <p:grpSpPr>
              <a:xfrm>
                <a:off x="8100000" y="2894400"/>
                <a:ext cx="111960" cy="123120"/>
                <a:chOff x="8100000" y="2894400"/>
                <a:chExt cx="111960" cy="123120"/>
              </a:xfrm>
            </p:grpSpPr>
            <p:sp>
              <p:nvSpPr>
                <p:cNvPr id="369" name="Oval 254"/>
                <p:cNvSpPr/>
                <p:nvPr/>
              </p:nvSpPr>
              <p:spPr>
                <a:xfrm flipV="1" rot="5898600">
                  <a:off x="8117280" y="2894760"/>
                  <a:ext cx="83160" cy="94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0066"/>
                    </a:gs>
                    <a:gs pos="100000">
                      <a:srgbClr val="8c003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2800" rIns="82800" tIns="25560" bIns="25560" anchor="t" anchorCtr="1" vert="eaVer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828720"/>
                      <a:tab algn="l" pos="1657440"/>
                      <a:tab algn="l" pos="2486160"/>
                      <a:tab algn="l" pos="3314880"/>
                      <a:tab algn="l" pos="4143240"/>
                      <a:tab algn="l" pos="4971960"/>
                      <a:tab algn="l" pos="5800680"/>
                      <a:tab algn="l" pos="6629400"/>
                      <a:tab algn="l" pos="7458120"/>
                      <a:tab algn="l" pos="8286840"/>
                      <a:tab algn="l" pos="9115560"/>
                      <a:tab algn="l" pos="9944280"/>
                      <a:tab algn="l" pos="107726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Line 255"/>
                <p:cNvSpPr/>
                <p:nvPr/>
              </p:nvSpPr>
              <p:spPr>
                <a:xfrm flipH="1">
                  <a:off x="8100000" y="2979720"/>
                  <a:ext cx="29160" cy="378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1" name="Group 256"/>
              <p:cNvGrpSpPr/>
              <p:nvPr/>
            </p:nvGrpSpPr>
            <p:grpSpPr>
              <a:xfrm>
                <a:off x="7698960" y="3184560"/>
                <a:ext cx="142200" cy="203760"/>
                <a:chOff x="7698960" y="3184560"/>
                <a:chExt cx="142200" cy="203760"/>
              </a:xfrm>
            </p:grpSpPr>
            <p:sp>
              <p:nvSpPr>
                <p:cNvPr id="372" name="Oval 257"/>
                <p:cNvSpPr/>
                <p:nvPr/>
              </p:nvSpPr>
              <p:spPr>
                <a:xfrm flipH="1" flipV="1" rot="5898600">
                  <a:off x="7706880" y="3254760"/>
                  <a:ext cx="124920" cy="125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0066"/>
                    </a:gs>
                    <a:gs pos="100000">
                      <a:srgbClr val="8c003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2800" rIns="82800" tIns="41400" bIns="41400" anchor="t" anchorCtr="1" vert="eaVer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828720"/>
                      <a:tab algn="l" pos="1657440"/>
                      <a:tab algn="l" pos="2486160"/>
                      <a:tab algn="l" pos="3314880"/>
                      <a:tab algn="l" pos="4143240"/>
                      <a:tab algn="l" pos="4971960"/>
                      <a:tab algn="l" pos="5800680"/>
                      <a:tab algn="l" pos="6629400"/>
                      <a:tab algn="l" pos="7458120"/>
                      <a:tab algn="l" pos="8286840"/>
                      <a:tab algn="l" pos="9115560"/>
                      <a:tab algn="l" pos="9944280"/>
                      <a:tab algn="l" pos="107726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Line 258"/>
                <p:cNvSpPr/>
                <p:nvPr/>
              </p:nvSpPr>
              <p:spPr>
                <a:xfrm flipH="1" flipV="1">
                  <a:off x="7725600" y="3184560"/>
                  <a:ext cx="21960" cy="66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4" name="Group 259"/>
              <p:cNvGrpSpPr/>
              <p:nvPr/>
            </p:nvGrpSpPr>
            <p:grpSpPr>
              <a:xfrm>
                <a:off x="7872840" y="3083760"/>
                <a:ext cx="142200" cy="203400"/>
                <a:chOff x="7872840" y="3083760"/>
                <a:chExt cx="142200" cy="203400"/>
              </a:xfrm>
            </p:grpSpPr>
            <p:sp>
              <p:nvSpPr>
                <p:cNvPr id="375" name="Oval 260"/>
                <p:cNvSpPr/>
                <p:nvPr/>
              </p:nvSpPr>
              <p:spPr>
                <a:xfrm flipH="1" flipV="1" rot="5898600">
                  <a:off x="7880760" y="3153600"/>
                  <a:ext cx="124920" cy="125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0066"/>
                    </a:gs>
                    <a:gs pos="100000">
                      <a:srgbClr val="8c003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2800" rIns="82800" tIns="41400" bIns="41400" anchor="t" anchorCtr="1" vert="eaVer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828720"/>
                      <a:tab algn="l" pos="1657440"/>
                      <a:tab algn="l" pos="2486160"/>
                      <a:tab algn="l" pos="3314880"/>
                      <a:tab algn="l" pos="4143240"/>
                      <a:tab algn="l" pos="4971960"/>
                      <a:tab algn="l" pos="5800680"/>
                      <a:tab algn="l" pos="6629400"/>
                      <a:tab algn="l" pos="7458120"/>
                      <a:tab algn="l" pos="8286840"/>
                      <a:tab algn="l" pos="9115560"/>
                      <a:tab algn="l" pos="9944280"/>
                      <a:tab algn="l" pos="107726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Line 261"/>
                <p:cNvSpPr/>
                <p:nvPr/>
              </p:nvSpPr>
              <p:spPr>
                <a:xfrm flipH="1" flipV="1">
                  <a:off x="7899840" y="3083760"/>
                  <a:ext cx="21960" cy="66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7" name="Group 262"/>
              <p:cNvGrpSpPr/>
              <p:nvPr/>
            </p:nvGrpSpPr>
            <p:grpSpPr>
              <a:xfrm>
                <a:off x="7945560" y="3070440"/>
                <a:ext cx="153360" cy="124560"/>
                <a:chOff x="7945560" y="3070440"/>
                <a:chExt cx="153360" cy="124560"/>
              </a:xfrm>
            </p:grpSpPr>
            <p:sp>
              <p:nvSpPr>
                <p:cNvPr id="378" name="Oval 263"/>
                <p:cNvSpPr/>
                <p:nvPr/>
              </p:nvSpPr>
              <p:spPr>
                <a:xfrm flipH="1" flipV="1" rot="2946600">
                  <a:off x="7993440" y="3085920"/>
                  <a:ext cx="84240" cy="93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0066"/>
                    </a:gs>
                    <a:gs pos="100000">
                      <a:srgbClr val="8c003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2800" rIns="82800" tIns="24480" bIns="24480" anchor="t" anchorCtr="1" vert="eaVer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828720"/>
                      <a:tab algn="l" pos="1657440"/>
                      <a:tab algn="l" pos="2486160"/>
                      <a:tab algn="l" pos="3314880"/>
                      <a:tab algn="l" pos="4143240"/>
                      <a:tab algn="l" pos="4971960"/>
                      <a:tab algn="l" pos="5800680"/>
                      <a:tab algn="l" pos="6629400"/>
                      <a:tab algn="l" pos="7458120"/>
                      <a:tab algn="l" pos="8286840"/>
                      <a:tab algn="l" pos="9115560"/>
                      <a:tab algn="l" pos="9944280"/>
                      <a:tab algn="l" pos="107726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Line 264"/>
                <p:cNvSpPr/>
                <p:nvPr/>
              </p:nvSpPr>
              <p:spPr>
                <a:xfrm flipH="1" flipV="1">
                  <a:off x="7945560" y="3099600"/>
                  <a:ext cx="45000" cy="165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0" name="Group 265"/>
              <p:cNvGrpSpPr/>
              <p:nvPr/>
            </p:nvGrpSpPr>
            <p:grpSpPr>
              <a:xfrm>
                <a:off x="8090280" y="2953440"/>
                <a:ext cx="181800" cy="140760"/>
                <a:chOff x="8090280" y="2953440"/>
                <a:chExt cx="181800" cy="140760"/>
              </a:xfrm>
            </p:grpSpPr>
            <p:sp>
              <p:nvSpPr>
                <p:cNvPr id="381" name="Oval 266"/>
                <p:cNvSpPr/>
                <p:nvPr/>
              </p:nvSpPr>
              <p:spPr>
                <a:xfrm flipH="1" flipV="1" rot="1805400">
                  <a:off x="8152560" y="2970720"/>
                  <a:ext cx="99720" cy="104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0066"/>
                    </a:gs>
                    <a:gs pos="100000">
                      <a:srgbClr val="8c003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2800" rIns="82800" tIns="33120" bIns="33120" anchor="ctr" rot="10800000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828720"/>
                      <a:tab algn="l" pos="1657440"/>
                      <a:tab algn="l" pos="2486160"/>
                      <a:tab algn="l" pos="3314880"/>
                      <a:tab algn="l" pos="4143240"/>
                      <a:tab algn="l" pos="4971960"/>
                      <a:tab algn="l" pos="5800680"/>
                      <a:tab algn="l" pos="6629400"/>
                      <a:tab algn="l" pos="7458120"/>
                      <a:tab algn="l" pos="8286840"/>
                      <a:tab algn="l" pos="9115560"/>
                      <a:tab algn="l" pos="9944280"/>
                      <a:tab algn="l" pos="107726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Line 267"/>
                <p:cNvSpPr/>
                <p:nvPr/>
              </p:nvSpPr>
              <p:spPr>
                <a:xfrm flipH="1" flipV="1">
                  <a:off x="8090280" y="3020040"/>
                  <a:ext cx="56160" cy="21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3" name="Group 268"/>
              <p:cNvGrpSpPr/>
              <p:nvPr/>
            </p:nvGrpSpPr>
            <p:grpSpPr>
              <a:xfrm>
                <a:off x="7873200" y="2930040"/>
                <a:ext cx="131040" cy="192240"/>
                <a:chOff x="7873200" y="2930040"/>
                <a:chExt cx="131040" cy="192240"/>
              </a:xfrm>
            </p:grpSpPr>
            <p:sp>
              <p:nvSpPr>
                <p:cNvPr id="384" name="Oval 269"/>
                <p:cNvSpPr/>
                <p:nvPr/>
              </p:nvSpPr>
              <p:spPr>
                <a:xfrm flipV="1" rot="5254800">
                  <a:off x="7876080" y="2931840"/>
                  <a:ext cx="124920" cy="125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0066"/>
                    </a:gs>
                    <a:gs pos="100000">
                      <a:srgbClr val="8c003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2800" rIns="82800" tIns="41400" bIns="41400" anchor="t" anchorCtr="1" vert="eaVer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828720"/>
                      <a:tab algn="l" pos="1657440"/>
                      <a:tab algn="l" pos="2486160"/>
                      <a:tab algn="l" pos="3314880"/>
                      <a:tab algn="l" pos="4143240"/>
                      <a:tab algn="l" pos="4971960"/>
                      <a:tab algn="l" pos="5800680"/>
                      <a:tab algn="l" pos="6629400"/>
                      <a:tab algn="l" pos="7458120"/>
                      <a:tab algn="l" pos="8286840"/>
                      <a:tab algn="l" pos="9115560"/>
                      <a:tab algn="l" pos="9944280"/>
                      <a:tab algn="l" pos="107726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Line 270"/>
                <p:cNvSpPr/>
                <p:nvPr/>
              </p:nvSpPr>
              <p:spPr>
                <a:xfrm flipH="1">
                  <a:off x="7880760" y="3058560"/>
                  <a:ext cx="28800" cy="637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6" name="Group 271"/>
              <p:cNvGrpSpPr/>
              <p:nvPr/>
            </p:nvGrpSpPr>
            <p:grpSpPr>
              <a:xfrm>
                <a:off x="8069760" y="3047040"/>
                <a:ext cx="134640" cy="115560"/>
                <a:chOff x="8069760" y="3047040"/>
                <a:chExt cx="134640" cy="115560"/>
              </a:xfrm>
            </p:grpSpPr>
            <p:sp>
              <p:nvSpPr>
                <p:cNvPr id="387" name="Oval 272"/>
                <p:cNvSpPr/>
                <p:nvPr/>
              </p:nvSpPr>
              <p:spPr>
                <a:xfrm flipH="1" flipV="1" rot="4034400">
                  <a:off x="8102880" y="3058920"/>
                  <a:ext cx="83880" cy="93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0066"/>
                    </a:gs>
                    <a:gs pos="100000">
                      <a:srgbClr val="8c003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2800" rIns="82800" tIns="24480" bIns="24480" anchor="t" anchorCtr="1" vert="eaVer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828720"/>
                      <a:tab algn="l" pos="1657440"/>
                      <a:tab algn="l" pos="2486160"/>
                      <a:tab algn="l" pos="3314880"/>
                      <a:tab algn="l" pos="4143240"/>
                      <a:tab algn="l" pos="4971960"/>
                      <a:tab algn="l" pos="5800680"/>
                      <a:tab algn="l" pos="6629400"/>
                      <a:tab algn="l" pos="7458120"/>
                      <a:tab algn="l" pos="8286840"/>
                      <a:tab algn="l" pos="9115560"/>
                      <a:tab algn="l" pos="9944280"/>
                      <a:tab algn="l" pos="107726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Line 273"/>
                <p:cNvSpPr/>
                <p:nvPr/>
              </p:nvSpPr>
              <p:spPr>
                <a:xfrm flipH="1" flipV="1">
                  <a:off x="8069760" y="3047040"/>
                  <a:ext cx="37800" cy="295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9" name="Group 274"/>
              <p:cNvGrpSpPr/>
              <p:nvPr/>
            </p:nvGrpSpPr>
            <p:grpSpPr>
              <a:xfrm>
                <a:off x="7462800" y="3214800"/>
                <a:ext cx="179640" cy="270000"/>
                <a:chOff x="7462800" y="3214800"/>
                <a:chExt cx="179640" cy="270000"/>
              </a:xfrm>
            </p:grpSpPr>
            <p:sp>
              <p:nvSpPr>
                <p:cNvPr id="390" name="Oval 275"/>
                <p:cNvSpPr/>
                <p:nvPr/>
              </p:nvSpPr>
              <p:spPr>
                <a:xfrm flipH="1" flipV="1" rot="5898600">
                  <a:off x="7468560" y="3311640"/>
                  <a:ext cx="166680" cy="157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0066"/>
                    </a:gs>
                    <a:gs pos="100000">
                      <a:srgbClr val="8c003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2800" rIns="82800" tIns="41400" bIns="41400" anchor="t" anchorCtr="1" vert="eaVer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828720"/>
                      <a:tab algn="l" pos="1657440"/>
                      <a:tab algn="l" pos="2486160"/>
                      <a:tab algn="l" pos="3314880"/>
                      <a:tab algn="l" pos="4143240"/>
                      <a:tab algn="l" pos="4971960"/>
                      <a:tab algn="l" pos="5800680"/>
                      <a:tab algn="l" pos="6629400"/>
                      <a:tab algn="l" pos="7458120"/>
                      <a:tab algn="l" pos="8286840"/>
                      <a:tab algn="l" pos="9115560"/>
                      <a:tab algn="l" pos="9944280"/>
                      <a:tab algn="l" pos="107726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Line 276"/>
                <p:cNvSpPr/>
                <p:nvPr/>
              </p:nvSpPr>
              <p:spPr>
                <a:xfrm flipH="1" flipV="1">
                  <a:off x="7498800" y="3214800"/>
                  <a:ext cx="26640" cy="878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92" name="Freeform 277"/>
              <p:cNvSpPr/>
              <p:nvPr/>
            </p:nvSpPr>
            <p:spPr>
              <a:xfrm flipV="1" rot="16698600">
                <a:off x="7008480" y="3066840"/>
                <a:ext cx="469080" cy="314640"/>
              </a:xfrm>
              <a:custGeom>
                <a:avLst/>
                <a:gdLst>
                  <a:gd name="textAreaLeft" fmla="*/ 0 w 469080"/>
                  <a:gd name="textAreaRight" fmla="*/ 469440 w 469080"/>
                  <a:gd name="textAreaTop" fmla="*/ 360 h 314640"/>
                  <a:gd name="textAreaBottom" fmla="*/ 315360 h 314640"/>
                </a:gdLst>
                <a:ahLst/>
                <a:rect l="textAreaLeft" t="textAreaTop" r="textAreaRight" b="textAreaBottom"/>
                <a:pathLst>
                  <a:path w="1025" h="808">
                    <a:moveTo>
                      <a:pt x="49" y="523"/>
                    </a:moveTo>
                    <a:cubicBezTo>
                      <a:pt x="57" y="531"/>
                      <a:pt x="42" y="535"/>
                      <a:pt x="49" y="571"/>
                    </a:cubicBezTo>
                    <a:cubicBezTo>
                      <a:pt x="56" y="607"/>
                      <a:pt x="53" y="735"/>
                      <a:pt x="89" y="739"/>
                    </a:cubicBezTo>
                    <a:cubicBezTo>
                      <a:pt x="125" y="743"/>
                      <a:pt x="228" y="616"/>
                      <a:pt x="265" y="595"/>
                    </a:cubicBezTo>
                    <a:cubicBezTo>
                      <a:pt x="302" y="574"/>
                      <a:pt x="310" y="579"/>
                      <a:pt x="313" y="611"/>
                    </a:cubicBezTo>
                    <a:cubicBezTo>
                      <a:pt x="316" y="643"/>
                      <a:pt x="252" y="766"/>
                      <a:pt x="281" y="787"/>
                    </a:cubicBezTo>
                    <a:cubicBezTo>
                      <a:pt x="310" y="808"/>
                      <a:pt x="441" y="758"/>
                      <a:pt x="489" y="739"/>
                    </a:cubicBezTo>
                    <a:cubicBezTo>
                      <a:pt x="537" y="720"/>
                      <a:pt x="548" y="675"/>
                      <a:pt x="569" y="675"/>
                    </a:cubicBezTo>
                    <a:cubicBezTo>
                      <a:pt x="590" y="675"/>
                      <a:pt x="568" y="740"/>
                      <a:pt x="617" y="739"/>
                    </a:cubicBezTo>
                    <a:cubicBezTo>
                      <a:pt x="666" y="738"/>
                      <a:pt x="800" y="679"/>
                      <a:pt x="865" y="667"/>
                    </a:cubicBezTo>
                    <a:cubicBezTo>
                      <a:pt x="930" y="655"/>
                      <a:pt x="993" y="675"/>
                      <a:pt x="1009" y="667"/>
                    </a:cubicBezTo>
                    <a:cubicBezTo>
                      <a:pt x="1025" y="659"/>
                      <a:pt x="984" y="652"/>
                      <a:pt x="961" y="619"/>
                    </a:cubicBezTo>
                    <a:cubicBezTo>
                      <a:pt x="938" y="586"/>
                      <a:pt x="882" y="511"/>
                      <a:pt x="873" y="467"/>
                    </a:cubicBezTo>
                    <a:cubicBezTo>
                      <a:pt x="864" y="423"/>
                      <a:pt x="905" y="387"/>
                      <a:pt x="905" y="355"/>
                    </a:cubicBezTo>
                    <a:cubicBezTo>
                      <a:pt x="905" y="323"/>
                      <a:pt x="916" y="272"/>
                      <a:pt x="873" y="275"/>
                    </a:cubicBezTo>
                    <a:cubicBezTo>
                      <a:pt x="830" y="278"/>
                      <a:pt x="684" y="376"/>
                      <a:pt x="649" y="371"/>
                    </a:cubicBezTo>
                    <a:cubicBezTo>
                      <a:pt x="614" y="366"/>
                      <a:pt x="668" y="275"/>
                      <a:pt x="665" y="243"/>
                    </a:cubicBezTo>
                    <a:cubicBezTo>
                      <a:pt x="662" y="211"/>
                      <a:pt x="638" y="200"/>
                      <a:pt x="633" y="179"/>
                    </a:cubicBezTo>
                    <a:cubicBezTo>
                      <a:pt x="628" y="158"/>
                      <a:pt x="690" y="106"/>
                      <a:pt x="633" y="115"/>
                    </a:cubicBezTo>
                    <a:cubicBezTo>
                      <a:pt x="576" y="124"/>
                      <a:pt x="326" y="224"/>
                      <a:pt x="289" y="235"/>
                    </a:cubicBezTo>
                    <a:cubicBezTo>
                      <a:pt x="252" y="246"/>
                      <a:pt x="397" y="196"/>
                      <a:pt x="409" y="179"/>
                    </a:cubicBezTo>
                    <a:cubicBezTo>
                      <a:pt x="421" y="162"/>
                      <a:pt x="380" y="155"/>
                      <a:pt x="361" y="131"/>
                    </a:cubicBezTo>
                    <a:cubicBezTo>
                      <a:pt x="342" y="107"/>
                      <a:pt x="350" y="0"/>
                      <a:pt x="297" y="35"/>
                    </a:cubicBezTo>
                    <a:cubicBezTo>
                      <a:pt x="244" y="70"/>
                      <a:pt x="82" y="258"/>
                      <a:pt x="41" y="339"/>
                    </a:cubicBezTo>
                    <a:cubicBezTo>
                      <a:pt x="0" y="420"/>
                      <a:pt x="47" y="485"/>
                      <a:pt x="49" y="52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ff00"/>
                  </a:gs>
                  <a:gs pos="50000">
                    <a:srgbClr val="003300"/>
                  </a:gs>
                  <a:gs pos="100000">
                    <a:srgbClr val="00ff00"/>
                  </a:gs>
                </a:gsLst>
                <a:lin ang="81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93" name="Group 278"/>
              <p:cNvGrpSpPr/>
              <p:nvPr/>
            </p:nvGrpSpPr>
            <p:grpSpPr>
              <a:xfrm>
                <a:off x="7300080" y="3442680"/>
                <a:ext cx="245160" cy="293760"/>
                <a:chOff x="7300080" y="3442680"/>
                <a:chExt cx="245160" cy="293760"/>
              </a:xfrm>
            </p:grpSpPr>
            <p:sp>
              <p:nvSpPr>
                <p:cNvPr id="394" name="Oval 279"/>
                <p:cNvSpPr/>
                <p:nvPr/>
              </p:nvSpPr>
              <p:spPr>
                <a:xfrm flipH="1" flipV="1" rot="4904400">
                  <a:off x="7330320" y="3521160"/>
                  <a:ext cx="198000" cy="2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0066"/>
                    </a:gs>
                    <a:gs pos="100000">
                      <a:srgbClr val="8c003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2800" rIns="82800" tIns="41400" bIns="41400" anchor="t" anchorCtr="1" vert="eaVer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828720"/>
                      <a:tab algn="l" pos="1657440"/>
                      <a:tab algn="l" pos="2486160"/>
                      <a:tab algn="l" pos="3314880"/>
                      <a:tab algn="l" pos="4143240"/>
                      <a:tab algn="l" pos="4971960"/>
                      <a:tab algn="l" pos="5800680"/>
                      <a:tab algn="l" pos="6629400"/>
                      <a:tab algn="l" pos="7458120"/>
                      <a:tab algn="l" pos="8286840"/>
                      <a:tab algn="l" pos="9115560"/>
                      <a:tab algn="l" pos="9944280"/>
                      <a:tab algn="l" pos="107726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Line 280"/>
                <p:cNvSpPr/>
                <p:nvPr/>
              </p:nvSpPr>
              <p:spPr>
                <a:xfrm flipH="1" flipV="1">
                  <a:off x="7300080" y="3442680"/>
                  <a:ext cx="64440" cy="903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96" name="Group 281"/>
          <p:cNvGrpSpPr/>
          <p:nvPr/>
        </p:nvGrpSpPr>
        <p:grpSpPr>
          <a:xfrm>
            <a:off x="6659640" y="3213000"/>
            <a:ext cx="2206800" cy="1390680"/>
            <a:chOff x="6659640" y="3213000"/>
            <a:chExt cx="2206800" cy="1390680"/>
          </a:xfrm>
        </p:grpSpPr>
        <p:sp>
          <p:nvSpPr>
            <p:cNvPr id="397" name="Freeform 282"/>
            <p:cNvSpPr/>
            <p:nvPr/>
          </p:nvSpPr>
          <p:spPr>
            <a:xfrm>
              <a:off x="6659640" y="3213000"/>
              <a:ext cx="1896480" cy="1390680"/>
            </a:xfrm>
            <a:custGeom>
              <a:avLst/>
              <a:gdLst>
                <a:gd name="textAreaLeft" fmla="*/ 0 w 1896480"/>
                <a:gd name="textAreaRight" fmla="*/ 1896840 w 1896480"/>
                <a:gd name="textAreaTop" fmla="*/ 0 h 1390680"/>
                <a:gd name="textAreaBottom" fmla="*/ 1391040 h 1390680"/>
              </a:gdLst>
              <a:ahLst/>
              <a:rect l="textAreaLeft" t="textAreaTop" r="textAreaRight" b="textAreaBottom"/>
              <a:pathLst>
                <a:path w="1317" h="966">
                  <a:moveTo>
                    <a:pt x="19" y="129"/>
                  </a:moveTo>
                  <a:cubicBezTo>
                    <a:pt x="38" y="220"/>
                    <a:pt x="89" y="474"/>
                    <a:pt x="134" y="594"/>
                  </a:cubicBezTo>
                  <a:cubicBezTo>
                    <a:pt x="179" y="714"/>
                    <a:pt x="240" y="795"/>
                    <a:pt x="290" y="851"/>
                  </a:cubicBezTo>
                  <a:cubicBezTo>
                    <a:pt x="340" y="907"/>
                    <a:pt x="362" y="917"/>
                    <a:pt x="434" y="930"/>
                  </a:cubicBezTo>
                  <a:cubicBezTo>
                    <a:pt x="506" y="943"/>
                    <a:pt x="632" y="931"/>
                    <a:pt x="723" y="930"/>
                  </a:cubicBezTo>
                  <a:cubicBezTo>
                    <a:pt x="813" y="929"/>
                    <a:pt x="899" y="966"/>
                    <a:pt x="975" y="923"/>
                  </a:cubicBezTo>
                  <a:cubicBezTo>
                    <a:pt x="1051" y="880"/>
                    <a:pt x="1131" y="761"/>
                    <a:pt x="1179" y="673"/>
                  </a:cubicBezTo>
                  <a:cubicBezTo>
                    <a:pt x="1227" y="585"/>
                    <a:pt x="1241" y="499"/>
                    <a:pt x="1263" y="397"/>
                  </a:cubicBezTo>
                  <a:cubicBezTo>
                    <a:pt x="1285" y="294"/>
                    <a:pt x="1305" y="108"/>
                    <a:pt x="1311" y="54"/>
                  </a:cubicBezTo>
                  <a:cubicBezTo>
                    <a:pt x="1317" y="0"/>
                    <a:pt x="1305" y="66"/>
                    <a:pt x="1297" y="75"/>
                  </a:cubicBezTo>
                  <a:cubicBezTo>
                    <a:pt x="1289" y="84"/>
                    <a:pt x="1288" y="94"/>
                    <a:pt x="1261" y="105"/>
                  </a:cubicBezTo>
                  <a:cubicBezTo>
                    <a:pt x="1234" y="116"/>
                    <a:pt x="1203" y="128"/>
                    <a:pt x="1135" y="141"/>
                  </a:cubicBezTo>
                  <a:cubicBezTo>
                    <a:pt x="1067" y="154"/>
                    <a:pt x="949" y="176"/>
                    <a:pt x="853" y="183"/>
                  </a:cubicBezTo>
                  <a:cubicBezTo>
                    <a:pt x="757" y="190"/>
                    <a:pt x="661" y="189"/>
                    <a:pt x="559" y="183"/>
                  </a:cubicBezTo>
                  <a:cubicBezTo>
                    <a:pt x="457" y="177"/>
                    <a:pt x="318" y="159"/>
                    <a:pt x="241" y="147"/>
                  </a:cubicBezTo>
                  <a:cubicBezTo>
                    <a:pt x="164" y="135"/>
                    <a:pt x="131" y="121"/>
                    <a:pt x="97" y="111"/>
                  </a:cubicBezTo>
                  <a:cubicBezTo>
                    <a:pt x="63" y="101"/>
                    <a:pt x="50" y="98"/>
                    <a:pt x="37" y="87"/>
                  </a:cubicBezTo>
                  <a:cubicBezTo>
                    <a:pt x="24" y="76"/>
                    <a:pt x="22" y="38"/>
                    <a:pt x="19" y="45"/>
                  </a:cubicBezTo>
                  <a:cubicBezTo>
                    <a:pt x="16" y="52"/>
                    <a:pt x="0" y="38"/>
                    <a:pt x="19" y="129"/>
                  </a:cubicBezTo>
                  <a:close/>
                </a:path>
              </a:pathLst>
            </a:custGeom>
            <a:gradFill rotWithShape="0">
              <a:gsLst>
                <a:gs pos="0">
                  <a:srgbClr val="00ffff"/>
                </a:gs>
                <a:gs pos="50000">
                  <a:srgbClr val="ffffff"/>
                </a:gs>
                <a:gs pos="100000">
                  <a:srgbClr val="00ffff"/>
                </a:gs>
              </a:gsLst>
              <a:lin ang="189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8" name="Group 283"/>
            <p:cNvGrpSpPr/>
            <p:nvPr/>
          </p:nvGrpSpPr>
          <p:grpSpPr>
            <a:xfrm>
              <a:off x="6969600" y="3376440"/>
              <a:ext cx="1896840" cy="1134360"/>
              <a:chOff x="6969600" y="3376440"/>
              <a:chExt cx="1896840" cy="1134360"/>
            </a:xfrm>
          </p:grpSpPr>
          <p:sp>
            <p:nvSpPr>
              <p:cNvPr id="399" name="Freeform 284"/>
              <p:cNvSpPr/>
              <p:nvPr/>
            </p:nvSpPr>
            <p:spPr>
              <a:xfrm rot="850200">
                <a:off x="8245080" y="3423960"/>
                <a:ext cx="510840" cy="965520"/>
              </a:xfrm>
              <a:custGeom>
                <a:avLst/>
                <a:gdLst>
                  <a:gd name="textAreaLeft" fmla="*/ 0 w 510840"/>
                  <a:gd name="textAreaRight" fmla="*/ 511200 w 510840"/>
                  <a:gd name="textAreaTop" fmla="*/ 0 h 965520"/>
                  <a:gd name="textAreaBottom" fmla="*/ 965880 h 965520"/>
                </a:gdLst>
                <a:ahLst/>
                <a:rect l="textAreaLeft" t="textAreaTop" r="textAreaRight" b="textAreaBottom"/>
                <a:pathLst>
                  <a:path w="377" h="623">
                    <a:moveTo>
                      <a:pt x="102" y="270"/>
                    </a:moveTo>
                    <a:cubicBezTo>
                      <a:pt x="102" y="262"/>
                      <a:pt x="101" y="259"/>
                      <a:pt x="103" y="248"/>
                    </a:cubicBezTo>
                    <a:cubicBezTo>
                      <a:pt x="105" y="237"/>
                      <a:pt x="105" y="219"/>
                      <a:pt x="112" y="203"/>
                    </a:cubicBezTo>
                    <a:cubicBezTo>
                      <a:pt x="119" y="187"/>
                      <a:pt x="132" y="167"/>
                      <a:pt x="145" y="149"/>
                    </a:cubicBezTo>
                    <a:cubicBezTo>
                      <a:pt x="158" y="131"/>
                      <a:pt x="169" y="103"/>
                      <a:pt x="190" y="92"/>
                    </a:cubicBezTo>
                    <a:cubicBezTo>
                      <a:pt x="211" y="81"/>
                      <a:pt x="253" y="72"/>
                      <a:pt x="271" y="83"/>
                    </a:cubicBezTo>
                    <a:cubicBezTo>
                      <a:pt x="289" y="94"/>
                      <a:pt x="295" y="131"/>
                      <a:pt x="298" y="158"/>
                    </a:cubicBezTo>
                    <a:cubicBezTo>
                      <a:pt x="301" y="185"/>
                      <a:pt x="299" y="216"/>
                      <a:pt x="289" y="245"/>
                    </a:cubicBezTo>
                    <a:cubicBezTo>
                      <a:pt x="279" y="274"/>
                      <a:pt x="259" y="308"/>
                      <a:pt x="235" y="332"/>
                    </a:cubicBezTo>
                    <a:cubicBezTo>
                      <a:pt x="211" y="356"/>
                      <a:pt x="171" y="374"/>
                      <a:pt x="145" y="389"/>
                    </a:cubicBezTo>
                    <a:cubicBezTo>
                      <a:pt x="119" y="404"/>
                      <a:pt x="96" y="410"/>
                      <a:pt x="76" y="425"/>
                    </a:cubicBezTo>
                    <a:cubicBezTo>
                      <a:pt x="56" y="440"/>
                      <a:pt x="33" y="458"/>
                      <a:pt x="22" y="479"/>
                    </a:cubicBezTo>
                    <a:cubicBezTo>
                      <a:pt x="11" y="500"/>
                      <a:pt x="9" y="531"/>
                      <a:pt x="7" y="554"/>
                    </a:cubicBezTo>
                    <a:cubicBezTo>
                      <a:pt x="5" y="577"/>
                      <a:pt x="0" y="615"/>
                      <a:pt x="7" y="619"/>
                    </a:cubicBezTo>
                    <a:cubicBezTo>
                      <a:pt x="13" y="623"/>
                      <a:pt x="36" y="601"/>
                      <a:pt x="46" y="581"/>
                    </a:cubicBezTo>
                    <a:cubicBezTo>
                      <a:pt x="56" y="560"/>
                      <a:pt x="47" y="520"/>
                      <a:pt x="71" y="497"/>
                    </a:cubicBezTo>
                    <a:cubicBezTo>
                      <a:pt x="95" y="474"/>
                      <a:pt x="151" y="468"/>
                      <a:pt x="192" y="444"/>
                    </a:cubicBezTo>
                    <a:cubicBezTo>
                      <a:pt x="233" y="420"/>
                      <a:pt x="287" y="401"/>
                      <a:pt x="318" y="354"/>
                    </a:cubicBezTo>
                    <a:cubicBezTo>
                      <a:pt x="349" y="307"/>
                      <a:pt x="373" y="220"/>
                      <a:pt x="375" y="167"/>
                    </a:cubicBezTo>
                    <a:cubicBezTo>
                      <a:pt x="377" y="113"/>
                      <a:pt x="352" y="59"/>
                      <a:pt x="329" y="31"/>
                    </a:cubicBezTo>
                    <a:cubicBezTo>
                      <a:pt x="307" y="3"/>
                      <a:pt x="272" y="0"/>
                      <a:pt x="242" y="0"/>
                    </a:cubicBezTo>
                    <a:cubicBezTo>
                      <a:pt x="212" y="0"/>
                      <a:pt x="173" y="18"/>
                      <a:pt x="147" y="34"/>
                    </a:cubicBezTo>
                    <a:cubicBezTo>
                      <a:pt x="121" y="51"/>
                      <a:pt x="100" y="69"/>
                      <a:pt x="85" y="102"/>
                    </a:cubicBezTo>
                    <a:cubicBezTo>
                      <a:pt x="70" y="136"/>
                      <a:pt x="55" y="198"/>
                      <a:pt x="54" y="230"/>
                    </a:cubicBezTo>
                    <a:cubicBezTo>
                      <a:pt x="53" y="262"/>
                      <a:pt x="74" y="285"/>
                      <a:pt x="82" y="295"/>
                    </a:cubicBezTo>
                    <a:cubicBezTo>
                      <a:pt x="91" y="305"/>
                      <a:pt x="102" y="299"/>
                      <a:pt x="105" y="295"/>
                    </a:cubicBezTo>
                    <a:cubicBezTo>
                      <a:pt x="108" y="291"/>
                      <a:pt x="104" y="278"/>
                      <a:pt x="102" y="27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00ffff"/>
                  </a:gs>
                  <a:gs pos="100000">
                    <a:srgbClr val="ffffff"/>
                  </a:gs>
                </a:gsLst>
                <a:lin ang="18048000"/>
              </a:gra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Freeform 285"/>
              <p:cNvSpPr/>
              <p:nvPr/>
            </p:nvSpPr>
            <p:spPr>
              <a:xfrm flipH="1" rot="10412400">
                <a:off x="7561440" y="3724200"/>
                <a:ext cx="469080" cy="315000"/>
              </a:xfrm>
              <a:custGeom>
                <a:avLst/>
                <a:gdLst>
                  <a:gd name="textAreaLeft" fmla="*/ -360 w 469080"/>
                  <a:gd name="textAreaRight" fmla="*/ 469080 w 469080"/>
                  <a:gd name="textAreaTop" fmla="*/ 0 h 315000"/>
                  <a:gd name="textAreaBottom" fmla="*/ 315360 h 315000"/>
                </a:gdLst>
                <a:ahLst/>
                <a:rect l="textAreaLeft" t="textAreaTop" r="textAreaRight" b="textAreaBottom"/>
                <a:pathLst>
                  <a:path w="1025" h="808">
                    <a:moveTo>
                      <a:pt x="49" y="523"/>
                    </a:moveTo>
                    <a:cubicBezTo>
                      <a:pt x="57" y="531"/>
                      <a:pt x="42" y="535"/>
                      <a:pt x="49" y="571"/>
                    </a:cubicBezTo>
                    <a:cubicBezTo>
                      <a:pt x="56" y="607"/>
                      <a:pt x="53" y="735"/>
                      <a:pt x="89" y="739"/>
                    </a:cubicBezTo>
                    <a:cubicBezTo>
                      <a:pt x="125" y="743"/>
                      <a:pt x="228" y="616"/>
                      <a:pt x="265" y="595"/>
                    </a:cubicBezTo>
                    <a:cubicBezTo>
                      <a:pt x="302" y="574"/>
                      <a:pt x="310" y="579"/>
                      <a:pt x="313" y="611"/>
                    </a:cubicBezTo>
                    <a:cubicBezTo>
                      <a:pt x="316" y="643"/>
                      <a:pt x="252" y="766"/>
                      <a:pt x="281" y="787"/>
                    </a:cubicBezTo>
                    <a:cubicBezTo>
                      <a:pt x="310" y="808"/>
                      <a:pt x="441" y="758"/>
                      <a:pt x="489" y="739"/>
                    </a:cubicBezTo>
                    <a:cubicBezTo>
                      <a:pt x="537" y="720"/>
                      <a:pt x="548" y="675"/>
                      <a:pt x="569" y="675"/>
                    </a:cubicBezTo>
                    <a:cubicBezTo>
                      <a:pt x="590" y="675"/>
                      <a:pt x="568" y="740"/>
                      <a:pt x="617" y="739"/>
                    </a:cubicBezTo>
                    <a:cubicBezTo>
                      <a:pt x="666" y="738"/>
                      <a:pt x="800" y="679"/>
                      <a:pt x="865" y="667"/>
                    </a:cubicBezTo>
                    <a:cubicBezTo>
                      <a:pt x="930" y="655"/>
                      <a:pt x="993" y="675"/>
                      <a:pt x="1009" y="667"/>
                    </a:cubicBezTo>
                    <a:cubicBezTo>
                      <a:pt x="1025" y="659"/>
                      <a:pt x="984" y="652"/>
                      <a:pt x="961" y="619"/>
                    </a:cubicBezTo>
                    <a:cubicBezTo>
                      <a:pt x="938" y="586"/>
                      <a:pt x="882" y="511"/>
                      <a:pt x="873" y="467"/>
                    </a:cubicBezTo>
                    <a:cubicBezTo>
                      <a:pt x="864" y="423"/>
                      <a:pt x="905" y="387"/>
                      <a:pt x="905" y="355"/>
                    </a:cubicBezTo>
                    <a:cubicBezTo>
                      <a:pt x="905" y="323"/>
                      <a:pt x="916" y="272"/>
                      <a:pt x="873" y="275"/>
                    </a:cubicBezTo>
                    <a:cubicBezTo>
                      <a:pt x="830" y="278"/>
                      <a:pt x="684" y="376"/>
                      <a:pt x="649" y="371"/>
                    </a:cubicBezTo>
                    <a:cubicBezTo>
                      <a:pt x="614" y="366"/>
                      <a:pt x="668" y="275"/>
                      <a:pt x="665" y="243"/>
                    </a:cubicBezTo>
                    <a:cubicBezTo>
                      <a:pt x="662" y="211"/>
                      <a:pt x="638" y="200"/>
                      <a:pt x="633" y="179"/>
                    </a:cubicBezTo>
                    <a:cubicBezTo>
                      <a:pt x="628" y="158"/>
                      <a:pt x="690" y="106"/>
                      <a:pt x="633" y="115"/>
                    </a:cubicBezTo>
                    <a:cubicBezTo>
                      <a:pt x="576" y="124"/>
                      <a:pt x="326" y="224"/>
                      <a:pt x="289" y="235"/>
                    </a:cubicBezTo>
                    <a:cubicBezTo>
                      <a:pt x="252" y="246"/>
                      <a:pt x="397" y="196"/>
                      <a:pt x="409" y="179"/>
                    </a:cubicBezTo>
                    <a:cubicBezTo>
                      <a:pt x="421" y="162"/>
                      <a:pt x="380" y="155"/>
                      <a:pt x="361" y="131"/>
                    </a:cubicBezTo>
                    <a:cubicBezTo>
                      <a:pt x="342" y="107"/>
                      <a:pt x="350" y="0"/>
                      <a:pt x="297" y="35"/>
                    </a:cubicBezTo>
                    <a:cubicBezTo>
                      <a:pt x="244" y="70"/>
                      <a:pt x="82" y="258"/>
                      <a:pt x="41" y="339"/>
                    </a:cubicBezTo>
                    <a:cubicBezTo>
                      <a:pt x="0" y="420"/>
                      <a:pt x="47" y="485"/>
                      <a:pt x="49" y="52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ff00"/>
                  </a:gs>
                  <a:gs pos="50000">
                    <a:srgbClr val="003300"/>
                  </a:gs>
                  <a:gs pos="100000">
                    <a:srgbClr val="00ff00"/>
                  </a:gs>
                </a:gsLst>
                <a:lin ang="771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Freeform 286"/>
              <p:cNvSpPr/>
              <p:nvPr/>
            </p:nvSpPr>
            <p:spPr>
              <a:xfrm flipH="1" rot="14427600">
                <a:off x="7374240" y="4008600"/>
                <a:ext cx="471960" cy="312840"/>
              </a:xfrm>
              <a:custGeom>
                <a:avLst/>
                <a:gdLst>
                  <a:gd name="textAreaLeft" fmla="*/ -360 w 471960"/>
                  <a:gd name="textAreaRight" fmla="*/ 471960 w 471960"/>
                  <a:gd name="textAreaTop" fmla="*/ 0 h 312840"/>
                  <a:gd name="textAreaBottom" fmla="*/ 313200 h 312840"/>
                </a:gdLst>
                <a:ahLst/>
                <a:rect l="textAreaLeft" t="textAreaTop" r="textAreaRight" b="textAreaBottom"/>
                <a:pathLst>
                  <a:path w="1025" h="808">
                    <a:moveTo>
                      <a:pt x="49" y="523"/>
                    </a:moveTo>
                    <a:cubicBezTo>
                      <a:pt x="57" y="531"/>
                      <a:pt x="42" y="535"/>
                      <a:pt x="49" y="571"/>
                    </a:cubicBezTo>
                    <a:cubicBezTo>
                      <a:pt x="56" y="607"/>
                      <a:pt x="53" y="735"/>
                      <a:pt x="89" y="739"/>
                    </a:cubicBezTo>
                    <a:cubicBezTo>
                      <a:pt x="125" y="743"/>
                      <a:pt x="228" y="616"/>
                      <a:pt x="265" y="595"/>
                    </a:cubicBezTo>
                    <a:cubicBezTo>
                      <a:pt x="302" y="574"/>
                      <a:pt x="310" y="579"/>
                      <a:pt x="313" y="611"/>
                    </a:cubicBezTo>
                    <a:cubicBezTo>
                      <a:pt x="316" y="643"/>
                      <a:pt x="252" y="766"/>
                      <a:pt x="281" y="787"/>
                    </a:cubicBezTo>
                    <a:cubicBezTo>
                      <a:pt x="310" y="808"/>
                      <a:pt x="441" y="758"/>
                      <a:pt x="489" y="739"/>
                    </a:cubicBezTo>
                    <a:cubicBezTo>
                      <a:pt x="537" y="720"/>
                      <a:pt x="548" y="675"/>
                      <a:pt x="569" y="675"/>
                    </a:cubicBezTo>
                    <a:cubicBezTo>
                      <a:pt x="590" y="675"/>
                      <a:pt x="568" y="740"/>
                      <a:pt x="617" y="739"/>
                    </a:cubicBezTo>
                    <a:cubicBezTo>
                      <a:pt x="666" y="738"/>
                      <a:pt x="800" y="679"/>
                      <a:pt x="865" y="667"/>
                    </a:cubicBezTo>
                    <a:cubicBezTo>
                      <a:pt x="930" y="655"/>
                      <a:pt x="993" y="675"/>
                      <a:pt x="1009" y="667"/>
                    </a:cubicBezTo>
                    <a:cubicBezTo>
                      <a:pt x="1025" y="659"/>
                      <a:pt x="984" y="652"/>
                      <a:pt x="961" y="619"/>
                    </a:cubicBezTo>
                    <a:cubicBezTo>
                      <a:pt x="938" y="586"/>
                      <a:pt x="882" y="511"/>
                      <a:pt x="873" y="467"/>
                    </a:cubicBezTo>
                    <a:cubicBezTo>
                      <a:pt x="864" y="423"/>
                      <a:pt x="905" y="387"/>
                      <a:pt x="905" y="355"/>
                    </a:cubicBezTo>
                    <a:cubicBezTo>
                      <a:pt x="905" y="323"/>
                      <a:pt x="916" y="272"/>
                      <a:pt x="873" y="275"/>
                    </a:cubicBezTo>
                    <a:cubicBezTo>
                      <a:pt x="830" y="278"/>
                      <a:pt x="684" y="376"/>
                      <a:pt x="649" y="371"/>
                    </a:cubicBezTo>
                    <a:cubicBezTo>
                      <a:pt x="614" y="366"/>
                      <a:pt x="668" y="275"/>
                      <a:pt x="665" y="243"/>
                    </a:cubicBezTo>
                    <a:cubicBezTo>
                      <a:pt x="662" y="211"/>
                      <a:pt x="638" y="200"/>
                      <a:pt x="633" y="179"/>
                    </a:cubicBezTo>
                    <a:cubicBezTo>
                      <a:pt x="628" y="158"/>
                      <a:pt x="690" y="106"/>
                      <a:pt x="633" y="115"/>
                    </a:cubicBezTo>
                    <a:cubicBezTo>
                      <a:pt x="576" y="124"/>
                      <a:pt x="326" y="224"/>
                      <a:pt x="289" y="235"/>
                    </a:cubicBezTo>
                    <a:cubicBezTo>
                      <a:pt x="252" y="246"/>
                      <a:pt x="397" y="196"/>
                      <a:pt x="409" y="179"/>
                    </a:cubicBezTo>
                    <a:cubicBezTo>
                      <a:pt x="421" y="162"/>
                      <a:pt x="380" y="155"/>
                      <a:pt x="361" y="131"/>
                    </a:cubicBezTo>
                    <a:cubicBezTo>
                      <a:pt x="342" y="107"/>
                      <a:pt x="350" y="0"/>
                      <a:pt x="297" y="35"/>
                    </a:cubicBezTo>
                    <a:cubicBezTo>
                      <a:pt x="244" y="70"/>
                      <a:pt x="82" y="258"/>
                      <a:pt x="41" y="339"/>
                    </a:cubicBezTo>
                    <a:cubicBezTo>
                      <a:pt x="0" y="420"/>
                      <a:pt x="47" y="485"/>
                      <a:pt x="49" y="52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ff00"/>
                  </a:gs>
                  <a:gs pos="50000">
                    <a:srgbClr val="003300"/>
                  </a:gs>
                  <a:gs pos="100000">
                    <a:srgbClr val="00ff00"/>
                  </a:gs>
                </a:gsLst>
                <a:lin ang="1173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Freeform 287"/>
              <p:cNvSpPr/>
              <p:nvPr/>
            </p:nvSpPr>
            <p:spPr>
              <a:xfrm flipV="1" rot="8216400">
                <a:off x="7235640" y="3606120"/>
                <a:ext cx="720000" cy="760680"/>
              </a:xfrm>
              <a:custGeom>
                <a:avLst/>
                <a:gdLst>
                  <a:gd name="textAreaLeft" fmla="*/ 0 w 720000"/>
                  <a:gd name="textAreaRight" fmla="*/ 720360 w 720000"/>
                  <a:gd name="textAreaTop" fmla="*/ -360 h 760680"/>
                  <a:gd name="textAreaBottom" fmla="*/ 760680 h 760680"/>
                </a:gdLst>
                <a:ahLst/>
                <a:rect l="textAreaLeft" t="textAreaTop" r="textAreaRight" b="textAreaBottom"/>
                <a:pathLst>
                  <a:path w="1104" h="1160">
                    <a:moveTo>
                      <a:pt x="1104" y="0"/>
                    </a:moveTo>
                    <a:cubicBezTo>
                      <a:pt x="980" y="16"/>
                      <a:pt x="856" y="32"/>
                      <a:pt x="768" y="96"/>
                    </a:cubicBezTo>
                    <a:cubicBezTo>
                      <a:pt x="680" y="160"/>
                      <a:pt x="640" y="264"/>
                      <a:pt x="576" y="384"/>
                    </a:cubicBezTo>
                    <a:cubicBezTo>
                      <a:pt x="512" y="504"/>
                      <a:pt x="448" y="696"/>
                      <a:pt x="384" y="816"/>
                    </a:cubicBezTo>
                    <a:cubicBezTo>
                      <a:pt x="320" y="936"/>
                      <a:pt x="256" y="1048"/>
                      <a:pt x="192" y="1104"/>
                    </a:cubicBezTo>
                    <a:cubicBezTo>
                      <a:pt x="128" y="1160"/>
                      <a:pt x="64" y="1156"/>
                      <a:pt x="0" y="1152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03" name="Group 288"/>
              <p:cNvGrpSpPr/>
              <p:nvPr/>
            </p:nvGrpSpPr>
            <p:grpSpPr>
              <a:xfrm>
                <a:off x="7495560" y="3778560"/>
                <a:ext cx="223920" cy="178200"/>
                <a:chOff x="7495560" y="3778560"/>
                <a:chExt cx="223920" cy="178200"/>
              </a:xfrm>
            </p:grpSpPr>
            <p:sp>
              <p:nvSpPr>
                <p:cNvPr id="404" name="Oval 289"/>
                <p:cNvSpPr/>
                <p:nvPr/>
              </p:nvSpPr>
              <p:spPr>
                <a:xfrm flipV="1" rot="8216400">
                  <a:off x="7567560" y="3803760"/>
                  <a:ext cx="125640" cy="126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0066"/>
                    </a:gs>
                    <a:gs pos="100000">
                      <a:srgbClr val="8c003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2800" rIns="82800" tIns="41400" bIns="414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828720"/>
                      <a:tab algn="l" pos="1657440"/>
                      <a:tab algn="l" pos="2486160"/>
                      <a:tab algn="l" pos="3314880"/>
                      <a:tab algn="l" pos="4143240"/>
                      <a:tab algn="l" pos="4971960"/>
                      <a:tab algn="l" pos="5800680"/>
                      <a:tab algn="l" pos="6629400"/>
                      <a:tab algn="l" pos="7458120"/>
                      <a:tab algn="l" pos="8286840"/>
                      <a:tab algn="l" pos="9115560"/>
                      <a:tab algn="l" pos="9944280"/>
                      <a:tab algn="l" pos="107726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Line 290"/>
                <p:cNvSpPr/>
                <p:nvPr/>
              </p:nvSpPr>
              <p:spPr>
                <a:xfrm flipH="1">
                  <a:off x="7495560" y="3887640"/>
                  <a:ext cx="67320" cy="194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6" name="Group 291"/>
              <p:cNvGrpSpPr/>
              <p:nvPr/>
            </p:nvGrpSpPr>
            <p:grpSpPr>
              <a:xfrm>
                <a:off x="7341480" y="3630240"/>
                <a:ext cx="216720" cy="194760"/>
                <a:chOff x="7341480" y="3630240"/>
                <a:chExt cx="216720" cy="194760"/>
              </a:xfrm>
            </p:grpSpPr>
            <p:sp>
              <p:nvSpPr>
                <p:cNvPr id="407" name="Oval 292"/>
                <p:cNvSpPr/>
                <p:nvPr/>
              </p:nvSpPr>
              <p:spPr>
                <a:xfrm flipV="1" rot="6702600">
                  <a:off x="7392600" y="3647880"/>
                  <a:ext cx="140040" cy="150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0066"/>
                    </a:gs>
                    <a:gs pos="100000">
                      <a:srgbClr val="8c003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2800" rIns="82800" tIns="41400" bIns="41400" anchor="t" anchorCtr="1" vert="eaVer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828720"/>
                      <a:tab algn="l" pos="1657440"/>
                      <a:tab algn="l" pos="2486160"/>
                      <a:tab algn="l" pos="3314880"/>
                      <a:tab algn="l" pos="4143240"/>
                      <a:tab algn="l" pos="4971960"/>
                      <a:tab algn="l" pos="5800680"/>
                      <a:tab algn="l" pos="6629400"/>
                      <a:tab algn="l" pos="7458120"/>
                      <a:tab algn="l" pos="8286840"/>
                      <a:tab algn="l" pos="9115560"/>
                      <a:tab algn="l" pos="9944280"/>
                      <a:tab algn="l" pos="107726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Line 293"/>
                <p:cNvSpPr/>
                <p:nvPr/>
              </p:nvSpPr>
              <p:spPr>
                <a:xfrm flipH="1">
                  <a:off x="7341480" y="3774240"/>
                  <a:ext cx="60480" cy="507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9" name="Group 294"/>
              <p:cNvGrpSpPr/>
              <p:nvPr/>
            </p:nvGrpSpPr>
            <p:grpSpPr>
              <a:xfrm>
                <a:off x="7961040" y="3946320"/>
                <a:ext cx="150480" cy="123120"/>
                <a:chOff x="7961040" y="3946320"/>
                <a:chExt cx="150480" cy="123120"/>
              </a:xfrm>
            </p:grpSpPr>
            <p:sp>
              <p:nvSpPr>
                <p:cNvPr id="410" name="Oval 295"/>
                <p:cNvSpPr/>
                <p:nvPr/>
              </p:nvSpPr>
              <p:spPr>
                <a:xfrm flipV="1" rot="7572600">
                  <a:off x="8007120" y="3960360"/>
                  <a:ext cx="82800" cy="95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0066"/>
                    </a:gs>
                    <a:gs pos="100000">
                      <a:srgbClr val="8c003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2800" rIns="82800" tIns="26280" bIns="26280" anchor="t" anchorCtr="1" vert="eaVer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828720"/>
                      <a:tab algn="l" pos="1657440"/>
                      <a:tab algn="l" pos="2486160"/>
                      <a:tab algn="l" pos="3314880"/>
                      <a:tab algn="l" pos="4143240"/>
                      <a:tab algn="l" pos="4971960"/>
                      <a:tab algn="l" pos="5800680"/>
                      <a:tab algn="l" pos="6629400"/>
                      <a:tab algn="l" pos="7458120"/>
                      <a:tab algn="l" pos="8286840"/>
                      <a:tab algn="l" pos="9115560"/>
                      <a:tab algn="l" pos="9944280"/>
                      <a:tab algn="l" pos="107726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Line 296"/>
                <p:cNvSpPr/>
                <p:nvPr/>
              </p:nvSpPr>
              <p:spPr>
                <a:xfrm flipH="1">
                  <a:off x="7961040" y="4027680"/>
                  <a:ext cx="43560" cy="194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2" name="Group 297"/>
              <p:cNvGrpSpPr/>
              <p:nvPr/>
            </p:nvGrpSpPr>
            <p:grpSpPr>
              <a:xfrm>
                <a:off x="8046720" y="3996000"/>
                <a:ext cx="155520" cy="126000"/>
                <a:chOff x="8046720" y="3996000"/>
                <a:chExt cx="155520" cy="126000"/>
              </a:xfrm>
            </p:grpSpPr>
            <p:sp>
              <p:nvSpPr>
                <p:cNvPr id="413" name="Oval 298"/>
                <p:cNvSpPr/>
                <p:nvPr/>
              </p:nvSpPr>
              <p:spPr>
                <a:xfrm flipV="1" rot="8216400">
                  <a:off x="8097840" y="4011480"/>
                  <a:ext cx="83160" cy="94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0066"/>
                    </a:gs>
                    <a:gs pos="100000">
                      <a:srgbClr val="8c003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2800" rIns="82800" tIns="25920" bIns="259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828720"/>
                      <a:tab algn="l" pos="1657440"/>
                      <a:tab algn="l" pos="2486160"/>
                      <a:tab algn="l" pos="3314880"/>
                      <a:tab algn="l" pos="4143240"/>
                      <a:tab algn="l" pos="4971960"/>
                      <a:tab algn="l" pos="5800680"/>
                      <a:tab algn="l" pos="6629400"/>
                      <a:tab algn="l" pos="7458120"/>
                      <a:tab algn="l" pos="8286840"/>
                      <a:tab algn="l" pos="9115560"/>
                      <a:tab algn="l" pos="9944280"/>
                      <a:tab algn="l" pos="107726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Line 299"/>
                <p:cNvSpPr/>
                <p:nvPr/>
              </p:nvSpPr>
              <p:spPr>
                <a:xfrm flipH="1">
                  <a:off x="8046720" y="4070160"/>
                  <a:ext cx="46440" cy="108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5" name="Group 300"/>
              <p:cNvGrpSpPr/>
              <p:nvPr/>
            </p:nvGrpSpPr>
            <p:grpSpPr>
              <a:xfrm>
                <a:off x="7511400" y="3978720"/>
                <a:ext cx="178200" cy="221040"/>
                <a:chOff x="7511400" y="3978720"/>
                <a:chExt cx="178200" cy="221040"/>
              </a:xfrm>
            </p:grpSpPr>
            <p:sp>
              <p:nvSpPr>
                <p:cNvPr id="416" name="Oval 301"/>
                <p:cNvSpPr/>
                <p:nvPr/>
              </p:nvSpPr>
              <p:spPr>
                <a:xfrm flipH="1" flipV="1" rot="8215800">
                  <a:off x="7537320" y="4047120"/>
                  <a:ext cx="125640" cy="126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0066"/>
                    </a:gs>
                    <a:gs pos="100000">
                      <a:srgbClr val="8c003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2800" rIns="82800" tIns="41400" bIns="414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828720"/>
                      <a:tab algn="l" pos="1657440"/>
                      <a:tab algn="l" pos="2486160"/>
                      <a:tab algn="l" pos="3314880"/>
                      <a:tab algn="l" pos="4143240"/>
                      <a:tab algn="l" pos="4971960"/>
                      <a:tab algn="l" pos="5800680"/>
                      <a:tab algn="l" pos="6629400"/>
                      <a:tab algn="l" pos="7458120"/>
                      <a:tab algn="l" pos="8286840"/>
                      <a:tab algn="l" pos="9115560"/>
                      <a:tab algn="l" pos="9944280"/>
                      <a:tab algn="l" pos="107726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Line 302"/>
                <p:cNvSpPr/>
                <p:nvPr/>
              </p:nvSpPr>
              <p:spPr>
                <a:xfrm flipV="1">
                  <a:off x="7624800" y="3978720"/>
                  <a:ext cx="24120" cy="658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8" name="Group 303"/>
              <p:cNvGrpSpPr/>
              <p:nvPr/>
            </p:nvGrpSpPr>
            <p:grpSpPr>
              <a:xfrm>
                <a:off x="7710840" y="4006800"/>
                <a:ext cx="177480" cy="220320"/>
                <a:chOff x="7710840" y="4006800"/>
                <a:chExt cx="177480" cy="220320"/>
              </a:xfrm>
            </p:grpSpPr>
            <p:sp>
              <p:nvSpPr>
                <p:cNvPr id="419" name="Oval 304"/>
                <p:cNvSpPr/>
                <p:nvPr/>
              </p:nvSpPr>
              <p:spPr>
                <a:xfrm flipH="1" flipV="1" rot="8215800">
                  <a:off x="7736400" y="4075560"/>
                  <a:ext cx="125640" cy="125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0066"/>
                    </a:gs>
                    <a:gs pos="100000">
                      <a:srgbClr val="8c003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2800" rIns="82800" tIns="41400" bIns="414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828720"/>
                      <a:tab algn="l" pos="1657440"/>
                      <a:tab algn="l" pos="2486160"/>
                      <a:tab algn="l" pos="3314880"/>
                      <a:tab algn="l" pos="4143240"/>
                      <a:tab algn="l" pos="4971960"/>
                      <a:tab algn="l" pos="5800680"/>
                      <a:tab algn="l" pos="6629400"/>
                      <a:tab algn="l" pos="7458120"/>
                      <a:tab algn="l" pos="8286840"/>
                      <a:tab algn="l" pos="9115560"/>
                      <a:tab algn="l" pos="9944280"/>
                      <a:tab algn="l" pos="107726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Line 305"/>
                <p:cNvSpPr/>
                <p:nvPr/>
              </p:nvSpPr>
              <p:spPr>
                <a:xfrm flipV="1">
                  <a:off x="7823520" y="4006800"/>
                  <a:ext cx="24480" cy="658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1" name="Group 306"/>
              <p:cNvGrpSpPr/>
              <p:nvPr/>
            </p:nvGrpSpPr>
            <p:grpSpPr>
              <a:xfrm>
                <a:off x="7875000" y="4047120"/>
                <a:ext cx="97200" cy="126360"/>
                <a:chOff x="7875000" y="4047120"/>
                <a:chExt cx="97200" cy="126360"/>
              </a:xfrm>
            </p:grpSpPr>
            <p:sp>
              <p:nvSpPr>
                <p:cNvPr id="422" name="Oval 307"/>
                <p:cNvSpPr/>
                <p:nvPr/>
              </p:nvSpPr>
              <p:spPr>
                <a:xfrm flipH="1" flipV="1" rot="5263800">
                  <a:off x="7881840" y="4083120"/>
                  <a:ext cx="84240" cy="92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0066"/>
                    </a:gs>
                    <a:gs pos="100000">
                      <a:srgbClr val="8c003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2800" rIns="82800" tIns="24120" bIns="24120" anchor="t" anchorCtr="1" vert="eaVer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828720"/>
                      <a:tab algn="l" pos="1657440"/>
                      <a:tab algn="l" pos="2486160"/>
                      <a:tab algn="l" pos="3314880"/>
                      <a:tab algn="l" pos="4143240"/>
                      <a:tab algn="l" pos="4971960"/>
                      <a:tab algn="l" pos="5800680"/>
                      <a:tab algn="l" pos="6629400"/>
                      <a:tab algn="l" pos="7458120"/>
                      <a:tab algn="l" pos="8286840"/>
                      <a:tab algn="l" pos="9115560"/>
                      <a:tab algn="l" pos="9944280"/>
                      <a:tab algn="l" pos="107726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3" name="Line 308"/>
                <p:cNvSpPr/>
                <p:nvPr/>
              </p:nvSpPr>
              <p:spPr>
                <a:xfrm flipH="1" flipV="1">
                  <a:off x="7875000" y="4047120"/>
                  <a:ext cx="24840" cy="414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4" name="Group 309"/>
              <p:cNvGrpSpPr/>
              <p:nvPr/>
            </p:nvGrpSpPr>
            <p:grpSpPr>
              <a:xfrm>
                <a:off x="8035560" y="4077360"/>
                <a:ext cx="152640" cy="139320"/>
                <a:chOff x="8035560" y="4077360"/>
                <a:chExt cx="152640" cy="139320"/>
              </a:xfrm>
            </p:grpSpPr>
            <p:sp>
              <p:nvSpPr>
                <p:cNvPr id="425" name="Oval 310"/>
                <p:cNvSpPr/>
                <p:nvPr/>
              </p:nvSpPr>
              <p:spPr>
                <a:xfrm flipH="1" flipV="1" rot="4123800">
                  <a:off x="8070840" y="4097520"/>
                  <a:ext cx="99720" cy="105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0066"/>
                    </a:gs>
                    <a:gs pos="100000">
                      <a:srgbClr val="8c003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2800" rIns="82800" tIns="33120" bIns="33120" anchor="t" anchorCtr="1" vert="eaVer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828720"/>
                      <a:tab algn="l" pos="1657440"/>
                      <a:tab algn="l" pos="2486160"/>
                      <a:tab algn="l" pos="3314880"/>
                      <a:tab algn="l" pos="4143240"/>
                      <a:tab algn="l" pos="4971960"/>
                      <a:tab algn="l" pos="5800680"/>
                      <a:tab algn="l" pos="6629400"/>
                      <a:tab algn="l" pos="7458120"/>
                      <a:tab algn="l" pos="8286840"/>
                      <a:tab algn="l" pos="9115560"/>
                      <a:tab algn="l" pos="9944280"/>
                      <a:tab algn="l" pos="107726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Line 311"/>
                <p:cNvSpPr/>
                <p:nvPr/>
              </p:nvSpPr>
              <p:spPr>
                <a:xfrm flipH="1" flipV="1">
                  <a:off x="8035560" y="4077360"/>
                  <a:ext cx="42480" cy="37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7" name="Group 312"/>
              <p:cNvGrpSpPr/>
              <p:nvPr/>
            </p:nvGrpSpPr>
            <p:grpSpPr>
              <a:xfrm>
                <a:off x="7808040" y="3874320"/>
                <a:ext cx="212040" cy="174240"/>
                <a:chOff x="7808040" y="3874320"/>
                <a:chExt cx="212040" cy="174240"/>
              </a:xfrm>
            </p:grpSpPr>
            <p:sp>
              <p:nvSpPr>
                <p:cNvPr id="428" name="Oval 313"/>
                <p:cNvSpPr/>
                <p:nvPr/>
              </p:nvSpPr>
              <p:spPr>
                <a:xfrm flipV="1" rot="7572600">
                  <a:off x="7870320" y="3898440"/>
                  <a:ext cx="124560" cy="125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0066"/>
                    </a:gs>
                    <a:gs pos="100000">
                      <a:srgbClr val="8c003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2800" rIns="82800" tIns="41400" bIns="41400" anchor="t" anchorCtr="1" vert="eaVer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828720"/>
                      <a:tab algn="l" pos="1657440"/>
                      <a:tab algn="l" pos="2486160"/>
                      <a:tab algn="l" pos="3314880"/>
                      <a:tab algn="l" pos="4143240"/>
                      <a:tab algn="l" pos="4971960"/>
                      <a:tab algn="l" pos="5800680"/>
                      <a:tab algn="l" pos="6629400"/>
                      <a:tab algn="l" pos="7458120"/>
                      <a:tab algn="l" pos="8286840"/>
                      <a:tab algn="l" pos="9115560"/>
                      <a:tab algn="l" pos="9944280"/>
                      <a:tab algn="l" pos="107726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9" name="Line 314"/>
                <p:cNvSpPr/>
                <p:nvPr/>
              </p:nvSpPr>
              <p:spPr>
                <a:xfrm flipH="1">
                  <a:off x="7808040" y="3993120"/>
                  <a:ext cx="62280" cy="316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0" name="Group 315"/>
              <p:cNvGrpSpPr/>
              <p:nvPr/>
            </p:nvGrpSpPr>
            <p:grpSpPr>
              <a:xfrm>
                <a:off x="7968960" y="4083840"/>
                <a:ext cx="112680" cy="147240"/>
                <a:chOff x="7968960" y="4083840"/>
                <a:chExt cx="112680" cy="147240"/>
              </a:xfrm>
            </p:grpSpPr>
            <p:sp>
              <p:nvSpPr>
                <p:cNvPr id="431" name="Oval 316"/>
                <p:cNvSpPr/>
                <p:nvPr/>
              </p:nvSpPr>
              <p:spPr>
                <a:xfrm flipH="1" flipV="1" rot="6352200">
                  <a:off x="7982640" y="4131000"/>
                  <a:ext cx="84240" cy="93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0066"/>
                    </a:gs>
                    <a:gs pos="100000">
                      <a:srgbClr val="8c003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2800" rIns="82800" tIns="24480" bIns="24480" anchor="t" anchorCtr="1" vert="eaVer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828720"/>
                      <a:tab algn="l" pos="1657440"/>
                      <a:tab algn="l" pos="2486160"/>
                      <a:tab algn="l" pos="3314880"/>
                      <a:tab algn="l" pos="4143240"/>
                      <a:tab algn="l" pos="4971960"/>
                      <a:tab algn="l" pos="5800680"/>
                      <a:tab algn="l" pos="6629400"/>
                      <a:tab algn="l" pos="7458120"/>
                      <a:tab algn="l" pos="8286840"/>
                      <a:tab algn="l" pos="9115560"/>
                      <a:tab algn="l" pos="9944280"/>
                      <a:tab algn="l" pos="107726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" name="Line 317"/>
                <p:cNvSpPr/>
                <p:nvPr/>
              </p:nvSpPr>
              <p:spPr>
                <a:xfrm flipH="1" flipV="1">
                  <a:off x="8003160" y="4083840"/>
                  <a:ext cx="11160" cy="468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3" name="Group 318"/>
              <p:cNvGrpSpPr/>
              <p:nvPr/>
            </p:nvGrpSpPr>
            <p:grpSpPr>
              <a:xfrm>
                <a:off x="7269840" y="3859920"/>
                <a:ext cx="229320" cy="285480"/>
                <a:chOff x="7269840" y="3859920"/>
                <a:chExt cx="229320" cy="285480"/>
              </a:xfrm>
            </p:grpSpPr>
            <p:sp>
              <p:nvSpPr>
                <p:cNvPr id="434" name="Oval 319"/>
                <p:cNvSpPr/>
                <p:nvPr/>
              </p:nvSpPr>
              <p:spPr>
                <a:xfrm flipH="1" flipV="1" rot="8215800">
                  <a:off x="7301160" y="3951720"/>
                  <a:ext cx="165960" cy="158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0066"/>
                    </a:gs>
                    <a:gs pos="100000">
                      <a:srgbClr val="8c003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2800" rIns="82800" tIns="41400" bIns="414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828720"/>
                      <a:tab algn="l" pos="1657440"/>
                      <a:tab algn="l" pos="2486160"/>
                      <a:tab algn="l" pos="3314880"/>
                      <a:tab algn="l" pos="4143240"/>
                      <a:tab algn="l" pos="4971960"/>
                      <a:tab algn="l" pos="5800680"/>
                      <a:tab algn="l" pos="6629400"/>
                      <a:tab algn="l" pos="7458120"/>
                      <a:tab algn="l" pos="8286840"/>
                      <a:tab algn="l" pos="9115560"/>
                      <a:tab algn="l" pos="9944280"/>
                      <a:tab algn="l" pos="107726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Line 320"/>
                <p:cNvSpPr/>
                <p:nvPr/>
              </p:nvSpPr>
              <p:spPr>
                <a:xfrm flipV="1">
                  <a:off x="7418160" y="3859920"/>
                  <a:ext cx="33120" cy="856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6" name="Freeform 321"/>
              <p:cNvSpPr/>
              <p:nvPr/>
            </p:nvSpPr>
            <p:spPr>
              <a:xfrm flipV="1" rot="19016400">
                <a:off x="7013880" y="3549600"/>
                <a:ext cx="469080" cy="314640"/>
              </a:xfrm>
              <a:custGeom>
                <a:avLst/>
                <a:gdLst>
                  <a:gd name="textAreaLeft" fmla="*/ 0 w 469080"/>
                  <a:gd name="textAreaRight" fmla="*/ 469440 w 469080"/>
                  <a:gd name="textAreaTop" fmla="*/ 360 h 314640"/>
                  <a:gd name="textAreaBottom" fmla="*/ 315360 h 314640"/>
                </a:gdLst>
                <a:ahLst/>
                <a:rect l="textAreaLeft" t="textAreaTop" r="textAreaRight" b="textAreaBottom"/>
                <a:pathLst>
                  <a:path w="1025" h="808">
                    <a:moveTo>
                      <a:pt x="49" y="523"/>
                    </a:moveTo>
                    <a:cubicBezTo>
                      <a:pt x="57" y="531"/>
                      <a:pt x="42" y="535"/>
                      <a:pt x="49" y="571"/>
                    </a:cubicBezTo>
                    <a:cubicBezTo>
                      <a:pt x="56" y="607"/>
                      <a:pt x="53" y="735"/>
                      <a:pt x="89" y="739"/>
                    </a:cubicBezTo>
                    <a:cubicBezTo>
                      <a:pt x="125" y="743"/>
                      <a:pt x="228" y="616"/>
                      <a:pt x="265" y="595"/>
                    </a:cubicBezTo>
                    <a:cubicBezTo>
                      <a:pt x="302" y="574"/>
                      <a:pt x="310" y="579"/>
                      <a:pt x="313" y="611"/>
                    </a:cubicBezTo>
                    <a:cubicBezTo>
                      <a:pt x="316" y="643"/>
                      <a:pt x="252" y="766"/>
                      <a:pt x="281" y="787"/>
                    </a:cubicBezTo>
                    <a:cubicBezTo>
                      <a:pt x="310" y="808"/>
                      <a:pt x="441" y="758"/>
                      <a:pt x="489" y="739"/>
                    </a:cubicBezTo>
                    <a:cubicBezTo>
                      <a:pt x="537" y="720"/>
                      <a:pt x="548" y="675"/>
                      <a:pt x="569" y="675"/>
                    </a:cubicBezTo>
                    <a:cubicBezTo>
                      <a:pt x="590" y="675"/>
                      <a:pt x="568" y="740"/>
                      <a:pt x="617" y="739"/>
                    </a:cubicBezTo>
                    <a:cubicBezTo>
                      <a:pt x="666" y="738"/>
                      <a:pt x="800" y="679"/>
                      <a:pt x="865" y="667"/>
                    </a:cubicBezTo>
                    <a:cubicBezTo>
                      <a:pt x="930" y="655"/>
                      <a:pt x="993" y="675"/>
                      <a:pt x="1009" y="667"/>
                    </a:cubicBezTo>
                    <a:cubicBezTo>
                      <a:pt x="1025" y="659"/>
                      <a:pt x="984" y="652"/>
                      <a:pt x="961" y="619"/>
                    </a:cubicBezTo>
                    <a:cubicBezTo>
                      <a:pt x="938" y="586"/>
                      <a:pt x="882" y="511"/>
                      <a:pt x="873" y="467"/>
                    </a:cubicBezTo>
                    <a:cubicBezTo>
                      <a:pt x="864" y="423"/>
                      <a:pt x="905" y="387"/>
                      <a:pt x="905" y="355"/>
                    </a:cubicBezTo>
                    <a:cubicBezTo>
                      <a:pt x="905" y="323"/>
                      <a:pt x="916" y="272"/>
                      <a:pt x="873" y="275"/>
                    </a:cubicBezTo>
                    <a:cubicBezTo>
                      <a:pt x="830" y="278"/>
                      <a:pt x="684" y="376"/>
                      <a:pt x="649" y="371"/>
                    </a:cubicBezTo>
                    <a:cubicBezTo>
                      <a:pt x="614" y="366"/>
                      <a:pt x="668" y="275"/>
                      <a:pt x="665" y="243"/>
                    </a:cubicBezTo>
                    <a:cubicBezTo>
                      <a:pt x="662" y="211"/>
                      <a:pt x="638" y="200"/>
                      <a:pt x="633" y="179"/>
                    </a:cubicBezTo>
                    <a:cubicBezTo>
                      <a:pt x="628" y="158"/>
                      <a:pt x="690" y="106"/>
                      <a:pt x="633" y="115"/>
                    </a:cubicBezTo>
                    <a:cubicBezTo>
                      <a:pt x="576" y="124"/>
                      <a:pt x="326" y="224"/>
                      <a:pt x="289" y="235"/>
                    </a:cubicBezTo>
                    <a:cubicBezTo>
                      <a:pt x="252" y="246"/>
                      <a:pt x="397" y="196"/>
                      <a:pt x="409" y="179"/>
                    </a:cubicBezTo>
                    <a:cubicBezTo>
                      <a:pt x="421" y="162"/>
                      <a:pt x="380" y="155"/>
                      <a:pt x="361" y="131"/>
                    </a:cubicBezTo>
                    <a:cubicBezTo>
                      <a:pt x="342" y="107"/>
                      <a:pt x="350" y="0"/>
                      <a:pt x="297" y="35"/>
                    </a:cubicBezTo>
                    <a:cubicBezTo>
                      <a:pt x="244" y="70"/>
                      <a:pt x="82" y="258"/>
                      <a:pt x="41" y="339"/>
                    </a:cubicBezTo>
                    <a:cubicBezTo>
                      <a:pt x="0" y="420"/>
                      <a:pt x="47" y="485"/>
                      <a:pt x="49" y="52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ff00"/>
                  </a:gs>
                  <a:gs pos="50000">
                    <a:srgbClr val="003300"/>
                  </a:gs>
                  <a:gs pos="100000">
                    <a:srgbClr val="00ff00"/>
                  </a:gs>
                </a:gsLst>
                <a:lin ang="16314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37" name="Group 322"/>
              <p:cNvGrpSpPr/>
              <p:nvPr/>
            </p:nvGrpSpPr>
            <p:grpSpPr>
              <a:xfrm>
                <a:off x="7005960" y="3913560"/>
                <a:ext cx="276120" cy="359280"/>
                <a:chOff x="7005960" y="3913560"/>
                <a:chExt cx="276120" cy="359280"/>
              </a:xfrm>
            </p:grpSpPr>
            <p:sp>
              <p:nvSpPr>
                <p:cNvPr id="438" name="Oval 323"/>
                <p:cNvSpPr/>
                <p:nvPr/>
              </p:nvSpPr>
              <p:spPr>
                <a:xfrm flipH="1" flipV="1" rot="7222200">
                  <a:off x="7044480" y="4033440"/>
                  <a:ext cx="198000" cy="204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0066"/>
                    </a:gs>
                    <a:gs pos="100000">
                      <a:srgbClr val="8c003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2800" rIns="82800" tIns="41400" bIns="41400" anchor="t" anchorCtr="1" vert="eaVer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828720"/>
                      <a:tab algn="l" pos="1657440"/>
                      <a:tab algn="l" pos="2486160"/>
                      <a:tab algn="l" pos="3314880"/>
                      <a:tab algn="l" pos="4143240"/>
                      <a:tab algn="l" pos="4971960"/>
                      <a:tab algn="l" pos="5800680"/>
                      <a:tab algn="l" pos="6629400"/>
                      <a:tab algn="l" pos="7458120"/>
                      <a:tab algn="l" pos="8286840"/>
                      <a:tab algn="l" pos="9115560"/>
                      <a:tab algn="l" pos="9944280"/>
                      <a:tab algn="l" pos="107726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9" name="Line 324"/>
                <p:cNvSpPr/>
                <p:nvPr/>
              </p:nvSpPr>
              <p:spPr>
                <a:xfrm flipV="1">
                  <a:off x="7149960" y="3913560"/>
                  <a:ext cx="5760" cy="111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440" name="Group 325"/>
          <p:cNvGrpSpPr/>
          <p:nvPr/>
        </p:nvGrpSpPr>
        <p:grpSpPr>
          <a:xfrm>
            <a:off x="5148360" y="5467320"/>
            <a:ext cx="2206800" cy="1390680"/>
            <a:chOff x="5148360" y="5467320"/>
            <a:chExt cx="2206800" cy="1390680"/>
          </a:xfrm>
        </p:grpSpPr>
        <p:sp>
          <p:nvSpPr>
            <p:cNvPr id="441" name="Freeform 326"/>
            <p:cNvSpPr/>
            <p:nvPr/>
          </p:nvSpPr>
          <p:spPr>
            <a:xfrm>
              <a:off x="5148360" y="5467320"/>
              <a:ext cx="1896480" cy="1390680"/>
            </a:xfrm>
            <a:custGeom>
              <a:avLst/>
              <a:gdLst>
                <a:gd name="textAreaLeft" fmla="*/ 0 w 1896480"/>
                <a:gd name="textAreaRight" fmla="*/ 1896840 w 1896480"/>
                <a:gd name="textAreaTop" fmla="*/ 0 h 1390680"/>
                <a:gd name="textAreaBottom" fmla="*/ 1391040 h 1390680"/>
              </a:gdLst>
              <a:ahLst/>
              <a:rect l="textAreaLeft" t="textAreaTop" r="textAreaRight" b="textAreaBottom"/>
              <a:pathLst>
                <a:path w="1317" h="966">
                  <a:moveTo>
                    <a:pt x="19" y="129"/>
                  </a:moveTo>
                  <a:cubicBezTo>
                    <a:pt x="38" y="220"/>
                    <a:pt x="89" y="474"/>
                    <a:pt x="134" y="594"/>
                  </a:cubicBezTo>
                  <a:cubicBezTo>
                    <a:pt x="179" y="714"/>
                    <a:pt x="240" y="795"/>
                    <a:pt x="290" y="851"/>
                  </a:cubicBezTo>
                  <a:cubicBezTo>
                    <a:pt x="340" y="907"/>
                    <a:pt x="362" y="917"/>
                    <a:pt x="434" y="930"/>
                  </a:cubicBezTo>
                  <a:cubicBezTo>
                    <a:pt x="506" y="943"/>
                    <a:pt x="632" y="931"/>
                    <a:pt x="723" y="930"/>
                  </a:cubicBezTo>
                  <a:cubicBezTo>
                    <a:pt x="813" y="929"/>
                    <a:pt x="899" y="966"/>
                    <a:pt x="975" y="923"/>
                  </a:cubicBezTo>
                  <a:cubicBezTo>
                    <a:pt x="1051" y="880"/>
                    <a:pt x="1131" y="761"/>
                    <a:pt x="1179" y="673"/>
                  </a:cubicBezTo>
                  <a:cubicBezTo>
                    <a:pt x="1227" y="585"/>
                    <a:pt x="1241" y="499"/>
                    <a:pt x="1263" y="397"/>
                  </a:cubicBezTo>
                  <a:cubicBezTo>
                    <a:pt x="1285" y="294"/>
                    <a:pt x="1305" y="108"/>
                    <a:pt x="1311" y="54"/>
                  </a:cubicBezTo>
                  <a:cubicBezTo>
                    <a:pt x="1317" y="0"/>
                    <a:pt x="1305" y="66"/>
                    <a:pt x="1297" y="75"/>
                  </a:cubicBezTo>
                  <a:cubicBezTo>
                    <a:pt x="1289" y="84"/>
                    <a:pt x="1288" y="94"/>
                    <a:pt x="1261" y="105"/>
                  </a:cubicBezTo>
                  <a:cubicBezTo>
                    <a:pt x="1234" y="116"/>
                    <a:pt x="1203" y="128"/>
                    <a:pt x="1135" y="141"/>
                  </a:cubicBezTo>
                  <a:cubicBezTo>
                    <a:pt x="1067" y="154"/>
                    <a:pt x="949" y="176"/>
                    <a:pt x="853" y="183"/>
                  </a:cubicBezTo>
                  <a:cubicBezTo>
                    <a:pt x="757" y="190"/>
                    <a:pt x="661" y="189"/>
                    <a:pt x="559" y="183"/>
                  </a:cubicBezTo>
                  <a:cubicBezTo>
                    <a:pt x="457" y="177"/>
                    <a:pt x="318" y="159"/>
                    <a:pt x="241" y="147"/>
                  </a:cubicBezTo>
                  <a:cubicBezTo>
                    <a:pt x="164" y="135"/>
                    <a:pt x="131" y="121"/>
                    <a:pt x="97" y="111"/>
                  </a:cubicBezTo>
                  <a:cubicBezTo>
                    <a:pt x="63" y="101"/>
                    <a:pt x="50" y="98"/>
                    <a:pt x="37" y="87"/>
                  </a:cubicBezTo>
                  <a:cubicBezTo>
                    <a:pt x="24" y="76"/>
                    <a:pt x="22" y="38"/>
                    <a:pt x="19" y="45"/>
                  </a:cubicBezTo>
                  <a:cubicBezTo>
                    <a:pt x="16" y="52"/>
                    <a:pt x="0" y="38"/>
                    <a:pt x="19" y="129"/>
                  </a:cubicBezTo>
                  <a:close/>
                </a:path>
              </a:pathLst>
            </a:custGeom>
            <a:gradFill rotWithShape="0">
              <a:gsLst>
                <a:gs pos="0">
                  <a:srgbClr val="00ffff"/>
                </a:gs>
                <a:gs pos="50000">
                  <a:srgbClr val="ffffff"/>
                </a:gs>
                <a:gs pos="100000">
                  <a:srgbClr val="00ffff"/>
                </a:gs>
              </a:gsLst>
              <a:lin ang="189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2" name="Group 327"/>
            <p:cNvGrpSpPr/>
            <p:nvPr/>
          </p:nvGrpSpPr>
          <p:grpSpPr>
            <a:xfrm>
              <a:off x="5458320" y="5630760"/>
              <a:ext cx="1896840" cy="1134360"/>
              <a:chOff x="5458320" y="5630760"/>
              <a:chExt cx="1896840" cy="1134360"/>
            </a:xfrm>
          </p:grpSpPr>
          <p:sp>
            <p:nvSpPr>
              <p:cNvPr id="443" name="Freeform 328"/>
              <p:cNvSpPr/>
              <p:nvPr/>
            </p:nvSpPr>
            <p:spPr>
              <a:xfrm rot="850200">
                <a:off x="6733800" y="5678280"/>
                <a:ext cx="510840" cy="965520"/>
              </a:xfrm>
              <a:custGeom>
                <a:avLst/>
                <a:gdLst>
                  <a:gd name="textAreaLeft" fmla="*/ 0 w 510840"/>
                  <a:gd name="textAreaRight" fmla="*/ 511200 w 510840"/>
                  <a:gd name="textAreaTop" fmla="*/ 0 h 965520"/>
                  <a:gd name="textAreaBottom" fmla="*/ 965880 h 965520"/>
                </a:gdLst>
                <a:ahLst/>
                <a:rect l="textAreaLeft" t="textAreaTop" r="textAreaRight" b="textAreaBottom"/>
                <a:pathLst>
                  <a:path w="377" h="623">
                    <a:moveTo>
                      <a:pt x="102" y="270"/>
                    </a:moveTo>
                    <a:cubicBezTo>
                      <a:pt x="102" y="262"/>
                      <a:pt x="101" y="259"/>
                      <a:pt x="103" y="248"/>
                    </a:cubicBezTo>
                    <a:cubicBezTo>
                      <a:pt x="105" y="237"/>
                      <a:pt x="105" y="219"/>
                      <a:pt x="112" y="203"/>
                    </a:cubicBezTo>
                    <a:cubicBezTo>
                      <a:pt x="119" y="187"/>
                      <a:pt x="132" y="167"/>
                      <a:pt x="145" y="149"/>
                    </a:cubicBezTo>
                    <a:cubicBezTo>
                      <a:pt x="158" y="131"/>
                      <a:pt x="169" y="103"/>
                      <a:pt x="190" y="92"/>
                    </a:cubicBezTo>
                    <a:cubicBezTo>
                      <a:pt x="211" y="81"/>
                      <a:pt x="253" y="72"/>
                      <a:pt x="271" y="83"/>
                    </a:cubicBezTo>
                    <a:cubicBezTo>
                      <a:pt x="289" y="94"/>
                      <a:pt x="295" y="131"/>
                      <a:pt x="298" y="158"/>
                    </a:cubicBezTo>
                    <a:cubicBezTo>
                      <a:pt x="301" y="185"/>
                      <a:pt x="299" y="216"/>
                      <a:pt x="289" y="245"/>
                    </a:cubicBezTo>
                    <a:cubicBezTo>
                      <a:pt x="279" y="274"/>
                      <a:pt x="259" y="308"/>
                      <a:pt x="235" y="332"/>
                    </a:cubicBezTo>
                    <a:cubicBezTo>
                      <a:pt x="211" y="356"/>
                      <a:pt x="171" y="374"/>
                      <a:pt x="145" y="389"/>
                    </a:cubicBezTo>
                    <a:cubicBezTo>
                      <a:pt x="119" y="404"/>
                      <a:pt x="96" y="410"/>
                      <a:pt x="76" y="425"/>
                    </a:cubicBezTo>
                    <a:cubicBezTo>
                      <a:pt x="56" y="440"/>
                      <a:pt x="33" y="458"/>
                      <a:pt x="22" y="479"/>
                    </a:cubicBezTo>
                    <a:cubicBezTo>
                      <a:pt x="11" y="500"/>
                      <a:pt x="9" y="531"/>
                      <a:pt x="7" y="554"/>
                    </a:cubicBezTo>
                    <a:cubicBezTo>
                      <a:pt x="5" y="577"/>
                      <a:pt x="0" y="615"/>
                      <a:pt x="7" y="619"/>
                    </a:cubicBezTo>
                    <a:cubicBezTo>
                      <a:pt x="13" y="623"/>
                      <a:pt x="36" y="601"/>
                      <a:pt x="46" y="581"/>
                    </a:cubicBezTo>
                    <a:cubicBezTo>
                      <a:pt x="56" y="560"/>
                      <a:pt x="47" y="520"/>
                      <a:pt x="71" y="497"/>
                    </a:cubicBezTo>
                    <a:cubicBezTo>
                      <a:pt x="95" y="474"/>
                      <a:pt x="151" y="468"/>
                      <a:pt x="192" y="444"/>
                    </a:cubicBezTo>
                    <a:cubicBezTo>
                      <a:pt x="233" y="420"/>
                      <a:pt x="287" y="401"/>
                      <a:pt x="318" y="354"/>
                    </a:cubicBezTo>
                    <a:cubicBezTo>
                      <a:pt x="349" y="307"/>
                      <a:pt x="373" y="220"/>
                      <a:pt x="375" y="167"/>
                    </a:cubicBezTo>
                    <a:cubicBezTo>
                      <a:pt x="377" y="113"/>
                      <a:pt x="352" y="59"/>
                      <a:pt x="329" y="31"/>
                    </a:cubicBezTo>
                    <a:cubicBezTo>
                      <a:pt x="307" y="3"/>
                      <a:pt x="272" y="0"/>
                      <a:pt x="242" y="0"/>
                    </a:cubicBezTo>
                    <a:cubicBezTo>
                      <a:pt x="212" y="0"/>
                      <a:pt x="173" y="18"/>
                      <a:pt x="147" y="34"/>
                    </a:cubicBezTo>
                    <a:cubicBezTo>
                      <a:pt x="121" y="51"/>
                      <a:pt x="100" y="69"/>
                      <a:pt x="85" y="102"/>
                    </a:cubicBezTo>
                    <a:cubicBezTo>
                      <a:pt x="70" y="136"/>
                      <a:pt x="55" y="198"/>
                      <a:pt x="54" y="230"/>
                    </a:cubicBezTo>
                    <a:cubicBezTo>
                      <a:pt x="53" y="262"/>
                      <a:pt x="74" y="285"/>
                      <a:pt x="82" y="295"/>
                    </a:cubicBezTo>
                    <a:cubicBezTo>
                      <a:pt x="91" y="305"/>
                      <a:pt x="102" y="299"/>
                      <a:pt x="105" y="295"/>
                    </a:cubicBezTo>
                    <a:cubicBezTo>
                      <a:pt x="108" y="291"/>
                      <a:pt x="104" y="278"/>
                      <a:pt x="102" y="27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00ffff"/>
                  </a:gs>
                  <a:gs pos="100000">
                    <a:srgbClr val="ffffff"/>
                  </a:gs>
                </a:gsLst>
                <a:lin ang="18048000"/>
              </a:gra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Freeform 329"/>
              <p:cNvSpPr/>
              <p:nvPr/>
            </p:nvSpPr>
            <p:spPr>
              <a:xfrm flipH="1" rot="10412400">
                <a:off x="6050160" y="5978520"/>
                <a:ext cx="469080" cy="315000"/>
              </a:xfrm>
              <a:custGeom>
                <a:avLst/>
                <a:gdLst>
                  <a:gd name="textAreaLeft" fmla="*/ -360 w 469080"/>
                  <a:gd name="textAreaRight" fmla="*/ 469080 w 469080"/>
                  <a:gd name="textAreaTop" fmla="*/ 0 h 315000"/>
                  <a:gd name="textAreaBottom" fmla="*/ 315360 h 315000"/>
                </a:gdLst>
                <a:ahLst/>
                <a:rect l="textAreaLeft" t="textAreaTop" r="textAreaRight" b="textAreaBottom"/>
                <a:pathLst>
                  <a:path w="1025" h="808">
                    <a:moveTo>
                      <a:pt x="49" y="523"/>
                    </a:moveTo>
                    <a:cubicBezTo>
                      <a:pt x="57" y="531"/>
                      <a:pt x="42" y="535"/>
                      <a:pt x="49" y="571"/>
                    </a:cubicBezTo>
                    <a:cubicBezTo>
                      <a:pt x="56" y="607"/>
                      <a:pt x="53" y="735"/>
                      <a:pt x="89" y="739"/>
                    </a:cubicBezTo>
                    <a:cubicBezTo>
                      <a:pt x="125" y="743"/>
                      <a:pt x="228" y="616"/>
                      <a:pt x="265" y="595"/>
                    </a:cubicBezTo>
                    <a:cubicBezTo>
                      <a:pt x="302" y="574"/>
                      <a:pt x="310" y="579"/>
                      <a:pt x="313" y="611"/>
                    </a:cubicBezTo>
                    <a:cubicBezTo>
                      <a:pt x="316" y="643"/>
                      <a:pt x="252" y="766"/>
                      <a:pt x="281" y="787"/>
                    </a:cubicBezTo>
                    <a:cubicBezTo>
                      <a:pt x="310" y="808"/>
                      <a:pt x="441" y="758"/>
                      <a:pt x="489" y="739"/>
                    </a:cubicBezTo>
                    <a:cubicBezTo>
                      <a:pt x="537" y="720"/>
                      <a:pt x="548" y="675"/>
                      <a:pt x="569" y="675"/>
                    </a:cubicBezTo>
                    <a:cubicBezTo>
                      <a:pt x="590" y="675"/>
                      <a:pt x="568" y="740"/>
                      <a:pt x="617" y="739"/>
                    </a:cubicBezTo>
                    <a:cubicBezTo>
                      <a:pt x="666" y="738"/>
                      <a:pt x="800" y="679"/>
                      <a:pt x="865" y="667"/>
                    </a:cubicBezTo>
                    <a:cubicBezTo>
                      <a:pt x="930" y="655"/>
                      <a:pt x="993" y="675"/>
                      <a:pt x="1009" y="667"/>
                    </a:cubicBezTo>
                    <a:cubicBezTo>
                      <a:pt x="1025" y="659"/>
                      <a:pt x="984" y="652"/>
                      <a:pt x="961" y="619"/>
                    </a:cubicBezTo>
                    <a:cubicBezTo>
                      <a:pt x="938" y="586"/>
                      <a:pt x="882" y="511"/>
                      <a:pt x="873" y="467"/>
                    </a:cubicBezTo>
                    <a:cubicBezTo>
                      <a:pt x="864" y="423"/>
                      <a:pt x="905" y="387"/>
                      <a:pt x="905" y="355"/>
                    </a:cubicBezTo>
                    <a:cubicBezTo>
                      <a:pt x="905" y="323"/>
                      <a:pt x="916" y="272"/>
                      <a:pt x="873" y="275"/>
                    </a:cubicBezTo>
                    <a:cubicBezTo>
                      <a:pt x="830" y="278"/>
                      <a:pt x="684" y="376"/>
                      <a:pt x="649" y="371"/>
                    </a:cubicBezTo>
                    <a:cubicBezTo>
                      <a:pt x="614" y="366"/>
                      <a:pt x="668" y="275"/>
                      <a:pt x="665" y="243"/>
                    </a:cubicBezTo>
                    <a:cubicBezTo>
                      <a:pt x="662" y="211"/>
                      <a:pt x="638" y="200"/>
                      <a:pt x="633" y="179"/>
                    </a:cubicBezTo>
                    <a:cubicBezTo>
                      <a:pt x="628" y="158"/>
                      <a:pt x="690" y="106"/>
                      <a:pt x="633" y="115"/>
                    </a:cubicBezTo>
                    <a:cubicBezTo>
                      <a:pt x="576" y="124"/>
                      <a:pt x="326" y="224"/>
                      <a:pt x="289" y="235"/>
                    </a:cubicBezTo>
                    <a:cubicBezTo>
                      <a:pt x="252" y="246"/>
                      <a:pt x="397" y="196"/>
                      <a:pt x="409" y="179"/>
                    </a:cubicBezTo>
                    <a:cubicBezTo>
                      <a:pt x="421" y="162"/>
                      <a:pt x="380" y="155"/>
                      <a:pt x="361" y="131"/>
                    </a:cubicBezTo>
                    <a:cubicBezTo>
                      <a:pt x="342" y="107"/>
                      <a:pt x="350" y="0"/>
                      <a:pt x="297" y="35"/>
                    </a:cubicBezTo>
                    <a:cubicBezTo>
                      <a:pt x="244" y="70"/>
                      <a:pt x="82" y="258"/>
                      <a:pt x="41" y="339"/>
                    </a:cubicBezTo>
                    <a:cubicBezTo>
                      <a:pt x="0" y="420"/>
                      <a:pt x="47" y="485"/>
                      <a:pt x="49" y="52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ff00"/>
                  </a:gs>
                  <a:gs pos="50000">
                    <a:srgbClr val="003300"/>
                  </a:gs>
                  <a:gs pos="100000">
                    <a:srgbClr val="00ff00"/>
                  </a:gs>
                </a:gsLst>
                <a:lin ang="771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Freeform 330"/>
              <p:cNvSpPr/>
              <p:nvPr/>
            </p:nvSpPr>
            <p:spPr>
              <a:xfrm flipH="1" rot="14427600">
                <a:off x="5862960" y="6262920"/>
                <a:ext cx="471960" cy="312840"/>
              </a:xfrm>
              <a:custGeom>
                <a:avLst/>
                <a:gdLst>
                  <a:gd name="textAreaLeft" fmla="*/ -360 w 471960"/>
                  <a:gd name="textAreaRight" fmla="*/ 471960 w 471960"/>
                  <a:gd name="textAreaTop" fmla="*/ 0 h 312840"/>
                  <a:gd name="textAreaBottom" fmla="*/ 313200 h 312840"/>
                </a:gdLst>
                <a:ahLst/>
                <a:rect l="textAreaLeft" t="textAreaTop" r="textAreaRight" b="textAreaBottom"/>
                <a:pathLst>
                  <a:path w="1025" h="808">
                    <a:moveTo>
                      <a:pt x="49" y="523"/>
                    </a:moveTo>
                    <a:cubicBezTo>
                      <a:pt x="57" y="531"/>
                      <a:pt x="42" y="535"/>
                      <a:pt x="49" y="571"/>
                    </a:cubicBezTo>
                    <a:cubicBezTo>
                      <a:pt x="56" y="607"/>
                      <a:pt x="53" y="735"/>
                      <a:pt x="89" y="739"/>
                    </a:cubicBezTo>
                    <a:cubicBezTo>
                      <a:pt x="125" y="743"/>
                      <a:pt x="228" y="616"/>
                      <a:pt x="265" y="595"/>
                    </a:cubicBezTo>
                    <a:cubicBezTo>
                      <a:pt x="302" y="574"/>
                      <a:pt x="310" y="579"/>
                      <a:pt x="313" y="611"/>
                    </a:cubicBezTo>
                    <a:cubicBezTo>
                      <a:pt x="316" y="643"/>
                      <a:pt x="252" y="766"/>
                      <a:pt x="281" y="787"/>
                    </a:cubicBezTo>
                    <a:cubicBezTo>
                      <a:pt x="310" y="808"/>
                      <a:pt x="441" y="758"/>
                      <a:pt x="489" y="739"/>
                    </a:cubicBezTo>
                    <a:cubicBezTo>
                      <a:pt x="537" y="720"/>
                      <a:pt x="548" y="675"/>
                      <a:pt x="569" y="675"/>
                    </a:cubicBezTo>
                    <a:cubicBezTo>
                      <a:pt x="590" y="675"/>
                      <a:pt x="568" y="740"/>
                      <a:pt x="617" y="739"/>
                    </a:cubicBezTo>
                    <a:cubicBezTo>
                      <a:pt x="666" y="738"/>
                      <a:pt x="800" y="679"/>
                      <a:pt x="865" y="667"/>
                    </a:cubicBezTo>
                    <a:cubicBezTo>
                      <a:pt x="930" y="655"/>
                      <a:pt x="993" y="675"/>
                      <a:pt x="1009" y="667"/>
                    </a:cubicBezTo>
                    <a:cubicBezTo>
                      <a:pt x="1025" y="659"/>
                      <a:pt x="984" y="652"/>
                      <a:pt x="961" y="619"/>
                    </a:cubicBezTo>
                    <a:cubicBezTo>
                      <a:pt x="938" y="586"/>
                      <a:pt x="882" y="511"/>
                      <a:pt x="873" y="467"/>
                    </a:cubicBezTo>
                    <a:cubicBezTo>
                      <a:pt x="864" y="423"/>
                      <a:pt x="905" y="387"/>
                      <a:pt x="905" y="355"/>
                    </a:cubicBezTo>
                    <a:cubicBezTo>
                      <a:pt x="905" y="323"/>
                      <a:pt x="916" y="272"/>
                      <a:pt x="873" y="275"/>
                    </a:cubicBezTo>
                    <a:cubicBezTo>
                      <a:pt x="830" y="278"/>
                      <a:pt x="684" y="376"/>
                      <a:pt x="649" y="371"/>
                    </a:cubicBezTo>
                    <a:cubicBezTo>
                      <a:pt x="614" y="366"/>
                      <a:pt x="668" y="275"/>
                      <a:pt x="665" y="243"/>
                    </a:cubicBezTo>
                    <a:cubicBezTo>
                      <a:pt x="662" y="211"/>
                      <a:pt x="638" y="200"/>
                      <a:pt x="633" y="179"/>
                    </a:cubicBezTo>
                    <a:cubicBezTo>
                      <a:pt x="628" y="158"/>
                      <a:pt x="690" y="106"/>
                      <a:pt x="633" y="115"/>
                    </a:cubicBezTo>
                    <a:cubicBezTo>
                      <a:pt x="576" y="124"/>
                      <a:pt x="326" y="224"/>
                      <a:pt x="289" y="235"/>
                    </a:cubicBezTo>
                    <a:cubicBezTo>
                      <a:pt x="252" y="246"/>
                      <a:pt x="397" y="196"/>
                      <a:pt x="409" y="179"/>
                    </a:cubicBezTo>
                    <a:cubicBezTo>
                      <a:pt x="421" y="162"/>
                      <a:pt x="380" y="155"/>
                      <a:pt x="361" y="131"/>
                    </a:cubicBezTo>
                    <a:cubicBezTo>
                      <a:pt x="342" y="107"/>
                      <a:pt x="350" y="0"/>
                      <a:pt x="297" y="35"/>
                    </a:cubicBezTo>
                    <a:cubicBezTo>
                      <a:pt x="244" y="70"/>
                      <a:pt x="82" y="258"/>
                      <a:pt x="41" y="339"/>
                    </a:cubicBezTo>
                    <a:cubicBezTo>
                      <a:pt x="0" y="420"/>
                      <a:pt x="47" y="485"/>
                      <a:pt x="49" y="52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ff00"/>
                  </a:gs>
                  <a:gs pos="50000">
                    <a:srgbClr val="003300"/>
                  </a:gs>
                  <a:gs pos="100000">
                    <a:srgbClr val="00ff00"/>
                  </a:gs>
                </a:gsLst>
                <a:lin ang="1173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Freeform 331"/>
              <p:cNvSpPr/>
              <p:nvPr/>
            </p:nvSpPr>
            <p:spPr>
              <a:xfrm flipV="1" rot="8216400">
                <a:off x="5724360" y="5860440"/>
                <a:ext cx="720000" cy="760680"/>
              </a:xfrm>
              <a:custGeom>
                <a:avLst/>
                <a:gdLst>
                  <a:gd name="textAreaLeft" fmla="*/ 0 w 720000"/>
                  <a:gd name="textAreaRight" fmla="*/ 720360 w 720000"/>
                  <a:gd name="textAreaTop" fmla="*/ -360 h 760680"/>
                  <a:gd name="textAreaBottom" fmla="*/ 760680 h 760680"/>
                </a:gdLst>
                <a:ahLst/>
                <a:rect l="textAreaLeft" t="textAreaTop" r="textAreaRight" b="textAreaBottom"/>
                <a:pathLst>
                  <a:path w="1104" h="1160">
                    <a:moveTo>
                      <a:pt x="1104" y="0"/>
                    </a:moveTo>
                    <a:cubicBezTo>
                      <a:pt x="980" y="16"/>
                      <a:pt x="856" y="32"/>
                      <a:pt x="768" y="96"/>
                    </a:cubicBezTo>
                    <a:cubicBezTo>
                      <a:pt x="680" y="160"/>
                      <a:pt x="640" y="264"/>
                      <a:pt x="576" y="384"/>
                    </a:cubicBezTo>
                    <a:cubicBezTo>
                      <a:pt x="512" y="504"/>
                      <a:pt x="448" y="696"/>
                      <a:pt x="384" y="816"/>
                    </a:cubicBezTo>
                    <a:cubicBezTo>
                      <a:pt x="320" y="936"/>
                      <a:pt x="256" y="1048"/>
                      <a:pt x="192" y="1104"/>
                    </a:cubicBezTo>
                    <a:cubicBezTo>
                      <a:pt x="128" y="1160"/>
                      <a:pt x="64" y="1156"/>
                      <a:pt x="0" y="1152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47" name="Group 332"/>
              <p:cNvGrpSpPr/>
              <p:nvPr/>
            </p:nvGrpSpPr>
            <p:grpSpPr>
              <a:xfrm>
                <a:off x="5984280" y="6032880"/>
                <a:ext cx="223920" cy="178200"/>
                <a:chOff x="5984280" y="6032880"/>
                <a:chExt cx="223920" cy="178200"/>
              </a:xfrm>
            </p:grpSpPr>
            <p:sp>
              <p:nvSpPr>
                <p:cNvPr id="448" name="Oval 333"/>
                <p:cNvSpPr/>
                <p:nvPr/>
              </p:nvSpPr>
              <p:spPr>
                <a:xfrm flipV="1" rot="8216400">
                  <a:off x="6056280" y="6058080"/>
                  <a:ext cx="125640" cy="126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0066"/>
                    </a:gs>
                    <a:gs pos="100000">
                      <a:srgbClr val="8c003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2800" rIns="82800" tIns="41400" bIns="414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828720"/>
                      <a:tab algn="l" pos="1657440"/>
                      <a:tab algn="l" pos="2486160"/>
                      <a:tab algn="l" pos="3314880"/>
                      <a:tab algn="l" pos="4143240"/>
                      <a:tab algn="l" pos="4971960"/>
                      <a:tab algn="l" pos="5800680"/>
                      <a:tab algn="l" pos="6629400"/>
                      <a:tab algn="l" pos="7458120"/>
                      <a:tab algn="l" pos="8286840"/>
                      <a:tab algn="l" pos="9115560"/>
                      <a:tab algn="l" pos="9944280"/>
                      <a:tab algn="l" pos="107726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9" name="Line 334"/>
                <p:cNvSpPr/>
                <p:nvPr/>
              </p:nvSpPr>
              <p:spPr>
                <a:xfrm flipH="1">
                  <a:off x="5984280" y="6141960"/>
                  <a:ext cx="67320" cy="194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0" name="Group 335"/>
              <p:cNvGrpSpPr/>
              <p:nvPr/>
            </p:nvGrpSpPr>
            <p:grpSpPr>
              <a:xfrm>
                <a:off x="5830200" y="5884560"/>
                <a:ext cx="216720" cy="194760"/>
                <a:chOff x="5830200" y="5884560"/>
                <a:chExt cx="216720" cy="194760"/>
              </a:xfrm>
            </p:grpSpPr>
            <p:sp>
              <p:nvSpPr>
                <p:cNvPr id="451" name="Oval 336"/>
                <p:cNvSpPr/>
                <p:nvPr/>
              </p:nvSpPr>
              <p:spPr>
                <a:xfrm flipV="1" rot="6702600">
                  <a:off x="5881320" y="5902200"/>
                  <a:ext cx="140040" cy="150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0066"/>
                    </a:gs>
                    <a:gs pos="100000">
                      <a:srgbClr val="8c003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2800" rIns="82800" tIns="41400" bIns="41400" anchor="t" anchorCtr="1" vert="eaVer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828720"/>
                      <a:tab algn="l" pos="1657440"/>
                      <a:tab algn="l" pos="2486160"/>
                      <a:tab algn="l" pos="3314880"/>
                      <a:tab algn="l" pos="4143240"/>
                      <a:tab algn="l" pos="4971960"/>
                      <a:tab algn="l" pos="5800680"/>
                      <a:tab algn="l" pos="6629400"/>
                      <a:tab algn="l" pos="7458120"/>
                      <a:tab algn="l" pos="8286840"/>
                      <a:tab algn="l" pos="9115560"/>
                      <a:tab algn="l" pos="9944280"/>
                      <a:tab algn="l" pos="107726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2" name="Line 337"/>
                <p:cNvSpPr/>
                <p:nvPr/>
              </p:nvSpPr>
              <p:spPr>
                <a:xfrm flipH="1">
                  <a:off x="5830200" y="6028560"/>
                  <a:ext cx="60480" cy="507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3" name="Group 338"/>
              <p:cNvGrpSpPr/>
              <p:nvPr/>
            </p:nvGrpSpPr>
            <p:grpSpPr>
              <a:xfrm>
                <a:off x="6449760" y="6200640"/>
                <a:ext cx="150480" cy="123120"/>
                <a:chOff x="6449760" y="6200640"/>
                <a:chExt cx="150480" cy="123120"/>
              </a:xfrm>
            </p:grpSpPr>
            <p:sp>
              <p:nvSpPr>
                <p:cNvPr id="454" name="Oval 339"/>
                <p:cNvSpPr/>
                <p:nvPr/>
              </p:nvSpPr>
              <p:spPr>
                <a:xfrm flipV="1" rot="7572600">
                  <a:off x="6495840" y="6214680"/>
                  <a:ext cx="82800" cy="95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0066"/>
                    </a:gs>
                    <a:gs pos="100000">
                      <a:srgbClr val="8c003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2800" rIns="82800" tIns="26280" bIns="26280" anchor="t" anchorCtr="1" vert="eaVer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828720"/>
                      <a:tab algn="l" pos="1657440"/>
                      <a:tab algn="l" pos="2486160"/>
                      <a:tab algn="l" pos="3314880"/>
                      <a:tab algn="l" pos="4143240"/>
                      <a:tab algn="l" pos="4971960"/>
                      <a:tab algn="l" pos="5800680"/>
                      <a:tab algn="l" pos="6629400"/>
                      <a:tab algn="l" pos="7458120"/>
                      <a:tab algn="l" pos="8286840"/>
                      <a:tab algn="l" pos="9115560"/>
                      <a:tab algn="l" pos="9944280"/>
                      <a:tab algn="l" pos="107726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5" name="Line 340"/>
                <p:cNvSpPr/>
                <p:nvPr/>
              </p:nvSpPr>
              <p:spPr>
                <a:xfrm flipH="1">
                  <a:off x="6449760" y="6282000"/>
                  <a:ext cx="43560" cy="194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6" name="Group 341"/>
              <p:cNvGrpSpPr/>
              <p:nvPr/>
            </p:nvGrpSpPr>
            <p:grpSpPr>
              <a:xfrm>
                <a:off x="6535440" y="6250320"/>
                <a:ext cx="155520" cy="126000"/>
                <a:chOff x="6535440" y="6250320"/>
                <a:chExt cx="155520" cy="126000"/>
              </a:xfrm>
            </p:grpSpPr>
            <p:sp>
              <p:nvSpPr>
                <p:cNvPr id="457" name="Oval 342"/>
                <p:cNvSpPr/>
                <p:nvPr/>
              </p:nvSpPr>
              <p:spPr>
                <a:xfrm flipV="1" rot="8216400">
                  <a:off x="6586560" y="6265800"/>
                  <a:ext cx="83160" cy="94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0066"/>
                    </a:gs>
                    <a:gs pos="100000">
                      <a:srgbClr val="8c003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2800" rIns="82800" tIns="25920" bIns="259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828720"/>
                      <a:tab algn="l" pos="1657440"/>
                      <a:tab algn="l" pos="2486160"/>
                      <a:tab algn="l" pos="3314880"/>
                      <a:tab algn="l" pos="4143240"/>
                      <a:tab algn="l" pos="4971960"/>
                      <a:tab algn="l" pos="5800680"/>
                      <a:tab algn="l" pos="6629400"/>
                      <a:tab algn="l" pos="7458120"/>
                      <a:tab algn="l" pos="8286840"/>
                      <a:tab algn="l" pos="9115560"/>
                      <a:tab algn="l" pos="9944280"/>
                      <a:tab algn="l" pos="107726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8" name="Line 343"/>
                <p:cNvSpPr/>
                <p:nvPr/>
              </p:nvSpPr>
              <p:spPr>
                <a:xfrm flipH="1">
                  <a:off x="6535440" y="6324480"/>
                  <a:ext cx="46440" cy="108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9" name="Group 344"/>
              <p:cNvGrpSpPr/>
              <p:nvPr/>
            </p:nvGrpSpPr>
            <p:grpSpPr>
              <a:xfrm>
                <a:off x="6000120" y="6233040"/>
                <a:ext cx="178200" cy="221040"/>
                <a:chOff x="6000120" y="6233040"/>
                <a:chExt cx="178200" cy="221040"/>
              </a:xfrm>
            </p:grpSpPr>
            <p:sp>
              <p:nvSpPr>
                <p:cNvPr id="460" name="Oval 345"/>
                <p:cNvSpPr/>
                <p:nvPr/>
              </p:nvSpPr>
              <p:spPr>
                <a:xfrm flipH="1" flipV="1" rot="8215800">
                  <a:off x="6026040" y="6301440"/>
                  <a:ext cx="125640" cy="126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0066"/>
                    </a:gs>
                    <a:gs pos="100000">
                      <a:srgbClr val="8c003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2800" rIns="82800" tIns="41400" bIns="414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828720"/>
                      <a:tab algn="l" pos="1657440"/>
                      <a:tab algn="l" pos="2486160"/>
                      <a:tab algn="l" pos="3314880"/>
                      <a:tab algn="l" pos="4143240"/>
                      <a:tab algn="l" pos="4971960"/>
                      <a:tab algn="l" pos="5800680"/>
                      <a:tab algn="l" pos="6629400"/>
                      <a:tab algn="l" pos="7458120"/>
                      <a:tab algn="l" pos="8286840"/>
                      <a:tab algn="l" pos="9115560"/>
                      <a:tab algn="l" pos="9944280"/>
                      <a:tab algn="l" pos="107726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1" name="Line 346"/>
                <p:cNvSpPr/>
                <p:nvPr/>
              </p:nvSpPr>
              <p:spPr>
                <a:xfrm flipV="1">
                  <a:off x="6113520" y="6233040"/>
                  <a:ext cx="24120" cy="658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2" name="Group 347"/>
              <p:cNvGrpSpPr/>
              <p:nvPr/>
            </p:nvGrpSpPr>
            <p:grpSpPr>
              <a:xfrm>
                <a:off x="6199560" y="6261120"/>
                <a:ext cx="177480" cy="220320"/>
                <a:chOff x="6199560" y="6261120"/>
                <a:chExt cx="177480" cy="220320"/>
              </a:xfrm>
            </p:grpSpPr>
            <p:sp>
              <p:nvSpPr>
                <p:cNvPr id="463" name="Oval 348"/>
                <p:cNvSpPr/>
                <p:nvPr/>
              </p:nvSpPr>
              <p:spPr>
                <a:xfrm flipH="1" flipV="1" rot="8215800">
                  <a:off x="6225120" y="6329880"/>
                  <a:ext cx="125640" cy="125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0066"/>
                    </a:gs>
                    <a:gs pos="100000">
                      <a:srgbClr val="8c003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2800" rIns="82800" tIns="41400" bIns="414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828720"/>
                      <a:tab algn="l" pos="1657440"/>
                      <a:tab algn="l" pos="2486160"/>
                      <a:tab algn="l" pos="3314880"/>
                      <a:tab algn="l" pos="4143240"/>
                      <a:tab algn="l" pos="4971960"/>
                      <a:tab algn="l" pos="5800680"/>
                      <a:tab algn="l" pos="6629400"/>
                      <a:tab algn="l" pos="7458120"/>
                      <a:tab algn="l" pos="8286840"/>
                      <a:tab algn="l" pos="9115560"/>
                      <a:tab algn="l" pos="9944280"/>
                      <a:tab algn="l" pos="107726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4" name="Line 349"/>
                <p:cNvSpPr/>
                <p:nvPr/>
              </p:nvSpPr>
              <p:spPr>
                <a:xfrm flipV="1">
                  <a:off x="6312240" y="6261120"/>
                  <a:ext cx="24480" cy="658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5" name="Group 350"/>
              <p:cNvGrpSpPr/>
              <p:nvPr/>
            </p:nvGrpSpPr>
            <p:grpSpPr>
              <a:xfrm>
                <a:off x="6363720" y="6301440"/>
                <a:ext cx="97200" cy="126360"/>
                <a:chOff x="6363720" y="6301440"/>
                <a:chExt cx="97200" cy="126360"/>
              </a:xfrm>
            </p:grpSpPr>
            <p:sp>
              <p:nvSpPr>
                <p:cNvPr id="466" name="Oval 351"/>
                <p:cNvSpPr/>
                <p:nvPr/>
              </p:nvSpPr>
              <p:spPr>
                <a:xfrm flipH="1" flipV="1" rot="5263800">
                  <a:off x="6370560" y="6337440"/>
                  <a:ext cx="84240" cy="92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0066"/>
                    </a:gs>
                    <a:gs pos="100000">
                      <a:srgbClr val="8c003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2800" rIns="82800" tIns="24120" bIns="24120" anchor="t" anchorCtr="1" vert="eaVer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828720"/>
                      <a:tab algn="l" pos="1657440"/>
                      <a:tab algn="l" pos="2486160"/>
                      <a:tab algn="l" pos="3314880"/>
                      <a:tab algn="l" pos="4143240"/>
                      <a:tab algn="l" pos="4971960"/>
                      <a:tab algn="l" pos="5800680"/>
                      <a:tab algn="l" pos="6629400"/>
                      <a:tab algn="l" pos="7458120"/>
                      <a:tab algn="l" pos="8286840"/>
                      <a:tab algn="l" pos="9115560"/>
                      <a:tab algn="l" pos="9944280"/>
                      <a:tab algn="l" pos="107726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7" name="Line 352"/>
                <p:cNvSpPr/>
                <p:nvPr/>
              </p:nvSpPr>
              <p:spPr>
                <a:xfrm flipH="1" flipV="1">
                  <a:off x="6363720" y="6301440"/>
                  <a:ext cx="24840" cy="414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8" name="Group 353"/>
              <p:cNvGrpSpPr/>
              <p:nvPr/>
            </p:nvGrpSpPr>
            <p:grpSpPr>
              <a:xfrm>
                <a:off x="6524280" y="6331680"/>
                <a:ext cx="152640" cy="139320"/>
                <a:chOff x="6524280" y="6331680"/>
                <a:chExt cx="152640" cy="139320"/>
              </a:xfrm>
            </p:grpSpPr>
            <p:sp>
              <p:nvSpPr>
                <p:cNvPr id="469" name="Oval 354"/>
                <p:cNvSpPr/>
                <p:nvPr/>
              </p:nvSpPr>
              <p:spPr>
                <a:xfrm flipH="1" flipV="1" rot="4123800">
                  <a:off x="6559560" y="6351840"/>
                  <a:ext cx="99720" cy="105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0066"/>
                    </a:gs>
                    <a:gs pos="100000">
                      <a:srgbClr val="8c003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2800" rIns="82800" tIns="33120" bIns="33120" anchor="t" anchorCtr="1" vert="eaVer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828720"/>
                      <a:tab algn="l" pos="1657440"/>
                      <a:tab algn="l" pos="2486160"/>
                      <a:tab algn="l" pos="3314880"/>
                      <a:tab algn="l" pos="4143240"/>
                      <a:tab algn="l" pos="4971960"/>
                      <a:tab algn="l" pos="5800680"/>
                      <a:tab algn="l" pos="6629400"/>
                      <a:tab algn="l" pos="7458120"/>
                      <a:tab algn="l" pos="8286840"/>
                      <a:tab algn="l" pos="9115560"/>
                      <a:tab algn="l" pos="9944280"/>
                      <a:tab algn="l" pos="107726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0" name="Line 355"/>
                <p:cNvSpPr/>
                <p:nvPr/>
              </p:nvSpPr>
              <p:spPr>
                <a:xfrm flipH="1" flipV="1">
                  <a:off x="6524280" y="6331680"/>
                  <a:ext cx="42480" cy="37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1" name="Group 356"/>
              <p:cNvGrpSpPr/>
              <p:nvPr/>
            </p:nvGrpSpPr>
            <p:grpSpPr>
              <a:xfrm>
                <a:off x="6296760" y="6128640"/>
                <a:ext cx="212040" cy="174240"/>
                <a:chOff x="6296760" y="6128640"/>
                <a:chExt cx="212040" cy="174240"/>
              </a:xfrm>
            </p:grpSpPr>
            <p:sp>
              <p:nvSpPr>
                <p:cNvPr id="472" name="Oval 357"/>
                <p:cNvSpPr/>
                <p:nvPr/>
              </p:nvSpPr>
              <p:spPr>
                <a:xfrm flipV="1" rot="7572600">
                  <a:off x="6359040" y="6152760"/>
                  <a:ext cx="124560" cy="125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0066"/>
                    </a:gs>
                    <a:gs pos="100000">
                      <a:srgbClr val="8c003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2800" rIns="82800" tIns="41400" bIns="41400" anchor="t" anchorCtr="1" vert="eaVer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828720"/>
                      <a:tab algn="l" pos="1657440"/>
                      <a:tab algn="l" pos="2486160"/>
                      <a:tab algn="l" pos="3314880"/>
                      <a:tab algn="l" pos="4143240"/>
                      <a:tab algn="l" pos="4971960"/>
                      <a:tab algn="l" pos="5800680"/>
                      <a:tab algn="l" pos="6629400"/>
                      <a:tab algn="l" pos="7458120"/>
                      <a:tab algn="l" pos="8286840"/>
                      <a:tab algn="l" pos="9115560"/>
                      <a:tab algn="l" pos="9944280"/>
                      <a:tab algn="l" pos="107726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3" name="Line 358"/>
                <p:cNvSpPr/>
                <p:nvPr/>
              </p:nvSpPr>
              <p:spPr>
                <a:xfrm flipH="1">
                  <a:off x="6296760" y="6247440"/>
                  <a:ext cx="62280" cy="316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4" name="Group 359"/>
              <p:cNvGrpSpPr/>
              <p:nvPr/>
            </p:nvGrpSpPr>
            <p:grpSpPr>
              <a:xfrm>
                <a:off x="6457680" y="6338160"/>
                <a:ext cx="112680" cy="147240"/>
                <a:chOff x="6457680" y="6338160"/>
                <a:chExt cx="112680" cy="147240"/>
              </a:xfrm>
            </p:grpSpPr>
            <p:sp>
              <p:nvSpPr>
                <p:cNvPr id="475" name="Oval 360"/>
                <p:cNvSpPr/>
                <p:nvPr/>
              </p:nvSpPr>
              <p:spPr>
                <a:xfrm flipH="1" flipV="1" rot="6352200">
                  <a:off x="6471360" y="6385320"/>
                  <a:ext cx="84240" cy="93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0066"/>
                    </a:gs>
                    <a:gs pos="100000">
                      <a:srgbClr val="8c003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2800" rIns="82800" tIns="24480" bIns="24480" anchor="t" anchorCtr="1" vert="eaVer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828720"/>
                      <a:tab algn="l" pos="1657440"/>
                      <a:tab algn="l" pos="2486160"/>
                      <a:tab algn="l" pos="3314880"/>
                      <a:tab algn="l" pos="4143240"/>
                      <a:tab algn="l" pos="4971960"/>
                      <a:tab algn="l" pos="5800680"/>
                      <a:tab algn="l" pos="6629400"/>
                      <a:tab algn="l" pos="7458120"/>
                      <a:tab algn="l" pos="8286840"/>
                      <a:tab algn="l" pos="9115560"/>
                      <a:tab algn="l" pos="9944280"/>
                      <a:tab algn="l" pos="107726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6" name="Line 361"/>
                <p:cNvSpPr/>
                <p:nvPr/>
              </p:nvSpPr>
              <p:spPr>
                <a:xfrm flipH="1" flipV="1">
                  <a:off x="6491880" y="6338160"/>
                  <a:ext cx="11160" cy="468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7" name="Group 362"/>
              <p:cNvGrpSpPr/>
              <p:nvPr/>
            </p:nvGrpSpPr>
            <p:grpSpPr>
              <a:xfrm>
                <a:off x="5758560" y="6114240"/>
                <a:ext cx="229320" cy="285480"/>
                <a:chOff x="5758560" y="6114240"/>
                <a:chExt cx="229320" cy="285480"/>
              </a:xfrm>
            </p:grpSpPr>
            <p:sp>
              <p:nvSpPr>
                <p:cNvPr id="478" name="Oval 363"/>
                <p:cNvSpPr/>
                <p:nvPr/>
              </p:nvSpPr>
              <p:spPr>
                <a:xfrm flipH="1" flipV="1" rot="8215800">
                  <a:off x="5789880" y="6206040"/>
                  <a:ext cx="165960" cy="158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0066"/>
                    </a:gs>
                    <a:gs pos="100000">
                      <a:srgbClr val="8c003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2800" rIns="82800" tIns="41400" bIns="414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828720"/>
                      <a:tab algn="l" pos="1657440"/>
                      <a:tab algn="l" pos="2486160"/>
                      <a:tab algn="l" pos="3314880"/>
                      <a:tab algn="l" pos="4143240"/>
                      <a:tab algn="l" pos="4971960"/>
                      <a:tab algn="l" pos="5800680"/>
                      <a:tab algn="l" pos="6629400"/>
                      <a:tab algn="l" pos="7458120"/>
                      <a:tab algn="l" pos="8286840"/>
                      <a:tab algn="l" pos="9115560"/>
                      <a:tab algn="l" pos="9944280"/>
                      <a:tab algn="l" pos="107726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9" name="Line 364"/>
                <p:cNvSpPr/>
                <p:nvPr/>
              </p:nvSpPr>
              <p:spPr>
                <a:xfrm flipV="1">
                  <a:off x="5906880" y="6114240"/>
                  <a:ext cx="33120" cy="856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80" name="Freeform 365"/>
              <p:cNvSpPr/>
              <p:nvPr/>
            </p:nvSpPr>
            <p:spPr>
              <a:xfrm flipV="1" rot="19016400">
                <a:off x="5502600" y="5803920"/>
                <a:ext cx="469080" cy="314640"/>
              </a:xfrm>
              <a:custGeom>
                <a:avLst/>
                <a:gdLst>
                  <a:gd name="textAreaLeft" fmla="*/ 0 w 469080"/>
                  <a:gd name="textAreaRight" fmla="*/ 469440 w 469080"/>
                  <a:gd name="textAreaTop" fmla="*/ 360 h 314640"/>
                  <a:gd name="textAreaBottom" fmla="*/ 315360 h 314640"/>
                </a:gdLst>
                <a:ahLst/>
                <a:rect l="textAreaLeft" t="textAreaTop" r="textAreaRight" b="textAreaBottom"/>
                <a:pathLst>
                  <a:path w="1025" h="808">
                    <a:moveTo>
                      <a:pt x="49" y="523"/>
                    </a:moveTo>
                    <a:cubicBezTo>
                      <a:pt x="57" y="531"/>
                      <a:pt x="42" y="535"/>
                      <a:pt x="49" y="571"/>
                    </a:cubicBezTo>
                    <a:cubicBezTo>
                      <a:pt x="56" y="607"/>
                      <a:pt x="53" y="735"/>
                      <a:pt x="89" y="739"/>
                    </a:cubicBezTo>
                    <a:cubicBezTo>
                      <a:pt x="125" y="743"/>
                      <a:pt x="228" y="616"/>
                      <a:pt x="265" y="595"/>
                    </a:cubicBezTo>
                    <a:cubicBezTo>
                      <a:pt x="302" y="574"/>
                      <a:pt x="310" y="579"/>
                      <a:pt x="313" y="611"/>
                    </a:cubicBezTo>
                    <a:cubicBezTo>
                      <a:pt x="316" y="643"/>
                      <a:pt x="252" y="766"/>
                      <a:pt x="281" y="787"/>
                    </a:cubicBezTo>
                    <a:cubicBezTo>
                      <a:pt x="310" y="808"/>
                      <a:pt x="441" y="758"/>
                      <a:pt x="489" y="739"/>
                    </a:cubicBezTo>
                    <a:cubicBezTo>
                      <a:pt x="537" y="720"/>
                      <a:pt x="548" y="675"/>
                      <a:pt x="569" y="675"/>
                    </a:cubicBezTo>
                    <a:cubicBezTo>
                      <a:pt x="590" y="675"/>
                      <a:pt x="568" y="740"/>
                      <a:pt x="617" y="739"/>
                    </a:cubicBezTo>
                    <a:cubicBezTo>
                      <a:pt x="666" y="738"/>
                      <a:pt x="800" y="679"/>
                      <a:pt x="865" y="667"/>
                    </a:cubicBezTo>
                    <a:cubicBezTo>
                      <a:pt x="930" y="655"/>
                      <a:pt x="993" y="675"/>
                      <a:pt x="1009" y="667"/>
                    </a:cubicBezTo>
                    <a:cubicBezTo>
                      <a:pt x="1025" y="659"/>
                      <a:pt x="984" y="652"/>
                      <a:pt x="961" y="619"/>
                    </a:cubicBezTo>
                    <a:cubicBezTo>
                      <a:pt x="938" y="586"/>
                      <a:pt x="882" y="511"/>
                      <a:pt x="873" y="467"/>
                    </a:cubicBezTo>
                    <a:cubicBezTo>
                      <a:pt x="864" y="423"/>
                      <a:pt x="905" y="387"/>
                      <a:pt x="905" y="355"/>
                    </a:cubicBezTo>
                    <a:cubicBezTo>
                      <a:pt x="905" y="323"/>
                      <a:pt x="916" y="272"/>
                      <a:pt x="873" y="275"/>
                    </a:cubicBezTo>
                    <a:cubicBezTo>
                      <a:pt x="830" y="278"/>
                      <a:pt x="684" y="376"/>
                      <a:pt x="649" y="371"/>
                    </a:cubicBezTo>
                    <a:cubicBezTo>
                      <a:pt x="614" y="366"/>
                      <a:pt x="668" y="275"/>
                      <a:pt x="665" y="243"/>
                    </a:cubicBezTo>
                    <a:cubicBezTo>
                      <a:pt x="662" y="211"/>
                      <a:pt x="638" y="200"/>
                      <a:pt x="633" y="179"/>
                    </a:cubicBezTo>
                    <a:cubicBezTo>
                      <a:pt x="628" y="158"/>
                      <a:pt x="690" y="106"/>
                      <a:pt x="633" y="115"/>
                    </a:cubicBezTo>
                    <a:cubicBezTo>
                      <a:pt x="576" y="124"/>
                      <a:pt x="326" y="224"/>
                      <a:pt x="289" y="235"/>
                    </a:cubicBezTo>
                    <a:cubicBezTo>
                      <a:pt x="252" y="246"/>
                      <a:pt x="397" y="196"/>
                      <a:pt x="409" y="179"/>
                    </a:cubicBezTo>
                    <a:cubicBezTo>
                      <a:pt x="421" y="162"/>
                      <a:pt x="380" y="155"/>
                      <a:pt x="361" y="131"/>
                    </a:cubicBezTo>
                    <a:cubicBezTo>
                      <a:pt x="342" y="107"/>
                      <a:pt x="350" y="0"/>
                      <a:pt x="297" y="35"/>
                    </a:cubicBezTo>
                    <a:cubicBezTo>
                      <a:pt x="244" y="70"/>
                      <a:pt x="82" y="258"/>
                      <a:pt x="41" y="339"/>
                    </a:cubicBezTo>
                    <a:cubicBezTo>
                      <a:pt x="0" y="420"/>
                      <a:pt x="47" y="485"/>
                      <a:pt x="49" y="52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ff00"/>
                  </a:gs>
                  <a:gs pos="50000">
                    <a:srgbClr val="003300"/>
                  </a:gs>
                  <a:gs pos="100000">
                    <a:srgbClr val="00ff00"/>
                  </a:gs>
                </a:gsLst>
                <a:lin ang="16314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81" name="Group 366"/>
              <p:cNvGrpSpPr/>
              <p:nvPr/>
            </p:nvGrpSpPr>
            <p:grpSpPr>
              <a:xfrm>
                <a:off x="5494680" y="6167880"/>
                <a:ext cx="276120" cy="359280"/>
                <a:chOff x="5494680" y="6167880"/>
                <a:chExt cx="276120" cy="359280"/>
              </a:xfrm>
            </p:grpSpPr>
            <p:sp>
              <p:nvSpPr>
                <p:cNvPr id="482" name="Oval 367"/>
                <p:cNvSpPr/>
                <p:nvPr/>
              </p:nvSpPr>
              <p:spPr>
                <a:xfrm flipH="1" flipV="1" rot="7222200">
                  <a:off x="5533200" y="6287760"/>
                  <a:ext cx="198000" cy="204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0066"/>
                    </a:gs>
                    <a:gs pos="100000">
                      <a:srgbClr val="8c003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2800" rIns="82800" tIns="41400" bIns="41400" anchor="t" anchorCtr="1" vert="eaVer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828720"/>
                      <a:tab algn="l" pos="1657440"/>
                      <a:tab algn="l" pos="2486160"/>
                      <a:tab algn="l" pos="3314880"/>
                      <a:tab algn="l" pos="4143240"/>
                      <a:tab algn="l" pos="4971960"/>
                      <a:tab algn="l" pos="5800680"/>
                      <a:tab algn="l" pos="6629400"/>
                      <a:tab algn="l" pos="7458120"/>
                      <a:tab algn="l" pos="8286840"/>
                      <a:tab algn="l" pos="9115560"/>
                      <a:tab algn="l" pos="9944280"/>
                      <a:tab algn="l" pos="107726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3" name="Line 368"/>
                <p:cNvSpPr/>
                <p:nvPr/>
              </p:nvSpPr>
              <p:spPr>
                <a:xfrm flipV="1">
                  <a:off x="5638680" y="6167880"/>
                  <a:ext cx="5760" cy="111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484" name="Group 369"/>
          <p:cNvGrpSpPr/>
          <p:nvPr/>
        </p:nvGrpSpPr>
        <p:grpSpPr>
          <a:xfrm>
            <a:off x="6981120" y="4393800"/>
            <a:ext cx="2367000" cy="2277720"/>
            <a:chOff x="6981120" y="4393800"/>
            <a:chExt cx="2367000" cy="2277720"/>
          </a:xfrm>
        </p:grpSpPr>
        <p:grpSp>
          <p:nvGrpSpPr>
            <p:cNvPr id="485" name="Group 370"/>
            <p:cNvGrpSpPr/>
            <p:nvPr/>
          </p:nvGrpSpPr>
          <p:grpSpPr>
            <a:xfrm>
              <a:off x="6981120" y="4393800"/>
              <a:ext cx="2367000" cy="2277720"/>
              <a:chOff x="6981120" y="4393800"/>
              <a:chExt cx="2367000" cy="2277720"/>
            </a:xfrm>
          </p:grpSpPr>
          <p:sp>
            <p:nvSpPr>
              <p:cNvPr id="486" name="Freeform 371"/>
              <p:cNvSpPr/>
              <p:nvPr/>
            </p:nvSpPr>
            <p:spPr>
              <a:xfrm rot="19282200">
                <a:off x="7277040" y="4923360"/>
                <a:ext cx="1866240" cy="1308960"/>
              </a:xfrm>
              <a:custGeom>
                <a:avLst/>
                <a:gdLst>
                  <a:gd name="textAreaLeft" fmla="*/ 0 w 1866240"/>
                  <a:gd name="textAreaRight" fmla="*/ 1866600 w 1866240"/>
                  <a:gd name="textAreaTop" fmla="*/ 0 h 1308960"/>
                  <a:gd name="textAreaBottom" fmla="*/ 1309320 h 1308960"/>
                </a:gdLst>
                <a:ahLst/>
                <a:rect l="textAreaLeft" t="textAreaTop" r="textAreaRight" b="textAreaBottom"/>
                <a:pathLst>
                  <a:path w="1746" h="1169">
                    <a:moveTo>
                      <a:pt x="29" y="69"/>
                    </a:moveTo>
                    <a:cubicBezTo>
                      <a:pt x="0" y="157"/>
                      <a:pt x="101" y="557"/>
                      <a:pt x="157" y="717"/>
                    </a:cubicBezTo>
                    <a:cubicBezTo>
                      <a:pt x="213" y="877"/>
                      <a:pt x="298" y="961"/>
                      <a:pt x="365" y="1029"/>
                    </a:cubicBezTo>
                    <a:cubicBezTo>
                      <a:pt x="432" y="1097"/>
                      <a:pt x="461" y="1109"/>
                      <a:pt x="557" y="1125"/>
                    </a:cubicBezTo>
                    <a:cubicBezTo>
                      <a:pt x="653" y="1141"/>
                      <a:pt x="821" y="1126"/>
                      <a:pt x="941" y="1125"/>
                    </a:cubicBezTo>
                    <a:cubicBezTo>
                      <a:pt x="1061" y="1124"/>
                      <a:pt x="1176" y="1169"/>
                      <a:pt x="1277" y="1117"/>
                    </a:cubicBezTo>
                    <a:cubicBezTo>
                      <a:pt x="1378" y="1065"/>
                      <a:pt x="1485" y="920"/>
                      <a:pt x="1549" y="813"/>
                    </a:cubicBezTo>
                    <a:cubicBezTo>
                      <a:pt x="1613" y="706"/>
                      <a:pt x="1632" y="602"/>
                      <a:pt x="1661" y="477"/>
                    </a:cubicBezTo>
                    <a:cubicBezTo>
                      <a:pt x="1690" y="352"/>
                      <a:pt x="1746" y="122"/>
                      <a:pt x="1725" y="61"/>
                    </a:cubicBezTo>
                    <a:cubicBezTo>
                      <a:pt x="1704" y="0"/>
                      <a:pt x="1597" y="88"/>
                      <a:pt x="1533" y="109"/>
                    </a:cubicBezTo>
                    <a:cubicBezTo>
                      <a:pt x="1469" y="130"/>
                      <a:pt x="1458" y="173"/>
                      <a:pt x="1341" y="189"/>
                    </a:cubicBezTo>
                    <a:cubicBezTo>
                      <a:pt x="1224" y="205"/>
                      <a:pt x="997" y="205"/>
                      <a:pt x="829" y="205"/>
                    </a:cubicBezTo>
                    <a:cubicBezTo>
                      <a:pt x="661" y="205"/>
                      <a:pt x="466" y="212"/>
                      <a:pt x="333" y="189"/>
                    </a:cubicBezTo>
                    <a:cubicBezTo>
                      <a:pt x="200" y="166"/>
                      <a:pt x="92" y="94"/>
                      <a:pt x="29" y="69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ffff"/>
                  </a:gs>
                  <a:gs pos="50000">
                    <a:srgbClr val="ffffff"/>
                  </a:gs>
                  <a:gs pos="100000">
                    <a:srgbClr val="00ffff"/>
                  </a:gs>
                </a:gsLst>
                <a:lin ang="21216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Oval 372"/>
              <p:cNvSpPr/>
              <p:nvPr/>
            </p:nvSpPr>
            <p:spPr>
              <a:xfrm rot="19282200">
                <a:off x="6896160" y="4928760"/>
                <a:ext cx="1846080" cy="3754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ff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800" rIns="82800" tIns="41400" bIns="414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828720"/>
                    <a:tab algn="l" pos="1657440"/>
                    <a:tab algn="l" pos="2486160"/>
                    <a:tab algn="l" pos="3314880"/>
                    <a:tab algn="l" pos="4143240"/>
                    <a:tab algn="l" pos="4971960"/>
                    <a:tab algn="l" pos="5800680"/>
                    <a:tab algn="l" pos="6629400"/>
                    <a:tab algn="l" pos="7458120"/>
                    <a:tab algn="l" pos="8286840"/>
                    <a:tab algn="l" pos="9115560"/>
                    <a:tab algn="l" pos="9944280"/>
                    <a:tab algn="l" pos="107726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Freeform 373"/>
              <p:cNvSpPr/>
              <p:nvPr/>
            </p:nvSpPr>
            <p:spPr>
              <a:xfrm rot="20133000">
                <a:off x="8631000" y="4603320"/>
                <a:ext cx="505440" cy="912960"/>
              </a:xfrm>
              <a:custGeom>
                <a:avLst/>
                <a:gdLst>
                  <a:gd name="textAreaLeft" fmla="*/ 0 w 505440"/>
                  <a:gd name="textAreaRight" fmla="*/ 505800 w 505440"/>
                  <a:gd name="textAreaTop" fmla="*/ 0 h 912960"/>
                  <a:gd name="textAreaBottom" fmla="*/ 912960 h 912960"/>
                </a:gdLst>
                <a:ahLst/>
                <a:rect l="textAreaLeft" t="textAreaTop" r="textAreaRight" b="textAreaBottom"/>
                <a:pathLst>
                  <a:path w="377" h="623">
                    <a:moveTo>
                      <a:pt x="102" y="270"/>
                    </a:moveTo>
                    <a:cubicBezTo>
                      <a:pt x="102" y="262"/>
                      <a:pt x="101" y="259"/>
                      <a:pt x="103" y="248"/>
                    </a:cubicBezTo>
                    <a:cubicBezTo>
                      <a:pt x="105" y="237"/>
                      <a:pt x="105" y="219"/>
                      <a:pt x="112" y="203"/>
                    </a:cubicBezTo>
                    <a:cubicBezTo>
                      <a:pt x="119" y="187"/>
                      <a:pt x="132" y="167"/>
                      <a:pt x="145" y="149"/>
                    </a:cubicBezTo>
                    <a:cubicBezTo>
                      <a:pt x="158" y="131"/>
                      <a:pt x="169" y="103"/>
                      <a:pt x="190" y="92"/>
                    </a:cubicBezTo>
                    <a:cubicBezTo>
                      <a:pt x="211" y="81"/>
                      <a:pt x="253" y="72"/>
                      <a:pt x="271" y="83"/>
                    </a:cubicBezTo>
                    <a:cubicBezTo>
                      <a:pt x="289" y="94"/>
                      <a:pt x="295" y="131"/>
                      <a:pt x="298" y="158"/>
                    </a:cubicBezTo>
                    <a:cubicBezTo>
                      <a:pt x="301" y="185"/>
                      <a:pt x="299" y="216"/>
                      <a:pt x="289" y="245"/>
                    </a:cubicBezTo>
                    <a:cubicBezTo>
                      <a:pt x="279" y="274"/>
                      <a:pt x="259" y="308"/>
                      <a:pt x="235" y="332"/>
                    </a:cubicBezTo>
                    <a:cubicBezTo>
                      <a:pt x="211" y="356"/>
                      <a:pt x="171" y="374"/>
                      <a:pt x="145" y="389"/>
                    </a:cubicBezTo>
                    <a:cubicBezTo>
                      <a:pt x="119" y="404"/>
                      <a:pt x="96" y="410"/>
                      <a:pt x="76" y="425"/>
                    </a:cubicBezTo>
                    <a:cubicBezTo>
                      <a:pt x="56" y="440"/>
                      <a:pt x="33" y="458"/>
                      <a:pt x="22" y="479"/>
                    </a:cubicBezTo>
                    <a:cubicBezTo>
                      <a:pt x="11" y="500"/>
                      <a:pt x="9" y="531"/>
                      <a:pt x="7" y="554"/>
                    </a:cubicBezTo>
                    <a:cubicBezTo>
                      <a:pt x="5" y="577"/>
                      <a:pt x="0" y="615"/>
                      <a:pt x="7" y="619"/>
                    </a:cubicBezTo>
                    <a:cubicBezTo>
                      <a:pt x="13" y="623"/>
                      <a:pt x="36" y="601"/>
                      <a:pt x="46" y="581"/>
                    </a:cubicBezTo>
                    <a:cubicBezTo>
                      <a:pt x="56" y="560"/>
                      <a:pt x="47" y="520"/>
                      <a:pt x="71" y="497"/>
                    </a:cubicBezTo>
                    <a:cubicBezTo>
                      <a:pt x="95" y="474"/>
                      <a:pt x="151" y="468"/>
                      <a:pt x="192" y="444"/>
                    </a:cubicBezTo>
                    <a:cubicBezTo>
                      <a:pt x="233" y="420"/>
                      <a:pt x="287" y="401"/>
                      <a:pt x="318" y="354"/>
                    </a:cubicBezTo>
                    <a:cubicBezTo>
                      <a:pt x="349" y="307"/>
                      <a:pt x="373" y="220"/>
                      <a:pt x="375" y="167"/>
                    </a:cubicBezTo>
                    <a:cubicBezTo>
                      <a:pt x="377" y="113"/>
                      <a:pt x="352" y="59"/>
                      <a:pt x="329" y="31"/>
                    </a:cubicBezTo>
                    <a:cubicBezTo>
                      <a:pt x="307" y="3"/>
                      <a:pt x="272" y="0"/>
                      <a:pt x="242" y="0"/>
                    </a:cubicBezTo>
                    <a:cubicBezTo>
                      <a:pt x="212" y="0"/>
                      <a:pt x="173" y="18"/>
                      <a:pt x="147" y="34"/>
                    </a:cubicBezTo>
                    <a:cubicBezTo>
                      <a:pt x="121" y="51"/>
                      <a:pt x="100" y="69"/>
                      <a:pt x="85" y="102"/>
                    </a:cubicBezTo>
                    <a:cubicBezTo>
                      <a:pt x="70" y="136"/>
                      <a:pt x="55" y="198"/>
                      <a:pt x="54" y="230"/>
                    </a:cubicBezTo>
                    <a:cubicBezTo>
                      <a:pt x="53" y="262"/>
                      <a:pt x="74" y="285"/>
                      <a:pt x="82" y="295"/>
                    </a:cubicBezTo>
                    <a:cubicBezTo>
                      <a:pt x="91" y="305"/>
                      <a:pt x="102" y="299"/>
                      <a:pt x="105" y="295"/>
                    </a:cubicBezTo>
                    <a:cubicBezTo>
                      <a:pt x="108" y="291"/>
                      <a:pt x="104" y="278"/>
                      <a:pt x="102" y="27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00ffff"/>
                  </a:gs>
                  <a:gs pos="100000">
                    <a:srgbClr val="ffffff"/>
                  </a:gs>
                </a:gsLst>
                <a:lin ang="20370000"/>
              </a:gra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9" name="Group 374"/>
            <p:cNvGrpSpPr/>
            <p:nvPr/>
          </p:nvGrpSpPr>
          <p:grpSpPr>
            <a:xfrm>
              <a:off x="7698600" y="5182560"/>
              <a:ext cx="1144440" cy="1036800"/>
              <a:chOff x="7698600" y="5182560"/>
              <a:chExt cx="1144440" cy="1036800"/>
            </a:xfrm>
          </p:grpSpPr>
          <p:sp>
            <p:nvSpPr>
              <p:cNvPr id="490" name="Freeform 375"/>
              <p:cNvSpPr/>
              <p:nvPr/>
            </p:nvSpPr>
            <p:spPr>
              <a:xfrm rot="11800800">
                <a:off x="7983720" y="5624280"/>
                <a:ext cx="349200" cy="304200"/>
              </a:xfrm>
              <a:custGeom>
                <a:avLst/>
                <a:gdLst>
                  <a:gd name="textAreaLeft" fmla="*/ 0 w 349200"/>
                  <a:gd name="textAreaRight" fmla="*/ 349560 w 34920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507" h="352">
                    <a:moveTo>
                      <a:pt x="0" y="240"/>
                    </a:moveTo>
                    <a:cubicBezTo>
                      <a:pt x="56" y="251"/>
                      <a:pt x="253" y="352"/>
                      <a:pt x="336" y="320"/>
                    </a:cubicBezTo>
                    <a:cubicBezTo>
                      <a:pt x="419" y="288"/>
                      <a:pt x="485" y="96"/>
                      <a:pt x="496" y="48"/>
                    </a:cubicBezTo>
                    <a:cubicBezTo>
                      <a:pt x="507" y="0"/>
                      <a:pt x="435" y="35"/>
                      <a:pt x="400" y="32"/>
                    </a:cubicBezTo>
                    <a:cubicBezTo>
                      <a:pt x="365" y="29"/>
                      <a:pt x="339" y="24"/>
                      <a:pt x="288" y="32"/>
                    </a:cubicBezTo>
                    <a:cubicBezTo>
                      <a:pt x="237" y="40"/>
                      <a:pt x="136" y="56"/>
                      <a:pt x="96" y="80"/>
                    </a:cubicBezTo>
                    <a:cubicBezTo>
                      <a:pt x="56" y="104"/>
                      <a:pt x="64" y="152"/>
                      <a:pt x="48" y="176"/>
                    </a:cubicBezTo>
                    <a:cubicBezTo>
                      <a:pt x="32" y="200"/>
                      <a:pt x="16" y="212"/>
                      <a:pt x="0" y="224"/>
                    </a:cubicBezTo>
                  </a:path>
                </a:pathLst>
              </a:custGeom>
              <a:solidFill>
                <a:srgbClr val="008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Freeform 376"/>
              <p:cNvSpPr/>
              <p:nvPr/>
            </p:nvSpPr>
            <p:spPr>
              <a:xfrm rot="11800800">
                <a:off x="8106840" y="5871240"/>
                <a:ext cx="349200" cy="304200"/>
              </a:xfrm>
              <a:custGeom>
                <a:avLst/>
                <a:gdLst>
                  <a:gd name="textAreaLeft" fmla="*/ 0 w 349200"/>
                  <a:gd name="textAreaRight" fmla="*/ 349560 w 34920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507" h="352">
                    <a:moveTo>
                      <a:pt x="0" y="240"/>
                    </a:moveTo>
                    <a:cubicBezTo>
                      <a:pt x="56" y="251"/>
                      <a:pt x="253" y="352"/>
                      <a:pt x="336" y="320"/>
                    </a:cubicBezTo>
                    <a:cubicBezTo>
                      <a:pt x="419" y="288"/>
                      <a:pt x="485" y="96"/>
                      <a:pt x="496" y="48"/>
                    </a:cubicBezTo>
                    <a:cubicBezTo>
                      <a:pt x="507" y="0"/>
                      <a:pt x="435" y="35"/>
                      <a:pt x="400" y="32"/>
                    </a:cubicBezTo>
                    <a:cubicBezTo>
                      <a:pt x="365" y="29"/>
                      <a:pt x="339" y="24"/>
                      <a:pt x="288" y="32"/>
                    </a:cubicBezTo>
                    <a:cubicBezTo>
                      <a:pt x="237" y="40"/>
                      <a:pt x="136" y="56"/>
                      <a:pt x="96" y="80"/>
                    </a:cubicBezTo>
                    <a:cubicBezTo>
                      <a:pt x="56" y="104"/>
                      <a:pt x="64" y="152"/>
                      <a:pt x="48" y="176"/>
                    </a:cubicBezTo>
                    <a:cubicBezTo>
                      <a:pt x="32" y="200"/>
                      <a:pt x="16" y="212"/>
                      <a:pt x="0" y="224"/>
                    </a:cubicBezTo>
                  </a:path>
                </a:pathLst>
              </a:custGeom>
              <a:solidFill>
                <a:srgbClr val="008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Freeform 377"/>
              <p:cNvSpPr/>
              <p:nvPr/>
            </p:nvSpPr>
            <p:spPr>
              <a:xfrm rot="18119400">
                <a:off x="8055720" y="5292000"/>
                <a:ext cx="434880" cy="318240"/>
              </a:xfrm>
              <a:custGeom>
                <a:avLst/>
                <a:gdLst>
                  <a:gd name="textAreaLeft" fmla="*/ 0 w 434880"/>
                  <a:gd name="textAreaRight" fmla="*/ 435240 w 434880"/>
                  <a:gd name="textAreaTop" fmla="*/ 0 h 318240"/>
                  <a:gd name="textAreaBottom" fmla="*/ 318600 h 318240"/>
                </a:gdLst>
                <a:ahLst/>
                <a:rect l="textAreaLeft" t="textAreaTop" r="textAreaRight" b="textAreaBottom"/>
                <a:pathLst>
                  <a:path w="507" h="352">
                    <a:moveTo>
                      <a:pt x="0" y="240"/>
                    </a:moveTo>
                    <a:cubicBezTo>
                      <a:pt x="56" y="251"/>
                      <a:pt x="253" y="352"/>
                      <a:pt x="336" y="320"/>
                    </a:cubicBezTo>
                    <a:cubicBezTo>
                      <a:pt x="419" y="288"/>
                      <a:pt x="485" y="96"/>
                      <a:pt x="496" y="48"/>
                    </a:cubicBezTo>
                    <a:cubicBezTo>
                      <a:pt x="507" y="0"/>
                      <a:pt x="435" y="35"/>
                      <a:pt x="400" y="32"/>
                    </a:cubicBezTo>
                    <a:cubicBezTo>
                      <a:pt x="365" y="29"/>
                      <a:pt x="339" y="24"/>
                      <a:pt x="288" y="32"/>
                    </a:cubicBezTo>
                    <a:cubicBezTo>
                      <a:pt x="237" y="40"/>
                      <a:pt x="136" y="56"/>
                      <a:pt x="96" y="80"/>
                    </a:cubicBezTo>
                    <a:cubicBezTo>
                      <a:pt x="56" y="104"/>
                      <a:pt x="64" y="152"/>
                      <a:pt x="48" y="176"/>
                    </a:cubicBezTo>
                    <a:cubicBezTo>
                      <a:pt x="32" y="200"/>
                      <a:pt x="16" y="212"/>
                      <a:pt x="0" y="224"/>
                    </a:cubicBezTo>
                  </a:path>
                </a:pathLst>
              </a:custGeom>
              <a:solidFill>
                <a:srgbClr val="33cc33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Freeform 378"/>
              <p:cNvSpPr/>
              <p:nvPr/>
            </p:nvSpPr>
            <p:spPr>
              <a:xfrm rot="664800">
                <a:off x="7723440" y="5558400"/>
                <a:ext cx="454320" cy="304200"/>
              </a:xfrm>
              <a:custGeom>
                <a:avLst/>
                <a:gdLst>
                  <a:gd name="textAreaLeft" fmla="*/ 0 w 454320"/>
                  <a:gd name="textAreaRight" fmla="*/ 454680 w 45432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507" h="352">
                    <a:moveTo>
                      <a:pt x="0" y="240"/>
                    </a:moveTo>
                    <a:cubicBezTo>
                      <a:pt x="56" y="251"/>
                      <a:pt x="253" y="352"/>
                      <a:pt x="336" y="320"/>
                    </a:cubicBezTo>
                    <a:cubicBezTo>
                      <a:pt x="419" y="288"/>
                      <a:pt x="485" y="96"/>
                      <a:pt x="496" y="48"/>
                    </a:cubicBezTo>
                    <a:cubicBezTo>
                      <a:pt x="507" y="0"/>
                      <a:pt x="435" y="35"/>
                      <a:pt x="400" y="32"/>
                    </a:cubicBezTo>
                    <a:cubicBezTo>
                      <a:pt x="365" y="29"/>
                      <a:pt x="339" y="24"/>
                      <a:pt x="288" y="32"/>
                    </a:cubicBezTo>
                    <a:cubicBezTo>
                      <a:pt x="237" y="40"/>
                      <a:pt x="136" y="56"/>
                      <a:pt x="96" y="80"/>
                    </a:cubicBezTo>
                    <a:cubicBezTo>
                      <a:pt x="56" y="104"/>
                      <a:pt x="64" y="152"/>
                      <a:pt x="48" y="176"/>
                    </a:cubicBezTo>
                    <a:cubicBezTo>
                      <a:pt x="32" y="200"/>
                      <a:pt x="16" y="212"/>
                      <a:pt x="0" y="224"/>
                    </a:cubicBezTo>
                  </a:path>
                </a:pathLst>
              </a:custGeom>
              <a:solidFill>
                <a:srgbClr val="33cc33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94" name="Group 379"/>
              <p:cNvGrpSpPr/>
              <p:nvPr/>
            </p:nvGrpSpPr>
            <p:grpSpPr>
              <a:xfrm>
                <a:off x="8539200" y="5604120"/>
                <a:ext cx="303840" cy="321120"/>
                <a:chOff x="8539200" y="5604120"/>
                <a:chExt cx="303840" cy="321120"/>
              </a:xfrm>
            </p:grpSpPr>
            <p:grpSp>
              <p:nvGrpSpPr>
                <p:cNvPr id="495" name="Group 380"/>
                <p:cNvGrpSpPr/>
                <p:nvPr/>
              </p:nvGrpSpPr>
              <p:grpSpPr>
                <a:xfrm>
                  <a:off x="8539200" y="5622120"/>
                  <a:ext cx="303840" cy="303120"/>
                  <a:chOff x="8539200" y="5622120"/>
                  <a:chExt cx="303840" cy="303120"/>
                </a:xfrm>
              </p:grpSpPr>
              <p:sp>
                <p:nvSpPr>
                  <p:cNvPr id="496" name="Freeform 381"/>
                  <p:cNvSpPr/>
                  <p:nvPr/>
                </p:nvSpPr>
                <p:spPr>
                  <a:xfrm rot="8513400">
                    <a:off x="8689680" y="5628600"/>
                    <a:ext cx="96840" cy="216000"/>
                  </a:xfrm>
                  <a:custGeom>
                    <a:avLst/>
                    <a:gdLst>
                      <a:gd name="textAreaLeft" fmla="*/ 0 w 96840"/>
                      <a:gd name="textAreaRight" fmla="*/ 97200 w 96840"/>
                      <a:gd name="textAreaTop" fmla="*/ 0 h 216000"/>
                      <a:gd name="textAreaBottom" fmla="*/ 216360 h 216000"/>
                    </a:gdLst>
                    <a:ahLst/>
                    <a:rect l="textAreaLeft" t="textAreaTop" r="textAreaRight" b="textAreaBottom"/>
                    <a:pathLst>
                      <a:path w="296" h="552">
                        <a:moveTo>
                          <a:pt x="296" y="528"/>
                        </a:moveTo>
                        <a:cubicBezTo>
                          <a:pt x="224" y="540"/>
                          <a:pt x="152" y="552"/>
                          <a:pt x="104" y="528"/>
                        </a:cubicBezTo>
                        <a:cubicBezTo>
                          <a:pt x="56" y="504"/>
                          <a:pt x="16" y="440"/>
                          <a:pt x="8" y="384"/>
                        </a:cubicBezTo>
                        <a:cubicBezTo>
                          <a:pt x="0" y="328"/>
                          <a:pt x="24" y="248"/>
                          <a:pt x="56" y="192"/>
                        </a:cubicBezTo>
                        <a:cubicBezTo>
                          <a:pt x="88" y="136"/>
                          <a:pt x="160" y="80"/>
                          <a:pt x="200" y="48"/>
                        </a:cubicBezTo>
                        <a:cubicBezTo>
                          <a:pt x="240" y="16"/>
                          <a:pt x="268" y="8"/>
                          <a:pt x="296" y="0"/>
                        </a:cubicBezTo>
                      </a:path>
                    </a:pathLst>
                  </a:custGeom>
                  <a:solidFill>
                    <a:srgbClr val="ff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7" name="Freeform 382"/>
                  <p:cNvSpPr/>
                  <p:nvPr/>
                </p:nvSpPr>
                <p:spPr>
                  <a:xfrm flipH="1" rot="8512800">
                    <a:off x="8592120" y="5694120"/>
                    <a:ext cx="122760" cy="216000"/>
                  </a:xfrm>
                  <a:custGeom>
                    <a:avLst/>
                    <a:gdLst>
                      <a:gd name="textAreaLeft" fmla="*/ -360 w 122760"/>
                      <a:gd name="textAreaRight" fmla="*/ 122760 w 122760"/>
                      <a:gd name="textAreaTop" fmla="*/ 0 h 216000"/>
                      <a:gd name="textAreaBottom" fmla="*/ 216360 h 216000"/>
                    </a:gdLst>
                    <a:ahLst/>
                    <a:rect l="textAreaLeft" t="textAreaTop" r="textAreaRight" b="textAreaBottom"/>
                    <a:pathLst>
                      <a:path w="296" h="552">
                        <a:moveTo>
                          <a:pt x="296" y="528"/>
                        </a:moveTo>
                        <a:cubicBezTo>
                          <a:pt x="224" y="540"/>
                          <a:pt x="152" y="552"/>
                          <a:pt x="104" y="528"/>
                        </a:cubicBezTo>
                        <a:cubicBezTo>
                          <a:pt x="56" y="504"/>
                          <a:pt x="16" y="440"/>
                          <a:pt x="8" y="384"/>
                        </a:cubicBezTo>
                        <a:cubicBezTo>
                          <a:pt x="0" y="328"/>
                          <a:pt x="24" y="248"/>
                          <a:pt x="56" y="192"/>
                        </a:cubicBezTo>
                        <a:cubicBezTo>
                          <a:pt x="88" y="136"/>
                          <a:pt x="160" y="80"/>
                          <a:pt x="200" y="48"/>
                        </a:cubicBezTo>
                        <a:cubicBezTo>
                          <a:pt x="240" y="16"/>
                          <a:pt x="268" y="8"/>
                          <a:pt x="296" y="0"/>
                        </a:cubicBezTo>
                      </a:path>
                    </a:pathLst>
                  </a:custGeom>
                  <a:solidFill>
                    <a:srgbClr val="ff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98" name="Freeform 383"/>
                <p:cNvSpPr/>
                <p:nvPr/>
              </p:nvSpPr>
              <p:spPr>
                <a:xfrm flipV="1" rot="19463400">
                  <a:off x="8678880" y="5715000"/>
                  <a:ext cx="15480" cy="18720"/>
                </a:xfrm>
                <a:custGeom>
                  <a:avLst/>
                  <a:gdLst>
                    <a:gd name="textAreaLeft" fmla="*/ 0 w 15480"/>
                    <a:gd name="textAreaRight" fmla="*/ 15840 w 15480"/>
                    <a:gd name="textAreaTop" fmla="*/ 360 h 18720"/>
                    <a:gd name="textAreaBottom" fmla="*/ 19440 h 18720"/>
                  </a:gdLst>
                  <a:ahLst/>
                  <a:rect l="textAreaLeft" t="textAreaTop" r="textAreaRight" b="textAreaBottom"/>
                  <a:pathLst>
                    <a:path w="192" h="288">
                      <a:moveTo>
                        <a:pt x="0" y="288"/>
                      </a:moveTo>
                      <a:lnTo>
                        <a:pt x="192" y="288"/>
                      </a:lnTo>
                      <a:lnTo>
                        <a:pt x="48" y="0"/>
                      </a:lnTo>
                      <a:lnTo>
                        <a:pt x="0" y="288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Freeform 384"/>
                <p:cNvSpPr/>
                <p:nvPr/>
              </p:nvSpPr>
              <p:spPr>
                <a:xfrm flipV="1" rot="19463400">
                  <a:off x="8604000" y="5745960"/>
                  <a:ext cx="15480" cy="18720"/>
                </a:xfrm>
                <a:custGeom>
                  <a:avLst/>
                  <a:gdLst>
                    <a:gd name="textAreaLeft" fmla="*/ 0 w 15480"/>
                    <a:gd name="textAreaRight" fmla="*/ 15840 w 15480"/>
                    <a:gd name="textAreaTop" fmla="*/ 360 h 18720"/>
                    <a:gd name="textAreaBottom" fmla="*/ 19440 h 18720"/>
                  </a:gdLst>
                  <a:ahLst/>
                  <a:rect l="textAreaLeft" t="textAreaTop" r="textAreaRight" b="textAreaBottom"/>
                  <a:pathLst>
                    <a:path w="192" h="288">
                      <a:moveTo>
                        <a:pt x="0" y="288"/>
                      </a:moveTo>
                      <a:lnTo>
                        <a:pt x="192" y="288"/>
                      </a:lnTo>
                      <a:lnTo>
                        <a:pt x="48" y="0"/>
                      </a:lnTo>
                      <a:lnTo>
                        <a:pt x="0" y="288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Freeform 385"/>
                <p:cNvSpPr/>
                <p:nvPr/>
              </p:nvSpPr>
              <p:spPr>
                <a:xfrm flipV="1" rot="19463400">
                  <a:off x="8627760" y="5751720"/>
                  <a:ext cx="15480" cy="18720"/>
                </a:xfrm>
                <a:custGeom>
                  <a:avLst/>
                  <a:gdLst>
                    <a:gd name="textAreaLeft" fmla="*/ 0 w 15480"/>
                    <a:gd name="textAreaRight" fmla="*/ 15840 w 15480"/>
                    <a:gd name="textAreaTop" fmla="*/ 360 h 18720"/>
                    <a:gd name="textAreaBottom" fmla="*/ 19440 h 18720"/>
                  </a:gdLst>
                  <a:ahLst/>
                  <a:rect l="textAreaLeft" t="textAreaTop" r="textAreaRight" b="textAreaBottom"/>
                  <a:pathLst>
                    <a:path w="192" h="288">
                      <a:moveTo>
                        <a:pt x="0" y="288"/>
                      </a:moveTo>
                      <a:lnTo>
                        <a:pt x="192" y="288"/>
                      </a:lnTo>
                      <a:lnTo>
                        <a:pt x="48" y="0"/>
                      </a:lnTo>
                      <a:lnTo>
                        <a:pt x="0" y="288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Freeform 386"/>
                <p:cNvSpPr/>
                <p:nvPr/>
              </p:nvSpPr>
              <p:spPr>
                <a:xfrm flipV="1" rot="19463400">
                  <a:off x="8664120" y="5748840"/>
                  <a:ext cx="15480" cy="18720"/>
                </a:xfrm>
                <a:custGeom>
                  <a:avLst/>
                  <a:gdLst>
                    <a:gd name="textAreaLeft" fmla="*/ 0 w 15480"/>
                    <a:gd name="textAreaRight" fmla="*/ 15840 w 15480"/>
                    <a:gd name="textAreaTop" fmla="*/ 360 h 18720"/>
                    <a:gd name="textAreaBottom" fmla="*/ 19440 h 18720"/>
                  </a:gdLst>
                  <a:ahLst/>
                  <a:rect l="textAreaLeft" t="textAreaTop" r="textAreaRight" b="textAreaBottom"/>
                  <a:pathLst>
                    <a:path w="192" h="288">
                      <a:moveTo>
                        <a:pt x="0" y="288"/>
                      </a:moveTo>
                      <a:lnTo>
                        <a:pt x="192" y="288"/>
                      </a:lnTo>
                      <a:lnTo>
                        <a:pt x="48" y="0"/>
                      </a:lnTo>
                      <a:lnTo>
                        <a:pt x="0" y="288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Freeform 387"/>
                <p:cNvSpPr/>
                <p:nvPr/>
              </p:nvSpPr>
              <p:spPr>
                <a:xfrm flipV="1" rot="19463400">
                  <a:off x="8673480" y="5788440"/>
                  <a:ext cx="15480" cy="18720"/>
                </a:xfrm>
                <a:custGeom>
                  <a:avLst/>
                  <a:gdLst>
                    <a:gd name="textAreaLeft" fmla="*/ 0 w 15480"/>
                    <a:gd name="textAreaRight" fmla="*/ 15840 w 15480"/>
                    <a:gd name="textAreaTop" fmla="*/ 360 h 18720"/>
                    <a:gd name="textAreaBottom" fmla="*/ 19440 h 18720"/>
                  </a:gdLst>
                  <a:ahLst/>
                  <a:rect l="textAreaLeft" t="textAreaTop" r="textAreaRight" b="textAreaBottom"/>
                  <a:pathLst>
                    <a:path w="192" h="288">
                      <a:moveTo>
                        <a:pt x="0" y="288"/>
                      </a:moveTo>
                      <a:lnTo>
                        <a:pt x="192" y="288"/>
                      </a:lnTo>
                      <a:lnTo>
                        <a:pt x="48" y="0"/>
                      </a:lnTo>
                      <a:lnTo>
                        <a:pt x="0" y="288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Freeform 388"/>
                <p:cNvSpPr/>
                <p:nvPr/>
              </p:nvSpPr>
              <p:spPr>
                <a:xfrm flipV="1" rot="19463400">
                  <a:off x="8671320" y="5812920"/>
                  <a:ext cx="15480" cy="18720"/>
                </a:xfrm>
                <a:custGeom>
                  <a:avLst/>
                  <a:gdLst>
                    <a:gd name="textAreaLeft" fmla="*/ 0 w 15480"/>
                    <a:gd name="textAreaRight" fmla="*/ 15840 w 15480"/>
                    <a:gd name="textAreaTop" fmla="*/ 360 h 18720"/>
                    <a:gd name="textAreaBottom" fmla="*/ 19440 h 18720"/>
                  </a:gdLst>
                  <a:ahLst/>
                  <a:rect l="textAreaLeft" t="textAreaTop" r="textAreaRight" b="textAreaBottom"/>
                  <a:pathLst>
                    <a:path w="192" h="288">
                      <a:moveTo>
                        <a:pt x="0" y="288"/>
                      </a:moveTo>
                      <a:lnTo>
                        <a:pt x="192" y="288"/>
                      </a:lnTo>
                      <a:lnTo>
                        <a:pt x="48" y="0"/>
                      </a:lnTo>
                      <a:lnTo>
                        <a:pt x="0" y="288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4" name="Freeform 389"/>
                <p:cNvSpPr/>
                <p:nvPr/>
              </p:nvSpPr>
              <p:spPr>
                <a:xfrm flipV="1" rot="19463400">
                  <a:off x="8695080" y="5819040"/>
                  <a:ext cx="15480" cy="18720"/>
                </a:xfrm>
                <a:custGeom>
                  <a:avLst/>
                  <a:gdLst>
                    <a:gd name="textAreaLeft" fmla="*/ 0 w 15480"/>
                    <a:gd name="textAreaRight" fmla="*/ 15840 w 15480"/>
                    <a:gd name="textAreaTop" fmla="*/ 360 h 18720"/>
                    <a:gd name="textAreaBottom" fmla="*/ 19440 h 18720"/>
                  </a:gdLst>
                  <a:ahLst/>
                  <a:rect l="textAreaLeft" t="textAreaTop" r="textAreaRight" b="textAreaBottom"/>
                  <a:pathLst>
                    <a:path w="192" h="288">
                      <a:moveTo>
                        <a:pt x="0" y="288"/>
                      </a:moveTo>
                      <a:lnTo>
                        <a:pt x="192" y="288"/>
                      </a:lnTo>
                      <a:lnTo>
                        <a:pt x="48" y="0"/>
                      </a:lnTo>
                      <a:lnTo>
                        <a:pt x="0" y="288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5" name="Freeform 390"/>
                <p:cNvSpPr/>
                <p:nvPr/>
              </p:nvSpPr>
              <p:spPr>
                <a:xfrm flipV="1" rot="19463400">
                  <a:off x="8731800" y="5816160"/>
                  <a:ext cx="15480" cy="18720"/>
                </a:xfrm>
                <a:custGeom>
                  <a:avLst/>
                  <a:gdLst>
                    <a:gd name="textAreaLeft" fmla="*/ 0 w 15480"/>
                    <a:gd name="textAreaRight" fmla="*/ 15840 w 15480"/>
                    <a:gd name="textAreaTop" fmla="*/ 360 h 18720"/>
                    <a:gd name="textAreaBottom" fmla="*/ 19440 h 18720"/>
                  </a:gdLst>
                  <a:ahLst/>
                  <a:rect l="textAreaLeft" t="textAreaTop" r="textAreaRight" b="textAreaBottom"/>
                  <a:pathLst>
                    <a:path w="192" h="288">
                      <a:moveTo>
                        <a:pt x="0" y="288"/>
                      </a:moveTo>
                      <a:lnTo>
                        <a:pt x="192" y="288"/>
                      </a:lnTo>
                      <a:lnTo>
                        <a:pt x="48" y="0"/>
                      </a:lnTo>
                      <a:lnTo>
                        <a:pt x="0" y="288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6" name="Freeform 391"/>
                <p:cNvSpPr/>
                <p:nvPr/>
              </p:nvSpPr>
              <p:spPr>
                <a:xfrm flipV="1" rot="19463400">
                  <a:off x="8613000" y="5785200"/>
                  <a:ext cx="15480" cy="18720"/>
                </a:xfrm>
                <a:custGeom>
                  <a:avLst/>
                  <a:gdLst>
                    <a:gd name="textAreaLeft" fmla="*/ 0 w 15480"/>
                    <a:gd name="textAreaRight" fmla="*/ 15840 w 15480"/>
                    <a:gd name="textAreaTop" fmla="*/ 360 h 18720"/>
                    <a:gd name="textAreaBottom" fmla="*/ 19440 h 18720"/>
                  </a:gdLst>
                  <a:ahLst/>
                  <a:rect l="textAreaLeft" t="textAreaTop" r="textAreaRight" b="textAreaBottom"/>
                  <a:pathLst>
                    <a:path w="192" h="288">
                      <a:moveTo>
                        <a:pt x="0" y="288"/>
                      </a:moveTo>
                      <a:lnTo>
                        <a:pt x="192" y="288"/>
                      </a:lnTo>
                      <a:lnTo>
                        <a:pt x="48" y="0"/>
                      </a:lnTo>
                      <a:lnTo>
                        <a:pt x="0" y="288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7" name="Freeform 392"/>
                <p:cNvSpPr/>
                <p:nvPr/>
              </p:nvSpPr>
              <p:spPr>
                <a:xfrm flipV="1" rot="19463400">
                  <a:off x="8636760" y="5791680"/>
                  <a:ext cx="15480" cy="18720"/>
                </a:xfrm>
                <a:custGeom>
                  <a:avLst/>
                  <a:gdLst>
                    <a:gd name="textAreaLeft" fmla="*/ 0 w 15480"/>
                    <a:gd name="textAreaRight" fmla="*/ 15840 w 15480"/>
                    <a:gd name="textAreaTop" fmla="*/ 360 h 18720"/>
                    <a:gd name="textAreaBottom" fmla="*/ 19440 h 18720"/>
                  </a:gdLst>
                  <a:ahLst/>
                  <a:rect l="textAreaLeft" t="textAreaTop" r="textAreaRight" b="textAreaBottom"/>
                  <a:pathLst>
                    <a:path w="192" h="288">
                      <a:moveTo>
                        <a:pt x="0" y="288"/>
                      </a:moveTo>
                      <a:lnTo>
                        <a:pt x="192" y="288"/>
                      </a:lnTo>
                      <a:lnTo>
                        <a:pt x="48" y="0"/>
                      </a:lnTo>
                      <a:lnTo>
                        <a:pt x="0" y="288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Freeform 393"/>
                <p:cNvSpPr/>
                <p:nvPr/>
              </p:nvSpPr>
              <p:spPr>
                <a:xfrm flipH="1" flipV="1" rot="19463400">
                  <a:off x="8709480" y="5785560"/>
                  <a:ext cx="15480" cy="18720"/>
                </a:xfrm>
                <a:custGeom>
                  <a:avLst/>
                  <a:gdLst>
                    <a:gd name="textAreaLeft" fmla="*/ -360 w 15480"/>
                    <a:gd name="textAreaRight" fmla="*/ 15480 w 15480"/>
                    <a:gd name="textAreaTop" fmla="*/ 360 h 18720"/>
                    <a:gd name="textAreaBottom" fmla="*/ 19440 h 18720"/>
                  </a:gdLst>
                  <a:ahLst/>
                  <a:rect l="textAreaLeft" t="textAreaTop" r="textAreaRight" b="textAreaBottom"/>
                  <a:pathLst>
                    <a:path w="192" h="288">
                      <a:moveTo>
                        <a:pt x="0" y="288"/>
                      </a:moveTo>
                      <a:lnTo>
                        <a:pt x="192" y="288"/>
                      </a:lnTo>
                      <a:lnTo>
                        <a:pt x="48" y="0"/>
                      </a:lnTo>
                      <a:lnTo>
                        <a:pt x="0" y="288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9" name="Freeform 394"/>
                <p:cNvSpPr/>
                <p:nvPr/>
              </p:nvSpPr>
              <p:spPr>
                <a:xfrm flipH="1" flipV="1" rot="19463400">
                  <a:off x="8735040" y="5767560"/>
                  <a:ext cx="15480" cy="18720"/>
                </a:xfrm>
                <a:custGeom>
                  <a:avLst/>
                  <a:gdLst>
                    <a:gd name="textAreaLeft" fmla="*/ -360 w 15480"/>
                    <a:gd name="textAreaRight" fmla="*/ 15480 w 15480"/>
                    <a:gd name="textAreaTop" fmla="*/ 360 h 18720"/>
                    <a:gd name="textAreaBottom" fmla="*/ 19440 h 18720"/>
                  </a:gdLst>
                  <a:ahLst/>
                  <a:rect l="textAreaLeft" t="textAreaTop" r="textAreaRight" b="textAreaBottom"/>
                  <a:pathLst>
                    <a:path w="192" h="288">
                      <a:moveTo>
                        <a:pt x="0" y="288"/>
                      </a:moveTo>
                      <a:lnTo>
                        <a:pt x="192" y="288"/>
                      </a:lnTo>
                      <a:lnTo>
                        <a:pt x="48" y="0"/>
                      </a:lnTo>
                      <a:lnTo>
                        <a:pt x="0" y="288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0" name="Freeform 395"/>
                <p:cNvSpPr/>
                <p:nvPr/>
              </p:nvSpPr>
              <p:spPr>
                <a:xfrm flipH="1" flipV="1" rot="19463400">
                  <a:off x="8700480" y="5745960"/>
                  <a:ext cx="15480" cy="18720"/>
                </a:xfrm>
                <a:custGeom>
                  <a:avLst/>
                  <a:gdLst>
                    <a:gd name="textAreaLeft" fmla="*/ -360 w 15480"/>
                    <a:gd name="textAreaRight" fmla="*/ 15480 w 15480"/>
                    <a:gd name="textAreaTop" fmla="*/ 360 h 18720"/>
                    <a:gd name="textAreaBottom" fmla="*/ 19440 h 18720"/>
                  </a:gdLst>
                  <a:ahLst/>
                  <a:rect l="textAreaLeft" t="textAreaTop" r="textAreaRight" b="textAreaBottom"/>
                  <a:pathLst>
                    <a:path w="192" h="288">
                      <a:moveTo>
                        <a:pt x="0" y="288"/>
                      </a:moveTo>
                      <a:lnTo>
                        <a:pt x="192" y="288"/>
                      </a:lnTo>
                      <a:lnTo>
                        <a:pt x="48" y="0"/>
                      </a:lnTo>
                      <a:lnTo>
                        <a:pt x="0" y="288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1" name="Freeform 396"/>
                <p:cNvSpPr/>
                <p:nvPr/>
              </p:nvSpPr>
              <p:spPr>
                <a:xfrm flipH="1" flipV="1" rot="19463400">
                  <a:off x="8714880" y="5712480"/>
                  <a:ext cx="15480" cy="18720"/>
                </a:xfrm>
                <a:custGeom>
                  <a:avLst/>
                  <a:gdLst>
                    <a:gd name="textAreaLeft" fmla="*/ -360 w 15480"/>
                    <a:gd name="textAreaRight" fmla="*/ 15480 w 15480"/>
                    <a:gd name="textAreaTop" fmla="*/ 360 h 18720"/>
                    <a:gd name="textAreaBottom" fmla="*/ 19440 h 18720"/>
                  </a:gdLst>
                  <a:ahLst/>
                  <a:rect l="textAreaLeft" t="textAreaTop" r="textAreaRight" b="textAreaBottom"/>
                  <a:pathLst>
                    <a:path w="192" h="288">
                      <a:moveTo>
                        <a:pt x="0" y="288"/>
                      </a:moveTo>
                      <a:lnTo>
                        <a:pt x="192" y="288"/>
                      </a:lnTo>
                      <a:lnTo>
                        <a:pt x="48" y="0"/>
                      </a:lnTo>
                      <a:lnTo>
                        <a:pt x="0" y="288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2" name="Freeform 397"/>
                <p:cNvSpPr/>
                <p:nvPr/>
              </p:nvSpPr>
              <p:spPr>
                <a:xfrm flipH="1" flipV="1" rot="19463400">
                  <a:off x="8693280" y="5681880"/>
                  <a:ext cx="15480" cy="18720"/>
                </a:xfrm>
                <a:custGeom>
                  <a:avLst/>
                  <a:gdLst>
                    <a:gd name="textAreaLeft" fmla="*/ -360 w 15480"/>
                    <a:gd name="textAreaRight" fmla="*/ 15480 w 15480"/>
                    <a:gd name="textAreaTop" fmla="*/ 360 h 18720"/>
                    <a:gd name="textAreaBottom" fmla="*/ 19440 h 18720"/>
                  </a:gdLst>
                  <a:ahLst/>
                  <a:rect l="textAreaLeft" t="textAreaTop" r="textAreaRight" b="textAreaBottom"/>
                  <a:pathLst>
                    <a:path w="192" h="288">
                      <a:moveTo>
                        <a:pt x="0" y="288"/>
                      </a:moveTo>
                      <a:lnTo>
                        <a:pt x="192" y="288"/>
                      </a:lnTo>
                      <a:lnTo>
                        <a:pt x="48" y="0"/>
                      </a:lnTo>
                      <a:lnTo>
                        <a:pt x="0" y="288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3" name="plant"/>
                <p:cNvSpPr/>
                <p:nvPr/>
              </p:nvSpPr>
              <p:spPr>
                <a:xfrm rot="19463400">
                  <a:off x="8560080" y="5631480"/>
                  <a:ext cx="123480" cy="91440"/>
                </a:xfrm>
                <a:custGeom>
                  <a:avLst/>
                  <a:gdLst>
                    <a:gd name="textAreaLeft" fmla="*/ 40320 w 123480"/>
                    <a:gd name="textAreaRight" fmla="*/ 83520 w 123480"/>
                    <a:gd name="textAreaTop" fmla="*/ 42480 h 91440"/>
                    <a:gd name="textAreaBottom" fmla="*/ 57600 h 914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9368" y="9002"/>
                      </a:moveTo>
                      <a:lnTo>
                        <a:pt x="9254" y="8422"/>
                      </a:lnTo>
                      <a:lnTo>
                        <a:pt x="9139" y="7935"/>
                      </a:lnTo>
                      <a:lnTo>
                        <a:pt x="8819" y="7355"/>
                      </a:lnTo>
                      <a:lnTo>
                        <a:pt x="8475" y="6728"/>
                      </a:lnTo>
                      <a:lnTo>
                        <a:pt x="8040" y="6287"/>
                      </a:lnTo>
                      <a:lnTo>
                        <a:pt x="7421" y="5707"/>
                      </a:lnTo>
                      <a:lnTo>
                        <a:pt x="6574" y="5429"/>
                      </a:lnTo>
                      <a:lnTo>
                        <a:pt x="5452" y="5313"/>
                      </a:lnTo>
                      <a:lnTo>
                        <a:pt x="4856" y="5220"/>
                      </a:lnTo>
                      <a:lnTo>
                        <a:pt x="4169" y="5220"/>
                      </a:lnTo>
                      <a:lnTo>
                        <a:pt x="3665" y="5104"/>
                      </a:lnTo>
                      <a:lnTo>
                        <a:pt x="3001" y="4872"/>
                      </a:lnTo>
                      <a:lnTo>
                        <a:pt x="2497" y="4756"/>
                      </a:lnTo>
                      <a:lnTo>
                        <a:pt x="2062" y="4408"/>
                      </a:lnTo>
                      <a:lnTo>
                        <a:pt x="1603" y="4083"/>
                      </a:lnTo>
                      <a:lnTo>
                        <a:pt x="1283" y="3689"/>
                      </a:lnTo>
                      <a:lnTo>
                        <a:pt x="1283" y="4315"/>
                      </a:lnTo>
                      <a:lnTo>
                        <a:pt x="1489" y="5104"/>
                      </a:lnTo>
                      <a:lnTo>
                        <a:pt x="1832" y="6055"/>
                      </a:lnTo>
                      <a:lnTo>
                        <a:pt x="2382" y="6914"/>
                      </a:lnTo>
                      <a:lnTo>
                        <a:pt x="2680" y="7471"/>
                      </a:lnTo>
                      <a:lnTo>
                        <a:pt x="3115" y="7935"/>
                      </a:lnTo>
                      <a:lnTo>
                        <a:pt x="3573" y="8213"/>
                      </a:lnTo>
                      <a:lnTo>
                        <a:pt x="4077" y="8654"/>
                      </a:lnTo>
                      <a:lnTo>
                        <a:pt x="4627" y="9002"/>
                      </a:lnTo>
                      <a:lnTo>
                        <a:pt x="5245" y="9234"/>
                      </a:lnTo>
                      <a:lnTo>
                        <a:pt x="6024" y="9443"/>
                      </a:lnTo>
                      <a:lnTo>
                        <a:pt x="6757" y="9628"/>
                      </a:lnTo>
                      <a:lnTo>
                        <a:pt x="5177" y="10069"/>
                      </a:lnTo>
                      <a:lnTo>
                        <a:pt x="3963" y="10649"/>
                      </a:lnTo>
                      <a:lnTo>
                        <a:pt x="3344" y="11044"/>
                      </a:lnTo>
                      <a:lnTo>
                        <a:pt x="2886" y="11600"/>
                      </a:lnTo>
                      <a:lnTo>
                        <a:pt x="2497" y="12041"/>
                      </a:lnTo>
                      <a:lnTo>
                        <a:pt x="1947" y="12343"/>
                      </a:lnTo>
                      <a:lnTo>
                        <a:pt x="1168" y="12668"/>
                      </a:lnTo>
                      <a:lnTo>
                        <a:pt x="0" y="12900"/>
                      </a:lnTo>
                      <a:lnTo>
                        <a:pt x="435" y="13248"/>
                      </a:lnTo>
                      <a:lnTo>
                        <a:pt x="779" y="13456"/>
                      </a:lnTo>
                      <a:lnTo>
                        <a:pt x="1283" y="13642"/>
                      </a:lnTo>
                      <a:lnTo>
                        <a:pt x="1718" y="13758"/>
                      </a:lnTo>
                      <a:lnTo>
                        <a:pt x="2680" y="13851"/>
                      </a:lnTo>
                      <a:lnTo>
                        <a:pt x="3573" y="13758"/>
                      </a:lnTo>
                      <a:lnTo>
                        <a:pt x="4512" y="13526"/>
                      </a:lnTo>
                      <a:lnTo>
                        <a:pt x="5360" y="13248"/>
                      </a:lnTo>
                      <a:lnTo>
                        <a:pt x="6139" y="12900"/>
                      </a:lnTo>
                      <a:lnTo>
                        <a:pt x="6757" y="12552"/>
                      </a:lnTo>
                      <a:lnTo>
                        <a:pt x="6459" y="13132"/>
                      </a:lnTo>
                      <a:lnTo>
                        <a:pt x="6139" y="13642"/>
                      </a:lnTo>
                      <a:lnTo>
                        <a:pt x="5910" y="14199"/>
                      </a:lnTo>
                      <a:lnTo>
                        <a:pt x="5681" y="14663"/>
                      </a:lnTo>
                      <a:lnTo>
                        <a:pt x="5681" y="15150"/>
                      </a:lnTo>
                      <a:lnTo>
                        <a:pt x="5681" y="15730"/>
                      </a:lnTo>
                      <a:lnTo>
                        <a:pt x="5681" y="16241"/>
                      </a:lnTo>
                      <a:lnTo>
                        <a:pt x="5795" y="16913"/>
                      </a:lnTo>
                      <a:lnTo>
                        <a:pt x="5910" y="17586"/>
                      </a:lnTo>
                      <a:lnTo>
                        <a:pt x="5910" y="18213"/>
                      </a:lnTo>
                      <a:lnTo>
                        <a:pt x="5795" y="18885"/>
                      </a:lnTo>
                      <a:lnTo>
                        <a:pt x="5566" y="19396"/>
                      </a:lnTo>
                      <a:lnTo>
                        <a:pt x="5245" y="19976"/>
                      </a:lnTo>
                      <a:lnTo>
                        <a:pt x="4971" y="20370"/>
                      </a:lnTo>
                      <a:lnTo>
                        <a:pt x="4512" y="20811"/>
                      </a:lnTo>
                      <a:lnTo>
                        <a:pt x="4077" y="21043"/>
                      </a:lnTo>
                      <a:lnTo>
                        <a:pt x="5177" y="20927"/>
                      </a:lnTo>
                      <a:lnTo>
                        <a:pt x="6253" y="20486"/>
                      </a:lnTo>
                      <a:lnTo>
                        <a:pt x="7421" y="19976"/>
                      </a:lnTo>
                      <a:lnTo>
                        <a:pt x="8361" y="19187"/>
                      </a:lnTo>
                      <a:lnTo>
                        <a:pt x="8819" y="18769"/>
                      </a:lnTo>
                      <a:lnTo>
                        <a:pt x="9139" y="18213"/>
                      </a:lnTo>
                      <a:lnTo>
                        <a:pt x="9437" y="17772"/>
                      </a:lnTo>
                      <a:lnTo>
                        <a:pt x="9643" y="17261"/>
                      </a:lnTo>
                      <a:lnTo>
                        <a:pt x="9872" y="16681"/>
                      </a:lnTo>
                      <a:lnTo>
                        <a:pt x="9872" y="16171"/>
                      </a:lnTo>
                      <a:lnTo>
                        <a:pt x="9872" y="15614"/>
                      </a:lnTo>
                      <a:lnTo>
                        <a:pt x="9758" y="15057"/>
                      </a:lnTo>
                      <a:lnTo>
                        <a:pt x="10216" y="15498"/>
                      </a:lnTo>
                      <a:lnTo>
                        <a:pt x="10537" y="16241"/>
                      </a:lnTo>
                      <a:lnTo>
                        <a:pt x="10834" y="17145"/>
                      </a:lnTo>
                      <a:lnTo>
                        <a:pt x="11041" y="18213"/>
                      </a:lnTo>
                      <a:lnTo>
                        <a:pt x="11155" y="19187"/>
                      </a:lnTo>
                      <a:lnTo>
                        <a:pt x="11155" y="20185"/>
                      </a:lnTo>
                      <a:lnTo>
                        <a:pt x="11155" y="20579"/>
                      </a:lnTo>
                      <a:lnTo>
                        <a:pt x="11041" y="21043"/>
                      </a:lnTo>
                      <a:lnTo>
                        <a:pt x="10926" y="21391"/>
                      </a:lnTo>
                      <a:lnTo>
                        <a:pt x="10766" y="21600"/>
                      </a:lnTo>
                      <a:lnTo>
                        <a:pt x="11499" y="21484"/>
                      </a:lnTo>
                      <a:lnTo>
                        <a:pt x="12323" y="21043"/>
                      </a:lnTo>
                      <a:lnTo>
                        <a:pt x="13102" y="20370"/>
                      </a:lnTo>
                      <a:lnTo>
                        <a:pt x="13606" y="19628"/>
                      </a:lnTo>
                      <a:lnTo>
                        <a:pt x="13950" y="19071"/>
                      </a:lnTo>
                      <a:lnTo>
                        <a:pt x="14064" y="18677"/>
                      </a:lnTo>
                      <a:lnTo>
                        <a:pt x="14179" y="18097"/>
                      </a:lnTo>
                      <a:lnTo>
                        <a:pt x="14293" y="17586"/>
                      </a:lnTo>
                      <a:lnTo>
                        <a:pt x="14179" y="16913"/>
                      </a:lnTo>
                      <a:lnTo>
                        <a:pt x="14064" y="16241"/>
                      </a:lnTo>
                      <a:lnTo>
                        <a:pt x="13835" y="15614"/>
                      </a:lnTo>
                      <a:lnTo>
                        <a:pt x="13560" y="14872"/>
                      </a:lnTo>
                      <a:lnTo>
                        <a:pt x="13950" y="14941"/>
                      </a:lnTo>
                      <a:lnTo>
                        <a:pt x="14408" y="15150"/>
                      </a:lnTo>
                      <a:lnTo>
                        <a:pt x="14843" y="15266"/>
                      </a:lnTo>
                      <a:lnTo>
                        <a:pt x="15232" y="15614"/>
                      </a:lnTo>
                      <a:lnTo>
                        <a:pt x="15576" y="15846"/>
                      </a:lnTo>
                      <a:lnTo>
                        <a:pt x="15897" y="16171"/>
                      </a:lnTo>
                      <a:lnTo>
                        <a:pt x="16126" y="16473"/>
                      </a:lnTo>
                      <a:lnTo>
                        <a:pt x="16240" y="16913"/>
                      </a:lnTo>
                      <a:lnTo>
                        <a:pt x="16515" y="17261"/>
                      </a:lnTo>
                      <a:lnTo>
                        <a:pt x="17088" y="17586"/>
                      </a:lnTo>
                      <a:lnTo>
                        <a:pt x="17798" y="17865"/>
                      </a:lnTo>
                      <a:lnTo>
                        <a:pt x="18576" y="18097"/>
                      </a:lnTo>
                      <a:lnTo>
                        <a:pt x="19424" y="18213"/>
                      </a:lnTo>
                      <a:lnTo>
                        <a:pt x="20317" y="18213"/>
                      </a:lnTo>
                      <a:lnTo>
                        <a:pt x="21050" y="18213"/>
                      </a:lnTo>
                      <a:lnTo>
                        <a:pt x="21600" y="17865"/>
                      </a:lnTo>
                      <a:lnTo>
                        <a:pt x="21165" y="17656"/>
                      </a:lnTo>
                      <a:lnTo>
                        <a:pt x="20592" y="17470"/>
                      </a:lnTo>
                      <a:lnTo>
                        <a:pt x="20088" y="17029"/>
                      </a:lnTo>
                      <a:lnTo>
                        <a:pt x="19653" y="16681"/>
                      </a:lnTo>
                      <a:lnTo>
                        <a:pt x="19195" y="16241"/>
                      </a:lnTo>
                      <a:lnTo>
                        <a:pt x="18920" y="15962"/>
                      </a:lnTo>
                      <a:lnTo>
                        <a:pt x="18576" y="15498"/>
                      </a:lnTo>
                      <a:lnTo>
                        <a:pt x="18576" y="15057"/>
                      </a:lnTo>
                      <a:lnTo>
                        <a:pt x="18485" y="14756"/>
                      </a:lnTo>
                      <a:lnTo>
                        <a:pt x="18256" y="14199"/>
                      </a:lnTo>
                      <a:lnTo>
                        <a:pt x="17912" y="13526"/>
                      </a:lnTo>
                      <a:lnTo>
                        <a:pt x="17523" y="13016"/>
                      </a:lnTo>
                      <a:lnTo>
                        <a:pt x="16973" y="12436"/>
                      </a:lnTo>
                      <a:lnTo>
                        <a:pt x="16355" y="12041"/>
                      </a:lnTo>
                      <a:lnTo>
                        <a:pt x="16011" y="11832"/>
                      </a:lnTo>
                      <a:lnTo>
                        <a:pt x="15690" y="11716"/>
                      </a:lnTo>
                      <a:lnTo>
                        <a:pt x="15232" y="11716"/>
                      </a:lnTo>
                      <a:lnTo>
                        <a:pt x="14843" y="11716"/>
                      </a:lnTo>
                      <a:lnTo>
                        <a:pt x="15461" y="11252"/>
                      </a:lnTo>
                      <a:lnTo>
                        <a:pt x="16126" y="10858"/>
                      </a:lnTo>
                      <a:lnTo>
                        <a:pt x="16973" y="10649"/>
                      </a:lnTo>
                      <a:lnTo>
                        <a:pt x="17798" y="10417"/>
                      </a:lnTo>
                      <a:lnTo>
                        <a:pt x="18806" y="10301"/>
                      </a:lnTo>
                      <a:lnTo>
                        <a:pt x="19653" y="10301"/>
                      </a:lnTo>
                      <a:lnTo>
                        <a:pt x="20478" y="10417"/>
                      </a:lnTo>
                      <a:lnTo>
                        <a:pt x="21256" y="10533"/>
                      </a:lnTo>
                      <a:lnTo>
                        <a:pt x="20707" y="9837"/>
                      </a:lnTo>
                      <a:lnTo>
                        <a:pt x="19859" y="9234"/>
                      </a:lnTo>
                      <a:lnTo>
                        <a:pt x="18806" y="8538"/>
                      </a:lnTo>
                      <a:lnTo>
                        <a:pt x="17637" y="8144"/>
                      </a:lnTo>
                      <a:lnTo>
                        <a:pt x="16973" y="8027"/>
                      </a:lnTo>
                      <a:lnTo>
                        <a:pt x="16355" y="7935"/>
                      </a:lnTo>
                      <a:lnTo>
                        <a:pt x="15805" y="7935"/>
                      </a:lnTo>
                      <a:lnTo>
                        <a:pt x="15118" y="8027"/>
                      </a:lnTo>
                      <a:lnTo>
                        <a:pt x="14614" y="8144"/>
                      </a:lnTo>
                      <a:lnTo>
                        <a:pt x="14064" y="8422"/>
                      </a:lnTo>
                      <a:lnTo>
                        <a:pt x="13606" y="8886"/>
                      </a:lnTo>
                      <a:lnTo>
                        <a:pt x="13217" y="9327"/>
                      </a:lnTo>
                      <a:lnTo>
                        <a:pt x="13606" y="8538"/>
                      </a:lnTo>
                      <a:lnTo>
                        <a:pt x="13950" y="7935"/>
                      </a:lnTo>
                      <a:lnTo>
                        <a:pt x="14293" y="7123"/>
                      </a:lnTo>
                      <a:lnTo>
                        <a:pt x="14499" y="6519"/>
                      </a:lnTo>
                      <a:lnTo>
                        <a:pt x="14614" y="5823"/>
                      </a:lnTo>
                      <a:lnTo>
                        <a:pt x="14614" y="5220"/>
                      </a:lnTo>
                      <a:lnTo>
                        <a:pt x="14408" y="4524"/>
                      </a:lnTo>
                      <a:lnTo>
                        <a:pt x="14064" y="3898"/>
                      </a:lnTo>
                      <a:lnTo>
                        <a:pt x="13606" y="3225"/>
                      </a:lnTo>
                      <a:lnTo>
                        <a:pt x="13331" y="2598"/>
                      </a:lnTo>
                      <a:lnTo>
                        <a:pt x="13102" y="2042"/>
                      </a:lnTo>
                      <a:lnTo>
                        <a:pt x="12896" y="1485"/>
                      </a:lnTo>
                      <a:lnTo>
                        <a:pt x="12781" y="1090"/>
                      </a:lnTo>
                      <a:lnTo>
                        <a:pt x="12667" y="626"/>
                      </a:lnTo>
                      <a:lnTo>
                        <a:pt x="12667" y="278"/>
                      </a:lnTo>
                      <a:lnTo>
                        <a:pt x="12667" y="0"/>
                      </a:lnTo>
                      <a:lnTo>
                        <a:pt x="12163" y="394"/>
                      </a:lnTo>
                      <a:lnTo>
                        <a:pt x="11728" y="974"/>
                      </a:lnTo>
                      <a:lnTo>
                        <a:pt x="11155" y="1601"/>
                      </a:lnTo>
                      <a:lnTo>
                        <a:pt x="10766" y="2390"/>
                      </a:lnTo>
                      <a:lnTo>
                        <a:pt x="10330" y="3109"/>
                      </a:lnTo>
                      <a:lnTo>
                        <a:pt x="10101" y="3898"/>
                      </a:lnTo>
                      <a:lnTo>
                        <a:pt x="9987" y="4524"/>
                      </a:lnTo>
                      <a:lnTo>
                        <a:pt x="10101" y="5220"/>
                      </a:lnTo>
                      <a:lnTo>
                        <a:pt x="10216" y="5823"/>
                      </a:lnTo>
                      <a:lnTo>
                        <a:pt x="10330" y="6403"/>
                      </a:lnTo>
                      <a:lnTo>
                        <a:pt x="10330" y="6914"/>
                      </a:lnTo>
                      <a:lnTo>
                        <a:pt x="10216" y="7471"/>
                      </a:lnTo>
                      <a:lnTo>
                        <a:pt x="10101" y="7935"/>
                      </a:lnTo>
                      <a:lnTo>
                        <a:pt x="9872" y="8329"/>
                      </a:lnTo>
                      <a:lnTo>
                        <a:pt x="9643" y="8654"/>
                      </a:lnTo>
                      <a:lnTo>
                        <a:pt x="9368" y="9002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14" name="Freeform 399"/>
              <p:cNvSpPr/>
              <p:nvPr/>
            </p:nvSpPr>
            <p:spPr>
              <a:xfrm rot="19463400">
                <a:off x="8265600" y="5400360"/>
                <a:ext cx="466560" cy="527400"/>
              </a:xfrm>
              <a:custGeom>
                <a:avLst/>
                <a:gdLst>
                  <a:gd name="textAreaLeft" fmla="*/ 0 w 466560"/>
                  <a:gd name="textAreaRight" fmla="*/ 466920 w 466560"/>
                  <a:gd name="textAreaTop" fmla="*/ 0 h 527400"/>
                  <a:gd name="textAreaBottom" fmla="*/ 527760 h 527400"/>
                </a:gdLst>
                <a:ahLst/>
                <a:rect l="textAreaLeft" t="textAreaTop" r="textAreaRight" b="textAreaBottom"/>
                <a:pathLst>
                  <a:path w="515" h="557">
                    <a:moveTo>
                      <a:pt x="480" y="192"/>
                    </a:moveTo>
                    <a:cubicBezTo>
                      <a:pt x="483" y="187"/>
                      <a:pt x="515" y="190"/>
                      <a:pt x="480" y="160"/>
                    </a:cubicBezTo>
                    <a:cubicBezTo>
                      <a:pt x="445" y="130"/>
                      <a:pt x="339" y="0"/>
                      <a:pt x="272" y="13"/>
                    </a:cubicBezTo>
                    <a:cubicBezTo>
                      <a:pt x="205" y="26"/>
                      <a:pt x="125" y="146"/>
                      <a:pt x="80" y="237"/>
                    </a:cubicBezTo>
                    <a:cubicBezTo>
                      <a:pt x="35" y="328"/>
                      <a:pt x="17" y="490"/>
                      <a:pt x="0" y="557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Freeform 400"/>
              <p:cNvSpPr/>
              <p:nvPr/>
            </p:nvSpPr>
            <p:spPr>
              <a:xfrm rot="19463400">
                <a:off x="8255160" y="5487840"/>
                <a:ext cx="50400" cy="606240"/>
              </a:xfrm>
              <a:custGeom>
                <a:avLst/>
                <a:gdLst>
                  <a:gd name="textAreaLeft" fmla="*/ 0 w 50400"/>
                  <a:gd name="textAreaRight" fmla="*/ 50760 w 50400"/>
                  <a:gd name="textAreaTop" fmla="*/ 0 h 606240"/>
                  <a:gd name="textAreaBottom" fmla="*/ 606600 h 606240"/>
                </a:gdLst>
                <a:ahLst/>
                <a:rect l="textAreaLeft" t="textAreaTop" r="textAreaRight" b="textAreaBottom"/>
                <a:pathLst>
                  <a:path w="56" h="640">
                    <a:moveTo>
                      <a:pt x="0" y="0"/>
                    </a:moveTo>
                    <a:cubicBezTo>
                      <a:pt x="5" y="51"/>
                      <a:pt x="40" y="197"/>
                      <a:pt x="48" y="304"/>
                    </a:cubicBezTo>
                    <a:cubicBezTo>
                      <a:pt x="56" y="411"/>
                      <a:pt x="40" y="516"/>
                      <a:pt x="48" y="640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16" name="Group 401"/>
              <p:cNvGrpSpPr/>
              <p:nvPr/>
            </p:nvGrpSpPr>
            <p:grpSpPr>
              <a:xfrm>
                <a:off x="7990560" y="5431320"/>
                <a:ext cx="218520" cy="225360"/>
                <a:chOff x="7990560" y="5431320"/>
                <a:chExt cx="218520" cy="225360"/>
              </a:xfrm>
            </p:grpSpPr>
            <p:grpSp>
              <p:nvGrpSpPr>
                <p:cNvPr id="517" name="Group 402"/>
                <p:cNvGrpSpPr/>
                <p:nvPr/>
              </p:nvGrpSpPr>
              <p:grpSpPr>
                <a:xfrm>
                  <a:off x="7990560" y="5431320"/>
                  <a:ext cx="218520" cy="225360"/>
                  <a:chOff x="7990560" y="5431320"/>
                  <a:chExt cx="218520" cy="225360"/>
                </a:xfrm>
              </p:grpSpPr>
              <p:sp>
                <p:nvSpPr>
                  <p:cNvPr id="518" name="Freeform 403"/>
                  <p:cNvSpPr/>
                  <p:nvPr/>
                </p:nvSpPr>
                <p:spPr>
                  <a:xfrm rot="1879800">
                    <a:off x="8008920" y="5532120"/>
                    <a:ext cx="70920" cy="90360"/>
                  </a:xfrm>
                  <a:custGeom>
                    <a:avLst/>
                    <a:gdLst>
                      <a:gd name="textAreaLeft" fmla="*/ 0 w 70920"/>
                      <a:gd name="textAreaRight" fmla="*/ 71280 w 70920"/>
                      <a:gd name="textAreaTop" fmla="*/ 0 h 90360"/>
                      <a:gd name="textAreaBottom" fmla="*/ 90720 h 90360"/>
                    </a:gdLst>
                    <a:ahLst/>
                    <a:rect l="textAreaLeft" t="textAreaTop" r="textAreaRight" b="textAreaBottom"/>
                    <a:pathLst>
                      <a:path w="224" h="328">
                        <a:moveTo>
                          <a:pt x="168" y="8"/>
                        </a:moveTo>
                        <a:cubicBezTo>
                          <a:pt x="136" y="0"/>
                          <a:pt x="48" y="56"/>
                          <a:pt x="24" y="104"/>
                        </a:cubicBezTo>
                        <a:cubicBezTo>
                          <a:pt x="0" y="152"/>
                          <a:pt x="8" y="264"/>
                          <a:pt x="24" y="296"/>
                        </a:cubicBezTo>
                        <a:cubicBezTo>
                          <a:pt x="40" y="328"/>
                          <a:pt x="88" y="320"/>
                          <a:pt x="120" y="296"/>
                        </a:cubicBezTo>
                        <a:cubicBezTo>
                          <a:pt x="152" y="272"/>
                          <a:pt x="208" y="200"/>
                          <a:pt x="216" y="152"/>
                        </a:cubicBezTo>
                        <a:cubicBezTo>
                          <a:pt x="224" y="104"/>
                          <a:pt x="200" y="16"/>
                          <a:pt x="168" y="8"/>
                        </a:cubicBezTo>
                        <a:close/>
                      </a:path>
                    </a:pathLst>
                  </a:cu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920" bIns="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9" name="Freeform 404"/>
                  <p:cNvSpPr/>
                  <p:nvPr/>
                </p:nvSpPr>
                <p:spPr>
                  <a:xfrm rot="19463400">
                    <a:off x="8060040" y="5564160"/>
                    <a:ext cx="72360" cy="78840"/>
                  </a:xfrm>
                  <a:custGeom>
                    <a:avLst/>
                    <a:gdLst>
                      <a:gd name="textAreaLeft" fmla="*/ 0 w 72360"/>
                      <a:gd name="textAreaRight" fmla="*/ 72720 w 72360"/>
                      <a:gd name="textAreaTop" fmla="*/ 0 h 78840"/>
                      <a:gd name="textAreaBottom" fmla="*/ 79200 h 78840"/>
                    </a:gdLst>
                    <a:ahLst/>
                    <a:rect l="textAreaLeft" t="textAreaTop" r="textAreaRight" b="textAreaBottom"/>
                    <a:pathLst>
                      <a:path w="224" h="328">
                        <a:moveTo>
                          <a:pt x="168" y="8"/>
                        </a:moveTo>
                        <a:cubicBezTo>
                          <a:pt x="136" y="0"/>
                          <a:pt x="48" y="56"/>
                          <a:pt x="24" y="104"/>
                        </a:cubicBezTo>
                        <a:cubicBezTo>
                          <a:pt x="0" y="152"/>
                          <a:pt x="8" y="264"/>
                          <a:pt x="24" y="296"/>
                        </a:cubicBezTo>
                        <a:cubicBezTo>
                          <a:pt x="40" y="328"/>
                          <a:pt x="88" y="320"/>
                          <a:pt x="120" y="296"/>
                        </a:cubicBezTo>
                        <a:cubicBezTo>
                          <a:pt x="152" y="272"/>
                          <a:pt x="208" y="200"/>
                          <a:pt x="216" y="152"/>
                        </a:cubicBezTo>
                        <a:cubicBezTo>
                          <a:pt x="224" y="104"/>
                          <a:pt x="200" y="16"/>
                          <a:pt x="168" y="8"/>
                        </a:cubicBezTo>
                        <a:close/>
                      </a:path>
                    </a:pathLst>
                  </a:cu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400" bIns="32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0" name="Freeform 405"/>
                  <p:cNvSpPr/>
                  <p:nvPr/>
                </p:nvSpPr>
                <p:spPr>
                  <a:xfrm rot="1656600">
                    <a:off x="8120880" y="5471280"/>
                    <a:ext cx="71280" cy="90360"/>
                  </a:xfrm>
                  <a:custGeom>
                    <a:avLst/>
                    <a:gdLst>
                      <a:gd name="textAreaLeft" fmla="*/ 0 w 71280"/>
                      <a:gd name="textAreaRight" fmla="*/ 71640 w 71280"/>
                      <a:gd name="textAreaTop" fmla="*/ 0 h 90360"/>
                      <a:gd name="textAreaBottom" fmla="*/ 90720 h 90360"/>
                    </a:gdLst>
                    <a:ahLst/>
                    <a:rect l="textAreaLeft" t="textAreaTop" r="textAreaRight" b="textAreaBottom"/>
                    <a:pathLst>
                      <a:path w="224" h="328">
                        <a:moveTo>
                          <a:pt x="168" y="8"/>
                        </a:moveTo>
                        <a:cubicBezTo>
                          <a:pt x="136" y="0"/>
                          <a:pt x="48" y="56"/>
                          <a:pt x="24" y="104"/>
                        </a:cubicBezTo>
                        <a:cubicBezTo>
                          <a:pt x="0" y="152"/>
                          <a:pt x="8" y="264"/>
                          <a:pt x="24" y="296"/>
                        </a:cubicBezTo>
                        <a:cubicBezTo>
                          <a:pt x="40" y="328"/>
                          <a:pt x="88" y="320"/>
                          <a:pt x="120" y="296"/>
                        </a:cubicBezTo>
                        <a:cubicBezTo>
                          <a:pt x="152" y="272"/>
                          <a:pt x="208" y="200"/>
                          <a:pt x="216" y="152"/>
                        </a:cubicBezTo>
                        <a:cubicBezTo>
                          <a:pt x="224" y="104"/>
                          <a:pt x="200" y="16"/>
                          <a:pt x="168" y="8"/>
                        </a:cubicBezTo>
                        <a:close/>
                      </a:path>
                    </a:pathLst>
                  </a:cu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920" bIns="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1" name="Freeform 406"/>
                  <p:cNvSpPr/>
                  <p:nvPr/>
                </p:nvSpPr>
                <p:spPr>
                  <a:xfrm rot="4896600">
                    <a:off x="8019360" y="5485320"/>
                    <a:ext cx="71280" cy="90360"/>
                  </a:xfrm>
                  <a:custGeom>
                    <a:avLst/>
                    <a:gdLst>
                      <a:gd name="textAreaLeft" fmla="*/ 0 w 71280"/>
                      <a:gd name="textAreaRight" fmla="*/ 71640 w 71280"/>
                      <a:gd name="textAreaTop" fmla="*/ 0 h 90360"/>
                      <a:gd name="textAreaBottom" fmla="*/ 90720 h 90360"/>
                    </a:gdLst>
                    <a:ahLst/>
                    <a:rect l="textAreaLeft" t="textAreaTop" r="textAreaRight" b="textAreaBottom"/>
                    <a:pathLst>
                      <a:path w="224" h="328">
                        <a:moveTo>
                          <a:pt x="168" y="8"/>
                        </a:moveTo>
                        <a:cubicBezTo>
                          <a:pt x="136" y="0"/>
                          <a:pt x="48" y="56"/>
                          <a:pt x="24" y="104"/>
                        </a:cubicBezTo>
                        <a:cubicBezTo>
                          <a:pt x="0" y="152"/>
                          <a:pt x="8" y="264"/>
                          <a:pt x="24" y="296"/>
                        </a:cubicBezTo>
                        <a:cubicBezTo>
                          <a:pt x="40" y="328"/>
                          <a:pt x="88" y="320"/>
                          <a:pt x="120" y="296"/>
                        </a:cubicBezTo>
                        <a:cubicBezTo>
                          <a:pt x="152" y="272"/>
                          <a:pt x="208" y="200"/>
                          <a:pt x="216" y="152"/>
                        </a:cubicBezTo>
                        <a:cubicBezTo>
                          <a:pt x="224" y="104"/>
                          <a:pt x="200" y="16"/>
                          <a:pt x="168" y="8"/>
                        </a:cubicBezTo>
                        <a:close/>
                      </a:path>
                    </a:pathLst>
                  </a:cu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920" bIns="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2" name="Freeform 407"/>
                  <p:cNvSpPr/>
                  <p:nvPr/>
                </p:nvSpPr>
                <p:spPr>
                  <a:xfrm rot="19463400">
                    <a:off x="8063640" y="5445000"/>
                    <a:ext cx="72360" cy="78840"/>
                  </a:xfrm>
                  <a:custGeom>
                    <a:avLst/>
                    <a:gdLst>
                      <a:gd name="textAreaLeft" fmla="*/ 0 w 72360"/>
                      <a:gd name="textAreaRight" fmla="*/ 72720 w 72360"/>
                      <a:gd name="textAreaTop" fmla="*/ 0 h 78840"/>
                      <a:gd name="textAreaBottom" fmla="*/ 79200 h 78840"/>
                    </a:gdLst>
                    <a:ahLst/>
                    <a:rect l="textAreaLeft" t="textAreaTop" r="textAreaRight" b="textAreaBottom"/>
                    <a:pathLst>
                      <a:path w="224" h="328">
                        <a:moveTo>
                          <a:pt x="168" y="8"/>
                        </a:moveTo>
                        <a:cubicBezTo>
                          <a:pt x="136" y="0"/>
                          <a:pt x="48" y="56"/>
                          <a:pt x="24" y="104"/>
                        </a:cubicBezTo>
                        <a:cubicBezTo>
                          <a:pt x="0" y="152"/>
                          <a:pt x="8" y="264"/>
                          <a:pt x="24" y="296"/>
                        </a:cubicBezTo>
                        <a:cubicBezTo>
                          <a:pt x="40" y="328"/>
                          <a:pt x="88" y="320"/>
                          <a:pt x="120" y="296"/>
                        </a:cubicBezTo>
                        <a:cubicBezTo>
                          <a:pt x="152" y="272"/>
                          <a:pt x="208" y="200"/>
                          <a:pt x="216" y="152"/>
                        </a:cubicBezTo>
                        <a:cubicBezTo>
                          <a:pt x="224" y="104"/>
                          <a:pt x="200" y="16"/>
                          <a:pt x="168" y="8"/>
                        </a:cubicBezTo>
                        <a:close/>
                      </a:path>
                    </a:pathLst>
                  </a:cu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400" bIns="32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3" name="Freeform 408"/>
                  <p:cNvSpPr/>
                  <p:nvPr/>
                </p:nvSpPr>
                <p:spPr>
                  <a:xfrm rot="19463400">
                    <a:off x="8084520" y="5534280"/>
                    <a:ext cx="36000" cy="31320"/>
                  </a:xfrm>
                  <a:custGeom>
                    <a:avLst/>
                    <a:gdLst>
                      <a:gd name="textAreaLeft" fmla="*/ 0 w 36000"/>
                      <a:gd name="textAreaRight" fmla="*/ 36360 w 36000"/>
                      <a:gd name="textAreaTop" fmla="*/ 0 h 31320"/>
                      <a:gd name="textAreaBottom" fmla="*/ 31680 h 31320"/>
                    </a:gdLst>
                    <a:ahLst/>
                    <a:rect l="textAreaLeft" t="textAreaTop" r="textAreaRight" b="textAreaBottom"/>
                    <a:pathLst>
                      <a:path w="224" h="328">
                        <a:moveTo>
                          <a:pt x="168" y="8"/>
                        </a:moveTo>
                        <a:cubicBezTo>
                          <a:pt x="136" y="0"/>
                          <a:pt x="48" y="56"/>
                          <a:pt x="24" y="104"/>
                        </a:cubicBezTo>
                        <a:cubicBezTo>
                          <a:pt x="0" y="152"/>
                          <a:pt x="8" y="264"/>
                          <a:pt x="24" y="296"/>
                        </a:cubicBezTo>
                        <a:cubicBezTo>
                          <a:pt x="40" y="328"/>
                          <a:pt x="88" y="320"/>
                          <a:pt x="120" y="296"/>
                        </a:cubicBezTo>
                        <a:cubicBezTo>
                          <a:pt x="152" y="272"/>
                          <a:pt x="208" y="200"/>
                          <a:pt x="216" y="152"/>
                        </a:cubicBezTo>
                        <a:cubicBezTo>
                          <a:pt x="224" y="104"/>
                          <a:pt x="200" y="16"/>
                          <a:pt x="168" y="8"/>
                        </a:cubicBezTo>
                        <a:close/>
                      </a:path>
                    </a:pathLst>
                  </a:custGeom>
                  <a:solidFill>
                    <a:srgbClr val="33cc33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24" name="Freeform 409"/>
                <p:cNvSpPr/>
                <p:nvPr/>
              </p:nvSpPr>
              <p:spPr>
                <a:xfrm rot="4579800">
                  <a:off x="8118720" y="5531400"/>
                  <a:ext cx="71280" cy="90360"/>
                </a:xfrm>
                <a:custGeom>
                  <a:avLst/>
                  <a:gdLst>
                    <a:gd name="textAreaLeft" fmla="*/ 0 w 71280"/>
                    <a:gd name="textAreaRight" fmla="*/ 71640 w 71280"/>
                    <a:gd name="textAreaTop" fmla="*/ 0 h 90360"/>
                    <a:gd name="textAreaBottom" fmla="*/ 90720 h 90360"/>
                  </a:gdLst>
                  <a:ahLst/>
                  <a:rect l="textAreaLeft" t="textAreaTop" r="textAreaRight" b="textAreaBottom"/>
                  <a:pathLst>
                    <a:path w="224" h="328">
                      <a:moveTo>
                        <a:pt x="168" y="8"/>
                      </a:moveTo>
                      <a:cubicBezTo>
                        <a:pt x="136" y="0"/>
                        <a:pt x="48" y="56"/>
                        <a:pt x="24" y="104"/>
                      </a:cubicBezTo>
                      <a:cubicBezTo>
                        <a:pt x="0" y="152"/>
                        <a:pt x="8" y="264"/>
                        <a:pt x="24" y="296"/>
                      </a:cubicBezTo>
                      <a:cubicBezTo>
                        <a:pt x="40" y="328"/>
                        <a:pt x="88" y="320"/>
                        <a:pt x="120" y="296"/>
                      </a:cubicBezTo>
                      <a:cubicBezTo>
                        <a:pt x="152" y="272"/>
                        <a:pt x="208" y="200"/>
                        <a:pt x="216" y="152"/>
                      </a:cubicBezTo>
                      <a:cubicBezTo>
                        <a:pt x="224" y="104"/>
                        <a:pt x="200" y="16"/>
                        <a:pt x="168" y="8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25" name="Freeform 410"/>
              <p:cNvSpPr/>
              <p:nvPr/>
            </p:nvSpPr>
            <p:spPr>
              <a:xfrm rot="19463400">
                <a:off x="8278200" y="5452560"/>
                <a:ext cx="376560" cy="487440"/>
              </a:xfrm>
              <a:custGeom>
                <a:avLst/>
                <a:gdLst>
                  <a:gd name="textAreaLeft" fmla="*/ 0 w 376560"/>
                  <a:gd name="textAreaRight" fmla="*/ 376920 w 376560"/>
                  <a:gd name="textAreaTop" fmla="*/ 0 h 487440"/>
                  <a:gd name="textAreaBottom" fmla="*/ 487800 h 487440"/>
                </a:gdLst>
                <a:ahLst/>
                <a:rect l="textAreaLeft" t="textAreaTop" r="textAreaRight" b="textAreaBottom"/>
                <a:pathLst>
                  <a:path w="416" h="515">
                    <a:moveTo>
                      <a:pt x="384" y="211"/>
                    </a:moveTo>
                    <a:cubicBezTo>
                      <a:pt x="387" y="206"/>
                      <a:pt x="416" y="214"/>
                      <a:pt x="384" y="179"/>
                    </a:cubicBezTo>
                    <a:cubicBezTo>
                      <a:pt x="352" y="144"/>
                      <a:pt x="250" y="0"/>
                      <a:pt x="192" y="3"/>
                    </a:cubicBezTo>
                    <a:cubicBezTo>
                      <a:pt x="134" y="6"/>
                      <a:pt x="69" y="110"/>
                      <a:pt x="37" y="195"/>
                    </a:cubicBezTo>
                    <a:cubicBezTo>
                      <a:pt x="5" y="280"/>
                      <a:pt x="8" y="448"/>
                      <a:pt x="0" y="515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Freeform 411"/>
              <p:cNvSpPr/>
              <p:nvPr/>
            </p:nvSpPr>
            <p:spPr>
              <a:xfrm rot="19463400">
                <a:off x="8326080" y="5590080"/>
                <a:ext cx="311400" cy="368280"/>
              </a:xfrm>
              <a:custGeom>
                <a:avLst/>
                <a:gdLst>
                  <a:gd name="textAreaLeft" fmla="*/ 0 w 311400"/>
                  <a:gd name="textAreaRight" fmla="*/ 311760 w 311400"/>
                  <a:gd name="textAreaTop" fmla="*/ 0 h 368280"/>
                  <a:gd name="textAreaBottom" fmla="*/ 368280 h 368280"/>
                </a:gdLst>
                <a:ahLst/>
                <a:rect l="textAreaLeft" t="textAreaTop" r="textAreaRight" b="textAreaBottom"/>
                <a:pathLst>
                  <a:path w="344" h="389">
                    <a:moveTo>
                      <a:pt x="320" y="149"/>
                    </a:moveTo>
                    <a:cubicBezTo>
                      <a:pt x="317" y="152"/>
                      <a:pt x="344" y="189"/>
                      <a:pt x="320" y="165"/>
                    </a:cubicBezTo>
                    <a:cubicBezTo>
                      <a:pt x="296" y="141"/>
                      <a:pt x="216" y="10"/>
                      <a:pt x="176" y="5"/>
                    </a:cubicBezTo>
                    <a:cubicBezTo>
                      <a:pt x="136" y="0"/>
                      <a:pt x="109" y="69"/>
                      <a:pt x="80" y="133"/>
                    </a:cubicBezTo>
                    <a:cubicBezTo>
                      <a:pt x="51" y="197"/>
                      <a:pt x="17" y="336"/>
                      <a:pt x="0" y="389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27" name="Group 412"/>
              <p:cNvGrpSpPr/>
              <p:nvPr/>
            </p:nvGrpSpPr>
            <p:grpSpPr>
              <a:xfrm>
                <a:off x="8140680" y="5267520"/>
                <a:ext cx="218520" cy="225360"/>
                <a:chOff x="8140680" y="5267520"/>
                <a:chExt cx="218520" cy="225360"/>
              </a:xfrm>
            </p:grpSpPr>
            <p:grpSp>
              <p:nvGrpSpPr>
                <p:cNvPr id="528" name="Group 413"/>
                <p:cNvGrpSpPr/>
                <p:nvPr/>
              </p:nvGrpSpPr>
              <p:grpSpPr>
                <a:xfrm>
                  <a:off x="8140680" y="5267520"/>
                  <a:ext cx="218520" cy="225360"/>
                  <a:chOff x="8140680" y="5267520"/>
                  <a:chExt cx="218520" cy="225360"/>
                </a:xfrm>
              </p:grpSpPr>
              <p:sp>
                <p:nvSpPr>
                  <p:cNvPr id="529" name="Freeform 414"/>
                  <p:cNvSpPr/>
                  <p:nvPr/>
                </p:nvSpPr>
                <p:spPr>
                  <a:xfrm rot="1879800">
                    <a:off x="8159040" y="5368320"/>
                    <a:ext cx="70920" cy="90360"/>
                  </a:xfrm>
                  <a:custGeom>
                    <a:avLst/>
                    <a:gdLst>
                      <a:gd name="textAreaLeft" fmla="*/ 0 w 70920"/>
                      <a:gd name="textAreaRight" fmla="*/ 71280 w 70920"/>
                      <a:gd name="textAreaTop" fmla="*/ 0 h 90360"/>
                      <a:gd name="textAreaBottom" fmla="*/ 90720 h 90360"/>
                    </a:gdLst>
                    <a:ahLst/>
                    <a:rect l="textAreaLeft" t="textAreaTop" r="textAreaRight" b="textAreaBottom"/>
                    <a:pathLst>
                      <a:path w="224" h="328">
                        <a:moveTo>
                          <a:pt x="168" y="8"/>
                        </a:moveTo>
                        <a:cubicBezTo>
                          <a:pt x="136" y="0"/>
                          <a:pt x="48" y="56"/>
                          <a:pt x="24" y="104"/>
                        </a:cubicBezTo>
                        <a:cubicBezTo>
                          <a:pt x="0" y="152"/>
                          <a:pt x="8" y="264"/>
                          <a:pt x="24" y="296"/>
                        </a:cubicBezTo>
                        <a:cubicBezTo>
                          <a:pt x="40" y="328"/>
                          <a:pt x="88" y="320"/>
                          <a:pt x="120" y="296"/>
                        </a:cubicBezTo>
                        <a:cubicBezTo>
                          <a:pt x="152" y="272"/>
                          <a:pt x="208" y="200"/>
                          <a:pt x="216" y="152"/>
                        </a:cubicBezTo>
                        <a:cubicBezTo>
                          <a:pt x="224" y="104"/>
                          <a:pt x="200" y="16"/>
                          <a:pt x="168" y="8"/>
                        </a:cubicBezTo>
                        <a:close/>
                      </a:path>
                    </a:pathLst>
                  </a:cu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920" bIns="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0" name="Freeform 415"/>
                  <p:cNvSpPr/>
                  <p:nvPr/>
                </p:nvSpPr>
                <p:spPr>
                  <a:xfrm rot="19463400">
                    <a:off x="8210160" y="5400360"/>
                    <a:ext cx="72360" cy="78840"/>
                  </a:xfrm>
                  <a:custGeom>
                    <a:avLst/>
                    <a:gdLst>
                      <a:gd name="textAreaLeft" fmla="*/ 0 w 72360"/>
                      <a:gd name="textAreaRight" fmla="*/ 72720 w 72360"/>
                      <a:gd name="textAreaTop" fmla="*/ 0 h 78840"/>
                      <a:gd name="textAreaBottom" fmla="*/ 79200 h 78840"/>
                    </a:gdLst>
                    <a:ahLst/>
                    <a:rect l="textAreaLeft" t="textAreaTop" r="textAreaRight" b="textAreaBottom"/>
                    <a:pathLst>
                      <a:path w="224" h="328">
                        <a:moveTo>
                          <a:pt x="168" y="8"/>
                        </a:moveTo>
                        <a:cubicBezTo>
                          <a:pt x="136" y="0"/>
                          <a:pt x="48" y="56"/>
                          <a:pt x="24" y="104"/>
                        </a:cubicBezTo>
                        <a:cubicBezTo>
                          <a:pt x="0" y="152"/>
                          <a:pt x="8" y="264"/>
                          <a:pt x="24" y="296"/>
                        </a:cubicBezTo>
                        <a:cubicBezTo>
                          <a:pt x="40" y="328"/>
                          <a:pt x="88" y="320"/>
                          <a:pt x="120" y="296"/>
                        </a:cubicBezTo>
                        <a:cubicBezTo>
                          <a:pt x="152" y="272"/>
                          <a:pt x="208" y="200"/>
                          <a:pt x="216" y="152"/>
                        </a:cubicBezTo>
                        <a:cubicBezTo>
                          <a:pt x="224" y="104"/>
                          <a:pt x="200" y="16"/>
                          <a:pt x="168" y="8"/>
                        </a:cubicBezTo>
                        <a:close/>
                      </a:path>
                    </a:pathLst>
                  </a:cu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400" bIns="32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1" name="Freeform 416"/>
                  <p:cNvSpPr/>
                  <p:nvPr/>
                </p:nvSpPr>
                <p:spPr>
                  <a:xfrm rot="1656600">
                    <a:off x="8271000" y="5307480"/>
                    <a:ext cx="71280" cy="90360"/>
                  </a:xfrm>
                  <a:custGeom>
                    <a:avLst/>
                    <a:gdLst>
                      <a:gd name="textAreaLeft" fmla="*/ 0 w 71280"/>
                      <a:gd name="textAreaRight" fmla="*/ 71640 w 71280"/>
                      <a:gd name="textAreaTop" fmla="*/ 0 h 90360"/>
                      <a:gd name="textAreaBottom" fmla="*/ 90720 h 90360"/>
                    </a:gdLst>
                    <a:ahLst/>
                    <a:rect l="textAreaLeft" t="textAreaTop" r="textAreaRight" b="textAreaBottom"/>
                    <a:pathLst>
                      <a:path w="224" h="328">
                        <a:moveTo>
                          <a:pt x="168" y="8"/>
                        </a:moveTo>
                        <a:cubicBezTo>
                          <a:pt x="136" y="0"/>
                          <a:pt x="48" y="56"/>
                          <a:pt x="24" y="104"/>
                        </a:cubicBezTo>
                        <a:cubicBezTo>
                          <a:pt x="0" y="152"/>
                          <a:pt x="8" y="264"/>
                          <a:pt x="24" y="296"/>
                        </a:cubicBezTo>
                        <a:cubicBezTo>
                          <a:pt x="40" y="328"/>
                          <a:pt x="88" y="320"/>
                          <a:pt x="120" y="296"/>
                        </a:cubicBezTo>
                        <a:cubicBezTo>
                          <a:pt x="152" y="272"/>
                          <a:pt x="208" y="200"/>
                          <a:pt x="216" y="152"/>
                        </a:cubicBezTo>
                        <a:cubicBezTo>
                          <a:pt x="224" y="104"/>
                          <a:pt x="200" y="16"/>
                          <a:pt x="168" y="8"/>
                        </a:cubicBezTo>
                        <a:close/>
                      </a:path>
                    </a:pathLst>
                  </a:cu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920" bIns="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2" name="Freeform 417"/>
                  <p:cNvSpPr/>
                  <p:nvPr/>
                </p:nvSpPr>
                <p:spPr>
                  <a:xfrm rot="4896600">
                    <a:off x="8169480" y="5321520"/>
                    <a:ext cx="71280" cy="90360"/>
                  </a:xfrm>
                  <a:custGeom>
                    <a:avLst/>
                    <a:gdLst>
                      <a:gd name="textAreaLeft" fmla="*/ 0 w 71280"/>
                      <a:gd name="textAreaRight" fmla="*/ 71640 w 71280"/>
                      <a:gd name="textAreaTop" fmla="*/ 0 h 90360"/>
                      <a:gd name="textAreaBottom" fmla="*/ 90720 h 90360"/>
                    </a:gdLst>
                    <a:ahLst/>
                    <a:rect l="textAreaLeft" t="textAreaTop" r="textAreaRight" b="textAreaBottom"/>
                    <a:pathLst>
                      <a:path w="224" h="328">
                        <a:moveTo>
                          <a:pt x="168" y="8"/>
                        </a:moveTo>
                        <a:cubicBezTo>
                          <a:pt x="136" y="0"/>
                          <a:pt x="48" y="56"/>
                          <a:pt x="24" y="104"/>
                        </a:cubicBezTo>
                        <a:cubicBezTo>
                          <a:pt x="0" y="152"/>
                          <a:pt x="8" y="264"/>
                          <a:pt x="24" y="296"/>
                        </a:cubicBezTo>
                        <a:cubicBezTo>
                          <a:pt x="40" y="328"/>
                          <a:pt x="88" y="320"/>
                          <a:pt x="120" y="296"/>
                        </a:cubicBezTo>
                        <a:cubicBezTo>
                          <a:pt x="152" y="272"/>
                          <a:pt x="208" y="200"/>
                          <a:pt x="216" y="152"/>
                        </a:cubicBezTo>
                        <a:cubicBezTo>
                          <a:pt x="224" y="104"/>
                          <a:pt x="200" y="16"/>
                          <a:pt x="168" y="8"/>
                        </a:cubicBezTo>
                        <a:close/>
                      </a:path>
                    </a:pathLst>
                  </a:cu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920" bIns="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3" name="Freeform 418"/>
                  <p:cNvSpPr/>
                  <p:nvPr/>
                </p:nvSpPr>
                <p:spPr>
                  <a:xfrm rot="19463400">
                    <a:off x="8213760" y="5281200"/>
                    <a:ext cx="72360" cy="78840"/>
                  </a:xfrm>
                  <a:custGeom>
                    <a:avLst/>
                    <a:gdLst>
                      <a:gd name="textAreaLeft" fmla="*/ 0 w 72360"/>
                      <a:gd name="textAreaRight" fmla="*/ 72720 w 72360"/>
                      <a:gd name="textAreaTop" fmla="*/ 0 h 78840"/>
                      <a:gd name="textAreaBottom" fmla="*/ 79200 h 78840"/>
                    </a:gdLst>
                    <a:ahLst/>
                    <a:rect l="textAreaLeft" t="textAreaTop" r="textAreaRight" b="textAreaBottom"/>
                    <a:pathLst>
                      <a:path w="224" h="328">
                        <a:moveTo>
                          <a:pt x="168" y="8"/>
                        </a:moveTo>
                        <a:cubicBezTo>
                          <a:pt x="136" y="0"/>
                          <a:pt x="48" y="56"/>
                          <a:pt x="24" y="104"/>
                        </a:cubicBezTo>
                        <a:cubicBezTo>
                          <a:pt x="0" y="152"/>
                          <a:pt x="8" y="264"/>
                          <a:pt x="24" y="296"/>
                        </a:cubicBezTo>
                        <a:cubicBezTo>
                          <a:pt x="40" y="328"/>
                          <a:pt x="88" y="320"/>
                          <a:pt x="120" y="296"/>
                        </a:cubicBezTo>
                        <a:cubicBezTo>
                          <a:pt x="152" y="272"/>
                          <a:pt x="208" y="200"/>
                          <a:pt x="216" y="152"/>
                        </a:cubicBezTo>
                        <a:cubicBezTo>
                          <a:pt x="224" y="104"/>
                          <a:pt x="200" y="16"/>
                          <a:pt x="168" y="8"/>
                        </a:cubicBezTo>
                        <a:close/>
                      </a:path>
                    </a:pathLst>
                  </a:cu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400" bIns="32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4" name="Freeform 419"/>
                  <p:cNvSpPr/>
                  <p:nvPr/>
                </p:nvSpPr>
                <p:spPr>
                  <a:xfrm rot="19463400">
                    <a:off x="8234640" y="5370480"/>
                    <a:ext cx="36000" cy="31320"/>
                  </a:xfrm>
                  <a:custGeom>
                    <a:avLst/>
                    <a:gdLst>
                      <a:gd name="textAreaLeft" fmla="*/ 0 w 36000"/>
                      <a:gd name="textAreaRight" fmla="*/ 36360 w 36000"/>
                      <a:gd name="textAreaTop" fmla="*/ 0 h 31320"/>
                      <a:gd name="textAreaBottom" fmla="*/ 31680 h 31320"/>
                    </a:gdLst>
                    <a:ahLst/>
                    <a:rect l="textAreaLeft" t="textAreaTop" r="textAreaRight" b="textAreaBottom"/>
                    <a:pathLst>
                      <a:path w="224" h="328">
                        <a:moveTo>
                          <a:pt x="168" y="8"/>
                        </a:moveTo>
                        <a:cubicBezTo>
                          <a:pt x="136" y="0"/>
                          <a:pt x="48" y="56"/>
                          <a:pt x="24" y="104"/>
                        </a:cubicBezTo>
                        <a:cubicBezTo>
                          <a:pt x="0" y="152"/>
                          <a:pt x="8" y="264"/>
                          <a:pt x="24" y="296"/>
                        </a:cubicBezTo>
                        <a:cubicBezTo>
                          <a:pt x="40" y="328"/>
                          <a:pt x="88" y="320"/>
                          <a:pt x="120" y="296"/>
                        </a:cubicBezTo>
                        <a:cubicBezTo>
                          <a:pt x="152" y="272"/>
                          <a:pt x="208" y="200"/>
                          <a:pt x="216" y="152"/>
                        </a:cubicBezTo>
                        <a:cubicBezTo>
                          <a:pt x="224" y="104"/>
                          <a:pt x="200" y="16"/>
                          <a:pt x="168" y="8"/>
                        </a:cubicBezTo>
                        <a:close/>
                      </a:path>
                    </a:pathLst>
                  </a:custGeom>
                  <a:solidFill>
                    <a:srgbClr val="33cc33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35" name="Freeform 420"/>
                <p:cNvSpPr/>
                <p:nvPr/>
              </p:nvSpPr>
              <p:spPr>
                <a:xfrm rot="4579800">
                  <a:off x="8269200" y="5367600"/>
                  <a:ext cx="71280" cy="90360"/>
                </a:xfrm>
                <a:custGeom>
                  <a:avLst/>
                  <a:gdLst>
                    <a:gd name="textAreaLeft" fmla="*/ 0 w 71280"/>
                    <a:gd name="textAreaRight" fmla="*/ 71640 w 71280"/>
                    <a:gd name="textAreaTop" fmla="*/ 0 h 90360"/>
                    <a:gd name="textAreaBottom" fmla="*/ 90720 h 90360"/>
                  </a:gdLst>
                  <a:ahLst/>
                  <a:rect l="textAreaLeft" t="textAreaTop" r="textAreaRight" b="textAreaBottom"/>
                  <a:pathLst>
                    <a:path w="224" h="328">
                      <a:moveTo>
                        <a:pt x="168" y="8"/>
                      </a:moveTo>
                      <a:cubicBezTo>
                        <a:pt x="136" y="0"/>
                        <a:pt x="48" y="56"/>
                        <a:pt x="24" y="104"/>
                      </a:cubicBezTo>
                      <a:cubicBezTo>
                        <a:pt x="0" y="152"/>
                        <a:pt x="8" y="264"/>
                        <a:pt x="24" y="296"/>
                      </a:cubicBezTo>
                      <a:cubicBezTo>
                        <a:pt x="40" y="328"/>
                        <a:pt x="88" y="320"/>
                        <a:pt x="120" y="296"/>
                      </a:cubicBezTo>
                      <a:cubicBezTo>
                        <a:pt x="152" y="272"/>
                        <a:pt x="208" y="200"/>
                        <a:pt x="216" y="152"/>
                      </a:cubicBezTo>
                      <a:cubicBezTo>
                        <a:pt x="224" y="104"/>
                        <a:pt x="200" y="16"/>
                        <a:pt x="168" y="8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6" name="Group 421"/>
              <p:cNvGrpSpPr/>
              <p:nvPr/>
            </p:nvGrpSpPr>
            <p:grpSpPr>
              <a:xfrm>
                <a:off x="8539200" y="5380200"/>
                <a:ext cx="303840" cy="321120"/>
                <a:chOff x="8539200" y="5380200"/>
                <a:chExt cx="303840" cy="321120"/>
              </a:xfrm>
            </p:grpSpPr>
            <p:grpSp>
              <p:nvGrpSpPr>
                <p:cNvPr id="537" name="Group 422"/>
                <p:cNvGrpSpPr/>
                <p:nvPr/>
              </p:nvGrpSpPr>
              <p:grpSpPr>
                <a:xfrm>
                  <a:off x="8539200" y="5398200"/>
                  <a:ext cx="303840" cy="303120"/>
                  <a:chOff x="8539200" y="5398200"/>
                  <a:chExt cx="303840" cy="303120"/>
                </a:xfrm>
              </p:grpSpPr>
              <p:sp>
                <p:nvSpPr>
                  <p:cNvPr id="538" name="Freeform 423"/>
                  <p:cNvSpPr/>
                  <p:nvPr/>
                </p:nvSpPr>
                <p:spPr>
                  <a:xfrm rot="8513400">
                    <a:off x="8689680" y="5404680"/>
                    <a:ext cx="96840" cy="216000"/>
                  </a:xfrm>
                  <a:custGeom>
                    <a:avLst/>
                    <a:gdLst>
                      <a:gd name="textAreaLeft" fmla="*/ 0 w 96840"/>
                      <a:gd name="textAreaRight" fmla="*/ 97200 w 96840"/>
                      <a:gd name="textAreaTop" fmla="*/ 0 h 216000"/>
                      <a:gd name="textAreaBottom" fmla="*/ 216360 h 216000"/>
                    </a:gdLst>
                    <a:ahLst/>
                    <a:rect l="textAreaLeft" t="textAreaTop" r="textAreaRight" b="textAreaBottom"/>
                    <a:pathLst>
                      <a:path w="296" h="552">
                        <a:moveTo>
                          <a:pt x="296" y="528"/>
                        </a:moveTo>
                        <a:cubicBezTo>
                          <a:pt x="224" y="540"/>
                          <a:pt x="152" y="552"/>
                          <a:pt x="104" y="528"/>
                        </a:cubicBezTo>
                        <a:cubicBezTo>
                          <a:pt x="56" y="504"/>
                          <a:pt x="16" y="440"/>
                          <a:pt x="8" y="384"/>
                        </a:cubicBezTo>
                        <a:cubicBezTo>
                          <a:pt x="0" y="328"/>
                          <a:pt x="24" y="248"/>
                          <a:pt x="56" y="192"/>
                        </a:cubicBezTo>
                        <a:cubicBezTo>
                          <a:pt x="88" y="136"/>
                          <a:pt x="160" y="80"/>
                          <a:pt x="200" y="48"/>
                        </a:cubicBezTo>
                        <a:cubicBezTo>
                          <a:pt x="240" y="16"/>
                          <a:pt x="268" y="8"/>
                          <a:pt x="296" y="0"/>
                        </a:cubicBezTo>
                      </a:path>
                    </a:pathLst>
                  </a:custGeom>
                  <a:solidFill>
                    <a:srgbClr val="ff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9" name="Freeform 424"/>
                  <p:cNvSpPr/>
                  <p:nvPr/>
                </p:nvSpPr>
                <p:spPr>
                  <a:xfrm flipH="1" rot="8512800">
                    <a:off x="8592120" y="5470200"/>
                    <a:ext cx="122760" cy="216000"/>
                  </a:xfrm>
                  <a:custGeom>
                    <a:avLst/>
                    <a:gdLst>
                      <a:gd name="textAreaLeft" fmla="*/ -360 w 122760"/>
                      <a:gd name="textAreaRight" fmla="*/ 122760 w 122760"/>
                      <a:gd name="textAreaTop" fmla="*/ 0 h 216000"/>
                      <a:gd name="textAreaBottom" fmla="*/ 216360 h 216000"/>
                    </a:gdLst>
                    <a:ahLst/>
                    <a:rect l="textAreaLeft" t="textAreaTop" r="textAreaRight" b="textAreaBottom"/>
                    <a:pathLst>
                      <a:path w="296" h="552">
                        <a:moveTo>
                          <a:pt x="296" y="528"/>
                        </a:moveTo>
                        <a:cubicBezTo>
                          <a:pt x="224" y="540"/>
                          <a:pt x="152" y="552"/>
                          <a:pt x="104" y="528"/>
                        </a:cubicBezTo>
                        <a:cubicBezTo>
                          <a:pt x="56" y="504"/>
                          <a:pt x="16" y="440"/>
                          <a:pt x="8" y="384"/>
                        </a:cubicBezTo>
                        <a:cubicBezTo>
                          <a:pt x="0" y="328"/>
                          <a:pt x="24" y="248"/>
                          <a:pt x="56" y="192"/>
                        </a:cubicBezTo>
                        <a:cubicBezTo>
                          <a:pt x="88" y="136"/>
                          <a:pt x="160" y="80"/>
                          <a:pt x="200" y="48"/>
                        </a:cubicBezTo>
                        <a:cubicBezTo>
                          <a:pt x="240" y="16"/>
                          <a:pt x="268" y="8"/>
                          <a:pt x="296" y="0"/>
                        </a:cubicBezTo>
                      </a:path>
                    </a:pathLst>
                  </a:custGeom>
                  <a:solidFill>
                    <a:srgbClr val="ff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40" name="Freeform 425"/>
                <p:cNvSpPr/>
                <p:nvPr/>
              </p:nvSpPr>
              <p:spPr>
                <a:xfrm flipV="1" rot="19463400">
                  <a:off x="8678880" y="5491080"/>
                  <a:ext cx="15480" cy="18720"/>
                </a:xfrm>
                <a:custGeom>
                  <a:avLst/>
                  <a:gdLst>
                    <a:gd name="textAreaLeft" fmla="*/ 0 w 15480"/>
                    <a:gd name="textAreaRight" fmla="*/ 15840 w 15480"/>
                    <a:gd name="textAreaTop" fmla="*/ 360 h 18720"/>
                    <a:gd name="textAreaBottom" fmla="*/ 19440 h 18720"/>
                  </a:gdLst>
                  <a:ahLst/>
                  <a:rect l="textAreaLeft" t="textAreaTop" r="textAreaRight" b="textAreaBottom"/>
                  <a:pathLst>
                    <a:path w="192" h="288">
                      <a:moveTo>
                        <a:pt x="0" y="288"/>
                      </a:moveTo>
                      <a:lnTo>
                        <a:pt x="192" y="288"/>
                      </a:lnTo>
                      <a:lnTo>
                        <a:pt x="48" y="0"/>
                      </a:lnTo>
                      <a:lnTo>
                        <a:pt x="0" y="288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Freeform 426"/>
                <p:cNvSpPr/>
                <p:nvPr/>
              </p:nvSpPr>
              <p:spPr>
                <a:xfrm flipV="1" rot="19463400">
                  <a:off x="8603640" y="5521680"/>
                  <a:ext cx="15480" cy="18720"/>
                </a:xfrm>
                <a:custGeom>
                  <a:avLst/>
                  <a:gdLst>
                    <a:gd name="textAreaLeft" fmla="*/ 0 w 15480"/>
                    <a:gd name="textAreaRight" fmla="*/ 15840 w 15480"/>
                    <a:gd name="textAreaTop" fmla="*/ 360 h 18720"/>
                    <a:gd name="textAreaBottom" fmla="*/ 19440 h 18720"/>
                  </a:gdLst>
                  <a:ahLst/>
                  <a:rect l="textAreaLeft" t="textAreaTop" r="textAreaRight" b="textAreaBottom"/>
                  <a:pathLst>
                    <a:path w="192" h="288">
                      <a:moveTo>
                        <a:pt x="0" y="288"/>
                      </a:moveTo>
                      <a:lnTo>
                        <a:pt x="192" y="288"/>
                      </a:lnTo>
                      <a:lnTo>
                        <a:pt x="48" y="0"/>
                      </a:lnTo>
                      <a:lnTo>
                        <a:pt x="0" y="288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Freeform 427"/>
                <p:cNvSpPr/>
                <p:nvPr/>
              </p:nvSpPr>
              <p:spPr>
                <a:xfrm flipV="1" rot="19463400">
                  <a:off x="8627400" y="5527800"/>
                  <a:ext cx="15480" cy="18720"/>
                </a:xfrm>
                <a:custGeom>
                  <a:avLst/>
                  <a:gdLst>
                    <a:gd name="textAreaLeft" fmla="*/ 0 w 15480"/>
                    <a:gd name="textAreaRight" fmla="*/ 15840 w 15480"/>
                    <a:gd name="textAreaTop" fmla="*/ 360 h 18720"/>
                    <a:gd name="textAreaBottom" fmla="*/ 19440 h 18720"/>
                  </a:gdLst>
                  <a:ahLst/>
                  <a:rect l="textAreaLeft" t="textAreaTop" r="textAreaRight" b="textAreaBottom"/>
                  <a:pathLst>
                    <a:path w="192" h="288">
                      <a:moveTo>
                        <a:pt x="0" y="288"/>
                      </a:moveTo>
                      <a:lnTo>
                        <a:pt x="192" y="288"/>
                      </a:lnTo>
                      <a:lnTo>
                        <a:pt x="48" y="0"/>
                      </a:lnTo>
                      <a:lnTo>
                        <a:pt x="0" y="288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Freeform 428"/>
                <p:cNvSpPr/>
                <p:nvPr/>
              </p:nvSpPr>
              <p:spPr>
                <a:xfrm flipV="1" rot="19463400">
                  <a:off x="8663760" y="5524920"/>
                  <a:ext cx="15480" cy="18720"/>
                </a:xfrm>
                <a:custGeom>
                  <a:avLst/>
                  <a:gdLst>
                    <a:gd name="textAreaLeft" fmla="*/ 0 w 15480"/>
                    <a:gd name="textAreaRight" fmla="*/ 15840 w 15480"/>
                    <a:gd name="textAreaTop" fmla="*/ 360 h 18720"/>
                    <a:gd name="textAreaBottom" fmla="*/ 19440 h 18720"/>
                  </a:gdLst>
                  <a:ahLst/>
                  <a:rect l="textAreaLeft" t="textAreaTop" r="textAreaRight" b="textAreaBottom"/>
                  <a:pathLst>
                    <a:path w="192" h="288">
                      <a:moveTo>
                        <a:pt x="0" y="288"/>
                      </a:moveTo>
                      <a:lnTo>
                        <a:pt x="192" y="288"/>
                      </a:lnTo>
                      <a:lnTo>
                        <a:pt x="48" y="0"/>
                      </a:lnTo>
                      <a:lnTo>
                        <a:pt x="0" y="288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Freeform 429"/>
                <p:cNvSpPr/>
                <p:nvPr/>
              </p:nvSpPr>
              <p:spPr>
                <a:xfrm flipV="1" rot="19463400">
                  <a:off x="8673480" y="5564520"/>
                  <a:ext cx="15480" cy="18720"/>
                </a:xfrm>
                <a:custGeom>
                  <a:avLst/>
                  <a:gdLst>
                    <a:gd name="textAreaLeft" fmla="*/ 0 w 15480"/>
                    <a:gd name="textAreaRight" fmla="*/ 15840 w 15480"/>
                    <a:gd name="textAreaTop" fmla="*/ 360 h 18720"/>
                    <a:gd name="textAreaBottom" fmla="*/ 19440 h 18720"/>
                  </a:gdLst>
                  <a:ahLst/>
                  <a:rect l="textAreaLeft" t="textAreaTop" r="textAreaRight" b="textAreaBottom"/>
                  <a:pathLst>
                    <a:path w="192" h="288">
                      <a:moveTo>
                        <a:pt x="0" y="288"/>
                      </a:moveTo>
                      <a:lnTo>
                        <a:pt x="192" y="288"/>
                      </a:lnTo>
                      <a:lnTo>
                        <a:pt x="48" y="0"/>
                      </a:lnTo>
                      <a:lnTo>
                        <a:pt x="0" y="288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5" name="Freeform 430"/>
                <p:cNvSpPr/>
                <p:nvPr/>
              </p:nvSpPr>
              <p:spPr>
                <a:xfrm flipV="1" rot="19463400">
                  <a:off x="8671320" y="5589000"/>
                  <a:ext cx="15480" cy="18720"/>
                </a:xfrm>
                <a:custGeom>
                  <a:avLst/>
                  <a:gdLst>
                    <a:gd name="textAreaLeft" fmla="*/ 0 w 15480"/>
                    <a:gd name="textAreaRight" fmla="*/ 15840 w 15480"/>
                    <a:gd name="textAreaTop" fmla="*/ 360 h 18720"/>
                    <a:gd name="textAreaBottom" fmla="*/ 19440 h 18720"/>
                  </a:gdLst>
                  <a:ahLst/>
                  <a:rect l="textAreaLeft" t="textAreaTop" r="textAreaRight" b="textAreaBottom"/>
                  <a:pathLst>
                    <a:path w="192" h="288">
                      <a:moveTo>
                        <a:pt x="0" y="288"/>
                      </a:moveTo>
                      <a:lnTo>
                        <a:pt x="192" y="288"/>
                      </a:lnTo>
                      <a:lnTo>
                        <a:pt x="48" y="0"/>
                      </a:lnTo>
                      <a:lnTo>
                        <a:pt x="0" y="288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6" name="Freeform 431"/>
                <p:cNvSpPr/>
                <p:nvPr/>
              </p:nvSpPr>
              <p:spPr>
                <a:xfrm flipV="1" rot="19463400">
                  <a:off x="8695080" y="5595120"/>
                  <a:ext cx="15480" cy="18720"/>
                </a:xfrm>
                <a:custGeom>
                  <a:avLst/>
                  <a:gdLst>
                    <a:gd name="textAreaLeft" fmla="*/ 0 w 15480"/>
                    <a:gd name="textAreaRight" fmla="*/ 15840 w 15480"/>
                    <a:gd name="textAreaTop" fmla="*/ 360 h 18720"/>
                    <a:gd name="textAreaBottom" fmla="*/ 19440 h 18720"/>
                  </a:gdLst>
                  <a:ahLst/>
                  <a:rect l="textAreaLeft" t="textAreaTop" r="textAreaRight" b="textAreaBottom"/>
                  <a:pathLst>
                    <a:path w="192" h="288">
                      <a:moveTo>
                        <a:pt x="0" y="288"/>
                      </a:moveTo>
                      <a:lnTo>
                        <a:pt x="192" y="288"/>
                      </a:lnTo>
                      <a:lnTo>
                        <a:pt x="48" y="0"/>
                      </a:lnTo>
                      <a:lnTo>
                        <a:pt x="0" y="288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Freeform 432"/>
                <p:cNvSpPr/>
                <p:nvPr/>
              </p:nvSpPr>
              <p:spPr>
                <a:xfrm flipV="1" rot="19463400">
                  <a:off x="8731800" y="5592240"/>
                  <a:ext cx="15480" cy="18720"/>
                </a:xfrm>
                <a:custGeom>
                  <a:avLst/>
                  <a:gdLst>
                    <a:gd name="textAreaLeft" fmla="*/ 0 w 15480"/>
                    <a:gd name="textAreaRight" fmla="*/ 15840 w 15480"/>
                    <a:gd name="textAreaTop" fmla="*/ 360 h 18720"/>
                    <a:gd name="textAreaBottom" fmla="*/ 19440 h 18720"/>
                  </a:gdLst>
                  <a:ahLst/>
                  <a:rect l="textAreaLeft" t="textAreaTop" r="textAreaRight" b="textAreaBottom"/>
                  <a:pathLst>
                    <a:path w="192" h="288">
                      <a:moveTo>
                        <a:pt x="0" y="288"/>
                      </a:moveTo>
                      <a:lnTo>
                        <a:pt x="192" y="288"/>
                      </a:lnTo>
                      <a:lnTo>
                        <a:pt x="48" y="0"/>
                      </a:lnTo>
                      <a:lnTo>
                        <a:pt x="0" y="288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8" name="Freeform 433"/>
                <p:cNvSpPr/>
                <p:nvPr/>
              </p:nvSpPr>
              <p:spPr>
                <a:xfrm flipV="1" rot="19463400">
                  <a:off x="8613000" y="5561280"/>
                  <a:ext cx="15480" cy="18720"/>
                </a:xfrm>
                <a:custGeom>
                  <a:avLst/>
                  <a:gdLst>
                    <a:gd name="textAreaLeft" fmla="*/ 0 w 15480"/>
                    <a:gd name="textAreaRight" fmla="*/ 15840 w 15480"/>
                    <a:gd name="textAreaTop" fmla="*/ 360 h 18720"/>
                    <a:gd name="textAreaBottom" fmla="*/ 19440 h 18720"/>
                  </a:gdLst>
                  <a:ahLst/>
                  <a:rect l="textAreaLeft" t="textAreaTop" r="textAreaRight" b="textAreaBottom"/>
                  <a:pathLst>
                    <a:path w="192" h="288">
                      <a:moveTo>
                        <a:pt x="0" y="288"/>
                      </a:moveTo>
                      <a:lnTo>
                        <a:pt x="192" y="288"/>
                      </a:lnTo>
                      <a:lnTo>
                        <a:pt x="48" y="0"/>
                      </a:lnTo>
                      <a:lnTo>
                        <a:pt x="0" y="288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Freeform 434"/>
                <p:cNvSpPr/>
                <p:nvPr/>
              </p:nvSpPr>
              <p:spPr>
                <a:xfrm flipV="1" rot="19463400">
                  <a:off x="8636760" y="5567760"/>
                  <a:ext cx="15480" cy="18720"/>
                </a:xfrm>
                <a:custGeom>
                  <a:avLst/>
                  <a:gdLst>
                    <a:gd name="textAreaLeft" fmla="*/ 0 w 15480"/>
                    <a:gd name="textAreaRight" fmla="*/ 15840 w 15480"/>
                    <a:gd name="textAreaTop" fmla="*/ 360 h 18720"/>
                    <a:gd name="textAreaBottom" fmla="*/ 19440 h 18720"/>
                  </a:gdLst>
                  <a:ahLst/>
                  <a:rect l="textAreaLeft" t="textAreaTop" r="textAreaRight" b="textAreaBottom"/>
                  <a:pathLst>
                    <a:path w="192" h="288">
                      <a:moveTo>
                        <a:pt x="0" y="288"/>
                      </a:moveTo>
                      <a:lnTo>
                        <a:pt x="192" y="288"/>
                      </a:lnTo>
                      <a:lnTo>
                        <a:pt x="48" y="0"/>
                      </a:lnTo>
                      <a:lnTo>
                        <a:pt x="0" y="288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Freeform 435"/>
                <p:cNvSpPr/>
                <p:nvPr/>
              </p:nvSpPr>
              <p:spPr>
                <a:xfrm flipH="1" flipV="1" rot="19463400">
                  <a:off x="8709480" y="5561640"/>
                  <a:ext cx="15480" cy="18720"/>
                </a:xfrm>
                <a:custGeom>
                  <a:avLst/>
                  <a:gdLst>
                    <a:gd name="textAreaLeft" fmla="*/ -360 w 15480"/>
                    <a:gd name="textAreaRight" fmla="*/ 15480 w 15480"/>
                    <a:gd name="textAreaTop" fmla="*/ 360 h 18720"/>
                    <a:gd name="textAreaBottom" fmla="*/ 19440 h 18720"/>
                  </a:gdLst>
                  <a:ahLst/>
                  <a:rect l="textAreaLeft" t="textAreaTop" r="textAreaRight" b="textAreaBottom"/>
                  <a:pathLst>
                    <a:path w="192" h="288">
                      <a:moveTo>
                        <a:pt x="0" y="288"/>
                      </a:moveTo>
                      <a:lnTo>
                        <a:pt x="192" y="288"/>
                      </a:lnTo>
                      <a:lnTo>
                        <a:pt x="48" y="0"/>
                      </a:lnTo>
                      <a:lnTo>
                        <a:pt x="0" y="288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1" name="Freeform 436"/>
                <p:cNvSpPr/>
                <p:nvPr/>
              </p:nvSpPr>
              <p:spPr>
                <a:xfrm flipH="1" flipV="1" rot="19463400">
                  <a:off x="8735040" y="5543640"/>
                  <a:ext cx="15480" cy="18720"/>
                </a:xfrm>
                <a:custGeom>
                  <a:avLst/>
                  <a:gdLst>
                    <a:gd name="textAreaLeft" fmla="*/ -360 w 15480"/>
                    <a:gd name="textAreaRight" fmla="*/ 15480 w 15480"/>
                    <a:gd name="textAreaTop" fmla="*/ 360 h 18720"/>
                    <a:gd name="textAreaBottom" fmla="*/ 19440 h 18720"/>
                  </a:gdLst>
                  <a:ahLst/>
                  <a:rect l="textAreaLeft" t="textAreaTop" r="textAreaRight" b="textAreaBottom"/>
                  <a:pathLst>
                    <a:path w="192" h="288">
                      <a:moveTo>
                        <a:pt x="0" y="288"/>
                      </a:moveTo>
                      <a:lnTo>
                        <a:pt x="192" y="288"/>
                      </a:lnTo>
                      <a:lnTo>
                        <a:pt x="48" y="0"/>
                      </a:lnTo>
                      <a:lnTo>
                        <a:pt x="0" y="288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2" name="Freeform 437"/>
                <p:cNvSpPr/>
                <p:nvPr/>
              </p:nvSpPr>
              <p:spPr>
                <a:xfrm flipH="1" flipV="1" rot="19463400">
                  <a:off x="8700480" y="5522040"/>
                  <a:ext cx="15480" cy="18720"/>
                </a:xfrm>
                <a:custGeom>
                  <a:avLst/>
                  <a:gdLst>
                    <a:gd name="textAreaLeft" fmla="*/ -360 w 15480"/>
                    <a:gd name="textAreaRight" fmla="*/ 15480 w 15480"/>
                    <a:gd name="textAreaTop" fmla="*/ 360 h 18720"/>
                    <a:gd name="textAreaBottom" fmla="*/ 19440 h 18720"/>
                  </a:gdLst>
                  <a:ahLst/>
                  <a:rect l="textAreaLeft" t="textAreaTop" r="textAreaRight" b="textAreaBottom"/>
                  <a:pathLst>
                    <a:path w="192" h="288">
                      <a:moveTo>
                        <a:pt x="0" y="288"/>
                      </a:moveTo>
                      <a:lnTo>
                        <a:pt x="192" y="288"/>
                      </a:lnTo>
                      <a:lnTo>
                        <a:pt x="48" y="0"/>
                      </a:lnTo>
                      <a:lnTo>
                        <a:pt x="0" y="288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Freeform 438"/>
                <p:cNvSpPr/>
                <p:nvPr/>
              </p:nvSpPr>
              <p:spPr>
                <a:xfrm flipH="1" flipV="1" rot="19463400">
                  <a:off x="8714880" y="5488200"/>
                  <a:ext cx="15480" cy="18720"/>
                </a:xfrm>
                <a:custGeom>
                  <a:avLst/>
                  <a:gdLst>
                    <a:gd name="textAreaLeft" fmla="*/ -360 w 15480"/>
                    <a:gd name="textAreaRight" fmla="*/ 15480 w 15480"/>
                    <a:gd name="textAreaTop" fmla="*/ 360 h 18720"/>
                    <a:gd name="textAreaBottom" fmla="*/ 19440 h 18720"/>
                  </a:gdLst>
                  <a:ahLst/>
                  <a:rect l="textAreaLeft" t="textAreaTop" r="textAreaRight" b="textAreaBottom"/>
                  <a:pathLst>
                    <a:path w="192" h="288">
                      <a:moveTo>
                        <a:pt x="0" y="288"/>
                      </a:moveTo>
                      <a:lnTo>
                        <a:pt x="192" y="288"/>
                      </a:lnTo>
                      <a:lnTo>
                        <a:pt x="48" y="0"/>
                      </a:lnTo>
                      <a:lnTo>
                        <a:pt x="0" y="288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4" name="Freeform 439"/>
                <p:cNvSpPr/>
                <p:nvPr/>
              </p:nvSpPr>
              <p:spPr>
                <a:xfrm flipH="1" flipV="1" rot="19463400">
                  <a:off x="8692920" y="5457960"/>
                  <a:ext cx="15480" cy="18720"/>
                </a:xfrm>
                <a:custGeom>
                  <a:avLst/>
                  <a:gdLst>
                    <a:gd name="textAreaLeft" fmla="*/ -360 w 15480"/>
                    <a:gd name="textAreaRight" fmla="*/ 15480 w 15480"/>
                    <a:gd name="textAreaTop" fmla="*/ 360 h 18720"/>
                    <a:gd name="textAreaBottom" fmla="*/ 19440 h 18720"/>
                  </a:gdLst>
                  <a:ahLst/>
                  <a:rect l="textAreaLeft" t="textAreaTop" r="textAreaRight" b="textAreaBottom"/>
                  <a:pathLst>
                    <a:path w="192" h="288">
                      <a:moveTo>
                        <a:pt x="0" y="288"/>
                      </a:moveTo>
                      <a:lnTo>
                        <a:pt x="192" y="288"/>
                      </a:lnTo>
                      <a:lnTo>
                        <a:pt x="48" y="0"/>
                      </a:lnTo>
                      <a:lnTo>
                        <a:pt x="0" y="288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5" name="plant"/>
                <p:cNvSpPr/>
                <p:nvPr/>
              </p:nvSpPr>
              <p:spPr>
                <a:xfrm rot="19463400">
                  <a:off x="8560080" y="5407560"/>
                  <a:ext cx="123480" cy="91440"/>
                </a:xfrm>
                <a:custGeom>
                  <a:avLst/>
                  <a:gdLst>
                    <a:gd name="textAreaLeft" fmla="*/ 40320 w 123480"/>
                    <a:gd name="textAreaRight" fmla="*/ 83520 w 123480"/>
                    <a:gd name="textAreaTop" fmla="*/ 42480 h 91440"/>
                    <a:gd name="textAreaBottom" fmla="*/ 57600 h 914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9368" y="9002"/>
                      </a:moveTo>
                      <a:lnTo>
                        <a:pt x="9254" y="8422"/>
                      </a:lnTo>
                      <a:lnTo>
                        <a:pt x="9139" y="7935"/>
                      </a:lnTo>
                      <a:lnTo>
                        <a:pt x="8819" y="7355"/>
                      </a:lnTo>
                      <a:lnTo>
                        <a:pt x="8475" y="6728"/>
                      </a:lnTo>
                      <a:lnTo>
                        <a:pt x="8040" y="6287"/>
                      </a:lnTo>
                      <a:lnTo>
                        <a:pt x="7421" y="5707"/>
                      </a:lnTo>
                      <a:lnTo>
                        <a:pt x="6574" y="5429"/>
                      </a:lnTo>
                      <a:lnTo>
                        <a:pt x="5452" y="5313"/>
                      </a:lnTo>
                      <a:lnTo>
                        <a:pt x="4856" y="5220"/>
                      </a:lnTo>
                      <a:lnTo>
                        <a:pt x="4169" y="5220"/>
                      </a:lnTo>
                      <a:lnTo>
                        <a:pt x="3665" y="5104"/>
                      </a:lnTo>
                      <a:lnTo>
                        <a:pt x="3001" y="4872"/>
                      </a:lnTo>
                      <a:lnTo>
                        <a:pt x="2497" y="4756"/>
                      </a:lnTo>
                      <a:lnTo>
                        <a:pt x="2062" y="4408"/>
                      </a:lnTo>
                      <a:lnTo>
                        <a:pt x="1603" y="4083"/>
                      </a:lnTo>
                      <a:lnTo>
                        <a:pt x="1283" y="3689"/>
                      </a:lnTo>
                      <a:lnTo>
                        <a:pt x="1283" y="4315"/>
                      </a:lnTo>
                      <a:lnTo>
                        <a:pt x="1489" y="5104"/>
                      </a:lnTo>
                      <a:lnTo>
                        <a:pt x="1832" y="6055"/>
                      </a:lnTo>
                      <a:lnTo>
                        <a:pt x="2382" y="6914"/>
                      </a:lnTo>
                      <a:lnTo>
                        <a:pt x="2680" y="7471"/>
                      </a:lnTo>
                      <a:lnTo>
                        <a:pt x="3115" y="7935"/>
                      </a:lnTo>
                      <a:lnTo>
                        <a:pt x="3573" y="8213"/>
                      </a:lnTo>
                      <a:lnTo>
                        <a:pt x="4077" y="8654"/>
                      </a:lnTo>
                      <a:lnTo>
                        <a:pt x="4627" y="9002"/>
                      </a:lnTo>
                      <a:lnTo>
                        <a:pt x="5245" y="9234"/>
                      </a:lnTo>
                      <a:lnTo>
                        <a:pt x="6024" y="9443"/>
                      </a:lnTo>
                      <a:lnTo>
                        <a:pt x="6757" y="9628"/>
                      </a:lnTo>
                      <a:lnTo>
                        <a:pt x="5177" y="10069"/>
                      </a:lnTo>
                      <a:lnTo>
                        <a:pt x="3963" y="10649"/>
                      </a:lnTo>
                      <a:lnTo>
                        <a:pt x="3344" y="11044"/>
                      </a:lnTo>
                      <a:lnTo>
                        <a:pt x="2886" y="11600"/>
                      </a:lnTo>
                      <a:lnTo>
                        <a:pt x="2497" y="12041"/>
                      </a:lnTo>
                      <a:lnTo>
                        <a:pt x="1947" y="12343"/>
                      </a:lnTo>
                      <a:lnTo>
                        <a:pt x="1168" y="12668"/>
                      </a:lnTo>
                      <a:lnTo>
                        <a:pt x="0" y="12900"/>
                      </a:lnTo>
                      <a:lnTo>
                        <a:pt x="435" y="13248"/>
                      </a:lnTo>
                      <a:lnTo>
                        <a:pt x="779" y="13456"/>
                      </a:lnTo>
                      <a:lnTo>
                        <a:pt x="1283" y="13642"/>
                      </a:lnTo>
                      <a:lnTo>
                        <a:pt x="1718" y="13758"/>
                      </a:lnTo>
                      <a:lnTo>
                        <a:pt x="2680" y="13851"/>
                      </a:lnTo>
                      <a:lnTo>
                        <a:pt x="3573" y="13758"/>
                      </a:lnTo>
                      <a:lnTo>
                        <a:pt x="4512" y="13526"/>
                      </a:lnTo>
                      <a:lnTo>
                        <a:pt x="5360" y="13248"/>
                      </a:lnTo>
                      <a:lnTo>
                        <a:pt x="6139" y="12900"/>
                      </a:lnTo>
                      <a:lnTo>
                        <a:pt x="6757" y="12552"/>
                      </a:lnTo>
                      <a:lnTo>
                        <a:pt x="6459" y="13132"/>
                      </a:lnTo>
                      <a:lnTo>
                        <a:pt x="6139" y="13642"/>
                      </a:lnTo>
                      <a:lnTo>
                        <a:pt x="5910" y="14199"/>
                      </a:lnTo>
                      <a:lnTo>
                        <a:pt x="5681" y="14663"/>
                      </a:lnTo>
                      <a:lnTo>
                        <a:pt x="5681" y="15150"/>
                      </a:lnTo>
                      <a:lnTo>
                        <a:pt x="5681" y="15730"/>
                      </a:lnTo>
                      <a:lnTo>
                        <a:pt x="5681" y="16241"/>
                      </a:lnTo>
                      <a:lnTo>
                        <a:pt x="5795" y="16913"/>
                      </a:lnTo>
                      <a:lnTo>
                        <a:pt x="5910" y="17586"/>
                      </a:lnTo>
                      <a:lnTo>
                        <a:pt x="5910" y="18213"/>
                      </a:lnTo>
                      <a:lnTo>
                        <a:pt x="5795" y="18885"/>
                      </a:lnTo>
                      <a:lnTo>
                        <a:pt x="5566" y="19396"/>
                      </a:lnTo>
                      <a:lnTo>
                        <a:pt x="5245" y="19976"/>
                      </a:lnTo>
                      <a:lnTo>
                        <a:pt x="4971" y="20370"/>
                      </a:lnTo>
                      <a:lnTo>
                        <a:pt x="4512" y="20811"/>
                      </a:lnTo>
                      <a:lnTo>
                        <a:pt x="4077" y="21043"/>
                      </a:lnTo>
                      <a:lnTo>
                        <a:pt x="5177" y="20927"/>
                      </a:lnTo>
                      <a:lnTo>
                        <a:pt x="6253" y="20486"/>
                      </a:lnTo>
                      <a:lnTo>
                        <a:pt x="7421" y="19976"/>
                      </a:lnTo>
                      <a:lnTo>
                        <a:pt x="8361" y="19187"/>
                      </a:lnTo>
                      <a:lnTo>
                        <a:pt x="8819" y="18769"/>
                      </a:lnTo>
                      <a:lnTo>
                        <a:pt x="9139" y="18213"/>
                      </a:lnTo>
                      <a:lnTo>
                        <a:pt x="9437" y="17772"/>
                      </a:lnTo>
                      <a:lnTo>
                        <a:pt x="9643" y="17261"/>
                      </a:lnTo>
                      <a:lnTo>
                        <a:pt x="9872" y="16681"/>
                      </a:lnTo>
                      <a:lnTo>
                        <a:pt x="9872" y="16171"/>
                      </a:lnTo>
                      <a:lnTo>
                        <a:pt x="9872" y="15614"/>
                      </a:lnTo>
                      <a:lnTo>
                        <a:pt x="9758" y="15057"/>
                      </a:lnTo>
                      <a:lnTo>
                        <a:pt x="10216" y="15498"/>
                      </a:lnTo>
                      <a:lnTo>
                        <a:pt x="10537" y="16241"/>
                      </a:lnTo>
                      <a:lnTo>
                        <a:pt x="10834" y="17145"/>
                      </a:lnTo>
                      <a:lnTo>
                        <a:pt x="11041" y="18213"/>
                      </a:lnTo>
                      <a:lnTo>
                        <a:pt x="11155" y="19187"/>
                      </a:lnTo>
                      <a:lnTo>
                        <a:pt x="11155" y="20185"/>
                      </a:lnTo>
                      <a:lnTo>
                        <a:pt x="11155" y="20579"/>
                      </a:lnTo>
                      <a:lnTo>
                        <a:pt x="11041" y="21043"/>
                      </a:lnTo>
                      <a:lnTo>
                        <a:pt x="10926" y="21391"/>
                      </a:lnTo>
                      <a:lnTo>
                        <a:pt x="10766" y="21600"/>
                      </a:lnTo>
                      <a:lnTo>
                        <a:pt x="11499" y="21484"/>
                      </a:lnTo>
                      <a:lnTo>
                        <a:pt x="12323" y="21043"/>
                      </a:lnTo>
                      <a:lnTo>
                        <a:pt x="13102" y="20370"/>
                      </a:lnTo>
                      <a:lnTo>
                        <a:pt x="13606" y="19628"/>
                      </a:lnTo>
                      <a:lnTo>
                        <a:pt x="13950" y="19071"/>
                      </a:lnTo>
                      <a:lnTo>
                        <a:pt x="14064" y="18677"/>
                      </a:lnTo>
                      <a:lnTo>
                        <a:pt x="14179" y="18097"/>
                      </a:lnTo>
                      <a:lnTo>
                        <a:pt x="14293" y="17586"/>
                      </a:lnTo>
                      <a:lnTo>
                        <a:pt x="14179" y="16913"/>
                      </a:lnTo>
                      <a:lnTo>
                        <a:pt x="14064" y="16241"/>
                      </a:lnTo>
                      <a:lnTo>
                        <a:pt x="13835" y="15614"/>
                      </a:lnTo>
                      <a:lnTo>
                        <a:pt x="13560" y="14872"/>
                      </a:lnTo>
                      <a:lnTo>
                        <a:pt x="13950" y="14941"/>
                      </a:lnTo>
                      <a:lnTo>
                        <a:pt x="14408" y="15150"/>
                      </a:lnTo>
                      <a:lnTo>
                        <a:pt x="14843" y="15266"/>
                      </a:lnTo>
                      <a:lnTo>
                        <a:pt x="15232" y="15614"/>
                      </a:lnTo>
                      <a:lnTo>
                        <a:pt x="15576" y="15846"/>
                      </a:lnTo>
                      <a:lnTo>
                        <a:pt x="15897" y="16171"/>
                      </a:lnTo>
                      <a:lnTo>
                        <a:pt x="16126" y="16473"/>
                      </a:lnTo>
                      <a:lnTo>
                        <a:pt x="16240" y="16913"/>
                      </a:lnTo>
                      <a:lnTo>
                        <a:pt x="16515" y="17261"/>
                      </a:lnTo>
                      <a:lnTo>
                        <a:pt x="17088" y="17586"/>
                      </a:lnTo>
                      <a:lnTo>
                        <a:pt x="17798" y="17865"/>
                      </a:lnTo>
                      <a:lnTo>
                        <a:pt x="18576" y="18097"/>
                      </a:lnTo>
                      <a:lnTo>
                        <a:pt x="19424" y="18213"/>
                      </a:lnTo>
                      <a:lnTo>
                        <a:pt x="20317" y="18213"/>
                      </a:lnTo>
                      <a:lnTo>
                        <a:pt x="21050" y="18213"/>
                      </a:lnTo>
                      <a:lnTo>
                        <a:pt x="21600" y="17865"/>
                      </a:lnTo>
                      <a:lnTo>
                        <a:pt x="21165" y="17656"/>
                      </a:lnTo>
                      <a:lnTo>
                        <a:pt x="20592" y="17470"/>
                      </a:lnTo>
                      <a:lnTo>
                        <a:pt x="20088" y="17029"/>
                      </a:lnTo>
                      <a:lnTo>
                        <a:pt x="19653" y="16681"/>
                      </a:lnTo>
                      <a:lnTo>
                        <a:pt x="19195" y="16241"/>
                      </a:lnTo>
                      <a:lnTo>
                        <a:pt x="18920" y="15962"/>
                      </a:lnTo>
                      <a:lnTo>
                        <a:pt x="18576" y="15498"/>
                      </a:lnTo>
                      <a:lnTo>
                        <a:pt x="18576" y="15057"/>
                      </a:lnTo>
                      <a:lnTo>
                        <a:pt x="18485" y="14756"/>
                      </a:lnTo>
                      <a:lnTo>
                        <a:pt x="18256" y="14199"/>
                      </a:lnTo>
                      <a:lnTo>
                        <a:pt x="17912" y="13526"/>
                      </a:lnTo>
                      <a:lnTo>
                        <a:pt x="17523" y="13016"/>
                      </a:lnTo>
                      <a:lnTo>
                        <a:pt x="16973" y="12436"/>
                      </a:lnTo>
                      <a:lnTo>
                        <a:pt x="16355" y="12041"/>
                      </a:lnTo>
                      <a:lnTo>
                        <a:pt x="16011" y="11832"/>
                      </a:lnTo>
                      <a:lnTo>
                        <a:pt x="15690" y="11716"/>
                      </a:lnTo>
                      <a:lnTo>
                        <a:pt x="15232" y="11716"/>
                      </a:lnTo>
                      <a:lnTo>
                        <a:pt x="14843" y="11716"/>
                      </a:lnTo>
                      <a:lnTo>
                        <a:pt x="15461" y="11252"/>
                      </a:lnTo>
                      <a:lnTo>
                        <a:pt x="16126" y="10858"/>
                      </a:lnTo>
                      <a:lnTo>
                        <a:pt x="16973" y="10649"/>
                      </a:lnTo>
                      <a:lnTo>
                        <a:pt x="17798" y="10417"/>
                      </a:lnTo>
                      <a:lnTo>
                        <a:pt x="18806" y="10301"/>
                      </a:lnTo>
                      <a:lnTo>
                        <a:pt x="19653" y="10301"/>
                      </a:lnTo>
                      <a:lnTo>
                        <a:pt x="20478" y="10417"/>
                      </a:lnTo>
                      <a:lnTo>
                        <a:pt x="21256" y="10533"/>
                      </a:lnTo>
                      <a:lnTo>
                        <a:pt x="20707" y="9837"/>
                      </a:lnTo>
                      <a:lnTo>
                        <a:pt x="19859" y="9234"/>
                      </a:lnTo>
                      <a:lnTo>
                        <a:pt x="18806" y="8538"/>
                      </a:lnTo>
                      <a:lnTo>
                        <a:pt x="17637" y="8144"/>
                      </a:lnTo>
                      <a:lnTo>
                        <a:pt x="16973" y="8027"/>
                      </a:lnTo>
                      <a:lnTo>
                        <a:pt x="16355" y="7935"/>
                      </a:lnTo>
                      <a:lnTo>
                        <a:pt x="15805" y="7935"/>
                      </a:lnTo>
                      <a:lnTo>
                        <a:pt x="15118" y="8027"/>
                      </a:lnTo>
                      <a:lnTo>
                        <a:pt x="14614" y="8144"/>
                      </a:lnTo>
                      <a:lnTo>
                        <a:pt x="14064" y="8422"/>
                      </a:lnTo>
                      <a:lnTo>
                        <a:pt x="13606" y="8886"/>
                      </a:lnTo>
                      <a:lnTo>
                        <a:pt x="13217" y="9327"/>
                      </a:lnTo>
                      <a:lnTo>
                        <a:pt x="13606" y="8538"/>
                      </a:lnTo>
                      <a:lnTo>
                        <a:pt x="13950" y="7935"/>
                      </a:lnTo>
                      <a:lnTo>
                        <a:pt x="14293" y="7123"/>
                      </a:lnTo>
                      <a:lnTo>
                        <a:pt x="14499" y="6519"/>
                      </a:lnTo>
                      <a:lnTo>
                        <a:pt x="14614" y="5823"/>
                      </a:lnTo>
                      <a:lnTo>
                        <a:pt x="14614" y="5220"/>
                      </a:lnTo>
                      <a:lnTo>
                        <a:pt x="14408" y="4524"/>
                      </a:lnTo>
                      <a:lnTo>
                        <a:pt x="14064" y="3898"/>
                      </a:lnTo>
                      <a:lnTo>
                        <a:pt x="13606" y="3225"/>
                      </a:lnTo>
                      <a:lnTo>
                        <a:pt x="13331" y="2598"/>
                      </a:lnTo>
                      <a:lnTo>
                        <a:pt x="13102" y="2042"/>
                      </a:lnTo>
                      <a:lnTo>
                        <a:pt x="12896" y="1485"/>
                      </a:lnTo>
                      <a:lnTo>
                        <a:pt x="12781" y="1090"/>
                      </a:lnTo>
                      <a:lnTo>
                        <a:pt x="12667" y="626"/>
                      </a:lnTo>
                      <a:lnTo>
                        <a:pt x="12667" y="278"/>
                      </a:lnTo>
                      <a:lnTo>
                        <a:pt x="12667" y="0"/>
                      </a:lnTo>
                      <a:lnTo>
                        <a:pt x="12163" y="394"/>
                      </a:lnTo>
                      <a:lnTo>
                        <a:pt x="11728" y="974"/>
                      </a:lnTo>
                      <a:lnTo>
                        <a:pt x="11155" y="1601"/>
                      </a:lnTo>
                      <a:lnTo>
                        <a:pt x="10766" y="2390"/>
                      </a:lnTo>
                      <a:lnTo>
                        <a:pt x="10330" y="3109"/>
                      </a:lnTo>
                      <a:lnTo>
                        <a:pt x="10101" y="3898"/>
                      </a:lnTo>
                      <a:lnTo>
                        <a:pt x="9987" y="4524"/>
                      </a:lnTo>
                      <a:lnTo>
                        <a:pt x="10101" y="5220"/>
                      </a:lnTo>
                      <a:lnTo>
                        <a:pt x="10216" y="5823"/>
                      </a:lnTo>
                      <a:lnTo>
                        <a:pt x="10330" y="6403"/>
                      </a:lnTo>
                      <a:lnTo>
                        <a:pt x="10330" y="6914"/>
                      </a:lnTo>
                      <a:lnTo>
                        <a:pt x="10216" y="7471"/>
                      </a:lnTo>
                      <a:lnTo>
                        <a:pt x="10101" y="7935"/>
                      </a:lnTo>
                      <a:lnTo>
                        <a:pt x="9872" y="8329"/>
                      </a:lnTo>
                      <a:lnTo>
                        <a:pt x="9643" y="8654"/>
                      </a:lnTo>
                      <a:lnTo>
                        <a:pt x="9368" y="9002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6" name="Group 441"/>
              <p:cNvGrpSpPr/>
              <p:nvPr/>
            </p:nvGrpSpPr>
            <p:grpSpPr>
              <a:xfrm>
                <a:off x="8406720" y="5419080"/>
                <a:ext cx="303840" cy="321120"/>
                <a:chOff x="8406720" y="5419080"/>
                <a:chExt cx="303840" cy="321120"/>
              </a:xfrm>
            </p:grpSpPr>
            <p:grpSp>
              <p:nvGrpSpPr>
                <p:cNvPr id="557" name="Group 442"/>
                <p:cNvGrpSpPr/>
                <p:nvPr/>
              </p:nvGrpSpPr>
              <p:grpSpPr>
                <a:xfrm>
                  <a:off x="8406720" y="5437080"/>
                  <a:ext cx="303840" cy="303120"/>
                  <a:chOff x="8406720" y="5437080"/>
                  <a:chExt cx="303840" cy="303120"/>
                </a:xfrm>
              </p:grpSpPr>
              <p:sp>
                <p:nvSpPr>
                  <p:cNvPr id="558" name="Freeform 443"/>
                  <p:cNvSpPr/>
                  <p:nvPr/>
                </p:nvSpPr>
                <p:spPr>
                  <a:xfrm rot="8513400">
                    <a:off x="8557200" y="5443560"/>
                    <a:ext cx="96840" cy="216000"/>
                  </a:xfrm>
                  <a:custGeom>
                    <a:avLst/>
                    <a:gdLst>
                      <a:gd name="textAreaLeft" fmla="*/ 0 w 96840"/>
                      <a:gd name="textAreaRight" fmla="*/ 97200 w 96840"/>
                      <a:gd name="textAreaTop" fmla="*/ 0 h 216000"/>
                      <a:gd name="textAreaBottom" fmla="*/ 216360 h 216000"/>
                    </a:gdLst>
                    <a:ahLst/>
                    <a:rect l="textAreaLeft" t="textAreaTop" r="textAreaRight" b="textAreaBottom"/>
                    <a:pathLst>
                      <a:path w="296" h="552">
                        <a:moveTo>
                          <a:pt x="296" y="528"/>
                        </a:moveTo>
                        <a:cubicBezTo>
                          <a:pt x="224" y="540"/>
                          <a:pt x="152" y="552"/>
                          <a:pt x="104" y="528"/>
                        </a:cubicBezTo>
                        <a:cubicBezTo>
                          <a:pt x="56" y="504"/>
                          <a:pt x="16" y="440"/>
                          <a:pt x="8" y="384"/>
                        </a:cubicBezTo>
                        <a:cubicBezTo>
                          <a:pt x="0" y="328"/>
                          <a:pt x="24" y="248"/>
                          <a:pt x="56" y="192"/>
                        </a:cubicBezTo>
                        <a:cubicBezTo>
                          <a:pt x="88" y="136"/>
                          <a:pt x="160" y="80"/>
                          <a:pt x="200" y="48"/>
                        </a:cubicBezTo>
                        <a:cubicBezTo>
                          <a:pt x="240" y="16"/>
                          <a:pt x="268" y="8"/>
                          <a:pt x="296" y="0"/>
                        </a:cubicBezTo>
                      </a:path>
                    </a:pathLst>
                  </a:custGeom>
                  <a:solidFill>
                    <a:srgbClr val="ff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9" name="Freeform 444"/>
                  <p:cNvSpPr/>
                  <p:nvPr/>
                </p:nvSpPr>
                <p:spPr>
                  <a:xfrm flipH="1" rot="8512800">
                    <a:off x="8459640" y="5509080"/>
                    <a:ext cx="122760" cy="216000"/>
                  </a:xfrm>
                  <a:custGeom>
                    <a:avLst/>
                    <a:gdLst>
                      <a:gd name="textAreaLeft" fmla="*/ -360 w 122760"/>
                      <a:gd name="textAreaRight" fmla="*/ 122760 w 122760"/>
                      <a:gd name="textAreaTop" fmla="*/ 0 h 216000"/>
                      <a:gd name="textAreaBottom" fmla="*/ 216360 h 216000"/>
                    </a:gdLst>
                    <a:ahLst/>
                    <a:rect l="textAreaLeft" t="textAreaTop" r="textAreaRight" b="textAreaBottom"/>
                    <a:pathLst>
                      <a:path w="296" h="552">
                        <a:moveTo>
                          <a:pt x="296" y="528"/>
                        </a:moveTo>
                        <a:cubicBezTo>
                          <a:pt x="224" y="540"/>
                          <a:pt x="152" y="552"/>
                          <a:pt x="104" y="528"/>
                        </a:cubicBezTo>
                        <a:cubicBezTo>
                          <a:pt x="56" y="504"/>
                          <a:pt x="16" y="440"/>
                          <a:pt x="8" y="384"/>
                        </a:cubicBezTo>
                        <a:cubicBezTo>
                          <a:pt x="0" y="328"/>
                          <a:pt x="24" y="248"/>
                          <a:pt x="56" y="192"/>
                        </a:cubicBezTo>
                        <a:cubicBezTo>
                          <a:pt x="88" y="136"/>
                          <a:pt x="160" y="80"/>
                          <a:pt x="200" y="48"/>
                        </a:cubicBezTo>
                        <a:cubicBezTo>
                          <a:pt x="240" y="16"/>
                          <a:pt x="268" y="8"/>
                          <a:pt x="296" y="0"/>
                        </a:cubicBezTo>
                      </a:path>
                    </a:pathLst>
                  </a:custGeom>
                  <a:solidFill>
                    <a:srgbClr val="ff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60" name="Freeform 445"/>
                <p:cNvSpPr/>
                <p:nvPr/>
              </p:nvSpPr>
              <p:spPr>
                <a:xfrm flipV="1" rot="19463400">
                  <a:off x="8546400" y="5529960"/>
                  <a:ext cx="15480" cy="18720"/>
                </a:xfrm>
                <a:custGeom>
                  <a:avLst/>
                  <a:gdLst>
                    <a:gd name="textAreaLeft" fmla="*/ 0 w 15480"/>
                    <a:gd name="textAreaRight" fmla="*/ 15840 w 15480"/>
                    <a:gd name="textAreaTop" fmla="*/ 360 h 18720"/>
                    <a:gd name="textAreaBottom" fmla="*/ 19440 h 18720"/>
                  </a:gdLst>
                  <a:ahLst/>
                  <a:rect l="textAreaLeft" t="textAreaTop" r="textAreaRight" b="textAreaBottom"/>
                  <a:pathLst>
                    <a:path w="192" h="288">
                      <a:moveTo>
                        <a:pt x="0" y="288"/>
                      </a:moveTo>
                      <a:lnTo>
                        <a:pt x="192" y="288"/>
                      </a:lnTo>
                      <a:lnTo>
                        <a:pt x="48" y="0"/>
                      </a:lnTo>
                      <a:lnTo>
                        <a:pt x="0" y="288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1" name="Freeform 446"/>
                <p:cNvSpPr/>
                <p:nvPr/>
              </p:nvSpPr>
              <p:spPr>
                <a:xfrm flipV="1" rot="19463400">
                  <a:off x="8471520" y="5560920"/>
                  <a:ext cx="15480" cy="18720"/>
                </a:xfrm>
                <a:custGeom>
                  <a:avLst/>
                  <a:gdLst>
                    <a:gd name="textAreaLeft" fmla="*/ 0 w 15480"/>
                    <a:gd name="textAreaRight" fmla="*/ 15840 w 15480"/>
                    <a:gd name="textAreaTop" fmla="*/ 360 h 18720"/>
                    <a:gd name="textAreaBottom" fmla="*/ 19440 h 18720"/>
                  </a:gdLst>
                  <a:ahLst/>
                  <a:rect l="textAreaLeft" t="textAreaTop" r="textAreaRight" b="textAreaBottom"/>
                  <a:pathLst>
                    <a:path w="192" h="288">
                      <a:moveTo>
                        <a:pt x="0" y="288"/>
                      </a:moveTo>
                      <a:lnTo>
                        <a:pt x="192" y="288"/>
                      </a:lnTo>
                      <a:lnTo>
                        <a:pt x="48" y="0"/>
                      </a:lnTo>
                      <a:lnTo>
                        <a:pt x="0" y="288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2" name="Freeform 447"/>
                <p:cNvSpPr/>
                <p:nvPr/>
              </p:nvSpPr>
              <p:spPr>
                <a:xfrm flipV="1" rot="19463400">
                  <a:off x="8495280" y="5566680"/>
                  <a:ext cx="15480" cy="18720"/>
                </a:xfrm>
                <a:custGeom>
                  <a:avLst/>
                  <a:gdLst>
                    <a:gd name="textAreaLeft" fmla="*/ 0 w 15480"/>
                    <a:gd name="textAreaRight" fmla="*/ 15840 w 15480"/>
                    <a:gd name="textAreaTop" fmla="*/ 360 h 18720"/>
                    <a:gd name="textAreaBottom" fmla="*/ 19440 h 18720"/>
                  </a:gdLst>
                  <a:ahLst/>
                  <a:rect l="textAreaLeft" t="textAreaTop" r="textAreaRight" b="textAreaBottom"/>
                  <a:pathLst>
                    <a:path w="192" h="288">
                      <a:moveTo>
                        <a:pt x="0" y="288"/>
                      </a:moveTo>
                      <a:lnTo>
                        <a:pt x="192" y="288"/>
                      </a:lnTo>
                      <a:lnTo>
                        <a:pt x="48" y="0"/>
                      </a:lnTo>
                      <a:lnTo>
                        <a:pt x="0" y="288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3" name="Freeform 448"/>
                <p:cNvSpPr/>
                <p:nvPr/>
              </p:nvSpPr>
              <p:spPr>
                <a:xfrm flipV="1" rot="19463400">
                  <a:off x="8531640" y="5563800"/>
                  <a:ext cx="15480" cy="18720"/>
                </a:xfrm>
                <a:custGeom>
                  <a:avLst/>
                  <a:gdLst>
                    <a:gd name="textAreaLeft" fmla="*/ 0 w 15480"/>
                    <a:gd name="textAreaRight" fmla="*/ 15840 w 15480"/>
                    <a:gd name="textAreaTop" fmla="*/ 360 h 18720"/>
                    <a:gd name="textAreaBottom" fmla="*/ 19440 h 18720"/>
                  </a:gdLst>
                  <a:ahLst/>
                  <a:rect l="textAreaLeft" t="textAreaTop" r="textAreaRight" b="textAreaBottom"/>
                  <a:pathLst>
                    <a:path w="192" h="288">
                      <a:moveTo>
                        <a:pt x="0" y="288"/>
                      </a:moveTo>
                      <a:lnTo>
                        <a:pt x="192" y="288"/>
                      </a:lnTo>
                      <a:lnTo>
                        <a:pt x="48" y="0"/>
                      </a:lnTo>
                      <a:lnTo>
                        <a:pt x="0" y="288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4" name="Freeform 449"/>
                <p:cNvSpPr/>
                <p:nvPr/>
              </p:nvSpPr>
              <p:spPr>
                <a:xfrm flipV="1" rot="19463400">
                  <a:off x="8541000" y="5603400"/>
                  <a:ext cx="15480" cy="18720"/>
                </a:xfrm>
                <a:custGeom>
                  <a:avLst/>
                  <a:gdLst>
                    <a:gd name="textAreaLeft" fmla="*/ 0 w 15480"/>
                    <a:gd name="textAreaRight" fmla="*/ 15840 w 15480"/>
                    <a:gd name="textAreaTop" fmla="*/ 360 h 18720"/>
                    <a:gd name="textAreaBottom" fmla="*/ 19440 h 18720"/>
                  </a:gdLst>
                  <a:ahLst/>
                  <a:rect l="textAreaLeft" t="textAreaTop" r="textAreaRight" b="textAreaBottom"/>
                  <a:pathLst>
                    <a:path w="192" h="288">
                      <a:moveTo>
                        <a:pt x="0" y="288"/>
                      </a:moveTo>
                      <a:lnTo>
                        <a:pt x="192" y="288"/>
                      </a:lnTo>
                      <a:lnTo>
                        <a:pt x="48" y="0"/>
                      </a:lnTo>
                      <a:lnTo>
                        <a:pt x="0" y="288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5" name="Freeform 450"/>
                <p:cNvSpPr/>
                <p:nvPr/>
              </p:nvSpPr>
              <p:spPr>
                <a:xfrm flipV="1" rot="19463400">
                  <a:off x="8538840" y="5627880"/>
                  <a:ext cx="15480" cy="18720"/>
                </a:xfrm>
                <a:custGeom>
                  <a:avLst/>
                  <a:gdLst>
                    <a:gd name="textAreaLeft" fmla="*/ 0 w 15480"/>
                    <a:gd name="textAreaRight" fmla="*/ 15840 w 15480"/>
                    <a:gd name="textAreaTop" fmla="*/ 360 h 18720"/>
                    <a:gd name="textAreaBottom" fmla="*/ 19440 h 18720"/>
                  </a:gdLst>
                  <a:ahLst/>
                  <a:rect l="textAreaLeft" t="textAreaTop" r="textAreaRight" b="textAreaBottom"/>
                  <a:pathLst>
                    <a:path w="192" h="288">
                      <a:moveTo>
                        <a:pt x="0" y="288"/>
                      </a:moveTo>
                      <a:lnTo>
                        <a:pt x="192" y="288"/>
                      </a:lnTo>
                      <a:lnTo>
                        <a:pt x="48" y="0"/>
                      </a:lnTo>
                      <a:lnTo>
                        <a:pt x="0" y="288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6" name="Freeform 451"/>
                <p:cNvSpPr/>
                <p:nvPr/>
              </p:nvSpPr>
              <p:spPr>
                <a:xfrm flipV="1" rot="19463400">
                  <a:off x="8562600" y="5634000"/>
                  <a:ext cx="15480" cy="18720"/>
                </a:xfrm>
                <a:custGeom>
                  <a:avLst/>
                  <a:gdLst>
                    <a:gd name="textAreaLeft" fmla="*/ 0 w 15480"/>
                    <a:gd name="textAreaRight" fmla="*/ 15840 w 15480"/>
                    <a:gd name="textAreaTop" fmla="*/ 360 h 18720"/>
                    <a:gd name="textAreaBottom" fmla="*/ 19440 h 18720"/>
                  </a:gdLst>
                  <a:ahLst/>
                  <a:rect l="textAreaLeft" t="textAreaTop" r="textAreaRight" b="textAreaBottom"/>
                  <a:pathLst>
                    <a:path w="192" h="288">
                      <a:moveTo>
                        <a:pt x="0" y="288"/>
                      </a:moveTo>
                      <a:lnTo>
                        <a:pt x="192" y="288"/>
                      </a:lnTo>
                      <a:lnTo>
                        <a:pt x="48" y="0"/>
                      </a:lnTo>
                      <a:lnTo>
                        <a:pt x="0" y="288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7" name="Freeform 452"/>
                <p:cNvSpPr/>
                <p:nvPr/>
              </p:nvSpPr>
              <p:spPr>
                <a:xfrm flipV="1" rot="19463400">
                  <a:off x="8599320" y="5631120"/>
                  <a:ext cx="15480" cy="18720"/>
                </a:xfrm>
                <a:custGeom>
                  <a:avLst/>
                  <a:gdLst>
                    <a:gd name="textAreaLeft" fmla="*/ 0 w 15480"/>
                    <a:gd name="textAreaRight" fmla="*/ 15840 w 15480"/>
                    <a:gd name="textAreaTop" fmla="*/ 360 h 18720"/>
                    <a:gd name="textAreaBottom" fmla="*/ 19440 h 18720"/>
                  </a:gdLst>
                  <a:ahLst/>
                  <a:rect l="textAreaLeft" t="textAreaTop" r="textAreaRight" b="textAreaBottom"/>
                  <a:pathLst>
                    <a:path w="192" h="288">
                      <a:moveTo>
                        <a:pt x="0" y="288"/>
                      </a:moveTo>
                      <a:lnTo>
                        <a:pt x="192" y="288"/>
                      </a:lnTo>
                      <a:lnTo>
                        <a:pt x="48" y="0"/>
                      </a:lnTo>
                      <a:lnTo>
                        <a:pt x="0" y="288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8" name="Freeform 453"/>
                <p:cNvSpPr/>
                <p:nvPr/>
              </p:nvSpPr>
              <p:spPr>
                <a:xfrm flipV="1" rot="19463400">
                  <a:off x="8480520" y="5600160"/>
                  <a:ext cx="15480" cy="18720"/>
                </a:xfrm>
                <a:custGeom>
                  <a:avLst/>
                  <a:gdLst>
                    <a:gd name="textAreaLeft" fmla="*/ 0 w 15480"/>
                    <a:gd name="textAreaRight" fmla="*/ 15840 w 15480"/>
                    <a:gd name="textAreaTop" fmla="*/ 360 h 18720"/>
                    <a:gd name="textAreaBottom" fmla="*/ 19440 h 18720"/>
                  </a:gdLst>
                  <a:ahLst/>
                  <a:rect l="textAreaLeft" t="textAreaTop" r="textAreaRight" b="textAreaBottom"/>
                  <a:pathLst>
                    <a:path w="192" h="288">
                      <a:moveTo>
                        <a:pt x="0" y="288"/>
                      </a:moveTo>
                      <a:lnTo>
                        <a:pt x="192" y="288"/>
                      </a:lnTo>
                      <a:lnTo>
                        <a:pt x="48" y="0"/>
                      </a:lnTo>
                      <a:lnTo>
                        <a:pt x="0" y="288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9" name="Freeform 454"/>
                <p:cNvSpPr/>
                <p:nvPr/>
              </p:nvSpPr>
              <p:spPr>
                <a:xfrm flipV="1" rot="19463400">
                  <a:off x="8504280" y="5606640"/>
                  <a:ext cx="15480" cy="18720"/>
                </a:xfrm>
                <a:custGeom>
                  <a:avLst/>
                  <a:gdLst>
                    <a:gd name="textAreaLeft" fmla="*/ 0 w 15480"/>
                    <a:gd name="textAreaRight" fmla="*/ 15840 w 15480"/>
                    <a:gd name="textAreaTop" fmla="*/ 360 h 18720"/>
                    <a:gd name="textAreaBottom" fmla="*/ 19440 h 18720"/>
                  </a:gdLst>
                  <a:ahLst/>
                  <a:rect l="textAreaLeft" t="textAreaTop" r="textAreaRight" b="textAreaBottom"/>
                  <a:pathLst>
                    <a:path w="192" h="288">
                      <a:moveTo>
                        <a:pt x="0" y="288"/>
                      </a:moveTo>
                      <a:lnTo>
                        <a:pt x="192" y="288"/>
                      </a:lnTo>
                      <a:lnTo>
                        <a:pt x="48" y="0"/>
                      </a:lnTo>
                      <a:lnTo>
                        <a:pt x="0" y="288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0" name="Freeform 455"/>
                <p:cNvSpPr/>
                <p:nvPr/>
              </p:nvSpPr>
              <p:spPr>
                <a:xfrm flipH="1" flipV="1" rot="19463400">
                  <a:off x="8577000" y="5600880"/>
                  <a:ext cx="15480" cy="18720"/>
                </a:xfrm>
                <a:custGeom>
                  <a:avLst/>
                  <a:gdLst>
                    <a:gd name="textAreaLeft" fmla="*/ -360 w 15480"/>
                    <a:gd name="textAreaRight" fmla="*/ 15480 w 15480"/>
                    <a:gd name="textAreaTop" fmla="*/ 360 h 18720"/>
                    <a:gd name="textAreaBottom" fmla="*/ 19440 h 18720"/>
                  </a:gdLst>
                  <a:ahLst/>
                  <a:rect l="textAreaLeft" t="textAreaTop" r="textAreaRight" b="textAreaBottom"/>
                  <a:pathLst>
                    <a:path w="192" h="288">
                      <a:moveTo>
                        <a:pt x="0" y="288"/>
                      </a:moveTo>
                      <a:lnTo>
                        <a:pt x="192" y="288"/>
                      </a:lnTo>
                      <a:lnTo>
                        <a:pt x="48" y="0"/>
                      </a:lnTo>
                      <a:lnTo>
                        <a:pt x="0" y="288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1" name="Freeform 456"/>
                <p:cNvSpPr/>
                <p:nvPr/>
              </p:nvSpPr>
              <p:spPr>
                <a:xfrm flipH="1" flipV="1" rot="19463400">
                  <a:off x="8602560" y="5582520"/>
                  <a:ext cx="15480" cy="18720"/>
                </a:xfrm>
                <a:custGeom>
                  <a:avLst/>
                  <a:gdLst>
                    <a:gd name="textAreaLeft" fmla="*/ -360 w 15480"/>
                    <a:gd name="textAreaRight" fmla="*/ 15480 w 15480"/>
                    <a:gd name="textAreaTop" fmla="*/ 360 h 18720"/>
                    <a:gd name="textAreaBottom" fmla="*/ 19440 h 18720"/>
                  </a:gdLst>
                  <a:ahLst/>
                  <a:rect l="textAreaLeft" t="textAreaTop" r="textAreaRight" b="textAreaBottom"/>
                  <a:pathLst>
                    <a:path w="192" h="288">
                      <a:moveTo>
                        <a:pt x="0" y="288"/>
                      </a:moveTo>
                      <a:lnTo>
                        <a:pt x="192" y="288"/>
                      </a:lnTo>
                      <a:lnTo>
                        <a:pt x="48" y="0"/>
                      </a:lnTo>
                      <a:lnTo>
                        <a:pt x="0" y="288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2" name="Freeform 457"/>
                <p:cNvSpPr/>
                <p:nvPr/>
              </p:nvSpPr>
              <p:spPr>
                <a:xfrm flipH="1" flipV="1" rot="19463400">
                  <a:off x="8568000" y="5560920"/>
                  <a:ext cx="15480" cy="18720"/>
                </a:xfrm>
                <a:custGeom>
                  <a:avLst/>
                  <a:gdLst>
                    <a:gd name="textAreaLeft" fmla="*/ -360 w 15480"/>
                    <a:gd name="textAreaRight" fmla="*/ 15480 w 15480"/>
                    <a:gd name="textAreaTop" fmla="*/ 360 h 18720"/>
                    <a:gd name="textAreaBottom" fmla="*/ 19440 h 18720"/>
                  </a:gdLst>
                  <a:ahLst/>
                  <a:rect l="textAreaLeft" t="textAreaTop" r="textAreaRight" b="textAreaBottom"/>
                  <a:pathLst>
                    <a:path w="192" h="288">
                      <a:moveTo>
                        <a:pt x="0" y="288"/>
                      </a:moveTo>
                      <a:lnTo>
                        <a:pt x="192" y="288"/>
                      </a:lnTo>
                      <a:lnTo>
                        <a:pt x="48" y="0"/>
                      </a:lnTo>
                      <a:lnTo>
                        <a:pt x="0" y="288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3" name="Freeform 458"/>
                <p:cNvSpPr/>
                <p:nvPr/>
              </p:nvSpPr>
              <p:spPr>
                <a:xfrm flipH="1" flipV="1" rot="19463400">
                  <a:off x="8582400" y="5527440"/>
                  <a:ext cx="15480" cy="18720"/>
                </a:xfrm>
                <a:custGeom>
                  <a:avLst/>
                  <a:gdLst>
                    <a:gd name="textAreaLeft" fmla="*/ -360 w 15480"/>
                    <a:gd name="textAreaRight" fmla="*/ 15480 w 15480"/>
                    <a:gd name="textAreaTop" fmla="*/ 360 h 18720"/>
                    <a:gd name="textAreaBottom" fmla="*/ 19440 h 18720"/>
                  </a:gdLst>
                  <a:ahLst/>
                  <a:rect l="textAreaLeft" t="textAreaTop" r="textAreaRight" b="textAreaBottom"/>
                  <a:pathLst>
                    <a:path w="192" h="288">
                      <a:moveTo>
                        <a:pt x="0" y="288"/>
                      </a:moveTo>
                      <a:lnTo>
                        <a:pt x="192" y="288"/>
                      </a:lnTo>
                      <a:lnTo>
                        <a:pt x="48" y="0"/>
                      </a:lnTo>
                      <a:lnTo>
                        <a:pt x="0" y="288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4" name="Freeform 459"/>
                <p:cNvSpPr/>
                <p:nvPr/>
              </p:nvSpPr>
              <p:spPr>
                <a:xfrm flipH="1" flipV="1" rot="19463400">
                  <a:off x="8560800" y="5496840"/>
                  <a:ext cx="15480" cy="18720"/>
                </a:xfrm>
                <a:custGeom>
                  <a:avLst/>
                  <a:gdLst>
                    <a:gd name="textAreaLeft" fmla="*/ -360 w 15480"/>
                    <a:gd name="textAreaRight" fmla="*/ 15480 w 15480"/>
                    <a:gd name="textAreaTop" fmla="*/ 360 h 18720"/>
                    <a:gd name="textAreaBottom" fmla="*/ 19440 h 18720"/>
                  </a:gdLst>
                  <a:ahLst/>
                  <a:rect l="textAreaLeft" t="textAreaTop" r="textAreaRight" b="textAreaBottom"/>
                  <a:pathLst>
                    <a:path w="192" h="288">
                      <a:moveTo>
                        <a:pt x="0" y="288"/>
                      </a:moveTo>
                      <a:lnTo>
                        <a:pt x="192" y="288"/>
                      </a:lnTo>
                      <a:lnTo>
                        <a:pt x="48" y="0"/>
                      </a:lnTo>
                      <a:lnTo>
                        <a:pt x="0" y="288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5" name="plant"/>
                <p:cNvSpPr/>
                <p:nvPr/>
              </p:nvSpPr>
              <p:spPr>
                <a:xfrm rot="19463400">
                  <a:off x="8427600" y="5446440"/>
                  <a:ext cx="123480" cy="91440"/>
                </a:xfrm>
                <a:custGeom>
                  <a:avLst/>
                  <a:gdLst>
                    <a:gd name="textAreaLeft" fmla="*/ 40320 w 123480"/>
                    <a:gd name="textAreaRight" fmla="*/ 83520 w 123480"/>
                    <a:gd name="textAreaTop" fmla="*/ 42480 h 91440"/>
                    <a:gd name="textAreaBottom" fmla="*/ 57600 h 914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9368" y="9002"/>
                      </a:moveTo>
                      <a:lnTo>
                        <a:pt x="9254" y="8422"/>
                      </a:lnTo>
                      <a:lnTo>
                        <a:pt x="9139" y="7935"/>
                      </a:lnTo>
                      <a:lnTo>
                        <a:pt x="8819" y="7355"/>
                      </a:lnTo>
                      <a:lnTo>
                        <a:pt x="8475" y="6728"/>
                      </a:lnTo>
                      <a:lnTo>
                        <a:pt x="8040" y="6287"/>
                      </a:lnTo>
                      <a:lnTo>
                        <a:pt x="7421" y="5707"/>
                      </a:lnTo>
                      <a:lnTo>
                        <a:pt x="6574" y="5429"/>
                      </a:lnTo>
                      <a:lnTo>
                        <a:pt x="5452" y="5313"/>
                      </a:lnTo>
                      <a:lnTo>
                        <a:pt x="4856" y="5220"/>
                      </a:lnTo>
                      <a:lnTo>
                        <a:pt x="4169" y="5220"/>
                      </a:lnTo>
                      <a:lnTo>
                        <a:pt x="3665" y="5104"/>
                      </a:lnTo>
                      <a:lnTo>
                        <a:pt x="3001" y="4872"/>
                      </a:lnTo>
                      <a:lnTo>
                        <a:pt x="2497" y="4756"/>
                      </a:lnTo>
                      <a:lnTo>
                        <a:pt x="2062" y="4408"/>
                      </a:lnTo>
                      <a:lnTo>
                        <a:pt x="1603" y="4083"/>
                      </a:lnTo>
                      <a:lnTo>
                        <a:pt x="1283" y="3689"/>
                      </a:lnTo>
                      <a:lnTo>
                        <a:pt x="1283" y="4315"/>
                      </a:lnTo>
                      <a:lnTo>
                        <a:pt x="1489" y="5104"/>
                      </a:lnTo>
                      <a:lnTo>
                        <a:pt x="1832" y="6055"/>
                      </a:lnTo>
                      <a:lnTo>
                        <a:pt x="2382" y="6914"/>
                      </a:lnTo>
                      <a:lnTo>
                        <a:pt x="2680" y="7471"/>
                      </a:lnTo>
                      <a:lnTo>
                        <a:pt x="3115" y="7935"/>
                      </a:lnTo>
                      <a:lnTo>
                        <a:pt x="3573" y="8213"/>
                      </a:lnTo>
                      <a:lnTo>
                        <a:pt x="4077" y="8654"/>
                      </a:lnTo>
                      <a:lnTo>
                        <a:pt x="4627" y="9002"/>
                      </a:lnTo>
                      <a:lnTo>
                        <a:pt x="5245" y="9234"/>
                      </a:lnTo>
                      <a:lnTo>
                        <a:pt x="6024" y="9443"/>
                      </a:lnTo>
                      <a:lnTo>
                        <a:pt x="6757" y="9628"/>
                      </a:lnTo>
                      <a:lnTo>
                        <a:pt x="5177" y="10069"/>
                      </a:lnTo>
                      <a:lnTo>
                        <a:pt x="3963" y="10649"/>
                      </a:lnTo>
                      <a:lnTo>
                        <a:pt x="3344" y="11044"/>
                      </a:lnTo>
                      <a:lnTo>
                        <a:pt x="2886" y="11600"/>
                      </a:lnTo>
                      <a:lnTo>
                        <a:pt x="2497" y="12041"/>
                      </a:lnTo>
                      <a:lnTo>
                        <a:pt x="1947" y="12343"/>
                      </a:lnTo>
                      <a:lnTo>
                        <a:pt x="1168" y="12668"/>
                      </a:lnTo>
                      <a:lnTo>
                        <a:pt x="0" y="12900"/>
                      </a:lnTo>
                      <a:lnTo>
                        <a:pt x="435" y="13248"/>
                      </a:lnTo>
                      <a:lnTo>
                        <a:pt x="779" y="13456"/>
                      </a:lnTo>
                      <a:lnTo>
                        <a:pt x="1283" y="13642"/>
                      </a:lnTo>
                      <a:lnTo>
                        <a:pt x="1718" y="13758"/>
                      </a:lnTo>
                      <a:lnTo>
                        <a:pt x="2680" y="13851"/>
                      </a:lnTo>
                      <a:lnTo>
                        <a:pt x="3573" y="13758"/>
                      </a:lnTo>
                      <a:lnTo>
                        <a:pt x="4512" y="13526"/>
                      </a:lnTo>
                      <a:lnTo>
                        <a:pt x="5360" y="13248"/>
                      </a:lnTo>
                      <a:lnTo>
                        <a:pt x="6139" y="12900"/>
                      </a:lnTo>
                      <a:lnTo>
                        <a:pt x="6757" y="12552"/>
                      </a:lnTo>
                      <a:lnTo>
                        <a:pt x="6459" y="13132"/>
                      </a:lnTo>
                      <a:lnTo>
                        <a:pt x="6139" y="13642"/>
                      </a:lnTo>
                      <a:lnTo>
                        <a:pt x="5910" y="14199"/>
                      </a:lnTo>
                      <a:lnTo>
                        <a:pt x="5681" y="14663"/>
                      </a:lnTo>
                      <a:lnTo>
                        <a:pt x="5681" y="15150"/>
                      </a:lnTo>
                      <a:lnTo>
                        <a:pt x="5681" y="15730"/>
                      </a:lnTo>
                      <a:lnTo>
                        <a:pt x="5681" y="16241"/>
                      </a:lnTo>
                      <a:lnTo>
                        <a:pt x="5795" y="16913"/>
                      </a:lnTo>
                      <a:lnTo>
                        <a:pt x="5910" y="17586"/>
                      </a:lnTo>
                      <a:lnTo>
                        <a:pt x="5910" y="18213"/>
                      </a:lnTo>
                      <a:lnTo>
                        <a:pt x="5795" y="18885"/>
                      </a:lnTo>
                      <a:lnTo>
                        <a:pt x="5566" y="19396"/>
                      </a:lnTo>
                      <a:lnTo>
                        <a:pt x="5245" y="19976"/>
                      </a:lnTo>
                      <a:lnTo>
                        <a:pt x="4971" y="20370"/>
                      </a:lnTo>
                      <a:lnTo>
                        <a:pt x="4512" y="20811"/>
                      </a:lnTo>
                      <a:lnTo>
                        <a:pt x="4077" y="21043"/>
                      </a:lnTo>
                      <a:lnTo>
                        <a:pt x="5177" y="20927"/>
                      </a:lnTo>
                      <a:lnTo>
                        <a:pt x="6253" y="20486"/>
                      </a:lnTo>
                      <a:lnTo>
                        <a:pt x="7421" y="19976"/>
                      </a:lnTo>
                      <a:lnTo>
                        <a:pt x="8361" y="19187"/>
                      </a:lnTo>
                      <a:lnTo>
                        <a:pt x="8819" y="18769"/>
                      </a:lnTo>
                      <a:lnTo>
                        <a:pt x="9139" y="18213"/>
                      </a:lnTo>
                      <a:lnTo>
                        <a:pt x="9437" y="17772"/>
                      </a:lnTo>
                      <a:lnTo>
                        <a:pt x="9643" y="17261"/>
                      </a:lnTo>
                      <a:lnTo>
                        <a:pt x="9872" y="16681"/>
                      </a:lnTo>
                      <a:lnTo>
                        <a:pt x="9872" y="16171"/>
                      </a:lnTo>
                      <a:lnTo>
                        <a:pt x="9872" y="15614"/>
                      </a:lnTo>
                      <a:lnTo>
                        <a:pt x="9758" y="15057"/>
                      </a:lnTo>
                      <a:lnTo>
                        <a:pt x="10216" y="15498"/>
                      </a:lnTo>
                      <a:lnTo>
                        <a:pt x="10537" y="16241"/>
                      </a:lnTo>
                      <a:lnTo>
                        <a:pt x="10834" y="17145"/>
                      </a:lnTo>
                      <a:lnTo>
                        <a:pt x="11041" y="18213"/>
                      </a:lnTo>
                      <a:lnTo>
                        <a:pt x="11155" y="19187"/>
                      </a:lnTo>
                      <a:lnTo>
                        <a:pt x="11155" y="20185"/>
                      </a:lnTo>
                      <a:lnTo>
                        <a:pt x="11155" y="20579"/>
                      </a:lnTo>
                      <a:lnTo>
                        <a:pt x="11041" y="21043"/>
                      </a:lnTo>
                      <a:lnTo>
                        <a:pt x="10926" y="21391"/>
                      </a:lnTo>
                      <a:lnTo>
                        <a:pt x="10766" y="21600"/>
                      </a:lnTo>
                      <a:lnTo>
                        <a:pt x="11499" y="21484"/>
                      </a:lnTo>
                      <a:lnTo>
                        <a:pt x="12323" y="21043"/>
                      </a:lnTo>
                      <a:lnTo>
                        <a:pt x="13102" y="20370"/>
                      </a:lnTo>
                      <a:lnTo>
                        <a:pt x="13606" y="19628"/>
                      </a:lnTo>
                      <a:lnTo>
                        <a:pt x="13950" y="19071"/>
                      </a:lnTo>
                      <a:lnTo>
                        <a:pt x="14064" y="18677"/>
                      </a:lnTo>
                      <a:lnTo>
                        <a:pt x="14179" y="18097"/>
                      </a:lnTo>
                      <a:lnTo>
                        <a:pt x="14293" y="17586"/>
                      </a:lnTo>
                      <a:lnTo>
                        <a:pt x="14179" y="16913"/>
                      </a:lnTo>
                      <a:lnTo>
                        <a:pt x="14064" y="16241"/>
                      </a:lnTo>
                      <a:lnTo>
                        <a:pt x="13835" y="15614"/>
                      </a:lnTo>
                      <a:lnTo>
                        <a:pt x="13560" y="14872"/>
                      </a:lnTo>
                      <a:lnTo>
                        <a:pt x="13950" y="14941"/>
                      </a:lnTo>
                      <a:lnTo>
                        <a:pt x="14408" y="15150"/>
                      </a:lnTo>
                      <a:lnTo>
                        <a:pt x="14843" y="15266"/>
                      </a:lnTo>
                      <a:lnTo>
                        <a:pt x="15232" y="15614"/>
                      </a:lnTo>
                      <a:lnTo>
                        <a:pt x="15576" y="15846"/>
                      </a:lnTo>
                      <a:lnTo>
                        <a:pt x="15897" y="16171"/>
                      </a:lnTo>
                      <a:lnTo>
                        <a:pt x="16126" y="16473"/>
                      </a:lnTo>
                      <a:lnTo>
                        <a:pt x="16240" y="16913"/>
                      </a:lnTo>
                      <a:lnTo>
                        <a:pt x="16515" y="17261"/>
                      </a:lnTo>
                      <a:lnTo>
                        <a:pt x="17088" y="17586"/>
                      </a:lnTo>
                      <a:lnTo>
                        <a:pt x="17798" y="17865"/>
                      </a:lnTo>
                      <a:lnTo>
                        <a:pt x="18576" y="18097"/>
                      </a:lnTo>
                      <a:lnTo>
                        <a:pt x="19424" y="18213"/>
                      </a:lnTo>
                      <a:lnTo>
                        <a:pt x="20317" y="18213"/>
                      </a:lnTo>
                      <a:lnTo>
                        <a:pt x="21050" y="18213"/>
                      </a:lnTo>
                      <a:lnTo>
                        <a:pt x="21600" y="17865"/>
                      </a:lnTo>
                      <a:lnTo>
                        <a:pt x="21165" y="17656"/>
                      </a:lnTo>
                      <a:lnTo>
                        <a:pt x="20592" y="17470"/>
                      </a:lnTo>
                      <a:lnTo>
                        <a:pt x="20088" y="17029"/>
                      </a:lnTo>
                      <a:lnTo>
                        <a:pt x="19653" y="16681"/>
                      </a:lnTo>
                      <a:lnTo>
                        <a:pt x="19195" y="16241"/>
                      </a:lnTo>
                      <a:lnTo>
                        <a:pt x="18920" y="15962"/>
                      </a:lnTo>
                      <a:lnTo>
                        <a:pt x="18576" y="15498"/>
                      </a:lnTo>
                      <a:lnTo>
                        <a:pt x="18576" y="15057"/>
                      </a:lnTo>
                      <a:lnTo>
                        <a:pt x="18485" y="14756"/>
                      </a:lnTo>
                      <a:lnTo>
                        <a:pt x="18256" y="14199"/>
                      </a:lnTo>
                      <a:lnTo>
                        <a:pt x="17912" y="13526"/>
                      </a:lnTo>
                      <a:lnTo>
                        <a:pt x="17523" y="13016"/>
                      </a:lnTo>
                      <a:lnTo>
                        <a:pt x="16973" y="12436"/>
                      </a:lnTo>
                      <a:lnTo>
                        <a:pt x="16355" y="12041"/>
                      </a:lnTo>
                      <a:lnTo>
                        <a:pt x="16011" y="11832"/>
                      </a:lnTo>
                      <a:lnTo>
                        <a:pt x="15690" y="11716"/>
                      </a:lnTo>
                      <a:lnTo>
                        <a:pt x="15232" y="11716"/>
                      </a:lnTo>
                      <a:lnTo>
                        <a:pt x="14843" y="11716"/>
                      </a:lnTo>
                      <a:lnTo>
                        <a:pt x="15461" y="11252"/>
                      </a:lnTo>
                      <a:lnTo>
                        <a:pt x="16126" y="10858"/>
                      </a:lnTo>
                      <a:lnTo>
                        <a:pt x="16973" y="10649"/>
                      </a:lnTo>
                      <a:lnTo>
                        <a:pt x="17798" y="10417"/>
                      </a:lnTo>
                      <a:lnTo>
                        <a:pt x="18806" y="10301"/>
                      </a:lnTo>
                      <a:lnTo>
                        <a:pt x="19653" y="10301"/>
                      </a:lnTo>
                      <a:lnTo>
                        <a:pt x="20478" y="10417"/>
                      </a:lnTo>
                      <a:lnTo>
                        <a:pt x="21256" y="10533"/>
                      </a:lnTo>
                      <a:lnTo>
                        <a:pt x="20707" y="9837"/>
                      </a:lnTo>
                      <a:lnTo>
                        <a:pt x="19859" y="9234"/>
                      </a:lnTo>
                      <a:lnTo>
                        <a:pt x="18806" y="8538"/>
                      </a:lnTo>
                      <a:lnTo>
                        <a:pt x="17637" y="8144"/>
                      </a:lnTo>
                      <a:lnTo>
                        <a:pt x="16973" y="8027"/>
                      </a:lnTo>
                      <a:lnTo>
                        <a:pt x="16355" y="7935"/>
                      </a:lnTo>
                      <a:lnTo>
                        <a:pt x="15805" y="7935"/>
                      </a:lnTo>
                      <a:lnTo>
                        <a:pt x="15118" y="8027"/>
                      </a:lnTo>
                      <a:lnTo>
                        <a:pt x="14614" y="8144"/>
                      </a:lnTo>
                      <a:lnTo>
                        <a:pt x="14064" y="8422"/>
                      </a:lnTo>
                      <a:lnTo>
                        <a:pt x="13606" y="8886"/>
                      </a:lnTo>
                      <a:lnTo>
                        <a:pt x="13217" y="9327"/>
                      </a:lnTo>
                      <a:lnTo>
                        <a:pt x="13606" y="8538"/>
                      </a:lnTo>
                      <a:lnTo>
                        <a:pt x="13950" y="7935"/>
                      </a:lnTo>
                      <a:lnTo>
                        <a:pt x="14293" y="7123"/>
                      </a:lnTo>
                      <a:lnTo>
                        <a:pt x="14499" y="6519"/>
                      </a:lnTo>
                      <a:lnTo>
                        <a:pt x="14614" y="5823"/>
                      </a:lnTo>
                      <a:lnTo>
                        <a:pt x="14614" y="5220"/>
                      </a:lnTo>
                      <a:lnTo>
                        <a:pt x="14408" y="4524"/>
                      </a:lnTo>
                      <a:lnTo>
                        <a:pt x="14064" y="3898"/>
                      </a:lnTo>
                      <a:lnTo>
                        <a:pt x="13606" y="3225"/>
                      </a:lnTo>
                      <a:lnTo>
                        <a:pt x="13331" y="2598"/>
                      </a:lnTo>
                      <a:lnTo>
                        <a:pt x="13102" y="2042"/>
                      </a:lnTo>
                      <a:lnTo>
                        <a:pt x="12896" y="1485"/>
                      </a:lnTo>
                      <a:lnTo>
                        <a:pt x="12781" y="1090"/>
                      </a:lnTo>
                      <a:lnTo>
                        <a:pt x="12667" y="626"/>
                      </a:lnTo>
                      <a:lnTo>
                        <a:pt x="12667" y="278"/>
                      </a:lnTo>
                      <a:lnTo>
                        <a:pt x="12667" y="0"/>
                      </a:lnTo>
                      <a:lnTo>
                        <a:pt x="12163" y="394"/>
                      </a:lnTo>
                      <a:lnTo>
                        <a:pt x="11728" y="974"/>
                      </a:lnTo>
                      <a:lnTo>
                        <a:pt x="11155" y="1601"/>
                      </a:lnTo>
                      <a:lnTo>
                        <a:pt x="10766" y="2390"/>
                      </a:lnTo>
                      <a:lnTo>
                        <a:pt x="10330" y="3109"/>
                      </a:lnTo>
                      <a:lnTo>
                        <a:pt x="10101" y="3898"/>
                      </a:lnTo>
                      <a:lnTo>
                        <a:pt x="9987" y="4524"/>
                      </a:lnTo>
                      <a:lnTo>
                        <a:pt x="10101" y="5220"/>
                      </a:lnTo>
                      <a:lnTo>
                        <a:pt x="10216" y="5823"/>
                      </a:lnTo>
                      <a:lnTo>
                        <a:pt x="10330" y="6403"/>
                      </a:lnTo>
                      <a:lnTo>
                        <a:pt x="10330" y="6914"/>
                      </a:lnTo>
                      <a:lnTo>
                        <a:pt x="10216" y="7471"/>
                      </a:lnTo>
                      <a:lnTo>
                        <a:pt x="10101" y="7935"/>
                      </a:lnTo>
                      <a:lnTo>
                        <a:pt x="9872" y="8329"/>
                      </a:lnTo>
                      <a:lnTo>
                        <a:pt x="9643" y="8654"/>
                      </a:lnTo>
                      <a:lnTo>
                        <a:pt x="9368" y="9002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76" name="Freeform 461"/>
              <p:cNvSpPr/>
              <p:nvPr/>
            </p:nvSpPr>
            <p:spPr>
              <a:xfrm rot="664800">
                <a:off x="8094240" y="5764320"/>
                <a:ext cx="212760" cy="117720"/>
              </a:xfrm>
              <a:custGeom>
                <a:avLst/>
                <a:gdLst>
                  <a:gd name="textAreaLeft" fmla="*/ 0 w 212760"/>
                  <a:gd name="textAreaRight" fmla="*/ 213120 w 212760"/>
                  <a:gd name="textAreaTop" fmla="*/ 0 h 117720"/>
                  <a:gd name="textAreaBottom" fmla="*/ 118080 h 117720"/>
                </a:gdLst>
                <a:ahLst/>
                <a:rect l="textAreaLeft" t="textAreaTop" r="textAreaRight" b="textAreaBottom"/>
                <a:pathLst>
                  <a:path w="507" h="352">
                    <a:moveTo>
                      <a:pt x="0" y="240"/>
                    </a:moveTo>
                    <a:cubicBezTo>
                      <a:pt x="56" y="251"/>
                      <a:pt x="253" y="352"/>
                      <a:pt x="336" y="320"/>
                    </a:cubicBezTo>
                    <a:cubicBezTo>
                      <a:pt x="419" y="288"/>
                      <a:pt x="485" y="96"/>
                      <a:pt x="496" y="48"/>
                    </a:cubicBezTo>
                    <a:cubicBezTo>
                      <a:pt x="507" y="0"/>
                      <a:pt x="435" y="35"/>
                      <a:pt x="400" y="32"/>
                    </a:cubicBezTo>
                    <a:cubicBezTo>
                      <a:pt x="365" y="29"/>
                      <a:pt x="339" y="24"/>
                      <a:pt x="288" y="32"/>
                    </a:cubicBezTo>
                    <a:cubicBezTo>
                      <a:pt x="237" y="40"/>
                      <a:pt x="136" y="56"/>
                      <a:pt x="96" y="80"/>
                    </a:cubicBezTo>
                    <a:cubicBezTo>
                      <a:pt x="56" y="104"/>
                      <a:pt x="64" y="152"/>
                      <a:pt x="48" y="176"/>
                    </a:cubicBezTo>
                    <a:cubicBezTo>
                      <a:pt x="32" y="200"/>
                      <a:pt x="16" y="212"/>
                      <a:pt x="0" y="224"/>
                    </a:cubicBezTo>
                  </a:path>
                </a:pathLst>
              </a:custGeom>
              <a:solidFill>
                <a:srgbClr val="33cc33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Freeform 462"/>
              <p:cNvSpPr/>
              <p:nvPr/>
            </p:nvSpPr>
            <p:spPr>
              <a:xfrm rot="664800">
                <a:off x="8218800" y="5961960"/>
                <a:ext cx="213120" cy="117720"/>
              </a:xfrm>
              <a:custGeom>
                <a:avLst/>
                <a:gdLst>
                  <a:gd name="textAreaLeft" fmla="*/ 0 w 213120"/>
                  <a:gd name="textAreaRight" fmla="*/ 213480 w 213120"/>
                  <a:gd name="textAreaTop" fmla="*/ 0 h 117720"/>
                  <a:gd name="textAreaBottom" fmla="*/ 118080 h 117720"/>
                </a:gdLst>
                <a:ahLst/>
                <a:rect l="textAreaLeft" t="textAreaTop" r="textAreaRight" b="textAreaBottom"/>
                <a:pathLst>
                  <a:path w="507" h="352">
                    <a:moveTo>
                      <a:pt x="0" y="240"/>
                    </a:moveTo>
                    <a:cubicBezTo>
                      <a:pt x="56" y="251"/>
                      <a:pt x="253" y="352"/>
                      <a:pt x="336" y="320"/>
                    </a:cubicBezTo>
                    <a:cubicBezTo>
                      <a:pt x="419" y="288"/>
                      <a:pt x="485" y="96"/>
                      <a:pt x="496" y="48"/>
                    </a:cubicBezTo>
                    <a:cubicBezTo>
                      <a:pt x="507" y="0"/>
                      <a:pt x="435" y="35"/>
                      <a:pt x="400" y="32"/>
                    </a:cubicBezTo>
                    <a:cubicBezTo>
                      <a:pt x="365" y="29"/>
                      <a:pt x="339" y="24"/>
                      <a:pt x="288" y="32"/>
                    </a:cubicBezTo>
                    <a:cubicBezTo>
                      <a:pt x="237" y="40"/>
                      <a:pt x="136" y="56"/>
                      <a:pt x="96" y="80"/>
                    </a:cubicBezTo>
                    <a:cubicBezTo>
                      <a:pt x="56" y="104"/>
                      <a:pt x="64" y="152"/>
                      <a:pt x="48" y="176"/>
                    </a:cubicBezTo>
                    <a:cubicBezTo>
                      <a:pt x="32" y="200"/>
                      <a:pt x="16" y="212"/>
                      <a:pt x="0" y="224"/>
                    </a:cubicBezTo>
                  </a:path>
                </a:pathLst>
              </a:custGeom>
              <a:solidFill>
                <a:srgbClr val="33cc33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Freeform 463"/>
              <p:cNvSpPr/>
              <p:nvPr/>
            </p:nvSpPr>
            <p:spPr>
              <a:xfrm rot="7140000">
                <a:off x="8338320" y="5821200"/>
                <a:ext cx="203760" cy="123120"/>
              </a:xfrm>
              <a:custGeom>
                <a:avLst/>
                <a:gdLst>
                  <a:gd name="textAreaLeft" fmla="*/ 0 w 203760"/>
                  <a:gd name="textAreaRight" fmla="*/ 204120 w 203760"/>
                  <a:gd name="textAreaTop" fmla="*/ 0 h 123120"/>
                  <a:gd name="textAreaBottom" fmla="*/ 123480 h 123120"/>
                </a:gdLst>
                <a:ahLst/>
                <a:rect l="textAreaLeft" t="textAreaTop" r="textAreaRight" b="textAreaBottom"/>
                <a:pathLst>
                  <a:path w="507" h="352">
                    <a:moveTo>
                      <a:pt x="0" y="240"/>
                    </a:moveTo>
                    <a:cubicBezTo>
                      <a:pt x="56" y="251"/>
                      <a:pt x="253" y="352"/>
                      <a:pt x="336" y="320"/>
                    </a:cubicBezTo>
                    <a:cubicBezTo>
                      <a:pt x="419" y="288"/>
                      <a:pt x="485" y="96"/>
                      <a:pt x="496" y="48"/>
                    </a:cubicBezTo>
                    <a:cubicBezTo>
                      <a:pt x="507" y="0"/>
                      <a:pt x="435" y="35"/>
                      <a:pt x="400" y="32"/>
                    </a:cubicBezTo>
                    <a:cubicBezTo>
                      <a:pt x="365" y="29"/>
                      <a:pt x="339" y="24"/>
                      <a:pt x="288" y="32"/>
                    </a:cubicBezTo>
                    <a:cubicBezTo>
                      <a:pt x="237" y="40"/>
                      <a:pt x="136" y="56"/>
                      <a:pt x="96" y="80"/>
                    </a:cubicBezTo>
                    <a:cubicBezTo>
                      <a:pt x="56" y="104"/>
                      <a:pt x="64" y="152"/>
                      <a:pt x="48" y="176"/>
                    </a:cubicBezTo>
                    <a:cubicBezTo>
                      <a:pt x="32" y="200"/>
                      <a:pt x="16" y="212"/>
                      <a:pt x="0" y="224"/>
                    </a:cubicBezTo>
                  </a:path>
                </a:pathLst>
              </a:custGeom>
              <a:solidFill>
                <a:srgbClr val="33cc33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79" name="Group 464"/>
          <p:cNvGrpSpPr/>
          <p:nvPr/>
        </p:nvGrpSpPr>
        <p:grpSpPr>
          <a:xfrm>
            <a:off x="7070760" y="5545080"/>
            <a:ext cx="2176560" cy="1312920"/>
            <a:chOff x="7070760" y="5545080"/>
            <a:chExt cx="2176560" cy="1312920"/>
          </a:xfrm>
        </p:grpSpPr>
        <p:sp>
          <p:nvSpPr>
            <p:cNvPr id="580" name="Freeform 465"/>
            <p:cNvSpPr/>
            <p:nvPr/>
          </p:nvSpPr>
          <p:spPr>
            <a:xfrm>
              <a:off x="7070760" y="5545080"/>
              <a:ext cx="1875240" cy="1312920"/>
            </a:xfrm>
            <a:custGeom>
              <a:avLst/>
              <a:gdLst>
                <a:gd name="textAreaLeft" fmla="*/ 0 w 1875240"/>
                <a:gd name="textAreaRight" fmla="*/ 1875600 w 1875240"/>
                <a:gd name="textAreaTop" fmla="*/ 0 h 1312920"/>
                <a:gd name="textAreaBottom" fmla="*/ 1313280 h 1312920"/>
              </a:gdLst>
              <a:ahLst/>
              <a:rect l="textAreaLeft" t="textAreaTop" r="textAreaRight" b="textAreaBottom"/>
              <a:pathLst>
                <a:path w="1317" h="966">
                  <a:moveTo>
                    <a:pt x="19" y="129"/>
                  </a:moveTo>
                  <a:cubicBezTo>
                    <a:pt x="38" y="220"/>
                    <a:pt x="89" y="474"/>
                    <a:pt x="134" y="594"/>
                  </a:cubicBezTo>
                  <a:cubicBezTo>
                    <a:pt x="179" y="714"/>
                    <a:pt x="240" y="795"/>
                    <a:pt x="290" y="851"/>
                  </a:cubicBezTo>
                  <a:cubicBezTo>
                    <a:pt x="340" y="907"/>
                    <a:pt x="362" y="917"/>
                    <a:pt x="434" y="930"/>
                  </a:cubicBezTo>
                  <a:cubicBezTo>
                    <a:pt x="506" y="943"/>
                    <a:pt x="632" y="931"/>
                    <a:pt x="723" y="930"/>
                  </a:cubicBezTo>
                  <a:cubicBezTo>
                    <a:pt x="813" y="929"/>
                    <a:pt x="899" y="966"/>
                    <a:pt x="975" y="923"/>
                  </a:cubicBezTo>
                  <a:cubicBezTo>
                    <a:pt x="1051" y="880"/>
                    <a:pt x="1131" y="761"/>
                    <a:pt x="1179" y="673"/>
                  </a:cubicBezTo>
                  <a:cubicBezTo>
                    <a:pt x="1227" y="585"/>
                    <a:pt x="1241" y="499"/>
                    <a:pt x="1263" y="397"/>
                  </a:cubicBezTo>
                  <a:cubicBezTo>
                    <a:pt x="1285" y="294"/>
                    <a:pt x="1305" y="108"/>
                    <a:pt x="1311" y="54"/>
                  </a:cubicBezTo>
                  <a:cubicBezTo>
                    <a:pt x="1317" y="0"/>
                    <a:pt x="1305" y="66"/>
                    <a:pt x="1297" y="75"/>
                  </a:cubicBezTo>
                  <a:cubicBezTo>
                    <a:pt x="1289" y="84"/>
                    <a:pt x="1288" y="94"/>
                    <a:pt x="1261" y="105"/>
                  </a:cubicBezTo>
                  <a:cubicBezTo>
                    <a:pt x="1234" y="116"/>
                    <a:pt x="1203" y="128"/>
                    <a:pt x="1135" y="141"/>
                  </a:cubicBezTo>
                  <a:cubicBezTo>
                    <a:pt x="1067" y="154"/>
                    <a:pt x="949" y="176"/>
                    <a:pt x="853" y="183"/>
                  </a:cubicBezTo>
                  <a:cubicBezTo>
                    <a:pt x="757" y="190"/>
                    <a:pt x="661" y="189"/>
                    <a:pt x="559" y="183"/>
                  </a:cubicBezTo>
                  <a:cubicBezTo>
                    <a:pt x="457" y="177"/>
                    <a:pt x="318" y="159"/>
                    <a:pt x="241" y="147"/>
                  </a:cubicBezTo>
                  <a:cubicBezTo>
                    <a:pt x="164" y="135"/>
                    <a:pt x="131" y="121"/>
                    <a:pt x="97" y="111"/>
                  </a:cubicBezTo>
                  <a:cubicBezTo>
                    <a:pt x="63" y="101"/>
                    <a:pt x="50" y="98"/>
                    <a:pt x="37" y="87"/>
                  </a:cubicBezTo>
                  <a:cubicBezTo>
                    <a:pt x="24" y="76"/>
                    <a:pt x="22" y="38"/>
                    <a:pt x="19" y="45"/>
                  </a:cubicBezTo>
                  <a:cubicBezTo>
                    <a:pt x="16" y="52"/>
                    <a:pt x="0" y="38"/>
                    <a:pt x="19" y="129"/>
                  </a:cubicBezTo>
                  <a:close/>
                </a:path>
              </a:pathLst>
            </a:custGeom>
            <a:gradFill rotWithShape="0">
              <a:gsLst>
                <a:gs pos="0">
                  <a:srgbClr val="00ffff"/>
                </a:gs>
                <a:gs pos="50000">
                  <a:srgbClr val="ffffff"/>
                </a:gs>
                <a:gs pos="100000">
                  <a:srgbClr val="00ffff"/>
                </a:gs>
              </a:gsLst>
              <a:lin ang="189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Freeform 466"/>
            <p:cNvSpPr/>
            <p:nvPr/>
          </p:nvSpPr>
          <p:spPr>
            <a:xfrm rot="850200">
              <a:off x="8638200" y="5744520"/>
              <a:ext cx="505080" cy="91188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911880"/>
                <a:gd name="textAreaBottom" fmla="*/ 912240 h 911880"/>
              </a:gdLst>
              <a:ahLst/>
              <a:rect l="textAreaLeft" t="textAreaTop" r="textAreaRight" b="textAreaBottom"/>
              <a:pathLst>
                <a:path w="377" h="623">
                  <a:moveTo>
                    <a:pt x="102" y="270"/>
                  </a:moveTo>
                  <a:cubicBezTo>
                    <a:pt x="102" y="262"/>
                    <a:pt x="101" y="259"/>
                    <a:pt x="103" y="248"/>
                  </a:cubicBezTo>
                  <a:cubicBezTo>
                    <a:pt x="105" y="237"/>
                    <a:pt x="105" y="219"/>
                    <a:pt x="112" y="203"/>
                  </a:cubicBezTo>
                  <a:cubicBezTo>
                    <a:pt x="119" y="187"/>
                    <a:pt x="132" y="167"/>
                    <a:pt x="145" y="149"/>
                  </a:cubicBezTo>
                  <a:cubicBezTo>
                    <a:pt x="158" y="131"/>
                    <a:pt x="169" y="103"/>
                    <a:pt x="190" y="92"/>
                  </a:cubicBezTo>
                  <a:cubicBezTo>
                    <a:pt x="211" y="81"/>
                    <a:pt x="253" y="72"/>
                    <a:pt x="271" y="83"/>
                  </a:cubicBezTo>
                  <a:cubicBezTo>
                    <a:pt x="289" y="94"/>
                    <a:pt x="295" y="131"/>
                    <a:pt x="298" y="158"/>
                  </a:cubicBezTo>
                  <a:cubicBezTo>
                    <a:pt x="301" y="185"/>
                    <a:pt x="299" y="216"/>
                    <a:pt x="289" y="245"/>
                  </a:cubicBezTo>
                  <a:cubicBezTo>
                    <a:pt x="279" y="274"/>
                    <a:pt x="259" y="308"/>
                    <a:pt x="235" y="332"/>
                  </a:cubicBezTo>
                  <a:cubicBezTo>
                    <a:pt x="211" y="356"/>
                    <a:pt x="171" y="374"/>
                    <a:pt x="145" y="389"/>
                  </a:cubicBezTo>
                  <a:cubicBezTo>
                    <a:pt x="119" y="404"/>
                    <a:pt x="96" y="410"/>
                    <a:pt x="76" y="425"/>
                  </a:cubicBezTo>
                  <a:cubicBezTo>
                    <a:pt x="56" y="440"/>
                    <a:pt x="33" y="458"/>
                    <a:pt x="22" y="479"/>
                  </a:cubicBezTo>
                  <a:cubicBezTo>
                    <a:pt x="11" y="500"/>
                    <a:pt x="9" y="531"/>
                    <a:pt x="7" y="554"/>
                  </a:cubicBezTo>
                  <a:cubicBezTo>
                    <a:pt x="5" y="577"/>
                    <a:pt x="0" y="615"/>
                    <a:pt x="7" y="619"/>
                  </a:cubicBezTo>
                  <a:cubicBezTo>
                    <a:pt x="13" y="623"/>
                    <a:pt x="36" y="601"/>
                    <a:pt x="46" y="581"/>
                  </a:cubicBezTo>
                  <a:cubicBezTo>
                    <a:pt x="56" y="560"/>
                    <a:pt x="47" y="520"/>
                    <a:pt x="71" y="497"/>
                  </a:cubicBezTo>
                  <a:cubicBezTo>
                    <a:pt x="95" y="474"/>
                    <a:pt x="151" y="468"/>
                    <a:pt x="192" y="444"/>
                  </a:cubicBezTo>
                  <a:cubicBezTo>
                    <a:pt x="233" y="420"/>
                    <a:pt x="287" y="401"/>
                    <a:pt x="318" y="354"/>
                  </a:cubicBezTo>
                  <a:cubicBezTo>
                    <a:pt x="349" y="307"/>
                    <a:pt x="373" y="220"/>
                    <a:pt x="375" y="167"/>
                  </a:cubicBezTo>
                  <a:cubicBezTo>
                    <a:pt x="377" y="113"/>
                    <a:pt x="352" y="59"/>
                    <a:pt x="329" y="31"/>
                  </a:cubicBezTo>
                  <a:cubicBezTo>
                    <a:pt x="307" y="3"/>
                    <a:pt x="272" y="0"/>
                    <a:pt x="242" y="0"/>
                  </a:cubicBezTo>
                  <a:cubicBezTo>
                    <a:pt x="212" y="0"/>
                    <a:pt x="173" y="18"/>
                    <a:pt x="147" y="34"/>
                  </a:cubicBezTo>
                  <a:cubicBezTo>
                    <a:pt x="121" y="51"/>
                    <a:pt x="100" y="69"/>
                    <a:pt x="85" y="102"/>
                  </a:cubicBezTo>
                  <a:cubicBezTo>
                    <a:pt x="70" y="136"/>
                    <a:pt x="55" y="198"/>
                    <a:pt x="54" y="230"/>
                  </a:cubicBezTo>
                  <a:cubicBezTo>
                    <a:pt x="53" y="262"/>
                    <a:pt x="74" y="285"/>
                    <a:pt x="82" y="295"/>
                  </a:cubicBezTo>
                  <a:cubicBezTo>
                    <a:pt x="91" y="305"/>
                    <a:pt x="102" y="299"/>
                    <a:pt x="105" y="295"/>
                  </a:cubicBezTo>
                  <a:cubicBezTo>
                    <a:pt x="108" y="291"/>
                    <a:pt x="104" y="278"/>
                    <a:pt x="102" y="27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00ffff"/>
                </a:gs>
                <a:gs pos="100000">
                  <a:srgbClr val="ffffff"/>
                </a:gs>
              </a:gsLst>
              <a:lin ang="18048000"/>
            </a:gra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2" name="Group 467"/>
            <p:cNvGrpSpPr/>
            <p:nvPr/>
          </p:nvGrpSpPr>
          <p:grpSpPr>
            <a:xfrm>
              <a:off x="7441560" y="5794920"/>
              <a:ext cx="1028880" cy="954720"/>
              <a:chOff x="7441560" y="5794920"/>
              <a:chExt cx="1028880" cy="954720"/>
            </a:xfrm>
          </p:grpSpPr>
          <p:sp>
            <p:nvSpPr>
              <p:cNvPr id="583" name="Freeform 468"/>
              <p:cNvSpPr/>
              <p:nvPr/>
            </p:nvSpPr>
            <p:spPr>
              <a:xfrm rot="14356200">
                <a:off x="7632000" y="6104160"/>
                <a:ext cx="348840" cy="304200"/>
              </a:xfrm>
              <a:custGeom>
                <a:avLst/>
                <a:gdLst>
                  <a:gd name="textAreaLeft" fmla="*/ 0 w 348840"/>
                  <a:gd name="textAreaRight" fmla="*/ 349200 w 34884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507" h="352">
                    <a:moveTo>
                      <a:pt x="0" y="240"/>
                    </a:moveTo>
                    <a:cubicBezTo>
                      <a:pt x="56" y="251"/>
                      <a:pt x="253" y="352"/>
                      <a:pt x="336" y="320"/>
                    </a:cubicBezTo>
                    <a:cubicBezTo>
                      <a:pt x="419" y="288"/>
                      <a:pt x="485" y="96"/>
                      <a:pt x="496" y="48"/>
                    </a:cubicBezTo>
                    <a:cubicBezTo>
                      <a:pt x="507" y="0"/>
                      <a:pt x="435" y="35"/>
                      <a:pt x="400" y="32"/>
                    </a:cubicBezTo>
                    <a:cubicBezTo>
                      <a:pt x="365" y="29"/>
                      <a:pt x="339" y="24"/>
                      <a:pt x="288" y="32"/>
                    </a:cubicBezTo>
                    <a:cubicBezTo>
                      <a:pt x="237" y="40"/>
                      <a:pt x="136" y="56"/>
                      <a:pt x="96" y="80"/>
                    </a:cubicBezTo>
                    <a:cubicBezTo>
                      <a:pt x="56" y="104"/>
                      <a:pt x="64" y="152"/>
                      <a:pt x="48" y="176"/>
                    </a:cubicBezTo>
                    <a:cubicBezTo>
                      <a:pt x="32" y="200"/>
                      <a:pt x="16" y="212"/>
                      <a:pt x="0" y="224"/>
                    </a:cubicBezTo>
                  </a:path>
                </a:pathLst>
              </a:custGeom>
              <a:solidFill>
                <a:srgbClr val="008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Freeform 469"/>
              <p:cNvSpPr/>
              <p:nvPr/>
            </p:nvSpPr>
            <p:spPr>
              <a:xfrm rot="14356200">
                <a:off x="7556040" y="6369480"/>
                <a:ext cx="348840" cy="304560"/>
              </a:xfrm>
              <a:custGeom>
                <a:avLst/>
                <a:gdLst>
                  <a:gd name="textAreaLeft" fmla="*/ 0 w 348840"/>
                  <a:gd name="textAreaRight" fmla="*/ 349200 w 348840"/>
                  <a:gd name="textAreaTop" fmla="*/ 0 h 304560"/>
                  <a:gd name="textAreaBottom" fmla="*/ 304920 h 304560"/>
                </a:gdLst>
                <a:ahLst/>
                <a:rect l="textAreaLeft" t="textAreaTop" r="textAreaRight" b="textAreaBottom"/>
                <a:pathLst>
                  <a:path w="507" h="352">
                    <a:moveTo>
                      <a:pt x="0" y="240"/>
                    </a:moveTo>
                    <a:cubicBezTo>
                      <a:pt x="56" y="251"/>
                      <a:pt x="253" y="352"/>
                      <a:pt x="336" y="320"/>
                    </a:cubicBezTo>
                    <a:cubicBezTo>
                      <a:pt x="419" y="288"/>
                      <a:pt x="485" y="96"/>
                      <a:pt x="496" y="48"/>
                    </a:cubicBezTo>
                    <a:cubicBezTo>
                      <a:pt x="507" y="0"/>
                      <a:pt x="435" y="35"/>
                      <a:pt x="400" y="32"/>
                    </a:cubicBezTo>
                    <a:cubicBezTo>
                      <a:pt x="365" y="29"/>
                      <a:pt x="339" y="24"/>
                      <a:pt x="288" y="32"/>
                    </a:cubicBezTo>
                    <a:cubicBezTo>
                      <a:pt x="237" y="40"/>
                      <a:pt x="136" y="56"/>
                      <a:pt x="96" y="80"/>
                    </a:cubicBezTo>
                    <a:cubicBezTo>
                      <a:pt x="56" y="104"/>
                      <a:pt x="64" y="152"/>
                      <a:pt x="48" y="176"/>
                    </a:cubicBezTo>
                    <a:cubicBezTo>
                      <a:pt x="32" y="200"/>
                      <a:pt x="16" y="212"/>
                      <a:pt x="0" y="224"/>
                    </a:cubicBezTo>
                  </a:path>
                </a:pathLst>
              </a:custGeom>
              <a:solidFill>
                <a:srgbClr val="008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Freeform 470"/>
              <p:cNvSpPr/>
              <p:nvPr/>
            </p:nvSpPr>
            <p:spPr>
              <a:xfrm rot="20674800">
                <a:off x="7894080" y="5936040"/>
                <a:ext cx="434880" cy="317520"/>
              </a:xfrm>
              <a:custGeom>
                <a:avLst/>
                <a:gdLst>
                  <a:gd name="textAreaLeft" fmla="*/ 0 w 434880"/>
                  <a:gd name="textAreaRight" fmla="*/ 435240 w 434880"/>
                  <a:gd name="textAreaTop" fmla="*/ 0 h 317520"/>
                  <a:gd name="textAreaBottom" fmla="*/ 317520 h 317520"/>
                </a:gdLst>
                <a:ahLst/>
                <a:rect l="textAreaLeft" t="textAreaTop" r="textAreaRight" b="textAreaBottom"/>
                <a:pathLst>
                  <a:path w="507" h="352">
                    <a:moveTo>
                      <a:pt x="0" y="240"/>
                    </a:moveTo>
                    <a:cubicBezTo>
                      <a:pt x="56" y="251"/>
                      <a:pt x="253" y="352"/>
                      <a:pt x="336" y="320"/>
                    </a:cubicBezTo>
                    <a:cubicBezTo>
                      <a:pt x="419" y="288"/>
                      <a:pt x="485" y="96"/>
                      <a:pt x="496" y="48"/>
                    </a:cubicBezTo>
                    <a:cubicBezTo>
                      <a:pt x="507" y="0"/>
                      <a:pt x="435" y="35"/>
                      <a:pt x="400" y="32"/>
                    </a:cubicBezTo>
                    <a:cubicBezTo>
                      <a:pt x="365" y="29"/>
                      <a:pt x="339" y="24"/>
                      <a:pt x="288" y="32"/>
                    </a:cubicBezTo>
                    <a:cubicBezTo>
                      <a:pt x="237" y="40"/>
                      <a:pt x="136" y="56"/>
                      <a:pt x="96" y="80"/>
                    </a:cubicBezTo>
                    <a:cubicBezTo>
                      <a:pt x="56" y="104"/>
                      <a:pt x="64" y="152"/>
                      <a:pt x="48" y="176"/>
                    </a:cubicBezTo>
                    <a:cubicBezTo>
                      <a:pt x="32" y="200"/>
                      <a:pt x="16" y="212"/>
                      <a:pt x="0" y="224"/>
                    </a:cubicBezTo>
                  </a:path>
                </a:pathLst>
              </a:custGeom>
              <a:solidFill>
                <a:srgbClr val="33cc33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Freeform 471"/>
              <p:cNvSpPr/>
              <p:nvPr/>
            </p:nvSpPr>
            <p:spPr>
              <a:xfrm rot="3220200">
                <a:off x="7471440" y="5915520"/>
                <a:ext cx="453600" cy="304200"/>
              </a:xfrm>
              <a:custGeom>
                <a:avLst/>
                <a:gdLst>
                  <a:gd name="textAreaLeft" fmla="*/ 0 w 453600"/>
                  <a:gd name="textAreaRight" fmla="*/ 453960 w 45360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507" h="352">
                    <a:moveTo>
                      <a:pt x="0" y="240"/>
                    </a:moveTo>
                    <a:cubicBezTo>
                      <a:pt x="56" y="251"/>
                      <a:pt x="253" y="352"/>
                      <a:pt x="336" y="320"/>
                    </a:cubicBezTo>
                    <a:cubicBezTo>
                      <a:pt x="419" y="288"/>
                      <a:pt x="485" y="96"/>
                      <a:pt x="496" y="48"/>
                    </a:cubicBezTo>
                    <a:cubicBezTo>
                      <a:pt x="507" y="0"/>
                      <a:pt x="435" y="35"/>
                      <a:pt x="400" y="32"/>
                    </a:cubicBezTo>
                    <a:cubicBezTo>
                      <a:pt x="365" y="29"/>
                      <a:pt x="339" y="24"/>
                      <a:pt x="288" y="32"/>
                    </a:cubicBezTo>
                    <a:cubicBezTo>
                      <a:pt x="237" y="40"/>
                      <a:pt x="136" y="56"/>
                      <a:pt x="96" y="80"/>
                    </a:cubicBezTo>
                    <a:cubicBezTo>
                      <a:pt x="56" y="104"/>
                      <a:pt x="64" y="152"/>
                      <a:pt x="48" y="176"/>
                    </a:cubicBezTo>
                    <a:cubicBezTo>
                      <a:pt x="32" y="200"/>
                      <a:pt x="16" y="212"/>
                      <a:pt x="0" y="224"/>
                    </a:cubicBezTo>
                  </a:path>
                </a:pathLst>
              </a:custGeom>
              <a:solidFill>
                <a:srgbClr val="33cc33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87" name="Group 472"/>
              <p:cNvGrpSpPr/>
              <p:nvPr/>
            </p:nvGrpSpPr>
            <p:grpSpPr>
              <a:xfrm>
                <a:off x="8084880" y="6444360"/>
                <a:ext cx="233640" cy="286920"/>
                <a:chOff x="8084880" y="6444360"/>
                <a:chExt cx="233640" cy="286920"/>
              </a:xfrm>
            </p:grpSpPr>
            <p:grpSp>
              <p:nvGrpSpPr>
                <p:cNvPr id="588" name="Group 473"/>
                <p:cNvGrpSpPr/>
                <p:nvPr/>
              </p:nvGrpSpPr>
              <p:grpSpPr>
                <a:xfrm>
                  <a:off x="8084880" y="6498720"/>
                  <a:ext cx="233640" cy="232560"/>
                  <a:chOff x="8084880" y="6498720"/>
                  <a:chExt cx="233640" cy="232560"/>
                </a:xfrm>
              </p:grpSpPr>
              <p:sp>
                <p:nvSpPr>
                  <p:cNvPr id="589" name="Freeform 474"/>
                  <p:cNvSpPr/>
                  <p:nvPr/>
                </p:nvSpPr>
                <p:spPr>
                  <a:xfrm rot="11068800">
                    <a:off x="8213040" y="6511680"/>
                    <a:ext cx="96840" cy="216000"/>
                  </a:xfrm>
                  <a:custGeom>
                    <a:avLst/>
                    <a:gdLst>
                      <a:gd name="textAreaLeft" fmla="*/ 0 w 96840"/>
                      <a:gd name="textAreaRight" fmla="*/ 97200 w 96840"/>
                      <a:gd name="textAreaTop" fmla="*/ 0 h 216000"/>
                      <a:gd name="textAreaBottom" fmla="*/ 216360 h 216000"/>
                    </a:gdLst>
                    <a:ahLst/>
                    <a:rect l="textAreaLeft" t="textAreaTop" r="textAreaRight" b="textAreaBottom"/>
                    <a:pathLst>
                      <a:path w="296" h="552">
                        <a:moveTo>
                          <a:pt x="296" y="528"/>
                        </a:moveTo>
                        <a:cubicBezTo>
                          <a:pt x="224" y="540"/>
                          <a:pt x="152" y="552"/>
                          <a:pt x="104" y="528"/>
                        </a:cubicBezTo>
                        <a:cubicBezTo>
                          <a:pt x="56" y="504"/>
                          <a:pt x="16" y="440"/>
                          <a:pt x="8" y="384"/>
                        </a:cubicBezTo>
                        <a:cubicBezTo>
                          <a:pt x="0" y="328"/>
                          <a:pt x="24" y="248"/>
                          <a:pt x="56" y="192"/>
                        </a:cubicBezTo>
                        <a:cubicBezTo>
                          <a:pt x="88" y="136"/>
                          <a:pt x="160" y="80"/>
                          <a:pt x="200" y="48"/>
                        </a:cubicBezTo>
                        <a:cubicBezTo>
                          <a:pt x="240" y="16"/>
                          <a:pt x="268" y="8"/>
                          <a:pt x="296" y="0"/>
                        </a:cubicBezTo>
                      </a:path>
                    </a:pathLst>
                  </a:custGeom>
                  <a:solidFill>
                    <a:srgbClr val="ff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0" name="Freeform 475"/>
                  <p:cNvSpPr/>
                  <p:nvPr/>
                </p:nvSpPr>
                <p:spPr>
                  <a:xfrm flipH="1" rot="11068200">
                    <a:off x="8093160" y="6503040"/>
                    <a:ext cx="123120" cy="216000"/>
                  </a:xfrm>
                  <a:custGeom>
                    <a:avLst/>
                    <a:gdLst>
                      <a:gd name="textAreaLeft" fmla="*/ 360 w 123120"/>
                      <a:gd name="textAreaRight" fmla="*/ 123840 w 123120"/>
                      <a:gd name="textAreaTop" fmla="*/ 0 h 216000"/>
                      <a:gd name="textAreaBottom" fmla="*/ 216360 h 216000"/>
                    </a:gdLst>
                    <a:ahLst/>
                    <a:rect l="textAreaLeft" t="textAreaTop" r="textAreaRight" b="textAreaBottom"/>
                    <a:pathLst>
                      <a:path w="296" h="552">
                        <a:moveTo>
                          <a:pt x="296" y="528"/>
                        </a:moveTo>
                        <a:cubicBezTo>
                          <a:pt x="224" y="540"/>
                          <a:pt x="152" y="552"/>
                          <a:pt x="104" y="528"/>
                        </a:cubicBezTo>
                        <a:cubicBezTo>
                          <a:pt x="56" y="504"/>
                          <a:pt x="16" y="440"/>
                          <a:pt x="8" y="384"/>
                        </a:cubicBezTo>
                        <a:cubicBezTo>
                          <a:pt x="0" y="328"/>
                          <a:pt x="24" y="248"/>
                          <a:pt x="56" y="192"/>
                        </a:cubicBezTo>
                        <a:cubicBezTo>
                          <a:pt x="88" y="136"/>
                          <a:pt x="160" y="80"/>
                          <a:pt x="200" y="48"/>
                        </a:cubicBezTo>
                        <a:cubicBezTo>
                          <a:pt x="240" y="16"/>
                          <a:pt x="268" y="8"/>
                          <a:pt x="296" y="0"/>
                        </a:cubicBezTo>
                      </a:path>
                    </a:pathLst>
                  </a:custGeom>
                  <a:solidFill>
                    <a:srgbClr val="ff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91" name="Freeform 476"/>
                <p:cNvSpPr/>
                <p:nvPr/>
              </p:nvSpPr>
              <p:spPr>
                <a:xfrm flipV="1" rot="418200">
                  <a:off x="8222760" y="6566040"/>
                  <a:ext cx="15480" cy="18720"/>
                </a:xfrm>
                <a:custGeom>
                  <a:avLst/>
                  <a:gdLst>
                    <a:gd name="textAreaLeft" fmla="*/ 0 w 15480"/>
                    <a:gd name="textAreaRight" fmla="*/ 15840 w 15480"/>
                    <a:gd name="textAreaTop" fmla="*/ 360 h 18720"/>
                    <a:gd name="textAreaBottom" fmla="*/ 19440 h 18720"/>
                  </a:gdLst>
                  <a:ahLst/>
                  <a:rect l="textAreaLeft" t="textAreaTop" r="textAreaRight" b="textAreaBottom"/>
                  <a:pathLst>
                    <a:path w="192" h="288">
                      <a:moveTo>
                        <a:pt x="0" y="288"/>
                      </a:moveTo>
                      <a:lnTo>
                        <a:pt x="192" y="288"/>
                      </a:lnTo>
                      <a:lnTo>
                        <a:pt x="48" y="0"/>
                      </a:lnTo>
                      <a:lnTo>
                        <a:pt x="0" y="288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2" name="Freeform 477"/>
                <p:cNvSpPr/>
                <p:nvPr/>
              </p:nvSpPr>
              <p:spPr>
                <a:xfrm flipV="1" rot="418200">
                  <a:off x="8147520" y="6537600"/>
                  <a:ext cx="15480" cy="18720"/>
                </a:xfrm>
                <a:custGeom>
                  <a:avLst/>
                  <a:gdLst>
                    <a:gd name="textAreaLeft" fmla="*/ 0 w 15480"/>
                    <a:gd name="textAreaRight" fmla="*/ 15840 w 15480"/>
                    <a:gd name="textAreaTop" fmla="*/ 360 h 18720"/>
                    <a:gd name="textAreaBottom" fmla="*/ 19440 h 18720"/>
                  </a:gdLst>
                  <a:ahLst/>
                  <a:rect l="textAreaLeft" t="textAreaTop" r="textAreaRight" b="textAreaBottom"/>
                  <a:pathLst>
                    <a:path w="192" h="288">
                      <a:moveTo>
                        <a:pt x="0" y="288"/>
                      </a:moveTo>
                      <a:lnTo>
                        <a:pt x="192" y="288"/>
                      </a:lnTo>
                      <a:lnTo>
                        <a:pt x="48" y="0"/>
                      </a:lnTo>
                      <a:lnTo>
                        <a:pt x="0" y="288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3" name="Freeform 478"/>
                <p:cNvSpPr/>
                <p:nvPr/>
              </p:nvSpPr>
              <p:spPr>
                <a:xfrm flipV="1" rot="418200">
                  <a:off x="8160480" y="6558480"/>
                  <a:ext cx="15480" cy="18720"/>
                </a:xfrm>
                <a:custGeom>
                  <a:avLst/>
                  <a:gdLst>
                    <a:gd name="textAreaLeft" fmla="*/ 0 w 15480"/>
                    <a:gd name="textAreaRight" fmla="*/ 15840 w 15480"/>
                    <a:gd name="textAreaTop" fmla="*/ 360 h 18720"/>
                    <a:gd name="textAreaBottom" fmla="*/ 19440 h 18720"/>
                  </a:gdLst>
                  <a:ahLst/>
                  <a:rect l="textAreaLeft" t="textAreaTop" r="textAreaRight" b="textAreaBottom"/>
                  <a:pathLst>
                    <a:path w="192" h="288">
                      <a:moveTo>
                        <a:pt x="0" y="288"/>
                      </a:moveTo>
                      <a:lnTo>
                        <a:pt x="192" y="288"/>
                      </a:lnTo>
                      <a:lnTo>
                        <a:pt x="48" y="0"/>
                      </a:lnTo>
                      <a:lnTo>
                        <a:pt x="0" y="288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4" name="Freeform 479"/>
                <p:cNvSpPr/>
                <p:nvPr/>
              </p:nvSpPr>
              <p:spPr>
                <a:xfrm flipV="1" rot="418200">
                  <a:off x="8189640" y="6580800"/>
                  <a:ext cx="15480" cy="18720"/>
                </a:xfrm>
                <a:custGeom>
                  <a:avLst/>
                  <a:gdLst>
                    <a:gd name="textAreaLeft" fmla="*/ 0 w 15480"/>
                    <a:gd name="textAreaRight" fmla="*/ 15840 w 15480"/>
                    <a:gd name="textAreaTop" fmla="*/ 360 h 18720"/>
                    <a:gd name="textAreaBottom" fmla="*/ 19440 h 18720"/>
                  </a:gdLst>
                  <a:ahLst/>
                  <a:rect l="textAreaLeft" t="textAreaTop" r="textAreaRight" b="textAreaBottom"/>
                  <a:pathLst>
                    <a:path w="192" h="288">
                      <a:moveTo>
                        <a:pt x="0" y="288"/>
                      </a:moveTo>
                      <a:lnTo>
                        <a:pt x="192" y="288"/>
                      </a:lnTo>
                      <a:lnTo>
                        <a:pt x="48" y="0"/>
                      </a:lnTo>
                      <a:lnTo>
                        <a:pt x="0" y="288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5" name="Freeform 480"/>
                <p:cNvSpPr/>
                <p:nvPr/>
              </p:nvSpPr>
              <p:spPr>
                <a:xfrm flipV="1" rot="418200">
                  <a:off x="8169480" y="6616080"/>
                  <a:ext cx="15480" cy="18720"/>
                </a:xfrm>
                <a:custGeom>
                  <a:avLst/>
                  <a:gdLst>
                    <a:gd name="textAreaLeft" fmla="*/ 0 w 15480"/>
                    <a:gd name="textAreaRight" fmla="*/ 15840 w 15480"/>
                    <a:gd name="textAreaTop" fmla="*/ 360 h 18720"/>
                    <a:gd name="textAreaBottom" fmla="*/ 19440 h 18720"/>
                  </a:gdLst>
                  <a:ahLst/>
                  <a:rect l="textAreaLeft" t="textAreaTop" r="textAreaRight" b="textAreaBottom"/>
                  <a:pathLst>
                    <a:path w="192" h="288">
                      <a:moveTo>
                        <a:pt x="0" y="288"/>
                      </a:moveTo>
                      <a:lnTo>
                        <a:pt x="192" y="288"/>
                      </a:lnTo>
                      <a:lnTo>
                        <a:pt x="48" y="0"/>
                      </a:lnTo>
                      <a:lnTo>
                        <a:pt x="0" y="288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6" name="Freeform 481"/>
                <p:cNvSpPr/>
                <p:nvPr/>
              </p:nvSpPr>
              <p:spPr>
                <a:xfrm flipV="1" rot="418200">
                  <a:off x="8151480" y="6633000"/>
                  <a:ext cx="15480" cy="18720"/>
                </a:xfrm>
                <a:custGeom>
                  <a:avLst/>
                  <a:gdLst>
                    <a:gd name="textAreaLeft" fmla="*/ 0 w 15480"/>
                    <a:gd name="textAreaRight" fmla="*/ 15840 w 15480"/>
                    <a:gd name="textAreaTop" fmla="*/ 360 h 18720"/>
                    <a:gd name="textAreaBottom" fmla="*/ 19440 h 18720"/>
                  </a:gdLst>
                  <a:ahLst/>
                  <a:rect l="textAreaLeft" t="textAreaTop" r="textAreaRight" b="textAreaBottom"/>
                  <a:pathLst>
                    <a:path w="192" h="288">
                      <a:moveTo>
                        <a:pt x="0" y="288"/>
                      </a:moveTo>
                      <a:lnTo>
                        <a:pt x="192" y="288"/>
                      </a:lnTo>
                      <a:lnTo>
                        <a:pt x="48" y="0"/>
                      </a:lnTo>
                      <a:lnTo>
                        <a:pt x="0" y="288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7" name="Freeform 482"/>
                <p:cNvSpPr/>
                <p:nvPr/>
              </p:nvSpPr>
              <p:spPr>
                <a:xfrm flipV="1" rot="418200">
                  <a:off x="8164800" y="6653520"/>
                  <a:ext cx="15480" cy="18720"/>
                </a:xfrm>
                <a:custGeom>
                  <a:avLst/>
                  <a:gdLst>
                    <a:gd name="textAreaLeft" fmla="*/ 0 w 15480"/>
                    <a:gd name="textAreaRight" fmla="*/ 15840 w 15480"/>
                    <a:gd name="textAreaTop" fmla="*/ 360 h 18720"/>
                    <a:gd name="textAreaBottom" fmla="*/ 19440 h 18720"/>
                  </a:gdLst>
                  <a:ahLst/>
                  <a:rect l="textAreaLeft" t="textAreaTop" r="textAreaRight" b="textAreaBottom"/>
                  <a:pathLst>
                    <a:path w="192" h="288">
                      <a:moveTo>
                        <a:pt x="0" y="288"/>
                      </a:moveTo>
                      <a:lnTo>
                        <a:pt x="192" y="288"/>
                      </a:lnTo>
                      <a:lnTo>
                        <a:pt x="48" y="0"/>
                      </a:lnTo>
                      <a:lnTo>
                        <a:pt x="0" y="288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8" name="Freeform 483"/>
                <p:cNvSpPr/>
                <p:nvPr/>
              </p:nvSpPr>
              <p:spPr>
                <a:xfrm flipV="1" rot="418200">
                  <a:off x="8193960" y="6676200"/>
                  <a:ext cx="15480" cy="18720"/>
                </a:xfrm>
                <a:custGeom>
                  <a:avLst/>
                  <a:gdLst>
                    <a:gd name="textAreaLeft" fmla="*/ 0 w 15480"/>
                    <a:gd name="textAreaRight" fmla="*/ 15840 w 15480"/>
                    <a:gd name="textAreaTop" fmla="*/ 360 h 18720"/>
                    <a:gd name="textAreaBottom" fmla="*/ 19440 h 18720"/>
                  </a:gdLst>
                  <a:ahLst/>
                  <a:rect l="textAreaLeft" t="textAreaTop" r="textAreaRight" b="textAreaBottom"/>
                  <a:pathLst>
                    <a:path w="192" h="288">
                      <a:moveTo>
                        <a:pt x="0" y="288"/>
                      </a:moveTo>
                      <a:lnTo>
                        <a:pt x="192" y="288"/>
                      </a:lnTo>
                      <a:lnTo>
                        <a:pt x="48" y="0"/>
                      </a:lnTo>
                      <a:lnTo>
                        <a:pt x="0" y="288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9" name="Freeform 484"/>
                <p:cNvSpPr/>
                <p:nvPr/>
              </p:nvSpPr>
              <p:spPr>
                <a:xfrm flipV="1" rot="418200">
                  <a:off x="8127000" y="6573240"/>
                  <a:ext cx="15480" cy="18720"/>
                </a:xfrm>
                <a:custGeom>
                  <a:avLst/>
                  <a:gdLst>
                    <a:gd name="textAreaLeft" fmla="*/ 0 w 15480"/>
                    <a:gd name="textAreaRight" fmla="*/ 15840 w 15480"/>
                    <a:gd name="textAreaTop" fmla="*/ 360 h 18720"/>
                    <a:gd name="textAreaBottom" fmla="*/ 19440 h 18720"/>
                  </a:gdLst>
                  <a:ahLst/>
                  <a:rect l="textAreaLeft" t="textAreaTop" r="textAreaRight" b="textAreaBottom"/>
                  <a:pathLst>
                    <a:path w="192" h="288">
                      <a:moveTo>
                        <a:pt x="0" y="288"/>
                      </a:moveTo>
                      <a:lnTo>
                        <a:pt x="192" y="288"/>
                      </a:lnTo>
                      <a:lnTo>
                        <a:pt x="48" y="0"/>
                      </a:lnTo>
                      <a:lnTo>
                        <a:pt x="0" y="288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0" name="Freeform 485"/>
                <p:cNvSpPr/>
                <p:nvPr/>
              </p:nvSpPr>
              <p:spPr>
                <a:xfrm flipV="1" rot="418200">
                  <a:off x="8140320" y="6593760"/>
                  <a:ext cx="15480" cy="18720"/>
                </a:xfrm>
                <a:custGeom>
                  <a:avLst/>
                  <a:gdLst>
                    <a:gd name="textAreaLeft" fmla="*/ 0 w 15480"/>
                    <a:gd name="textAreaRight" fmla="*/ 15840 w 15480"/>
                    <a:gd name="textAreaTop" fmla="*/ 360 h 18720"/>
                    <a:gd name="textAreaBottom" fmla="*/ 19440 h 18720"/>
                  </a:gdLst>
                  <a:ahLst/>
                  <a:rect l="textAreaLeft" t="textAreaTop" r="textAreaRight" b="textAreaBottom"/>
                  <a:pathLst>
                    <a:path w="192" h="288">
                      <a:moveTo>
                        <a:pt x="0" y="288"/>
                      </a:moveTo>
                      <a:lnTo>
                        <a:pt x="192" y="288"/>
                      </a:lnTo>
                      <a:lnTo>
                        <a:pt x="48" y="0"/>
                      </a:lnTo>
                      <a:lnTo>
                        <a:pt x="0" y="288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1" name="Freeform 486"/>
                <p:cNvSpPr/>
                <p:nvPr/>
              </p:nvSpPr>
              <p:spPr>
                <a:xfrm flipH="1" flipV="1" rot="418200">
                  <a:off x="8197920" y="6638400"/>
                  <a:ext cx="15480" cy="18720"/>
                </a:xfrm>
                <a:custGeom>
                  <a:avLst/>
                  <a:gdLst>
                    <a:gd name="textAreaLeft" fmla="*/ -360 w 15480"/>
                    <a:gd name="textAreaRight" fmla="*/ 15480 w 15480"/>
                    <a:gd name="textAreaTop" fmla="*/ 360 h 18720"/>
                    <a:gd name="textAreaBottom" fmla="*/ 19440 h 18720"/>
                  </a:gdLst>
                  <a:ahLst/>
                  <a:rect l="textAreaLeft" t="textAreaTop" r="textAreaRight" b="textAreaBottom"/>
                  <a:pathLst>
                    <a:path w="192" h="288">
                      <a:moveTo>
                        <a:pt x="0" y="288"/>
                      </a:moveTo>
                      <a:lnTo>
                        <a:pt x="192" y="288"/>
                      </a:lnTo>
                      <a:lnTo>
                        <a:pt x="48" y="0"/>
                      </a:lnTo>
                      <a:lnTo>
                        <a:pt x="0" y="288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2" name="Freeform 487"/>
                <p:cNvSpPr/>
                <p:nvPr/>
              </p:nvSpPr>
              <p:spPr>
                <a:xfrm flipH="1" flipV="1" rot="418200">
                  <a:off x="8228880" y="6642360"/>
                  <a:ext cx="15480" cy="18720"/>
                </a:xfrm>
                <a:custGeom>
                  <a:avLst/>
                  <a:gdLst>
                    <a:gd name="textAreaLeft" fmla="*/ -360 w 15480"/>
                    <a:gd name="textAreaRight" fmla="*/ 15480 w 15480"/>
                    <a:gd name="textAreaTop" fmla="*/ 360 h 18720"/>
                    <a:gd name="textAreaBottom" fmla="*/ 19440 h 18720"/>
                  </a:gdLst>
                  <a:ahLst/>
                  <a:rect l="textAreaLeft" t="textAreaTop" r="textAreaRight" b="textAreaBottom"/>
                  <a:pathLst>
                    <a:path w="192" h="288">
                      <a:moveTo>
                        <a:pt x="0" y="288"/>
                      </a:moveTo>
                      <a:lnTo>
                        <a:pt x="192" y="288"/>
                      </a:lnTo>
                      <a:lnTo>
                        <a:pt x="48" y="0"/>
                      </a:lnTo>
                      <a:lnTo>
                        <a:pt x="0" y="288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3" name="Freeform 488"/>
                <p:cNvSpPr/>
                <p:nvPr/>
              </p:nvSpPr>
              <p:spPr>
                <a:xfrm flipH="1" flipV="1" rot="418200">
                  <a:off x="8217720" y="6603120"/>
                  <a:ext cx="15480" cy="18720"/>
                </a:xfrm>
                <a:custGeom>
                  <a:avLst/>
                  <a:gdLst>
                    <a:gd name="textAreaLeft" fmla="*/ -360 w 15480"/>
                    <a:gd name="textAreaRight" fmla="*/ 15480 w 15480"/>
                    <a:gd name="textAreaTop" fmla="*/ 360 h 18720"/>
                    <a:gd name="textAreaBottom" fmla="*/ 19440 h 18720"/>
                  </a:gdLst>
                  <a:ahLst/>
                  <a:rect l="textAreaLeft" t="textAreaTop" r="textAreaRight" b="textAreaBottom"/>
                  <a:pathLst>
                    <a:path w="192" h="288">
                      <a:moveTo>
                        <a:pt x="0" y="288"/>
                      </a:moveTo>
                      <a:lnTo>
                        <a:pt x="192" y="288"/>
                      </a:lnTo>
                      <a:lnTo>
                        <a:pt x="48" y="0"/>
                      </a:lnTo>
                      <a:lnTo>
                        <a:pt x="0" y="288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4" name="Freeform 489"/>
                <p:cNvSpPr/>
                <p:nvPr/>
              </p:nvSpPr>
              <p:spPr>
                <a:xfrm flipH="1" flipV="1" rot="418200">
                  <a:off x="8251560" y="6588360"/>
                  <a:ext cx="15480" cy="18720"/>
                </a:xfrm>
                <a:custGeom>
                  <a:avLst/>
                  <a:gdLst>
                    <a:gd name="textAreaLeft" fmla="*/ -360 w 15480"/>
                    <a:gd name="textAreaRight" fmla="*/ 15480 w 15480"/>
                    <a:gd name="textAreaTop" fmla="*/ 360 h 18720"/>
                    <a:gd name="textAreaBottom" fmla="*/ 19440 h 18720"/>
                  </a:gdLst>
                  <a:ahLst/>
                  <a:rect l="textAreaLeft" t="textAreaTop" r="textAreaRight" b="textAreaBottom"/>
                  <a:pathLst>
                    <a:path w="192" h="288">
                      <a:moveTo>
                        <a:pt x="0" y="288"/>
                      </a:moveTo>
                      <a:lnTo>
                        <a:pt x="192" y="288"/>
                      </a:lnTo>
                      <a:lnTo>
                        <a:pt x="48" y="0"/>
                      </a:lnTo>
                      <a:lnTo>
                        <a:pt x="0" y="288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5" name="Freeform 490"/>
                <p:cNvSpPr/>
                <p:nvPr/>
              </p:nvSpPr>
              <p:spPr>
                <a:xfrm flipH="1" flipV="1" rot="418200">
                  <a:off x="8255880" y="6550920"/>
                  <a:ext cx="15480" cy="18720"/>
                </a:xfrm>
                <a:custGeom>
                  <a:avLst/>
                  <a:gdLst>
                    <a:gd name="textAreaLeft" fmla="*/ -360 w 15480"/>
                    <a:gd name="textAreaRight" fmla="*/ 15480 w 15480"/>
                    <a:gd name="textAreaTop" fmla="*/ 360 h 18720"/>
                    <a:gd name="textAreaBottom" fmla="*/ 19440 h 18720"/>
                  </a:gdLst>
                  <a:ahLst/>
                  <a:rect l="textAreaLeft" t="textAreaTop" r="textAreaRight" b="textAreaBottom"/>
                  <a:pathLst>
                    <a:path w="192" h="288">
                      <a:moveTo>
                        <a:pt x="0" y="288"/>
                      </a:moveTo>
                      <a:lnTo>
                        <a:pt x="192" y="288"/>
                      </a:lnTo>
                      <a:lnTo>
                        <a:pt x="48" y="0"/>
                      </a:lnTo>
                      <a:lnTo>
                        <a:pt x="0" y="288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6" name="plant"/>
                <p:cNvSpPr/>
                <p:nvPr/>
              </p:nvSpPr>
              <p:spPr>
                <a:xfrm rot="418200">
                  <a:off x="8154360" y="6451200"/>
                  <a:ext cx="123840" cy="91440"/>
                </a:xfrm>
                <a:custGeom>
                  <a:avLst/>
                  <a:gdLst>
                    <a:gd name="textAreaLeft" fmla="*/ 40680 w 123840"/>
                    <a:gd name="textAreaRight" fmla="*/ 83520 w 123840"/>
                    <a:gd name="textAreaTop" fmla="*/ 42480 h 91440"/>
                    <a:gd name="textAreaBottom" fmla="*/ 57600 h 914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9368" y="9002"/>
                      </a:moveTo>
                      <a:lnTo>
                        <a:pt x="9254" y="8422"/>
                      </a:lnTo>
                      <a:lnTo>
                        <a:pt x="9139" y="7935"/>
                      </a:lnTo>
                      <a:lnTo>
                        <a:pt x="8819" y="7355"/>
                      </a:lnTo>
                      <a:lnTo>
                        <a:pt x="8475" y="6728"/>
                      </a:lnTo>
                      <a:lnTo>
                        <a:pt x="8040" y="6287"/>
                      </a:lnTo>
                      <a:lnTo>
                        <a:pt x="7421" y="5707"/>
                      </a:lnTo>
                      <a:lnTo>
                        <a:pt x="6574" y="5429"/>
                      </a:lnTo>
                      <a:lnTo>
                        <a:pt x="5452" y="5313"/>
                      </a:lnTo>
                      <a:lnTo>
                        <a:pt x="4856" y="5220"/>
                      </a:lnTo>
                      <a:lnTo>
                        <a:pt x="4169" y="5220"/>
                      </a:lnTo>
                      <a:lnTo>
                        <a:pt x="3665" y="5104"/>
                      </a:lnTo>
                      <a:lnTo>
                        <a:pt x="3001" y="4872"/>
                      </a:lnTo>
                      <a:lnTo>
                        <a:pt x="2497" y="4756"/>
                      </a:lnTo>
                      <a:lnTo>
                        <a:pt x="2062" y="4408"/>
                      </a:lnTo>
                      <a:lnTo>
                        <a:pt x="1603" y="4083"/>
                      </a:lnTo>
                      <a:lnTo>
                        <a:pt x="1283" y="3689"/>
                      </a:lnTo>
                      <a:lnTo>
                        <a:pt x="1283" y="4315"/>
                      </a:lnTo>
                      <a:lnTo>
                        <a:pt x="1489" y="5104"/>
                      </a:lnTo>
                      <a:lnTo>
                        <a:pt x="1832" y="6055"/>
                      </a:lnTo>
                      <a:lnTo>
                        <a:pt x="2382" y="6914"/>
                      </a:lnTo>
                      <a:lnTo>
                        <a:pt x="2680" y="7471"/>
                      </a:lnTo>
                      <a:lnTo>
                        <a:pt x="3115" y="7935"/>
                      </a:lnTo>
                      <a:lnTo>
                        <a:pt x="3573" y="8213"/>
                      </a:lnTo>
                      <a:lnTo>
                        <a:pt x="4077" y="8654"/>
                      </a:lnTo>
                      <a:lnTo>
                        <a:pt x="4627" y="9002"/>
                      </a:lnTo>
                      <a:lnTo>
                        <a:pt x="5245" y="9234"/>
                      </a:lnTo>
                      <a:lnTo>
                        <a:pt x="6024" y="9443"/>
                      </a:lnTo>
                      <a:lnTo>
                        <a:pt x="6757" y="9628"/>
                      </a:lnTo>
                      <a:lnTo>
                        <a:pt x="5177" y="10069"/>
                      </a:lnTo>
                      <a:lnTo>
                        <a:pt x="3963" y="10649"/>
                      </a:lnTo>
                      <a:lnTo>
                        <a:pt x="3344" y="11044"/>
                      </a:lnTo>
                      <a:lnTo>
                        <a:pt x="2886" y="11600"/>
                      </a:lnTo>
                      <a:lnTo>
                        <a:pt x="2497" y="12041"/>
                      </a:lnTo>
                      <a:lnTo>
                        <a:pt x="1947" y="12343"/>
                      </a:lnTo>
                      <a:lnTo>
                        <a:pt x="1168" y="12668"/>
                      </a:lnTo>
                      <a:lnTo>
                        <a:pt x="0" y="12900"/>
                      </a:lnTo>
                      <a:lnTo>
                        <a:pt x="435" y="13248"/>
                      </a:lnTo>
                      <a:lnTo>
                        <a:pt x="779" y="13456"/>
                      </a:lnTo>
                      <a:lnTo>
                        <a:pt x="1283" y="13642"/>
                      </a:lnTo>
                      <a:lnTo>
                        <a:pt x="1718" y="13758"/>
                      </a:lnTo>
                      <a:lnTo>
                        <a:pt x="2680" y="13851"/>
                      </a:lnTo>
                      <a:lnTo>
                        <a:pt x="3573" y="13758"/>
                      </a:lnTo>
                      <a:lnTo>
                        <a:pt x="4512" y="13526"/>
                      </a:lnTo>
                      <a:lnTo>
                        <a:pt x="5360" y="13248"/>
                      </a:lnTo>
                      <a:lnTo>
                        <a:pt x="6139" y="12900"/>
                      </a:lnTo>
                      <a:lnTo>
                        <a:pt x="6757" y="12552"/>
                      </a:lnTo>
                      <a:lnTo>
                        <a:pt x="6459" y="13132"/>
                      </a:lnTo>
                      <a:lnTo>
                        <a:pt x="6139" y="13642"/>
                      </a:lnTo>
                      <a:lnTo>
                        <a:pt x="5910" y="14199"/>
                      </a:lnTo>
                      <a:lnTo>
                        <a:pt x="5681" y="14663"/>
                      </a:lnTo>
                      <a:lnTo>
                        <a:pt x="5681" y="15150"/>
                      </a:lnTo>
                      <a:lnTo>
                        <a:pt x="5681" y="15730"/>
                      </a:lnTo>
                      <a:lnTo>
                        <a:pt x="5681" y="16241"/>
                      </a:lnTo>
                      <a:lnTo>
                        <a:pt x="5795" y="16913"/>
                      </a:lnTo>
                      <a:lnTo>
                        <a:pt x="5910" y="17586"/>
                      </a:lnTo>
                      <a:lnTo>
                        <a:pt x="5910" y="18213"/>
                      </a:lnTo>
                      <a:lnTo>
                        <a:pt x="5795" y="18885"/>
                      </a:lnTo>
                      <a:lnTo>
                        <a:pt x="5566" y="19396"/>
                      </a:lnTo>
                      <a:lnTo>
                        <a:pt x="5245" y="19976"/>
                      </a:lnTo>
                      <a:lnTo>
                        <a:pt x="4971" y="20370"/>
                      </a:lnTo>
                      <a:lnTo>
                        <a:pt x="4512" y="20811"/>
                      </a:lnTo>
                      <a:lnTo>
                        <a:pt x="4077" y="21043"/>
                      </a:lnTo>
                      <a:lnTo>
                        <a:pt x="5177" y="20927"/>
                      </a:lnTo>
                      <a:lnTo>
                        <a:pt x="6253" y="20486"/>
                      </a:lnTo>
                      <a:lnTo>
                        <a:pt x="7421" y="19976"/>
                      </a:lnTo>
                      <a:lnTo>
                        <a:pt x="8361" y="19187"/>
                      </a:lnTo>
                      <a:lnTo>
                        <a:pt x="8819" y="18769"/>
                      </a:lnTo>
                      <a:lnTo>
                        <a:pt x="9139" y="18213"/>
                      </a:lnTo>
                      <a:lnTo>
                        <a:pt x="9437" y="17772"/>
                      </a:lnTo>
                      <a:lnTo>
                        <a:pt x="9643" y="17261"/>
                      </a:lnTo>
                      <a:lnTo>
                        <a:pt x="9872" y="16681"/>
                      </a:lnTo>
                      <a:lnTo>
                        <a:pt x="9872" y="16171"/>
                      </a:lnTo>
                      <a:lnTo>
                        <a:pt x="9872" y="15614"/>
                      </a:lnTo>
                      <a:lnTo>
                        <a:pt x="9758" y="15057"/>
                      </a:lnTo>
                      <a:lnTo>
                        <a:pt x="10216" y="15498"/>
                      </a:lnTo>
                      <a:lnTo>
                        <a:pt x="10537" y="16241"/>
                      </a:lnTo>
                      <a:lnTo>
                        <a:pt x="10834" y="17145"/>
                      </a:lnTo>
                      <a:lnTo>
                        <a:pt x="11041" y="18213"/>
                      </a:lnTo>
                      <a:lnTo>
                        <a:pt x="11155" y="19187"/>
                      </a:lnTo>
                      <a:lnTo>
                        <a:pt x="11155" y="20185"/>
                      </a:lnTo>
                      <a:lnTo>
                        <a:pt x="11155" y="20579"/>
                      </a:lnTo>
                      <a:lnTo>
                        <a:pt x="11041" y="21043"/>
                      </a:lnTo>
                      <a:lnTo>
                        <a:pt x="10926" y="21391"/>
                      </a:lnTo>
                      <a:lnTo>
                        <a:pt x="10766" y="21600"/>
                      </a:lnTo>
                      <a:lnTo>
                        <a:pt x="11499" y="21484"/>
                      </a:lnTo>
                      <a:lnTo>
                        <a:pt x="12323" y="21043"/>
                      </a:lnTo>
                      <a:lnTo>
                        <a:pt x="13102" y="20370"/>
                      </a:lnTo>
                      <a:lnTo>
                        <a:pt x="13606" y="19628"/>
                      </a:lnTo>
                      <a:lnTo>
                        <a:pt x="13950" y="19071"/>
                      </a:lnTo>
                      <a:lnTo>
                        <a:pt x="14064" y="18677"/>
                      </a:lnTo>
                      <a:lnTo>
                        <a:pt x="14179" y="18097"/>
                      </a:lnTo>
                      <a:lnTo>
                        <a:pt x="14293" y="17586"/>
                      </a:lnTo>
                      <a:lnTo>
                        <a:pt x="14179" y="16913"/>
                      </a:lnTo>
                      <a:lnTo>
                        <a:pt x="14064" y="16241"/>
                      </a:lnTo>
                      <a:lnTo>
                        <a:pt x="13835" y="15614"/>
                      </a:lnTo>
                      <a:lnTo>
                        <a:pt x="13560" y="14872"/>
                      </a:lnTo>
                      <a:lnTo>
                        <a:pt x="13950" y="14941"/>
                      </a:lnTo>
                      <a:lnTo>
                        <a:pt x="14408" y="15150"/>
                      </a:lnTo>
                      <a:lnTo>
                        <a:pt x="14843" y="15266"/>
                      </a:lnTo>
                      <a:lnTo>
                        <a:pt x="15232" y="15614"/>
                      </a:lnTo>
                      <a:lnTo>
                        <a:pt x="15576" y="15846"/>
                      </a:lnTo>
                      <a:lnTo>
                        <a:pt x="15897" y="16171"/>
                      </a:lnTo>
                      <a:lnTo>
                        <a:pt x="16126" y="16473"/>
                      </a:lnTo>
                      <a:lnTo>
                        <a:pt x="16240" y="16913"/>
                      </a:lnTo>
                      <a:lnTo>
                        <a:pt x="16515" y="17261"/>
                      </a:lnTo>
                      <a:lnTo>
                        <a:pt x="17088" y="17586"/>
                      </a:lnTo>
                      <a:lnTo>
                        <a:pt x="17798" y="17865"/>
                      </a:lnTo>
                      <a:lnTo>
                        <a:pt x="18576" y="18097"/>
                      </a:lnTo>
                      <a:lnTo>
                        <a:pt x="19424" y="18213"/>
                      </a:lnTo>
                      <a:lnTo>
                        <a:pt x="20317" y="18213"/>
                      </a:lnTo>
                      <a:lnTo>
                        <a:pt x="21050" y="18213"/>
                      </a:lnTo>
                      <a:lnTo>
                        <a:pt x="21600" y="17865"/>
                      </a:lnTo>
                      <a:lnTo>
                        <a:pt x="21165" y="17656"/>
                      </a:lnTo>
                      <a:lnTo>
                        <a:pt x="20592" y="17470"/>
                      </a:lnTo>
                      <a:lnTo>
                        <a:pt x="20088" y="17029"/>
                      </a:lnTo>
                      <a:lnTo>
                        <a:pt x="19653" y="16681"/>
                      </a:lnTo>
                      <a:lnTo>
                        <a:pt x="19195" y="16241"/>
                      </a:lnTo>
                      <a:lnTo>
                        <a:pt x="18920" y="15962"/>
                      </a:lnTo>
                      <a:lnTo>
                        <a:pt x="18576" y="15498"/>
                      </a:lnTo>
                      <a:lnTo>
                        <a:pt x="18576" y="15057"/>
                      </a:lnTo>
                      <a:lnTo>
                        <a:pt x="18485" y="14756"/>
                      </a:lnTo>
                      <a:lnTo>
                        <a:pt x="18256" y="14199"/>
                      </a:lnTo>
                      <a:lnTo>
                        <a:pt x="17912" y="13526"/>
                      </a:lnTo>
                      <a:lnTo>
                        <a:pt x="17523" y="13016"/>
                      </a:lnTo>
                      <a:lnTo>
                        <a:pt x="16973" y="12436"/>
                      </a:lnTo>
                      <a:lnTo>
                        <a:pt x="16355" y="12041"/>
                      </a:lnTo>
                      <a:lnTo>
                        <a:pt x="16011" y="11832"/>
                      </a:lnTo>
                      <a:lnTo>
                        <a:pt x="15690" y="11716"/>
                      </a:lnTo>
                      <a:lnTo>
                        <a:pt x="15232" y="11716"/>
                      </a:lnTo>
                      <a:lnTo>
                        <a:pt x="14843" y="11716"/>
                      </a:lnTo>
                      <a:lnTo>
                        <a:pt x="15461" y="11252"/>
                      </a:lnTo>
                      <a:lnTo>
                        <a:pt x="16126" y="10858"/>
                      </a:lnTo>
                      <a:lnTo>
                        <a:pt x="16973" y="10649"/>
                      </a:lnTo>
                      <a:lnTo>
                        <a:pt x="17798" y="10417"/>
                      </a:lnTo>
                      <a:lnTo>
                        <a:pt x="18806" y="10301"/>
                      </a:lnTo>
                      <a:lnTo>
                        <a:pt x="19653" y="10301"/>
                      </a:lnTo>
                      <a:lnTo>
                        <a:pt x="20478" y="10417"/>
                      </a:lnTo>
                      <a:lnTo>
                        <a:pt x="21256" y="10533"/>
                      </a:lnTo>
                      <a:lnTo>
                        <a:pt x="20707" y="9837"/>
                      </a:lnTo>
                      <a:lnTo>
                        <a:pt x="19859" y="9234"/>
                      </a:lnTo>
                      <a:lnTo>
                        <a:pt x="18806" y="8538"/>
                      </a:lnTo>
                      <a:lnTo>
                        <a:pt x="17637" y="8144"/>
                      </a:lnTo>
                      <a:lnTo>
                        <a:pt x="16973" y="8027"/>
                      </a:lnTo>
                      <a:lnTo>
                        <a:pt x="16355" y="7935"/>
                      </a:lnTo>
                      <a:lnTo>
                        <a:pt x="15805" y="7935"/>
                      </a:lnTo>
                      <a:lnTo>
                        <a:pt x="15118" y="8027"/>
                      </a:lnTo>
                      <a:lnTo>
                        <a:pt x="14614" y="8144"/>
                      </a:lnTo>
                      <a:lnTo>
                        <a:pt x="14064" y="8422"/>
                      </a:lnTo>
                      <a:lnTo>
                        <a:pt x="13606" y="8886"/>
                      </a:lnTo>
                      <a:lnTo>
                        <a:pt x="13217" y="9327"/>
                      </a:lnTo>
                      <a:lnTo>
                        <a:pt x="13606" y="8538"/>
                      </a:lnTo>
                      <a:lnTo>
                        <a:pt x="13950" y="7935"/>
                      </a:lnTo>
                      <a:lnTo>
                        <a:pt x="14293" y="7123"/>
                      </a:lnTo>
                      <a:lnTo>
                        <a:pt x="14499" y="6519"/>
                      </a:lnTo>
                      <a:lnTo>
                        <a:pt x="14614" y="5823"/>
                      </a:lnTo>
                      <a:lnTo>
                        <a:pt x="14614" y="5220"/>
                      </a:lnTo>
                      <a:lnTo>
                        <a:pt x="14408" y="4524"/>
                      </a:lnTo>
                      <a:lnTo>
                        <a:pt x="14064" y="3898"/>
                      </a:lnTo>
                      <a:lnTo>
                        <a:pt x="13606" y="3225"/>
                      </a:lnTo>
                      <a:lnTo>
                        <a:pt x="13331" y="2598"/>
                      </a:lnTo>
                      <a:lnTo>
                        <a:pt x="13102" y="2042"/>
                      </a:lnTo>
                      <a:lnTo>
                        <a:pt x="12896" y="1485"/>
                      </a:lnTo>
                      <a:lnTo>
                        <a:pt x="12781" y="1090"/>
                      </a:lnTo>
                      <a:lnTo>
                        <a:pt x="12667" y="626"/>
                      </a:lnTo>
                      <a:lnTo>
                        <a:pt x="12667" y="278"/>
                      </a:lnTo>
                      <a:lnTo>
                        <a:pt x="12667" y="0"/>
                      </a:lnTo>
                      <a:lnTo>
                        <a:pt x="12163" y="394"/>
                      </a:lnTo>
                      <a:lnTo>
                        <a:pt x="11728" y="974"/>
                      </a:lnTo>
                      <a:lnTo>
                        <a:pt x="11155" y="1601"/>
                      </a:lnTo>
                      <a:lnTo>
                        <a:pt x="10766" y="2390"/>
                      </a:lnTo>
                      <a:lnTo>
                        <a:pt x="10330" y="3109"/>
                      </a:lnTo>
                      <a:lnTo>
                        <a:pt x="10101" y="3898"/>
                      </a:lnTo>
                      <a:lnTo>
                        <a:pt x="9987" y="4524"/>
                      </a:lnTo>
                      <a:lnTo>
                        <a:pt x="10101" y="5220"/>
                      </a:lnTo>
                      <a:lnTo>
                        <a:pt x="10216" y="5823"/>
                      </a:lnTo>
                      <a:lnTo>
                        <a:pt x="10330" y="6403"/>
                      </a:lnTo>
                      <a:lnTo>
                        <a:pt x="10330" y="6914"/>
                      </a:lnTo>
                      <a:lnTo>
                        <a:pt x="10216" y="7471"/>
                      </a:lnTo>
                      <a:lnTo>
                        <a:pt x="10101" y="7935"/>
                      </a:lnTo>
                      <a:lnTo>
                        <a:pt x="9872" y="8329"/>
                      </a:lnTo>
                      <a:lnTo>
                        <a:pt x="9643" y="8654"/>
                      </a:lnTo>
                      <a:lnTo>
                        <a:pt x="9368" y="9002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07" name="Freeform 492"/>
              <p:cNvSpPr/>
              <p:nvPr/>
            </p:nvSpPr>
            <p:spPr>
              <a:xfrm rot="418200">
                <a:off x="7900200" y="6140880"/>
                <a:ext cx="466560" cy="526680"/>
              </a:xfrm>
              <a:custGeom>
                <a:avLst/>
                <a:gdLst>
                  <a:gd name="textAreaLeft" fmla="*/ 0 w 466560"/>
                  <a:gd name="textAreaRight" fmla="*/ 466920 w 466560"/>
                  <a:gd name="textAreaTop" fmla="*/ 0 h 526680"/>
                  <a:gd name="textAreaBottom" fmla="*/ 527040 h 526680"/>
                </a:gdLst>
                <a:ahLst/>
                <a:rect l="textAreaLeft" t="textAreaTop" r="textAreaRight" b="textAreaBottom"/>
                <a:pathLst>
                  <a:path w="515" h="557">
                    <a:moveTo>
                      <a:pt x="480" y="192"/>
                    </a:moveTo>
                    <a:cubicBezTo>
                      <a:pt x="483" y="187"/>
                      <a:pt x="515" y="190"/>
                      <a:pt x="480" y="160"/>
                    </a:cubicBezTo>
                    <a:cubicBezTo>
                      <a:pt x="445" y="130"/>
                      <a:pt x="339" y="0"/>
                      <a:pt x="272" y="13"/>
                    </a:cubicBezTo>
                    <a:cubicBezTo>
                      <a:pt x="205" y="26"/>
                      <a:pt x="125" y="146"/>
                      <a:pt x="80" y="237"/>
                    </a:cubicBezTo>
                    <a:cubicBezTo>
                      <a:pt x="35" y="328"/>
                      <a:pt x="17" y="490"/>
                      <a:pt x="0" y="557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Freeform 493"/>
              <p:cNvSpPr/>
              <p:nvPr/>
            </p:nvSpPr>
            <p:spPr>
              <a:xfrm rot="418200">
                <a:off x="7861320" y="6047280"/>
                <a:ext cx="50760" cy="605160"/>
              </a:xfrm>
              <a:custGeom>
                <a:avLst/>
                <a:gdLst>
                  <a:gd name="textAreaLeft" fmla="*/ 0 w 50760"/>
                  <a:gd name="textAreaRight" fmla="*/ 51120 w 50760"/>
                  <a:gd name="textAreaTop" fmla="*/ 0 h 605160"/>
                  <a:gd name="textAreaBottom" fmla="*/ 605520 h 605160"/>
                </a:gdLst>
                <a:ahLst/>
                <a:rect l="textAreaLeft" t="textAreaTop" r="textAreaRight" b="textAreaBottom"/>
                <a:pathLst>
                  <a:path w="56" h="640">
                    <a:moveTo>
                      <a:pt x="0" y="0"/>
                    </a:moveTo>
                    <a:cubicBezTo>
                      <a:pt x="5" y="51"/>
                      <a:pt x="40" y="197"/>
                      <a:pt x="48" y="304"/>
                    </a:cubicBezTo>
                    <a:cubicBezTo>
                      <a:pt x="56" y="411"/>
                      <a:pt x="40" y="516"/>
                      <a:pt x="48" y="640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09" name="Group 494"/>
              <p:cNvGrpSpPr/>
              <p:nvPr/>
            </p:nvGrpSpPr>
            <p:grpSpPr>
              <a:xfrm>
                <a:off x="7805520" y="5951520"/>
                <a:ext cx="230760" cy="208440"/>
                <a:chOff x="7805520" y="5951520"/>
                <a:chExt cx="230760" cy="208440"/>
              </a:xfrm>
            </p:grpSpPr>
            <p:grpSp>
              <p:nvGrpSpPr>
                <p:cNvPr id="610" name="Group 495"/>
                <p:cNvGrpSpPr/>
                <p:nvPr/>
              </p:nvGrpSpPr>
              <p:grpSpPr>
                <a:xfrm>
                  <a:off x="7805520" y="5951520"/>
                  <a:ext cx="230760" cy="180000"/>
                  <a:chOff x="7805520" y="5951520"/>
                  <a:chExt cx="230760" cy="180000"/>
                </a:xfrm>
              </p:grpSpPr>
              <p:sp>
                <p:nvSpPr>
                  <p:cNvPr id="611" name="Freeform 496"/>
                  <p:cNvSpPr/>
                  <p:nvPr/>
                </p:nvSpPr>
                <p:spPr>
                  <a:xfrm rot="4435200">
                    <a:off x="7823160" y="5987880"/>
                    <a:ext cx="70920" cy="90720"/>
                  </a:xfrm>
                  <a:custGeom>
                    <a:avLst/>
                    <a:gdLst>
                      <a:gd name="textAreaLeft" fmla="*/ 0 w 70920"/>
                      <a:gd name="textAreaRight" fmla="*/ 71280 w 70920"/>
                      <a:gd name="textAreaTop" fmla="*/ 0 h 90720"/>
                      <a:gd name="textAreaBottom" fmla="*/ 91080 h 90720"/>
                    </a:gdLst>
                    <a:ahLst/>
                    <a:rect l="textAreaLeft" t="textAreaTop" r="textAreaRight" b="textAreaBottom"/>
                    <a:pathLst>
                      <a:path w="224" h="328">
                        <a:moveTo>
                          <a:pt x="168" y="8"/>
                        </a:moveTo>
                        <a:cubicBezTo>
                          <a:pt x="136" y="0"/>
                          <a:pt x="48" y="56"/>
                          <a:pt x="24" y="104"/>
                        </a:cubicBezTo>
                        <a:cubicBezTo>
                          <a:pt x="0" y="152"/>
                          <a:pt x="8" y="264"/>
                          <a:pt x="24" y="296"/>
                        </a:cubicBezTo>
                        <a:cubicBezTo>
                          <a:pt x="40" y="328"/>
                          <a:pt x="88" y="320"/>
                          <a:pt x="120" y="296"/>
                        </a:cubicBezTo>
                        <a:cubicBezTo>
                          <a:pt x="152" y="272"/>
                          <a:pt x="208" y="200"/>
                          <a:pt x="216" y="152"/>
                        </a:cubicBezTo>
                        <a:cubicBezTo>
                          <a:pt x="224" y="104"/>
                          <a:pt x="200" y="16"/>
                          <a:pt x="168" y="8"/>
                        </a:cubicBezTo>
                        <a:close/>
                      </a:path>
                    </a:pathLst>
                  </a:cu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4280" bIns="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2" name="Freeform 497"/>
                  <p:cNvSpPr/>
                  <p:nvPr/>
                </p:nvSpPr>
                <p:spPr>
                  <a:xfrm rot="418200">
                    <a:off x="7842240" y="6048360"/>
                    <a:ext cx="72360" cy="78840"/>
                  </a:xfrm>
                  <a:custGeom>
                    <a:avLst/>
                    <a:gdLst>
                      <a:gd name="textAreaLeft" fmla="*/ 0 w 72360"/>
                      <a:gd name="textAreaRight" fmla="*/ 72720 w 72360"/>
                      <a:gd name="textAreaTop" fmla="*/ 0 h 78840"/>
                      <a:gd name="textAreaBottom" fmla="*/ 79200 h 78840"/>
                    </a:gdLst>
                    <a:ahLst/>
                    <a:rect l="textAreaLeft" t="textAreaTop" r="textAreaRight" b="textAreaBottom"/>
                    <a:pathLst>
                      <a:path w="224" h="328">
                        <a:moveTo>
                          <a:pt x="168" y="8"/>
                        </a:moveTo>
                        <a:cubicBezTo>
                          <a:pt x="136" y="0"/>
                          <a:pt x="48" y="56"/>
                          <a:pt x="24" y="104"/>
                        </a:cubicBezTo>
                        <a:cubicBezTo>
                          <a:pt x="0" y="152"/>
                          <a:pt x="8" y="264"/>
                          <a:pt x="24" y="296"/>
                        </a:cubicBezTo>
                        <a:cubicBezTo>
                          <a:pt x="40" y="328"/>
                          <a:pt x="88" y="320"/>
                          <a:pt x="120" y="296"/>
                        </a:cubicBezTo>
                        <a:cubicBezTo>
                          <a:pt x="152" y="272"/>
                          <a:pt x="208" y="200"/>
                          <a:pt x="216" y="152"/>
                        </a:cubicBezTo>
                        <a:cubicBezTo>
                          <a:pt x="224" y="104"/>
                          <a:pt x="200" y="16"/>
                          <a:pt x="168" y="8"/>
                        </a:cubicBezTo>
                        <a:close/>
                      </a:path>
                    </a:pathLst>
                  </a:cu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400" bIns="32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3" name="Freeform 498"/>
                  <p:cNvSpPr/>
                  <p:nvPr/>
                </p:nvSpPr>
                <p:spPr>
                  <a:xfrm rot="4212000">
                    <a:off x="7945920" y="6019200"/>
                    <a:ext cx="70920" cy="90360"/>
                  </a:xfrm>
                  <a:custGeom>
                    <a:avLst/>
                    <a:gdLst>
                      <a:gd name="textAreaLeft" fmla="*/ 0 w 70920"/>
                      <a:gd name="textAreaRight" fmla="*/ 71280 w 70920"/>
                      <a:gd name="textAreaTop" fmla="*/ 0 h 90360"/>
                      <a:gd name="textAreaBottom" fmla="*/ 90720 h 90360"/>
                    </a:gdLst>
                    <a:ahLst/>
                    <a:rect l="textAreaLeft" t="textAreaTop" r="textAreaRight" b="textAreaBottom"/>
                    <a:pathLst>
                      <a:path w="224" h="328">
                        <a:moveTo>
                          <a:pt x="168" y="8"/>
                        </a:moveTo>
                        <a:cubicBezTo>
                          <a:pt x="136" y="0"/>
                          <a:pt x="48" y="56"/>
                          <a:pt x="24" y="104"/>
                        </a:cubicBezTo>
                        <a:cubicBezTo>
                          <a:pt x="0" y="152"/>
                          <a:pt x="8" y="264"/>
                          <a:pt x="24" y="296"/>
                        </a:cubicBezTo>
                        <a:cubicBezTo>
                          <a:pt x="40" y="328"/>
                          <a:pt x="88" y="320"/>
                          <a:pt x="120" y="296"/>
                        </a:cubicBezTo>
                        <a:cubicBezTo>
                          <a:pt x="152" y="272"/>
                          <a:pt x="208" y="200"/>
                          <a:pt x="216" y="152"/>
                        </a:cubicBezTo>
                        <a:cubicBezTo>
                          <a:pt x="224" y="104"/>
                          <a:pt x="200" y="16"/>
                          <a:pt x="168" y="8"/>
                        </a:cubicBezTo>
                        <a:close/>
                      </a:path>
                    </a:pathLst>
                  </a:cu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920" bIns="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4" name="Freeform 499"/>
                  <p:cNvSpPr/>
                  <p:nvPr/>
                </p:nvSpPr>
                <p:spPr>
                  <a:xfrm rot="7452000">
                    <a:off x="7862040" y="5960880"/>
                    <a:ext cx="70920" cy="90360"/>
                  </a:xfrm>
                  <a:custGeom>
                    <a:avLst/>
                    <a:gdLst>
                      <a:gd name="textAreaLeft" fmla="*/ 0 w 70920"/>
                      <a:gd name="textAreaRight" fmla="*/ 71280 w 70920"/>
                      <a:gd name="textAreaTop" fmla="*/ 0 h 90360"/>
                      <a:gd name="textAreaBottom" fmla="*/ 90720 h 90360"/>
                    </a:gdLst>
                    <a:ahLst/>
                    <a:rect l="textAreaLeft" t="textAreaTop" r="textAreaRight" b="textAreaBottom"/>
                    <a:pathLst>
                      <a:path w="224" h="328">
                        <a:moveTo>
                          <a:pt x="168" y="8"/>
                        </a:moveTo>
                        <a:cubicBezTo>
                          <a:pt x="136" y="0"/>
                          <a:pt x="48" y="56"/>
                          <a:pt x="24" y="104"/>
                        </a:cubicBezTo>
                        <a:cubicBezTo>
                          <a:pt x="0" y="152"/>
                          <a:pt x="8" y="264"/>
                          <a:pt x="24" y="296"/>
                        </a:cubicBezTo>
                        <a:cubicBezTo>
                          <a:pt x="40" y="328"/>
                          <a:pt x="88" y="320"/>
                          <a:pt x="120" y="296"/>
                        </a:cubicBezTo>
                        <a:cubicBezTo>
                          <a:pt x="152" y="272"/>
                          <a:pt x="208" y="200"/>
                          <a:pt x="216" y="152"/>
                        </a:cubicBezTo>
                        <a:cubicBezTo>
                          <a:pt x="224" y="104"/>
                          <a:pt x="200" y="16"/>
                          <a:pt x="168" y="8"/>
                        </a:cubicBezTo>
                        <a:close/>
                      </a:path>
                    </a:pathLst>
                  </a:cu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920" bIns="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5" name="Freeform 500"/>
                  <p:cNvSpPr/>
                  <p:nvPr/>
                </p:nvSpPr>
                <p:spPr>
                  <a:xfrm rot="418200">
                    <a:off x="7926120" y="5963040"/>
                    <a:ext cx="72360" cy="78840"/>
                  </a:xfrm>
                  <a:custGeom>
                    <a:avLst/>
                    <a:gdLst>
                      <a:gd name="textAreaLeft" fmla="*/ 0 w 72360"/>
                      <a:gd name="textAreaRight" fmla="*/ 72720 w 72360"/>
                      <a:gd name="textAreaTop" fmla="*/ 0 h 78840"/>
                      <a:gd name="textAreaBottom" fmla="*/ 79200 h 78840"/>
                    </a:gdLst>
                    <a:ahLst/>
                    <a:rect l="textAreaLeft" t="textAreaTop" r="textAreaRight" b="textAreaBottom"/>
                    <a:pathLst>
                      <a:path w="224" h="328">
                        <a:moveTo>
                          <a:pt x="168" y="8"/>
                        </a:moveTo>
                        <a:cubicBezTo>
                          <a:pt x="136" y="0"/>
                          <a:pt x="48" y="56"/>
                          <a:pt x="24" y="104"/>
                        </a:cubicBezTo>
                        <a:cubicBezTo>
                          <a:pt x="0" y="152"/>
                          <a:pt x="8" y="264"/>
                          <a:pt x="24" y="296"/>
                        </a:cubicBezTo>
                        <a:cubicBezTo>
                          <a:pt x="40" y="328"/>
                          <a:pt x="88" y="320"/>
                          <a:pt x="120" y="296"/>
                        </a:cubicBezTo>
                        <a:cubicBezTo>
                          <a:pt x="152" y="272"/>
                          <a:pt x="208" y="200"/>
                          <a:pt x="216" y="152"/>
                        </a:cubicBezTo>
                        <a:cubicBezTo>
                          <a:pt x="224" y="104"/>
                          <a:pt x="200" y="16"/>
                          <a:pt x="168" y="8"/>
                        </a:cubicBezTo>
                        <a:close/>
                      </a:path>
                    </a:pathLst>
                  </a:cu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400" bIns="32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6" name="Freeform 501"/>
                  <p:cNvSpPr/>
                  <p:nvPr/>
                </p:nvSpPr>
                <p:spPr>
                  <a:xfrm rot="418200">
                    <a:off x="7901640" y="6037200"/>
                    <a:ext cx="36000" cy="31320"/>
                  </a:xfrm>
                  <a:custGeom>
                    <a:avLst/>
                    <a:gdLst>
                      <a:gd name="textAreaLeft" fmla="*/ 0 w 36000"/>
                      <a:gd name="textAreaRight" fmla="*/ 36360 w 36000"/>
                      <a:gd name="textAreaTop" fmla="*/ 0 h 31320"/>
                      <a:gd name="textAreaBottom" fmla="*/ 31680 h 31320"/>
                    </a:gdLst>
                    <a:ahLst/>
                    <a:rect l="textAreaLeft" t="textAreaTop" r="textAreaRight" b="textAreaBottom"/>
                    <a:pathLst>
                      <a:path w="224" h="328">
                        <a:moveTo>
                          <a:pt x="168" y="8"/>
                        </a:moveTo>
                        <a:cubicBezTo>
                          <a:pt x="136" y="0"/>
                          <a:pt x="48" y="56"/>
                          <a:pt x="24" y="104"/>
                        </a:cubicBezTo>
                        <a:cubicBezTo>
                          <a:pt x="0" y="152"/>
                          <a:pt x="8" y="264"/>
                          <a:pt x="24" y="296"/>
                        </a:cubicBezTo>
                        <a:cubicBezTo>
                          <a:pt x="40" y="328"/>
                          <a:pt x="88" y="320"/>
                          <a:pt x="120" y="296"/>
                        </a:cubicBezTo>
                        <a:cubicBezTo>
                          <a:pt x="152" y="272"/>
                          <a:pt x="208" y="200"/>
                          <a:pt x="216" y="152"/>
                        </a:cubicBezTo>
                        <a:cubicBezTo>
                          <a:pt x="224" y="104"/>
                          <a:pt x="200" y="16"/>
                          <a:pt x="168" y="8"/>
                        </a:cubicBezTo>
                        <a:close/>
                      </a:path>
                    </a:pathLst>
                  </a:custGeom>
                  <a:solidFill>
                    <a:srgbClr val="33cc33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17" name="Freeform 502"/>
                <p:cNvSpPr/>
                <p:nvPr/>
              </p:nvSpPr>
              <p:spPr>
                <a:xfrm rot="7135200">
                  <a:off x="7904880" y="6062040"/>
                  <a:ext cx="70920" cy="90360"/>
                </a:xfrm>
                <a:custGeom>
                  <a:avLst/>
                  <a:gdLst>
                    <a:gd name="textAreaLeft" fmla="*/ 0 w 70920"/>
                    <a:gd name="textAreaRight" fmla="*/ 71280 w 70920"/>
                    <a:gd name="textAreaTop" fmla="*/ 0 h 90360"/>
                    <a:gd name="textAreaBottom" fmla="*/ 90720 h 90360"/>
                  </a:gdLst>
                  <a:ahLst/>
                  <a:rect l="textAreaLeft" t="textAreaTop" r="textAreaRight" b="textAreaBottom"/>
                  <a:pathLst>
                    <a:path w="224" h="328">
                      <a:moveTo>
                        <a:pt x="168" y="8"/>
                      </a:moveTo>
                      <a:cubicBezTo>
                        <a:pt x="136" y="0"/>
                        <a:pt x="48" y="56"/>
                        <a:pt x="24" y="104"/>
                      </a:cubicBezTo>
                      <a:cubicBezTo>
                        <a:pt x="0" y="152"/>
                        <a:pt x="8" y="264"/>
                        <a:pt x="24" y="296"/>
                      </a:cubicBezTo>
                      <a:cubicBezTo>
                        <a:pt x="40" y="328"/>
                        <a:pt x="88" y="320"/>
                        <a:pt x="120" y="296"/>
                      </a:cubicBezTo>
                      <a:cubicBezTo>
                        <a:pt x="152" y="272"/>
                        <a:pt x="208" y="200"/>
                        <a:pt x="216" y="152"/>
                      </a:cubicBezTo>
                      <a:cubicBezTo>
                        <a:pt x="224" y="104"/>
                        <a:pt x="200" y="16"/>
                        <a:pt x="168" y="8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18" name="Freeform 503"/>
              <p:cNvSpPr/>
              <p:nvPr/>
            </p:nvSpPr>
            <p:spPr>
              <a:xfrm rot="418200">
                <a:off x="7899840" y="6162840"/>
                <a:ext cx="376920" cy="487080"/>
              </a:xfrm>
              <a:custGeom>
                <a:avLst/>
                <a:gdLst>
                  <a:gd name="textAreaLeft" fmla="*/ 0 w 376920"/>
                  <a:gd name="textAreaRight" fmla="*/ 377280 w 376920"/>
                  <a:gd name="textAreaTop" fmla="*/ 0 h 487080"/>
                  <a:gd name="textAreaBottom" fmla="*/ 487440 h 487080"/>
                </a:gdLst>
                <a:ahLst/>
                <a:rect l="textAreaLeft" t="textAreaTop" r="textAreaRight" b="textAreaBottom"/>
                <a:pathLst>
                  <a:path w="416" h="515">
                    <a:moveTo>
                      <a:pt x="384" y="211"/>
                    </a:moveTo>
                    <a:cubicBezTo>
                      <a:pt x="387" y="206"/>
                      <a:pt x="416" y="214"/>
                      <a:pt x="384" y="179"/>
                    </a:cubicBezTo>
                    <a:cubicBezTo>
                      <a:pt x="352" y="144"/>
                      <a:pt x="250" y="0"/>
                      <a:pt x="192" y="3"/>
                    </a:cubicBezTo>
                    <a:cubicBezTo>
                      <a:pt x="134" y="6"/>
                      <a:pt x="69" y="110"/>
                      <a:pt x="37" y="195"/>
                    </a:cubicBezTo>
                    <a:cubicBezTo>
                      <a:pt x="5" y="280"/>
                      <a:pt x="8" y="448"/>
                      <a:pt x="0" y="515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Freeform 504"/>
              <p:cNvSpPr/>
              <p:nvPr/>
            </p:nvSpPr>
            <p:spPr>
              <a:xfrm rot="418200">
                <a:off x="7891200" y="6289560"/>
                <a:ext cx="311760" cy="367560"/>
              </a:xfrm>
              <a:custGeom>
                <a:avLst/>
                <a:gdLst>
                  <a:gd name="textAreaLeft" fmla="*/ 0 w 311760"/>
                  <a:gd name="textAreaRight" fmla="*/ 311760 w 311760"/>
                  <a:gd name="textAreaTop" fmla="*/ 0 h 367560"/>
                  <a:gd name="textAreaBottom" fmla="*/ 367920 h 367560"/>
                </a:gdLst>
                <a:ahLst/>
                <a:rect l="textAreaLeft" t="textAreaTop" r="textAreaRight" b="textAreaBottom"/>
                <a:pathLst>
                  <a:path w="344" h="389">
                    <a:moveTo>
                      <a:pt x="320" y="149"/>
                    </a:moveTo>
                    <a:cubicBezTo>
                      <a:pt x="317" y="152"/>
                      <a:pt x="344" y="189"/>
                      <a:pt x="320" y="165"/>
                    </a:cubicBezTo>
                    <a:cubicBezTo>
                      <a:pt x="296" y="141"/>
                      <a:pt x="216" y="10"/>
                      <a:pt x="176" y="5"/>
                    </a:cubicBezTo>
                    <a:cubicBezTo>
                      <a:pt x="136" y="0"/>
                      <a:pt x="109" y="69"/>
                      <a:pt x="80" y="133"/>
                    </a:cubicBezTo>
                    <a:cubicBezTo>
                      <a:pt x="51" y="197"/>
                      <a:pt x="17" y="336"/>
                      <a:pt x="0" y="389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20" name="Group 505"/>
              <p:cNvGrpSpPr/>
              <p:nvPr/>
            </p:nvGrpSpPr>
            <p:grpSpPr>
              <a:xfrm>
                <a:off x="8026560" y="5932440"/>
                <a:ext cx="231120" cy="208440"/>
                <a:chOff x="8026560" y="5932440"/>
                <a:chExt cx="231120" cy="208440"/>
              </a:xfrm>
            </p:grpSpPr>
            <p:grpSp>
              <p:nvGrpSpPr>
                <p:cNvPr id="621" name="Group 506"/>
                <p:cNvGrpSpPr/>
                <p:nvPr/>
              </p:nvGrpSpPr>
              <p:grpSpPr>
                <a:xfrm>
                  <a:off x="8026560" y="5932440"/>
                  <a:ext cx="231120" cy="180000"/>
                  <a:chOff x="8026560" y="5932440"/>
                  <a:chExt cx="231120" cy="180000"/>
                </a:xfrm>
              </p:grpSpPr>
              <p:sp>
                <p:nvSpPr>
                  <p:cNvPr id="622" name="Freeform 507"/>
                  <p:cNvSpPr/>
                  <p:nvPr/>
                </p:nvSpPr>
                <p:spPr>
                  <a:xfrm rot="4435200">
                    <a:off x="8044200" y="5968800"/>
                    <a:ext cx="70920" cy="90720"/>
                  </a:xfrm>
                  <a:custGeom>
                    <a:avLst/>
                    <a:gdLst>
                      <a:gd name="textAreaLeft" fmla="*/ 0 w 70920"/>
                      <a:gd name="textAreaRight" fmla="*/ 71280 w 70920"/>
                      <a:gd name="textAreaTop" fmla="*/ 0 h 90720"/>
                      <a:gd name="textAreaBottom" fmla="*/ 91080 h 90720"/>
                    </a:gdLst>
                    <a:ahLst/>
                    <a:rect l="textAreaLeft" t="textAreaTop" r="textAreaRight" b="textAreaBottom"/>
                    <a:pathLst>
                      <a:path w="224" h="328">
                        <a:moveTo>
                          <a:pt x="168" y="8"/>
                        </a:moveTo>
                        <a:cubicBezTo>
                          <a:pt x="136" y="0"/>
                          <a:pt x="48" y="56"/>
                          <a:pt x="24" y="104"/>
                        </a:cubicBezTo>
                        <a:cubicBezTo>
                          <a:pt x="0" y="152"/>
                          <a:pt x="8" y="264"/>
                          <a:pt x="24" y="296"/>
                        </a:cubicBezTo>
                        <a:cubicBezTo>
                          <a:pt x="40" y="328"/>
                          <a:pt x="88" y="320"/>
                          <a:pt x="120" y="296"/>
                        </a:cubicBezTo>
                        <a:cubicBezTo>
                          <a:pt x="152" y="272"/>
                          <a:pt x="208" y="200"/>
                          <a:pt x="216" y="152"/>
                        </a:cubicBezTo>
                        <a:cubicBezTo>
                          <a:pt x="224" y="104"/>
                          <a:pt x="200" y="16"/>
                          <a:pt x="168" y="8"/>
                        </a:cubicBezTo>
                        <a:close/>
                      </a:path>
                    </a:pathLst>
                  </a:cu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4280" bIns="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3" name="Freeform 508"/>
                  <p:cNvSpPr/>
                  <p:nvPr/>
                </p:nvSpPr>
                <p:spPr>
                  <a:xfrm rot="418200">
                    <a:off x="8063640" y="6029280"/>
                    <a:ext cx="72360" cy="78840"/>
                  </a:xfrm>
                  <a:custGeom>
                    <a:avLst/>
                    <a:gdLst>
                      <a:gd name="textAreaLeft" fmla="*/ 0 w 72360"/>
                      <a:gd name="textAreaRight" fmla="*/ 72720 w 72360"/>
                      <a:gd name="textAreaTop" fmla="*/ 0 h 78840"/>
                      <a:gd name="textAreaBottom" fmla="*/ 79200 h 78840"/>
                    </a:gdLst>
                    <a:ahLst/>
                    <a:rect l="textAreaLeft" t="textAreaTop" r="textAreaRight" b="textAreaBottom"/>
                    <a:pathLst>
                      <a:path w="224" h="328">
                        <a:moveTo>
                          <a:pt x="168" y="8"/>
                        </a:moveTo>
                        <a:cubicBezTo>
                          <a:pt x="136" y="0"/>
                          <a:pt x="48" y="56"/>
                          <a:pt x="24" y="104"/>
                        </a:cubicBezTo>
                        <a:cubicBezTo>
                          <a:pt x="0" y="152"/>
                          <a:pt x="8" y="264"/>
                          <a:pt x="24" y="296"/>
                        </a:cubicBezTo>
                        <a:cubicBezTo>
                          <a:pt x="40" y="328"/>
                          <a:pt x="88" y="320"/>
                          <a:pt x="120" y="296"/>
                        </a:cubicBezTo>
                        <a:cubicBezTo>
                          <a:pt x="152" y="272"/>
                          <a:pt x="208" y="200"/>
                          <a:pt x="216" y="152"/>
                        </a:cubicBezTo>
                        <a:cubicBezTo>
                          <a:pt x="224" y="104"/>
                          <a:pt x="200" y="16"/>
                          <a:pt x="168" y="8"/>
                        </a:cubicBezTo>
                        <a:close/>
                      </a:path>
                    </a:pathLst>
                  </a:cu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400" bIns="32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4" name="Freeform 509"/>
                  <p:cNvSpPr/>
                  <p:nvPr/>
                </p:nvSpPr>
                <p:spPr>
                  <a:xfrm rot="4212000">
                    <a:off x="8167320" y="6000120"/>
                    <a:ext cx="70920" cy="90360"/>
                  </a:xfrm>
                  <a:custGeom>
                    <a:avLst/>
                    <a:gdLst>
                      <a:gd name="textAreaLeft" fmla="*/ 0 w 70920"/>
                      <a:gd name="textAreaRight" fmla="*/ 71280 w 70920"/>
                      <a:gd name="textAreaTop" fmla="*/ 0 h 90360"/>
                      <a:gd name="textAreaBottom" fmla="*/ 90720 h 90360"/>
                    </a:gdLst>
                    <a:ahLst/>
                    <a:rect l="textAreaLeft" t="textAreaTop" r="textAreaRight" b="textAreaBottom"/>
                    <a:pathLst>
                      <a:path w="224" h="328">
                        <a:moveTo>
                          <a:pt x="168" y="8"/>
                        </a:moveTo>
                        <a:cubicBezTo>
                          <a:pt x="136" y="0"/>
                          <a:pt x="48" y="56"/>
                          <a:pt x="24" y="104"/>
                        </a:cubicBezTo>
                        <a:cubicBezTo>
                          <a:pt x="0" y="152"/>
                          <a:pt x="8" y="264"/>
                          <a:pt x="24" y="296"/>
                        </a:cubicBezTo>
                        <a:cubicBezTo>
                          <a:pt x="40" y="328"/>
                          <a:pt x="88" y="320"/>
                          <a:pt x="120" y="296"/>
                        </a:cubicBezTo>
                        <a:cubicBezTo>
                          <a:pt x="152" y="272"/>
                          <a:pt x="208" y="200"/>
                          <a:pt x="216" y="152"/>
                        </a:cubicBezTo>
                        <a:cubicBezTo>
                          <a:pt x="224" y="104"/>
                          <a:pt x="200" y="16"/>
                          <a:pt x="168" y="8"/>
                        </a:cubicBezTo>
                        <a:close/>
                      </a:path>
                    </a:pathLst>
                  </a:cu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920" bIns="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5" name="Freeform 510"/>
                  <p:cNvSpPr/>
                  <p:nvPr/>
                </p:nvSpPr>
                <p:spPr>
                  <a:xfrm rot="7452000">
                    <a:off x="8083080" y="5941800"/>
                    <a:ext cx="70920" cy="90360"/>
                  </a:xfrm>
                  <a:custGeom>
                    <a:avLst/>
                    <a:gdLst>
                      <a:gd name="textAreaLeft" fmla="*/ 0 w 70920"/>
                      <a:gd name="textAreaRight" fmla="*/ 71280 w 70920"/>
                      <a:gd name="textAreaTop" fmla="*/ 0 h 90360"/>
                      <a:gd name="textAreaBottom" fmla="*/ 90720 h 90360"/>
                    </a:gdLst>
                    <a:ahLst/>
                    <a:rect l="textAreaLeft" t="textAreaTop" r="textAreaRight" b="textAreaBottom"/>
                    <a:pathLst>
                      <a:path w="224" h="328">
                        <a:moveTo>
                          <a:pt x="168" y="8"/>
                        </a:moveTo>
                        <a:cubicBezTo>
                          <a:pt x="136" y="0"/>
                          <a:pt x="48" y="56"/>
                          <a:pt x="24" y="104"/>
                        </a:cubicBezTo>
                        <a:cubicBezTo>
                          <a:pt x="0" y="152"/>
                          <a:pt x="8" y="264"/>
                          <a:pt x="24" y="296"/>
                        </a:cubicBezTo>
                        <a:cubicBezTo>
                          <a:pt x="40" y="328"/>
                          <a:pt x="88" y="320"/>
                          <a:pt x="120" y="296"/>
                        </a:cubicBezTo>
                        <a:cubicBezTo>
                          <a:pt x="152" y="272"/>
                          <a:pt x="208" y="200"/>
                          <a:pt x="216" y="152"/>
                        </a:cubicBezTo>
                        <a:cubicBezTo>
                          <a:pt x="224" y="104"/>
                          <a:pt x="200" y="16"/>
                          <a:pt x="168" y="8"/>
                        </a:cubicBezTo>
                        <a:close/>
                      </a:path>
                    </a:pathLst>
                  </a:cu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920" bIns="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6" name="Freeform 511"/>
                  <p:cNvSpPr/>
                  <p:nvPr/>
                </p:nvSpPr>
                <p:spPr>
                  <a:xfrm rot="418200">
                    <a:off x="8147520" y="5943960"/>
                    <a:ext cx="72360" cy="78840"/>
                  </a:xfrm>
                  <a:custGeom>
                    <a:avLst/>
                    <a:gdLst>
                      <a:gd name="textAreaLeft" fmla="*/ 0 w 72360"/>
                      <a:gd name="textAreaRight" fmla="*/ 72720 w 72360"/>
                      <a:gd name="textAreaTop" fmla="*/ 0 h 78840"/>
                      <a:gd name="textAreaBottom" fmla="*/ 79200 h 78840"/>
                    </a:gdLst>
                    <a:ahLst/>
                    <a:rect l="textAreaLeft" t="textAreaTop" r="textAreaRight" b="textAreaBottom"/>
                    <a:pathLst>
                      <a:path w="224" h="328">
                        <a:moveTo>
                          <a:pt x="168" y="8"/>
                        </a:moveTo>
                        <a:cubicBezTo>
                          <a:pt x="136" y="0"/>
                          <a:pt x="48" y="56"/>
                          <a:pt x="24" y="104"/>
                        </a:cubicBezTo>
                        <a:cubicBezTo>
                          <a:pt x="0" y="152"/>
                          <a:pt x="8" y="264"/>
                          <a:pt x="24" y="296"/>
                        </a:cubicBezTo>
                        <a:cubicBezTo>
                          <a:pt x="40" y="328"/>
                          <a:pt x="88" y="320"/>
                          <a:pt x="120" y="296"/>
                        </a:cubicBezTo>
                        <a:cubicBezTo>
                          <a:pt x="152" y="272"/>
                          <a:pt x="208" y="200"/>
                          <a:pt x="216" y="152"/>
                        </a:cubicBezTo>
                        <a:cubicBezTo>
                          <a:pt x="224" y="104"/>
                          <a:pt x="200" y="16"/>
                          <a:pt x="168" y="8"/>
                        </a:cubicBezTo>
                        <a:close/>
                      </a:path>
                    </a:pathLst>
                  </a:cu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400" bIns="32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7" name="Freeform 512"/>
                  <p:cNvSpPr/>
                  <p:nvPr/>
                </p:nvSpPr>
                <p:spPr>
                  <a:xfrm rot="418200">
                    <a:off x="8123040" y="6018120"/>
                    <a:ext cx="36000" cy="31320"/>
                  </a:xfrm>
                  <a:custGeom>
                    <a:avLst/>
                    <a:gdLst>
                      <a:gd name="textAreaLeft" fmla="*/ 0 w 36000"/>
                      <a:gd name="textAreaRight" fmla="*/ 36360 w 36000"/>
                      <a:gd name="textAreaTop" fmla="*/ 0 h 31320"/>
                      <a:gd name="textAreaBottom" fmla="*/ 31680 h 31320"/>
                    </a:gdLst>
                    <a:ahLst/>
                    <a:rect l="textAreaLeft" t="textAreaTop" r="textAreaRight" b="textAreaBottom"/>
                    <a:pathLst>
                      <a:path w="224" h="328">
                        <a:moveTo>
                          <a:pt x="168" y="8"/>
                        </a:moveTo>
                        <a:cubicBezTo>
                          <a:pt x="136" y="0"/>
                          <a:pt x="48" y="56"/>
                          <a:pt x="24" y="104"/>
                        </a:cubicBezTo>
                        <a:cubicBezTo>
                          <a:pt x="0" y="152"/>
                          <a:pt x="8" y="264"/>
                          <a:pt x="24" y="296"/>
                        </a:cubicBezTo>
                        <a:cubicBezTo>
                          <a:pt x="40" y="328"/>
                          <a:pt x="88" y="320"/>
                          <a:pt x="120" y="296"/>
                        </a:cubicBezTo>
                        <a:cubicBezTo>
                          <a:pt x="152" y="272"/>
                          <a:pt x="208" y="200"/>
                          <a:pt x="216" y="152"/>
                        </a:cubicBezTo>
                        <a:cubicBezTo>
                          <a:pt x="224" y="104"/>
                          <a:pt x="200" y="16"/>
                          <a:pt x="168" y="8"/>
                        </a:cubicBezTo>
                        <a:close/>
                      </a:path>
                    </a:pathLst>
                  </a:custGeom>
                  <a:solidFill>
                    <a:srgbClr val="33cc33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28" name="Freeform 513"/>
                <p:cNvSpPr/>
                <p:nvPr/>
              </p:nvSpPr>
              <p:spPr>
                <a:xfrm rot="7135200">
                  <a:off x="8126280" y="6042960"/>
                  <a:ext cx="70920" cy="90360"/>
                </a:xfrm>
                <a:custGeom>
                  <a:avLst/>
                  <a:gdLst>
                    <a:gd name="textAreaLeft" fmla="*/ 0 w 70920"/>
                    <a:gd name="textAreaRight" fmla="*/ 71280 w 70920"/>
                    <a:gd name="textAreaTop" fmla="*/ 0 h 90360"/>
                    <a:gd name="textAreaBottom" fmla="*/ 90720 h 90360"/>
                  </a:gdLst>
                  <a:ahLst/>
                  <a:rect l="textAreaLeft" t="textAreaTop" r="textAreaRight" b="textAreaBottom"/>
                  <a:pathLst>
                    <a:path w="224" h="328">
                      <a:moveTo>
                        <a:pt x="168" y="8"/>
                      </a:moveTo>
                      <a:cubicBezTo>
                        <a:pt x="136" y="0"/>
                        <a:pt x="48" y="56"/>
                        <a:pt x="24" y="104"/>
                      </a:cubicBezTo>
                      <a:cubicBezTo>
                        <a:pt x="0" y="152"/>
                        <a:pt x="8" y="264"/>
                        <a:pt x="24" y="296"/>
                      </a:cubicBezTo>
                      <a:cubicBezTo>
                        <a:pt x="40" y="328"/>
                        <a:pt x="88" y="320"/>
                        <a:pt x="120" y="296"/>
                      </a:cubicBezTo>
                      <a:cubicBezTo>
                        <a:pt x="152" y="272"/>
                        <a:pt x="208" y="200"/>
                        <a:pt x="216" y="152"/>
                      </a:cubicBezTo>
                      <a:cubicBezTo>
                        <a:pt x="224" y="104"/>
                        <a:pt x="200" y="16"/>
                        <a:pt x="168" y="8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9" name="Group 514"/>
              <p:cNvGrpSpPr/>
              <p:nvPr/>
            </p:nvGrpSpPr>
            <p:grpSpPr>
              <a:xfrm>
                <a:off x="8236440" y="6279840"/>
                <a:ext cx="234000" cy="286920"/>
                <a:chOff x="8236440" y="6279840"/>
                <a:chExt cx="234000" cy="286920"/>
              </a:xfrm>
            </p:grpSpPr>
            <p:grpSp>
              <p:nvGrpSpPr>
                <p:cNvPr id="630" name="Group 515"/>
                <p:cNvGrpSpPr/>
                <p:nvPr/>
              </p:nvGrpSpPr>
              <p:grpSpPr>
                <a:xfrm>
                  <a:off x="8236440" y="6334200"/>
                  <a:ext cx="234000" cy="232560"/>
                  <a:chOff x="8236440" y="6334200"/>
                  <a:chExt cx="234000" cy="232560"/>
                </a:xfrm>
              </p:grpSpPr>
              <p:sp>
                <p:nvSpPr>
                  <p:cNvPr id="631" name="Freeform 516"/>
                  <p:cNvSpPr/>
                  <p:nvPr/>
                </p:nvSpPr>
                <p:spPr>
                  <a:xfrm rot="11068800">
                    <a:off x="8364960" y="6347160"/>
                    <a:ext cx="96840" cy="216000"/>
                  </a:xfrm>
                  <a:custGeom>
                    <a:avLst/>
                    <a:gdLst>
                      <a:gd name="textAreaLeft" fmla="*/ 0 w 96840"/>
                      <a:gd name="textAreaRight" fmla="*/ 97200 w 96840"/>
                      <a:gd name="textAreaTop" fmla="*/ 0 h 216000"/>
                      <a:gd name="textAreaBottom" fmla="*/ 216360 h 216000"/>
                    </a:gdLst>
                    <a:ahLst/>
                    <a:rect l="textAreaLeft" t="textAreaTop" r="textAreaRight" b="textAreaBottom"/>
                    <a:pathLst>
                      <a:path w="296" h="552">
                        <a:moveTo>
                          <a:pt x="296" y="528"/>
                        </a:moveTo>
                        <a:cubicBezTo>
                          <a:pt x="224" y="540"/>
                          <a:pt x="152" y="552"/>
                          <a:pt x="104" y="528"/>
                        </a:cubicBezTo>
                        <a:cubicBezTo>
                          <a:pt x="56" y="504"/>
                          <a:pt x="16" y="440"/>
                          <a:pt x="8" y="384"/>
                        </a:cubicBezTo>
                        <a:cubicBezTo>
                          <a:pt x="0" y="328"/>
                          <a:pt x="24" y="248"/>
                          <a:pt x="56" y="192"/>
                        </a:cubicBezTo>
                        <a:cubicBezTo>
                          <a:pt x="88" y="136"/>
                          <a:pt x="160" y="80"/>
                          <a:pt x="200" y="48"/>
                        </a:cubicBezTo>
                        <a:cubicBezTo>
                          <a:pt x="240" y="16"/>
                          <a:pt x="268" y="8"/>
                          <a:pt x="296" y="0"/>
                        </a:cubicBezTo>
                      </a:path>
                    </a:pathLst>
                  </a:custGeom>
                  <a:solidFill>
                    <a:srgbClr val="ff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2" name="Freeform 517"/>
                  <p:cNvSpPr/>
                  <p:nvPr/>
                </p:nvSpPr>
                <p:spPr>
                  <a:xfrm flipH="1" rot="11068200">
                    <a:off x="8244720" y="6338520"/>
                    <a:ext cx="123120" cy="216000"/>
                  </a:xfrm>
                  <a:custGeom>
                    <a:avLst/>
                    <a:gdLst>
                      <a:gd name="textAreaLeft" fmla="*/ 360 w 123120"/>
                      <a:gd name="textAreaRight" fmla="*/ 123840 w 123120"/>
                      <a:gd name="textAreaTop" fmla="*/ 0 h 216000"/>
                      <a:gd name="textAreaBottom" fmla="*/ 216360 h 216000"/>
                    </a:gdLst>
                    <a:ahLst/>
                    <a:rect l="textAreaLeft" t="textAreaTop" r="textAreaRight" b="textAreaBottom"/>
                    <a:pathLst>
                      <a:path w="296" h="552">
                        <a:moveTo>
                          <a:pt x="296" y="528"/>
                        </a:moveTo>
                        <a:cubicBezTo>
                          <a:pt x="224" y="540"/>
                          <a:pt x="152" y="552"/>
                          <a:pt x="104" y="528"/>
                        </a:cubicBezTo>
                        <a:cubicBezTo>
                          <a:pt x="56" y="504"/>
                          <a:pt x="16" y="440"/>
                          <a:pt x="8" y="384"/>
                        </a:cubicBezTo>
                        <a:cubicBezTo>
                          <a:pt x="0" y="328"/>
                          <a:pt x="24" y="248"/>
                          <a:pt x="56" y="192"/>
                        </a:cubicBezTo>
                        <a:cubicBezTo>
                          <a:pt x="88" y="136"/>
                          <a:pt x="160" y="80"/>
                          <a:pt x="200" y="48"/>
                        </a:cubicBezTo>
                        <a:cubicBezTo>
                          <a:pt x="240" y="16"/>
                          <a:pt x="268" y="8"/>
                          <a:pt x="296" y="0"/>
                        </a:cubicBezTo>
                      </a:path>
                    </a:pathLst>
                  </a:custGeom>
                  <a:solidFill>
                    <a:srgbClr val="ff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33" name="Freeform 518"/>
                <p:cNvSpPr/>
                <p:nvPr/>
              </p:nvSpPr>
              <p:spPr>
                <a:xfrm flipV="1" rot="418200">
                  <a:off x="8374680" y="6401520"/>
                  <a:ext cx="15480" cy="18720"/>
                </a:xfrm>
                <a:custGeom>
                  <a:avLst/>
                  <a:gdLst>
                    <a:gd name="textAreaLeft" fmla="*/ 0 w 15480"/>
                    <a:gd name="textAreaRight" fmla="*/ 15840 w 15480"/>
                    <a:gd name="textAreaTop" fmla="*/ 360 h 18720"/>
                    <a:gd name="textAreaBottom" fmla="*/ 19440 h 18720"/>
                  </a:gdLst>
                  <a:ahLst/>
                  <a:rect l="textAreaLeft" t="textAreaTop" r="textAreaRight" b="textAreaBottom"/>
                  <a:pathLst>
                    <a:path w="192" h="288">
                      <a:moveTo>
                        <a:pt x="0" y="288"/>
                      </a:moveTo>
                      <a:lnTo>
                        <a:pt x="192" y="288"/>
                      </a:lnTo>
                      <a:lnTo>
                        <a:pt x="48" y="0"/>
                      </a:lnTo>
                      <a:lnTo>
                        <a:pt x="0" y="288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4" name="Freeform 519"/>
                <p:cNvSpPr/>
                <p:nvPr/>
              </p:nvSpPr>
              <p:spPr>
                <a:xfrm flipV="1" rot="418200">
                  <a:off x="8299080" y="6373080"/>
                  <a:ext cx="15480" cy="18720"/>
                </a:xfrm>
                <a:custGeom>
                  <a:avLst/>
                  <a:gdLst>
                    <a:gd name="textAreaLeft" fmla="*/ 0 w 15480"/>
                    <a:gd name="textAreaRight" fmla="*/ 15840 w 15480"/>
                    <a:gd name="textAreaTop" fmla="*/ 360 h 18720"/>
                    <a:gd name="textAreaBottom" fmla="*/ 19440 h 18720"/>
                  </a:gdLst>
                  <a:ahLst/>
                  <a:rect l="textAreaLeft" t="textAreaTop" r="textAreaRight" b="textAreaBottom"/>
                  <a:pathLst>
                    <a:path w="192" h="288">
                      <a:moveTo>
                        <a:pt x="0" y="288"/>
                      </a:moveTo>
                      <a:lnTo>
                        <a:pt x="192" y="288"/>
                      </a:lnTo>
                      <a:lnTo>
                        <a:pt x="48" y="0"/>
                      </a:lnTo>
                      <a:lnTo>
                        <a:pt x="0" y="288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5" name="Freeform 520"/>
                <p:cNvSpPr/>
                <p:nvPr/>
              </p:nvSpPr>
              <p:spPr>
                <a:xfrm flipV="1" rot="418200">
                  <a:off x="8312040" y="6393960"/>
                  <a:ext cx="15480" cy="18720"/>
                </a:xfrm>
                <a:custGeom>
                  <a:avLst/>
                  <a:gdLst>
                    <a:gd name="textAreaLeft" fmla="*/ 0 w 15480"/>
                    <a:gd name="textAreaRight" fmla="*/ 15840 w 15480"/>
                    <a:gd name="textAreaTop" fmla="*/ 360 h 18720"/>
                    <a:gd name="textAreaBottom" fmla="*/ 19440 h 18720"/>
                  </a:gdLst>
                  <a:ahLst/>
                  <a:rect l="textAreaLeft" t="textAreaTop" r="textAreaRight" b="textAreaBottom"/>
                  <a:pathLst>
                    <a:path w="192" h="288">
                      <a:moveTo>
                        <a:pt x="0" y="288"/>
                      </a:moveTo>
                      <a:lnTo>
                        <a:pt x="192" y="288"/>
                      </a:lnTo>
                      <a:lnTo>
                        <a:pt x="48" y="0"/>
                      </a:lnTo>
                      <a:lnTo>
                        <a:pt x="0" y="288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6" name="Freeform 521"/>
                <p:cNvSpPr/>
                <p:nvPr/>
              </p:nvSpPr>
              <p:spPr>
                <a:xfrm flipV="1" rot="418200">
                  <a:off x="8341200" y="6416280"/>
                  <a:ext cx="15480" cy="18720"/>
                </a:xfrm>
                <a:custGeom>
                  <a:avLst/>
                  <a:gdLst>
                    <a:gd name="textAreaLeft" fmla="*/ 0 w 15480"/>
                    <a:gd name="textAreaRight" fmla="*/ 15840 w 15480"/>
                    <a:gd name="textAreaTop" fmla="*/ 360 h 18720"/>
                    <a:gd name="textAreaBottom" fmla="*/ 19440 h 18720"/>
                  </a:gdLst>
                  <a:ahLst/>
                  <a:rect l="textAreaLeft" t="textAreaTop" r="textAreaRight" b="textAreaBottom"/>
                  <a:pathLst>
                    <a:path w="192" h="288">
                      <a:moveTo>
                        <a:pt x="0" y="288"/>
                      </a:moveTo>
                      <a:lnTo>
                        <a:pt x="192" y="288"/>
                      </a:lnTo>
                      <a:lnTo>
                        <a:pt x="48" y="0"/>
                      </a:lnTo>
                      <a:lnTo>
                        <a:pt x="0" y="288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" name="Freeform 522"/>
                <p:cNvSpPr/>
                <p:nvPr/>
              </p:nvSpPr>
              <p:spPr>
                <a:xfrm flipV="1" rot="418200">
                  <a:off x="8321040" y="6451560"/>
                  <a:ext cx="15480" cy="18720"/>
                </a:xfrm>
                <a:custGeom>
                  <a:avLst/>
                  <a:gdLst>
                    <a:gd name="textAreaLeft" fmla="*/ 0 w 15480"/>
                    <a:gd name="textAreaRight" fmla="*/ 15840 w 15480"/>
                    <a:gd name="textAreaTop" fmla="*/ 360 h 18720"/>
                    <a:gd name="textAreaBottom" fmla="*/ 19440 h 18720"/>
                  </a:gdLst>
                  <a:ahLst/>
                  <a:rect l="textAreaLeft" t="textAreaTop" r="textAreaRight" b="textAreaBottom"/>
                  <a:pathLst>
                    <a:path w="192" h="288">
                      <a:moveTo>
                        <a:pt x="0" y="288"/>
                      </a:moveTo>
                      <a:lnTo>
                        <a:pt x="192" y="288"/>
                      </a:lnTo>
                      <a:lnTo>
                        <a:pt x="48" y="0"/>
                      </a:lnTo>
                      <a:lnTo>
                        <a:pt x="0" y="288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8" name="Freeform 523"/>
                <p:cNvSpPr/>
                <p:nvPr/>
              </p:nvSpPr>
              <p:spPr>
                <a:xfrm flipV="1" rot="418200">
                  <a:off x="8303040" y="6468120"/>
                  <a:ext cx="15480" cy="18720"/>
                </a:xfrm>
                <a:custGeom>
                  <a:avLst/>
                  <a:gdLst>
                    <a:gd name="textAreaLeft" fmla="*/ 0 w 15480"/>
                    <a:gd name="textAreaRight" fmla="*/ 15840 w 15480"/>
                    <a:gd name="textAreaTop" fmla="*/ 360 h 18720"/>
                    <a:gd name="textAreaBottom" fmla="*/ 19440 h 18720"/>
                  </a:gdLst>
                  <a:ahLst/>
                  <a:rect l="textAreaLeft" t="textAreaTop" r="textAreaRight" b="textAreaBottom"/>
                  <a:pathLst>
                    <a:path w="192" h="288">
                      <a:moveTo>
                        <a:pt x="0" y="288"/>
                      </a:moveTo>
                      <a:lnTo>
                        <a:pt x="192" y="288"/>
                      </a:lnTo>
                      <a:lnTo>
                        <a:pt x="48" y="0"/>
                      </a:lnTo>
                      <a:lnTo>
                        <a:pt x="0" y="288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9" name="Freeform 524"/>
                <p:cNvSpPr/>
                <p:nvPr/>
              </p:nvSpPr>
              <p:spPr>
                <a:xfrm flipV="1" rot="418200">
                  <a:off x="8316360" y="6489000"/>
                  <a:ext cx="15480" cy="18720"/>
                </a:xfrm>
                <a:custGeom>
                  <a:avLst/>
                  <a:gdLst>
                    <a:gd name="textAreaLeft" fmla="*/ 0 w 15480"/>
                    <a:gd name="textAreaRight" fmla="*/ 15840 w 15480"/>
                    <a:gd name="textAreaTop" fmla="*/ 360 h 18720"/>
                    <a:gd name="textAreaBottom" fmla="*/ 19440 h 18720"/>
                  </a:gdLst>
                  <a:ahLst/>
                  <a:rect l="textAreaLeft" t="textAreaTop" r="textAreaRight" b="textAreaBottom"/>
                  <a:pathLst>
                    <a:path w="192" h="288">
                      <a:moveTo>
                        <a:pt x="0" y="288"/>
                      </a:moveTo>
                      <a:lnTo>
                        <a:pt x="192" y="288"/>
                      </a:lnTo>
                      <a:lnTo>
                        <a:pt x="48" y="0"/>
                      </a:lnTo>
                      <a:lnTo>
                        <a:pt x="0" y="288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0" name="Freeform 525"/>
                <p:cNvSpPr/>
                <p:nvPr/>
              </p:nvSpPr>
              <p:spPr>
                <a:xfrm flipV="1" rot="418200">
                  <a:off x="8345520" y="6511680"/>
                  <a:ext cx="15480" cy="18720"/>
                </a:xfrm>
                <a:custGeom>
                  <a:avLst/>
                  <a:gdLst>
                    <a:gd name="textAreaLeft" fmla="*/ 0 w 15480"/>
                    <a:gd name="textAreaRight" fmla="*/ 15840 w 15480"/>
                    <a:gd name="textAreaTop" fmla="*/ 360 h 18720"/>
                    <a:gd name="textAreaBottom" fmla="*/ 19440 h 18720"/>
                  </a:gdLst>
                  <a:ahLst/>
                  <a:rect l="textAreaLeft" t="textAreaTop" r="textAreaRight" b="textAreaBottom"/>
                  <a:pathLst>
                    <a:path w="192" h="288">
                      <a:moveTo>
                        <a:pt x="0" y="288"/>
                      </a:moveTo>
                      <a:lnTo>
                        <a:pt x="192" y="288"/>
                      </a:lnTo>
                      <a:lnTo>
                        <a:pt x="48" y="0"/>
                      </a:lnTo>
                      <a:lnTo>
                        <a:pt x="0" y="288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1" name="Freeform 526"/>
                <p:cNvSpPr/>
                <p:nvPr/>
              </p:nvSpPr>
              <p:spPr>
                <a:xfrm flipV="1" rot="418200">
                  <a:off x="8278920" y="6408720"/>
                  <a:ext cx="15480" cy="18720"/>
                </a:xfrm>
                <a:custGeom>
                  <a:avLst/>
                  <a:gdLst>
                    <a:gd name="textAreaLeft" fmla="*/ 0 w 15480"/>
                    <a:gd name="textAreaRight" fmla="*/ 15840 w 15480"/>
                    <a:gd name="textAreaTop" fmla="*/ 360 h 18720"/>
                    <a:gd name="textAreaBottom" fmla="*/ 19440 h 18720"/>
                  </a:gdLst>
                  <a:ahLst/>
                  <a:rect l="textAreaLeft" t="textAreaTop" r="textAreaRight" b="textAreaBottom"/>
                  <a:pathLst>
                    <a:path w="192" h="288">
                      <a:moveTo>
                        <a:pt x="0" y="288"/>
                      </a:moveTo>
                      <a:lnTo>
                        <a:pt x="192" y="288"/>
                      </a:lnTo>
                      <a:lnTo>
                        <a:pt x="48" y="0"/>
                      </a:lnTo>
                      <a:lnTo>
                        <a:pt x="0" y="288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2" name="Freeform 527"/>
                <p:cNvSpPr/>
                <p:nvPr/>
              </p:nvSpPr>
              <p:spPr>
                <a:xfrm flipV="1" rot="418200">
                  <a:off x="8292240" y="6429240"/>
                  <a:ext cx="15480" cy="18720"/>
                </a:xfrm>
                <a:custGeom>
                  <a:avLst/>
                  <a:gdLst>
                    <a:gd name="textAreaLeft" fmla="*/ 0 w 15480"/>
                    <a:gd name="textAreaRight" fmla="*/ 15840 w 15480"/>
                    <a:gd name="textAreaTop" fmla="*/ 360 h 18720"/>
                    <a:gd name="textAreaBottom" fmla="*/ 19440 h 18720"/>
                  </a:gdLst>
                  <a:ahLst/>
                  <a:rect l="textAreaLeft" t="textAreaTop" r="textAreaRight" b="textAreaBottom"/>
                  <a:pathLst>
                    <a:path w="192" h="288">
                      <a:moveTo>
                        <a:pt x="0" y="288"/>
                      </a:moveTo>
                      <a:lnTo>
                        <a:pt x="192" y="288"/>
                      </a:lnTo>
                      <a:lnTo>
                        <a:pt x="48" y="0"/>
                      </a:lnTo>
                      <a:lnTo>
                        <a:pt x="0" y="288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3" name="Freeform 528"/>
                <p:cNvSpPr/>
                <p:nvPr/>
              </p:nvSpPr>
              <p:spPr>
                <a:xfrm flipH="1" flipV="1" rot="418200">
                  <a:off x="8349480" y="6473880"/>
                  <a:ext cx="15480" cy="18720"/>
                </a:xfrm>
                <a:custGeom>
                  <a:avLst/>
                  <a:gdLst>
                    <a:gd name="textAreaLeft" fmla="*/ -360 w 15480"/>
                    <a:gd name="textAreaRight" fmla="*/ 15480 w 15480"/>
                    <a:gd name="textAreaTop" fmla="*/ 360 h 18720"/>
                    <a:gd name="textAreaBottom" fmla="*/ 19440 h 18720"/>
                  </a:gdLst>
                  <a:ahLst/>
                  <a:rect l="textAreaLeft" t="textAreaTop" r="textAreaRight" b="textAreaBottom"/>
                  <a:pathLst>
                    <a:path w="192" h="288">
                      <a:moveTo>
                        <a:pt x="0" y="288"/>
                      </a:moveTo>
                      <a:lnTo>
                        <a:pt x="192" y="288"/>
                      </a:lnTo>
                      <a:lnTo>
                        <a:pt x="48" y="0"/>
                      </a:lnTo>
                      <a:lnTo>
                        <a:pt x="0" y="288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4" name="Freeform 529"/>
                <p:cNvSpPr/>
                <p:nvPr/>
              </p:nvSpPr>
              <p:spPr>
                <a:xfrm flipH="1" flipV="1" rot="418200">
                  <a:off x="8380800" y="6477840"/>
                  <a:ext cx="15480" cy="18720"/>
                </a:xfrm>
                <a:custGeom>
                  <a:avLst/>
                  <a:gdLst>
                    <a:gd name="textAreaLeft" fmla="*/ -360 w 15480"/>
                    <a:gd name="textAreaRight" fmla="*/ 15480 w 15480"/>
                    <a:gd name="textAreaTop" fmla="*/ 360 h 18720"/>
                    <a:gd name="textAreaBottom" fmla="*/ 19440 h 18720"/>
                  </a:gdLst>
                  <a:ahLst/>
                  <a:rect l="textAreaLeft" t="textAreaTop" r="textAreaRight" b="textAreaBottom"/>
                  <a:pathLst>
                    <a:path w="192" h="288">
                      <a:moveTo>
                        <a:pt x="0" y="288"/>
                      </a:moveTo>
                      <a:lnTo>
                        <a:pt x="192" y="288"/>
                      </a:lnTo>
                      <a:lnTo>
                        <a:pt x="48" y="0"/>
                      </a:lnTo>
                      <a:lnTo>
                        <a:pt x="0" y="288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5" name="Freeform 530"/>
                <p:cNvSpPr/>
                <p:nvPr/>
              </p:nvSpPr>
              <p:spPr>
                <a:xfrm flipH="1" flipV="1" rot="418200">
                  <a:off x="8369280" y="6438600"/>
                  <a:ext cx="15480" cy="18720"/>
                </a:xfrm>
                <a:custGeom>
                  <a:avLst/>
                  <a:gdLst>
                    <a:gd name="textAreaLeft" fmla="*/ -360 w 15480"/>
                    <a:gd name="textAreaRight" fmla="*/ 15480 w 15480"/>
                    <a:gd name="textAreaTop" fmla="*/ 360 h 18720"/>
                    <a:gd name="textAreaBottom" fmla="*/ 19440 h 18720"/>
                  </a:gdLst>
                  <a:ahLst/>
                  <a:rect l="textAreaLeft" t="textAreaTop" r="textAreaRight" b="textAreaBottom"/>
                  <a:pathLst>
                    <a:path w="192" h="288">
                      <a:moveTo>
                        <a:pt x="0" y="288"/>
                      </a:moveTo>
                      <a:lnTo>
                        <a:pt x="192" y="288"/>
                      </a:lnTo>
                      <a:lnTo>
                        <a:pt x="48" y="0"/>
                      </a:lnTo>
                      <a:lnTo>
                        <a:pt x="0" y="288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6" name="Freeform 531"/>
                <p:cNvSpPr/>
                <p:nvPr/>
              </p:nvSpPr>
              <p:spPr>
                <a:xfrm flipH="1" flipV="1" rot="418200">
                  <a:off x="8403120" y="6423840"/>
                  <a:ext cx="15480" cy="18720"/>
                </a:xfrm>
                <a:custGeom>
                  <a:avLst/>
                  <a:gdLst>
                    <a:gd name="textAreaLeft" fmla="*/ -360 w 15480"/>
                    <a:gd name="textAreaRight" fmla="*/ 15480 w 15480"/>
                    <a:gd name="textAreaTop" fmla="*/ 360 h 18720"/>
                    <a:gd name="textAreaBottom" fmla="*/ 19440 h 18720"/>
                  </a:gdLst>
                  <a:ahLst/>
                  <a:rect l="textAreaLeft" t="textAreaTop" r="textAreaRight" b="textAreaBottom"/>
                  <a:pathLst>
                    <a:path w="192" h="288">
                      <a:moveTo>
                        <a:pt x="0" y="288"/>
                      </a:moveTo>
                      <a:lnTo>
                        <a:pt x="192" y="288"/>
                      </a:lnTo>
                      <a:lnTo>
                        <a:pt x="48" y="0"/>
                      </a:lnTo>
                      <a:lnTo>
                        <a:pt x="0" y="288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7" name="Freeform 532"/>
                <p:cNvSpPr/>
                <p:nvPr/>
              </p:nvSpPr>
              <p:spPr>
                <a:xfrm flipH="1" flipV="1" rot="418200">
                  <a:off x="8407800" y="6386400"/>
                  <a:ext cx="15480" cy="18720"/>
                </a:xfrm>
                <a:custGeom>
                  <a:avLst/>
                  <a:gdLst>
                    <a:gd name="textAreaLeft" fmla="*/ -360 w 15480"/>
                    <a:gd name="textAreaRight" fmla="*/ 15480 w 15480"/>
                    <a:gd name="textAreaTop" fmla="*/ 360 h 18720"/>
                    <a:gd name="textAreaBottom" fmla="*/ 19440 h 18720"/>
                  </a:gdLst>
                  <a:ahLst/>
                  <a:rect l="textAreaLeft" t="textAreaTop" r="textAreaRight" b="textAreaBottom"/>
                  <a:pathLst>
                    <a:path w="192" h="288">
                      <a:moveTo>
                        <a:pt x="0" y="288"/>
                      </a:moveTo>
                      <a:lnTo>
                        <a:pt x="192" y="288"/>
                      </a:lnTo>
                      <a:lnTo>
                        <a:pt x="48" y="0"/>
                      </a:lnTo>
                      <a:lnTo>
                        <a:pt x="0" y="288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8" name="plant"/>
                <p:cNvSpPr/>
                <p:nvPr/>
              </p:nvSpPr>
              <p:spPr>
                <a:xfrm rot="418200">
                  <a:off x="8305920" y="6286680"/>
                  <a:ext cx="123840" cy="91440"/>
                </a:xfrm>
                <a:custGeom>
                  <a:avLst/>
                  <a:gdLst>
                    <a:gd name="textAreaLeft" fmla="*/ 40680 w 123840"/>
                    <a:gd name="textAreaRight" fmla="*/ 83520 w 123840"/>
                    <a:gd name="textAreaTop" fmla="*/ 42480 h 91440"/>
                    <a:gd name="textAreaBottom" fmla="*/ 57600 h 914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9368" y="9002"/>
                      </a:moveTo>
                      <a:lnTo>
                        <a:pt x="9254" y="8422"/>
                      </a:lnTo>
                      <a:lnTo>
                        <a:pt x="9139" y="7935"/>
                      </a:lnTo>
                      <a:lnTo>
                        <a:pt x="8819" y="7355"/>
                      </a:lnTo>
                      <a:lnTo>
                        <a:pt x="8475" y="6728"/>
                      </a:lnTo>
                      <a:lnTo>
                        <a:pt x="8040" y="6287"/>
                      </a:lnTo>
                      <a:lnTo>
                        <a:pt x="7421" y="5707"/>
                      </a:lnTo>
                      <a:lnTo>
                        <a:pt x="6574" y="5429"/>
                      </a:lnTo>
                      <a:lnTo>
                        <a:pt x="5452" y="5313"/>
                      </a:lnTo>
                      <a:lnTo>
                        <a:pt x="4856" y="5220"/>
                      </a:lnTo>
                      <a:lnTo>
                        <a:pt x="4169" y="5220"/>
                      </a:lnTo>
                      <a:lnTo>
                        <a:pt x="3665" y="5104"/>
                      </a:lnTo>
                      <a:lnTo>
                        <a:pt x="3001" y="4872"/>
                      </a:lnTo>
                      <a:lnTo>
                        <a:pt x="2497" y="4756"/>
                      </a:lnTo>
                      <a:lnTo>
                        <a:pt x="2062" y="4408"/>
                      </a:lnTo>
                      <a:lnTo>
                        <a:pt x="1603" y="4083"/>
                      </a:lnTo>
                      <a:lnTo>
                        <a:pt x="1283" y="3689"/>
                      </a:lnTo>
                      <a:lnTo>
                        <a:pt x="1283" y="4315"/>
                      </a:lnTo>
                      <a:lnTo>
                        <a:pt x="1489" y="5104"/>
                      </a:lnTo>
                      <a:lnTo>
                        <a:pt x="1832" y="6055"/>
                      </a:lnTo>
                      <a:lnTo>
                        <a:pt x="2382" y="6914"/>
                      </a:lnTo>
                      <a:lnTo>
                        <a:pt x="2680" y="7471"/>
                      </a:lnTo>
                      <a:lnTo>
                        <a:pt x="3115" y="7935"/>
                      </a:lnTo>
                      <a:lnTo>
                        <a:pt x="3573" y="8213"/>
                      </a:lnTo>
                      <a:lnTo>
                        <a:pt x="4077" y="8654"/>
                      </a:lnTo>
                      <a:lnTo>
                        <a:pt x="4627" y="9002"/>
                      </a:lnTo>
                      <a:lnTo>
                        <a:pt x="5245" y="9234"/>
                      </a:lnTo>
                      <a:lnTo>
                        <a:pt x="6024" y="9443"/>
                      </a:lnTo>
                      <a:lnTo>
                        <a:pt x="6757" y="9628"/>
                      </a:lnTo>
                      <a:lnTo>
                        <a:pt x="5177" y="10069"/>
                      </a:lnTo>
                      <a:lnTo>
                        <a:pt x="3963" y="10649"/>
                      </a:lnTo>
                      <a:lnTo>
                        <a:pt x="3344" y="11044"/>
                      </a:lnTo>
                      <a:lnTo>
                        <a:pt x="2886" y="11600"/>
                      </a:lnTo>
                      <a:lnTo>
                        <a:pt x="2497" y="12041"/>
                      </a:lnTo>
                      <a:lnTo>
                        <a:pt x="1947" y="12343"/>
                      </a:lnTo>
                      <a:lnTo>
                        <a:pt x="1168" y="12668"/>
                      </a:lnTo>
                      <a:lnTo>
                        <a:pt x="0" y="12900"/>
                      </a:lnTo>
                      <a:lnTo>
                        <a:pt x="435" y="13248"/>
                      </a:lnTo>
                      <a:lnTo>
                        <a:pt x="779" y="13456"/>
                      </a:lnTo>
                      <a:lnTo>
                        <a:pt x="1283" y="13642"/>
                      </a:lnTo>
                      <a:lnTo>
                        <a:pt x="1718" y="13758"/>
                      </a:lnTo>
                      <a:lnTo>
                        <a:pt x="2680" y="13851"/>
                      </a:lnTo>
                      <a:lnTo>
                        <a:pt x="3573" y="13758"/>
                      </a:lnTo>
                      <a:lnTo>
                        <a:pt x="4512" y="13526"/>
                      </a:lnTo>
                      <a:lnTo>
                        <a:pt x="5360" y="13248"/>
                      </a:lnTo>
                      <a:lnTo>
                        <a:pt x="6139" y="12900"/>
                      </a:lnTo>
                      <a:lnTo>
                        <a:pt x="6757" y="12552"/>
                      </a:lnTo>
                      <a:lnTo>
                        <a:pt x="6459" y="13132"/>
                      </a:lnTo>
                      <a:lnTo>
                        <a:pt x="6139" y="13642"/>
                      </a:lnTo>
                      <a:lnTo>
                        <a:pt x="5910" y="14199"/>
                      </a:lnTo>
                      <a:lnTo>
                        <a:pt x="5681" y="14663"/>
                      </a:lnTo>
                      <a:lnTo>
                        <a:pt x="5681" y="15150"/>
                      </a:lnTo>
                      <a:lnTo>
                        <a:pt x="5681" y="15730"/>
                      </a:lnTo>
                      <a:lnTo>
                        <a:pt x="5681" y="16241"/>
                      </a:lnTo>
                      <a:lnTo>
                        <a:pt x="5795" y="16913"/>
                      </a:lnTo>
                      <a:lnTo>
                        <a:pt x="5910" y="17586"/>
                      </a:lnTo>
                      <a:lnTo>
                        <a:pt x="5910" y="18213"/>
                      </a:lnTo>
                      <a:lnTo>
                        <a:pt x="5795" y="18885"/>
                      </a:lnTo>
                      <a:lnTo>
                        <a:pt x="5566" y="19396"/>
                      </a:lnTo>
                      <a:lnTo>
                        <a:pt x="5245" y="19976"/>
                      </a:lnTo>
                      <a:lnTo>
                        <a:pt x="4971" y="20370"/>
                      </a:lnTo>
                      <a:lnTo>
                        <a:pt x="4512" y="20811"/>
                      </a:lnTo>
                      <a:lnTo>
                        <a:pt x="4077" y="21043"/>
                      </a:lnTo>
                      <a:lnTo>
                        <a:pt x="5177" y="20927"/>
                      </a:lnTo>
                      <a:lnTo>
                        <a:pt x="6253" y="20486"/>
                      </a:lnTo>
                      <a:lnTo>
                        <a:pt x="7421" y="19976"/>
                      </a:lnTo>
                      <a:lnTo>
                        <a:pt x="8361" y="19187"/>
                      </a:lnTo>
                      <a:lnTo>
                        <a:pt x="8819" y="18769"/>
                      </a:lnTo>
                      <a:lnTo>
                        <a:pt x="9139" y="18213"/>
                      </a:lnTo>
                      <a:lnTo>
                        <a:pt x="9437" y="17772"/>
                      </a:lnTo>
                      <a:lnTo>
                        <a:pt x="9643" y="17261"/>
                      </a:lnTo>
                      <a:lnTo>
                        <a:pt x="9872" y="16681"/>
                      </a:lnTo>
                      <a:lnTo>
                        <a:pt x="9872" y="16171"/>
                      </a:lnTo>
                      <a:lnTo>
                        <a:pt x="9872" y="15614"/>
                      </a:lnTo>
                      <a:lnTo>
                        <a:pt x="9758" y="15057"/>
                      </a:lnTo>
                      <a:lnTo>
                        <a:pt x="10216" y="15498"/>
                      </a:lnTo>
                      <a:lnTo>
                        <a:pt x="10537" y="16241"/>
                      </a:lnTo>
                      <a:lnTo>
                        <a:pt x="10834" y="17145"/>
                      </a:lnTo>
                      <a:lnTo>
                        <a:pt x="11041" y="18213"/>
                      </a:lnTo>
                      <a:lnTo>
                        <a:pt x="11155" y="19187"/>
                      </a:lnTo>
                      <a:lnTo>
                        <a:pt x="11155" y="20185"/>
                      </a:lnTo>
                      <a:lnTo>
                        <a:pt x="11155" y="20579"/>
                      </a:lnTo>
                      <a:lnTo>
                        <a:pt x="11041" y="21043"/>
                      </a:lnTo>
                      <a:lnTo>
                        <a:pt x="10926" y="21391"/>
                      </a:lnTo>
                      <a:lnTo>
                        <a:pt x="10766" y="21600"/>
                      </a:lnTo>
                      <a:lnTo>
                        <a:pt x="11499" y="21484"/>
                      </a:lnTo>
                      <a:lnTo>
                        <a:pt x="12323" y="21043"/>
                      </a:lnTo>
                      <a:lnTo>
                        <a:pt x="13102" y="20370"/>
                      </a:lnTo>
                      <a:lnTo>
                        <a:pt x="13606" y="19628"/>
                      </a:lnTo>
                      <a:lnTo>
                        <a:pt x="13950" y="19071"/>
                      </a:lnTo>
                      <a:lnTo>
                        <a:pt x="14064" y="18677"/>
                      </a:lnTo>
                      <a:lnTo>
                        <a:pt x="14179" y="18097"/>
                      </a:lnTo>
                      <a:lnTo>
                        <a:pt x="14293" y="17586"/>
                      </a:lnTo>
                      <a:lnTo>
                        <a:pt x="14179" y="16913"/>
                      </a:lnTo>
                      <a:lnTo>
                        <a:pt x="14064" y="16241"/>
                      </a:lnTo>
                      <a:lnTo>
                        <a:pt x="13835" y="15614"/>
                      </a:lnTo>
                      <a:lnTo>
                        <a:pt x="13560" y="14872"/>
                      </a:lnTo>
                      <a:lnTo>
                        <a:pt x="13950" y="14941"/>
                      </a:lnTo>
                      <a:lnTo>
                        <a:pt x="14408" y="15150"/>
                      </a:lnTo>
                      <a:lnTo>
                        <a:pt x="14843" y="15266"/>
                      </a:lnTo>
                      <a:lnTo>
                        <a:pt x="15232" y="15614"/>
                      </a:lnTo>
                      <a:lnTo>
                        <a:pt x="15576" y="15846"/>
                      </a:lnTo>
                      <a:lnTo>
                        <a:pt x="15897" y="16171"/>
                      </a:lnTo>
                      <a:lnTo>
                        <a:pt x="16126" y="16473"/>
                      </a:lnTo>
                      <a:lnTo>
                        <a:pt x="16240" y="16913"/>
                      </a:lnTo>
                      <a:lnTo>
                        <a:pt x="16515" y="17261"/>
                      </a:lnTo>
                      <a:lnTo>
                        <a:pt x="17088" y="17586"/>
                      </a:lnTo>
                      <a:lnTo>
                        <a:pt x="17798" y="17865"/>
                      </a:lnTo>
                      <a:lnTo>
                        <a:pt x="18576" y="18097"/>
                      </a:lnTo>
                      <a:lnTo>
                        <a:pt x="19424" y="18213"/>
                      </a:lnTo>
                      <a:lnTo>
                        <a:pt x="20317" y="18213"/>
                      </a:lnTo>
                      <a:lnTo>
                        <a:pt x="21050" y="18213"/>
                      </a:lnTo>
                      <a:lnTo>
                        <a:pt x="21600" y="17865"/>
                      </a:lnTo>
                      <a:lnTo>
                        <a:pt x="21165" y="17656"/>
                      </a:lnTo>
                      <a:lnTo>
                        <a:pt x="20592" y="17470"/>
                      </a:lnTo>
                      <a:lnTo>
                        <a:pt x="20088" y="17029"/>
                      </a:lnTo>
                      <a:lnTo>
                        <a:pt x="19653" y="16681"/>
                      </a:lnTo>
                      <a:lnTo>
                        <a:pt x="19195" y="16241"/>
                      </a:lnTo>
                      <a:lnTo>
                        <a:pt x="18920" y="15962"/>
                      </a:lnTo>
                      <a:lnTo>
                        <a:pt x="18576" y="15498"/>
                      </a:lnTo>
                      <a:lnTo>
                        <a:pt x="18576" y="15057"/>
                      </a:lnTo>
                      <a:lnTo>
                        <a:pt x="18485" y="14756"/>
                      </a:lnTo>
                      <a:lnTo>
                        <a:pt x="18256" y="14199"/>
                      </a:lnTo>
                      <a:lnTo>
                        <a:pt x="17912" y="13526"/>
                      </a:lnTo>
                      <a:lnTo>
                        <a:pt x="17523" y="13016"/>
                      </a:lnTo>
                      <a:lnTo>
                        <a:pt x="16973" y="12436"/>
                      </a:lnTo>
                      <a:lnTo>
                        <a:pt x="16355" y="12041"/>
                      </a:lnTo>
                      <a:lnTo>
                        <a:pt x="16011" y="11832"/>
                      </a:lnTo>
                      <a:lnTo>
                        <a:pt x="15690" y="11716"/>
                      </a:lnTo>
                      <a:lnTo>
                        <a:pt x="15232" y="11716"/>
                      </a:lnTo>
                      <a:lnTo>
                        <a:pt x="14843" y="11716"/>
                      </a:lnTo>
                      <a:lnTo>
                        <a:pt x="15461" y="11252"/>
                      </a:lnTo>
                      <a:lnTo>
                        <a:pt x="16126" y="10858"/>
                      </a:lnTo>
                      <a:lnTo>
                        <a:pt x="16973" y="10649"/>
                      </a:lnTo>
                      <a:lnTo>
                        <a:pt x="17798" y="10417"/>
                      </a:lnTo>
                      <a:lnTo>
                        <a:pt x="18806" y="10301"/>
                      </a:lnTo>
                      <a:lnTo>
                        <a:pt x="19653" y="10301"/>
                      </a:lnTo>
                      <a:lnTo>
                        <a:pt x="20478" y="10417"/>
                      </a:lnTo>
                      <a:lnTo>
                        <a:pt x="21256" y="10533"/>
                      </a:lnTo>
                      <a:lnTo>
                        <a:pt x="20707" y="9837"/>
                      </a:lnTo>
                      <a:lnTo>
                        <a:pt x="19859" y="9234"/>
                      </a:lnTo>
                      <a:lnTo>
                        <a:pt x="18806" y="8538"/>
                      </a:lnTo>
                      <a:lnTo>
                        <a:pt x="17637" y="8144"/>
                      </a:lnTo>
                      <a:lnTo>
                        <a:pt x="16973" y="8027"/>
                      </a:lnTo>
                      <a:lnTo>
                        <a:pt x="16355" y="7935"/>
                      </a:lnTo>
                      <a:lnTo>
                        <a:pt x="15805" y="7935"/>
                      </a:lnTo>
                      <a:lnTo>
                        <a:pt x="15118" y="8027"/>
                      </a:lnTo>
                      <a:lnTo>
                        <a:pt x="14614" y="8144"/>
                      </a:lnTo>
                      <a:lnTo>
                        <a:pt x="14064" y="8422"/>
                      </a:lnTo>
                      <a:lnTo>
                        <a:pt x="13606" y="8886"/>
                      </a:lnTo>
                      <a:lnTo>
                        <a:pt x="13217" y="9327"/>
                      </a:lnTo>
                      <a:lnTo>
                        <a:pt x="13606" y="8538"/>
                      </a:lnTo>
                      <a:lnTo>
                        <a:pt x="13950" y="7935"/>
                      </a:lnTo>
                      <a:lnTo>
                        <a:pt x="14293" y="7123"/>
                      </a:lnTo>
                      <a:lnTo>
                        <a:pt x="14499" y="6519"/>
                      </a:lnTo>
                      <a:lnTo>
                        <a:pt x="14614" y="5823"/>
                      </a:lnTo>
                      <a:lnTo>
                        <a:pt x="14614" y="5220"/>
                      </a:lnTo>
                      <a:lnTo>
                        <a:pt x="14408" y="4524"/>
                      </a:lnTo>
                      <a:lnTo>
                        <a:pt x="14064" y="3898"/>
                      </a:lnTo>
                      <a:lnTo>
                        <a:pt x="13606" y="3225"/>
                      </a:lnTo>
                      <a:lnTo>
                        <a:pt x="13331" y="2598"/>
                      </a:lnTo>
                      <a:lnTo>
                        <a:pt x="13102" y="2042"/>
                      </a:lnTo>
                      <a:lnTo>
                        <a:pt x="12896" y="1485"/>
                      </a:lnTo>
                      <a:lnTo>
                        <a:pt x="12781" y="1090"/>
                      </a:lnTo>
                      <a:lnTo>
                        <a:pt x="12667" y="626"/>
                      </a:lnTo>
                      <a:lnTo>
                        <a:pt x="12667" y="278"/>
                      </a:lnTo>
                      <a:lnTo>
                        <a:pt x="12667" y="0"/>
                      </a:lnTo>
                      <a:lnTo>
                        <a:pt x="12163" y="394"/>
                      </a:lnTo>
                      <a:lnTo>
                        <a:pt x="11728" y="974"/>
                      </a:lnTo>
                      <a:lnTo>
                        <a:pt x="11155" y="1601"/>
                      </a:lnTo>
                      <a:lnTo>
                        <a:pt x="10766" y="2390"/>
                      </a:lnTo>
                      <a:lnTo>
                        <a:pt x="10330" y="3109"/>
                      </a:lnTo>
                      <a:lnTo>
                        <a:pt x="10101" y="3898"/>
                      </a:lnTo>
                      <a:lnTo>
                        <a:pt x="9987" y="4524"/>
                      </a:lnTo>
                      <a:lnTo>
                        <a:pt x="10101" y="5220"/>
                      </a:lnTo>
                      <a:lnTo>
                        <a:pt x="10216" y="5823"/>
                      </a:lnTo>
                      <a:lnTo>
                        <a:pt x="10330" y="6403"/>
                      </a:lnTo>
                      <a:lnTo>
                        <a:pt x="10330" y="6914"/>
                      </a:lnTo>
                      <a:lnTo>
                        <a:pt x="10216" y="7471"/>
                      </a:lnTo>
                      <a:lnTo>
                        <a:pt x="10101" y="7935"/>
                      </a:lnTo>
                      <a:lnTo>
                        <a:pt x="9872" y="8329"/>
                      </a:lnTo>
                      <a:lnTo>
                        <a:pt x="9643" y="8654"/>
                      </a:lnTo>
                      <a:lnTo>
                        <a:pt x="9368" y="9002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9" name="Group 534"/>
              <p:cNvGrpSpPr/>
              <p:nvPr/>
            </p:nvGrpSpPr>
            <p:grpSpPr>
              <a:xfrm>
                <a:off x="8112240" y="6219000"/>
                <a:ext cx="234000" cy="286560"/>
                <a:chOff x="8112240" y="6219000"/>
                <a:chExt cx="234000" cy="286560"/>
              </a:xfrm>
            </p:grpSpPr>
            <p:grpSp>
              <p:nvGrpSpPr>
                <p:cNvPr id="650" name="Group 535"/>
                <p:cNvGrpSpPr/>
                <p:nvPr/>
              </p:nvGrpSpPr>
              <p:grpSpPr>
                <a:xfrm>
                  <a:off x="8112240" y="6273360"/>
                  <a:ext cx="234000" cy="232200"/>
                  <a:chOff x="8112240" y="6273360"/>
                  <a:chExt cx="234000" cy="232200"/>
                </a:xfrm>
              </p:grpSpPr>
              <p:sp>
                <p:nvSpPr>
                  <p:cNvPr id="651" name="Freeform 536"/>
                  <p:cNvSpPr/>
                  <p:nvPr/>
                </p:nvSpPr>
                <p:spPr>
                  <a:xfrm rot="11068800">
                    <a:off x="8240760" y="6285960"/>
                    <a:ext cx="96840" cy="216000"/>
                  </a:xfrm>
                  <a:custGeom>
                    <a:avLst/>
                    <a:gdLst>
                      <a:gd name="textAreaLeft" fmla="*/ 0 w 96840"/>
                      <a:gd name="textAreaRight" fmla="*/ 97200 w 96840"/>
                      <a:gd name="textAreaTop" fmla="*/ 0 h 216000"/>
                      <a:gd name="textAreaBottom" fmla="*/ 216360 h 216000"/>
                    </a:gdLst>
                    <a:ahLst/>
                    <a:rect l="textAreaLeft" t="textAreaTop" r="textAreaRight" b="textAreaBottom"/>
                    <a:pathLst>
                      <a:path w="296" h="552">
                        <a:moveTo>
                          <a:pt x="296" y="528"/>
                        </a:moveTo>
                        <a:cubicBezTo>
                          <a:pt x="224" y="540"/>
                          <a:pt x="152" y="552"/>
                          <a:pt x="104" y="528"/>
                        </a:cubicBezTo>
                        <a:cubicBezTo>
                          <a:pt x="56" y="504"/>
                          <a:pt x="16" y="440"/>
                          <a:pt x="8" y="384"/>
                        </a:cubicBezTo>
                        <a:cubicBezTo>
                          <a:pt x="0" y="328"/>
                          <a:pt x="24" y="248"/>
                          <a:pt x="56" y="192"/>
                        </a:cubicBezTo>
                        <a:cubicBezTo>
                          <a:pt x="88" y="136"/>
                          <a:pt x="160" y="80"/>
                          <a:pt x="200" y="48"/>
                        </a:cubicBezTo>
                        <a:cubicBezTo>
                          <a:pt x="240" y="16"/>
                          <a:pt x="268" y="8"/>
                          <a:pt x="296" y="0"/>
                        </a:cubicBezTo>
                      </a:path>
                    </a:pathLst>
                  </a:custGeom>
                  <a:solidFill>
                    <a:srgbClr val="ff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2" name="Freeform 537"/>
                  <p:cNvSpPr/>
                  <p:nvPr/>
                </p:nvSpPr>
                <p:spPr>
                  <a:xfrm flipH="1" rot="11068200">
                    <a:off x="8120520" y="6277680"/>
                    <a:ext cx="123120" cy="216000"/>
                  </a:xfrm>
                  <a:custGeom>
                    <a:avLst/>
                    <a:gdLst>
                      <a:gd name="textAreaLeft" fmla="*/ 360 w 123120"/>
                      <a:gd name="textAreaRight" fmla="*/ 123840 w 123120"/>
                      <a:gd name="textAreaTop" fmla="*/ 0 h 216000"/>
                      <a:gd name="textAreaBottom" fmla="*/ 216360 h 216000"/>
                    </a:gdLst>
                    <a:ahLst/>
                    <a:rect l="textAreaLeft" t="textAreaTop" r="textAreaRight" b="textAreaBottom"/>
                    <a:pathLst>
                      <a:path w="296" h="552">
                        <a:moveTo>
                          <a:pt x="296" y="528"/>
                        </a:moveTo>
                        <a:cubicBezTo>
                          <a:pt x="224" y="540"/>
                          <a:pt x="152" y="552"/>
                          <a:pt x="104" y="528"/>
                        </a:cubicBezTo>
                        <a:cubicBezTo>
                          <a:pt x="56" y="504"/>
                          <a:pt x="16" y="440"/>
                          <a:pt x="8" y="384"/>
                        </a:cubicBezTo>
                        <a:cubicBezTo>
                          <a:pt x="0" y="328"/>
                          <a:pt x="24" y="248"/>
                          <a:pt x="56" y="192"/>
                        </a:cubicBezTo>
                        <a:cubicBezTo>
                          <a:pt x="88" y="136"/>
                          <a:pt x="160" y="80"/>
                          <a:pt x="200" y="48"/>
                        </a:cubicBezTo>
                        <a:cubicBezTo>
                          <a:pt x="240" y="16"/>
                          <a:pt x="268" y="8"/>
                          <a:pt x="296" y="0"/>
                        </a:cubicBezTo>
                      </a:path>
                    </a:pathLst>
                  </a:custGeom>
                  <a:solidFill>
                    <a:srgbClr val="ff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53" name="Freeform 538"/>
                <p:cNvSpPr/>
                <p:nvPr/>
              </p:nvSpPr>
              <p:spPr>
                <a:xfrm flipV="1" rot="418200">
                  <a:off x="8250480" y="6340680"/>
                  <a:ext cx="15480" cy="18720"/>
                </a:xfrm>
                <a:custGeom>
                  <a:avLst/>
                  <a:gdLst>
                    <a:gd name="textAreaLeft" fmla="*/ 0 w 15480"/>
                    <a:gd name="textAreaRight" fmla="*/ 15840 w 15480"/>
                    <a:gd name="textAreaTop" fmla="*/ 360 h 18720"/>
                    <a:gd name="textAreaBottom" fmla="*/ 19440 h 18720"/>
                  </a:gdLst>
                  <a:ahLst/>
                  <a:rect l="textAreaLeft" t="textAreaTop" r="textAreaRight" b="textAreaBottom"/>
                  <a:pathLst>
                    <a:path w="192" h="288">
                      <a:moveTo>
                        <a:pt x="0" y="288"/>
                      </a:moveTo>
                      <a:lnTo>
                        <a:pt x="192" y="288"/>
                      </a:lnTo>
                      <a:lnTo>
                        <a:pt x="48" y="0"/>
                      </a:lnTo>
                      <a:lnTo>
                        <a:pt x="0" y="288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" name="Freeform 539"/>
                <p:cNvSpPr/>
                <p:nvPr/>
              </p:nvSpPr>
              <p:spPr>
                <a:xfrm flipV="1" rot="418200">
                  <a:off x="8174880" y="6312240"/>
                  <a:ext cx="15480" cy="18720"/>
                </a:xfrm>
                <a:custGeom>
                  <a:avLst/>
                  <a:gdLst>
                    <a:gd name="textAreaLeft" fmla="*/ 0 w 15480"/>
                    <a:gd name="textAreaRight" fmla="*/ 15840 w 15480"/>
                    <a:gd name="textAreaTop" fmla="*/ 360 h 18720"/>
                    <a:gd name="textAreaBottom" fmla="*/ 19440 h 18720"/>
                  </a:gdLst>
                  <a:ahLst/>
                  <a:rect l="textAreaLeft" t="textAreaTop" r="textAreaRight" b="textAreaBottom"/>
                  <a:pathLst>
                    <a:path w="192" h="288">
                      <a:moveTo>
                        <a:pt x="0" y="288"/>
                      </a:moveTo>
                      <a:lnTo>
                        <a:pt x="192" y="288"/>
                      </a:lnTo>
                      <a:lnTo>
                        <a:pt x="48" y="0"/>
                      </a:lnTo>
                      <a:lnTo>
                        <a:pt x="0" y="288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" name="Freeform 540"/>
                <p:cNvSpPr/>
                <p:nvPr/>
              </p:nvSpPr>
              <p:spPr>
                <a:xfrm flipV="1" rot="418200">
                  <a:off x="8187840" y="6333120"/>
                  <a:ext cx="15480" cy="18720"/>
                </a:xfrm>
                <a:custGeom>
                  <a:avLst/>
                  <a:gdLst>
                    <a:gd name="textAreaLeft" fmla="*/ 0 w 15480"/>
                    <a:gd name="textAreaRight" fmla="*/ 15840 w 15480"/>
                    <a:gd name="textAreaTop" fmla="*/ 360 h 18720"/>
                    <a:gd name="textAreaBottom" fmla="*/ 19440 h 18720"/>
                  </a:gdLst>
                  <a:ahLst/>
                  <a:rect l="textAreaLeft" t="textAreaTop" r="textAreaRight" b="textAreaBottom"/>
                  <a:pathLst>
                    <a:path w="192" h="288">
                      <a:moveTo>
                        <a:pt x="0" y="288"/>
                      </a:moveTo>
                      <a:lnTo>
                        <a:pt x="192" y="288"/>
                      </a:lnTo>
                      <a:lnTo>
                        <a:pt x="48" y="0"/>
                      </a:lnTo>
                      <a:lnTo>
                        <a:pt x="0" y="288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" name="Freeform 541"/>
                <p:cNvSpPr/>
                <p:nvPr/>
              </p:nvSpPr>
              <p:spPr>
                <a:xfrm flipV="1" rot="418200">
                  <a:off x="8217000" y="6355440"/>
                  <a:ext cx="15480" cy="18720"/>
                </a:xfrm>
                <a:custGeom>
                  <a:avLst/>
                  <a:gdLst>
                    <a:gd name="textAreaLeft" fmla="*/ 0 w 15480"/>
                    <a:gd name="textAreaRight" fmla="*/ 15840 w 15480"/>
                    <a:gd name="textAreaTop" fmla="*/ 360 h 18720"/>
                    <a:gd name="textAreaBottom" fmla="*/ 19440 h 18720"/>
                  </a:gdLst>
                  <a:ahLst/>
                  <a:rect l="textAreaLeft" t="textAreaTop" r="textAreaRight" b="textAreaBottom"/>
                  <a:pathLst>
                    <a:path w="192" h="288">
                      <a:moveTo>
                        <a:pt x="0" y="288"/>
                      </a:moveTo>
                      <a:lnTo>
                        <a:pt x="192" y="288"/>
                      </a:lnTo>
                      <a:lnTo>
                        <a:pt x="48" y="0"/>
                      </a:lnTo>
                      <a:lnTo>
                        <a:pt x="0" y="288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7" name="Freeform 542"/>
                <p:cNvSpPr/>
                <p:nvPr/>
              </p:nvSpPr>
              <p:spPr>
                <a:xfrm flipV="1" rot="418200">
                  <a:off x="8196840" y="6390720"/>
                  <a:ext cx="15480" cy="18720"/>
                </a:xfrm>
                <a:custGeom>
                  <a:avLst/>
                  <a:gdLst>
                    <a:gd name="textAreaLeft" fmla="*/ 0 w 15480"/>
                    <a:gd name="textAreaRight" fmla="*/ 15840 w 15480"/>
                    <a:gd name="textAreaTop" fmla="*/ 360 h 18720"/>
                    <a:gd name="textAreaBottom" fmla="*/ 19440 h 18720"/>
                  </a:gdLst>
                  <a:ahLst/>
                  <a:rect l="textAreaLeft" t="textAreaTop" r="textAreaRight" b="textAreaBottom"/>
                  <a:pathLst>
                    <a:path w="192" h="288">
                      <a:moveTo>
                        <a:pt x="0" y="288"/>
                      </a:moveTo>
                      <a:lnTo>
                        <a:pt x="192" y="288"/>
                      </a:lnTo>
                      <a:lnTo>
                        <a:pt x="48" y="0"/>
                      </a:lnTo>
                      <a:lnTo>
                        <a:pt x="0" y="288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" name="Freeform 543"/>
                <p:cNvSpPr/>
                <p:nvPr/>
              </p:nvSpPr>
              <p:spPr>
                <a:xfrm flipV="1" rot="418200">
                  <a:off x="8178840" y="6407280"/>
                  <a:ext cx="15480" cy="18720"/>
                </a:xfrm>
                <a:custGeom>
                  <a:avLst/>
                  <a:gdLst>
                    <a:gd name="textAreaLeft" fmla="*/ 0 w 15480"/>
                    <a:gd name="textAreaRight" fmla="*/ 15840 w 15480"/>
                    <a:gd name="textAreaTop" fmla="*/ 360 h 18720"/>
                    <a:gd name="textAreaBottom" fmla="*/ 19440 h 18720"/>
                  </a:gdLst>
                  <a:ahLst/>
                  <a:rect l="textAreaLeft" t="textAreaTop" r="textAreaRight" b="textAreaBottom"/>
                  <a:pathLst>
                    <a:path w="192" h="288">
                      <a:moveTo>
                        <a:pt x="0" y="288"/>
                      </a:moveTo>
                      <a:lnTo>
                        <a:pt x="192" y="288"/>
                      </a:lnTo>
                      <a:lnTo>
                        <a:pt x="48" y="0"/>
                      </a:lnTo>
                      <a:lnTo>
                        <a:pt x="0" y="288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9" name="Freeform 544"/>
                <p:cNvSpPr/>
                <p:nvPr/>
              </p:nvSpPr>
              <p:spPr>
                <a:xfrm flipV="1" rot="418200">
                  <a:off x="8192160" y="6428160"/>
                  <a:ext cx="15480" cy="18720"/>
                </a:xfrm>
                <a:custGeom>
                  <a:avLst/>
                  <a:gdLst>
                    <a:gd name="textAreaLeft" fmla="*/ 0 w 15480"/>
                    <a:gd name="textAreaRight" fmla="*/ 15840 w 15480"/>
                    <a:gd name="textAreaTop" fmla="*/ 360 h 18720"/>
                    <a:gd name="textAreaBottom" fmla="*/ 19440 h 18720"/>
                  </a:gdLst>
                  <a:ahLst/>
                  <a:rect l="textAreaLeft" t="textAreaTop" r="textAreaRight" b="textAreaBottom"/>
                  <a:pathLst>
                    <a:path w="192" h="288">
                      <a:moveTo>
                        <a:pt x="0" y="288"/>
                      </a:moveTo>
                      <a:lnTo>
                        <a:pt x="192" y="288"/>
                      </a:lnTo>
                      <a:lnTo>
                        <a:pt x="48" y="0"/>
                      </a:lnTo>
                      <a:lnTo>
                        <a:pt x="0" y="288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0" name="Freeform 545"/>
                <p:cNvSpPr/>
                <p:nvPr/>
              </p:nvSpPr>
              <p:spPr>
                <a:xfrm flipV="1" rot="418200">
                  <a:off x="8221320" y="6450480"/>
                  <a:ext cx="15480" cy="18720"/>
                </a:xfrm>
                <a:custGeom>
                  <a:avLst/>
                  <a:gdLst>
                    <a:gd name="textAreaLeft" fmla="*/ 0 w 15480"/>
                    <a:gd name="textAreaRight" fmla="*/ 15840 w 15480"/>
                    <a:gd name="textAreaTop" fmla="*/ 360 h 18720"/>
                    <a:gd name="textAreaBottom" fmla="*/ 19440 h 18720"/>
                  </a:gdLst>
                  <a:ahLst/>
                  <a:rect l="textAreaLeft" t="textAreaTop" r="textAreaRight" b="textAreaBottom"/>
                  <a:pathLst>
                    <a:path w="192" h="288">
                      <a:moveTo>
                        <a:pt x="0" y="288"/>
                      </a:moveTo>
                      <a:lnTo>
                        <a:pt x="192" y="288"/>
                      </a:lnTo>
                      <a:lnTo>
                        <a:pt x="48" y="0"/>
                      </a:lnTo>
                      <a:lnTo>
                        <a:pt x="0" y="288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1" name="Freeform 546"/>
                <p:cNvSpPr/>
                <p:nvPr/>
              </p:nvSpPr>
              <p:spPr>
                <a:xfrm flipV="1" rot="418200">
                  <a:off x="8154720" y="6347880"/>
                  <a:ext cx="15480" cy="18720"/>
                </a:xfrm>
                <a:custGeom>
                  <a:avLst/>
                  <a:gdLst>
                    <a:gd name="textAreaLeft" fmla="*/ 0 w 15480"/>
                    <a:gd name="textAreaRight" fmla="*/ 15840 w 15480"/>
                    <a:gd name="textAreaTop" fmla="*/ 360 h 18720"/>
                    <a:gd name="textAreaBottom" fmla="*/ 19440 h 18720"/>
                  </a:gdLst>
                  <a:ahLst/>
                  <a:rect l="textAreaLeft" t="textAreaTop" r="textAreaRight" b="textAreaBottom"/>
                  <a:pathLst>
                    <a:path w="192" h="288">
                      <a:moveTo>
                        <a:pt x="0" y="288"/>
                      </a:moveTo>
                      <a:lnTo>
                        <a:pt x="192" y="288"/>
                      </a:lnTo>
                      <a:lnTo>
                        <a:pt x="48" y="0"/>
                      </a:lnTo>
                      <a:lnTo>
                        <a:pt x="0" y="288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2" name="Freeform 547"/>
                <p:cNvSpPr/>
                <p:nvPr/>
              </p:nvSpPr>
              <p:spPr>
                <a:xfrm flipV="1" rot="418200">
                  <a:off x="8168040" y="6368400"/>
                  <a:ext cx="15480" cy="18720"/>
                </a:xfrm>
                <a:custGeom>
                  <a:avLst/>
                  <a:gdLst>
                    <a:gd name="textAreaLeft" fmla="*/ 0 w 15480"/>
                    <a:gd name="textAreaRight" fmla="*/ 15840 w 15480"/>
                    <a:gd name="textAreaTop" fmla="*/ 360 h 18720"/>
                    <a:gd name="textAreaBottom" fmla="*/ 19440 h 18720"/>
                  </a:gdLst>
                  <a:ahLst/>
                  <a:rect l="textAreaLeft" t="textAreaTop" r="textAreaRight" b="textAreaBottom"/>
                  <a:pathLst>
                    <a:path w="192" h="288">
                      <a:moveTo>
                        <a:pt x="0" y="288"/>
                      </a:moveTo>
                      <a:lnTo>
                        <a:pt x="192" y="288"/>
                      </a:lnTo>
                      <a:lnTo>
                        <a:pt x="48" y="0"/>
                      </a:lnTo>
                      <a:lnTo>
                        <a:pt x="0" y="288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" name="Freeform 548"/>
                <p:cNvSpPr/>
                <p:nvPr/>
              </p:nvSpPr>
              <p:spPr>
                <a:xfrm flipH="1" flipV="1" rot="418200">
                  <a:off x="8225280" y="6413040"/>
                  <a:ext cx="15480" cy="18720"/>
                </a:xfrm>
                <a:custGeom>
                  <a:avLst/>
                  <a:gdLst>
                    <a:gd name="textAreaLeft" fmla="*/ -360 w 15480"/>
                    <a:gd name="textAreaRight" fmla="*/ 15480 w 15480"/>
                    <a:gd name="textAreaTop" fmla="*/ 360 h 18720"/>
                    <a:gd name="textAreaBottom" fmla="*/ 19440 h 18720"/>
                  </a:gdLst>
                  <a:ahLst/>
                  <a:rect l="textAreaLeft" t="textAreaTop" r="textAreaRight" b="textAreaBottom"/>
                  <a:pathLst>
                    <a:path w="192" h="288">
                      <a:moveTo>
                        <a:pt x="0" y="288"/>
                      </a:moveTo>
                      <a:lnTo>
                        <a:pt x="192" y="288"/>
                      </a:lnTo>
                      <a:lnTo>
                        <a:pt x="48" y="0"/>
                      </a:lnTo>
                      <a:lnTo>
                        <a:pt x="0" y="288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4" name="Freeform 549"/>
                <p:cNvSpPr/>
                <p:nvPr/>
              </p:nvSpPr>
              <p:spPr>
                <a:xfrm flipH="1" flipV="1" rot="418200">
                  <a:off x="8256240" y="6417000"/>
                  <a:ext cx="15480" cy="18720"/>
                </a:xfrm>
                <a:custGeom>
                  <a:avLst/>
                  <a:gdLst>
                    <a:gd name="textAreaLeft" fmla="*/ -360 w 15480"/>
                    <a:gd name="textAreaRight" fmla="*/ 15480 w 15480"/>
                    <a:gd name="textAreaTop" fmla="*/ 360 h 18720"/>
                    <a:gd name="textAreaBottom" fmla="*/ 19440 h 18720"/>
                  </a:gdLst>
                  <a:ahLst/>
                  <a:rect l="textAreaLeft" t="textAreaTop" r="textAreaRight" b="textAreaBottom"/>
                  <a:pathLst>
                    <a:path w="192" h="288">
                      <a:moveTo>
                        <a:pt x="0" y="288"/>
                      </a:moveTo>
                      <a:lnTo>
                        <a:pt x="192" y="288"/>
                      </a:lnTo>
                      <a:lnTo>
                        <a:pt x="48" y="0"/>
                      </a:lnTo>
                      <a:lnTo>
                        <a:pt x="0" y="288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5" name="Freeform 550"/>
                <p:cNvSpPr/>
                <p:nvPr/>
              </p:nvSpPr>
              <p:spPr>
                <a:xfrm flipH="1" flipV="1" rot="418200">
                  <a:off x="8245080" y="6377760"/>
                  <a:ext cx="15480" cy="18720"/>
                </a:xfrm>
                <a:custGeom>
                  <a:avLst/>
                  <a:gdLst>
                    <a:gd name="textAreaLeft" fmla="*/ -360 w 15480"/>
                    <a:gd name="textAreaRight" fmla="*/ 15480 w 15480"/>
                    <a:gd name="textAreaTop" fmla="*/ 360 h 18720"/>
                    <a:gd name="textAreaBottom" fmla="*/ 19440 h 18720"/>
                  </a:gdLst>
                  <a:ahLst/>
                  <a:rect l="textAreaLeft" t="textAreaTop" r="textAreaRight" b="textAreaBottom"/>
                  <a:pathLst>
                    <a:path w="192" h="288">
                      <a:moveTo>
                        <a:pt x="0" y="288"/>
                      </a:moveTo>
                      <a:lnTo>
                        <a:pt x="192" y="288"/>
                      </a:lnTo>
                      <a:lnTo>
                        <a:pt x="48" y="0"/>
                      </a:lnTo>
                      <a:lnTo>
                        <a:pt x="0" y="288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" name="Freeform 551"/>
                <p:cNvSpPr/>
                <p:nvPr/>
              </p:nvSpPr>
              <p:spPr>
                <a:xfrm flipH="1" flipV="1" rot="418200">
                  <a:off x="8278920" y="6363000"/>
                  <a:ext cx="15480" cy="18720"/>
                </a:xfrm>
                <a:custGeom>
                  <a:avLst/>
                  <a:gdLst>
                    <a:gd name="textAreaLeft" fmla="*/ -360 w 15480"/>
                    <a:gd name="textAreaRight" fmla="*/ 15480 w 15480"/>
                    <a:gd name="textAreaTop" fmla="*/ 360 h 18720"/>
                    <a:gd name="textAreaBottom" fmla="*/ 19440 h 18720"/>
                  </a:gdLst>
                  <a:ahLst/>
                  <a:rect l="textAreaLeft" t="textAreaTop" r="textAreaRight" b="textAreaBottom"/>
                  <a:pathLst>
                    <a:path w="192" h="288">
                      <a:moveTo>
                        <a:pt x="0" y="288"/>
                      </a:moveTo>
                      <a:lnTo>
                        <a:pt x="192" y="288"/>
                      </a:lnTo>
                      <a:lnTo>
                        <a:pt x="48" y="0"/>
                      </a:lnTo>
                      <a:lnTo>
                        <a:pt x="0" y="288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7" name="Freeform 552"/>
                <p:cNvSpPr/>
                <p:nvPr/>
              </p:nvSpPr>
              <p:spPr>
                <a:xfrm flipH="1" flipV="1" rot="418200">
                  <a:off x="8283600" y="6325560"/>
                  <a:ext cx="15480" cy="18720"/>
                </a:xfrm>
                <a:custGeom>
                  <a:avLst/>
                  <a:gdLst>
                    <a:gd name="textAreaLeft" fmla="*/ -360 w 15480"/>
                    <a:gd name="textAreaRight" fmla="*/ 15480 w 15480"/>
                    <a:gd name="textAreaTop" fmla="*/ 360 h 18720"/>
                    <a:gd name="textAreaBottom" fmla="*/ 19440 h 18720"/>
                  </a:gdLst>
                  <a:ahLst/>
                  <a:rect l="textAreaLeft" t="textAreaTop" r="textAreaRight" b="textAreaBottom"/>
                  <a:pathLst>
                    <a:path w="192" h="288">
                      <a:moveTo>
                        <a:pt x="0" y="288"/>
                      </a:moveTo>
                      <a:lnTo>
                        <a:pt x="192" y="288"/>
                      </a:lnTo>
                      <a:lnTo>
                        <a:pt x="48" y="0"/>
                      </a:lnTo>
                      <a:lnTo>
                        <a:pt x="0" y="288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8" name="plant"/>
                <p:cNvSpPr/>
                <p:nvPr/>
              </p:nvSpPr>
              <p:spPr>
                <a:xfrm rot="418200">
                  <a:off x="8181720" y="6225840"/>
                  <a:ext cx="123840" cy="91440"/>
                </a:xfrm>
                <a:custGeom>
                  <a:avLst/>
                  <a:gdLst>
                    <a:gd name="textAreaLeft" fmla="*/ 40680 w 123840"/>
                    <a:gd name="textAreaRight" fmla="*/ 83520 w 123840"/>
                    <a:gd name="textAreaTop" fmla="*/ 42480 h 91440"/>
                    <a:gd name="textAreaBottom" fmla="*/ 57600 h 914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9368" y="9002"/>
                      </a:moveTo>
                      <a:lnTo>
                        <a:pt x="9254" y="8422"/>
                      </a:lnTo>
                      <a:lnTo>
                        <a:pt x="9139" y="7935"/>
                      </a:lnTo>
                      <a:lnTo>
                        <a:pt x="8819" y="7355"/>
                      </a:lnTo>
                      <a:lnTo>
                        <a:pt x="8475" y="6728"/>
                      </a:lnTo>
                      <a:lnTo>
                        <a:pt x="8040" y="6287"/>
                      </a:lnTo>
                      <a:lnTo>
                        <a:pt x="7421" y="5707"/>
                      </a:lnTo>
                      <a:lnTo>
                        <a:pt x="6574" y="5429"/>
                      </a:lnTo>
                      <a:lnTo>
                        <a:pt x="5452" y="5313"/>
                      </a:lnTo>
                      <a:lnTo>
                        <a:pt x="4856" y="5220"/>
                      </a:lnTo>
                      <a:lnTo>
                        <a:pt x="4169" y="5220"/>
                      </a:lnTo>
                      <a:lnTo>
                        <a:pt x="3665" y="5104"/>
                      </a:lnTo>
                      <a:lnTo>
                        <a:pt x="3001" y="4872"/>
                      </a:lnTo>
                      <a:lnTo>
                        <a:pt x="2497" y="4756"/>
                      </a:lnTo>
                      <a:lnTo>
                        <a:pt x="2062" y="4408"/>
                      </a:lnTo>
                      <a:lnTo>
                        <a:pt x="1603" y="4083"/>
                      </a:lnTo>
                      <a:lnTo>
                        <a:pt x="1283" y="3689"/>
                      </a:lnTo>
                      <a:lnTo>
                        <a:pt x="1283" y="4315"/>
                      </a:lnTo>
                      <a:lnTo>
                        <a:pt x="1489" y="5104"/>
                      </a:lnTo>
                      <a:lnTo>
                        <a:pt x="1832" y="6055"/>
                      </a:lnTo>
                      <a:lnTo>
                        <a:pt x="2382" y="6914"/>
                      </a:lnTo>
                      <a:lnTo>
                        <a:pt x="2680" y="7471"/>
                      </a:lnTo>
                      <a:lnTo>
                        <a:pt x="3115" y="7935"/>
                      </a:lnTo>
                      <a:lnTo>
                        <a:pt x="3573" y="8213"/>
                      </a:lnTo>
                      <a:lnTo>
                        <a:pt x="4077" y="8654"/>
                      </a:lnTo>
                      <a:lnTo>
                        <a:pt x="4627" y="9002"/>
                      </a:lnTo>
                      <a:lnTo>
                        <a:pt x="5245" y="9234"/>
                      </a:lnTo>
                      <a:lnTo>
                        <a:pt x="6024" y="9443"/>
                      </a:lnTo>
                      <a:lnTo>
                        <a:pt x="6757" y="9628"/>
                      </a:lnTo>
                      <a:lnTo>
                        <a:pt x="5177" y="10069"/>
                      </a:lnTo>
                      <a:lnTo>
                        <a:pt x="3963" y="10649"/>
                      </a:lnTo>
                      <a:lnTo>
                        <a:pt x="3344" y="11044"/>
                      </a:lnTo>
                      <a:lnTo>
                        <a:pt x="2886" y="11600"/>
                      </a:lnTo>
                      <a:lnTo>
                        <a:pt x="2497" y="12041"/>
                      </a:lnTo>
                      <a:lnTo>
                        <a:pt x="1947" y="12343"/>
                      </a:lnTo>
                      <a:lnTo>
                        <a:pt x="1168" y="12668"/>
                      </a:lnTo>
                      <a:lnTo>
                        <a:pt x="0" y="12900"/>
                      </a:lnTo>
                      <a:lnTo>
                        <a:pt x="435" y="13248"/>
                      </a:lnTo>
                      <a:lnTo>
                        <a:pt x="779" y="13456"/>
                      </a:lnTo>
                      <a:lnTo>
                        <a:pt x="1283" y="13642"/>
                      </a:lnTo>
                      <a:lnTo>
                        <a:pt x="1718" y="13758"/>
                      </a:lnTo>
                      <a:lnTo>
                        <a:pt x="2680" y="13851"/>
                      </a:lnTo>
                      <a:lnTo>
                        <a:pt x="3573" y="13758"/>
                      </a:lnTo>
                      <a:lnTo>
                        <a:pt x="4512" y="13526"/>
                      </a:lnTo>
                      <a:lnTo>
                        <a:pt x="5360" y="13248"/>
                      </a:lnTo>
                      <a:lnTo>
                        <a:pt x="6139" y="12900"/>
                      </a:lnTo>
                      <a:lnTo>
                        <a:pt x="6757" y="12552"/>
                      </a:lnTo>
                      <a:lnTo>
                        <a:pt x="6459" y="13132"/>
                      </a:lnTo>
                      <a:lnTo>
                        <a:pt x="6139" y="13642"/>
                      </a:lnTo>
                      <a:lnTo>
                        <a:pt x="5910" y="14199"/>
                      </a:lnTo>
                      <a:lnTo>
                        <a:pt x="5681" y="14663"/>
                      </a:lnTo>
                      <a:lnTo>
                        <a:pt x="5681" y="15150"/>
                      </a:lnTo>
                      <a:lnTo>
                        <a:pt x="5681" y="15730"/>
                      </a:lnTo>
                      <a:lnTo>
                        <a:pt x="5681" y="16241"/>
                      </a:lnTo>
                      <a:lnTo>
                        <a:pt x="5795" y="16913"/>
                      </a:lnTo>
                      <a:lnTo>
                        <a:pt x="5910" y="17586"/>
                      </a:lnTo>
                      <a:lnTo>
                        <a:pt x="5910" y="18213"/>
                      </a:lnTo>
                      <a:lnTo>
                        <a:pt x="5795" y="18885"/>
                      </a:lnTo>
                      <a:lnTo>
                        <a:pt x="5566" y="19396"/>
                      </a:lnTo>
                      <a:lnTo>
                        <a:pt x="5245" y="19976"/>
                      </a:lnTo>
                      <a:lnTo>
                        <a:pt x="4971" y="20370"/>
                      </a:lnTo>
                      <a:lnTo>
                        <a:pt x="4512" y="20811"/>
                      </a:lnTo>
                      <a:lnTo>
                        <a:pt x="4077" y="21043"/>
                      </a:lnTo>
                      <a:lnTo>
                        <a:pt x="5177" y="20927"/>
                      </a:lnTo>
                      <a:lnTo>
                        <a:pt x="6253" y="20486"/>
                      </a:lnTo>
                      <a:lnTo>
                        <a:pt x="7421" y="19976"/>
                      </a:lnTo>
                      <a:lnTo>
                        <a:pt x="8361" y="19187"/>
                      </a:lnTo>
                      <a:lnTo>
                        <a:pt x="8819" y="18769"/>
                      </a:lnTo>
                      <a:lnTo>
                        <a:pt x="9139" y="18213"/>
                      </a:lnTo>
                      <a:lnTo>
                        <a:pt x="9437" y="17772"/>
                      </a:lnTo>
                      <a:lnTo>
                        <a:pt x="9643" y="17261"/>
                      </a:lnTo>
                      <a:lnTo>
                        <a:pt x="9872" y="16681"/>
                      </a:lnTo>
                      <a:lnTo>
                        <a:pt x="9872" y="16171"/>
                      </a:lnTo>
                      <a:lnTo>
                        <a:pt x="9872" y="15614"/>
                      </a:lnTo>
                      <a:lnTo>
                        <a:pt x="9758" y="15057"/>
                      </a:lnTo>
                      <a:lnTo>
                        <a:pt x="10216" y="15498"/>
                      </a:lnTo>
                      <a:lnTo>
                        <a:pt x="10537" y="16241"/>
                      </a:lnTo>
                      <a:lnTo>
                        <a:pt x="10834" y="17145"/>
                      </a:lnTo>
                      <a:lnTo>
                        <a:pt x="11041" y="18213"/>
                      </a:lnTo>
                      <a:lnTo>
                        <a:pt x="11155" y="19187"/>
                      </a:lnTo>
                      <a:lnTo>
                        <a:pt x="11155" y="20185"/>
                      </a:lnTo>
                      <a:lnTo>
                        <a:pt x="11155" y="20579"/>
                      </a:lnTo>
                      <a:lnTo>
                        <a:pt x="11041" y="21043"/>
                      </a:lnTo>
                      <a:lnTo>
                        <a:pt x="10926" y="21391"/>
                      </a:lnTo>
                      <a:lnTo>
                        <a:pt x="10766" y="21600"/>
                      </a:lnTo>
                      <a:lnTo>
                        <a:pt x="11499" y="21484"/>
                      </a:lnTo>
                      <a:lnTo>
                        <a:pt x="12323" y="21043"/>
                      </a:lnTo>
                      <a:lnTo>
                        <a:pt x="13102" y="20370"/>
                      </a:lnTo>
                      <a:lnTo>
                        <a:pt x="13606" y="19628"/>
                      </a:lnTo>
                      <a:lnTo>
                        <a:pt x="13950" y="19071"/>
                      </a:lnTo>
                      <a:lnTo>
                        <a:pt x="14064" y="18677"/>
                      </a:lnTo>
                      <a:lnTo>
                        <a:pt x="14179" y="18097"/>
                      </a:lnTo>
                      <a:lnTo>
                        <a:pt x="14293" y="17586"/>
                      </a:lnTo>
                      <a:lnTo>
                        <a:pt x="14179" y="16913"/>
                      </a:lnTo>
                      <a:lnTo>
                        <a:pt x="14064" y="16241"/>
                      </a:lnTo>
                      <a:lnTo>
                        <a:pt x="13835" y="15614"/>
                      </a:lnTo>
                      <a:lnTo>
                        <a:pt x="13560" y="14872"/>
                      </a:lnTo>
                      <a:lnTo>
                        <a:pt x="13950" y="14941"/>
                      </a:lnTo>
                      <a:lnTo>
                        <a:pt x="14408" y="15150"/>
                      </a:lnTo>
                      <a:lnTo>
                        <a:pt x="14843" y="15266"/>
                      </a:lnTo>
                      <a:lnTo>
                        <a:pt x="15232" y="15614"/>
                      </a:lnTo>
                      <a:lnTo>
                        <a:pt x="15576" y="15846"/>
                      </a:lnTo>
                      <a:lnTo>
                        <a:pt x="15897" y="16171"/>
                      </a:lnTo>
                      <a:lnTo>
                        <a:pt x="16126" y="16473"/>
                      </a:lnTo>
                      <a:lnTo>
                        <a:pt x="16240" y="16913"/>
                      </a:lnTo>
                      <a:lnTo>
                        <a:pt x="16515" y="17261"/>
                      </a:lnTo>
                      <a:lnTo>
                        <a:pt x="17088" y="17586"/>
                      </a:lnTo>
                      <a:lnTo>
                        <a:pt x="17798" y="17865"/>
                      </a:lnTo>
                      <a:lnTo>
                        <a:pt x="18576" y="18097"/>
                      </a:lnTo>
                      <a:lnTo>
                        <a:pt x="19424" y="18213"/>
                      </a:lnTo>
                      <a:lnTo>
                        <a:pt x="20317" y="18213"/>
                      </a:lnTo>
                      <a:lnTo>
                        <a:pt x="21050" y="18213"/>
                      </a:lnTo>
                      <a:lnTo>
                        <a:pt x="21600" y="17865"/>
                      </a:lnTo>
                      <a:lnTo>
                        <a:pt x="21165" y="17656"/>
                      </a:lnTo>
                      <a:lnTo>
                        <a:pt x="20592" y="17470"/>
                      </a:lnTo>
                      <a:lnTo>
                        <a:pt x="20088" y="17029"/>
                      </a:lnTo>
                      <a:lnTo>
                        <a:pt x="19653" y="16681"/>
                      </a:lnTo>
                      <a:lnTo>
                        <a:pt x="19195" y="16241"/>
                      </a:lnTo>
                      <a:lnTo>
                        <a:pt x="18920" y="15962"/>
                      </a:lnTo>
                      <a:lnTo>
                        <a:pt x="18576" y="15498"/>
                      </a:lnTo>
                      <a:lnTo>
                        <a:pt x="18576" y="15057"/>
                      </a:lnTo>
                      <a:lnTo>
                        <a:pt x="18485" y="14756"/>
                      </a:lnTo>
                      <a:lnTo>
                        <a:pt x="18256" y="14199"/>
                      </a:lnTo>
                      <a:lnTo>
                        <a:pt x="17912" y="13526"/>
                      </a:lnTo>
                      <a:lnTo>
                        <a:pt x="17523" y="13016"/>
                      </a:lnTo>
                      <a:lnTo>
                        <a:pt x="16973" y="12436"/>
                      </a:lnTo>
                      <a:lnTo>
                        <a:pt x="16355" y="12041"/>
                      </a:lnTo>
                      <a:lnTo>
                        <a:pt x="16011" y="11832"/>
                      </a:lnTo>
                      <a:lnTo>
                        <a:pt x="15690" y="11716"/>
                      </a:lnTo>
                      <a:lnTo>
                        <a:pt x="15232" y="11716"/>
                      </a:lnTo>
                      <a:lnTo>
                        <a:pt x="14843" y="11716"/>
                      </a:lnTo>
                      <a:lnTo>
                        <a:pt x="15461" y="11252"/>
                      </a:lnTo>
                      <a:lnTo>
                        <a:pt x="16126" y="10858"/>
                      </a:lnTo>
                      <a:lnTo>
                        <a:pt x="16973" y="10649"/>
                      </a:lnTo>
                      <a:lnTo>
                        <a:pt x="17798" y="10417"/>
                      </a:lnTo>
                      <a:lnTo>
                        <a:pt x="18806" y="10301"/>
                      </a:lnTo>
                      <a:lnTo>
                        <a:pt x="19653" y="10301"/>
                      </a:lnTo>
                      <a:lnTo>
                        <a:pt x="20478" y="10417"/>
                      </a:lnTo>
                      <a:lnTo>
                        <a:pt x="21256" y="10533"/>
                      </a:lnTo>
                      <a:lnTo>
                        <a:pt x="20707" y="9837"/>
                      </a:lnTo>
                      <a:lnTo>
                        <a:pt x="19859" y="9234"/>
                      </a:lnTo>
                      <a:lnTo>
                        <a:pt x="18806" y="8538"/>
                      </a:lnTo>
                      <a:lnTo>
                        <a:pt x="17637" y="8144"/>
                      </a:lnTo>
                      <a:lnTo>
                        <a:pt x="16973" y="8027"/>
                      </a:lnTo>
                      <a:lnTo>
                        <a:pt x="16355" y="7935"/>
                      </a:lnTo>
                      <a:lnTo>
                        <a:pt x="15805" y="7935"/>
                      </a:lnTo>
                      <a:lnTo>
                        <a:pt x="15118" y="8027"/>
                      </a:lnTo>
                      <a:lnTo>
                        <a:pt x="14614" y="8144"/>
                      </a:lnTo>
                      <a:lnTo>
                        <a:pt x="14064" y="8422"/>
                      </a:lnTo>
                      <a:lnTo>
                        <a:pt x="13606" y="8886"/>
                      </a:lnTo>
                      <a:lnTo>
                        <a:pt x="13217" y="9327"/>
                      </a:lnTo>
                      <a:lnTo>
                        <a:pt x="13606" y="8538"/>
                      </a:lnTo>
                      <a:lnTo>
                        <a:pt x="13950" y="7935"/>
                      </a:lnTo>
                      <a:lnTo>
                        <a:pt x="14293" y="7123"/>
                      </a:lnTo>
                      <a:lnTo>
                        <a:pt x="14499" y="6519"/>
                      </a:lnTo>
                      <a:lnTo>
                        <a:pt x="14614" y="5823"/>
                      </a:lnTo>
                      <a:lnTo>
                        <a:pt x="14614" y="5220"/>
                      </a:lnTo>
                      <a:lnTo>
                        <a:pt x="14408" y="4524"/>
                      </a:lnTo>
                      <a:lnTo>
                        <a:pt x="14064" y="3898"/>
                      </a:lnTo>
                      <a:lnTo>
                        <a:pt x="13606" y="3225"/>
                      </a:lnTo>
                      <a:lnTo>
                        <a:pt x="13331" y="2598"/>
                      </a:lnTo>
                      <a:lnTo>
                        <a:pt x="13102" y="2042"/>
                      </a:lnTo>
                      <a:lnTo>
                        <a:pt x="12896" y="1485"/>
                      </a:lnTo>
                      <a:lnTo>
                        <a:pt x="12781" y="1090"/>
                      </a:lnTo>
                      <a:lnTo>
                        <a:pt x="12667" y="626"/>
                      </a:lnTo>
                      <a:lnTo>
                        <a:pt x="12667" y="278"/>
                      </a:lnTo>
                      <a:lnTo>
                        <a:pt x="12667" y="0"/>
                      </a:lnTo>
                      <a:lnTo>
                        <a:pt x="12163" y="394"/>
                      </a:lnTo>
                      <a:lnTo>
                        <a:pt x="11728" y="974"/>
                      </a:lnTo>
                      <a:lnTo>
                        <a:pt x="11155" y="1601"/>
                      </a:lnTo>
                      <a:lnTo>
                        <a:pt x="10766" y="2390"/>
                      </a:lnTo>
                      <a:lnTo>
                        <a:pt x="10330" y="3109"/>
                      </a:lnTo>
                      <a:lnTo>
                        <a:pt x="10101" y="3898"/>
                      </a:lnTo>
                      <a:lnTo>
                        <a:pt x="9987" y="4524"/>
                      </a:lnTo>
                      <a:lnTo>
                        <a:pt x="10101" y="5220"/>
                      </a:lnTo>
                      <a:lnTo>
                        <a:pt x="10216" y="5823"/>
                      </a:lnTo>
                      <a:lnTo>
                        <a:pt x="10330" y="6403"/>
                      </a:lnTo>
                      <a:lnTo>
                        <a:pt x="10330" y="6914"/>
                      </a:lnTo>
                      <a:lnTo>
                        <a:pt x="10216" y="7471"/>
                      </a:lnTo>
                      <a:lnTo>
                        <a:pt x="10101" y="7935"/>
                      </a:lnTo>
                      <a:lnTo>
                        <a:pt x="9872" y="8329"/>
                      </a:lnTo>
                      <a:lnTo>
                        <a:pt x="9643" y="8654"/>
                      </a:lnTo>
                      <a:lnTo>
                        <a:pt x="9368" y="9002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69" name="Freeform 554"/>
              <p:cNvSpPr/>
              <p:nvPr/>
            </p:nvSpPr>
            <p:spPr>
              <a:xfrm rot="3220200">
                <a:off x="7699680" y="6261120"/>
                <a:ext cx="212760" cy="117720"/>
              </a:xfrm>
              <a:custGeom>
                <a:avLst/>
                <a:gdLst>
                  <a:gd name="textAreaLeft" fmla="*/ 0 w 212760"/>
                  <a:gd name="textAreaRight" fmla="*/ 213120 w 212760"/>
                  <a:gd name="textAreaTop" fmla="*/ 0 h 117720"/>
                  <a:gd name="textAreaBottom" fmla="*/ 118080 h 117720"/>
                </a:gdLst>
                <a:ahLst/>
                <a:rect l="textAreaLeft" t="textAreaTop" r="textAreaRight" b="textAreaBottom"/>
                <a:pathLst>
                  <a:path w="507" h="352">
                    <a:moveTo>
                      <a:pt x="0" y="240"/>
                    </a:moveTo>
                    <a:cubicBezTo>
                      <a:pt x="56" y="251"/>
                      <a:pt x="253" y="352"/>
                      <a:pt x="336" y="320"/>
                    </a:cubicBezTo>
                    <a:cubicBezTo>
                      <a:pt x="419" y="288"/>
                      <a:pt x="485" y="96"/>
                      <a:pt x="496" y="48"/>
                    </a:cubicBezTo>
                    <a:cubicBezTo>
                      <a:pt x="507" y="0"/>
                      <a:pt x="435" y="35"/>
                      <a:pt x="400" y="32"/>
                    </a:cubicBezTo>
                    <a:cubicBezTo>
                      <a:pt x="365" y="29"/>
                      <a:pt x="339" y="24"/>
                      <a:pt x="288" y="32"/>
                    </a:cubicBezTo>
                    <a:cubicBezTo>
                      <a:pt x="237" y="40"/>
                      <a:pt x="136" y="56"/>
                      <a:pt x="96" y="80"/>
                    </a:cubicBezTo>
                    <a:cubicBezTo>
                      <a:pt x="56" y="104"/>
                      <a:pt x="64" y="152"/>
                      <a:pt x="48" y="176"/>
                    </a:cubicBezTo>
                    <a:cubicBezTo>
                      <a:pt x="32" y="200"/>
                      <a:pt x="16" y="212"/>
                      <a:pt x="0" y="224"/>
                    </a:cubicBezTo>
                  </a:path>
                </a:pathLst>
              </a:custGeom>
              <a:solidFill>
                <a:srgbClr val="33cc33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Freeform 555"/>
              <p:cNvSpPr/>
              <p:nvPr/>
            </p:nvSpPr>
            <p:spPr>
              <a:xfrm rot="3220200">
                <a:off x="7658280" y="6490080"/>
                <a:ext cx="212760" cy="117720"/>
              </a:xfrm>
              <a:custGeom>
                <a:avLst/>
                <a:gdLst>
                  <a:gd name="textAreaLeft" fmla="*/ 0 w 212760"/>
                  <a:gd name="textAreaRight" fmla="*/ 213120 w 212760"/>
                  <a:gd name="textAreaTop" fmla="*/ 0 h 117720"/>
                  <a:gd name="textAreaBottom" fmla="*/ 118080 h 117720"/>
                </a:gdLst>
                <a:ahLst/>
                <a:rect l="textAreaLeft" t="textAreaTop" r="textAreaRight" b="textAreaBottom"/>
                <a:pathLst>
                  <a:path w="507" h="352">
                    <a:moveTo>
                      <a:pt x="0" y="240"/>
                    </a:moveTo>
                    <a:cubicBezTo>
                      <a:pt x="56" y="251"/>
                      <a:pt x="253" y="352"/>
                      <a:pt x="336" y="320"/>
                    </a:cubicBezTo>
                    <a:cubicBezTo>
                      <a:pt x="419" y="288"/>
                      <a:pt x="485" y="96"/>
                      <a:pt x="496" y="48"/>
                    </a:cubicBezTo>
                    <a:cubicBezTo>
                      <a:pt x="507" y="0"/>
                      <a:pt x="435" y="35"/>
                      <a:pt x="400" y="32"/>
                    </a:cubicBezTo>
                    <a:cubicBezTo>
                      <a:pt x="365" y="29"/>
                      <a:pt x="339" y="24"/>
                      <a:pt x="288" y="32"/>
                    </a:cubicBezTo>
                    <a:cubicBezTo>
                      <a:pt x="237" y="40"/>
                      <a:pt x="136" y="56"/>
                      <a:pt x="96" y="80"/>
                    </a:cubicBezTo>
                    <a:cubicBezTo>
                      <a:pt x="56" y="104"/>
                      <a:pt x="64" y="152"/>
                      <a:pt x="48" y="176"/>
                    </a:cubicBezTo>
                    <a:cubicBezTo>
                      <a:pt x="32" y="200"/>
                      <a:pt x="16" y="212"/>
                      <a:pt x="0" y="224"/>
                    </a:cubicBezTo>
                  </a:path>
                </a:pathLst>
              </a:custGeom>
              <a:solidFill>
                <a:srgbClr val="33cc33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Freeform 556"/>
              <p:cNvSpPr/>
              <p:nvPr/>
            </p:nvSpPr>
            <p:spPr>
              <a:xfrm rot="9695400">
                <a:off x="7840800" y="6463440"/>
                <a:ext cx="203760" cy="122760"/>
              </a:xfrm>
              <a:custGeom>
                <a:avLst/>
                <a:gdLst>
                  <a:gd name="textAreaLeft" fmla="*/ 0 w 203760"/>
                  <a:gd name="textAreaRight" fmla="*/ 204120 w 203760"/>
                  <a:gd name="textAreaTop" fmla="*/ 0 h 122760"/>
                  <a:gd name="textAreaBottom" fmla="*/ 123120 h 122760"/>
                </a:gdLst>
                <a:ahLst/>
                <a:rect l="textAreaLeft" t="textAreaTop" r="textAreaRight" b="textAreaBottom"/>
                <a:pathLst>
                  <a:path w="507" h="352">
                    <a:moveTo>
                      <a:pt x="0" y="240"/>
                    </a:moveTo>
                    <a:cubicBezTo>
                      <a:pt x="56" y="251"/>
                      <a:pt x="253" y="352"/>
                      <a:pt x="336" y="320"/>
                    </a:cubicBezTo>
                    <a:cubicBezTo>
                      <a:pt x="419" y="288"/>
                      <a:pt x="485" y="96"/>
                      <a:pt x="496" y="48"/>
                    </a:cubicBezTo>
                    <a:cubicBezTo>
                      <a:pt x="507" y="0"/>
                      <a:pt x="435" y="35"/>
                      <a:pt x="400" y="32"/>
                    </a:cubicBezTo>
                    <a:cubicBezTo>
                      <a:pt x="365" y="29"/>
                      <a:pt x="339" y="24"/>
                      <a:pt x="288" y="32"/>
                    </a:cubicBezTo>
                    <a:cubicBezTo>
                      <a:pt x="237" y="40"/>
                      <a:pt x="136" y="56"/>
                      <a:pt x="96" y="80"/>
                    </a:cubicBezTo>
                    <a:cubicBezTo>
                      <a:pt x="56" y="104"/>
                      <a:pt x="64" y="152"/>
                      <a:pt x="48" y="176"/>
                    </a:cubicBezTo>
                    <a:cubicBezTo>
                      <a:pt x="32" y="200"/>
                      <a:pt x="16" y="212"/>
                      <a:pt x="0" y="224"/>
                    </a:cubicBezTo>
                  </a:path>
                </a:pathLst>
              </a:custGeom>
              <a:solidFill>
                <a:srgbClr val="33cc33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72" name="Group 650"/>
          <p:cNvGrpSpPr/>
          <p:nvPr/>
        </p:nvGrpSpPr>
        <p:grpSpPr>
          <a:xfrm>
            <a:off x="3155040" y="4525200"/>
            <a:ext cx="2367360" cy="2278080"/>
            <a:chOff x="3155040" y="4525200"/>
            <a:chExt cx="2367360" cy="2278080"/>
          </a:xfrm>
        </p:grpSpPr>
        <p:grpSp>
          <p:nvGrpSpPr>
            <p:cNvPr id="673" name="Group 651"/>
            <p:cNvGrpSpPr/>
            <p:nvPr/>
          </p:nvGrpSpPr>
          <p:grpSpPr>
            <a:xfrm>
              <a:off x="3155040" y="4525200"/>
              <a:ext cx="2367360" cy="2278080"/>
              <a:chOff x="3155040" y="4525200"/>
              <a:chExt cx="2367360" cy="2278080"/>
            </a:xfrm>
          </p:grpSpPr>
          <p:sp>
            <p:nvSpPr>
              <p:cNvPr id="674" name="Freeform 652"/>
              <p:cNvSpPr/>
              <p:nvPr/>
            </p:nvSpPr>
            <p:spPr>
              <a:xfrm rot="19282200">
                <a:off x="3451320" y="5055120"/>
                <a:ext cx="1866240" cy="1308960"/>
              </a:xfrm>
              <a:custGeom>
                <a:avLst/>
                <a:gdLst>
                  <a:gd name="textAreaLeft" fmla="*/ 0 w 1866240"/>
                  <a:gd name="textAreaRight" fmla="*/ 1866600 w 1866240"/>
                  <a:gd name="textAreaTop" fmla="*/ 0 h 1308960"/>
                  <a:gd name="textAreaBottom" fmla="*/ 1309320 h 1308960"/>
                </a:gdLst>
                <a:ahLst/>
                <a:rect l="textAreaLeft" t="textAreaTop" r="textAreaRight" b="textAreaBottom"/>
                <a:pathLst>
                  <a:path w="1746" h="1169">
                    <a:moveTo>
                      <a:pt x="29" y="69"/>
                    </a:moveTo>
                    <a:cubicBezTo>
                      <a:pt x="0" y="157"/>
                      <a:pt x="101" y="557"/>
                      <a:pt x="157" y="717"/>
                    </a:cubicBezTo>
                    <a:cubicBezTo>
                      <a:pt x="213" y="877"/>
                      <a:pt x="298" y="961"/>
                      <a:pt x="365" y="1029"/>
                    </a:cubicBezTo>
                    <a:cubicBezTo>
                      <a:pt x="432" y="1097"/>
                      <a:pt x="461" y="1109"/>
                      <a:pt x="557" y="1125"/>
                    </a:cubicBezTo>
                    <a:cubicBezTo>
                      <a:pt x="653" y="1141"/>
                      <a:pt x="821" y="1126"/>
                      <a:pt x="941" y="1125"/>
                    </a:cubicBezTo>
                    <a:cubicBezTo>
                      <a:pt x="1061" y="1124"/>
                      <a:pt x="1176" y="1169"/>
                      <a:pt x="1277" y="1117"/>
                    </a:cubicBezTo>
                    <a:cubicBezTo>
                      <a:pt x="1378" y="1065"/>
                      <a:pt x="1485" y="920"/>
                      <a:pt x="1549" y="813"/>
                    </a:cubicBezTo>
                    <a:cubicBezTo>
                      <a:pt x="1613" y="706"/>
                      <a:pt x="1632" y="602"/>
                      <a:pt x="1661" y="477"/>
                    </a:cubicBezTo>
                    <a:cubicBezTo>
                      <a:pt x="1690" y="352"/>
                      <a:pt x="1746" y="122"/>
                      <a:pt x="1725" y="61"/>
                    </a:cubicBezTo>
                    <a:cubicBezTo>
                      <a:pt x="1704" y="0"/>
                      <a:pt x="1597" y="88"/>
                      <a:pt x="1533" y="109"/>
                    </a:cubicBezTo>
                    <a:cubicBezTo>
                      <a:pt x="1469" y="130"/>
                      <a:pt x="1458" y="173"/>
                      <a:pt x="1341" y="189"/>
                    </a:cubicBezTo>
                    <a:cubicBezTo>
                      <a:pt x="1224" y="205"/>
                      <a:pt x="997" y="205"/>
                      <a:pt x="829" y="205"/>
                    </a:cubicBezTo>
                    <a:cubicBezTo>
                      <a:pt x="661" y="205"/>
                      <a:pt x="466" y="212"/>
                      <a:pt x="333" y="189"/>
                    </a:cubicBezTo>
                    <a:cubicBezTo>
                      <a:pt x="200" y="166"/>
                      <a:pt x="92" y="94"/>
                      <a:pt x="29" y="69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ffff"/>
                  </a:gs>
                  <a:gs pos="50000">
                    <a:srgbClr val="ffffff"/>
                  </a:gs>
                  <a:gs pos="100000">
                    <a:srgbClr val="00ffff"/>
                  </a:gs>
                </a:gsLst>
                <a:lin ang="21216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Oval 653"/>
              <p:cNvSpPr/>
              <p:nvPr/>
            </p:nvSpPr>
            <p:spPr>
              <a:xfrm rot="19282200">
                <a:off x="3070080" y="5060160"/>
                <a:ext cx="1846440" cy="3754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ff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800" rIns="82800" tIns="41400" bIns="414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828720"/>
                    <a:tab algn="l" pos="1657440"/>
                    <a:tab algn="l" pos="2486160"/>
                    <a:tab algn="l" pos="3314880"/>
                    <a:tab algn="l" pos="4143240"/>
                    <a:tab algn="l" pos="4971960"/>
                    <a:tab algn="l" pos="5800680"/>
                    <a:tab algn="l" pos="6629400"/>
                    <a:tab algn="l" pos="7458120"/>
                    <a:tab algn="l" pos="8286840"/>
                    <a:tab algn="l" pos="9115560"/>
                    <a:tab algn="l" pos="9944280"/>
                    <a:tab algn="l" pos="107726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Freeform 654"/>
              <p:cNvSpPr/>
              <p:nvPr/>
            </p:nvSpPr>
            <p:spPr>
              <a:xfrm rot="20133000">
                <a:off x="4804920" y="4735080"/>
                <a:ext cx="505440" cy="912960"/>
              </a:xfrm>
              <a:custGeom>
                <a:avLst/>
                <a:gdLst>
                  <a:gd name="textAreaLeft" fmla="*/ 0 w 505440"/>
                  <a:gd name="textAreaRight" fmla="*/ 505800 w 505440"/>
                  <a:gd name="textAreaTop" fmla="*/ 0 h 912960"/>
                  <a:gd name="textAreaBottom" fmla="*/ 912960 h 912960"/>
                </a:gdLst>
                <a:ahLst/>
                <a:rect l="textAreaLeft" t="textAreaTop" r="textAreaRight" b="textAreaBottom"/>
                <a:pathLst>
                  <a:path w="377" h="623">
                    <a:moveTo>
                      <a:pt x="102" y="270"/>
                    </a:moveTo>
                    <a:cubicBezTo>
                      <a:pt x="102" y="262"/>
                      <a:pt x="101" y="259"/>
                      <a:pt x="103" y="248"/>
                    </a:cubicBezTo>
                    <a:cubicBezTo>
                      <a:pt x="105" y="237"/>
                      <a:pt x="105" y="219"/>
                      <a:pt x="112" y="203"/>
                    </a:cubicBezTo>
                    <a:cubicBezTo>
                      <a:pt x="119" y="187"/>
                      <a:pt x="132" y="167"/>
                      <a:pt x="145" y="149"/>
                    </a:cubicBezTo>
                    <a:cubicBezTo>
                      <a:pt x="158" y="131"/>
                      <a:pt x="169" y="103"/>
                      <a:pt x="190" y="92"/>
                    </a:cubicBezTo>
                    <a:cubicBezTo>
                      <a:pt x="211" y="81"/>
                      <a:pt x="253" y="72"/>
                      <a:pt x="271" y="83"/>
                    </a:cubicBezTo>
                    <a:cubicBezTo>
                      <a:pt x="289" y="94"/>
                      <a:pt x="295" y="131"/>
                      <a:pt x="298" y="158"/>
                    </a:cubicBezTo>
                    <a:cubicBezTo>
                      <a:pt x="301" y="185"/>
                      <a:pt x="299" y="216"/>
                      <a:pt x="289" y="245"/>
                    </a:cubicBezTo>
                    <a:cubicBezTo>
                      <a:pt x="279" y="274"/>
                      <a:pt x="259" y="308"/>
                      <a:pt x="235" y="332"/>
                    </a:cubicBezTo>
                    <a:cubicBezTo>
                      <a:pt x="211" y="356"/>
                      <a:pt x="171" y="374"/>
                      <a:pt x="145" y="389"/>
                    </a:cubicBezTo>
                    <a:cubicBezTo>
                      <a:pt x="119" y="404"/>
                      <a:pt x="96" y="410"/>
                      <a:pt x="76" y="425"/>
                    </a:cubicBezTo>
                    <a:cubicBezTo>
                      <a:pt x="56" y="440"/>
                      <a:pt x="33" y="458"/>
                      <a:pt x="22" y="479"/>
                    </a:cubicBezTo>
                    <a:cubicBezTo>
                      <a:pt x="11" y="500"/>
                      <a:pt x="9" y="531"/>
                      <a:pt x="7" y="554"/>
                    </a:cubicBezTo>
                    <a:cubicBezTo>
                      <a:pt x="5" y="577"/>
                      <a:pt x="0" y="615"/>
                      <a:pt x="7" y="619"/>
                    </a:cubicBezTo>
                    <a:cubicBezTo>
                      <a:pt x="13" y="623"/>
                      <a:pt x="36" y="601"/>
                      <a:pt x="46" y="581"/>
                    </a:cubicBezTo>
                    <a:cubicBezTo>
                      <a:pt x="56" y="560"/>
                      <a:pt x="47" y="520"/>
                      <a:pt x="71" y="497"/>
                    </a:cubicBezTo>
                    <a:cubicBezTo>
                      <a:pt x="95" y="474"/>
                      <a:pt x="151" y="468"/>
                      <a:pt x="192" y="444"/>
                    </a:cubicBezTo>
                    <a:cubicBezTo>
                      <a:pt x="233" y="420"/>
                      <a:pt x="287" y="401"/>
                      <a:pt x="318" y="354"/>
                    </a:cubicBezTo>
                    <a:cubicBezTo>
                      <a:pt x="349" y="307"/>
                      <a:pt x="373" y="220"/>
                      <a:pt x="375" y="167"/>
                    </a:cubicBezTo>
                    <a:cubicBezTo>
                      <a:pt x="377" y="113"/>
                      <a:pt x="352" y="59"/>
                      <a:pt x="329" y="31"/>
                    </a:cubicBezTo>
                    <a:cubicBezTo>
                      <a:pt x="307" y="3"/>
                      <a:pt x="272" y="0"/>
                      <a:pt x="242" y="0"/>
                    </a:cubicBezTo>
                    <a:cubicBezTo>
                      <a:pt x="212" y="0"/>
                      <a:pt x="173" y="18"/>
                      <a:pt x="147" y="34"/>
                    </a:cubicBezTo>
                    <a:cubicBezTo>
                      <a:pt x="121" y="51"/>
                      <a:pt x="100" y="69"/>
                      <a:pt x="85" y="102"/>
                    </a:cubicBezTo>
                    <a:cubicBezTo>
                      <a:pt x="70" y="136"/>
                      <a:pt x="55" y="198"/>
                      <a:pt x="54" y="230"/>
                    </a:cubicBezTo>
                    <a:cubicBezTo>
                      <a:pt x="53" y="262"/>
                      <a:pt x="74" y="285"/>
                      <a:pt x="82" y="295"/>
                    </a:cubicBezTo>
                    <a:cubicBezTo>
                      <a:pt x="91" y="305"/>
                      <a:pt x="102" y="299"/>
                      <a:pt x="105" y="295"/>
                    </a:cubicBezTo>
                    <a:cubicBezTo>
                      <a:pt x="108" y="291"/>
                      <a:pt x="104" y="278"/>
                      <a:pt x="102" y="27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00ffff"/>
                  </a:gs>
                  <a:gs pos="100000">
                    <a:srgbClr val="ffffff"/>
                  </a:gs>
                </a:gsLst>
                <a:lin ang="20370000"/>
              </a:gra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655"/>
            <p:cNvGrpSpPr/>
            <p:nvPr/>
          </p:nvGrpSpPr>
          <p:grpSpPr>
            <a:xfrm>
              <a:off x="3872880" y="5314320"/>
              <a:ext cx="1144440" cy="1036800"/>
              <a:chOff x="3872880" y="5314320"/>
              <a:chExt cx="1144440" cy="1036800"/>
            </a:xfrm>
          </p:grpSpPr>
          <p:sp>
            <p:nvSpPr>
              <p:cNvPr id="678" name="Freeform 656"/>
              <p:cNvSpPr/>
              <p:nvPr/>
            </p:nvSpPr>
            <p:spPr>
              <a:xfrm rot="11800800">
                <a:off x="4158000" y="5756040"/>
                <a:ext cx="349200" cy="304200"/>
              </a:xfrm>
              <a:custGeom>
                <a:avLst/>
                <a:gdLst>
                  <a:gd name="textAreaLeft" fmla="*/ 0 w 349200"/>
                  <a:gd name="textAreaRight" fmla="*/ 349560 w 34920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507" h="352">
                    <a:moveTo>
                      <a:pt x="0" y="240"/>
                    </a:moveTo>
                    <a:cubicBezTo>
                      <a:pt x="56" y="251"/>
                      <a:pt x="253" y="352"/>
                      <a:pt x="336" y="320"/>
                    </a:cubicBezTo>
                    <a:cubicBezTo>
                      <a:pt x="419" y="288"/>
                      <a:pt x="485" y="96"/>
                      <a:pt x="496" y="48"/>
                    </a:cubicBezTo>
                    <a:cubicBezTo>
                      <a:pt x="507" y="0"/>
                      <a:pt x="435" y="35"/>
                      <a:pt x="400" y="32"/>
                    </a:cubicBezTo>
                    <a:cubicBezTo>
                      <a:pt x="365" y="29"/>
                      <a:pt x="339" y="24"/>
                      <a:pt x="288" y="32"/>
                    </a:cubicBezTo>
                    <a:cubicBezTo>
                      <a:pt x="237" y="40"/>
                      <a:pt x="136" y="56"/>
                      <a:pt x="96" y="80"/>
                    </a:cubicBezTo>
                    <a:cubicBezTo>
                      <a:pt x="56" y="104"/>
                      <a:pt x="64" y="152"/>
                      <a:pt x="48" y="176"/>
                    </a:cubicBezTo>
                    <a:cubicBezTo>
                      <a:pt x="32" y="200"/>
                      <a:pt x="16" y="212"/>
                      <a:pt x="0" y="224"/>
                    </a:cubicBezTo>
                  </a:path>
                </a:pathLst>
              </a:custGeom>
              <a:solidFill>
                <a:srgbClr val="008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Freeform 657"/>
              <p:cNvSpPr/>
              <p:nvPr/>
            </p:nvSpPr>
            <p:spPr>
              <a:xfrm rot="11800800">
                <a:off x="4281120" y="6003000"/>
                <a:ext cx="349200" cy="304200"/>
              </a:xfrm>
              <a:custGeom>
                <a:avLst/>
                <a:gdLst>
                  <a:gd name="textAreaLeft" fmla="*/ 0 w 349200"/>
                  <a:gd name="textAreaRight" fmla="*/ 349560 w 34920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507" h="352">
                    <a:moveTo>
                      <a:pt x="0" y="240"/>
                    </a:moveTo>
                    <a:cubicBezTo>
                      <a:pt x="56" y="251"/>
                      <a:pt x="253" y="352"/>
                      <a:pt x="336" y="320"/>
                    </a:cubicBezTo>
                    <a:cubicBezTo>
                      <a:pt x="419" y="288"/>
                      <a:pt x="485" y="96"/>
                      <a:pt x="496" y="48"/>
                    </a:cubicBezTo>
                    <a:cubicBezTo>
                      <a:pt x="507" y="0"/>
                      <a:pt x="435" y="35"/>
                      <a:pt x="400" y="32"/>
                    </a:cubicBezTo>
                    <a:cubicBezTo>
                      <a:pt x="365" y="29"/>
                      <a:pt x="339" y="24"/>
                      <a:pt x="288" y="32"/>
                    </a:cubicBezTo>
                    <a:cubicBezTo>
                      <a:pt x="237" y="40"/>
                      <a:pt x="136" y="56"/>
                      <a:pt x="96" y="80"/>
                    </a:cubicBezTo>
                    <a:cubicBezTo>
                      <a:pt x="56" y="104"/>
                      <a:pt x="64" y="152"/>
                      <a:pt x="48" y="176"/>
                    </a:cubicBezTo>
                    <a:cubicBezTo>
                      <a:pt x="32" y="200"/>
                      <a:pt x="16" y="212"/>
                      <a:pt x="0" y="224"/>
                    </a:cubicBezTo>
                  </a:path>
                </a:pathLst>
              </a:custGeom>
              <a:solidFill>
                <a:srgbClr val="008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Freeform 658"/>
              <p:cNvSpPr/>
              <p:nvPr/>
            </p:nvSpPr>
            <p:spPr>
              <a:xfrm rot="18119400">
                <a:off x="4230000" y="5423760"/>
                <a:ext cx="434880" cy="318240"/>
              </a:xfrm>
              <a:custGeom>
                <a:avLst/>
                <a:gdLst>
                  <a:gd name="textAreaLeft" fmla="*/ 0 w 434880"/>
                  <a:gd name="textAreaRight" fmla="*/ 435240 w 434880"/>
                  <a:gd name="textAreaTop" fmla="*/ 0 h 318240"/>
                  <a:gd name="textAreaBottom" fmla="*/ 318600 h 318240"/>
                </a:gdLst>
                <a:ahLst/>
                <a:rect l="textAreaLeft" t="textAreaTop" r="textAreaRight" b="textAreaBottom"/>
                <a:pathLst>
                  <a:path w="507" h="352">
                    <a:moveTo>
                      <a:pt x="0" y="240"/>
                    </a:moveTo>
                    <a:cubicBezTo>
                      <a:pt x="56" y="251"/>
                      <a:pt x="253" y="352"/>
                      <a:pt x="336" y="320"/>
                    </a:cubicBezTo>
                    <a:cubicBezTo>
                      <a:pt x="419" y="288"/>
                      <a:pt x="485" y="96"/>
                      <a:pt x="496" y="48"/>
                    </a:cubicBezTo>
                    <a:cubicBezTo>
                      <a:pt x="507" y="0"/>
                      <a:pt x="435" y="35"/>
                      <a:pt x="400" y="32"/>
                    </a:cubicBezTo>
                    <a:cubicBezTo>
                      <a:pt x="365" y="29"/>
                      <a:pt x="339" y="24"/>
                      <a:pt x="288" y="32"/>
                    </a:cubicBezTo>
                    <a:cubicBezTo>
                      <a:pt x="237" y="40"/>
                      <a:pt x="136" y="56"/>
                      <a:pt x="96" y="80"/>
                    </a:cubicBezTo>
                    <a:cubicBezTo>
                      <a:pt x="56" y="104"/>
                      <a:pt x="64" y="152"/>
                      <a:pt x="48" y="176"/>
                    </a:cubicBezTo>
                    <a:cubicBezTo>
                      <a:pt x="32" y="200"/>
                      <a:pt x="16" y="212"/>
                      <a:pt x="0" y="224"/>
                    </a:cubicBezTo>
                  </a:path>
                </a:pathLst>
              </a:custGeom>
              <a:solidFill>
                <a:srgbClr val="33cc33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Freeform 659"/>
              <p:cNvSpPr/>
              <p:nvPr/>
            </p:nvSpPr>
            <p:spPr>
              <a:xfrm rot="664800">
                <a:off x="3897720" y="5690160"/>
                <a:ext cx="454320" cy="304200"/>
              </a:xfrm>
              <a:custGeom>
                <a:avLst/>
                <a:gdLst>
                  <a:gd name="textAreaLeft" fmla="*/ 0 w 454320"/>
                  <a:gd name="textAreaRight" fmla="*/ 454680 w 45432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507" h="352">
                    <a:moveTo>
                      <a:pt x="0" y="240"/>
                    </a:moveTo>
                    <a:cubicBezTo>
                      <a:pt x="56" y="251"/>
                      <a:pt x="253" y="352"/>
                      <a:pt x="336" y="320"/>
                    </a:cubicBezTo>
                    <a:cubicBezTo>
                      <a:pt x="419" y="288"/>
                      <a:pt x="485" y="96"/>
                      <a:pt x="496" y="48"/>
                    </a:cubicBezTo>
                    <a:cubicBezTo>
                      <a:pt x="507" y="0"/>
                      <a:pt x="435" y="35"/>
                      <a:pt x="400" y="32"/>
                    </a:cubicBezTo>
                    <a:cubicBezTo>
                      <a:pt x="365" y="29"/>
                      <a:pt x="339" y="24"/>
                      <a:pt x="288" y="32"/>
                    </a:cubicBezTo>
                    <a:cubicBezTo>
                      <a:pt x="237" y="40"/>
                      <a:pt x="136" y="56"/>
                      <a:pt x="96" y="80"/>
                    </a:cubicBezTo>
                    <a:cubicBezTo>
                      <a:pt x="56" y="104"/>
                      <a:pt x="64" y="152"/>
                      <a:pt x="48" y="176"/>
                    </a:cubicBezTo>
                    <a:cubicBezTo>
                      <a:pt x="32" y="200"/>
                      <a:pt x="16" y="212"/>
                      <a:pt x="0" y="224"/>
                    </a:cubicBezTo>
                  </a:path>
                </a:pathLst>
              </a:custGeom>
              <a:solidFill>
                <a:srgbClr val="33cc33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82" name="Group 660"/>
              <p:cNvGrpSpPr/>
              <p:nvPr/>
            </p:nvGrpSpPr>
            <p:grpSpPr>
              <a:xfrm>
                <a:off x="4713480" y="5735880"/>
                <a:ext cx="303840" cy="321120"/>
                <a:chOff x="4713480" y="5735880"/>
                <a:chExt cx="303840" cy="321120"/>
              </a:xfrm>
            </p:grpSpPr>
            <p:grpSp>
              <p:nvGrpSpPr>
                <p:cNvPr id="683" name="Group 661"/>
                <p:cNvGrpSpPr/>
                <p:nvPr/>
              </p:nvGrpSpPr>
              <p:grpSpPr>
                <a:xfrm>
                  <a:off x="4713480" y="5753880"/>
                  <a:ext cx="303840" cy="303120"/>
                  <a:chOff x="4713480" y="5753880"/>
                  <a:chExt cx="303840" cy="303120"/>
                </a:xfrm>
              </p:grpSpPr>
              <p:sp>
                <p:nvSpPr>
                  <p:cNvPr id="684" name="Freeform 662"/>
                  <p:cNvSpPr/>
                  <p:nvPr/>
                </p:nvSpPr>
                <p:spPr>
                  <a:xfrm rot="8513400">
                    <a:off x="4863960" y="5760360"/>
                    <a:ext cx="96840" cy="216000"/>
                  </a:xfrm>
                  <a:custGeom>
                    <a:avLst/>
                    <a:gdLst>
                      <a:gd name="textAreaLeft" fmla="*/ 0 w 96840"/>
                      <a:gd name="textAreaRight" fmla="*/ 97200 w 96840"/>
                      <a:gd name="textAreaTop" fmla="*/ 0 h 216000"/>
                      <a:gd name="textAreaBottom" fmla="*/ 216360 h 216000"/>
                    </a:gdLst>
                    <a:ahLst/>
                    <a:rect l="textAreaLeft" t="textAreaTop" r="textAreaRight" b="textAreaBottom"/>
                    <a:pathLst>
                      <a:path w="296" h="552">
                        <a:moveTo>
                          <a:pt x="296" y="528"/>
                        </a:moveTo>
                        <a:cubicBezTo>
                          <a:pt x="224" y="540"/>
                          <a:pt x="152" y="552"/>
                          <a:pt x="104" y="528"/>
                        </a:cubicBezTo>
                        <a:cubicBezTo>
                          <a:pt x="56" y="504"/>
                          <a:pt x="16" y="440"/>
                          <a:pt x="8" y="384"/>
                        </a:cubicBezTo>
                        <a:cubicBezTo>
                          <a:pt x="0" y="328"/>
                          <a:pt x="24" y="248"/>
                          <a:pt x="56" y="192"/>
                        </a:cubicBezTo>
                        <a:cubicBezTo>
                          <a:pt x="88" y="136"/>
                          <a:pt x="160" y="80"/>
                          <a:pt x="200" y="48"/>
                        </a:cubicBezTo>
                        <a:cubicBezTo>
                          <a:pt x="240" y="16"/>
                          <a:pt x="268" y="8"/>
                          <a:pt x="296" y="0"/>
                        </a:cubicBezTo>
                      </a:path>
                    </a:pathLst>
                  </a:custGeom>
                  <a:solidFill>
                    <a:srgbClr val="ff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5" name="Freeform 663"/>
                  <p:cNvSpPr/>
                  <p:nvPr/>
                </p:nvSpPr>
                <p:spPr>
                  <a:xfrm flipH="1" rot="8512800">
                    <a:off x="4766400" y="5825880"/>
                    <a:ext cx="122760" cy="216000"/>
                  </a:xfrm>
                  <a:custGeom>
                    <a:avLst/>
                    <a:gdLst>
                      <a:gd name="textAreaLeft" fmla="*/ -360 w 122760"/>
                      <a:gd name="textAreaRight" fmla="*/ 122760 w 122760"/>
                      <a:gd name="textAreaTop" fmla="*/ 0 h 216000"/>
                      <a:gd name="textAreaBottom" fmla="*/ 216360 h 216000"/>
                    </a:gdLst>
                    <a:ahLst/>
                    <a:rect l="textAreaLeft" t="textAreaTop" r="textAreaRight" b="textAreaBottom"/>
                    <a:pathLst>
                      <a:path w="296" h="552">
                        <a:moveTo>
                          <a:pt x="296" y="528"/>
                        </a:moveTo>
                        <a:cubicBezTo>
                          <a:pt x="224" y="540"/>
                          <a:pt x="152" y="552"/>
                          <a:pt x="104" y="528"/>
                        </a:cubicBezTo>
                        <a:cubicBezTo>
                          <a:pt x="56" y="504"/>
                          <a:pt x="16" y="440"/>
                          <a:pt x="8" y="384"/>
                        </a:cubicBezTo>
                        <a:cubicBezTo>
                          <a:pt x="0" y="328"/>
                          <a:pt x="24" y="248"/>
                          <a:pt x="56" y="192"/>
                        </a:cubicBezTo>
                        <a:cubicBezTo>
                          <a:pt x="88" y="136"/>
                          <a:pt x="160" y="80"/>
                          <a:pt x="200" y="48"/>
                        </a:cubicBezTo>
                        <a:cubicBezTo>
                          <a:pt x="240" y="16"/>
                          <a:pt x="268" y="8"/>
                          <a:pt x="296" y="0"/>
                        </a:cubicBezTo>
                      </a:path>
                    </a:pathLst>
                  </a:custGeom>
                  <a:solidFill>
                    <a:srgbClr val="ff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86" name="Freeform 664"/>
                <p:cNvSpPr/>
                <p:nvPr/>
              </p:nvSpPr>
              <p:spPr>
                <a:xfrm flipV="1" rot="19463400">
                  <a:off x="4853160" y="5846760"/>
                  <a:ext cx="15480" cy="18720"/>
                </a:xfrm>
                <a:custGeom>
                  <a:avLst/>
                  <a:gdLst>
                    <a:gd name="textAreaLeft" fmla="*/ 0 w 15480"/>
                    <a:gd name="textAreaRight" fmla="*/ 15840 w 15480"/>
                    <a:gd name="textAreaTop" fmla="*/ 360 h 18720"/>
                    <a:gd name="textAreaBottom" fmla="*/ 19440 h 18720"/>
                  </a:gdLst>
                  <a:ahLst/>
                  <a:rect l="textAreaLeft" t="textAreaTop" r="textAreaRight" b="textAreaBottom"/>
                  <a:pathLst>
                    <a:path w="192" h="288">
                      <a:moveTo>
                        <a:pt x="0" y="288"/>
                      </a:moveTo>
                      <a:lnTo>
                        <a:pt x="192" y="288"/>
                      </a:lnTo>
                      <a:lnTo>
                        <a:pt x="48" y="0"/>
                      </a:lnTo>
                      <a:lnTo>
                        <a:pt x="0" y="288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" name="Freeform 665"/>
                <p:cNvSpPr/>
                <p:nvPr/>
              </p:nvSpPr>
              <p:spPr>
                <a:xfrm flipV="1" rot="19463400">
                  <a:off x="4778280" y="5877720"/>
                  <a:ext cx="15480" cy="18720"/>
                </a:xfrm>
                <a:custGeom>
                  <a:avLst/>
                  <a:gdLst>
                    <a:gd name="textAreaLeft" fmla="*/ 0 w 15480"/>
                    <a:gd name="textAreaRight" fmla="*/ 15840 w 15480"/>
                    <a:gd name="textAreaTop" fmla="*/ 360 h 18720"/>
                    <a:gd name="textAreaBottom" fmla="*/ 19440 h 18720"/>
                  </a:gdLst>
                  <a:ahLst/>
                  <a:rect l="textAreaLeft" t="textAreaTop" r="textAreaRight" b="textAreaBottom"/>
                  <a:pathLst>
                    <a:path w="192" h="288">
                      <a:moveTo>
                        <a:pt x="0" y="288"/>
                      </a:moveTo>
                      <a:lnTo>
                        <a:pt x="192" y="288"/>
                      </a:lnTo>
                      <a:lnTo>
                        <a:pt x="48" y="0"/>
                      </a:lnTo>
                      <a:lnTo>
                        <a:pt x="0" y="288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8" name="Freeform 666"/>
                <p:cNvSpPr/>
                <p:nvPr/>
              </p:nvSpPr>
              <p:spPr>
                <a:xfrm flipV="1" rot="19463400">
                  <a:off x="4802040" y="5883480"/>
                  <a:ext cx="15480" cy="18720"/>
                </a:xfrm>
                <a:custGeom>
                  <a:avLst/>
                  <a:gdLst>
                    <a:gd name="textAreaLeft" fmla="*/ 0 w 15480"/>
                    <a:gd name="textAreaRight" fmla="*/ 15840 w 15480"/>
                    <a:gd name="textAreaTop" fmla="*/ 360 h 18720"/>
                    <a:gd name="textAreaBottom" fmla="*/ 19440 h 18720"/>
                  </a:gdLst>
                  <a:ahLst/>
                  <a:rect l="textAreaLeft" t="textAreaTop" r="textAreaRight" b="textAreaBottom"/>
                  <a:pathLst>
                    <a:path w="192" h="288">
                      <a:moveTo>
                        <a:pt x="0" y="288"/>
                      </a:moveTo>
                      <a:lnTo>
                        <a:pt x="192" y="288"/>
                      </a:lnTo>
                      <a:lnTo>
                        <a:pt x="48" y="0"/>
                      </a:lnTo>
                      <a:lnTo>
                        <a:pt x="0" y="288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" name="Freeform 667"/>
                <p:cNvSpPr/>
                <p:nvPr/>
              </p:nvSpPr>
              <p:spPr>
                <a:xfrm flipV="1" rot="19463400">
                  <a:off x="4838400" y="5880600"/>
                  <a:ext cx="15480" cy="18720"/>
                </a:xfrm>
                <a:custGeom>
                  <a:avLst/>
                  <a:gdLst>
                    <a:gd name="textAreaLeft" fmla="*/ 0 w 15480"/>
                    <a:gd name="textAreaRight" fmla="*/ 15840 w 15480"/>
                    <a:gd name="textAreaTop" fmla="*/ 360 h 18720"/>
                    <a:gd name="textAreaBottom" fmla="*/ 19440 h 18720"/>
                  </a:gdLst>
                  <a:ahLst/>
                  <a:rect l="textAreaLeft" t="textAreaTop" r="textAreaRight" b="textAreaBottom"/>
                  <a:pathLst>
                    <a:path w="192" h="288">
                      <a:moveTo>
                        <a:pt x="0" y="288"/>
                      </a:moveTo>
                      <a:lnTo>
                        <a:pt x="192" y="288"/>
                      </a:lnTo>
                      <a:lnTo>
                        <a:pt x="48" y="0"/>
                      </a:lnTo>
                      <a:lnTo>
                        <a:pt x="0" y="288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" name="Freeform 668"/>
                <p:cNvSpPr/>
                <p:nvPr/>
              </p:nvSpPr>
              <p:spPr>
                <a:xfrm flipV="1" rot="19463400">
                  <a:off x="4847760" y="5920200"/>
                  <a:ext cx="15480" cy="18720"/>
                </a:xfrm>
                <a:custGeom>
                  <a:avLst/>
                  <a:gdLst>
                    <a:gd name="textAreaLeft" fmla="*/ 0 w 15480"/>
                    <a:gd name="textAreaRight" fmla="*/ 15840 w 15480"/>
                    <a:gd name="textAreaTop" fmla="*/ 360 h 18720"/>
                    <a:gd name="textAreaBottom" fmla="*/ 19440 h 18720"/>
                  </a:gdLst>
                  <a:ahLst/>
                  <a:rect l="textAreaLeft" t="textAreaTop" r="textAreaRight" b="textAreaBottom"/>
                  <a:pathLst>
                    <a:path w="192" h="288">
                      <a:moveTo>
                        <a:pt x="0" y="288"/>
                      </a:moveTo>
                      <a:lnTo>
                        <a:pt x="192" y="288"/>
                      </a:lnTo>
                      <a:lnTo>
                        <a:pt x="48" y="0"/>
                      </a:lnTo>
                      <a:lnTo>
                        <a:pt x="0" y="288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1" name="Freeform 669"/>
                <p:cNvSpPr/>
                <p:nvPr/>
              </p:nvSpPr>
              <p:spPr>
                <a:xfrm flipV="1" rot="19463400">
                  <a:off x="4845600" y="5944680"/>
                  <a:ext cx="15480" cy="18720"/>
                </a:xfrm>
                <a:custGeom>
                  <a:avLst/>
                  <a:gdLst>
                    <a:gd name="textAreaLeft" fmla="*/ 0 w 15480"/>
                    <a:gd name="textAreaRight" fmla="*/ 15840 w 15480"/>
                    <a:gd name="textAreaTop" fmla="*/ 360 h 18720"/>
                    <a:gd name="textAreaBottom" fmla="*/ 19440 h 18720"/>
                  </a:gdLst>
                  <a:ahLst/>
                  <a:rect l="textAreaLeft" t="textAreaTop" r="textAreaRight" b="textAreaBottom"/>
                  <a:pathLst>
                    <a:path w="192" h="288">
                      <a:moveTo>
                        <a:pt x="0" y="288"/>
                      </a:moveTo>
                      <a:lnTo>
                        <a:pt x="192" y="288"/>
                      </a:lnTo>
                      <a:lnTo>
                        <a:pt x="48" y="0"/>
                      </a:lnTo>
                      <a:lnTo>
                        <a:pt x="0" y="288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2" name="Freeform 670"/>
                <p:cNvSpPr/>
                <p:nvPr/>
              </p:nvSpPr>
              <p:spPr>
                <a:xfrm flipV="1" rot="19463400">
                  <a:off x="4869360" y="5950800"/>
                  <a:ext cx="15480" cy="18720"/>
                </a:xfrm>
                <a:custGeom>
                  <a:avLst/>
                  <a:gdLst>
                    <a:gd name="textAreaLeft" fmla="*/ 0 w 15480"/>
                    <a:gd name="textAreaRight" fmla="*/ 15840 w 15480"/>
                    <a:gd name="textAreaTop" fmla="*/ 360 h 18720"/>
                    <a:gd name="textAreaBottom" fmla="*/ 19440 h 18720"/>
                  </a:gdLst>
                  <a:ahLst/>
                  <a:rect l="textAreaLeft" t="textAreaTop" r="textAreaRight" b="textAreaBottom"/>
                  <a:pathLst>
                    <a:path w="192" h="288">
                      <a:moveTo>
                        <a:pt x="0" y="288"/>
                      </a:moveTo>
                      <a:lnTo>
                        <a:pt x="192" y="288"/>
                      </a:lnTo>
                      <a:lnTo>
                        <a:pt x="48" y="0"/>
                      </a:lnTo>
                      <a:lnTo>
                        <a:pt x="0" y="288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3" name="Freeform 671"/>
                <p:cNvSpPr/>
                <p:nvPr/>
              </p:nvSpPr>
              <p:spPr>
                <a:xfrm flipV="1" rot="19463400">
                  <a:off x="4906080" y="5947920"/>
                  <a:ext cx="15480" cy="18720"/>
                </a:xfrm>
                <a:custGeom>
                  <a:avLst/>
                  <a:gdLst>
                    <a:gd name="textAreaLeft" fmla="*/ 0 w 15480"/>
                    <a:gd name="textAreaRight" fmla="*/ 15840 w 15480"/>
                    <a:gd name="textAreaTop" fmla="*/ 360 h 18720"/>
                    <a:gd name="textAreaBottom" fmla="*/ 19440 h 18720"/>
                  </a:gdLst>
                  <a:ahLst/>
                  <a:rect l="textAreaLeft" t="textAreaTop" r="textAreaRight" b="textAreaBottom"/>
                  <a:pathLst>
                    <a:path w="192" h="288">
                      <a:moveTo>
                        <a:pt x="0" y="288"/>
                      </a:moveTo>
                      <a:lnTo>
                        <a:pt x="192" y="288"/>
                      </a:lnTo>
                      <a:lnTo>
                        <a:pt x="48" y="0"/>
                      </a:lnTo>
                      <a:lnTo>
                        <a:pt x="0" y="288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4" name="Freeform 672"/>
                <p:cNvSpPr/>
                <p:nvPr/>
              </p:nvSpPr>
              <p:spPr>
                <a:xfrm flipV="1" rot="19463400">
                  <a:off x="4787280" y="5916960"/>
                  <a:ext cx="15480" cy="18720"/>
                </a:xfrm>
                <a:custGeom>
                  <a:avLst/>
                  <a:gdLst>
                    <a:gd name="textAreaLeft" fmla="*/ 0 w 15480"/>
                    <a:gd name="textAreaRight" fmla="*/ 15840 w 15480"/>
                    <a:gd name="textAreaTop" fmla="*/ 360 h 18720"/>
                    <a:gd name="textAreaBottom" fmla="*/ 19440 h 18720"/>
                  </a:gdLst>
                  <a:ahLst/>
                  <a:rect l="textAreaLeft" t="textAreaTop" r="textAreaRight" b="textAreaBottom"/>
                  <a:pathLst>
                    <a:path w="192" h="288">
                      <a:moveTo>
                        <a:pt x="0" y="288"/>
                      </a:moveTo>
                      <a:lnTo>
                        <a:pt x="192" y="288"/>
                      </a:lnTo>
                      <a:lnTo>
                        <a:pt x="48" y="0"/>
                      </a:lnTo>
                      <a:lnTo>
                        <a:pt x="0" y="288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5" name="Freeform 673"/>
                <p:cNvSpPr/>
                <p:nvPr/>
              </p:nvSpPr>
              <p:spPr>
                <a:xfrm flipV="1" rot="19463400">
                  <a:off x="4811040" y="5923440"/>
                  <a:ext cx="15480" cy="18720"/>
                </a:xfrm>
                <a:custGeom>
                  <a:avLst/>
                  <a:gdLst>
                    <a:gd name="textAreaLeft" fmla="*/ 0 w 15480"/>
                    <a:gd name="textAreaRight" fmla="*/ 15840 w 15480"/>
                    <a:gd name="textAreaTop" fmla="*/ 360 h 18720"/>
                    <a:gd name="textAreaBottom" fmla="*/ 19440 h 18720"/>
                  </a:gdLst>
                  <a:ahLst/>
                  <a:rect l="textAreaLeft" t="textAreaTop" r="textAreaRight" b="textAreaBottom"/>
                  <a:pathLst>
                    <a:path w="192" h="288">
                      <a:moveTo>
                        <a:pt x="0" y="288"/>
                      </a:moveTo>
                      <a:lnTo>
                        <a:pt x="192" y="288"/>
                      </a:lnTo>
                      <a:lnTo>
                        <a:pt x="48" y="0"/>
                      </a:lnTo>
                      <a:lnTo>
                        <a:pt x="0" y="288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6" name="Freeform 674"/>
                <p:cNvSpPr/>
                <p:nvPr/>
              </p:nvSpPr>
              <p:spPr>
                <a:xfrm flipH="1" flipV="1" rot="19463400">
                  <a:off x="4883760" y="5917320"/>
                  <a:ext cx="15480" cy="18720"/>
                </a:xfrm>
                <a:custGeom>
                  <a:avLst/>
                  <a:gdLst>
                    <a:gd name="textAreaLeft" fmla="*/ -360 w 15480"/>
                    <a:gd name="textAreaRight" fmla="*/ 15480 w 15480"/>
                    <a:gd name="textAreaTop" fmla="*/ 360 h 18720"/>
                    <a:gd name="textAreaBottom" fmla="*/ 19440 h 18720"/>
                  </a:gdLst>
                  <a:ahLst/>
                  <a:rect l="textAreaLeft" t="textAreaTop" r="textAreaRight" b="textAreaBottom"/>
                  <a:pathLst>
                    <a:path w="192" h="288">
                      <a:moveTo>
                        <a:pt x="0" y="288"/>
                      </a:moveTo>
                      <a:lnTo>
                        <a:pt x="192" y="288"/>
                      </a:lnTo>
                      <a:lnTo>
                        <a:pt x="48" y="0"/>
                      </a:lnTo>
                      <a:lnTo>
                        <a:pt x="0" y="288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7" name="Freeform 675"/>
                <p:cNvSpPr/>
                <p:nvPr/>
              </p:nvSpPr>
              <p:spPr>
                <a:xfrm flipH="1" flipV="1" rot="19463400">
                  <a:off x="4909320" y="5899320"/>
                  <a:ext cx="15480" cy="18720"/>
                </a:xfrm>
                <a:custGeom>
                  <a:avLst/>
                  <a:gdLst>
                    <a:gd name="textAreaLeft" fmla="*/ -360 w 15480"/>
                    <a:gd name="textAreaRight" fmla="*/ 15480 w 15480"/>
                    <a:gd name="textAreaTop" fmla="*/ 360 h 18720"/>
                    <a:gd name="textAreaBottom" fmla="*/ 19440 h 18720"/>
                  </a:gdLst>
                  <a:ahLst/>
                  <a:rect l="textAreaLeft" t="textAreaTop" r="textAreaRight" b="textAreaBottom"/>
                  <a:pathLst>
                    <a:path w="192" h="288">
                      <a:moveTo>
                        <a:pt x="0" y="288"/>
                      </a:moveTo>
                      <a:lnTo>
                        <a:pt x="192" y="288"/>
                      </a:lnTo>
                      <a:lnTo>
                        <a:pt x="48" y="0"/>
                      </a:lnTo>
                      <a:lnTo>
                        <a:pt x="0" y="288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8" name="Freeform 676"/>
                <p:cNvSpPr/>
                <p:nvPr/>
              </p:nvSpPr>
              <p:spPr>
                <a:xfrm flipH="1" flipV="1" rot="19463400">
                  <a:off x="4874760" y="5877720"/>
                  <a:ext cx="15480" cy="18720"/>
                </a:xfrm>
                <a:custGeom>
                  <a:avLst/>
                  <a:gdLst>
                    <a:gd name="textAreaLeft" fmla="*/ -360 w 15480"/>
                    <a:gd name="textAreaRight" fmla="*/ 15480 w 15480"/>
                    <a:gd name="textAreaTop" fmla="*/ 360 h 18720"/>
                    <a:gd name="textAreaBottom" fmla="*/ 19440 h 18720"/>
                  </a:gdLst>
                  <a:ahLst/>
                  <a:rect l="textAreaLeft" t="textAreaTop" r="textAreaRight" b="textAreaBottom"/>
                  <a:pathLst>
                    <a:path w="192" h="288">
                      <a:moveTo>
                        <a:pt x="0" y="288"/>
                      </a:moveTo>
                      <a:lnTo>
                        <a:pt x="192" y="288"/>
                      </a:lnTo>
                      <a:lnTo>
                        <a:pt x="48" y="0"/>
                      </a:lnTo>
                      <a:lnTo>
                        <a:pt x="0" y="288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9" name="Freeform 677"/>
                <p:cNvSpPr/>
                <p:nvPr/>
              </p:nvSpPr>
              <p:spPr>
                <a:xfrm flipH="1" flipV="1" rot="19463400">
                  <a:off x="4889160" y="5844240"/>
                  <a:ext cx="15480" cy="18720"/>
                </a:xfrm>
                <a:custGeom>
                  <a:avLst/>
                  <a:gdLst>
                    <a:gd name="textAreaLeft" fmla="*/ -360 w 15480"/>
                    <a:gd name="textAreaRight" fmla="*/ 15480 w 15480"/>
                    <a:gd name="textAreaTop" fmla="*/ 360 h 18720"/>
                    <a:gd name="textAreaBottom" fmla="*/ 19440 h 18720"/>
                  </a:gdLst>
                  <a:ahLst/>
                  <a:rect l="textAreaLeft" t="textAreaTop" r="textAreaRight" b="textAreaBottom"/>
                  <a:pathLst>
                    <a:path w="192" h="288">
                      <a:moveTo>
                        <a:pt x="0" y="288"/>
                      </a:moveTo>
                      <a:lnTo>
                        <a:pt x="192" y="288"/>
                      </a:lnTo>
                      <a:lnTo>
                        <a:pt x="48" y="0"/>
                      </a:lnTo>
                      <a:lnTo>
                        <a:pt x="0" y="288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0" name="Freeform 678"/>
                <p:cNvSpPr/>
                <p:nvPr/>
              </p:nvSpPr>
              <p:spPr>
                <a:xfrm flipH="1" flipV="1" rot="19463400">
                  <a:off x="4867560" y="5813640"/>
                  <a:ext cx="15480" cy="18720"/>
                </a:xfrm>
                <a:custGeom>
                  <a:avLst/>
                  <a:gdLst>
                    <a:gd name="textAreaLeft" fmla="*/ -360 w 15480"/>
                    <a:gd name="textAreaRight" fmla="*/ 15480 w 15480"/>
                    <a:gd name="textAreaTop" fmla="*/ 360 h 18720"/>
                    <a:gd name="textAreaBottom" fmla="*/ 19440 h 18720"/>
                  </a:gdLst>
                  <a:ahLst/>
                  <a:rect l="textAreaLeft" t="textAreaTop" r="textAreaRight" b="textAreaBottom"/>
                  <a:pathLst>
                    <a:path w="192" h="288">
                      <a:moveTo>
                        <a:pt x="0" y="288"/>
                      </a:moveTo>
                      <a:lnTo>
                        <a:pt x="192" y="288"/>
                      </a:lnTo>
                      <a:lnTo>
                        <a:pt x="48" y="0"/>
                      </a:lnTo>
                      <a:lnTo>
                        <a:pt x="0" y="288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1" name="plant"/>
                <p:cNvSpPr/>
                <p:nvPr/>
              </p:nvSpPr>
              <p:spPr>
                <a:xfrm rot="19463400">
                  <a:off x="4734360" y="5763240"/>
                  <a:ext cx="123480" cy="91440"/>
                </a:xfrm>
                <a:custGeom>
                  <a:avLst/>
                  <a:gdLst>
                    <a:gd name="textAreaLeft" fmla="*/ 40320 w 123480"/>
                    <a:gd name="textAreaRight" fmla="*/ 83520 w 123480"/>
                    <a:gd name="textAreaTop" fmla="*/ 42480 h 91440"/>
                    <a:gd name="textAreaBottom" fmla="*/ 57600 h 914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9368" y="9002"/>
                      </a:moveTo>
                      <a:lnTo>
                        <a:pt x="9254" y="8422"/>
                      </a:lnTo>
                      <a:lnTo>
                        <a:pt x="9139" y="7935"/>
                      </a:lnTo>
                      <a:lnTo>
                        <a:pt x="8819" y="7355"/>
                      </a:lnTo>
                      <a:lnTo>
                        <a:pt x="8475" y="6728"/>
                      </a:lnTo>
                      <a:lnTo>
                        <a:pt x="8040" y="6287"/>
                      </a:lnTo>
                      <a:lnTo>
                        <a:pt x="7421" y="5707"/>
                      </a:lnTo>
                      <a:lnTo>
                        <a:pt x="6574" y="5429"/>
                      </a:lnTo>
                      <a:lnTo>
                        <a:pt x="5452" y="5313"/>
                      </a:lnTo>
                      <a:lnTo>
                        <a:pt x="4856" y="5220"/>
                      </a:lnTo>
                      <a:lnTo>
                        <a:pt x="4169" y="5220"/>
                      </a:lnTo>
                      <a:lnTo>
                        <a:pt x="3665" y="5104"/>
                      </a:lnTo>
                      <a:lnTo>
                        <a:pt x="3001" y="4872"/>
                      </a:lnTo>
                      <a:lnTo>
                        <a:pt x="2497" y="4756"/>
                      </a:lnTo>
                      <a:lnTo>
                        <a:pt x="2062" y="4408"/>
                      </a:lnTo>
                      <a:lnTo>
                        <a:pt x="1603" y="4083"/>
                      </a:lnTo>
                      <a:lnTo>
                        <a:pt x="1283" y="3689"/>
                      </a:lnTo>
                      <a:lnTo>
                        <a:pt x="1283" y="4315"/>
                      </a:lnTo>
                      <a:lnTo>
                        <a:pt x="1489" y="5104"/>
                      </a:lnTo>
                      <a:lnTo>
                        <a:pt x="1832" y="6055"/>
                      </a:lnTo>
                      <a:lnTo>
                        <a:pt x="2382" y="6914"/>
                      </a:lnTo>
                      <a:lnTo>
                        <a:pt x="2680" y="7471"/>
                      </a:lnTo>
                      <a:lnTo>
                        <a:pt x="3115" y="7935"/>
                      </a:lnTo>
                      <a:lnTo>
                        <a:pt x="3573" y="8213"/>
                      </a:lnTo>
                      <a:lnTo>
                        <a:pt x="4077" y="8654"/>
                      </a:lnTo>
                      <a:lnTo>
                        <a:pt x="4627" y="9002"/>
                      </a:lnTo>
                      <a:lnTo>
                        <a:pt x="5245" y="9234"/>
                      </a:lnTo>
                      <a:lnTo>
                        <a:pt x="6024" y="9443"/>
                      </a:lnTo>
                      <a:lnTo>
                        <a:pt x="6757" y="9628"/>
                      </a:lnTo>
                      <a:lnTo>
                        <a:pt x="5177" y="10069"/>
                      </a:lnTo>
                      <a:lnTo>
                        <a:pt x="3963" y="10649"/>
                      </a:lnTo>
                      <a:lnTo>
                        <a:pt x="3344" y="11044"/>
                      </a:lnTo>
                      <a:lnTo>
                        <a:pt x="2886" y="11600"/>
                      </a:lnTo>
                      <a:lnTo>
                        <a:pt x="2497" y="12041"/>
                      </a:lnTo>
                      <a:lnTo>
                        <a:pt x="1947" y="12343"/>
                      </a:lnTo>
                      <a:lnTo>
                        <a:pt x="1168" y="12668"/>
                      </a:lnTo>
                      <a:lnTo>
                        <a:pt x="0" y="12900"/>
                      </a:lnTo>
                      <a:lnTo>
                        <a:pt x="435" y="13248"/>
                      </a:lnTo>
                      <a:lnTo>
                        <a:pt x="779" y="13456"/>
                      </a:lnTo>
                      <a:lnTo>
                        <a:pt x="1283" y="13642"/>
                      </a:lnTo>
                      <a:lnTo>
                        <a:pt x="1718" y="13758"/>
                      </a:lnTo>
                      <a:lnTo>
                        <a:pt x="2680" y="13851"/>
                      </a:lnTo>
                      <a:lnTo>
                        <a:pt x="3573" y="13758"/>
                      </a:lnTo>
                      <a:lnTo>
                        <a:pt x="4512" y="13526"/>
                      </a:lnTo>
                      <a:lnTo>
                        <a:pt x="5360" y="13248"/>
                      </a:lnTo>
                      <a:lnTo>
                        <a:pt x="6139" y="12900"/>
                      </a:lnTo>
                      <a:lnTo>
                        <a:pt x="6757" y="12552"/>
                      </a:lnTo>
                      <a:lnTo>
                        <a:pt x="6459" y="13132"/>
                      </a:lnTo>
                      <a:lnTo>
                        <a:pt x="6139" y="13642"/>
                      </a:lnTo>
                      <a:lnTo>
                        <a:pt x="5910" y="14199"/>
                      </a:lnTo>
                      <a:lnTo>
                        <a:pt x="5681" y="14663"/>
                      </a:lnTo>
                      <a:lnTo>
                        <a:pt x="5681" y="15150"/>
                      </a:lnTo>
                      <a:lnTo>
                        <a:pt x="5681" y="15730"/>
                      </a:lnTo>
                      <a:lnTo>
                        <a:pt x="5681" y="16241"/>
                      </a:lnTo>
                      <a:lnTo>
                        <a:pt x="5795" y="16913"/>
                      </a:lnTo>
                      <a:lnTo>
                        <a:pt x="5910" y="17586"/>
                      </a:lnTo>
                      <a:lnTo>
                        <a:pt x="5910" y="18213"/>
                      </a:lnTo>
                      <a:lnTo>
                        <a:pt x="5795" y="18885"/>
                      </a:lnTo>
                      <a:lnTo>
                        <a:pt x="5566" y="19396"/>
                      </a:lnTo>
                      <a:lnTo>
                        <a:pt x="5245" y="19976"/>
                      </a:lnTo>
                      <a:lnTo>
                        <a:pt x="4971" y="20370"/>
                      </a:lnTo>
                      <a:lnTo>
                        <a:pt x="4512" y="20811"/>
                      </a:lnTo>
                      <a:lnTo>
                        <a:pt x="4077" y="21043"/>
                      </a:lnTo>
                      <a:lnTo>
                        <a:pt x="5177" y="20927"/>
                      </a:lnTo>
                      <a:lnTo>
                        <a:pt x="6253" y="20486"/>
                      </a:lnTo>
                      <a:lnTo>
                        <a:pt x="7421" y="19976"/>
                      </a:lnTo>
                      <a:lnTo>
                        <a:pt x="8361" y="19187"/>
                      </a:lnTo>
                      <a:lnTo>
                        <a:pt x="8819" y="18769"/>
                      </a:lnTo>
                      <a:lnTo>
                        <a:pt x="9139" y="18213"/>
                      </a:lnTo>
                      <a:lnTo>
                        <a:pt x="9437" y="17772"/>
                      </a:lnTo>
                      <a:lnTo>
                        <a:pt x="9643" y="17261"/>
                      </a:lnTo>
                      <a:lnTo>
                        <a:pt x="9872" y="16681"/>
                      </a:lnTo>
                      <a:lnTo>
                        <a:pt x="9872" y="16171"/>
                      </a:lnTo>
                      <a:lnTo>
                        <a:pt x="9872" y="15614"/>
                      </a:lnTo>
                      <a:lnTo>
                        <a:pt x="9758" y="15057"/>
                      </a:lnTo>
                      <a:lnTo>
                        <a:pt x="10216" y="15498"/>
                      </a:lnTo>
                      <a:lnTo>
                        <a:pt x="10537" y="16241"/>
                      </a:lnTo>
                      <a:lnTo>
                        <a:pt x="10834" y="17145"/>
                      </a:lnTo>
                      <a:lnTo>
                        <a:pt x="11041" y="18213"/>
                      </a:lnTo>
                      <a:lnTo>
                        <a:pt x="11155" y="19187"/>
                      </a:lnTo>
                      <a:lnTo>
                        <a:pt x="11155" y="20185"/>
                      </a:lnTo>
                      <a:lnTo>
                        <a:pt x="11155" y="20579"/>
                      </a:lnTo>
                      <a:lnTo>
                        <a:pt x="11041" y="21043"/>
                      </a:lnTo>
                      <a:lnTo>
                        <a:pt x="10926" y="21391"/>
                      </a:lnTo>
                      <a:lnTo>
                        <a:pt x="10766" y="21600"/>
                      </a:lnTo>
                      <a:lnTo>
                        <a:pt x="11499" y="21484"/>
                      </a:lnTo>
                      <a:lnTo>
                        <a:pt x="12323" y="21043"/>
                      </a:lnTo>
                      <a:lnTo>
                        <a:pt x="13102" y="20370"/>
                      </a:lnTo>
                      <a:lnTo>
                        <a:pt x="13606" y="19628"/>
                      </a:lnTo>
                      <a:lnTo>
                        <a:pt x="13950" y="19071"/>
                      </a:lnTo>
                      <a:lnTo>
                        <a:pt x="14064" y="18677"/>
                      </a:lnTo>
                      <a:lnTo>
                        <a:pt x="14179" y="18097"/>
                      </a:lnTo>
                      <a:lnTo>
                        <a:pt x="14293" y="17586"/>
                      </a:lnTo>
                      <a:lnTo>
                        <a:pt x="14179" y="16913"/>
                      </a:lnTo>
                      <a:lnTo>
                        <a:pt x="14064" y="16241"/>
                      </a:lnTo>
                      <a:lnTo>
                        <a:pt x="13835" y="15614"/>
                      </a:lnTo>
                      <a:lnTo>
                        <a:pt x="13560" y="14872"/>
                      </a:lnTo>
                      <a:lnTo>
                        <a:pt x="13950" y="14941"/>
                      </a:lnTo>
                      <a:lnTo>
                        <a:pt x="14408" y="15150"/>
                      </a:lnTo>
                      <a:lnTo>
                        <a:pt x="14843" y="15266"/>
                      </a:lnTo>
                      <a:lnTo>
                        <a:pt x="15232" y="15614"/>
                      </a:lnTo>
                      <a:lnTo>
                        <a:pt x="15576" y="15846"/>
                      </a:lnTo>
                      <a:lnTo>
                        <a:pt x="15897" y="16171"/>
                      </a:lnTo>
                      <a:lnTo>
                        <a:pt x="16126" y="16473"/>
                      </a:lnTo>
                      <a:lnTo>
                        <a:pt x="16240" y="16913"/>
                      </a:lnTo>
                      <a:lnTo>
                        <a:pt x="16515" y="17261"/>
                      </a:lnTo>
                      <a:lnTo>
                        <a:pt x="17088" y="17586"/>
                      </a:lnTo>
                      <a:lnTo>
                        <a:pt x="17798" y="17865"/>
                      </a:lnTo>
                      <a:lnTo>
                        <a:pt x="18576" y="18097"/>
                      </a:lnTo>
                      <a:lnTo>
                        <a:pt x="19424" y="18213"/>
                      </a:lnTo>
                      <a:lnTo>
                        <a:pt x="20317" y="18213"/>
                      </a:lnTo>
                      <a:lnTo>
                        <a:pt x="21050" y="18213"/>
                      </a:lnTo>
                      <a:lnTo>
                        <a:pt x="21600" y="17865"/>
                      </a:lnTo>
                      <a:lnTo>
                        <a:pt x="21165" y="17656"/>
                      </a:lnTo>
                      <a:lnTo>
                        <a:pt x="20592" y="17470"/>
                      </a:lnTo>
                      <a:lnTo>
                        <a:pt x="20088" y="17029"/>
                      </a:lnTo>
                      <a:lnTo>
                        <a:pt x="19653" y="16681"/>
                      </a:lnTo>
                      <a:lnTo>
                        <a:pt x="19195" y="16241"/>
                      </a:lnTo>
                      <a:lnTo>
                        <a:pt x="18920" y="15962"/>
                      </a:lnTo>
                      <a:lnTo>
                        <a:pt x="18576" y="15498"/>
                      </a:lnTo>
                      <a:lnTo>
                        <a:pt x="18576" y="15057"/>
                      </a:lnTo>
                      <a:lnTo>
                        <a:pt x="18485" y="14756"/>
                      </a:lnTo>
                      <a:lnTo>
                        <a:pt x="18256" y="14199"/>
                      </a:lnTo>
                      <a:lnTo>
                        <a:pt x="17912" y="13526"/>
                      </a:lnTo>
                      <a:lnTo>
                        <a:pt x="17523" y="13016"/>
                      </a:lnTo>
                      <a:lnTo>
                        <a:pt x="16973" y="12436"/>
                      </a:lnTo>
                      <a:lnTo>
                        <a:pt x="16355" y="12041"/>
                      </a:lnTo>
                      <a:lnTo>
                        <a:pt x="16011" y="11832"/>
                      </a:lnTo>
                      <a:lnTo>
                        <a:pt x="15690" y="11716"/>
                      </a:lnTo>
                      <a:lnTo>
                        <a:pt x="15232" y="11716"/>
                      </a:lnTo>
                      <a:lnTo>
                        <a:pt x="14843" y="11716"/>
                      </a:lnTo>
                      <a:lnTo>
                        <a:pt x="15461" y="11252"/>
                      </a:lnTo>
                      <a:lnTo>
                        <a:pt x="16126" y="10858"/>
                      </a:lnTo>
                      <a:lnTo>
                        <a:pt x="16973" y="10649"/>
                      </a:lnTo>
                      <a:lnTo>
                        <a:pt x="17798" y="10417"/>
                      </a:lnTo>
                      <a:lnTo>
                        <a:pt x="18806" y="10301"/>
                      </a:lnTo>
                      <a:lnTo>
                        <a:pt x="19653" y="10301"/>
                      </a:lnTo>
                      <a:lnTo>
                        <a:pt x="20478" y="10417"/>
                      </a:lnTo>
                      <a:lnTo>
                        <a:pt x="21256" y="10533"/>
                      </a:lnTo>
                      <a:lnTo>
                        <a:pt x="20707" y="9837"/>
                      </a:lnTo>
                      <a:lnTo>
                        <a:pt x="19859" y="9234"/>
                      </a:lnTo>
                      <a:lnTo>
                        <a:pt x="18806" y="8538"/>
                      </a:lnTo>
                      <a:lnTo>
                        <a:pt x="17637" y="8144"/>
                      </a:lnTo>
                      <a:lnTo>
                        <a:pt x="16973" y="8027"/>
                      </a:lnTo>
                      <a:lnTo>
                        <a:pt x="16355" y="7935"/>
                      </a:lnTo>
                      <a:lnTo>
                        <a:pt x="15805" y="7935"/>
                      </a:lnTo>
                      <a:lnTo>
                        <a:pt x="15118" y="8027"/>
                      </a:lnTo>
                      <a:lnTo>
                        <a:pt x="14614" y="8144"/>
                      </a:lnTo>
                      <a:lnTo>
                        <a:pt x="14064" y="8422"/>
                      </a:lnTo>
                      <a:lnTo>
                        <a:pt x="13606" y="8886"/>
                      </a:lnTo>
                      <a:lnTo>
                        <a:pt x="13217" y="9327"/>
                      </a:lnTo>
                      <a:lnTo>
                        <a:pt x="13606" y="8538"/>
                      </a:lnTo>
                      <a:lnTo>
                        <a:pt x="13950" y="7935"/>
                      </a:lnTo>
                      <a:lnTo>
                        <a:pt x="14293" y="7123"/>
                      </a:lnTo>
                      <a:lnTo>
                        <a:pt x="14499" y="6519"/>
                      </a:lnTo>
                      <a:lnTo>
                        <a:pt x="14614" y="5823"/>
                      </a:lnTo>
                      <a:lnTo>
                        <a:pt x="14614" y="5220"/>
                      </a:lnTo>
                      <a:lnTo>
                        <a:pt x="14408" y="4524"/>
                      </a:lnTo>
                      <a:lnTo>
                        <a:pt x="14064" y="3898"/>
                      </a:lnTo>
                      <a:lnTo>
                        <a:pt x="13606" y="3225"/>
                      </a:lnTo>
                      <a:lnTo>
                        <a:pt x="13331" y="2598"/>
                      </a:lnTo>
                      <a:lnTo>
                        <a:pt x="13102" y="2042"/>
                      </a:lnTo>
                      <a:lnTo>
                        <a:pt x="12896" y="1485"/>
                      </a:lnTo>
                      <a:lnTo>
                        <a:pt x="12781" y="1090"/>
                      </a:lnTo>
                      <a:lnTo>
                        <a:pt x="12667" y="626"/>
                      </a:lnTo>
                      <a:lnTo>
                        <a:pt x="12667" y="278"/>
                      </a:lnTo>
                      <a:lnTo>
                        <a:pt x="12667" y="0"/>
                      </a:lnTo>
                      <a:lnTo>
                        <a:pt x="12163" y="394"/>
                      </a:lnTo>
                      <a:lnTo>
                        <a:pt x="11728" y="974"/>
                      </a:lnTo>
                      <a:lnTo>
                        <a:pt x="11155" y="1601"/>
                      </a:lnTo>
                      <a:lnTo>
                        <a:pt x="10766" y="2390"/>
                      </a:lnTo>
                      <a:lnTo>
                        <a:pt x="10330" y="3109"/>
                      </a:lnTo>
                      <a:lnTo>
                        <a:pt x="10101" y="3898"/>
                      </a:lnTo>
                      <a:lnTo>
                        <a:pt x="9987" y="4524"/>
                      </a:lnTo>
                      <a:lnTo>
                        <a:pt x="10101" y="5220"/>
                      </a:lnTo>
                      <a:lnTo>
                        <a:pt x="10216" y="5823"/>
                      </a:lnTo>
                      <a:lnTo>
                        <a:pt x="10330" y="6403"/>
                      </a:lnTo>
                      <a:lnTo>
                        <a:pt x="10330" y="6914"/>
                      </a:lnTo>
                      <a:lnTo>
                        <a:pt x="10216" y="7471"/>
                      </a:lnTo>
                      <a:lnTo>
                        <a:pt x="10101" y="7935"/>
                      </a:lnTo>
                      <a:lnTo>
                        <a:pt x="9872" y="8329"/>
                      </a:lnTo>
                      <a:lnTo>
                        <a:pt x="9643" y="8654"/>
                      </a:lnTo>
                      <a:lnTo>
                        <a:pt x="9368" y="9002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02" name="Freeform 680"/>
              <p:cNvSpPr/>
              <p:nvPr/>
            </p:nvSpPr>
            <p:spPr>
              <a:xfrm rot="19463400">
                <a:off x="4439880" y="5532120"/>
                <a:ext cx="466560" cy="527400"/>
              </a:xfrm>
              <a:custGeom>
                <a:avLst/>
                <a:gdLst>
                  <a:gd name="textAreaLeft" fmla="*/ 0 w 466560"/>
                  <a:gd name="textAreaRight" fmla="*/ 466920 w 466560"/>
                  <a:gd name="textAreaTop" fmla="*/ 0 h 527400"/>
                  <a:gd name="textAreaBottom" fmla="*/ 527760 h 527400"/>
                </a:gdLst>
                <a:ahLst/>
                <a:rect l="textAreaLeft" t="textAreaTop" r="textAreaRight" b="textAreaBottom"/>
                <a:pathLst>
                  <a:path w="515" h="557">
                    <a:moveTo>
                      <a:pt x="480" y="192"/>
                    </a:moveTo>
                    <a:cubicBezTo>
                      <a:pt x="483" y="187"/>
                      <a:pt x="515" y="190"/>
                      <a:pt x="480" y="160"/>
                    </a:cubicBezTo>
                    <a:cubicBezTo>
                      <a:pt x="445" y="130"/>
                      <a:pt x="339" y="0"/>
                      <a:pt x="272" y="13"/>
                    </a:cubicBezTo>
                    <a:cubicBezTo>
                      <a:pt x="205" y="26"/>
                      <a:pt x="125" y="146"/>
                      <a:pt x="80" y="237"/>
                    </a:cubicBezTo>
                    <a:cubicBezTo>
                      <a:pt x="35" y="328"/>
                      <a:pt x="17" y="490"/>
                      <a:pt x="0" y="557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Freeform 681"/>
              <p:cNvSpPr/>
              <p:nvPr/>
            </p:nvSpPr>
            <p:spPr>
              <a:xfrm rot="19463400">
                <a:off x="4429440" y="5619600"/>
                <a:ext cx="50400" cy="606240"/>
              </a:xfrm>
              <a:custGeom>
                <a:avLst/>
                <a:gdLst>
                  <a:gd name="textAreaLeft" fmla="*/ 0 w 50400"/>
                  <a:gd name="textAreaRight" fmla="*/ 50760 w 50400"/>
                  <a:gd name="textAreaTop" fmla="*/ 0 h 606240"/>
                  <a:gd name="textAreaBottom" fmla="*/ 606600 h 606240"/>
                </a:gdLst>
                <a:ahLst/>
                <a:rect l="textAreaLeft" t="textAreaTop" r="textAreaRight" b="textAreaBottom"/>
                <a:pathLst>
                  <a:path w="56" h="640">
                    <a:moveTo>
                      <a:pt x="0" y="0"/>
                    </a:moveTo>
                    <a:cubicBezTo>
                      <a:pt x="5" y="51"/>
                      <a:pt x="40" y="197"/>
                      <a:pt x="48" y="304"/>
                    </a:cubicBezTo>
                    <a:cubicBezTo>
                      <a:pt x="56" y="411"/>
                      <a:pt x="40" y="516"/>
                      <a:pt x="48" y="640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04" name="Group 682"/>
              <p:cNvGrpSpPr/>
              <p:nvPr/>
            </p:nvGrpSpPr>
            <p:grpSpPr>
              <a:xfrm>
                <a:off x="4164840" y="5563080"/>
                <a:ext cx="218520" cy="225360"/>
                <a:chOff x="4164840" y="5563080"/>
                <a:chExt cx="218520" cy="225360"/>
              </a:xfrm>
            </p:grpSpPr>
            <p:grpSp>
              <p:nvGrpSpPr>
                <p:cNvPr id="705" name="Group 683"/>
                <p:cNvGrpSpPr/>
                <p:nvPr/>
              </p:nvGrpSpPr>
              <p:grpSpPr>
                <a:xfrm>
                  <a:off x="4164840" y="5563080"/>
                  <a:ext cx="218520" cy="225360"/>
                  <a:chOff x="4164840" y="5563080"/>
                  <a:chExt cx="218520" cy="225360"/>
                </a:xfrm>
              </p:grpSpPr>
              <p:sp>
                <p:nvSpPr>
                  <p:cNvPr id="706" name="Freeform 684"/>
                  <p:cNvSpPr/>
                  <p:nvPr/>
                </p:nvSpPr>
                <p:spPr>
                  <a:xfrm rot="1879800">
                    <a:off x="4183200" y="5663880"/>
                    <a:ext cx="70920" cy="90360"/>
                  </a:xfrm>
                  <a:custGeom>
                    <a:avLst/>
                    <a:gdLst>
                      <a:gd name="textAreaLeft" fmla="*/ 0 w 70920"/>
                      <a:gd name="textAreaRight" fmla="*/ 71280 w 70920"/>
                      <a:gd name="textAreaTop" fmla="*/ 0 h 90360"/>
                      <a:gd name="textAreaBottom" fmla="*/ 90720 h 90360"/>
                    </a:gdLst>
                    <a:ahLst/>
                    <a:rect l="textAreaLeft" t="textAreaTop" r="textAreaRight" b="textAreaBottom"/>
                    <a:pathLst>
                      <a:path w="224" h="328">
                        <a:moveTo>
                          <a:pt x="168" y="8"/>
                        </a:moveTo>
                        <a:cubicBezTo>
                          <a:pt x="136" y="0"/>
                          <a:pt x="48" y="56"/>
                          <a:pt x="24" y="104"/>
                        </a:cubicBezTo>
                        <a:cubicBezTo>
                          <a:pt x="0" y="152"/>
                          <a:pt x="8" y="264"/>
                          <a:pt x="24" y="296"/>
                        </a:cubicBezTo>
                        <a:cubicBezTo>
                          <a:pt x="40" y="328"/>
                          <a:pt x="88" y="320"/>
                          <a:pt x="120" y="296"/>
                        </a:cubicBezTo>
                        <a:cubicBezTo>
                          <a:pt x="152" y="272"/>
                          <a:pt x="208" y="200"/>
                          <a:pt x="216" y="152"/>
                        </a:cubicBezTo>
                        <a:cubicBezTo>
                          <a:pt x="224" y="104"/>
                          <a:pt x="200" y="16"/>
                          <a:pt x="168" y="8"/>
                        </a:cubicBezTo>
                        <a:close/>
                      </a:path>
                    </a:pathLst>
                  </a:cu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920" bIns="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7" name="Freeform 685"/>
                  <p:cNvSpPr/>
                  <p:nvPr/>
                </p:nvSpPr>
                <p:spPr>
                  <a:xfrm rot="19463400">
                    <a:off x="4234320" y="5695920"/>
                    <a:ext cx="72360" cy="78840"/>
                  </a:xfrm>
                  <a:custGeom>
                    <a:avLst/>
                    <a:gdLst>
                      <a:gd name="textAreaLeft" fmla="*/ 0 w 72360"/>
                      <a:gd name="textAreaRight" fmla="*/ 72720 w 72360"/>
                      <a:gd name="textAreaTop" fmla="*/ 0 h 78840"/>
                      <a:gd name="textAreaBottom" fmla="*/ 79200 h 78840"/>
                    </a:gdLst>
                    <a:ahLst/>
                    <a:rect l="textAreaLeft" t="textAreaTop" r="textAreaRight" b="textAreaBottom"/>
                    <a:pathLst>
                      <a:path w="224" h="328">
                        <a:moveTo>
                          <a:pt x="168" y="8"/>
                        </a:moveTo>
                        <a:cubicBezTo>
                          <a:pt x="136" y="0"/>
                          <a:pt x="48" y="56"/>
                          <a:pt x="24" y="104"/>
                        </a:cubicBezTo>
                        <a:cubicBezTo>
                          <a:pt x="0" y="152"/>
                          <a:pt x="8" y="264"/>
                          <a:pt x="24" y="296"/>
                        </a:cubicBezTo>
                        <a:cubicBezTo>
                          <a:pt x="40" y="328"/>
                          <a:pt x="88" y="320"/>
                          <a:pt x="120" y="296"/>
                        </a:cubicBezTo>
                        <a:cubicBezTo>
                          <a:pt x="152" y="272"/>
                          <a:pt x="208" y="200"/>
                          <a:pt x="216" y="152"/>
                        </a:cubicBezTo>
                        <a:cubicBezTo>
                          <a:pt x="224" y="104"/>
                          <a:pt x="200" y="16"/>
                          <a:pt x="168" y="8"/>
                        </a:cubicBezTo>
                        <a:close/>
                      </a:path>
                    </a:pathLst>
                  </a:cu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400" bIns="32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8" name="Freeform 686"/>
                  <p:cNvSpPr/>
                  <p:nvPr/>
                </p:nvSpPr>
                <p:spPr>
                  <a:xfrm rot="1656600">
                    <a:off x="4295160" y="5603040"/>
                    <a:ext cx="71280" cy="90360"/>
                  </a:xfrm>
                  <a:custGeom>
                    <a:avLst/>
                    <a:gdLst>
                      <a:gd name="textAreaLeft" fmla="*/ 0 w 71280"/>
                      <a:gd name="textAreaRight" fmla="*/ 71640 w 71280"/>
                      <a:gd name="textAreaTop" fmla="*/ 0 h 90360"/>
                      <a:gd name="textAreaBottom" fmla="*/ 90720 h 90360"/>
                    </a:gdLst>
                    <a:ahLst/>
                    <a:rect l="textAreaLeft" t="textAreaTop" r="textAreaRight" b="textAreaBottom"/>
                    <a:pathLst>
                      <a:path w="224" h="328">
                        <a:moveTo>
                          <a:pt x="168" y="8"/>
                        </a:moveTo>
                        <a:cubicBezTo>
                          <a:pt x="136" y="0"/>
                          <a:pt x="48" y="56"/>
                          <a:pt x="24" y="104"/>
                        </a:cubicBezTo>
                        <a:cubicBezTo>
                          <a:pt x="0" y="152"/>
                          <a:pt x="8" y="264"/>
                          <a:pt x="24" y="296"/>
                        </a:cubicBezTo>
                        <a:cubicBezTo>
                          <a:pt x="40" y="328"/>
                          <a:pt x="88" y="320"/>
                          <a:pt x="120" y="296"/>
                        </a:cubicBezTo>
                        <a:cubicBezTo>
                          <a:pt x="152" y="272"/>
                          <a:pt x="208" y="200"/>
                          <a:pt x="216" y="152"/>
                        </a:cubicBezTo>
                        <a:cubicBezTo>
                          <a:pt x="224" y="104"/>
                          <a:pt x="200" y="16"/>
                          <a:pt x="168" y="8"/>
                        </a:cubicBezTo>
                        <a:close/>
                      </a:path>
                    </a:pathLst>
                  </a:cu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920" bIns="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9" name="Freeform 687"/>
                  <p:cNvSpPr/>
                  <p:nvPr/>
                </p:nvSpPr>
                <p:spPr>
                  <a:xfrm rot="4896600">
                    <a:off x="4193640" y="5617080"/>
                    <a:ext cx="71280" cy="90360"/>
                  </a:xfrm>
                  <a:custGeom>
                    <a:avLst/>
                    <a:gdLst>
                      <a:gd name="textAreaLeft" fmla="*/ 0 w 71280"/>
                      <a:gd name="textAreaRight" fmla="*/ 71640 w 71280"/>
                      <a:gd name="textAreaTop" fmla="*/ 0 h 90360"/>
                      <a:gd name="textAreaBottom" fmla="*/ 90720 h 90360"/>
                    </a:gdLst>
                    <a:ahLst/>
                    <a:rect l="textAreaLeft" t="textAreaTop" r="textAreaRight" b="textAreaBottom"/>
                    <a:pathLst>
                      <a:path w="224" h="328">
                        <a:moveTo>
                          <a:pt x="168" y="8"/>
                        </a:moveTo>
                        <a:cubicBezTo>
                          <a:pt x="136" y="0"/>
                          <a:pt x="48" y="56"/>
                          <a:pt x="24" y="104"/>
                        </a:cubicBezTo>
                        <a:cubicBezTo>
                          <a:pt x="0" y="152"/>
                          <a:pt x="8" y="264"/>
                          <a:pt x="24" y="296"/>
                        </a:cubicBezTo>
                        <a:cubicBezTo>
                          <a:pt x="40" y="328"/>
                          <a:pt x="88" y="320"/>
                          <a:pt x="120" y="296"/>
                        </a:cubicBezTo>
                        <a:cubicBezTo>
                          <a:pt x="152" y="272"/>
                          <a:pt x="208" y="200"/>
                          <a:pt x="216" y="152"/>
                        </a:cubicBezTo>
                        <a:cubicBezTo>
                          <a:pt x="224" y="104"/>
                          <a:pt x="200" y="16"/>
                          <a:pt x="168" y="8"/>
                        </a:cubicBezTo>
                        <a:close/>
                      </a:path>
                    </a:pathLst>
                  </a:cu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920" bIns="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0" name="Freeform 688"/>
                  <p:cNvSpPr/>
                  <p:nvPr/>
                </p:nvSpPr>
                <p:spPr>
                  <a:xfrm rot="19463400">
                    <a:off x="4237920" y="5576760"/>
                    <a:ext cx="72360" cy="78840"/>
                  </a:xfrm>
                  <a:custGeom>
                    <a:avLst/>
                    <a:gdLst>
                      <a:gd name="textAreaLeft" fmla="*/ 0 w 72360"/>
                      <a:gd name="textAreaRight" fmla="*/ 72720 w 72360"/>
                      <a:gd name="textAreaTop" fmla="*/ 0 h 78840"/>
                      <a:gd name="textAreaBottom" fmla="*/ 79200 h 78840"/>
                    </a:gdLst>
                    <a:ahLst/>
                    <a:rect l="textAreaLeft" t="textAreaTop" r="textAreaRight" b="textAreaBottom"/>
                    <a:pathLst>
                      <a:path w="224" h="328">
                        <a:moveTo>
                          <a:pt x="168" y="8"/>
                        </a:moveTo>
                        <a:cubicBezTo>
                          <a:pt x="136" y="0"/>
                          <a:pt x="48" y="56"/>
                          <a:pt x="24" y="104"/>
                        </a:cubicBezTo>
                        <a:cubicBezTo>
                          <a:pt x="0" y="152"/>
                          <a:pt x="8" y="264"/>
                          <a:pt x="24" y="296"/>
                        </a:cubicBezTo>
                        <a:cubicBezTo>
                          <a:pt x="40" y="328"/>
                          <a:pt x="88" y="320"/>
                          <a:pt x="120" y="296"/>
                        </a:cubicBezTo>
                        <a:cubicBezTo>
                          <a:pt x="152" y="272"/>
                          <a:pt x="208" y="200"/>
                          <a:pt x="216" y="152"/>
                        </a:cubicBezTo>
                        <a:cubicBezTo>
                          <a:pt x="224" y="104"/>
                          <a:pt x="200" y="16"/>
                          <a:pt x="168" y="8"/>
                        </a:cubicBezTo>
                        <a:close/>
                      </a:path>
                    </a:pathLst>
                  </a:cu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400" bIns="32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1" name="Freeform 689"/>
                  <p:cNvSpPr/>
                  <p:nvPr/>
                </p:nvSpPr>
                <p:spPr>
                  <a:xfrm rot="19463400">
                    <a:off x="4258800" y="5666040"/>
                    <a:ext cx="36000" cy="31320"/>
                  </a:xfrm>
                  <a:custGeom>
                    <a:avLst/>
                    <a:gdLst>
                      <a:gd name="textAreaLeft" fmla="*/ 0 w 36000"/>
                      <a:gd name="textAreaRight" fmla="*/ 36360 w 36000"/>
                      <a:gd name="textAreaTop" fmla="*/ 0 h 31320"/>
                      <a:gd name="textAreaBottom" fmla="*/ 31680 h 31320"/>
                    </a:gdLst>
                    <a:ahLst/>
                    <a:rect l="textAreaLeft" t="textAreaTop" r="textAreaRight" b="textAreaBottom"/>
                    <a:pathLst>
                      <a:path w="224" h="328">
                        <a:moveTo>
                          <a:pt x="168" y="8"/>
                        </a:moveTo>
                        <a:cubicBezTo>
                          <a:pt x="136" y="0"/>
                          <a:pt x="48" y="56"/>
                          <a:pt x="24" y="104"/>
                        </a:cubicBezTo>
                        <a:cubicBezTo>
                          <a:pt x="0" y="152"/>
                          <a:pt x="8" y="264"/>
                          <a:pt x="24" y="296"/>
                        </a:cubicBezTo>
                        <a:cubicBezTo>
                          <a:pt x="40" y="328"/>
                          <a:pt x="88" y="320"/>
                          <a:pt x="120" y="296"/>
                        </a:cubicBezTo>
                        <a:cubicBezTo>
                          <a:pt x="152" y="272"/>
                          <a:pt x="208" y="200"/>
                          <a:pt x="216" y="152"/>
                        </a:cubicBezTo>
                        <a:cubicBezTo>
                          <a:pt x="224" y="104"/>
                          <a:pt x="200" y="16"/>
                          <a:pt x="168" y="8"/>
                        </a:cubicBezTo>
                        <a:close/>
                      </a:path>
                    </a:pathLst>
                  </a:custGeom>
                  <a:solidFill>
                    <a:srgbClr val="33cc33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12" name="Freeform 690"/>
                <p:cNvSpPr/>
                <p:nvPr/>
              </p:nvSpPr>
              <p:spPr>
                <a:xfrm rot="4579800">
                  <a:off x="4293000" y="5663160"/>
                  <a:ext cx="71280" cy="90360"/>
                </a:xfrm>
                <a:custGeom>
                  <a:avLst/>
                  <a:gdLst>
                    <a:gd name="textAreaLeft" fmla="*/ 0 w 71280"/>
                    <a:gd name="textAreaRight" fmla="*/ 71640 w 71280"/>
                    <a:gd name="textAreaTop" fmla="*/ 0 h 90360"/>
                    <a:gd name="textAreaBottom" fmla="*/ 90720 h 90360"/>
                  </a:gdLst>
                  <a:ahLst/>
                  <a:rect l="textAreaLeft" t="textAreaTop" r="textAreaRight" b="textAreaBottom"/>
                  <a:pathLst>
                    <a:path w="224" h="328">
                      <a:moveTo>
                        <a:pt x="168" y="8"/>
                      </a:moveTo>
                      <a:cubicBezTo>
                        <a:pt x="136" y="0"/>
                        <a:pt x="48" y="56"/>
                        <a:pt x="24" y="104"/>
                      </a:cubicBezTo>
                      <a:cubicBezTo>
                        <a:pt x="0" y="152"/>
                        <a:pt x="8" y="264"/>
                        <a:pt x="24" y="296"/>
                      </a:cubicBezTo>
                      <a:cubicBezTo>
                        <a:pt x="40" y="328"/>
                        <a:pt x="88" y="320"/>
                        <a:pt x="120" y="296"/>
                      </a:cubicBezTo>
                      <a:cubicBezTo>
                        <a:pt x="152" y="272"/>
                        <a:pt x="208" y="200"/>
                        <a:pt x="216" y="152"/>
                      </a:cubicBezTo>
                      <a:cubicBezTo>
                        <a:pt x="224" y="104"/>
                        <a:pt x="200" y="16"/>
                        <a:pt x="168" y="8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13" name="Freeform 691"/>
              <p:cNvSpPr/>
              <p:nvPr/>
            </p:nvSpPr>
            <p:spPr>
              <a:xfrm rot="19463400">
                <a:off x="4452480" y="5584320"/>
                <a:ext cx="376560" cy="487440"/>
              </a:xfrm>
              <a:custGeom>
                <a:avLst/>
                <a:gdLst>
                  <a:gd name="textAreaLeft" fmla="*/ 0 w 376560"/>
                  <a:gd name="textAreaRight" fmla="*/ 376920 w 376560"/>
                  <a:gd name="textAreaTop" fmla="*/ 0 h 487440"/>
                  <a:gd name="textAreaBottom" fmla="*/ 487800 h 487440"/>
                </a:gdLst>
                <a:ahLst/>
                <a:rect l="textAreaLeft" t="textAreaTop" r="textAreaRight" b="textAreaBottom"/>
                <a:pathLst>
                  <a:path w="416" h="515">
                    <a:moveTo>
                      <a:pt x="384" y="211"/>
                    </a:moveTo>
                    <a:cubicBezTo>
                      <a:pt x="387" y="206"/>
                      <a:pt x="416" y="214"/>
                      <a:pt x="384" y="179"/>
                    </a:cubicBezTo>
                    <a:cubicBezTo>
                      <a:pt x="352" y="144"/>
                      <a:pt x="250" y="0"/>
                      <a:pt x="192" y="3"/>
                    </a:cubicBezTo>
                    <a:cubicBezTo>
                      <a:pt x="134" y="6"/>
                      <a:pt x="69" y="110"/>
                      <a:pt x="37" y="195"/>
                    </a:cubicBezTo>
                    <a:cubicBezTo>
                      <a:pt x="5" y="280"/>
                      <a:pt x="8" y="448"/>
                      <a:pt x="0" y="515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Freeform 692"/>
              <p:cNvSpPr/>
              <p:nvPr/>
            </p:nvSpPr>
            <p:spPr>
              <a:xfrm rot="19463400">
                <a:off x="4500360" y="5721840"/>
                <a:ext cx="311400" cy="368280"/>
              </a:xfrm>
              <a:custGeom>
                <a:avLst/>
                <a:gdLst>
                  <a:gd name="textAreaLeft" fmla="*/ 0 w 311400"/>
                  <a:gd name="textAreaRight" fmla="*/ 311760 w 311400"/>
                  <a:gd name="textAreaTop" fmla="*/ 0 h 368280"/>
                  <a:gd name="textAreaBottom" fmla="*/ 368280 h 368280"/>
                </a:gdLst>
                <a:ahLst/>
                <a:rect l="textAreaLeft" t="textAreaTop" r="textAreaRight" b="textAreaBottom"/>
                <a:pathLst>
                  <a:path w="344" h="389">
                    <a:moveTo>
                      <a:pt x="320" y="149"/>
                    </a:moveTo>
                    <a:cubicBezTo>
                      <a:pt x="317" y="152"/>
                      <a:pt x="344" y="189"/>
                      <a:pt x="320" y="165"/>
                    </a:cubicBezTo>
                    <a:cubicBezTo>
                      <a:pt x="296" y="141"/>
                      <a:pt x="216" y="10"/>
                      <a:pt x="176" y="5"/>
                    </a:cubicBezTo>
                    <a:cubicBezTo>
                      <a:pt x="136" y="0"/>
                      <a:pt x="109" y="69"/>
                      <a:pt x="80" y="133"/>
                    </a:cubicBezTo>
                    <a:cubicBezTo>
                      <a:pt x="51" y="197"/>
                      <a:pt x="17" y="336"/>
                      <a:pt x="0" y="389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15" name="Group 693"/>
              <p:cNvGrpSpPr/>
              <p:nvPr/>
            </p:nvGrpSpPr>
            <p:grpSpPr>
              <a:xfrm>
                <a:off x="4314960" y="5399280"/>
                <a:ext cx="218520" cy="225360"/>
                <a:chOff x="4314960" y="5399280"/>
                <a:chExt cx="218520" cy="225360"/>
              </a:xfrm>
            </p:grpSpPr>
            <p:grpSp>
              <p:nvGrpSpPr>
                <p:cNvPr id="716" name="Group 694"/>
                <p:cNvGrpSpPr/>
                <p:nvPr/>
              </p:nvGrpSpPr>
              <p:grpSpPr>
                <a:xfrm>
                  <a:off x="4314960" y="5399280"/>
                  <a:ext cx="218520" cy="225360"/>
                  <a:chOff x="4314960" y="5399280"/>
                  <a:chExt cx="218520" cy="225360"/>
                </a:xfrm>
              </p:grpSpPr>
              <p:sp>
                <p:nvSpPr>
                  <p:cNvPr id="717" name="Freeform 695"/>
                  <p:cNvSpPr/>
                  <p:nvPr/>
                </p:nvSpPr>
                <p:spPr>
                  <a:xfrm rot="1879800">
                    <a:off x="4333320" y="5500080"/>
                    <a:ext cx="70920" cy="90360"/>
                  </a:xfrm>
                  <a:custGeom>
                    <a:avLst/>
                    <a:gdLst>
                      <a:gd name="textAreaLeft" fmla="*/ 0 w 70920"/>
                      <a:gd name="textAreaRight" fmla="*/ 71280 w 70920"/>
                      <a:gd name="textAreaTop" fmla="*/ 0 h 90360"/>
                      <a:gd name="textAreaBottom" fmla="*/ 90720 h 90360"/>
                    </a:gdLst>
                    <a:ahLst/>
                    <a:rect l="textAreaLeft" t="textAreaTop" r="textAreaRight" b="textAreaBottom"/>
                    <a:pathLst>
                      <a:path w="224" h="328">
                        <a:moveTo>
                          <a:pt x="168" y="8"/>
                        </a:moveTo>
                        <a:cubicBezTo>
                          <a:pt x="136" y="0"/>
                          <a:pt x="48" y="56"/>
                          <a:pt x="24" y="104"/>
                        </a:cubicBezTo>
                        <a:cubicBezTo>
                          <a:pt x="0" y="152"/>
                          <a:pt x="8" y="264"/>
                          <a:pt x="24" y="296"/>
                        </a:cubicBezTo>
                        <a:cubicBezTo>
                          <a:pt x="40" y="328"/>
                          <a:pt x="88" y="320"/>
                          <a:pt x="120" y="296"/>
                        </a:cubicBezTo>
                        <a:cubicBezTo>
                          <a:pt x="152" y="272"/>
                          <a:pt x="208" y="200"/>
                          <a:pt x="216" y="152"/>
                        </a:cubicBezTo>
                        <a:cubicBezTo>
                          <a:pt x="224" y="104"/>
                          <a:pt x="200" y="16"/>
                          <a:pt x="168" y="8"/>
                        </a:cubicBezTo>
                        <a:close/>
                      </a:path>
                    </a:pathLst>
                  </a:cu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920" bIns="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8" name="Freeform 696"/>
                  <p:cNvSpPr/>
                  <p:nvPr/>
                </p:nvSpPr>
                <p:spPr>
                  <a:xfrm rot="19463400">
                    <a:off x="4384440" y="5532120"/>
                    <a:ext cx="72360" cy="78840"/>
                  </a:xfrm>
                  <a:custGeom>
                    <a:avLst/>
                    <a:gdLst>
                      <a:gd name="textAreaLeft" fmla="*/ 0 w 72360"/>
                      <a:gd name="textAreaRight" fmla="*/ 72720 w 72360"/>
                      <a:gd name="textAreaTop" fmla="*/ 0 h 78840"/>
                      <a:gd name="textAreaBottom" fmla="*/ 79200 h 78840"/>
                    </a:gdLst>
                    <a:ahLst/>
                    <a:rect l="textAreaLeft" t="textAreaTop" r="textAreaRight" b="textAreaBottom"/>
                    <a:pathLst>
                      <a:path w="224" h="328">
                        <a:moveTo>
                          <a:pt x="168" y="8"/>
                        </a:moveTo>
                        <a:cubicBezTo>
                          <a:pt x="136" y="0"/>
                          <a:pt x="48" y="56"/>
                          <a:pt x="24" y="104"/>
                        </a:cubicBezTo>
                        <a:cubicBezTo>
                          <a:pt x="0" y="152"/>
                          <a:pt x="8" y="264"/>
                          <a:pt x="24" y="296"/>
                        </a:cubicBezTo>
                        <a:cubicBezTo>
                          <a:pt x="40" y="328"/>
                          <a:pt x="88" y="320"/>
                          <a:pt x="120" y="296"/>
                        </a:cubicBezTo>
                        <a:cubicBezTo>
                          <a:pt x="152" y="272"/>
                          <a:pt x="208" y="200"/>
                          <a:pt x="216" y="152"/>
                        </a:cubicBezTo>
                        <a:cubicBezTo>
                          <a:pt x="224" y="104"/>
                          <a:pt x="200" y="16"/>
                          <a:pt x="168" y="8"/>
                        </a:cubicBezTo>
                        <a:close/>
                      </a:path>
                    </a:pathLst>
                  </a:cu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400" bIns="32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9" name="Freeform 697"/>
                  <p:cNvSpPr/>
                  <p:nvPr/>
                </p:nvSpPr>
                <p:spPr>
                  <a:xfrm rot="1656600">
                    <a:off x="4445280" y="5439240"/>
                    <a:ext cx="71280" cy="90360"/>
                  </a:xfrm>
                  <a:custGeom>
                    <a:avLst/>
                    <a:gdLst>
                      <a:gd name="textAreaLeft" fmla="*/ 0 w 71280"/>
                      <a:gd name="textAreaRight" fmla="*/ 71640 w 71280"/>
                      <a:gd name="textAreaTop" fmla="*/ 0 h 90360"/>
                      <a:gd name="textAreaBottom" fmla="*/ 90720 h 90360"/>
                    </a:gdLst>
                    <a:ahLst/>
                    <a:rect l="textAreaLeft" t="textAreaTop" r="textAreaRight" b="textAreaBottom"/>
                    <a:pathLst>
                      <a:path w="224" h="328">
                        <a:moveTo>
                          <a:pt x="168" y="8"/>
                        </a:moveTo>
                        <a:cubicBezTo>
                          <a:pt x="136" y="0"/>
                          <a:pt x="48" y="56"/>
                          <a:pt x="24" y="104"/>
                        </a:cubicBezTo>
                        <a:cubicBezTo>
                          <a:pt x="0" y="152"/>
                          <a:pt x="8" y="264"/>
                          <a:pt x="24" y="296"/>
                        </a:cubicBezTo>
                        <a:cubicBezTo>
                          <a:pt x="40" y="328"/>
                          <a:pt x="88" y="320"/>
                          <a:pt x="120" y="296"/>
                        </a:cubicBezTo>
                        <a:cubicBezTo>
                          <a:pt x="152" y="272"/>
                          <a:pt x="208" y="200"/>
                          <a:pt x="216" y="152"/>
                        </a:cubicBezTo>
                        <a:cubicBezTo>
                          <a:pt x="224" y="104"/>
                          <a:pt x="200" y="16"/>
                          <a:pt x="168" y="8"/>
                        </a:cubicBezTo>
                        <a:close/>
                      </a:path>
                    </a:pathLst>
                  </a:cu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920" bIns="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0" name="Freeform 698"/>
                  <p:cNvSpPr/>
                  <p:nvPr/>
                </p:nvSpPr>
                <p:spPr>
                  <a:xfrm rot="4896600">
                    <a:off x="4343760" y="5453280"/>
                    <a:ext cx="71280" cy="90360"/>
                  </a:xfrm>
                  <a:custGeom>
                    <a:avLst/>
                    <a:gdLst>
                      <a:gd name="textAreaLeft" fmla="*/ 0 w 71280"/>
                      <a:gd name="textAreaRight" fmla="*/ 71640 w 71280"/>
                      <a:gd name="textAreaTop" fmla="*/ 0 h 90360"/>
                      <a:gd name="textAreaBottom" fmla="*/ 90720 h 90360"/>
                    </a:gdLst>
                    <a:ahLst/>
                    <a:rect l="textAreaLeft" t="textAreaTop" r="textAreaRight" b="textAreaBottom"/>
                    <a:pathLst>
                      <a:path w="224" h="328">
                        <a:moveTo>
                          <a:pt x="168" y="8"/>
                        </a:moveTo>
                        <a:cubicBezTo>
                          <a:pt x="136" y="0"/>
                          <a:pt x="48" y="56"/>
                          <a:pt x="24" y="104"/>
                        </a:cubicBezTo>
                        <a:cubicBezTo>
                          <a:pt x="0" y="152"/>
                          <a:pt x="8" y="264"/>
                          <a:pt x="24" y="296"/>
                        </a:cubicBezTo>
                        <a:cubicBezTo>
                          <a:pt x="40" y="328"/>
                          <a:pt x="88" y="320"/>
                          <a:pt x="120" y="296"/>
                        </a:cubicBezTo>
                        <a:cubicBezTo>
                          <a:pt x="152" y="272"/>
                          <a:pt x="208" y="200"/>
                          <a:pt x="216" y="152"/>
                        </a:cubicBezTo>
                        <a:cubicBezTo>
                          <a:pt x="224" y="104"/>
                          <a:pt x="200" y="16"/>
                          <a:pt x="168" y="8"/>
                        </a:cubicBezTo>
                        <a:close/>
                      </a:path>
                    </a:pathLst>
                  </a:cu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920" bIns="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1" name="Freeform 699"/>
                  <p:cNvSpPr/>
                  <p:nvPr/>
                </p:nvSpPr>
                <p:spPr>
                  <a:xfrm rot="19463400">
                    <a:off x="4388040" y="5412960"/>
                    <a:ext cx="72360" cy="78840"/>
                  </a:xfrm>
                  <a:custGeom>
                    <a:avLst/>
                    <a:gdLst>
                      <a:gd name="textAreaLeft" fmla="*/ 0 w 72360"/>
                      <a:gd name="textAreaRight" fmla="*/ 72720 w 72360"/>
                      <a:gd name="textAreaTop" fmla="*/ 0 h 78840"/>
                      <a:gd name="textAreaBottom" fmla="*/ 79200 h 78840"/>
                    </a:gdLst>
                    <a:ahLst/>
                    <a:rect l="textAreaLeft" t="textAreaTop" r="textAreaRight" b="textAreaBottom"/>
                    <a:pathLst>
                      <a:path w="224" h="328">
                        <a:moveTo>
                          <a:pt x="168" y="8"/>
                        </a:moveTo>
                        <a:cubicBezTo>
                          <a:pt x="136" y="0"/>
                          <a:pt x="48" y="56"/>
                          <a:pt x="24" y="104"/>
                        </a:cubicBezTo>
                        <a:cubicBezTo>
                          <a:pt x="0" y="152"/>
                          <a:pt x="8" y="264"/>
                          <a:pt x="24" y="296"/>
                        </a:cubicBezTo>
                        <a:cubicBezTo>
                          <a:pt x="40" y="328"/>
                          <a:pt x="88" y="320"/>
                          <a:pt x="120" y="296"/>
                        </a:cubicBezTo>
                        <a:cubicBezTo>
                          <a:pt x="152" y="272"/>
                          <a:pt x="208" y="200"/>
                          <a:pt x="216" y="152"/>
                        </a:cubicBezTo>
                        <a:cubicBezTo>
                          <a:pt x="224" y="104"/>
                          <a:pt x="200" y="16"/>
                          <a:pt x="168" y="8"/>
                        </a:cubicBezTo>
                        <a:close/>
                      </a:path>
                    </a:pathLst>
                  </a:cu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400" bIns="32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2" name="Freeform 700"/>
                  <p:cNvSpPr/>
                  <p:nvPr/>
                </p:nvSpPr>
                <p:spPr>
                  <a:xfrm rot="19463400">
                    <a:off x="4408920" y="5502240"/>
                    <a:ext cx="36000" cy="31320"/>
                  </a:xfrm>
                  <a:custGeom>
                    <a:avLst/>
                    <a:gdLst>
                      <a:gd name="textAreaLeft" fmla="*/ 0 w 36000"/>
                      <a:gd name="textAreaRight" fmla="*/ 36360 w 36000"/>
                      <a:gd name="textAreaTop" fmla="*/ 0 h 31320"/>
                      <a:gd name="textAreaBottom" fmla="*/ 31680 h 31320"/>
                    </a:gdLst>
                    <a:ahLst/>
                    <a:rect l="textAreaLeft" t="textAreaTop" r="textAreaRight" b="textAreaBottom"/>
                    <a:pathLst>
                      <a:path w="224" h="328">
                        <a:moveTo>
                          <a:pt x="168" y="8"/>
                        </a:moveTo>
                        <a:cubicBezTo>
                          <a:pt x="136" y="0"/>
                          <a:pt x="48" y="56"/>
                          <a:pt x="24" y="104"/>
                        </a:cubicBezTo>
                        <a:cubicBezTo>
                          <a:pt x="0" y="152"/>
                          <a:pt x="8" y="264"/>
                          <a:pt x="24" y="296"/>
                        </a:cubicBezTo>
                        <a:cubicBezTo>
                          <a:pt x="40" y="328"/>
                          <a:pt x="88" y="320"/>
                          <a:pt x="120" y="296"/>
                        </a:cubicBezTo>
                        <a:cubicBezTo>
                          <a:pt x="152" y="272"/>
                          <a:pt x="208" y="200"/>
                          <a:pt x="216" y="152"/>
                        </a:cubicBezTo>
                        <a:cubicBezTo>
                          <a:pt x="224" y="104"/>
                          <a:pt x="200" y="16"/>
                          <a:pt x="168" y="8"/>
                        </a:cubicBezTo>
                        <a:close/>
                      </a:path>
                    </a:pathLst>
                  </a:custGeom>
                  <a:solidFill>
                    <a:srgbClr val="33cc33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23" name="Freeform 701"/>
                <p:cNvSpPr/>
                <p:nvPr/>
              </p:nvSpPr>
              <p:spPr>
                <a:xfrm rot="4579800">
                  <a:off x="4443480" y="5499360"/>
                  <a:ext cx="71280" cy="90360"/>
                </a:xfrm>
                <a:custGeom>
                  <a:avLst/>
                  <a:gdLst>
                    <a:gd name="textAreaLeft" fmla="*/ 0 w 71280"/>
                    <a:gd name="textAreaRight" fmla="*/ 71640 w 71280"/>
                    <a:gd name="textAreaTop" fmla="*/ 0 h 90360"/>
                    <a:gd name="textAreaBottom" fmla="*/ 90720 h 90360"/>
                  </a:gdLst>
                  <a:ahLst/>
                  <a:rect l="textAreaLeft" t="textAreaTop" r="textAreaRight" b="textAreaBottom"/>
                  <a:pathLst>
                    <a:path w="224" h="328">
                      <a:moveTo>
                        <a:pt x="168" y="8"/>
                      </a:moveTo>
                      <a:cubicBezTo>
                        <a:pt x="136" y="0"/>
                        <a:pt x="48" y="56"/>
                        <a:pt x="24" y="104"/>
                      </a:cubicBezTo>
                      <a:cubicBezTo>
                        <a:pt x="0" y="152"/>
                        <a:pt x="8" y="264"/>
                        <a:pt x="24" y="296"/>
                      </a:cubicBezTo>
                      <a:cubicBezTo>
                        <a:pt x="40" y="328"/>
                        <a:pt x="88" y="320"/>
                        <a:pt x="120" y="296"/>
                      </a:cubicBezTo>
                      <a:cubicBezTo>
                        <a:pt x="152" y="272"/>
                        <a:pt x="208" y="200"/>
                        <a:pt x="216" y="152"/>
                      </a:cubicBezTo>
                      <a:cubicBezTo>
                        <a:pt x="224" y="104"/>
                        <a:pt x="200" y="16"/>
                        <a:pt x="168" y="8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4" name="Group 702"/>
              <p:cNvGrpSpPr/>
              <p:nvPr/>
            </p:nvGrpSpPr>
            <p:grpSpPr>
              <a:xfrm>
                <a:off x="4713480" y="5511960"/>
                <a:ext cx="303840" cy="321120"/>
                <a:chOff x="4713480" y="5511960"/>
                <a:chExt cx="303840" cy="321120"/>
              </a:xfrm>
            </p:grpSpPr>
            <p:grpSp>
              <p:nvGrpSpPr>
                <p:cNvPr id="725" name="Group 703"/>
                <p:cNvGrpSpPr/>
                <p:nvPr/>
              </p:nvGrpSpPr>
              <p:grpSpPr>
                <a:xfrm>
                  <a:off x="4713480" y="5529960"/>
                  <a:ext cx="303840" cy="303120"/>
                  <a:chOff x="4713480" y="5529960"/>
                  <a:chExt cx="303840" cy="303120"/>
                </a:xfrm>
              </p:grpSpPr>
              <p:sp>
                <p:nvSpPr>
                  <p:cNvPr id="726" name="Freeform 704"/>
                  <p:cNvSpPr/>
                  <p:nvPr/>
                </p:nvSpPr>
                <p:spPr>
                  <a:xfrm rot="8513400">
                    <a:off x="4863960" y="5536440"/>
                    <a:ext cx="96840" cy="216000"/>
                  </a:xfrm>
                  <a:custGeom>
                    <a:avLst/>
                    <a:gdLst>
                      <a:gd name="textAreaLeft" fmla="*/ 0 w 96840"/>
                      <a:gd name="textAreaRight" fmla="*/ 97200 w 96840"/>
                      <a:gd name="textAreaTop" fmla="*/ 0 h 216000"/>
                      <a:gd name="textAreaBottom" fmla="*/ 216360 h 216000"/>
                    </a:gdLst>
                    <a:ahLst/>
                    <a:rect l="textAreaLeft" t="textAreaTop" r="textAreaRight" b="textAreaBottom"/>
                    <a:pathLst>
                      <a:path w="296" h="552">
                        <a:moveTo>
                          <a:pt x="296" y="528"/>
                        </a:moveTo>
                        <a:cubicBezTo>
                          <a:pt x="224" y="540"/>
                          <a:pt x="152" y="552"/>
                          <a:pt x="104" y="528"/>
                        </a:cubicBezTo>
                        <a:cubicBezTo>
                          <a:pt x="56" y="504"/>
                          <a:pt x="16" y="440"/>
                          <a:pt x="8" y="384"/>
                        </a:cubicBezTo>
                        <a:cubicBezTo>
                          <a:pt x="0" y="328"/>
                          <a:pt x="24" y="248"/>
                          <a:pt x="56" y="192"/>
                        </a:cubicBezTo>
                        <a:cubicBezTo>
                          <a:pt x="88" y="136"/>
                          <a:pt x="160" y="80"/>
                          <a:pt x="200" y="48"/>
                        </a:cubicBezTo>
                        <a:cubicBezTo>
                          <a:pt x="240" y="16"/>
                          <a:pt x="268" y="8"/>
                          <a:pt x="296" y="0"/>
                        </a:cubicBezTo>
                      </a:path>
                    </a:pathLst>
                  </a:custGeom>
                  <a:solidFill>
                    <a:srgbClr val="ff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7" name="Freeform 705"/>
                  <p:cNvSpPr/>
                  <p:nvPr/>
                </p:nvSpPr>
                <p:spPr>
                  <a:xfrm flipH="1" rot="8512800">
                    <a:off x="4766400" y="5601960"/>
                    <a:ext cx="122760" cy="216000"/>
                  </a:xfrm>
                  <a:custGeom>
                    <a:avLst/>
                    <a:gdLst>
                      <a:gd name="textAreaLeft" fmla="*/ -360 w 122760"/>
                      <a:gd name="textAreaRight" fmla="*/ 122760 w 122760"/>
                      <a:gd name="textAreaTop" fmla="*/ 0 h 216000"/>
                      <a:gd name="textAreaBottom" fmla="*/ 216360 h 216000"/>
                    </a:gdLst>
                    <a:ahLst/>
                    <a:rect l="textAreaLeft" t="textAreaTop" r="textAreaRight" b="textAreaBottom"/>
                    <a:pathLst>
                      <a:path w="296" h="552">
                        <a:moveTo>
                          <a:pt x="296" y="528"/>
                        </a:moveTo>
                        <a:cubicBezTo>
                          <a:pt x="224" y="540"/>
                          <a:pt x="152" y="552"/>
                          <a:pt x="104" y="528"/>
                        </a:cubicBezTo>
                        <a:cubicBezTo>
                          <a:pt x="56" y="504"/>
                          <a:pt x="16" y="440"/>
                          <a:pt x="8" y="384"/>
                        </a:cubicBezTo>
                        <a:cubicBezTo>
                          <a:pt x="0" y="328"/>
                          <a:pt x="24" y="248"/>
                          <a:pt x="56" y="192"/>
                        </a:cubicBezTo>
                        <a:cubicBezTo>
                          <a:pt x="88" y="136"/>
                          <a:pt x="160" y="80"/>
                          <a:pt x="200" y="48"/>
                        </a:cubicBezTo>
                        <a:cubicBezTo>
                          <a:pt x="240" y="16"/>
                          <a:pt x="268" y="8"/>
                          <a:pt x="296" y="0"/>
                        </a:cubicBezTo>
                      </a:path>
                    </a:pathLst>
                  </a:custGeom>
                  <a:solidFill>
                    <a:srgbClr val="ff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28" name="Freeform 706"/>
                <p:cNvSpPr/>
                <p:nvPr/>
              </p:nvSpPr>
              <p:spPr>
                <a:xfrm flipV="1" rot="19463400">
                  <a:off x="4853160" y="5622840"/>
                  <a:ext cx="15480" cy="18720"/>
                </a:xfrm>
                <a:custGeom>
                  <a:avLst/>
                  <a:gdLst>
                    <a:gd name="textAreaLeft" fmla="*/ 0 w 15480"/>
                    <a:gd name="textAreaRight" fmla="*/ 15840 w 15480"/>
                    <a:gd name="textAreaTop" fmla="*/ 360 h 18720"/>
                    <a:gd name="textAreaBottom" fmla="*/ 19440 h 18720"/>
                  </a:gdLst>
                  <a:ahLst/>
                  <a:rect l="textAreaLeft" t="textAreaTop" r="textAreaRight" b="textAreaBottom"/>
                  <a:pathLst>
                    <a:path w="192" h="288">
                      <a:moveTo>
                        <a:pt x="0" y="288"/>
                      </a:moveTo>
                      <a:lnTo>
                        <a:pt x="192" y="288"/>
                      </a:lnTo>
                      <a:lnTo>
                        <a:pt x="48" y="0"/>
                      </a:lnTo>
                      <a:lnTo>
                        <a:pt x="0" y="288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9" name="Freeform 707"/>
                <p:cNvSpPr/>
                <p:nvPr/>
              </p:nvSpPr>
              <p:spPr>
                <a:xfrm flipV="1" rot="19463400">
                  <a:off x="4777920" y="5653440"/>
                  <a:ext cx="15480" cy="18720"/>
                </a:xfrm>
                <a:custGeom>
                  <a:avLst/>
                  <a:gdLst>
                    <a:gd name="textAreaLeft" fmla="*/ 0 w 15480"/>
                    <a:gd name="textAreaRight" fmla="*/ 15840 w 15480"/>
                    <a:gd name="textAreaTop" fmla="*/ 360 h 18720"/>
                    <a:gd name="textAreaBottom" fmla="*/ 19440 h 18720"/>
                  </a:gdLst>
                  <a:ahLst/>
                  <a:rect l="textAreaLeft" t="textAreaTop" r="textAreaRight" b="textAreaBottom"/>
                  <a:pathLst>
                    <a:path w="192" h="288">
                      <a:moveTo>
                        <a:pt x="0" y="288"/>
                      </a:moveTo>
                      <a:lnTo>
                        <a:pt x="192" y="288"/>
                      </a:lnTo>
                      <a:lnTo>
                        <a:pt x="48" y="0"/>
                      </a:lnTo>
                      <a:lnTo>
                        <a:pt x="0" y="288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0" name="Freeform 708"/>
                <p:cNvSpPr/>
                <p:nvPr/>
              </p:nvSpPr>
              <p:spPr>
                <a:xfrm flipV="1" rot="19463400">
                  <a:off x="4801680" y="5659560"/>
                  <a:ext cx="15480" cy="18720"/>
                </a:xfrm>
                <a:custGeom>
                  <a:avLst/>
                  <a:gdLst>
                    <a:gd name="textAreaLeft" fmla="*/ 0 w 15480"/>
                    <a:gd name="textAreaRight" fmla="*/ 15840 w 15480"/>
                    <a:gd name="textAreaTop" fmla="*/ 360 h 18720"/>
                    <a:gd name="textAreaBottom" fmla="*/ 19440 h 18720"/>
                  </a:gdLst>
                  <a:ahLst/>
                  <a:rect l="textAreaLeft" t="textAreaTop" r="textAreaRight" b="textAreaBottom"/>
                  <a:pathLst>
                    <a:path w="192" h="288">
                      <a:moveTo>
                        <a:pt x="0" y="288"/>
                      </a:moveTo>
                      <a:lnTo>
                        <a:pt x="192" y="288"/>
                      </a:lnTo>
                      <a:lnTo>
                        <a:pt x="48" y="0"/>
                      </a:lnTo>
                      <a:lnTo>
                        <a:pt x="0" y="288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1" name="Freeform 709"/>
                <p:cNvSpPr/>
                <p:nvPr/>
              </p:nvSpPr>
              <p:spPr>
                <a:xfrm flipV="1" rot="19463400">
                  <a:off x="4838040" y="5656680"/>
                  <a:ext cx="15480" cy="18720"/>
                </a:xfrm>
                <a:custGeom>
                  <a:avLst/>
                  <a:gdLst>
                    <a:gd name="textAreaLeft" fmla="*/ 0 w 15480"/>
                    <a:gd name="textAreaRight" fmla="*/ 15840 w 15480"/>
                    <a:gd name="textAreaTop" fmla="*/ 360 h 18720"/>
                    <a:gd name="textAreaBottom" fmla="*/ 19440 h 18720"/>
                  </a:gdLst>
                  <a:ahLst/>
                  <a:rect l="textAreaLeft" t="textAreaTop" r="textAreaRight" b="textAreaBottom"/>
                  <a:pathLst>
                    <a:path w="192" h="288">
                      <a:moveTo>
                        <a:pt x="0" y="288"/>
                      </a:moveTo>
                      <a:lnTo>
                        <a:pt x="192" y="288"/>
                      </a:lnTo>
                      <a:lnTo>
                        <a:pt x="48" y="0"/>
                      </a:lnTo>
                      <a:lnTo>
                        <a:pt x="0" y="288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2" name="Freeform 710"/>
                <p:cNvSpPr/>
                <p:nvPr/>
              </p:nvSpPr>
              <p:spPr>
                <a:xfrm flipV="1" rot="19463400">
                  <a:off x="4847760" y="5696280"/>
                  <a:ext cx="15480" cy="18720"/>
                </a:xfrm>
                <a:custGeom>
                  <a:avLst/>
                  <a:gdLst>
                    <a:gd name="textAreaLeft" fmla="*/ 0 w 15480"/>
                    <a:gd name="textAreaRight" fmla="*/ 15840 w 15480"/>
                    <a:gd name="textAreaTop" fmla="*/ 360 h 18720"/>
                    <a:gd name="textAreaBottom" fmla="*/ 19440 h 18720"/>
                  </a:gdLst>
                  <a:ahLst/>
                  <a:rect l="textAreaLeft" t="textAreaTop" r="textAreaRight" b="textAreaBottom"/>
                  <a:pathLst>
                    <a:path w="192" h="288">
                      <a:moveTo>
                        <a:pt x="0" y="288"/>
                      </a:moveTo>
                      <a:lnTo>
                        <a:pt x="192" y="288"/>
                      </a:lnTo>
                      <a:lnTo>
                        <a:pt x="48" y="0"/>
                      </a:lnTo>
                      <a:lnTo>
                        <a:pt x="0" y="288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3" name="Freeform 711"/>
                <p:cNvSpPr/>
                <p:nvPr/>
              </p:nvSpPr>
              <p:spPr>
                <a:xfrm flipV="1" rot="19463400">
                  <a:off x="4845600" y="5720760"/>
                  <a:ext cx="15480" cy="18720"/>
                </a:xfrm>
                <a:custGeom>
                  <a:avLst/>
                  <a:gdLst>
                    <a:gd name="textAreaLeft" fmla="*/ 0 w 15480"/>
                    <a:gd name="textAreaRight" fmla="*/ 15840 w 15480"/>
                    <a:gd name="textAreaTop" fmla="*/ 360 h 18720"/>
                    <a:gd name="textAreaBottom" fmla="*/ 19440 h 18720"/>
                  </a:gdLst>
                  <a:ahLst/>
                  <a:rect l="textAreaLeft" t="textAreaTop" r="textAreaRight" b="textAreaBottom"/>
                  <a:pathLst>
                    <a:path w="192" h="288">
                      <a:moveTo>
                        <a:pt x="0" y="288"/>
                      </a:moveTo>
                      <a:lnTo>
                        <a:pt x="192" y="288"/>
                      </a:lnTo>
                      <a:lnTo>
                        <a:pt x="48" y="0"/>
                      </a:lnTo>
                      <a:lnTo>
                        <a:pt x="0" y="288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4" name="Freeform 712"/>
                <p:cNvSpPr/>
                <p:nvPr/>
              </p:nvSpPr>
              <p:spPr>
                <a:xfrm flipV="1" rot="19463400">
                  <a:off x="4869360" y="5726880"/>
                  <a:ext cx="15480" cy="18720"/>
                </a:xfrm>
                <a:custGeom>
                  <a:avLst/>
                  <a:gdLst>
                    <a:gd name="textAreaLeft" fmla="*/ 0 w 15480"/>
                    <a:gd name="textAreaRight" fmla="*/ 15840 w 15480"/>
                    <a:gd name="textAreaTop" fmla="*/ 360 h 18720"/>
                    <a:gd name="textAreaBottom" fmla="*/ 19440 h 18720"/>
                  </a:gdLst>
                  <a:ahLst/>
                  <a:rect l="textAreaLeft" t="textAreaTop" r="textAreaRight" b="textAreaBottom"/>
                  <a:pathLst>
                    <a:path w="192" h="288">
                      <a:moveTo>
                        <a:pt x="0" y="288"/>
                      </a:moveTo>
                      <a:lnTo>
                        <a:pt x="192" y="288"/>
                      </a:lnTo>
                      <a:lnTo>
                        <a:pt x="48" y="0"/>
                      </a:lnTo>
                      <a:lnTo>
                        <a:pt x="0" y="288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5" name="Freeform 713"/>
                <p:cNvSpPr/>
                <p:nvPr/>
              </p:nvSpPr>
              <p:spPr>
                <a:xfrm flipV="1" rot="19463400">
                  <a:off x="4906080" y="5724000"/>
                  <a:ext cx="15480" cy="18720"/>
                </a:xfrm>
                <a:custGeom>
                  <a:avLst/>
                  <a:gdLst>
                    <a:gd name="textAreaLeft" fmla="*/ 0 w 15480"/>
                    <a:gd name="textAreaRight" fmla="*/ 15840 w 15480"/>
                    <a:gd name="textAreaTop" fmla="*/ 360 h 18720"/>
                    <a:gd name="textAreaBottom" fmla="*/ 19440 h 18720"/>
                  </a:gdLst>
                  <a:ahLst/>
                  <a:rect l="textAreaLeft" t="textAreaTop" r="textAreaRight" b="textAreaBottom"/>
                  <a:pathLst>
                    <a:path w="192" h="288">
                      <a:moveTo>
                        <a:pt x="0" y="288"/>
                      </a:moveTo>
                      <a:lnTo>
                        <a:pt x="192" y="288"/>
                      </a:lnTo>
                      <a:lnTo>
                        <a:pt x="48" y="0"/>
                      </a:lnTo>
                      <a:lnTo>
                        <a:pt x="0" y="288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6" name="Freeform 714"/>
                <p:cNvSpPr/>
                <p:nvPr/>
              </p:nvSpPr>
              <p:spPr>
                <a:xfrm flipV="1" rot="19463400">
                  <a:off x="4787280" y="5693040"/>
                  <a:ext cx="15480" cy="18720"/>
                </a:xfrm>
                <a:custGeom>
                  <a:avLst/>
                  <a:gdLst>
                    <a:gd name="textAreaLeft" fmla="*/ 0 w 15480"/>
                    <a:gd name="textAreaRight" fmla="*/ 15840 w 15480"/>
                    <a:gd name="textAreaTop" fmla="*/ 360 h 18720"/>
                    <a:gd name="textAreaBottom" fmla="*/ 19440 h 18720"/>
                  </a:gdLst>
                  <a:ahLst/>
                  <a:rect l="textAreaLeft" t="textAreaTop" r="textAreaRight" b="textAreaBottom"/>
                  <a:pathLst>
                    <a:path w="192" h="288">
                      <a:moveTo>
                        <a:pt x="0" y="288"/>
                      </a:moveTo>
                      <a:lnTo>
                        <a:pt x="192" y="288"/>
                      </a:lnTo>
                      <a:lnTo>
                        <a:pt x="48" y="0"/>
                      </a:lnTo>
                      <a:lnTo>
                        <a:pt x="0" y="288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7" name="Freeform 715"/>
                <p:cNvSpPr/>
                <p:nvPr/>
              </p:nvSpPr>
              <p:spPr>
                <a:xfrm flipV="1" rot="19463400">
                  <a:off x="4811040" y="5699520"/>
                  <a:ext cx="15480" cy="18720"/>
                </a:xfrm>
                <a:custGeom>
                  <a:avLst/>
                  <a:gdLst>
                    <a:gd name="textAreaLeft" fmla="*/ 0 w 15480"/>
                    <a:gd name="textAreaRight" fmla="*/ 15840 w 15480"/>
                    <a:gd name="textAreaTop" fmla="*/ 360 h 18720"/>
                    <a:gd name="textAreaBottom" fmla="*/ 19440 h 18720"/>
                  </a:gdLst>
                  <a:ahLst/>
                  <a:rect l="textAreaLeft" t="textAreaTop" r="textAreaRight" b="textAreaBottom"/>
                  <a:pathLst>
                    <a:path w="192" h="288">
                      <a:moveTo>
                        <a:pt x="0" y="288"/>
                      </a:moveTo>
                      <a:lnTo>
                        <a:pt x="192" y="288"/>
                      </a:lnTo>
                      <a:lnTo>
                        <a:pt x="48" y="0"/>
                      </a:lnTo>
                      <a:lnTo>
                        <a:pt x="0" y="288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8" name="Freeform 716"/>
                <p:cNvSpPr/>
                <p:nvPr/>
              </p:nvSpPr>
              <p:spPr>
                <a:xfrm flipH="1" flipV="1" rot="19463400">
                  <a:off x="4883760" y="5693400"/>
                  <a:ext cx="15480" cy="18720"/>
                </a:xfrm>
                <a:custGeom>
                  <a:avLst/>
                  <a:gdLst>
                    <a:gd name="textAreaLeft" fmla="*/ -360 w 15480"/>
                    <a:gd name="textAreaRight" fmla="*/ 15480 w 15480"/>
                    <a:gd name="textAreaTop" fmla="*/ 360 h 18720"/>
                    <a:gd name="textAreaBottom" fmla="*/ 19440 h 18720"/>
                  </a:gdLst>
                  <a:ahLst/>
                  <a:rect l="textAreaLeft" t="textAreaTop" r="textAreaRight" b="textAreaBottom"/>
                  <a:pathLst>
                    <a:path w="192" h="288">
                      <a:moveTo>
                        <a:pt x="0" y="288"/>
                      </a:moveTo>
                      <a:lnTo>
                        <a:pt x="192" y="288"/>
                      </a:lnTo>
                      <a:lnTo>
                        <a:pt x="48" y="0"/>
                      </a:lnTo>
                      <a:lnTo>
                        <a:pt x="0" y="288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9" name="Freeform 717"/>
                <p:cNvSpPr/>
                <p:nvPr/>
              </p:nvSpPr>
              <p:spPr>
                <a:xfrm flipH="1" flipV="1" rot="19463400">
                  <a:off x="4909320" y="5675400"/>
                  <a:ext cx="15480" cy="18720"/>
                </a:xfrm>
                <a:custGeom>
                  <a:avLst/>
                  <a:gdLst>
                    <a:gd name="textAreaLeft" fmla="*/ -360 w 15480"/>
                    <a:gd name="textAreaRight" fmla="*/ 15480 w 15480"/>
                    <a:gd name="textAreaTop" fmla="*/ 360 h 18720"/>
                    <a:gd name="textAreaBottom" fmla="*/ 19440 h 18720"/>
                  </a:gdLst>
                  <a:ahLst/>
                  <a:rect l="textAreaLeft" t="textAreaTop" r="textAreaRight" b="textAreaBottom"/>
                  <a:pathLst>
                    <a:path w="192" h="288">
                      <a:moveTo>
                        <a:pt x="0" y="288"/>
                      </a:moveTo>
                      <a:lnTo>
                        <a:pt x="192" y="288"/>
                      </a:lnTo>
                      <a:lnTo>
                        <a:pt x="48" y="0"/>
                      </a:lnTo>
                      <a:lnTo>
                        <a:pt x="0" y="288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0" name="Freeform 718"/>
                <p:cNvSpPr/>
                <p:nvPr/>
              </p:nvSpPr>
              <p:spPr>
                <a:xfrm flipH="1" flipV="1" rot="19463400">
                  <a:off x="4874760" y="5653800"/>
                  <a:ext cx="15480" cy="18720"/>
                </a:xfrm>
                <a:custGeom>
                  <a:avLst/>
                  <a:gdLst>
                    <a:gd name="textAreaLeft" fmla="*/ -360 w 15480"/>
                    <a:gd name="textAreaRight" fmla="*/ 15480 w 15480"/>
                    <a:gd name="textAreaTop" fmla="*/ 360 h 18720"/>
                    <a:gd name="textAreaBottom" fmla="*/ 19440 h 18720"/>
                  </a:gdLst>
                  <a:ahLst/>
                  <a:rect l="textAreaLeft" t="textAreaTop" r="textAreaRight" b="textAreaBottom"/>
                  <a:pathLst>
                    <a:path w="192" h="288">
                      <a:moveTo>
                        <a:pt x="0" y="288"/>
                      </a:moveTo>
                      <a:lnTo>
                        <a:pt x="192" y="288"/>
                      </a:lnTo>
                      <a:lnTo>
                        <a:pt x="48" y="0"/>
                      </a:lnTo>
                      <a:lnTo>
                        <a:pt x="0" y="288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1" name="Freeform 719"/>
                <p:cNvSpPr/>
                <p:nvPr/>
              </p:nvSpPr>
              <p:spPr>
                <a:xfrm flipH="1" flipV="1" rot="19463400">
                  <a:off x="4889160" y="5619960"/>
                  <a:ext cx="15480" cy="18720"/>
                </a:xfrm>
                <a:custGeom>
                  <a:avLst/>
                  <a:gdLst>
                    <a:gd name="textAreaLeft" fmla="*/ -360 w 15480"/>
                    <a:gd name="textAreaRight" fmla="*/ 15480 w 15480"/>
                    <a:gd name="textAreaTop" fmla="*/ 360 h 18720"/>
                    <a:gd name="textAreaBottom" fmla="*/ 19440 h 18720"/>
                  </a:gdLst>
                  <a:ahLst/>
                  <a:rect l="textAreaLeft" t="textAreaTop" r="textAreaRight" b="textAreaBottom"/>
                  <a:pathLst>
                    <a:path w="192" h="288">
                      <a:moveTo>
                        <a:pt x="0" y="288"/>
                      </a:moveTo>
                      <a:lnTo>
                        <a:pt x="192" y="288"/>
                      </a:lnTo>
                      <a:lnTo>
                        <a:pt x="48" y="0"/>
                      </a:lnTo>
                      <a:lnTo>
                        <a:pt x="0" y="288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2" name="Freeform 720"/>
                <p:cNvSpPr/>
                <p:nvPr/>
              </p:nvSpPr>
              <p:spPr>
                <a:xfrm flipH="1" flipV="1" rot="19463400">
                  <a:off x="4867200" y="5589720"/>
                  <a:ext cx="15480" cy="18720"/>
                </a:xfrm>
                <a:custGeom>
                  <a:avLst/>
                  <a:gdLst>
                    <a:gd name="textAreaLeft" fmla="*/ -360 w 15480"/>
                    <a:gd name="textAreaRight" fmla="*/ 15480 w 15480"/>
                    <a:gd name="textAreaTop" fmla="*/ 360 h 18720"/>
                    <a:gd name="textAreaBottom" fmla="*/ 19440 h 18720"/>
                  </a:gdLst>
                  <a:ahLst/>
                  <a:rect l="textAreaLeft" t="textAreaTop" r="textAreaRight" b="textAreaBottom"/>
                  <a:pathLst>
                    <a:path w="192" h="288">
                      <a:moveTo>
                        <a:pt x="0" y="288"/>
                      </a:moveTo>
                      <a:lnTo>
                        <a:pt x="192" y="288"/>
                      </a:lnTo>
                      <a:lnTo>
                        <a:pt x="48" y="0"/>
                      </a:lnTo>
                      <a:lnTo>
                        <a:pt x="0" y="288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3" name="plant"/>
                <p:cNvSpPr/>
                <p:nvPr/>
              </p:nvSpPr>
              <p:spPr>
                <a:xfrm rot="19463400">
                  <a:off x="4734360" y="5539320"/>
                  <a:ext cx="123480" cy="91440"/>
                </a:xfrm>
                <a:custGeom>
                  <a:avLst/>
                  <a:gdLst>
                    <a:gd name="textAreaLeft" fmla="*/ 40320 w 123480"/>
                    <a:gd name="textAreaRight" fmla="*/ 83520 w 123480"/>
                    <a:gd name="textAreaTop" fmla="*/ 42480 h 91440"/>
                    <a:gd name="textAreaBottom" fmla="*/ 57600 h 914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9368" y="9002"/>
                      </a:moveTo>
                      <a:lnTo>
                        <a:pt x="9254" y="8422"/>
                      </a:lnTo>
                      <a:lnTo>
                        <a:pt x="9139" y="7935"/>
                      </a:lnTo>
                      <a:lnTo>
                        <a:pt x="8819" y="7355"/>
                      </a:lnTo>
                      <a:lnTo>
                        <a:pt x="8475" y="6728"/>
                      </a:lnTo>
                      <a:lnTo>
                        <a:pt x="8040" y="6287"/>
                      </a:lnTo>
                      <a:lnTo>
                        <a:pt x="7421" y="5707"/>
                      </a:lnTo>
                      <a:lnTo>
                        <a:pt x="6574" y="5429"/>
                      </a:lnTo>
                      <a:lnTo>
                        <a:pt x="5452" y="5313"/>
                      </a:lnTo>
                      <a:lnTo>
                        <a:pt x="4856" y="5220"/>
                      </a:lnTo>
                      <a:lnTo>
                        <a:pt x="4169" y="5220"/>
                      </a:lnTo>
                      <a:lnTo>
                        <a:pt x="3665" y="5104"/>
                      </a:lnTo>
                      <a:lnTo>
                        <a:pt x="3001" y="4872"/>
                      </a:lnTo>
                      <a:lnTo>
                        <a:pt x="2497" y="4756"/>
                      </a:lnTo>
                      <a:lnTo>
                        <a:pt x="2062" y="4408"/>
                      </a:lnTo>
                      <a:lnTo>
                        <a:pt x="1603" y="4083"/>
                      </a:lnTo>
                      <a:lnTo>
                        <a:pt x="1283" y="3689"/>
                      </a:lnTo>
                      <a:lnTo>
                        <a:pt x="1283" y="4315"/>
                      </a:lnTo>
                      <a:lnTo>
                        <a:pt x="1489" y="5104"/>
                      </a:lnTo>
                      <a:lnTo>
                        <a:pt x="1832" y="6055"/>
                      </a:lnTo>
                      <a:lnTo>
                        <a:pt x="2382" y="6914"/>
                      </a:lnTo>
                      <a:lnTo>
                        <a:pt x="2680" y="7471"/>
                      </a:lnTo>
                      <a:lnTo>
                        <a:pt x="3115" y="7935"/>
                      </a:lnTo>
                      <a:lnTo>
                        <a:pt x="3573" y="8213"/>
                      </a:lnTo>
                      <a:lnTo>
                        <a:pt x="4077" y="8654"/>
                      </a:lnTo>
                      <a:lnTo>
                        <a:pt x="4627" y="9002"/>
                      </a:lnTo>
                      <a:lnTo>
                        <a:pt x="5245" y="9234"/>
                      </a:lnTo>
                      <a:lnTo>
                        <a:pt x="6024" y="9443"/>
                      </a:lnTo>
                      <a:lnTo>
                        <a:pt x="6757" y="9628"/>
                      </a:lnTo>
                      <a:lnTo>
                        <a:pt x="5177" y="10069"/>
                      </a:lnTo>
                      <a:lnTo>
                        <a:pt x="3963" y="10649"/>
                      </a:lnTo>
                      <a:lnTo>
                        <a:pt x="3344" y="11044"/>
                      </a:lnTo>
                      <a:lnTo>
                        <a:pt x="2886" y="11600"/>
                      </a:lnTo>
                      <a:lnTo>
                        <a:pt x="2497" y="12041"/>
                      </a:lnTo>
                      <a:lnTo>
                        <a:pt x="1947" y="12343"/>
                      </a:lnTo>
                      <a:lnTo>
                        <a:pt x="1168" y="12668"/>
                      </a:lnTo>
                      <a:lnTo>
                        <a:pt x="0" y="12900"/>
                      </a:lnTo>
                      <a:lnTo>
                        <a:pt x="435" y="13248"/>
                      </a:lnTo>
                      <a:lnTo>
                        <a:pt x="779" y="13456"/>
                      </a:lnTo>
                      <a:lnTo>
                        <a:pt x="1283" y="13642"/>
                      </a:lnTo>
                      <a:lnTo>
                        <a:pt x="1718" y="13758"/>
                      </a:lnTo>
                      <a:lnTo>
                        <a:pt x="2680" y="13851"/>
                      </a:lnTo>
                      <a:lnTo>
                        <a:pt x="3573" y="13758"/>
                      </a:lnTo>
                      <a:lnTo>
                        <a:pt x="4512" y="13526"/>
                      </a:lnTo>
                      <a:lnTo>
                        <a:pt x="5360" y="13248"/>
                      </a:lnTo>
                      <a:lnTo>
                        <a:pt x="6139" y="12900"/>
                      </a:lnTo>
                      <a:lnTo>
                        <a:pt x="6757" y="12552"/>
                      </a:lnTo>
                      <a:lnTo>
                        <a:pt x="6459" y="13132"/>
                      </a:lnTo>
                      <a:lnTo>
                        <a:pt x="6139" y="13642"/>
                      </a:lnTo>
                      <a:lnTo>
                        <a:pt x="5910" y="14199"/>
                      </a:lnTo>
                      <a:lnTo>
                        <a:pt x="5681" y="14663"/>
                      </a:lnTo>
                      <a:lnTo>
                        <a:pt x="5681" y="15150"/>
                      </a:lnTo>
                      <a:lnTo>
                        <a:pt x="5681" y="15730"/>
                      </a:lnTo>
                      <a:lnTo>
                        <a:pt x="5681" y="16241"/>
                      </a:lnTo>
                      <a:lnTo>
                        <a:pt x="5795" y="16913"/>
                      </a:lnTo>
                      <a:lnTo>
                        <a:pt x="5910" y="17586"/>
                      </a:lnTo>
                      <a:lnTo>
                        <a:pt x="5910" y="18213"/>
                      </a:lnTo>
                      <a:lnTo>
                        <a:pt x="5795" y="18885"/>
                      </a:lnTo>
                      <a:lnTo>
                        <a:pt x="5566" y="19396"/>
                      </a:lnTo>
                      <a:lnTo>
                        <a:pt x="5245" y="19976"/>
                      </a:lnTo>
                      <a:lnTo>
                        <a:pt x="4971" y="20370"/>
                      </a:lnTo>
                      <a:lnTo>
                        <a:pt x="4512" y="20811"/>
                      </a:lnTo>
                      <a:lnTo>
                        <a:pt x="4077" y="21043"/>
                      </a:lnTo>
                      <a:lnTo>
                        <a:pt x="5177" y="20927"/>
                      </a:lnTo>
                      <a:lnTo>
                        <a:pt x="6253" y="20486"/>
                      </a:lnTo>
                      <a:lnTo>
                        <a:pt x="7421" y="19976"/>
                      </a:lnTo>
                      <a:lnTo>
                        <a:pt x="8361" y="19187"/>
                      </a:lnTo>
                      <a:lnTo>
                        <a:pt x="8819" y="18769"/>
                      </a:lnTo>
                      <a:lnTo>
                        <a:pt x="9139" y="18213"/>
                      </a:lnTo>
                      <a:lnTo>
                        <a:pt x="9437" y="17772"/>
                      </a:lnTo>
                      <a:lnTo>
                        <a:pt x="9643" y="17261"/>
                      </a:lnTo>
                      <a:lnTo>
                        <a:pt x="9872" y="16681"/>
                      </a:lnTo>
                      <a:lnTo>
                        <a:pt x="9872" y="16171"/>
                      </a:lnTo>
                      <a:lnTo>
                        <a:pt x="9872" y="15614"/>
                      </a:lnTo>
                      <a:lnTo>
                        <a:pt x="9758" y="15057"/>
                      </a:lnTo>
                      <a:lnTo>
                        <a:pt x="10216" y="15498"/>
                      </a:lnTo>
                      <a:lnTo>
                        <a:pt x="10537" y="16241"/>
                      </a:lnTo>
                      <a:lnTo>
                        <a:pt x="10834" y="17145"/>
                      </a:lnTo>
                      <a:lnTo>
                        <a:pt x="11041" y="18213"/>
                      </a:lnTo>
                      <a:lnTo>
                        <a:pt x="11155" y="19187"/>
                      </a:lnTo>
                      <a:lnTo>
                        <a:pt x="11155" y="20185"/>
                      </a:lnTo>
                      <a:lnTo>
                        <a:pt x="11155" y="20579"/>
                      </a:lnTo>
                      <a:lnTo>
                        <a:pt x="11041" y="21043"/>
                      </a:lnTo>
                      <a:lnTo>
                        <a:pt x="10926" y="21391"/>
                      </a:lnTo>
                      <a:lnTo>
                        <a:pt x="10766" y="21600"/>
                      </a:lnTo>
                      <a:lnTo>
                        <a:pt x="11499" y="21484"/>
                      </a:lnTo>
                      <a:lnTo>
                        <a:pt x="12323" y="21043"/>
                      </a:lnTo>
                      <a:lnTo>
                        <a:pt x="13102" y="20370"/>
                      </a:lnTo>
                      <a:lnTo>
                        <a:pt x="13606" y="19628"/>
                      </a:lnTo>
                      <a:lnTo>
                        <a:pt x="13950" y="19071"/>
                      </a:lnTo>
                      <a:lnTo>
                        <a:pt x="14064" y="18677"/>
                      </a:lnTo>
                      <a:lnTo>
                        <a:pt x="14179" y="18097"/>
                      </a:lnTo>
                      <a:lnTo>
                        <a:pt x="14293" y="17586"/>
                      </a:lnTo>
                      <a:lnTo>
                        <a:pt x="14179" y="16913"/>
                      </a:lnTo>
                      <a:lnTo>
                        <a:pt x="14064" y="16241"/>
                      </a:lnTo>
                      <a:lnTo>
                        <a:pt x="13835" y="15614"/>
                      </a:lnTo>
                      <a:lnTo>
                        <a:pt x="13560" y="14872"/>
                      </a:lnTo>
                      <a:lnTo>
                        <a:pt x="13950" y="14941"/>
                      </a:lnTo>
                      <a:lnTo>
                        <a:pt x="14408" y="15150"/>
                      </a:lnTo>
                      <a:lnTo>
                        <a:pt x="14843" y="15266"/>
                      </a:lnTo>
                      <a:lnTo>
                        <a:pt x="15232" y="15614"/>
                      </a:lnTo>
                      <a:lnTo>
                        <a:pt x="15576" y="15846"/>
                      </a:lnTo>
                      <a:lnTo>
                        <a:pt x="15897" y="16171"/>
                      </a:lnTo>
                      <a:lnTo>
                        <a:pt x="16126" y="16473"/>
                      </a:lnTo>
                      <a:lnTo>
                        <a:pt x="16240" y="16913"/>
                      </a:lnTo>
                      <a:lnTo>
                        <a:pt x="16515" y="17261"/>
                      </a:lnTo>
                      <a:lnTo>
                        <a:pt x="17088" y="17586"/>
                      </a:lnTo>
                      <a:lnTo>
                        <a:pt x="17798" y="17865"/>
                      </a:lnTo>
                      <a:lnTo>
                        <a:pt x="18576" y="18097"/>
                      </a:lnTo>
                      <a:lnTo>
                        <a:pt x="19424" y="18213"/>
                      </a:lnTo>
                      <a:lnTo>
                        <a:pt x="20317" y="18213"/>
                      </a:lnTo>
                      <a:lnTo>
                        <a:pt x="21050" y="18213"/>
                      </a:lnTo>
                      <a:lnTo>
                        <a:pt x="21600" y="17865"/>
                      </a:lnTo>
                      <a:lnTo>
                        <a:pt x="21165" y="17656"/>
                      </a:lnTo>
                      <a:lnTo>
                        <a:pt x="20592" y="17470"/>
                      </a:lnTo>
                      <a:lnTo>
                        <a:pt x="20088" y="17029"/>
                      </a:lnTo>
                      <a:lnTo>
                        <a:pt x="19653" y="16681"/>
                      </a:lnTo>
                      <a:lnTo>
                        <a:pt x="19195" y="16241"/>
                      </a:lnTo>
                      <a:lnTo>
                        <a:pt x="18920" y="15962"/>
                      </a:lnTo>
                      <a:lnTo>
                        <a:pt x="18576" y="15498"/>
                      </a:lnTo>
                      <a:lnTo>
                        <a:pt x="18576" y="15057"/>
                      </a:lnTo>
                      <a:lnTo>
                        <a:pt x="18485" y="14756"/>
                      </a:lnTo>
                      <a:lnTo>
                        <a:pt x="18256" y="14199"/>
                      </a:lnTo>
                      <a:lnTo>
                        <a:pt x="17912" y="13526"/>
                      </a:lnTo>
                      <a:lnTo>
                        <a:pt x="17523" y="13016"/>
                      </a:lnTo>
                      <a:lnTo>
                        <a:pt x="16973" y="12436"/>
                      </a:lnTo>
                      <a:lnTo>
                        <a:pt x="16355" y="12041"/>
                      </a:lnTo>
                      <a:lnTo>
                        <a:pt x="16011" y="11832"/>
                      </a:lnTo>
                      <a:lnTo>
                        <a:pt x="15690" y="11716"/>
                      </a:lnTo>
                      <a:lnTo>
                        <a:pt x="15232" y="11716"/>
                      </a:lnTo>
                      <a:lnTo>
                        <a:pt x="14843" y="11716"/>
                      </a:lnTo>
                      <a:lnTo>
                        <a:pt x="15461" y="11252"/>
                      </a:lnTo>
                      <a:lnTo>
                        <a:pt x="16126" y="10858"/>
                      </a:lnTo>
                      <a:lnTo>
                        <a:pt x="16973" y="10649"/>
                      </a:lnTo>
                      <a:lnTo>
                        <a:pt x="17798" y="10417"/>
                      </a:lnTo>
                      <a:lnTo>
                        <a:pt x="18806" y="10301"/>
                      </a:lnTo>
                      <a:lnTo>
                        <a:pt x="19653" y="10301"/>
                      </a:lnTo>
                      <a:lnTo>
                        <a:pt x="20478" y="10417"/>
                      </a:lnTo>
                      <a:lnTo>
                        <a:pt x="21256" y="10533"/>
                      </a:lnTo>
                      <a:lnTo>
                        <a:pt x="20707" y="9837"/>
                      </a:lnTo>
                      <a:lnTo>
                        <a:pt x="19859" y="9234"/>
                      </a:lnTo>
                      <a:lnTo>
                        <a:pt x="18806" y="8538"/>
                      </a:lnTo>
                      <a:lnTo>
                        <a:pt x="17637" y="8144"/>
                      </a:lnTo>
                      <a:lnTo>
                        <a:pt x="16973" y="8027"/>
                      </a:lnTo>
                      <a:lnTo>
                        <a:pt x="16355" y="7935"/>
                      </a:lnTo>
                      <a:lnTo>
                        <a:pt x="15805" y="7935"/>
                      </a:lnTo>
                      <a:lnTo>
                        <a:pt x="15118" y="8027"/>
                      </a:lnTo>
                      <a:lnTo>
                        <a:pt x="14614" y="8144"/>
                      </a:lnTo>
                      <a:lnTo>
                        <a:pt x="14064" y="8422"/>
                      </a:lnTo>
                      <a:lnTo>
                        <a:pt x="13606" y="8886"/>
                      </a:lnTo>
                      <a:lnTo>
                        <a:pt x="13217" y="9327"/>
                      </a:lnTo>
                      <a:lnTo>
                        <a:pt x="13606" y="8538"/>
                      </a:lnTo>
                      <a:lnTo>
                        <a:pt x="13950" y="7935"/>
                      </a:lnTo>
                      <a:lnTo>
                        <a:pt x="14293" y="7123"/>
                      </a:lnTo>
                      <a:lnTo>
                        <a:pt x="14499" y="6519"/>
                      </a:lnTo>
                      <a:lnTo>
                        <a:pt x="14614" y="5823"/>
                      </a:lnTo>
                      <a:lnTo>
                        <a:pt x="14614" y="5220"/>
                      </a:lnTo>
                      <a:lnTo>
                        <a:pt x="14408" y="4524"/>
                      </a:lnTo>
                      <a:lnTo>
                        <a:pt x="14064" y="3898"/>
                      </a:lnTo>
                      <a:lnTo>
                        <a:pt x="13606" y="3225"/>
                      </a:lnTo>
                      <a:lnTo>
                        <a:pt x="13331" y="2598"/>
                      </a:lnTo>
                      <a:lnTo>
                        <a:pt x="13102" y="2042"/>
                      </a:lnTo>
                      <a:lnTo>
                        <a:pt x="12896" y="1485"/>
                      </a:lnTo>
                      <a:lnTo>
                        <a:pt x="12781" y="1090"/>
                      </a:lnTo>
                      <a:lnTo>
                        <a:pt x="12667" y="626"/>
                      </a:lnTo>
                      <a:lnTo>
                        <a:pt x="12667" y="278"/>
                      </a:lnTo>
                      <a:lnTo>
                        <a:pt x="12667" y="0"/>
                      </a:lnTo>
                      <a:lnTo>
                        <a:pt x="12163" y="394"/>
                      </a:lnTo>
                      <a:lnTo>
                        <a:pt x="11728" y="974"/>
                      </a:lnTo>
                      <a:lnTo>
                        <a:pt x="11155" y="1601"/>
                      </a:lnTo>
                      <a:lnTo>
                        <a:pt x="10766" y="2390"/>
                      </a:lnTo>
                      <a:lnTo>
                        <a:pt x="10330" y="3109"/>
                      </a:lnTo>
                      <a:lnTo>
                        <a:pt x="10101" y="3898"/>
                      </a:lnTo>
                      <a:lnTo>
                        <a:pt x="9987" y="4524"/>
                      </a:lnTo>
                      <a:lnTo>
                        <a:pt x="10101" y="5220"/>
                      </a:lnTo>
                      <a:lnTo>
                        <a:pt x="10216" y="5823"/>
                      </a:lnTo>
                      <a:lnTo>
                        <a:pt x="10330" y="6403"/>
                      </a:lnTo>
                      <a:lnTo>
                        <a:pt x="10330" y="6914"/>
                      </a:lnTo>
                      <a:lnTo>
                        <a:pt x="10216" y="7471"/>
                      </a:lnTo>
                      <a:lnTo>
                        <a:pt x="10101" y="7935"/>
                      </a:lnTo>
                      <a:lnTo>
                        <a:pt x="9872" y="8329"/>
                      </a:lnTo>
                      <a:lnTo>
                        <a:pt x="9643" y="8654"/>
                      </a:lnTo>
                      <a:lnTo>
                        <a:pt x="9368" y="9002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4" name="Group 722"/>
              <p:cNvGrpSpPr/>
              <p:nvPr/>
            </p:nvGrpSpPr>
            <p:grpSpPr>
              <a:xfrm>
                <a:off x="4581000" y="5550840"/>
                <a:ext cx="303840" cy="321120"/>
                <a:chOff x="4581000" y="5550840"/>
                <a:chExt cx="303840" cy="321120"/>
              </a:xfrm>
            </p:grpSpPr>
            <p:grpSp>
              <p:nvGrpSpPr>
                <p:cNvPr id="745" name="Group 723"/>
                <p:cNvGrpSpPr/>
                <p:nvPr/>
              </p:nvGrpSpPr>
              <p:grpSpPr>
                <a:xfrm>
                  <a:off x="4581000" y="5568840"/>
                  <a:ext cx="303840" cy="303120"/>
                  <a:chOff x="4581000" y="5568840"/>
                  <a:chExt cx="303840" cy="303120"/>
                </a:xfrm>
              </p:grpSpPr>
              <p:sp>
                <p:nvSpPr>
                  <p:cNvPr id="746" name="Freeform 724"/>
                  <p:cNvSpPr/>
                  <p:nvPr/>
                </p:nvSpPr>
                <p:spPr>
                  <a:xfrm rot="8513400">
                    <a:off x="4731480" y="5575320"/>
                    <a:ext cx="96840" cy="216000"/>
                  </a:xfrm>
                  <a:custGeom>
                    <a:avLst/>
                    <a:gdLst>
                      <a:gd name="textAreaLeft" fmla="*/ 0 w 96840"/>
                      <a:gd name="textAreaRight" fmla="*/ 97200 w 96840"/>
                      <a:gd name="textAreaTop" fmla="*/ 0 h 216000"/>
                      <a:gd name="textAreaBottom" fmla="*/ 216360 h 216000"/>
                    </a:gdLst>
                    <a:ahLst/>
                    <a:rect l="textAreaLeft" t="textAreaTop" r="textAreaRight" b="textAreaBottom"/>
                    <a:pathLst>
                      <a:path w="296" h="552">
                        <a:moveTo>
                          <a:pt x="296" y="528"/>
                        </a:moveTo>
                        <a:cubicBezTo>
                          <a:pt x="224" y="540"/>
                          <a:pt x="152" y="552"/>
                          <a:pt x="104" y="528"/>
                        </a:cubicBezTo>
                        <a:cubicBezTo>
                          <a:pt x="56" y="504"/>
                          <a:pt x="16" y="440"/>
                          <a:pt x="8" y="384"/>
                        </a:cubicBezTo>
                        <a:cubicBezTo>
                          <a:pt x="0" y="328"/>
                          <a:pt x="24" y="248"/>
                          <a:pt x="56" y="192"/>
                        </a:cubicBezTo>
                        <a:cubicBezTo>
                          <a:pt x="88" y="136"/>
                          <a:pt x="160" y="80"/>
                          <a:pt x="200" y="48"/>
                        </a:cubicBezTo>
                        <a:cubicBezTo>
                          <a:pt x="240" y="16"/>
                          <a:pt x="268" y="8"/>
                          <a:pt x="296" y="0"/>
                        </a:cubicBezTo>
                      </a:path>
                    </a:pathLst>
                  </a:custGeom>
                  <a:solidFill>
                    <a:srgbClr val="ff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7" name="Freeform 725"/>
                  <p:cNvSpPr/>
                  <p:nvPr/>
                </p:nvSpPr>
                <p:spPr>
                  <a:xfrm flipH="1" rot="8512800">
                    <a:off x="4633920" y="5640840"/>
                    <a:ext cx="122760" cy="216000"/>
                  </a:xfrm>
                  <a:custGeom>
                    <a:avLst/>
                    <a:gdLst>
                      <a:gd name="textAreaLeft" fmla="*/ -360 w 122760"/>
                      <a:gd name="textAreaRight" fmla="*/ 122760 w 122760"/>
                      <a:gd name="textAreaTop" fmla="*/ 0 h 216000"/>
                      <a:gd name="textAreaBottom" fmla="*/ 216360 h 216000"/>
                    </a:gdLst>
                    <a:ahLst/>
                    <a:rect l="textAreaLeft" t="textAreaTop" r="textAreaRight" b="textAreaBottom"/>
                    <a:pathLst>
                      <a:path w="296" h="552">
                        <a:moveTo>
                          <a:pt x="296" y="528"/>
                        </a:moveTo>
                        <a:cubicBezTo>
                          <a:pt x="224" y="540"/>
                          <a:pt x="152" y="552"/>
                          <a:pt x="104" y="528"/>
                        </a:cubicBezTo>
                        <a:cubicBezTo>
                          <a:pt x="56" y="504"/>
                          <a:pt x="16" y="440"/>
                          <a:pt x="8" y="384"/>
                        </a:cubicBezTo>
                        <a:cubicBezTo>
                          <a:pt x="0" y="328"/>
                          <a:pt x="24" y="248"/>
                          <a:pt x="56" y="192"/>
                        </a:cubicBezTo>
                        <a:cubicBezTo>
                          <a:pt x="88" y="136"/>
                          <a:pt x="160" y="80"/>
                          <a:pt x="200" y="48"/>
                        </a:cubicBezTo>
                        <a:cubicBezTo>
                          <a:pt x="240" y="16"/>
                          <a:pt x="268" y="8"/>
                          <a:pt x="296" y="0"/>
                        </a:cubicBezTo>
                      </a:path>
                    </a:pathLst>
                  </a:custGeom>
                  <a:solidFill>
                    <a:srgbClr val="ff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48" name="Freeform 726"/>
                <p:cNvSpPr/>
                <p:nvPr/>
              </p:nvSpPr>
              <p:spPr>
                <a:xfrm flipV="1" rot="19463400">
                  <a:off x="4720680" y="5661720"/>
                  <a:ext cx="15480" cy="18720"/>
                </a:xfrm>
                <a:custGeom>
                  <a:avLst/>
                  <a:gdLst>
                    <a:gd name="textAreaLeft" fmla="*/ 0 w 15480"/>
                    <a:gd name="textAreaRight" fmla="*/ 15840 w 15480"/>
                    <a:gd name="textAreaTop" fmla="*/ 360 h 18720"/>
                    <a:gd name="textAreaBottom" fmla="*/ 19440 h 18720"/>
                  </a:gdLst>
                  <a:ahLst/>
                  <a:rect l="textAreaLeft" t="textAreaTop" r="textAreaRight" b="textAreaBottom"/>
                  <a:pathLst>
                    <a:path w="192" h="288">
                      <a:moveTo>
                        <a:pt x="0" y="288"/>
                      </a:moveTo>
                      <a:lnTo>
                        <a:pt x="192" y="288"/>
                      </a:lnTo>
                      <a:lnTo>
                        <a:pt x="48" y="0"/>
                      </a:lnTo>
                      <a:lnTo>
                        <a:pt x="0" y="288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9" name="Freeform 727"/>
                <p:cNvSpPr/>
                <p:nvPr/>
              </p:nvSpPr>
              <p:spPr>
                <a:xfrm flipV="1" rot="19463400">
                  <a:off x="4645800" y="5692680"/>
                  <a:ext cx="15480" cy="18720"/>
                </a:xfrm>
                <a:custGeom>
                  <a:avLst/>
                  <a:gdLst>
                    <a:gd name="textAreaLeft" fmla="*/ 0 w 15480"/>
                    <a:gd name="textAreaRight" fmla="*/ 15840 w 15480"/>
                    <a:gd name="textAreaTop" fmla="*/ 360 h 18720"/>
                    <a:gd name="textAreaBottom" fmla="*/ 19440 h 18720"/>
                  </a:gdLst>
                  <a:ahLst/>
                  <a:rect l="textAreaLeft" t="textAreaTop" r="textAreaRight" b="textAreaBottom"/>
                  <a:pathLst>
                    <a:path w="192" h="288">
                      <a:moveTo>
                        <a:pt x="0" y="288"/>
                      </a:moveTo>
                      <a:lnTo>
                        <a:pt x="192" y="288"/>
                      </a:lnTo>
                      <a:lnTo>
                        <a:pt x="48" y="0"/>
                      </a:lnTo>
                      <a:lnTo>
                        <a:pt x="0" y="288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0" name="Freeform 728"/>
                <p:cNvSpPr/>
                <p:nvPr/>
              </p:nvSpPr>
              <p:spPr>
                <a:xfrm flipV="1" rot="19463400">
                  <a:off x="4669560" y="5698440"/>
                  <a:ext cx="15480" cy="18720"/>
                </a:xfrm>
                <a:custGeom>
                  <a:avLst/>
                  <a:gdLst>
                    <a:gd name="textAreaLeft" fmla="*/ 0 w 15480"/>
                    <a:gd name="textAreaRight" fmla="*/ 15840 w 15480"/>
                    <a:gd name="textAreaTop" fmla="*/ 360 h 18720"/>
                    <a:gd name="textAreaBottom" fmla="*/ 19440 h 18720"/>
                  </a:gdLst>
                  <a:ahLst/>
                  <a:rect l="textAreaLeft" t="textAreaTop" r="textAreaRight" b="textAreaBottom"/>
                  <a:pathLst>
                    <a:path w="192" h="288">
                      <a:moveTo>
                        <a:pt x="0" y="288"/>
                      </a:moveTo>
                      <a:lnTo>
                        <a:pt x="192" y="288"/>
                      </a:lnTo>
                      <a:lnTo>
                        <a:pt x="48" y="0"/>
                      </a:lnTo>
                      <a:lnTo>
                        <a:pt x="0" y="288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1" name="Freeform 729"/>
                <p:cNvSpPr/>
                <p:nvPr/>
              </p:nvSpPr>
              <p:spPr>
                <a:xfrm flipV="1" rot="19463400">
                  <a:off x="4705920" y="5695560"/>
                  <a:ext cx="15480" cy="18720"/>
                </a:xfrm>
                <a:custGeom>
                  <a:avLst/>
                  <a:gdLst>
                    <a:gd name="textAreaLeft" fmla="*/ 0 w 15480"/>
                    <a:gd name="textAreaRight" fmla="*/ 15840 w 15480"/>
                    <a:gd name="textAreaTop" fmla="*/ 360 h 18720"/>
                    <a:gd name="textAreaBottom" fmla="*/ 19440 h 18720"/>
                  </a:gdLst>
                  <a:ahLst/>
                  <a:rect l="textAreaLeft" t="textAreaTop" r="textAreaRight" b="textAreaBottom"/>
                  <a:pathLst>
                    <a:path w="192" h="288">
                      <a:moveTo>
                        <a:pt x="0" y="288"/>
                      </a:moveTo>
                      <a:lnTo>
                        <a:pt x="192" y="288"/>
                      </a:lnTo>
                      <a:lnTo>
                        <a:pt x="48" y="0"/>
                      </a:lnTo>
                      <a:lnTo>
                        <a:pt x="0" y="288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2" name="Freeform 730"/>
                <p:cNvSpPr/>
                <p:nvPr/>
              </p:nvSpPr>
              <p:spPr>
                <a:xfrm flipV="1" rot="19463400">
                  <a:off x="4715280" y="5735160"/>
                  <a:ext cx="15480" cy="18720"/>
                </a:xfrm>
                <a:custGeom>
                  <a:avLst/>
                  <a:gdLst>
                    <a:gd name="textAreaLeft" fmla="*/ 0 w 15480"/>
                    <a:gd name="textAreaRight" fmla="*/ 15840 w 15480"/>
                    <a:gd name="textAreaTop" fmla="*/ 360 h 18720"/>
                    <a:gd name="textAreaBottom" fmla="*/ 19440 h 18720"/>
                  </a:gdLst>
                  <a:ahLst/>
                  <a:rect l="textAreaLeft" t="textAreaTop" r="textAreaRight" b="textAreaBottom"/>
                  <a:pathLst>
                    <a:path w="192" h="288">
                      <a:moveTo>
                        <a:pt x="0" y="288"/>
                      </a:moveTo>
                      <a:lnTo>
                        <a:pt x="192" y="288"/>
                      </a:lnTo>
                      <a:lnTo>
                        <a:pt x="48" y="0"/>
                      </a:lnTo>
                      <a:lnTo>
                        <a:pt x="0" y="288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3" name="Freeform 731"/>
                <p:cNvSpPr/>
                <p:nvPr/>
              </p:nvSpPr>
              <p:spPr>
                <a:xfrm flipV="1" rot="19463400">
                  <a:off x="4713120" y="5759640"/>
                  <a:ext cx="15480" cy="18720"/>
                </a:xfrm>
                <a:custGeom>
                  <a:avLst/>
                  <a:gdLst>
                    <a:gd name="textAreaLeft" fmla="*/ 0 w 15480"/>
                    <a:gd name="textAreaRight" fmla="*/ 15840 w 15480"/>
                    <a:gd name="textAreaTop" fmla="*/ 360 h 18720"/>
                    <a:gd name="textAreaBottom" fmla="*/ 19440 h 18720"/>
                  </a:gdLst>
                  <a:ahLst/>
                  <a:rect l="textAreaLeft" t="textAreaTop" r="textAreaRight" b="textAreaBottom"/>
                  <a:pathLst>
                    <a:path w="192" h="288">
                      <a:moveTo>
                        <a:pt x="0" y="288"/>
                      </a:moveTo>
                      <a:lnTo>
                        <a:pt x="192" y="288"/>
                      </a:lnTo>
                      <a:lnTo>
                        <a:pt x="48" y="0"/>
                      </a:lnTo>
                      <a:lnTo>
                        <a:pt x="0" y="288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4" name="Freeform 732"/>
                <p:cNvSpPr/>
                <p:nvPr/>
              </p:nvSpPr>
              <p:spPr>
                <a:xfrm flipV="1" rot="19463400">
                  <a:off x="4736880" y="5765760"/>
                  <a:ext cx="15480" cy="18720"/>
                </a:xfrm>
                <a:custGeom>
                  <a:avLst/>
                  <a:gdLst>
                    <a:gd name="textAreaLeft" fmla="*/ 0 w 15480"/>
                    <a:gd name="textAreaRight" fmla="*/ 15840 w 15480"/>
                    <a:gd name="textAreaTop" fmla="*/ 360 h 18720"/>
                    <a:gd name="textAreaBottom" fmla="*/ 19440 h 18720"/>
                  </a:gdLst>
                  <a:ahLst/>
                  <a:rect l="textAreaLeft" t="textAreaTop" r="textAreaRight" b="textAreaBottom"/>
                  <a:pathLst>
                    <a:path w="192" h="288">
                      <a:moveTo>
                        <a:pt x="0" y="288"/>
                      </a:moveTo>
                      <a:lnTo>
                        <a:pt x="192" y="288"/>
                      </a:lnTo>
                      <a:lnTo>
                        <a:pt x="48" y="0"/>
                      </a:lnTo>
                      <a:lnTo>
                        <a:pt x="0" y="288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5" name="Freeform 733"/>
                <p:cNvSpPr/>
                <p:nvPr/>
              </p:nvSpPr>
              <p:spPr>
                <a:xfrm flipV="1" rot="19463400">
                  <a:off x="4773600" y="5762880"/>
                  <a:ext cx="15480" cy="18720"/>
                </a:xfrm>
                <a:custGeom>
                  <a:avLst/>
                  <a:gdLst>
                    <a:gd name="textAreaLeft" fmla="*/ 0 w 15480"/>
                    <a:gd name="textAreaRight" fmla="*/ 15840 w 15480"/>
                    <a:gd name="textAreaTop" fmla="*/ 360 h 18720"/>
                    <a:gd name="textAreaBottom" fmla="*/ 19440 h 18720"/>
                  </a:gdLst>
                  <a:ahLst/>
                  <a:rect l="textAreaLeft" t="textAreaTop" r="textAreaRight" b="textAreaBottom"/>
                  <a:pathLst>
                    <a:path w="192" h="288">
                      <a:moveTo>
                        <a:pt x="0" y="288"/>
                      </a:moveTo>
                      <a:lnTo>
                        <a:pt x="192" y="288"/>
                      </a:lnTo>
                      <a:lnTo>
                        <a:pt x="48" y="0"/>
                      </a:lnTo>
                      <a:lnTo>
                        <a:pt x="0" y="288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6" name="Freeform 734"/>
                <p:cNvSpPr/>
                <p:nvPr/>
              </p:nvSpPr>
              <p:spPr>
                <a:xfrm flipV="1" rot="19463400">
                  <a:off x="4654800" y="5731920"/>
                  <a:ext cx="15480" cy="18720"/>
                </a:xfrm>
                <a:custGeom>
                  <a:avLst/>
                  <a:gdLst>
                    <a:gd name="textAreaLeft" fmla="*/ 0 w 15480"/>
                    <a:gd name="textAreaRight" fmla="*/ 15840 w 15480"/>
                    <a:gd name="textAreaTop" fmla="*/ 360 h 18720"/>
                    <a:gd name="textAreaBottom" fmla="*/ 19440 h 18720"/>
                  </a:gdLst>
                  <a:ahLst/>
                  <a:rect l="textAreaLeft" t="textAreaTop" r="textAreaRight" b="textAreaBottom"/>
                  <a:pathLst>
                    <a:path w="192" h="288">
                      <a:moveTo>
                        <a:pt x="0" y="288"/>
                      </a:moveTo>
                      <a:lnTo>
                        <a:pt x="192" y="288"/>
                      </a:lnTo>
                      <a:lnTo>
                        <a:pt x="48" y="0"/>
                      </a:lnTo>
                      <a:lnTo>
                        <a:pt x="0" y="288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7" name="Freeform 735"/>
                <p:cNvSpPr/>
                <p:nvPr/>
              </p:nvSpPr>
              <p:spPr>
                <a:xfrm flipV="1" rot="19463400">
                  <a:off x="4678560" y="5738400"/>
                  <a:ext cx="15480" cy="18720"/>
                </a:xfrm>
                <a:custGeom>
                  <a:avLst/>
                  <a:gdLst>
                    <a:gd name="textAreaLeft" fmla="*/ 0 w 15480"/>
                    <a:gd name="textAreaRight" fmla="*/ 15840 w 15480"/>
                    <a:gd name="textAreaTop" fmla="*/ 360 h 18720"/>
                    <a:gd name="textAreaBottom" fmla="*/ 19440 h 18720"/>
                  </a:gdLst>
                  <a:ahLst/>
                  <a:rect l="textAreaLeft" t="textAreaTop" r="textAreaRight" b="textAreaBottom"/>
                  <a:pathLst>
                    <a:path w="192" h="288">
                      <a:moveTo>
                        <a:pt x="0" y="288"/>
                      </a:moveTo>
                      <a:lnTo>
                        <a:pt x="192" y="288"/>
                      </a:lnTo>
                      <a:lnTo>
                        <a:pt x="48" y="0"/>
                      </a:lnTo>
                      <a:lnTo>
                        <a:pt x="0" y="288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8" name="Freeform 736"/>
                <p:cNvSpPr/>
                <p:nvPr/>
              </p:nvSpPr>
              <p:spPr>
                <a:xfrm flipH="1" flipV="1" rot="19463400">
                  <a:off x="4751280" y="5732640"/>
                  <a:ext cx="15480" cy="18720"/>
                </a:xfrm>
                <a:custGeom>
                  <a:avLst/>
                  <a:gdLst>
                    <a:gd name="textAreaLeft" fmla="*/ -360 w 15480"/>
                    <a:gd name="textAreaRight" fmla="*/ 15480 w 15480"/>
                    <a:gd name="textAreaTop" fmla="*/ 360 h 18720"/>
                    <a:gd name="textAreaBottom" fmla="*/ 19440 h 18720"/>
                  </a:gdLst>
                  <a:ahLst/>
                  <a:rect l="textAreaLeft" t="textAreaTop" r="textAreaRight" b="textAreaBottom"/>
                  <a:pathLst>
                    <a:path w="192" h="288">
                      <a:moveTo>
                        <a:pt x="0" y="288"/>
                      </a:moveTo>
                      <a:lnTo>
                        <a:pt x="192" y="288"/>
                      </a:lnTo>
                      <a:lnTo>
                        <a:pt x="48" y="0"/>
                      </a:lnTo>
                      <a:lnTo>
                        <a:pt x="0" y="288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9" name="Freeform 737"/>
                <p:cNvSpPr/>
                <p:nvPr/>
              </p:nvSpPr>
              <p:spPr>
                <a:xfrm flipH="1" flipV="1" rot="19463400">
                  <a:off x="4776840" y="5714280"/>
                  <a:ext cx="15480" cy="18720"/>
                </a:xfrm>
                <a:custGeom>
                  <a:avLst/>
                  <a:gdLst>
                    <a:gd name="textAreaLeft" fmla="*/ -360 w 15480"/>
                    <a:gd name="textAreaRight" fmla="*/ 15480 w 15480"/>
                    <a:gd name="textAreaTop" fmla="*/ 360 h 18720"/>
                    <a:gd name="textAreaBottom" fmla="*/ 19440 h 18720"/>
                  </a:gdLst>
                  <a:ahLst/>
                  <a:rect l="textAreaLeft" t="textAreaTop" r="textAreaRight" b="textAreaBottom"/>
                  <a:pathLst>
                    <a:path w="192" h="288">
                      <a:moveTo>
                        <a:pt x="0" y="288"/>
                      </a:moveTo>
                      <a:lnTo>
                        <a:pt x="192" y="288"/>
                      </a:lnTo>
                      <a:lnTo>
                        <a:pt x="48" y="0"/>
                      </a:lnTo>
                      <a:lnTo>
                        <a:pt x="0" y="288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0" name="Freeform 738"/>
                <p:cNvSpPr/>
                <p:nvPr/>
              </p:nvSpPr>
              <p:spPr>
                <a:xfrm flipH="1" flipV="1" rot="19463400">
                  <a:off x="4742280" y="5692680"/>
                  <a:ext cx="15480" cy="18720"/>
                </a:xfrm>
                <a:custGeom>
                  <a:avLst/>
                  <a:gdLst>
                    <a:gd name="textAreaLeft" fmla="*/ -360 w 15480"/>
                    <a:gd name="textAreaRight" fmla="*/ 15480 w 15480"/>
                    <a:gd name="textAreaTop" fmla="*/ 360 h 18720"/>
                    <a:gd name="textAreaBottom" fmla="*/ 19440 h 18720"/>
                  </a:gdLst>
                  <a:ahLst/>
                  <a:rect l="textAreaLeft" t="textAreaTop" r="textAreaRight" b="textAreaBottom"/>
                  <a:pathLst>
                    <a:path w="192" h="288">
                      <a:moveTo>
                        <a:pt x="0" y="288"/>
                      </a:moveTo>
                      <a:lnTo>
                        <a:pt x="192" y="288"/>
                      </a:lnTo>
                      <a:lnTo>
                        <a:pt x="48" y="0"/>
                      </a:lnTo>
                      <a:lnTo>
                        <a:pt x="0" y="288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1" name="Freeform 739"/>
                <p:cNvSpPr/>
                <p:nvPr/>
              </p:nvSpPr>
              <p:spPr>
                <a:xfrm flipH="1" flipV="1" rot="19463400">
                  <a:off x="4756680" y="5659200"/>
                  <a:ext cx="15480" cy="18720"/>
                </a:xfrm>
                <a:custGeom>
                  <a:avLst/>
                  <a:gdLst>
                    <a:gd name="textAreaLeft" fmla="*/ -360 w 15480"/>
                    <a:gd name="textAreaRight" fmla="*/ 15480 w 15480"/>
                    <a:gd name="textAreaTop" fmla="*/ 360 h 18720"/>
                    <a:gd name="textAreaBottom" fmla="*/ 19440 h 18720"/>
                  </a:gdLst>
                  <a:ahLst/>
                  <a:rect l="textAreaLeft" t="textAreaTop" r="textAreaRight" b="textAreaBottom"/>
                  <a:pathLst>
                    <a:path w="192" h="288">
                      <a:moveTo>
                        <a:pt x="0" y="288"/>
                      </a:moveTo>
                      <a:lnTo>
                        <a:pt x="192" y="288"/>
                      </a:lnTo>
                      <a:lnTo>
                        <a:pt x="48" y="0"/>
                      </a:lnTo>
                      <a:lnTo>
                        <a:pt x="0" y="288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2" name="Freeform 740"/>
                <p:cNvSpPr/>
                <p:nvPr/>
              </p:nvSpPr>
              <p:spPr>
                <a:xfrm flipH="1" flipV="1" rot="19463400">
                  <a:off x="4735080" y="5628600"/>
                  <a:ext cx="15480" cy="18720"/>
                </a:xfrm>
                <a:custGeom>
                  <a:avLst/>
                  <a:gdLst>
                    <a:gd name="textAreaLeft" fmla="*/ -360 w 15480"/>
                    <a:gd name="textAreaRight" fmla="*/ 15480 w 15480"/>
                    <a:gd name="textAreaTop" fmla="*/ 360 h 18720"/>
                    <a:gd name="textAreaBottom" fmla="*/ 19440 h 18720"/>
                  </a:gdLst>
                  <a:ahLst/>
                  <a:rect l="textAreaLeft" t="textAreaTop" r="textAreaRight" b="textAreaBottom"/>
                  <a:pathLst>
                    <a:path w="192" h="288">
                      <a:moveTo>
                        <a:pt x="0" y="288"/>
                      </a:moveTo>
                      <a:lnTo>
                        <a:pt x="192" y="288"/>
                      </a:lnTo>
                      <a:lnTo>
                        <a:pt x="48" y="0"/>
                      </a:lnTo>
                      <a:lnTo>
                        <a:pt x="0" y="288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3" name="plant"/>
                <p:cNvSpPr/>
                <p:nvPr/>
              </p:nvSpPr>
              <p:spPr>
                <a:xfrm rot="19463400">
                  <a:off x="4601880" y="5578200"/>
                  <a:ext cx="123480" cy="91440"/>
                </a:xfrm>
                <a:custGeom>
                  <a:avLst/>
                  <a:gdLst>
                    <a:gd name="textAreaLeft" fmla="*/ 40320 w 123480"/>
                    <a:gd name="textAreaRight" fmla="*/ 83520 w 123480"/>
                    <a:gd name="textAreaTop" fmla="*/ 42480 h 91440"/>
                    <a:gd name="textAreaBottom" fmla="*/ 57600 h 914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9368" y="9002"/>
                      </a:moveTo>
                      <a:lnTo>
                        <a:pt x="9254" y="8422"/>
                      </a:lnTo>
                      <a:lnTo>
                        <a:pt x="9139" y="7935"/>
                      </a:lnTo>
                      <a:lnTo>
                        <a:pt x="8819" y="7355"/>
                      </a:lnTo>
                      <a:lnTo>
                        <a:pt x="8475" y="6728"/>
                      </a:lnTo>
                      <a:lnTo>
                        <a:pt x="8040" y="6287"/>
                      </a:lnTo>
                      <a:lnTo>
                        <a:pt x="7421" y="5707"/>
                      </a:lnTo>
                      <a:lnTo>
                        <a:pt x="6574" y="5429"/>
                      </a:lnTo>
                      <a:lnTo>
                        <a:pt x="5452" y="5313"/>
                      </a:lnTo>
                      <a:lnTo>
                        <a:pt x="4856" y="5220"/>
                      </a:lnTo>
                      <a:lnTo>
                        <a:pt x="4169" y="5220"/>
                      </a:lnTo>
                      <a:lnTo>
                        <a:pt x="3665" y="5104"/>
                      </a:lnTo>
                      <a:lnTo>
                        <a:pt x="3001" y="4872"/>
                      </a:lnTo>
                      <a:lnTo>
                        <a:pt x="2497" y="4756"/>
                      </a:lnTo>
                      <a:lnTo>
                        <a:pt x="2062" y="4408"/>
                      </a:lnTo>
                      <a:lnTo>
                        <a:pt x="1603" y="4083"/>
                      </a:lnTo>
                      <a:lnTo>
                        <a:pt x="1283" y="3689"/>
                      </a:lnTo>
                      <a:lnTo>
                        <a:pt x="1283" y="4315"/>
                      </a:lnTo>
                      <a:lnTo>
                        <a:pt x="1489" y="5104"/>
                      </a:lnTo>
                      <a:lnTo>
                        <a:pt x="1832" y="6055"/>
                      </a:lnTo>
                      <a:lnTo>
                        <a:pt x="2382" y="6914"/>
                      </a:lnTo>
                      <a:lnTo>
                        <a:pt x="2680" y="7471"/>
                      </a:lnTo>
                      <a:lnTo>
                        <a:pt x="3115" y="7935"/>
                      </a:lnTo>
                      <a:lnTo>
                        <a:pt x="3573" y="8213"/>
                      </a:lnTo>
                      <a:lnTo>
                        <a:pt x="4077" y="8654"/>
                      </a:lnTo>
                      <a:lnTo>
                        <a:pt x="4627" y="9002"/>
                      </a:lnTo>
                      <a:lnTo>
                        <a:pt x="5245" y="9234"/>
                      </a:lnTo>
                      <a:lnTo>
                        <a:pt x="6024" y="9443"/>
                      </a:lnTo>
                      <a:lnTo>
                        <a:pt x="6757" y="9628"/>
                      </a:lnTo>
                      <a:lnTo>
                        <a:pt x="5177" y="10069"/>
                      </a:lnTo>
                      <a:lnTo>
                        <a:pt x="3963" y="10649"/>
                      </a:lnTo>
                      <a:lnTo>
                        <a:pt x="3344" y="11044"/>
                      </a:lnTo>
                      <a:lnTo>
                        <a:pt x="2886" y="11600"/>
                      </a:lnTo>
                      <a:lnTo>
                        <a:pt x="2497" y="12041"/>
                      </a:lnTo>
                      <a:lnTo>
                        <a:pt x="1947" y="12343"/>
                      </a:lnTo>
                      <a:lnTo>
                        <a:pt x="1168" y="12668"/>
                      </a:lnTo>
                      <a:lnTo>
                        <a:pt x="0" y="12900"/>
                      </a:lnTo>
                      <a:lnTo>
                        <a:pt x="435" y="13248"/>
                      </a:lnTo>
                      <a:lnTo>
                        <a:pt x="779" y="13456"/>
                      </a:lnTo>
                      <a:lnTo>
                        <a:pt x="1283" y="13642"/>
                      </a:lnTo>
                      <a:lnTo>
                        <a:pt x="1718" y="13758"/>
                      </a:lnTo>
                      <a:lnTo>
                        <a:pt x="2680" y="13851"/>
                      </a:lnTo>
                      <a:lnTo>
                        <a:pt x="3573" y="13758"/>
                      </a:lnTo>
                      <a:lnTo>
                        <a:pt x="4512" y="13526"/>
                      </a:lnTo>
                      <a:lnTo>
                        <a:pt x="5360" y="13248"/>
                      </a:lnTo>
                      <a:lnTo>
                        <a:pt x="6139" y="12900"/>
                      </a:lnTo>
                      <a:lnTo>
                        <a:pt x="6757" y="12552"/>
                      </a:lnTo>
                      <a:lnTo>
                        <a:pt x="6459" y="13132"/>
                      </a:lnTo>
                      <a:lnTo>
                        <a:pt x="6139" y="13642"/>
                      </a:lnTo>
                      <a:lnTo>
                        <a:pt x="5910" y="14199"/>
                      </a:lnTo>
                      <a:lnTo>
                        <a:pt x="5681" y="14663"/>
                      </a:lnTo>
                      <a:lnTo>
                        <a:pt x="5681" y="15150"/>
                      </a:lnTo>
                      <a:lnTo>
                        <a:pt x="5681" y="15730"/>
                      </a:lnTo>
                      <a:lnTo>
                        <a:pt x="5681" y="16241"/>
                      </a:lnTo>
                      <a:lnTo>
                        <a:pt x="5795" y="16913"/>
                      </a:lnTo>
                      <a:lnTo>
                        <a:pt x="5910" y="17586"/>
                      </a:lnTo>
                      <a:lnTo>
                        <a:pt x="5910" y="18213"/>
                      </a:lnTo>
                      <a:lnTo>
                        <a:pt x="5795" y="18885"/>
                      </a:lnTo>
                      <a:lnTo>
                        <a:pt x="5566" y="19396"/>
                      </a:lnTo>
                      <a:lnTo>
                        <a:pt x="5245" y="19976"/>
                      </a:lnTo>
                      <a:lnTo>
                        <a:pt x="4971" y="20370"/>
                      </a:lnTo>
                      <a:lnTo>
                        <a:pt x="4512" y="20811"/>
                      </a:lnTo>
                      <a:lnTo>
                        <a:pt x="4077" y="21043"/>
                      </a:lnTo>
                      <a:lnTo>
                        <a:pt x="5177" y="20927"/>
                      </a:lnTo>
                      <a:lnTo>
                        <a:pt x="6253" y="20486"/>
                      </a:lnTo>
                      <a:lnTo>
                        <a:pt x="7421" y="19976"/>
                      </a:lnTo>
                      <a:lnTo>
                        <a:pt x="8361" y="19187"/>
                      </a:lnTo>
                      <a:lnTo>
                        <a:pt x="8819" y="18769"/>
                      </a:lnTo>
                      <a:lnTo>
                        <a:pt x="9139" y="18213"/>
                      </a:lnTo>
                      <a:lnTo>
                        <a:pt x="9437" y="17772"/>
                      </a:lnTo>
                      <a:lnTo>
                        <a:pt x="9643" y="17261"/>
                      </a:lnTo>
                      <a:lnTo>
                        <a:pt x="9872" y="16681"/>
                      </a:lnTo>
                      <a:lnTo>
                        <a:pt x="9872" y="16171"/>
                      </a:lnTo>
                      <a:lnTo>
                        <a:pt x="9872" y="15614"/>
                      </a:lnTo>
                      <a:lnTo>
                        <a:pt x="9758" y="15057"/>
                      </a:lnTo>
                      <a:lnTo>
                        <a:pt x="10216" y="15498"/>
                      </a:lnTo>
                      <a:lnTo>
                        <a:pt x="10537" y="16241"/>
                      </a:lnTo>
                      <a:lnTo>
                        <a:pt x="10834" y="17145"/>
                      </a:lnTo>
                      <a:lnTo>
                        <a:pt x="11041" y="18213"/>
                      </a:lnTo>
                      <a:lnTo>
                        <a:pt x="11155" y="19187"/>
                      </a:lnTo>
                      <a:lnTo>
                        <a:pt x="11155" y="20185"/>
                      </a:lnTo>
                      <a:lnTo>
                        <a:pt x="11155" y="20579"/>
                      </a:lnTo>
                      <a:lnTo>
                        <a:pt x="11041" y="21043"/>
                      </a:lnTo>
                      <a:lnTo>
                        <a:pt x="10926" y="21391"/>
                      </a:lnTo>
                      <a:lnTo>
                        <a:pt x="10766" y="21600"/>
                      </a:lnTo>
                      <a:lnTo>
                        <a:pt x="11499" y="21484"/>
                      </a:lnTo>
                      <a:lnTo>
                        <a:pt x="12323" y="21043"/>
                      </a:lnTo>
                      <a:lnTo>
                        <a:pt x="13102" y="20370"/>
                      </a:lnTo>
                      <a:lnTo>
                        <a:pt x="13606" y="19628"/>
                      </a:lnTo>
                      <a:lnTo>
                        <a:pt x="13950" y="19071"/>
                      </a:lnTo>
                      <a:lnTo>
                        <a:pt x="14064" y="18677"/>
                      </a:lnTo>
                      <a:lnTo>
                        <a:pt x="14179" y="18097"/>
                      </a:lnTo>
                      <a:lnTo>
                        <a:pt x="14293" y="17586"/>
                      </a:lnTo>
                      <a:lnTo>
                        <a:pt x="14179" y="16913"/>
                      </a:lnTo>
                      <a:lnTo>
                        <a:pt x="14064" y="16241"/>
                      </a:lnTo>
                      <a:lnTo>
                        <a:pt x="13835" y="15614"/>
                      </a:lnTo>
                      <a:lnTo>
                        <a:pt x="13560" y="14872"/>
                      </a:lnTo>
                      <a:lnTo>
                        <a:pt x="13950" y="14941"/>
                      </a:lnTo>
                      <a:lnTo>
                        <a:pt x="14408" y="15150"/>
                      </a:lnTo>
                      <a:lnTo>
                        <a:pt x="14843" y="15266"/>
                      </a:lnTo>
                      <a:lnTo>
                        <a:pt x="15232" y="15614"/>
                      </a:lnTo>
                      <a:lnTo>
                        <a:pt x="15576" y="15846"/>
                      </a:lnTo>
                      <a:lnTo>
                        <a:pt x="15897" y="16171"/>
                      </a:lnTo>
                      <a:lnTo>
                        <a:pt x="16126" y="16473"/>
                      </a:lnTo>
                      <a:lnTo>
                        <a:pt x="16240" y="16913"/>
                      </a:lnTo>
                      <a:lnTo>
                        <a:pt x="16515" y="17261"/>
                      </a:lnTo>
                      <a:lnTo>
                        <a:pt x="17088" y="17586"/>
                      </a:lnTo>
                      <a:lnTo>
                        <a:pt x="17798" y="17865"/>
                      </a:lnTo>
                      <a:lnTo>
                        <a:pt x="18576" y="18097"/>
                      </a:lnTo>
                      <a:lnTo>
                        <a:pt x="19424" y="18213"/>
                      </a:lnTo>
                      <a:lnTo>
                        <a:pt x="20317" y="18213"/>
                      </a:lnTo>
                      <a:lnTo>
                        <a:pt x="21050" y="18213"/>
                      </a:lnTo>
                      <a:lnTo>
                        <a:pt x="21600" y="17865"/>
                      </a:lnTo>
                      <a:lnTo>
                        <a:pt x="21165" y="17656"/>
                      </a:lnTo>
                      <a:lnTo>
                        <a:pt x="20592" y="17470"/>
                      </a:lnTo>
                      <a:lnTo>
                        <a:pt x="20088" y="17029"/>
                      </a:lnTo>
                      <a:lnTo>
                        <a:pt x="19653" y="16681"/>
                      </a:lnTo>
                      <a:lnTo>
                        <a:pt x="19195" y="16241"/>
                      </a:lnTo>
                      <a:lnTo>
                        <a:pt x="18920" y="15962"/>
                      </a:lnTo>
                      <a:lnTo>
                        <a:pt x="18576" y="15498"/>
                      </a:lnTo>
                      <a:lnTo>
                        <a:pt x="18576" y="15057"/>
                      </a:lnTo>
                      <a:lnTo>
                        <a:pt x="18485" y="14756"/>
                      </a:lnTo>
                      <a:lnTo>
                        <a:pt x="18256" y="14199"/>
                      </a:lnTo>
                      <a:lnTo>
                        <a:pt x="17912" y="13526"/>
                      </a:lnTo>
                      <a:lnTo>
                        <a:pt x="17523" y="13016"/>
                      </a:lnTo>
                      <a:lnTo>
                        <a:pt x="16973" y="12436"/>
                      </a:lnTo>
                      <a:lnTo>
                        <a:pt x="16355" y="12041"/>
                      </a:lnTo>
                      <a:lnTo>
                        <a:pt x="16011" y="11832"/>
                      </a:lnTo>
                      <a:lnTo>
                        <a:pt x="15690" y="11716"/>
                      </a:lnTo>
                      <a:lnTo>
                        <a:pt x="15232" y="11716"/>
                      </a:lnTo>
                      <a:lnTo>
                        <a:pt x="14843" y="11716"/>
                      </a:lnTo>
                      <a:lnTo>
                        <a:pt x="15461" y="11252"/>
                      </a:lnTo>
                      <a:lnTo>
                        <a:pt x="16126" y="10858"/>
                      </a:lnTo>
                      <a:lnTo>
                        <a:pt x="16973" y="10649"/>
                      </a:lnTo>
                      <a:lnTo>
                        <a:pt x="17798" y="10417"/>
                      </a:lnTo>
                      <a:lnTo>
                        <a:pt x="18806" y="10301"/>
                      </a:lnTo>
                      <a:lnTo>
                        <a:pt x="19653" y="10301"/>
                      </a:lnTo>
                      <a:lnTo>
                        <a:pt x="20478" y="10417"/>
                      </a:lnTo>
                      <a:lnTo>
                        <a:pt x="21256" y="10533"/>
                      </a:lnTo>
                      <a:lnTo>
                        <a:pt x="20707" y="9837"/>
                      </a:lnTo>
                      <a:lnTo>
                        <a:pt x="19859" y="9234"/>
                      </a:lnTo>
                      <a:lnTo>
                        <a:pt x="18806" y="8538"/>
                      </a:lnTo>
                      <a:lnTo>
                        <a:pt x="17637" y="8144"/>
                      </a:lnTo>
                      <a:lnTo>
                        <a:pt x="16973" y="8027"/>
                      </a:lnTo>
                      <a:lnTo>
                        <a:pt x="16355" y="7935"/>
                      </a:lnTo>
                      <a:lnTo>
                        <a:pt x="15805" y="7935"/>
                      </a:lnTo>
                      <a:lnTo>
                        <a:pt x="15118" y="8027"/>
                      </a:lnTo>
                      <a:lnTo>
                        <a:pt x="14614" y="8144"/>
                      </a:lnTo>
                      <a:lnTo>
                        <a:pt x="14064" y="8422"/>
                      </a:lnTo>
                      <a:lnTo>
                        <a:pt x="13606" y="8886"/>
                      </a:lnTo>
                      <a:lnTo>
                        <a:pt x="13217" y="9327"/>
                      </a:lnTo>
                      <a:lnTo>
                        <a:pt x="13606" y="8538"/>
                      </a:lnTo>
                      <a:lnTo>
                        <a:pt x="13950" y="7935"/>
                      </a:lnTo>
                      <a:lnTo>
                        <a:pt x="14293" y="7123"/>
                      </a:lnTo>
                      <a:lnTo>
                        <a:pt x="14499" y="6519"/>
                      </a:lnTo>
                      <a:lnTo>
                        <a:pt x="14614" y="5823"/>
                      </a:lnTo>
                      <a:lnTo>
                        <a:pt x="14614" y="5220"/>
                      </a:lnTo>
                      <a:lnTo>
                        <a:pt x="14408" y="4524"/>
                      </a:lnTo>
                      <a:lnTo>
                        <a:pt x="14064" y="3898"/>
                      </a:lnTo>
                      <a:lnTo>
                        <a:pt x="13606" y="3225"/>
                      </a:lnTo>
                      <a:lnTo>
                        <a:pt x="13331" y="2598"/>
                      </a:lnTo>
                      <a:lnTo>
                        <a:pt x="13102" y="2042"/>
                      </a:lnTo>
                      <a:lnTo>
                        <a:pt x="12896" y="1485"/>
                      </a:lnTo>
                      <a:lnTo>
                        <a:pt x="12781" y="1090"/>
                      </a:lnTo>
                      <a:lnTo>
                        <a:pt x="12667" y="626"/>
                      </a:lnTo>
                      <a:lnTo>
                        <a:pt x="12667" y="278"/>
                      </a:lnTo>
                      <a:lnTo>
                        <a:pt x="12667" y="0"/>
                      </a:lnTo>
                      <a:lnTo>
                        <a:pt x="12163" y="394"/>
                      </a:lnTo>
                      <a:lnTo>
                        <a:pt x="11728" y="974"/>
                      </a:lnTo>
                      <a:lnTo>
                        <a:pt x="11155" y="1601"/>
                      </a:lnTo>
                      <a:lnTo>
                        <a:pt x="10766" y="2390"/>
                      </a:lnTo>
                      <a:lnTo>
                        <a:pt x="10330" y="3109"/>
                      </a:lnTo>
                      <a:lnTo>
                        <a:pt x="10101" y="3898"/>
                      </a:lnTo>
                      <a:lnTo>
                        <a:pt x="9987" y="4524"/>
                      </a:lnTo>
                      <a:lnTo>
                        <a:pt x="10101" y="5220"/>
                      </a:lnTo>
                      <a:lnTo>
                        <a:pt x="10216" y="5823"/>
                      </a:lnTo>
                      <a:lnTo>
                        <a:pt x="10330" y="6403"/>
                      </a:lnTo>
                      <a:lnTo>
                        <a:pt x="10330" y="6914"/>
                      </a:lnTo>
                      <a:lnTo>
                        <a:pt x="10216" y="7471"/>
                      </a:lnTo>
                      <a:lnTo>
                        <a:pt x="10101" y="7935"/>
                      </a:lnTo>
                      <a:lnTo>
                        <a:pt x="9872" y="8329"/>
                      </a:lnTo>
                      <a:lnTo>
                        <a:pt x="9643" y="8654"/>
                      </a:lnTo>
                      <a:lnTo>
                        <a:pt x="9368" y="9002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64" name="Freeform 742"/>
              <p:cNvSpPr/>
              <p:nvPr/>
            </p:nvSpPr>
            <p:spPr>
              <a:xfrm rot="664800">
                <a:off x="4268520" y="5896080"/>
                <a:ext cx="212760" cy="117720"/>
              </a:xfrm>
              <a:custGeom>
                <a:avLst/>
                <a:gdLst>
                  <a:gd name="textAreaLeft" fmla="*/ 0 w 212760"/>
                  <a:gd name="textAreaRight" fmla="*/ 213120 w 212760"/>
                  <a:gd name="textAreaTop" fmla="*/ 0 h 117720"/>
                  <a:gd name="textAreaBottom" fmla="*/ 118080 h 117720"/>
                </a:gdLst>
                <a:ahLst/>
                <a:rect l="textAreaLeft" t="textAreaTop" r="textAreaRight" b="textAreaBottom"/>
                <a:pathLst>
                  <a:path w="507" h="352">
                    <a:moveTo>
                      <a:pt x="0" y="240"/>
                    </a:moveTo>
                    <a:cubicBezTo>
                      <a:pt x="56" y="251"/>
                      <a:pt x="253" y="352"/>
                      <a:pt x="336" y="320"/>
                    </a:cubicBezTo>
                    <a:cubicBezTo>
                      <a:pt x="419" y="288"/>
                      <a:pt x="485" y="96"/>
                      <a:pt x="496" y="48"/>
                    </a:cubicBezTo>
                    <a:cubicBezTo>
                      <a:pt x="507" y="0"/>
                      <a:pt x="435" y="35"/>
                      <a:pt x="400" y="32"/>
                    </a:cubicBezTo>
                    <a:cubicBezTo>
                      <a:pt x="365" y="29"/>
                      <a:pt x="339" y="24"/>
                      <a:pt x="288" y="32"/>
                    </a:cubicBezTo>
                    <a:cubicBezTo>
                      <a:pt x="237" y="40"/>
                      <a:pt x="136" y="56"/>
                      <a:pt x="96" y="80"/>
                    </a:cubicBezTo>
                    <a:cubicBezTo>
                      <a:pt x="56" y="104"/>
                      <a:pt x="64" y="152"/>
                      <a:pt x="48" y="176"/>
                    </a:cubicBezTo>
                    <a:cubicBezTo>
                      <a:pt x="32" y="200"/>
                      <a:pt x="16" y="212"/>
                      <a:pt x="0" y="224"/>
                    </a:cubicBezTo>
                  </a:path>
                </a:pathLst>
              </a:custGeom>
              <a:solidFill>
                <a:srgbClr val="33cc33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Freeform 743"/>
              <p:cNvSpPr/>
              <p:nvPr/>
            </p:nvSpPr>
            <p:spPr>
              <a:xfrm rot="664800">
                <a:off x="4393080" y="6093720"/>
                <a:ext cx="213120" cy="117720"/>
              </a:xfrm>
              <a:custGeom>
                <a:avLst/>
                <a:gdLst>
                  <a:gd name="textAreaLeft" fmla="*/ 0 w 213120"/>
                  <a:gd name="textAreaRight" fmla="*/ 213480 w 213120"/>
                  <a:gd name="textAreaTop" fmla="*/ 0 h 117720"/>
                  <a:gd name="textAreaBottom" fmla="*/ 118080 h 117720"/>
                </a:gdLst>
                <a:ahLst/>
                <a:rect l="textAreaLeft" t="textAreaTop" r="textAreaRight" b="textAreaBottom"/>
                <a:pathLst>
                  <a:path w="507" h="352">
                    <a:moveTo>
                      <a:pt x="0" y="240"/>
                    </a:moveTo>
                    <a:cubicBezTo>
                      <a:pt x="56" y="251"/>
                      <a:pt x="253" y="352"/>
                      <a:pt x="336" y="320"/>
                    </a:cubicBezTo>
                    <a:cubicBezTo>
                      <a:pt x="419" y="288"/>
                      <a:pt x="485" y="96"/>
                      <a:pt x="496" y="48"/>
                    </a:cubicBezTo>
                    <a:cubicBezTo>
                      <a:pt x="507" y="0"/>
                      <a:pt x="435" y="35"/>
                      <a:pt x="400" y="32"/>
                    </a:cubicBezTo>
                    <a:cubicBezTo>
                      <a:pt x="365" y="29"/>
                      <a:pt x="339" y="24"/>
                      <a:pt x="288" y="32"/>
                    </a:cubicBezTo>
                    <a:cubicBezTo>
                      <a:pt x="237" y="40"/>
                      <a:pt x="136" y="56"/>
                      <a:pt x="96" y="80"/>
                    </a:cubicBezTo>
                    <a:cubicBezTo>
                      <a:pt x="56" y="104"/>
                      <a:pt x="64" y="152"/>
                      <a:pt x="48" y="176"/>
                    </a:cubicBezTo>
                    <a:cubicBezTo>
                      <a:pt x="32" y="200"/>
                      <a:pt x="16" y="212"/>
                      <a:pt x="0" y="224"/>
                    </a:cubicBezTo>
                  </a:path>
                </a:pathLst>
              </a:custGeom>
              <a:solidFill>
                <a:srgbClr val="33cc33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Freeform 744"/>
              <p:cNvSpPr/>
              <p:nvPr/>
            </p:nvSpPr>
            <p:spPr>
              <a:xfrm rot="7140000">
                <a:off x="4512600" y="5952960"/>
                <a:ext cx="203760" cy="123120"/>
              </a:xfrm>
              <a:custGeom>
                <a:avLst/>
                <a:gdLst>
                  <a:gd name="textAreaLeft" fmla="*/ 0 w 203760"/>
                  <a:gd name="textAreaRight" fmla="*/ 204120 w 203760"/>
                  <a:gd name="textAreaTop" fmla="*/ 0 h 123120"/>
                  <a:gd name="textAreaBottom" fmla="*/ 123480 h 123120"/>
                </a:gdLst>
                <a:ahLst/>
                <a:rect l="textAreaLeft" t="textAreaTop" r="textAreaRight" b="textAreaBottom"/>
                <a:pathLst>
                  <a:path w="507" h="352">
                    <a:moveTo>
                      <a:pt x="0" y="240"/>
                    </a:moveTo>
                    <a:cubicBezTo>
                      <a:pt x="56" y="251"/>
                      <a:pt x="253" y="352"/>
                      <a:pt x="336" y="320"/>
                    </a:cubicBezTo>
                    <a:cubicBezTo>
                      <a:pt x="419" y="288"/>
                      <a:pt x="485" y="96"/>
                      <a:pt x="496" y="48"/>
                    </a:cubicBezTo>
                    <a:cubicBezTo>
                      <a:pt x="507" y="0"/>
                      <a:pt x="435" y="35"/>
                      <a:pt x="400" y="32"/>
                    </a:cubicBezTo>
                    <a:cubicBezTo>
                      <a:pt x="365" y="29"/>
                      <a:pt x="339" y="24"/>
                      <a:pt x="288" y="32"/>
                    </a:cubicBezTo>
                    <a:cubicBezTo>
                      <a:pt x="237" y="40"/>
                      <a:pt x="136" y="56"/>
                      <a:pt x="96" y="80"/>
                    </a:cubicBezTo>
                    <a:cubicBezTo>
                      <a:pt x="56" y="104"/>
                      <a:pt x="64" y="152"/>
                      <a:pt x="48" y="176"/>
                    </a:cubicBezTo>
                    <a:cubicBezTo>
                      <a:pt x="32" y="200"/>
                      <a:pt x="16" y="212"/>
                      <a:pt x="0" y="224"/>
                    </a:cubicBezTo>
                  </a:path>
                </a:pathLst>
              </a:custGeom>
              <a:solidFill>
                <a:srgbClr val="33cc33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7" name="Group 745"/>
          <p:cNvGrpSpPr/>
          <p:nvPr/>
        </p:nvGrpSpPr>
        <p:grpSpPr>
          <a:xfrm>
            <a:off x="3200400" y="5545080"/>
            <a:ext cx="2176560" cy="1312920"/>
            <a:chOff x="3200400" y="5545080"/>
            <a:chExt cx="2176560" cy="1312920"/>
          </a:xfrm>
        </p:grpSpPr>
        <p:sp>
          <p:nvSpPr>
            <p:cNvPr id="768" name="Freeform 746"/>
            <p:cNvSpPr/>
            <p:nvPr/>
          </p:nvSpPr>
          <p:spPr>
            <a:xfrm>
              <a:off x="3200400" y="5545080"/>
              <a:ext cx="1875240" cy="1312920"/>
            </a:xfrm>
            <a:custGeom>
              <a:avLst/>
              <a:gdLst>
                <a:gd name="textAreaLeft" fmla="*/ 0 w 1875240"/>
                <a:gd name="textAreaRight" fmla="*/ 1875600 w 1875240"/>
                <a:gd name="textAreaTop" fmla="*/ 0 h 1312920"/>
                <a:gd name="textAreaBottom" fmla="*/ 1313280 h 1312920"/>
              </a:gdLst>
              <a:ahLst/>
              <a:rect l="textAreaLeft" t="textAreaTop" r="textAreaRight" b="textAreaBottom"/>
              <a:pathLst>
                <a:path w="1317" h="966">
                  <a:moveTo>
                    <a:pt x="19" y="129"/>
                  </a:moveTo>
                  <a:cubicBezTo>
                    <a:pt x="38" y="220"/>
                    <a:pt x="89" y="474"/>
                    <a:pt x="134" y="594"/>
                  </a:cubicBezTo>
                  <a:cubicBezTo>
                    <a:pt x="179" y="714"/>
                    <a:pt x="240" y="795"/>
                    <a:pt x="290" y="851"/>
                  </a:cubicBezTo>
                  <a:cubicBezTo>
                    <a:pt x="340" y="907"/>
                    <a:pt x="362" y="917"/>
                    <a:pt x="434" y="930"/>
                  </a:cubicBezTo>
                  <a:cubicBezTo>
                    <a:pt x="506" y="943"/>
                    <a:pt x="632" y="931"/>
                    <a:pt x="723" y="930"/>
                  </a:cubicBezTo>
                  <a:cubicBezTo>
                    <a:pt x="813" y="929"/>
                    <a:pt x="899" y="966"/>
                    <a:pt x="975" y="923"/>
                  </a:cubicBezTo>
                  <a:cubicBezTo>
                    <a:pt x="1051" y="880"/>
                    <a:pt x="1131" y="761"/>
                    <a:pt x="1179" y="673"/>
                  </a:cubicBezTo>
                  <a:cubicBezTo>
                    <a:pt x="1227" y="585"/>
                    <a:pt x="1241" y="499"/>
                    <a:pt x="1263" y="397"/>
                  </a:cubicBezTo>
                  <a:cubicBezTo>
                    <a:pt x="1285" y="294"/>
                    <a:pt x="1305" y="108"/>
                    <a:pt x="1311" y="54"/>
                  </a:cubicBezTo>
                  <a:cubicBezTo>
                    <a:pt x="1317" y="0"/>
                    <a:pt x="1305" y="66"/>
                    <a:pt x="1297" y="75"/>
                  </a:cubicBezTo>
                  <a:cubicBezTo>
                    <a:pt x="1289" y="84"/>
                    <a:pt x="1288" y="94"/>
                    <a:pt x="1261" y="105"/>
                  </a:cubicBezTo>
                  <a:cubicBezTo>
                    <a:pt x="1234" y="116"/>
                    <a:pt x="1203" y="128"/>
                    <a:pt x="1135" y="141"/>
                  </a:cubicBezTo>
                  <a:cubicBezTo>
                    <a:pt x="1067" y="154"/>
                    <a:pt x="949" y="176"/>
                    <a:pt x="853" y="183"/>
                  </a:cubicBezTo>
                  <a:cubicBezTo>
                    <a:pt x="757" y="190"/>
                    <a:pt x="661" y="189"/>
                    <a:pt x="559" y="183"/>
                  </a:cubicBezTo>
                  <a:cubicBezTo>
                    <a:pt x="457" y="177"/>
                    <a:pt x="318" y="159"/>
                    <a:pt x="241" y="147"/>
                  </a:cubicBezTo>
                  <a:cubicBezTo>
                    <a:pt x="164" y="135"/>
                    <a:pt x="131" y="121"/>
                    <a:pt x="97" y="111"/>
                  </a:cubicBezTo>
                  <a:cubicBezTo>
                    <a:pt x="63" y="101"/>
                    <a:pt x="50" y="98"/>
                    <a:pt x="37" y="87"/>
                  </a:cubicBezTo>
                  <a:cubicBezTo>
                    <a:pt x="24" y="76"/>
                    <a:pt x="22" y="38"/>
                    <a:pt x="19" y="45"/>
                  </a:cubicBezTo>
                  <a:cubicBezTo>
                    <a:pt x="16" y="52"/>
                    <a:pt x="0" y="38"/>
                    <a:pt x="19" y="129"/>
                  </a:cubicBezTo>
                  <a:close/>
                </a:path>
              </a:pathLst>
            </a:custGeom>
            <a:gradFill rotWithShape="0">
              <a:gsLst>
                <a:gs pos="0">
                  <a:srgbClr val="00ffff"/>
                </a:gs>
                <a:gs pos="50000">
                  <a:srgbClr val="ffffff"/>
                </a:gs>
                <a:gs pos="100000">
                  <a:srgbClr val="00ffff"/>
                </a:gs>
              </a:gsLst>
              <a:lin ang="189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Freeform 747"/>
            <p:cNvSpPr/>
            <p:nvPr/>
          </p:nvSpPr>
          <p:spPr>
            <a:xfrm rot="850200">
              <a:off x="4767840" y="5744520"/>
              <a:ext cx="505080" cy="91188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911880"/>
                <a:gd name="textAreaBottom" fmla="*/ 912240 h 911880"/>
              </a:gdLst>
              <a:ahLst/>
              <a:rect l="textAreaLeft" t="textAreaTop" r="textAreaRight" b="textAreaBottom"/>
              <a:pathLst>
                <a:path w="377" h="623">
                  <a:moveTo>
                    <a:pt x="102" y="270"/>
                  </a:moveTo>
                  <a:cubicBezTo>
                    <a:pt x="102" y="262"/>
                    <a:pt x="101" y="259"/>
                    <a:pt x="103" y="248"/>
                  </a:cubicBezTo>
                  <a:cubicBezTo>
                    <a:pt x="105" y="237"/>
                    <a:pt x="105" y="219"/>
                    <a:pt x="112" y="203"/>
                  </a:cubicBezTo>
                  <a:cubicBezTo>
                    <a:pt x="119" y="187"/>
                    <a:pt x="132" y="167"/>
                    <a:pt x="145" y="149"/>
                  </a:cubicBezTo>
                  <a:cubicBezTo>
                    <a:pt x="158" y="131"/>
                    <a:pt x="169" y="103"/>
                    <a:pt x="190" y="92"/>
                  </a:cubicBezTo>
                  <a:cubicBezTo>
                    <a:pt x="211" y="81"/>
                    <a:pt x="253" y="72"/>
                    <a:pt x="271" y="83"/>
                  </a:cubicBezTo>
                  <a:cubicBezTo>
                    <a:pt x="289" y="94"/>
                    <a:pt x="295" y="131"/>
                    <a:pt x="298" y="158"/>
                  </a:cubicBezTo>
                  <a:cubicBezTo>
                    <a:pt x="301" y="185"/>
                    <a:pt x="299" y="216"/>
                    <a:pt x="289" y="245"/>
                  </a:cubicBezTo>
                  <a:cubicBezTo>
                    <a:pt x="279" y="274"/>
                    <a:pt x="259" y="308"/>
                    <a:pt x="235" y="332"/>
                  </a:cubicBezTo>
                  <a:cubicBezTo>
                    <a:pt x="211" y="356"/>
                    <a:pt x="171" y="374"/>
                    <a:pt x="145" y="389"/>
                  </a:cubicBezTo>
                  <a:cubicBezTo>
                    <a:pt x="119" y="404"/>
                    <a:pt x="96" y="410"/>
                    <a:pt x="76" y="425"/>
                  </a:cubicBezTo>
                  <a:cubicBezTo>
                    <a:pt x="56" y="440"/>
                    <a:pt x="33" y="458"/>
                    <a:pt x="22" y="479"/>
                  </a:cubicBezTo>
                  <a:cubicBezTo>
                    <a:pt x="11" y="500"/>
                    <a:pt x="9" y="531"/>
                    <a:pt x="7" y="554"/>
                  </a:cubicBezTo>
                  <a:cubicBezTo>
                    <a:pt x="5" y="577"/>
                    <a:pt x="0" y="615"/>
                    <a:pt x="7" y="619"/>
                  </a:cubicBezTo>
                  <a:cubicBezTo>
                    <a:pt x="13" y="623"/>
                    <a:pt x="36" y="601"/>
                    <a:pt x="46" y="581"/>
                  </a:cubicBezTo>
                  <a:cubicBezTo>
                    <a:pt x="56" y="560"/>
                    <a:pt x="47" y="520"/>
                    <a:pt x="71" y="497"/>
                  </a:cubicBezTo>
                  <a:cubicBezTo>
                    <a:pt x="95" y="474"/>
                    <a:pt x="151" y="468"/>
                    <a:pt x="192" y="444"/>
                  </a:cubicBezTo>
                  <a:cubicBezTo>
                    <a:pt x="233" y="420"/>
                    <a:pt x="287" y="401"/>
                    <a:pt x="318" y="354"/>
                  </a:cubicBezTo>
                  <a:cubicBezTo>
                    <a:pt x="349" y="307"/>
                    <a:pt x="373" y="220"/>
                    <a:pt x="375" y="167"/>
                  </a:cubicBezTo>
                  <a:cubicBezTo>
                    <a:pt x="377" y="113"/>
                    <a:pt x="352" y="59"/>
                    <a:pt x="329" y="31"/>
                  </a:cubicBezTo>
                  <a:cubicBezTo>
                    <a:pt x="307" y="3"/>
                    <a:pt x="272" y="0"/>
                    <a:pt x="242" y="0"/>
                  </a:cubicBezTo>
                  <a:cubicBezTo>
                    <a:pt x="212" y="0"/>
                    <a:pt x="173" y="18"/>
                    <a:pt x="147" y="34"/>
                  </a:cubicBezTo>
                  <a:cubicBezTo>
                    <a:pt x="121" y="51"/>
                    <a:pt x="100" y="69"/>
                    <a:pt x="85" y="102"/>
                  </a:cubicBezTo>
                  <a:cubicBezTo>
                    <a:pt x="70" y="136"/>
                    <a:pt x="55" y="198"/>
                    <a:pt x="54" y="230"/>
                  </a:cubicBezTo>
                  <a:cubicBezTo>
                    <a:pt x="53" y="262"/>
                    <a:pt x="74" y="285"/>
                    <a:pt x="82" y="295"/>
                  </a:cubicBezTo>
                  <a:cubicBezTo>
                    <a:pt x="91" y="305"/>
                    <a:pt x="102" y="299"/>
                    <a:pt x="105" y="295"/>
                  </a:cubicBezTo>
                  <a:cubicBezTo>
                    <a:pt x="108" y="291"/>
                    <a:pt x="104" y="278"/>
                    <a:pt x="102" y="27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00ffff"/>
                </a:gs>
                <a:gs pos="100000">
                  <a:srgbClr val="ffffff"/>
                </a:gs>
              </a:gsLst>
              <a:lin ang="18048000"/>
            </a:gra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0" name="Group 748"/>
            <p:cNvGrpSpPr/>
            <p:nvPr/>
          </p:nvGrpSpPr>
          <p:grpSpPr>
            <a:xfrm>
              <a:off x="3571200" y="5794920"/>
              <a:ext cx="1028880" cy="954720"/>
              <a:chOff x="3571200" y="5794920"/>
              <a:chExt cx="1028880" cy="954720"/>
            </a:xfrm>
          </p:grpSpPr>
          <p:sp>
            <p:nvSpPr>
              <p:cNvPr id="771" name="Freeform 749"/>
              <p:cNvSpPr/>
              <p:nvPr/>
            </p:nvSpPr>
            <p:spPr>
              <a:xfrm rot="14356200">
                <a:off x="3761640" y="6104160"/>
                <a:ext cx="348840" cy="304200"/>
              </a:xfrm>
              <a:custGeom>
                <a:avLst/>
                <a:gdLst>
                  <a:gd name="textAreaLeft" fmla="*/ 0 w 348840"/>
                  <a:gd name="textAreaRight" fmla="*/ 349200 w 34884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507" h="352">
                    <a:moveTo>
                      <a:pt x="0" y="240"/>
                    </a:moveTo>
                    <a:cubicBezTo>
                      <a:pt x="56" y="251"/>
                      <a:pt x="253" y="352"/>
                      <a:pt x="336" y="320"/>
                    </a:cubicBezTo>
                    <a:cubicBezTo>
                      <a:pt x="419" y="288"/>
                      <a:pt x="485" y="96"/>
                      <a:pt x="496" y="48"/>
                    </a:cubicBezTo>
                    <a:cubicBezTo>
                      <a:pt x="507" y="0"/>
                      <a:pt x="435" y="35"/>
                      <a:pt x="400" y="32"/>
                    </a:cubicBezTo>
                    <a:cubicBezTo>
                      <a:pt x="365" y="29"/>
                      <a:pt x="339" y="24"/>
                      <a:pt x="288" y="32"/>
                    </a:cubicBezTo>
                    <a:cubicBezTo>
                      <a:pt x="237" y="40"/>
                      <a:pt x="136" y="56"/>
                      <a:pt x="96" y="80"/>
                    </a:cubicBezTo>
                    <a:cubicBezTo>
                      <a:pt x="56" y="104"/>
                      <a:pt x="64" y="152"/>
                      <a:pt x="48" y="176"/>
                    </a:cubicBezTo>
                    <a:cubicBezTo>
                      <a:pt x="32" y="200"/>
                      <a:pt x="16" y="212"/>
                      <a:pt x="0" y="224"/>
                    </a:cubicBezTo>
                  </a:path>
                </a:pathLst>
              </a:custGeom>
              <a:solidFill>
                <a:srgbClr val="008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Freeform 750"/>
              <p:cNvSpPr/>
              <p:nvPr/>
            </p:nvSpPr>
            <p:spPr>
              <a:xfrm rot="14356200">
                <a:off x="3685680" y="6369480"/>
                <a:ext cx="348840" cy="304560"/>
              </a:xfrm>
              <a:custGeom>
                <a:avLst/>
                <a:gdLst>
                  <a:gd name="textAreaLeft" fmla="*/ 0 w 348840"/>
                  <a:gd name="textAreaRight" fmla="*/ 349200 w 348840"/>
                  <a:gd name="textAreaTop" fmla="*/ 0 h 304560"/>
                  <a:gd name="textAreaBottom" fmla="*/ 304920 h 304560"/>
                </a:gdLst>
                <a:ahLst/>
                <a:rect l="textAreaLeft" t="textAreaTop" r="textAreaRight" b="textAreaBottom"/>
                <a:pathLst>
                  <a:path w="507" h="352">
                    <a:moveTo>
                      <a:pt x="0" y="240"/>
                    </a:moveTo>
                    <a:cubicBezTo>
                      <a:pt x="56" y="251"/>
                      <a:pt x="253" y="352"/>
                      <a:pt x="336" y="320"/>
                    </a:cubicBezTo>
                    <a:cubicBezTo>
                      <a:pt x="419" y="288"/>
                      <a:pt x="485" y="96"/>
                      <a:pt x="496" y="48"/>
                    </a:cubicBezTo>
                    <a:cubicBezTo>
                      <a:pt x="507" y="0"/>
                      <a:pt x="435" y="35"/>
                      <a:pt x="400" y="32"/>
                    </a:cubicBezTo>
                    <a:cubicBezTo>
                      <a:pt x="365" y="29"/>
                      <a:pt x="339" y="24"/>
                      <a:pt x="288" y="32"/>
                    </a:cubicBezTo>
                    <a:cubicBezTo>
                      <a:pt x="237" y="40"/>
                      <a:pt x="136" y="56"/>
                      <a:pt x="96" y="80"/>
                    </a:cubicBezTo>
                    <a:cubicBezTo>
                      <a:pt x="56" y="104"/>
                      <a:pt x="64" y="152"/>
                      <a:pt x="48" y="176"/>
                    </a:cubicBezTo>
                    <a:cubicBezTo>
                      <a:pt x="32" y="200"/>
                      <a:pt x="16" y="212"/>
                      <a:pt x="0" y="224"/>
                    </a:cubicBezTo>
                  </a:path>
                </a:pathLst>
              </a:custGeom>
              <a:solidFill>
                <a:srgbClr val="008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Freeform 751"/>
              <p:cNvSpPr/>
              <p:nvPr/>
            </p:nvSpPr>
            <p:spPr>
              <a:xfrm rot="20674800">
                <a:off x="4023720" y="5936040"/>
                <a:ext cx="434880" cy="317520"/>
              </a:xfrm>
              <a:custGeom>
                <a:avLst/>
                <a:gdLst>
                  <a:gd name="textAreaLeft" fmla="*/ 0 w 434880"/>
                  <a:gd name="textAreaRight" fmla="*/ 435240 w 434880"/>
                  <a:gd name="textAreaTop" fmla="*/ 0 h 317520"/>
                  <a:gd name="textAreaBottom" fmla="*/ 317520 h 317520"/>
                </a:gdLst>
                <a:ahLst/>
                <a:rect l="textAreaLeft" t="textAreaTop" r="textAreaRight" b="textAreaBottom"/>
                <a:pathLst>
                  <a:path w="507" h="352">
                    <a:moveTo>
                      <a:pt x="0" y="240"/>
                    </a:moveTo>
                    <a:cubicBezTo>
                      <a:pt x="56" y="251"/>
                      <a:pt x="253" y="352"/>
                      <a:pt x="336" y="320"/>
                    </a:cubicBezTo>
                    <a:cubicBezTo>
                      <a:pt x="419" y="288"/>
                      <a:pt x="485" y="96"/>
                      <a:pt x="496" y="48"/>
                    </a:cubicBezTo>
                    <a:cubicBezTo>
                      <a:pt x="507" y="0"/>
                      <a:pt x="435" y="35"/>
                      <a:pt x="400" y="32"/>
                    </a:cubicBezTo>
                    <a:cubicBezTo>
                      <a:pt x="365" y="29"/>
                      <a:pt x="339" y="24"/>
                      <a:pt x="288" y="32"/>
                    </a:cubicBezTo>
                    <a:cubicBezTo>
                      <a:pt x="237" y="40"/>
                      <a:pt x="136" y="56"/>
                      <a:pt x="96" y="80"/>
                    </a:cubicBezTo>
                    <a:cubicBezTo>
                      <a:pt x="56" y="104"/>
                      <a:pt x="64" y="152"/>
                      <a:pt x="48" y="176"/>
                    </a:cubicBezTo>
                    <a:cubicBezTo>
                      <a:pt x="32" y="200"/>
                      <a:pt x="16" y="212"/>
                      <a:pt x="0" y="224"/>
                    </a:cubicBezTo>
                  </a:path>
                </a:pathLst>
              </a:custGeom>
              <a:solidFill>
                <a:srgbClr val="33cc33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Freeform 752"/>
              <p:cNvSpPr/>
              <p:nvPr/>
            </p:nvSpPr>
            <p:spPr>
              <a:xfrm rot="3220200">
                <a:off x="3601080" y="5915520"/>
                <a:ext cx="453600" cy="304200"/>
              </a:xfrm>
              <a:custGeom>
                <a:avLst/>
                <a:gdLst>
                  <a:gd name="textAreaLeft" fmla="*/ 0 w 453600"/>
                  <a:gd name="textAreaRight" fmla="*/ 453960 w 45360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507" h="352">
                    <a:moveTo>
                      <a:pt x="0" y="240"/>
                    </a:moveTo>
                    <a:cubicBezTo>
                      <a:pt x="56" y="251"/>
                      <a:pt x="253" y="352"/>
                      <a:pt x="336" y="320"/>
                    </a:cubicBezTo>
                    <a:cubicBezTo>
                      <a:pt x="419" y="288"/>
                      <a:pt x="485" y="96"/>
                      <a:pt x="496" y="48"/>
                    </a:cubicBezTo>
                    <a:cubicBezTo>
                      <a:pt x="507" y="0"/>
                      <a:pt x="435" y="35"/>
                      <a:pt x="400" y="32"/>
                    </a:cubicBezTo>
                    <a:cubicBezTo>
                      <a:pt x="365" y="29"/>
                      <a:pt x="339" y="24"/>
                      <a:pt x="288" y="32"/>
                    </a:cubicBezTo>
                    <a:cubicBezTo>
                      <a:pt x="237" y="40"/>
                      <a:pt x="136" y="56"/>
                      <a:pt x="96" y="80"/>
                    </a:cubicBezTo>
                    <a:cubicBezTo>
                      <a:pt x="56" y="104"/>
                      <a:pt x="64" y="152"/>
                      <a:pt x="48" y="176"/>
                    </a:cubicBezTo>
                    <a:cubicBezTo>
                      <a:pt x="32" y="200"/>
                      <a:pt x="16" y="212"/>
                      <a:pt x="0" y="224"/>
                    </a:cubicBezTo>
                  </a:path>
                </a:pathLst>
              </a:custGeom>
              <a:solidFill>
                <a:srgbClr val="33cc33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75" name="Group 753"/>
              <p:cNvGrpSpPr/>
              <p:nvPr/>
            </p:nvGrpSpPr>
            <p:grpSpPr>
              <a:xfrm>
                <a:off x="4214520" y="6444360"/>
                <a:ext cx="233640" cy="286920"/>
                <a:chOff x="4214520" y="6444360"/>
                <a:chExt cx="233640" cy="286920"/>
              </a:xfrm>
            </p:grpSpPr>
            <p:grpSp>
              <p:nvGrpSpPr>
                <p:cNvPr id="776" name="Group 754"/>
                <p:cNvGrpSpPr/>
                <p:nvPr/>
              </p:nvGrpSpPr>
              <p:grpSpPr>
                <a:xfrm>
                  <a:off x="4214520" y="6498720"/>
                  <a:ext cx="233640" cy="232560"/>
                  <a:chOff x="4214520" y="6498720"/>
                  <a:chExt cx="233640" cy="232560"/>
                </a:xfrm>
              </p:grpSpPr>
              <p:sp>
                <p:nvSpPr>
                  <p:cNvPr id="777" name="Freeform 755"/>
                  <p:cNvSpPr/>
                  <p:nvPr/>
                </p:nvSpPr>
                <p:spPr>
                  <a:xfrm rot="11068800">
                    <a:off x="4342680" y="6511680"/>
                    <a:ext cx="96840" cy="216000"/>
                  </a:xfrm>
                  <a:custGeom>
                    <a:avLst/>
                    <a:gdLst>
                      <a:gd name="textAreaLeft" fmla="*/ 0 w 96840"/>
                      <a:gd name="textAreaRight" fmla="*/ 97200 w 96840"/>
                      <a:gd name="textAreaTop" fmla="*/ 0 h 216000"/>
                      <a:gd name="textAreaBottom" fmla="*/ 216360 h 216000"/>
                    </a:gdLst>
                    <a:ahLst/>
                    <a:rect l="textAreaLeft" t="textAreaTop" r="textAreaRight" b="textAreaBottom"/>
                    <a:pathLst>
                      <a:path w="296" h="552">
                        <a:moveTo>
                          <a:pt x="296" y="528"/>
                        </a:moveTo>
                        <a:cubicBezTo>
                          <a:pt x="224" y="540"/>
                          <a:pt x="152" y="552"/>
                          <a:pt x="104" y="528"/>
                        </a:cubicBezTo>
                        <a:cubicBezTo>
                          <a:pt x="56" y="504"/>
                          <a:pt x="16" y="440"/>
                          <a:pt x="8" y="384"/>
                        </a:cubicBezTo>
                        <a:cubicBezTo>
                          <a:pt x="0" y="328"/>
                          <a:pt x="24" y="248"/>
                          <a:pt x="56" y="192"/>
                        </a:cubicBezTo>
                        <a:cubicBezTo>
                          <a:pt x="88" y="136"/>
                          <a:pt x="160" y="80"/>
                          <a:pt x="200" y="48"/>
                        </a:cubicBezTo>
                        <a:cubicBezTo>
                          <a:pt x="240" y="16"/>
                          <a:pt x="268" y="8"/>
                          <a:pt x="296" y="0"/>
                        </a:cubicBezTo>
                      </a:path>
                    </a:pathLst>
                  </a:custGeom>
                  <a:solidFill>
                    <a:srgbClr val="ff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8" name="Freeform 756"/>
                  <p:cNvSpPr/>
                  <p:nvPr/>
                </p:nvSpPr>
                <p:spPr>
                  <a:xfrm flipH="1" rot="11068200">
                    <a:off x="4222800" y="6503040"/>
                    <a:ext cx="123120" cy="216000"/>
                  </a:xfrm>
                  <a:custGeom>
                    <a:avLst/>
                    <a:gdLst>
                      <a:gd name="textAreaLeft" fmla="*/ 360 w 123120"/>
                      <a:gd name="textAreaRight" fmla="*/ 123840 w 123120"/>
                      <a:gd name="textAreaTop" fmla="*/ 0 h 216000"/>
                      <a:gd name="textAreaBottom" fmla="*/ 216360 h 216000"/>
                    </a:gdLst>
                    <a:ahLst/>
                    <a:rect l="textAreaLeft" t="textAreaTop" r="textAreaRight" b="textAreaBottom"/>
                    <a:pathLst>
                      <a:path w="296" h="552">
                        <a:moveTo>
                          <a:pt x="296" y="528"/>
                        </a:moveTo>
                        <a:cubicBezTo>
                          <a:pt x="224" y="540"/>
                          <a:pt x="152" y="552"/>
                          <a:pt x="104" y="528"/>
                        </a:cubicBezTo>
                        <a:cubicBezTo>
                          <a:pt x="56" y="504"/>
                          <a:pt x="16" y="440"/>
                          <a:pt x="8" y="384"/>
                        </a:cubicBezTo>
                        <a:cubicBezTo>
                          <a:pt x="0" y="328"/>
                          <a:pt x="24" y="248"/>
                          <a:pt x="56" y="192"/>
                        </a:cubicBezTo>
                        <a:cubicBezTo>
                          <a:pt x="88" y="136"/>
                          <a:pt x="160" y="80"/>
                          <a:pt x="200" y="48"/>
                        </a:cubicBezTo>
                        <a:cubicBezTo>
                          <a:pt x="240" y="16"/>
                          <a:pt x="268" y="8"/>
                          <a:pt x="296" y="0"/>
                        </a:cubicBezTo>
                      </a:path>
                    </a:pathLst>
                  </a:custGeom>
                  <a:solidFill>
                    <a:srgbClr val="ff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79" name="Freeform 757"/>
                <p:cNvSpPr/>
                <p:nvPr/>
              </p:nvSpPr>
              <p:spPr>
                <a:xfrm flipV="1" rot="418200">
                  <a:off x="4352400" y="6566040"/>
                  <a:ext cx="15480" cy="18720"/>
                </a:xfrm>
                <a:custGeom>
                  <a:avLst/>
                  <a:gdLst>
                    <a:gd name="textAreaLeft" fmla="*/ 0 w 15480"/>
                    <a:gd name="textAreaRight" fmla="*/ 15840 w 15480"/>
                    <a:gd name="textAreaTop" fmla="*/ 360 h 18720"/>
                    <a:gd name="textAreaBottom" fmla="*/ 19440 h 18720"/>
                  </a:gdLst>
                  <a:ahLst/>
                  <a:rect l="textAreaLeft" t="textAreaTop" r="textAreaRight" b="textAreaBottom"/>
                  <a:pathLst>
                    <a:path w="192" h="288">
                      <a:moveTo>
                        <a:pt x="0" y="288"/>
                      </a:moveTo>
                      <a:lnTo>
                        <a:pt x="192" y="288"/>
                      </a:lnTo>
                      <a:lnTo>
                        <a:pt x="48" y="0"/>
                      </a:lnTo>
                      <a:lnTo>
                        <a:pt x="0" y="288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0" name="Freeform 758"/>
                <p:cNvSpPr/>
                <p:nvPr/>
              </p:nvSpPr>
              <p:spPr>
                <a:xfrm flipV="1" rot="418200">
                  <a:off x="4277160" y="6537600"/>
                  <a:ext cx="15480" cy="18720"/>
                </a:xfrm>
                <a:custGeom>
                  <a:avLst/>
                  <a:gdLst>
                    <a:gd name="textAreaLeft" fmla="*/ 0 w 15480"/>
                    <a:gd name="textAreaRight" fmla="*/ 15840 w 15480"/>
                    <a:gd name="textAreaTop" fmla="*/ 360 h 18720"/>
                    <a:gd name="textAreaBottom" fmla="*/ 19440 h 18720"/>
                  </a:gdLst>
                  <a:ahLst/>
                  <a:rect l="textAreaLeft" t="textAreaTop" r="textAreaRight" b="textAreaBottom"/>
                  <a:pathLst>
                    <a:path w="192" h="288">
                      <a:moveTo>
                        <a:pt x="0" y="288"/>
                      </a:moveTo>
                      <a:lnTo>
                        <a:pt x="192" y="288"/>
                      </a:lnTo>
                      <a:lnTo>
                        <a:pt x="48" y="0"/>
                      </a:lnTo>
                      <a:lnTo>
                        <a:pt x="0" y="288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1" name="Freeform 759"/>
                <p:cNvSpPr/>
                <p:nvPr/>
              </p:nvSpPr>
              <p:spPr>
                <a:xfrm flipV="1" rot="418200">
                  <a:off x="4290120" y="6558480"/>
                  <a:ext cx="15480" cy="18720"/>
                </a:xfrm>
                <a:custGeom>
                  <a:avLst/>
                  <a:gdLst>
                    <a:gd name="textAreaLeft" fmla="*/ 0 w 15480"/>
                    <a:gd name="textAreaRight" fmla="*/ 15840 w 15480"/>
                    <a:gd name="textAreaTop" fmla="*/ 360 h 18720"/>
                    <a:gd name="textAreaBottom" fmla="*/ 19440 h 18720"/>
                  </a:gdLst>
                  <a:ahLst/>
                  <a:rect l="textAreaLeft" t="textAreaTop" r="textAreaRight" b="textAreaBottom"/>
                  <a:pathLst>
                    <a:path w="192" h="288">
                      <a:moveTo>
                        <a:pt x="0" y="288"/>
                      </a:moveTo>
                      <a:lnTo>
                        <a:pt x="192" y="288"/>
                      </a:lnTo>
                      <a:lnTo>
                        <a:pt x="48" y="0"/>
                      </a:lnTo>
                      <a:lnTo>
                        <a:pt x="0" y="288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2" name="Freeform 760"/>
                <p:cNvSpPr/>
                <p:nvPr/>
              </p:nvSpPr>
              <p:spPr>
                <a:xfrm flipV="1" rot="418200">
                  <a:off x="4319280" y="6580800"/>
                  <a:ext cx="15480" cy="18720"/>
                </a:xfrm>
                <a:custGeom>
                  <a:avLst/>
                  <a:gdLst>
                    <a:gd name="textAreaLeft" fmla="*/ 0 w 15480"/>
                    <a:gd name="textAreaRight" fmla="*/ 15840 w 15480"/>
                    <a:gd name="textAreaTop" fmla="*/ 360 h 18720"/>
                    <a:gd name="textAreaBottom" fmla="*/ 19440 h 18720"/>
                  </a:gdLst>
                  <a:ahLst/>
                  <a:rect l="textAreaLeft" t="textAreaTop" r="textAreaRight" b="textAreaBottom"/>
                  <a:pathLst>
                    <a:path w="192" h="288">
                      <a:moveTo>
                        <a:pt x="0" y="288"/>
                      </a:moveTo>
                      <a:lnTo>
                        <a:pt x="192" y="288"/>
                      </a:lnTo>
                      <a:lnTo>
                        <a:pt x="48" y="0"/>
                      </a:lnTo>
                      <a:lnTo>
                        <a:pt x="0" y="288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3" name="Freeform 761"/>
                <p:cNvSpPr/>
                <p:nvPr/>
              </p:nvSpPr>
              <p:spPr>
                <a:xfrm flipV="1" rot="418200">
                  <a:off x="4299120" y="6616080"/>
                  <a:ext cx="15480" cy="18720"/>
                </a:xfrm>
                <a:custGeom>
                  <a:avLst/>
                  <a:gdLst>
                    <a:gd name="textAreaLeft" fmla="*/ 0 w 15480"/>
                    <a:gd name="textAreaRight" fmla="*/ 15840 w 15480"/>
                    <a:gd name="textAreaTop" fmla="*/ 360 h 18720"/>
                    <a:gd name="textAreaBottom" fmla="*/ 19440 h 18720"/>
                  </a:gdLst>
                  <a:ahLst/>
                  <a:rect l="textAreaLeft" t="textAreaTop" r="textAreaRight" b="textAreaBottom"/>
                  <a:pathLst>
                    <a:path w="192" h="288">
                      <a:moveTo>
                        <a:pt x="0" y="288"/>
                      </a:moveTo>
                      <a:lnTo>
                        <a:pt x="192" y="288"/>
                      </a:lnTo>
                      <a:lnTo>
                        <a:pt x="48" y="0"/>
                      </a:lnTo>
                      <a:lnTo>
                        <a:pt x="0" y="288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4" name="Freeform 762"/>
                <p:cNvSpPr/>
                <p:nvPr/>
              </p:nvSpPr>
              <p:spPr>
                <a:xfrm flipV="1" rot="418200">
                  <a:off x="4281120" y="6633000"/>
                  <a:ext cx="15480" cy="18720"/>
                </a:xfrm>
                <a:custGeom>
                  <a:avLst/>
                  <a:gdLst>
                    <a:gd name="textAreaLeft" fmla="*/ 0 w 15480"/>
                    <a:gd name="textAreaRight" fmla="*/ 15840 w 15480"/>
                    <a:gd name="textAreaTop" fmla="*/ 360 h 18720"/>
                    <a:gd name="textAreaBottom" fmla="*/ 19440 h 18720"/>
                  </a:gdLst>
                  <a:ahLst/>
                  <a:rect l="textAreaLeft" t="textAreaTop" r="textAreaRight" b="textAreaBottom"/>
                  <a:pathLst>
                    <a:path w="192" h="288">
                      <a:moveTo>
                        <a:pt x="0" y="288"/>
                      </a:moveTo>
                      <a:lnTo>
                        <a:pt x="192" y="288"/>
                      </a:lnTo>
                      <a:lnTo>
                        <a:pt x="48" y="0"/>
                      </a:lnTo>
                      <a:lnTo>
                        <a:pt x="0" y="288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5" name="Freeform 763"/>
                <p:cNvSpPr/>
                <p:nvPr/>
              </p:nvSpPr>
              <p:spPr>
                <a:xfrm flipV="1" rot="418200">
                  <a:off x="4294440" y="6653520"/>
                  <a:ext cx="15480" cy="18720"/>
                </a:xfrm>
                <a:custGeom>
                  <a:avLst/>
                  <a:gdLst>
                    <a:gd name="textAreaLeft" fmla="*/ 0 w 15480"/>
                    <a:gd name="textAreaRight" fmla="*/ 15840 w 15480"/>
                    <a:gd name="textAreaTop" fmla="*/ 360 h 18720"/>
                    <a:gd name="textAreaBottom" fmla="*/ 19440 h 18720"/>
                  </a:gdLst>
                  <a:ahLst/>
                  <a:rect l="textAreaLeft" t="textAreaTop" r="textAreaRight" b="textAreaBottom"/>
                  <a:pathLst>
                    <a:path w="192" h="288">
                      <a:moveTo>
                        <a:pt x="0" y="288"/>
                      </a:moveTo>
                      <a:lnTo>
                        <a:pt x="192" y="288"/>
                      </a:lnTo>
                      <a:lnTo>
                        <a:pt x="48" y="0"/>
                      </a:lnTo>
                      <a:lnTo>
                        <a:pt x="0" y="288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6" name="Freeform 764"/>
                <p:cNvSpPr/>
                <p:nvPr/>
              </p:nvSpPr>
              <p:spPr>
                <a:xfrm flipV="1" rot="418200">
                  <a:off x="4323600" y="6676200"/>
                  <a:ext cx="15480" cy="18720"/>
                </a:xfrm>
                <a:custGeom>
                  <a:avLst/>
                  <a:gdLst>
                    <a:gd name="textAreaLeft" fmla="*/ 0 w 15480"/>
                    <a:gd name="textAreaRight" fmla="*/ 15840 w 15480"/>
                    <a:gd name="textAreaTop" fmla="*/ 360 h 18720"/>
                    <a:gd name="textAreaBottom" fmla="*/ 19440 h 18720"/>
                  </a:gdLst>
                  <a:ahLst/>
                  <a:rect l="textAreaLeft" t="textAreaTop" r="textAreaRight" b="textAreaBottom"/>
                  <a:pathLst>
                    <a:path w="192" h="288">
                      <a:moveTo>
                        <a:pt x="0" y="288"/>
                      </a:moveTo>
                      <a:lnTo>
                        <a:pt x="192" y="288"/>
                      </a:lnTo>
                      <a:lnTo>
                        <a:pt x="48" y="0"/>
                      </a:lnTo>
                      <a:lnTo>
                        <a:pt x="0" y="288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7" name="Freeform 765"/>
                <p:cNvSpPr/>
                <p:nvPr/>
              </p:nvSpPr>
              <p:spPr>
                <a:xfrm flipV="1" rot="418200">
                  <a:off x="4256640" y="6573240"/>
                  <a:ext cx="15480" cy="18720"/>
                </a:xfrm>
                <a:custGeom>
                  <a:avLst/>
                  <a:gdLst>
                    <a:gd name="textAreaLeft" fmla="*/ 0 w 15480"/>
                    <a:gd name="textAreaRight" fmla="*/ 15840 w 15480"/>
                    <a:gd name="textAreaTop" fmla="*/ 360 h 18720"/>
                    <a:gd name="textAreaBottom" fmla="*/ 19440 h 18720"/>
                  </a:gdLst>
                  <a:ahLst/>
                  <a:rect l="textAreaLeft" t="textAreaTop" r="textAreaRight" b="textAreaBottom"/>
                  <a:pathLst>
                    <a:path w="192" h="288">
                      <a:moveTo>
                        <a:pt x="0" y="288"/>
                      </a:moveTo>
                      <a:lnTo>
                        <a:pt x="192" y="288"/>
                      </a:lnTo>
                      <a:lnTo>
                        <a:pt x="48" y="0"/>
                      </a:lnTo>
                      <a:lnTo>
                        <a:pt x="0" y="288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8" name="Freeform 766"/>
                <p:cNvSpPr/>
                <p:nvPr/>
              </p:nvSpPr>
              <p:spPr>
                <a:xfrm flipV="1" rot="418200">
                  <a:off x="4269960" y="6593760"/>
                  <a:ext cx="15480" cy="18720"/>
                </a:xfrm>
                <a:custGeom>
                  <a:avLst/>
                  <a:gdLst>
                    <a:gd name="textAreaLeft" fmla="*/ 0 w 15480"/>
                    <a:gd name="textAreaRight" fmla="*/ 15840 w 15480"/>
                    <a:gd name="textAreaTop" fmla="*/ 360 h 18720"/>
                    <a:gd name="textAreaBottom" fmla="*/ 19440 h 18720"/>
                  </a:gdLst>
                  <a:ahLst/>
                  <a:rect l="textAreaLeft" t="textAreaTop" r="textAreaRight" b="textAreaBottom"/>
                  <a:pathLst>
                    <a:path w="192" h="288">
                      <a:moveTo>
                        <a:pt x="0" y="288"/>
                      </a:moveTo>
                      <a:lnTo>
                        <a:pt x="192" y="288"/>
                      </a:lnTo>
                      <a:lnTo>
                        <a:pt x="48" y="0"/>
                      </a:lnTo>
                      <a:lnTo>
                        <a:pt x="0" y="288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9" name="Freeform 767"/>
                <p:cNvSpPr/>
                <p:nvPr/>
              </p:nvSpPr>
              <p:spPr>
                <a:xfrm flipH="1" flipV="1" rot="418200">
                  <a:off x="4327560" y="6638400"/>
                  <a:ext cx="15480" cy="18720"/>
                </a:xfrm>
                <a:custGeom>
                  <a:avLst/>
                  <a:gdLst>
                    <a:gd name="textAreaLeft" fmla="*/ -360 w 15480"/>
                    <a:gd name="textAreaRight" fmla="*/ 15480 w 15480"/>
                    <a:gd name="textAreaTop" fmla="*/ 360 h 18720"/>
                    <a:gd name="textAreaBottom" fmla="*/ 19440 h 18720"/>
                  </a:gdLst>
                  <a:ahLst/>
                  <a:rect l="textAreaLeft" t="textAreaTop" r="textAreaRight" b="textAreaBottom"/>
                  <a:pathLst>
                    <a:path w="192" h="288">
                      <a:moveTo>
                        <a:pt x="0" y="288"/>
                      </a:moveTo>
                      <a:lnTo>
                        <a:pt x="192" y="288"/>
                      </a:lnTo>
                      <a:lnTo>
                        <a:pt x="48" y="0"/>
                      </a:lnTo>
                      <a:lnTo>
                        <a:pt x="0" y="288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0" name="Freeform 768"/>
                <p:cNvSpPr/>
                <p:nvPr/>
              </p:nvSpPr>
              <p:spPr>
                <a:xfrm flipH="1" flipV="1" rot="418200">
                  <a:off x="4358520" y="6642360"/>
                  <a:ext cx="15480" cy="18720"/>
                </a:xfrm>
                <a:custGeom>
                  <a:avLst/>
                  <a:gdLst>
                    <a:gd name="textAreaLeft" fmla="*/ -360 w 15480"/>
                    <a:gd name="textAreaRight" fmla="*/ 15480 w 15480"/>
                    <a:gd name="textAreaTop" fmla="*/ 360 h 18720"/>
                    <a:gd name="textAreaBottom" fmla="*/ 19440 h 18720"/>
                  </a:gdLst>
                  <a:ahLst/>
                  <a:rect l="textAreaLeft" t="textAreaTop" r="textAreaRight" b="textAreaBottom"/>
                  <a:pathLst>
                    <a:path w="192" h="288">
                      <a:moveTo>
                        <a:pt x="0" y="288"/>
                      </a:moveTo>
                      <a:lnTo>
                        <a:pt x="192" y="288"/>
                      </a:lnTo>
                      <a:lnTo>
                        <a:pt x="48" y="0"/>
                      </a:lnTo>
                      <a:lnTo>
                        <a:pt x="0" y="288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1" name="Freeform 769"/>
                <p:cNvSpPr/>
                <p:nvPr/>
              </p:nvSpPr>
              <p:spPr>
                <a:xfrm flipH="1" flipV="1" rot="418200">
                  <a:off x="4347360" y="6603120"/>
                  <a:ext cx="15480" cy="18720"/>
                </a:xfrm>
                <a:custGeom>
                  <a:avLst/>
                  <a:gdLst>
                    <a:gd name="textAreaLeft" fmla="*/ -360 w 15480"/>
                    <a:gd name="textAreaRight" fmla="*/ 15480 w 15480"/>
                    <a:gd name="textAreaTop" fmla="*/ 360 h 18720"/>
                    <a:gd name="textAreaBottom" fmla="*/ 19440 h 18720"/>
                  </a:gdLst>
                  <a:ahLst/>
                  <a:rect l="textAreaLeft" t="textAreaTop" r="textAreaRight" b="textAreaBottom"/>
                  <a:pathLst>
                    <a:path w="192" h="288">
                      <a:moveTo>
                        <a:pt x="0" y="288"/>
                      </a:moveTo>
                      <a:lnTo>
                        <a:pt x="192" y="288"/>
                      </a:lnTo>
                      <a:lnTo>
                        <a:pt x="48" y="0"/>
                      </a:lnTo>
                      <a:lnTo>
                        <a:pt x="0" y="288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2" name="Freeform 770"/>
                <p:cNvSpPr/>
                <p:nvPr/>
              </p:nvSpPr>
              <p:spPr>
                <a:xfrm flipH="1" flipV="1" rot="418200">
                  <a:off x="4381200" y="6588360"/>
                  <a:ext cx="15480" cy="18720"/>
                </a:xfrm>
                <a:custGeom>
                  <a:avLst/>
                  <a:gdLst>
                    <a:gd name="textAreaLeft" fmla="*/ -360 w 15480"/>
                    <a:gd name="textAreaRight" fmla="*/ 15480 w 15480"/>
                    <a:gd name="textAreaTop" fmla="*/ 360 h 18720"/>
                    <a:gd name="textAreaBottom" fmla="*/ 19440 h 18720"/>
                  </a:gdLst>
                  <a:ahLst/>
                  <a:rect l="textAreaLeft" t="textAreaTop" r="textAreaRight" b="textAreaBottom"/>
                  <a:pathLst>
                    <a:path w="192" h="288">
                      <a:moveTo>
                        <a:pt x="0" y="288"/>
                      </a:moveTo>
                      <a:lnTo>
                        <a:pt x="192" y="288"/>
                      </a:lnTo>
                      <a:lnTo>
                        <a:pt x="48" y="0"/>
                      </a:lnTo>
                      <a:lnTo>
                        <a:pt x="0" y="288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3" name="Freeform 771"/>
                <p:cNvSpPr/>
                <p:nvPr/>
              </p:nvSpPr>
              <p:spPr>
                <a:xfrm flipH="1" flipV="1" rot="418200">
                  <a:off x="4385520" y="6550920"/>
                  <a:ext cx="15480" cy="18720"/>
                </a:xfrm>
                <a:custGeom>
                  <a:avLst/>
                  <a:gdLst>
                    <a:gd name="textAreaLeft" fmla="*/ -360 w 15480"/>
                    <a:gd name="textAreaRight" fmla="*/ 15480 w 15480"/>
                    <a:gd name="textAreaTop" fmla="*/ 360 h 18720"/>
                    <a:gd name="textAreaBottom" fmla="*/ 19440 h 18720"/>
                  </a:gdLst>
                  <a:ahLst/>
                  <a:rect l="textAreaLeft" t="textAreaTop" r="textAreaRight" b="textAreaBottom"/>
                  <a:pathLst>
                    <a:path w="192" h="288">
                      <a:moveTo>
                        <a:pt x="0" y="288"/>
                      </a:moveTo>
                      <a:lnTo>
                        <a:pt x="192" y="288"/>
                      </a:lnTo>
                      <a:lnTo>
                        <a:pt x="48" y="0"/>
                      </a:lnTo>
                      <a:lnTo>
                        <a:pt x="0" y="288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4" name="plant"/>
                <p:cNvSpPr/>
                <p:nvPr/>
              </p:nvSpPr>
              <p:spPr>
                <a:xfrm rot="418200">
                  <a:off x="4284000" y="6451200"/>
                  <a:ext cx="123840" cy="91440"/>
                </a:xfrm>
                <a:custGeom>
                  <a:avLst/>
                  <a:gdLst>
                    <a:gd name="textAreaLeft" fmla="*/ 40680 w 123840"/>
                    <a:gd name="textAreaRight" fmla="*/ 83520 w 123840"/>
                    <a:gd name="textAreaTop" fmla="*/ 42480 h 91440"/>
                    <a:gd name="textAreaBottom" fmla="*/ 57600 h 914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9368" y="9002"/>
                      </a:moveTo>
                      <a:lnTo>
                        <a:pt x="9254" y="8422"/>
                      </a:lnTo>
                      <a:lnTo>
                        <a:pt x="9139" y="7935"/>
                      </a:lnTo>
                      <a:lnTo>
                        <a:pt x="8819" y="7355"/>
                      </a:lnTo>
                      <a:lnTo>
                        <a:pt x="8475" y="6728"/>
                      </a:lnTo>
                      <a:lnTo>
                        <a:pt x="8040" y="6287"/>
                      </a:lnTo>
                      <a:lnTo>
                        <a:pt x="7421" y="5707"/>
                      </a:lnTo>
                      <a:lnTo>
                        <a:pt x="6574" y="5429"/>
                      </a:lnTo>
                      <a:lnTo>
                        <a:pt x="5452" y="5313"/>
                      </a:lnTo>
                      <a:lnTo>
                        <a:pt x="4856" y="5220"/>
                      </a:lnTo>
                      <a:lnTo>
                        <a:pt x="4169" y="5220"/>
                      </a:lnTo>
                      <a:lnTo>
                        <a:pt x="3665" y="5104"/>
                      </a:lnTo>
                      <a:lnTo>
                        <a:pt x="3001" y="4872"/>
                      </a:lnTo>
                      <a:lnTo>
                        <a:pt x="2497" y="4756"/>
                      </a:lnTo>
                      <a:lnTo>
                        <a:pt x="2062" y="4408"/>
                      </a:lnTo>
                      <a:lnTo>
                        <a:pt x="1603" y="4083"/>
                      </a:lnTo>
                      <a:lnTo>
                        <a:pt x="1283" y="3689"/>
                      </a:lnTo>
                      <a:lnTo>
                        <a:pt x="1283" y="4315"/>
                      </a:lnTo>
                      <a:lnTo>
                        <a:pt x="1489" y="5104"/>
                      </a:lnTo>
                      <a:lnTo>
                        <a:pt x="1832" y="6055"/>
                      </a:lnTo>
                      <a:lnTo>
                        <a:pt x="2382" y="6914"/>
                      </a:lnTo>
                      <a:lnTo>
                        <a:pt x="2680" y="7471"/>
                      </a:lnTo>
                      <a:lnTo>
                        <a:pt x="3115" y="7935"/>
                      </a:lnTo>
                      <a:lnTo>
                        <a:pt x="3573" y="8213"/>
                      </a:lnTo>
                      <a:lnTo>
                        <a:pt x="4077" y="8654"/>
                      </a:lnTo>
                      <a:lnTo>
                        <a:pt x="4627" y="9002"/>
                      </a:lnTo>
                      <a:lnTo>
                        <a:pt x="5245" y="9234"/>
                      </a:lnTo>
                      <a:lnTo>
                        <a:pt x="6024" y="9443"/>
                      </a:lnTo>
                      <a:lnTo>
                        <a:pt x="6757" y="9628"/>
                      </a:lnTo>
                      <a:lnTo>
                        <a:pt x="5177" y="10069"/>
                      </a:lnTo>
                      <a:lnTo>
                        <a:pt x="3963" y="10649"/>
                      </a:lnTo>
                      <a:lnTo>
                        <a:pt x="3344" y="11044"/>
                      </a:lnTo>
                      <a:lnTo>
                        <a:pt x="2886" y="11600"/>
                      </a:lnTo>
                      <a:lnTo>
                        <a:pt x="2497" y="12041"/>
                      </a:lnTo>
                      <a:lnTo>
                        <a:pt x="1947" y="12343"/>
                      </a:lnTo>
                      <a:lnTo>
                        <a:pt x="1168" y="12668"/>
                      </a:lnTo>
                      <a:lnTo>
                        <a:pt x="0" y="12900"/>
                      </a:lnTo>
                      <a:lnTo>
                        <a:pt x="435" y="13248"/>
                      </a:lnTo>
                      <a:lnTo>
                        <a:pt x="779" y="13456"/>
                      </a:lnTo>
                      <a:lnTo>
                        <a:pt x="1283" y="13642"/>
                      </a:lnTo>
                      <a:lnTo>
                        <a:pt x="1718" y="13758"/>
                      </a:lnTo>
                      <a:lnTo>
                        <a:pt x="2680" y="13851"/>
                      </a:lnTo>
                      <a:lnTo>
                        <a:pt x="3573" y="13758"/>
                      </a:lnTo>
                      <a:lnTo>
                        <a:pt x="4512" y="13526"/>
                      </a:lnTo>
                      <a:lnTo>
                        <a:pt x="5360" y="13248"/>
                      </a:lnTo>
                      <a:lnTo>
                        <a:pt x="6139" y="12900"/>
                      </a:lnTo>
                      <a:lnTo>
                        <a:pt x="6757" y="12552"/>
                      </a:lnTo>
                      <a:lnTo>
                        <a:pt x="6459" y="13132"/>
                      </a:lnTo>
                      <a:lnTo>
                        <a:pt x="6139" y="13642"/>
                      </a:lnTo>
                      <a:lnTo>
                        <a:pt x="5910" y="14199"/>
                      </a:lnTo>
                      <a:lnTo>
                        <a:pt x="5681" y="14663"/>
                      </a:lnTo>
                      <a:lnTo>
                        <a:pt x="5681" y="15150"/>
                      </a:lnTo>
                      <a:lnTo>
                        <a:pt x="5681" y="15730"/>
                      </a:lnTo>
                      <a:lnTo>
                        <a:pt x="5681" y="16241"/>
                      </a:lnTo>
                      <a:lnTo>
                        <a:pt x="5795" y="16913"/>
                      </a:lnTo>
                      <a:lnTo>
                        <a:pt x="5910" y="17586"/>
                      </a:lnTo>
                      <a:lnTo>
                        <a:pt x="5910" y="18213"/>
                      </a:lnTo>
                      <a:lnTo>
                        <a:pt x="5795" y="18885"/>
                      </a:lnTo>
                      <a:lnTo>
                        <a:pt x="5566" y="19396"/>
                      </a:lnTo>
                      <a:lnTo>
                        <a:pt x="5245" y="19976"/>
                      </a:lnTo>
                      <a:lnTo>
                        <a:pt x="4971" y="20370"/>
                      </a:lnTo>
                      <a:lnTo>
                        <a:pt x="4512" y="20811"/>
                      </a:lnTo>
                      <a:lnTo>
                        <a:pt x="4077" y="21043"/>
                      </a:lnTo>
                      <a:lnTo>
                        <a:pt x="5177" y="20927"/>
                      </a:lnTo>
                      <a:lnTo>
                        <a:pt x="6253" y="20486"/>
                      </a:lnTo>
                      <a:lnTo>
                        <a:pt x="7421" y="19976"/>
                      </a:lnTo>
                      <a:lnTo>
                        <a:pt x="8361" y="19187"/>
                      </a:lnTo>
                      <a:lnTo>
                        <a:pt x="8819" y="18769"/>
                      </a:lnTo>
                      <a:lnTo>
                        <a:pt x="9139" y="18213"/>
                      </a:lnTo>
                      <a:lnTo>
                        <a:pt x="9437" y="17772"/>
                      </a:lnTo>
                      <a:lnTo>
                        <a:pt x="9643" y="17261"/>
                      </a:lnTo>
                      <a:lnTo>
                        <a:pt x="9872" y="16681"/>
                      </a:lnTo>
                      <a:lnTo>
                        <a:pt x="9872" y="16171"/>
                      </a:lnTo>
                      <a:lnTo>
                        <a:pt x="9872" y="15614"/>
                      </a:lnTo>
                      <a:lnTo>
                        <a:pt x="9758" y="15057"/>
                      </a:lnTo>
                      <a:lnTo>
                        <a:pt x="10216" y="15498"/>
                      </a:lnTo>
                      <a:lnTo>
                        <a:pt x="10537" y="16241"/>
                      </a:lnTo>
                      <a:lnTo>
                        <a:pt x="10834" y="17145"/>
                      </a:lnTo>
                      <a:lnTo>
                        <a:pt x="11041" y="18213"/>
                      </a:lnTo>
                      <a:lnTo>
                        <a:pt x="11155" y="19187"/>
                      </a:lnTo>
                      <a:lnTo>
                        <a:pt x="11155" y="20185"/>
                      </a:lnTo>
                      <a:lnTo>
                        <a:pt x="11155" y="20579"/>
                      </a:lnTo>
                      <a:lnTo>
                        <a:pt x="11041" y="21043"/>
                      </a:lnTo>
                      <a:lnTo>
                        <a:pt x="10926" y="21391"/>
                      </a:lnTo>
                      <a:lnTo>
                        <a:pt x="10766" y="21600"/>
                      </a:lnTo>
                      <a:lnTo>
                        <a:pt x="11499" y="21484"/>
                      </a:lnTo>
                      <a:lnTo>
                        <a:pt x="12323" y="21043"/>
                      </a:lnTo>
                      <a:lnTo>
                        <a:pt x="13102" y="20370"/>
                      </a:lnTo>
                      <a:lnTo>
                        <a:pt x="13606" y="19628"/>
                      </a:lnTo>
                      <a:lnTo>
                        <a:pt x="13950" y="19071"/>
                      </a:lnTo>
                      <a:lnTo>
                        <a:pt x="14064" y="18677"/>
                      </a:lnTo>
                      <a:lnTo>
                        <a:pt x="14179" y="18097"/>
                      </a:lnTo>
                      <a:lnTo>
                        <a:pt x="14293" y="17586"/>
                      </a:lnTo>
                      <a:lnTo>
                        <a:pt x="14179" y="16913"/>
                      </a:lnTo>
                      <a:lnTo>
                        <a:pt x="14064" y="16241"/>
                      </a:lnTo>
                      <a:lnTo>
                        <a:pt x="13835" y="15614"/>
                      </a:lnTo>
                      <a:lnTo>
                        <a:pt x="13560" y="14872"/>
                      </a:lnTo>
                      <a:lnTo>
                        <a:pt x="13950" y="14941"/>
                      </a:lnTo>
                      <a:lnTo>
                        <a:pt x="14408" y="15150"/>
                      </a:lnTo>
                      <a:lnTo>
                        <a:pt x="14843" y="15266"/>
                      </a:lnTo>
                      <a:lnTo>
                        <a:pt x="15232" y="15614"/>
                      </a:lnTo>
                      <a:lnTo>
                        <a:pt x="15576" y="15846"/>
                      </a:lnTo>
                      <a:lnTo>
                        <a:pt x="15897" y="16171"/>
                      </a:lnTo>
                      <a:lnTo>
                        <a:pt x="16126" y="16473"/>
                      </a:lnTo>
                      <a:lnTo>
                        <a:pt x="16240" y="16913"/>
                      </a:lnTo>
                      <a:lnTo>
                        <a:pt x="16515" y="17261"/>
                      </a:lnTo>
                      <a:lnTo>
                        <a:pt x="17088" y="17586"/>
                      </a:lnTo>
                      <a:lnTo>
                        <a:pt x="17798" y="17865"/>
                      </a:lnTo>
                      <a:lnTo>
                        <a:pt x="18576" y="18097"/>
                      </a:lnTo>
                      <a:lnTo>
                        <a:pt x="19424" y="18213"/>
                      </a:lnTo>
                      <a:lnTo>
                        <a:pt x="20317" y="18213"/>
                      </a:lnTo>
                      <a:lnTo>
                        <a:pt x="21050" y="18213"/>
                      </a:lnTo>
                      <a:lnTo>
                        <a:pt x="21600" y="17865"/>
                      </a:lnTo>
                      <a:lnTo>
                        <a:pt x="21165" y="17656"/>
                      </a:lnTo>
                      <a:lnTo>
                        <a:pt x="20592" y="17470"/>
                      </a:lnTo>
                      <a:lnTo>
                        <a:pt x="20088" y="17029"/>
                      </a:lnTo>
                      <a:lnTo>
                        <a:pt x="19653" y="16681"/>
                      </a:lnTo>
                      <a:lnTo>
                        <a:pt x="19195" y="16241"/>
                      </a:lnTo>
                      <a:lnTo>
                        <a:pt x="18920" y="15962"/>
                      </a:lnTo>
                      <a:lnTo>
                        <a:pt x="18576" y="15498"/>
                      </a:lnTo>
                      <a:lnTo>
                        <a:pt x="18576" y="15057"/>
                      </a:lnTo>
                      <a:lnTo>
                        <a:pt x="18485" y="14756"/>
                      </a:lnTo>
                      <a:lnTo>
                        <a:pt x="18256" y="14199"/>
                      </a:lnTo>
                      <a:lnTo>
                        <a:pt x="17912" y="13526"/>
                      </a:lnTo>
                      <a:lnTo>
                        <a:pt x="17523" y="13016"/>
                      </a:lnTo>
                      <a:lnTo>
                        <a:pt x="16973" y="12436"/>
                      </a:lnTo>
                      <a:lnTo>
                        <a:pt x="16355" y="12041"/>
                      </a:lnTo>
                      <a:lnTo>
                        <a:pt x="16011" y="11832"/>
                      </a:lnTo>
                      <a:lnTo>
                        <a:pt x="15690" y="11716"/>
                      </a:lnTo>
                      <a:lnTo>
                        <a:pt x="15232" y="11716"/>
                      </a:lnTo>
                      <a:lnTo>
                        <a:pt x="14843" y="11716"/>
                      </a:lnTo>
                      <a:lnTo>
                        <a:pt x="15461" y="11252"/>
                      </a:lnTo>
                      <a:lnTo>
                        <a:pt x="16126" y="10858"/>
                      </a:lnTo>
                      <a:lnTo>
                        <a:pt x="16973" y="10649"/>
                      </a:lnTo>
                      <a:lnTo>
                        <a:pt x="17798" y="10417"/>
                      </a:lnTo>
                      <a:lnTo>
                        <a:pt x="18806" y="10301"/>
                      </a:lnTo>
                      <a:lnTo>
                        <a:pt x="19653" y="10301"/>
                      </a:lnTo>
                      <a:lnTo>
                        <a:pt x="20478" y="10417"/>
                      </a:lnTo>
                      <a:lnTo>
                        <a:pt x="21256" y="10533"/>
                      </a:lnTo>
                      <a:lnTo>
                        <a:pt x="20707" y="9837"/>
                      </a:lnTo>
                      <a:lnTo>
                        <a:pt x="19859" y="9234"/>
                      </a:lnTo>
                      <a:lnTo>
                        <a:pt x="18806" y="8538"/>
                      </a:lnTo>
                      <a:lnTo>
                        <a:pt x="17637" y="8144"/>
                      </a:lnTo>
                      <a:lnTo>
                        <a:pt x="16973" y="8027"/>
                      </a:lnTo>
                      <a:lnTo>
                        <a:pt x="16355" y="7935"/>
                      </a:lnTo>
                      <a:lnTo>
                        <a:pt x="15805" y="7935"/>
                      </a:lnTo>
                      <a:lnTo>
                        <a:pt x="15118" y="8027"/>
                      </a:lnTo>
                      <a:lnTo>
                        <a:pt x="14614" y="8144"/>
                      </a:lnTo>
                      <a:lnTo>
                        <a:pt x="14064" y="8422"/>
                      </a:lnTo>
                      <a:lnTo>
                        <a:pt x="13606" y="8886"/>
                      </a:lnTo>
                      <a:lnTo>
                        <a:pt x="13217" y="9327"/>
                      </a:lnTo>
                      <a:lnTo>
                        <a:pt x="13606" y="8538"/>
                      </a:lnTo>
                      <a:lnTo>
                        <a:pt x="13950" y="7935"/>
                      </a:lnTo>
                      <a:lnTo>
                        <a:pt x="14293" y="7123"/>
                      </a:lnTo>
                      <a:lnTo>
                        <a:pt x="14499" y="6519"/>
                      </a:lnTo>
                      <a:lnTo>
                        <a:pt x="14614" y="5823"/>
                      </a:lnTo>
                      <a:lnTo>
                        <a:pt x="14614" y="5220"/>
                      </a:lnTo>
                      <a:lnTo>
                        <a:pt x="14408" y="4524"/>
                      </a:lnTo>
                      <a:lnTo>
                        <a:pt x="14064" y="3898"/>
                      </a:lnTo>
                      <a:lnTo>
                        <a:pt x="13606" y="3225"/>
                      </a:lnTo>
                      <a:lnTo>
                        <a:pt x="13331" y="2598"/>
                      </a:lnTo>
                      <a:lnTo>
                        <a:pt x="13102" y="2042"/>
                      </a:lnTo>
                      <a:lnTo>
                        <a:pt x="12896" y="1485"/>
                      </a:lnTo>
                      <a:lnTo>
                        <a:pt x="12781" y="1090"/>
                      </a:lnTo>
                      <a:lnTo>
                        <a:pt x="12667" y="626"/>
                      </a:lnTo>
                      <a:lnTo>
                        <a:pt x="12667" y="278"/>
                      </a:lnTo>
                      <a:lnTo>
                        <a:pt x="12667" y="0"/>
                      </a:lnTo>
                      <a:lnTo>
                        <a:pt x="12163" y="394"/>
                      </a:lnTo>
                      <a:lnTo>
                        <a:pt x="11728" y="974"/>
                      </a:lnTo>
                      <a:lnTo>
                        <a:pt x="11155" y="1601"/>
                      </a:lnTo>
                      <a:lnTo>
                        <a:pt x="10766" y="2390"/>
                      </a:lnTo>
                      <a:lnTo>
                        <a:pt x="10330" y="3109"/>
                      </a:lnTo>
                      <a:lnTo>
                        <a:pt x="10101" y="3898"/>
                      </a:lnTo>
                      <a:lnTo>
                        <a:pt x="9987" y="4524"/>
                      </a:lnTo>
                      <a:lnTo>
                        <a:pt x="10101" y="5220"/>
                      </a:lnTo>
                      <a:lnTo>
                        <a:pt x="10216" y="5823"/>
                      </a:lnTo>
                      <a:lnTo>
                        <a:pt x="10330" y="6403"/>
                      </a:lnTo>
                      <a:lnTo>
                        <a:pt x="10330" y="6914"/>
                      </a:lnTo>
                      <a:lnTo>
                        <a:pt x="10216" y="7471"/>
                      </a:lnTo>
                      <a:lnTo>
                        <a:pt x="10101" y="7935"/>
                      </a:lnTo>
                      <a:lnTo>
                        <a:pt x="9872" y="8329"/>
                      </a:lnTo>
                      <a:lnTo>
                        <a:pt x="9643" y="8654"/>
                      </a:lnTo>
                      <a:lnTo>
                        <a:pt x="9368" y="9002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95" name="Freeform 773"/>
              <p:cNvSpPr/>
              <p:nvPr/>
            </p:nvSpPr>
            <p:spPr>
              <a:xfrm rot="418200">
                <a:off x="4029840" y="6140880"/>
                <a:ext cx="466560" cy="526680"/>
              </a:xfrm>
              <a:custGeom>
                <a:avLst/>
                <a:gdLst>
                  <a:gd name="textAreaLeft" fmla="*/ 0 w 466560"/>
                  <a:gd name="textAreaRight" fmla="*/ 466920 w 466560"/>
                  <a:gd name="textAreaTop" fmla="*/ 0 h 526680"/>
                  <a:gd name="textAreaBottom" fmla="*/ 527040 h 526680"/>
                </a:gdLst>
                <a:ahLst/>
                <a:rect l="textAreaLeft" t="textAreaTop" r="textAreaRight" b="textAreaBottom"/>
                <a:pathLst>
                  <a:path w="515" h="557">
                    <a:moveTo>
                      <a:pt x="480" y="192"/>
                    </a:moveTo>
                    <a:cubicBezTo>
                      <a:pt x="483" y="187"/>
                      <a:pt x="515" y="190"/>
                      <a:pt x="480" y="160"/>
                    </a:cubicBezTo>
                    <a:cubicBezTo>
                      <a:pt x="445" y="130"/>
                      <a:pt x="339" y="0"/>
                      <a:pt x="272" y="13"/>
                    </a:cubicBezTo>
                    <a:cubicBezTo>
                      <a:pt x="205" y="26"/>
                      <a:pt x="125" y="146"/>
                      <a:pt x="80" y="237"/>
                    </a:cubicBezTo>
                    <a:cubicBezTo>
                      <a:pt x="35" y="328"/>
                      <a:pt x="17" y="490"/>
                      <a:pt x="0" y="557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Freeform 774"/>
              <p:cNvSpPr/>
              <p:nvPr/>
            </p:nvSpPr>
            <p:spPr>
              <a:xfrm rot="418200">
                <a:off x="3990960" y="6047280"/>
                <a:ext cx="50760" cy="605160"/>
              </a:xfrm>
              <a:custGeom>
                <a:avLst/>
                <a:gdLst>
                  <a:gd name="textAreaLeft" fmla="*/ 0 w 50760"/>
                  <a:gd name="textAreaRight" fmla="*/ 51120 w 50760"/>
                  <a:gd name="textAreaTop" fmla="*/ 0 h 605160"/>
                  <a:gd name="textAreaBottom" fmla="*/ 605520 h 605160"/>
                </a:gdLst>
                <a:ahLst/>
                <a:rect l="textAreaLeft" t="textAreaTop" r="textAreaRight" b="textAreaBottom"/>
                <a:pathLst>
                  <a:path w="56" h="640">
                    <a:moveTo>
                      <a:pt x="0" y="0"/>
                    </a:moveTo>
                    <a:cubicBezTo>
                      <a:pt x="5" y="51"/>
                      <a:pt x="40" y="197"/>
                      <a:pt x="48" y="304"/>
                    </a:cubicBezTo>
                    <a:cubicBezTo>
                      <a:pt x="56" y="411"/>
                      <a:pt x="40" y="516"/>
                      <a:pt x="48" y="640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97" name="Group 775"/>
              <p:cNvGrpSpPr/>
              <p:nvPr/>
            </p:nvGrpSpPr>
            <p:grpSpPr>
              <a:xfrm>
                <a:off x="3935160" y="5951520"/>
                <a:ext cx="230760" cy="208440"/>
                <a:chOff x="3935160" y="5951520"/>
                <a:chExt cx="230760" cy="208440"/>
              </a:xfrm>
            </p:grpSpPr>
            <p:grpSp>
              <p:nvGrpSpPr>
                <p:cNvPr id="798" name="Group 776"/>
                <p:cNvGrpSpPr/>
                <p:nvPr/>
              </p:nvGrpSpPr>
              <p:grpSpPr>
                <a:xfrm>
                  <a:off x="3935160" y="5951520"/>
                  <a:ext cx="230760" cy="180000"/>
                  <a:chOff x="3935160" y="5951520"/>
                  <a:chExt cx="230760" cy="180000"/>
                </a:xfrm>
              </p:grpSpPr>
              <p:sp>
                <p:nvSpPr>
                  <p:cNvPr id="799" name="Freeform 777"/>
                  <p:cNvSpPr/>
                  <p:nvPr/>
                </p:nvSpPr>
                <p:spPr>
                  <a:xfrm rot="4435200">
                    <a:off x="3952800" y="5987880"/>
                    <a:ext cx="70920" cy="90720"/>
                  </a:xfrm>
                  <a:custGeom>
                    <a:avLst/>
                    <a:gdLst>
                      <a:gd name="textAreaLeft" fmla="*/ 0 w 70920"/>
                      <a:gd name="textAreaRight" fmla="*/ 71280 w 70920"/>
                      <a:gd name="textAreaTop" fmla="*/ 0 h 90720"/>
                      <a:gd name="textAreaBottom" fmla="*/ 91080 h 90720"/>
                    </a:gdLst>
                    <a:ahLst/>
                    <a:rect l="textAreaLeft" t="textAreaTop" r="textAreaRight" b="textAreaBottom"/>
                    <a:pathLst>
                      <a:path w="224" h="328">
                        <a:moveTo>
                          <a:pt x="168" y="8"/>
                        </a:moveTo>
                        <a:cubicBezTo>
                          <a:pt x="136" y="0"/>
                          <a:pt x="48" y="56"/>
                          <a:pt x="24" y="104"/>
                        </a:cubicBezTo>
                        <a:cubicBezTo>
                          <a:pt x="0" y="152"/>
                          <a:pt x="8" y="264"/>
                          <a:pt x="24" y="296"/>
                        </a:cubicBezTo>
                        <a:cubicBezTo>
                          <a:pt x="40" y="328"/>
                          <a:pt x="88" y="320"/>
                          <a:pt x="120" y="296"/>
                        </a:cubicBezTo>
                        <a:cubicBezTo>
                          <a:pt x="152" y="272"/>
                          <a:pt x="208" y="200"/>
                          <a:pt x="216" y="152"/>
                        </a:cubicBezTo>
                        <a:cubicBezTo>
                          <a:pt x="224" y="104"/>
                          <a:pt x="200" y="16"/>
                          <a:pt x="168" y="8"/>
                        </a:cubicBezTo>
                        <a:close/>
                      </a:path>
                    </a:pathLst>
                  </a:cu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4280" bIns="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0" name="Freeform 778"/>
                  <p:cNvSpPr/>
                  <p:nvPr/>
                </p:nvSpPr>
                <p:spPr>
                  <a:xfrm rot="418200">
                    <a:off x="3971880" y="6048360"/>
                    <a:ext cx="72360" cy="78840"/>
                  </a:xfrm>
                  <a:custGeom>
                    <a:avLst/>
                    <a:gdLst>
                      <a:gd name="textAreaLeft" fmla="*/ 0 w 72360"/>
                      <a:gd name="textAreaRight" fmla="*/ 72720 w 72360"/>
                      <a:gd name="textAreaTop" fmla="*/ 0 h 78840"/>
                      <a:gd name="textAreaBottom" fmla="*/ 79200 h 78840"/>
                    </a:gdLst>
                    <a:ahLst/>
                    <a:rect l="textAreaLeft" t="textAreaTop" r="textAreaRight" b="textAreaBottom"/>
                    <a:pathLst>
                      <a:path w="224" h="328">
                        <a:moveTo>
                          <a:pt x="168" y="8"/>
                        </a:moveTo>
                        <a:cubicBezTo>
                          <a:pt x="136" y="0"/>
                          <a:pt x="48" y="56"/>
                          <a:pt x="24" y="104"/>
                        </a:cubicBezTo>
                        <a:cubicBezTo>
                          <a:pt x="0" y="152"/>
                          <a:pt x="8" y="264"/>
                          <a:pt x="24" y="296"/>
                        </a:cubicBezTo>
                        <a:cubicBezTo>
                          <a:pt x="40" y="328"/>
                          <a:pt x="88" y="320"/>
                          <a:pt x="120" y="296"/>
                        </a:cubicBezTo>
                        <a:cubicBezTo>
                          <a:pt x="152" y="272"/>
                          <a:pt x="208" y="200"/>
                          <a:pt x="216" y="152"/>
                        </a:cubicBezTo>
                        <a:cubicBezTo>
                          <a:pt x="224" y="104"/>
                          <a:pt x="200" y="16"/>
                          <a:pt x="168" y="8"/>
                        </a:cubicBezTo>
                        <a:close/>
                      </a:path>
                    </a:pathLst>
                  </a:cu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400" bIns="32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1" name="Freeform 779"/>
                  <p:cNvSpPr/>
                  <p:nvPr/>
                </p:nvSpPr>
                <p:spPr>
                  <a:xfrm rot="4212000">
                    <a:off x="4075560" y="6019200"/>
                    <a:ext cx="70920" cy="90360"/>
                  </a:xfrm>
                  <a:custGeom>
                    <a:avLst/>
                    <a:gdLst>
                      <a:gd name="textAreaLeft" fmla="*/ 0 w 70920"/>
                      <a:gd name="textAreaRight" fmla="*/ 71280 w 70920"/>
                      <a:gd name="textAreaTop" fmla="*/ 0 h 90360"/>
                      <a:gd name="textAreaBottom" fmla="*/ 90720 h 90360"/>
                    </a:gdLst>
                    <a:ahLst/>
                    <a:rect l="textAreaLeft" t="textAreaTop" r="textAreaRight" b="textAreaBottom"/>
                    <a:pathLst>
                      <a:path w="224" h="328">
                        <a:moveTo>
                          <a:pt x="168" y="8"/>
                        </a:moveTo>
                        <a:cubicBezTo>
                          <a:pt x="136" y="0"/>
                          <a:pt x="48" y="56"/>
                          <a:pt x="24" y="104"/>
                        </a:cubicBezTo>
                        <a:cubicBezTo>
                          <a:pt x="0" y="152"/>
                          <a:pt x="8" y="264"/>
                          <a:pt x="24" y="296"/>
                        </a:cubicBezTo>
                        <a:cubicBezTo>
                          <a:pt x="40" y="328"/>
                          <a:pt x="88" y="320"/>
                          <a:pt x="120" y="296"/>
                        </a:cubicBezTo>
                        <a:cubicBezTo>
                          <a:pt x="152" y="272"/>
                          <a:pt x="208" y="200"/>
                          <a:pt x="216" y="152"/>
                        </a:cubicBezTo>
                        <a:cubicBezTo>
                          <a:pt x="224" y="104"/>
                          <a:pt x="200" y="16"/>
                          <a:pt x="168" y="8"/>
                        </a:cubicBezTo>
                        <a:close/>
                      </a:path>
                    </a:pathLst>
                  </a:cu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920" bIns="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2" name="Freeform 780"/>
                  <p:cNvSpPr/>
                  <p:nvPr/>
                </p:nvSpPr>
                <p:spPr>
                  <a:xfrm rot="7452000">
                    <a:off x="3991680" y="5960880"/>
                    <a:ext cx="70920" cy="90360"/>
                  </a:xfrm>
                  <a:custGeom>
                    <a:avLst/>
                    <a:gdLst>
                      <a:gd name="textAreaLeft" fmla="*/ 0 w 70920"/>
                      <a:gd name="textAreaRight" fmla="*/ 71280 w 70920"/>
                      <a:gd name="textAreaTop" fmla="*/ 0 h 90360"/>
                      <a:gd name="textAreaBottom" fmla="*/ 90720 h 90360"/>
                    </a:gdLst>
                    <a:ahLst/>
                    <a:rect l="textAreaLeft" t="textAreaTop" r="textAreaRight" b="textAreaBottom"/>
                    <a:pathLst>
                      <a:path w="224" h="328">
                        <a:moveTo>
                          <a:pt x="168" y="8"/>
                        </a:moveTo>
                        <a:cubicBezTo>
                          <a:pt x="136" y="0"/>
                          <a:pt x="48" y="56"/>
                          <a:pt x="24" y="104"/>
                        </a:cubicBezTo>
                        <a:cubicBezTo>
                          <a:pt x="0" y="152"/>
                          <a:pt x="8" y="264"/>
                          <a:pt x="24" y="296"/>
                        </a:cubicBezTo>
                        <a:cubicBezTo>
                          <a:pt x="40" y="328"/>
                          <a:pt x="88" y="320"/>
                          <a:pt x="120" y="296"/>
                        </a:cubicBezTo>
                        <a:cubicBezTo>
                          <a:pt x="152" y="272"/>
                          <a:pt x="208" y="200"/>
                          <a:pt x="216" y="152"/>
                        </a:cubicBezTo>
                        <a:cubicBezTo>
                          <a:pt x="224" y="104"/>
                          <a:pt x="200" y="16"/>
                          <a:pt x="168" y="8"/>
                        </a:cubicBezTo>
                        <a:close/>
                      </a:path>
                    </a:pathLst>
                  </a:cu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920" bIns="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3" name="Freeform 781"/>
                  <p:cNvSpPr/>
                  <p:nvPr/>
                </p:nvSpPr>
                <p:spPr>
                  <a:xfrm rot="418200">
                    <a:off x="4055760" y="5963040"/>
                    <a:ext cx="72360" cy="78840"/>
                  </a:xfrm>
                  <a:custGeom>
                    <a:avLst/>
                    <a:gdLst>
                      <a:gd name="textAreaLeft" fmla="*/ 0 w 72360"/>
                      <a:gd name="textAreaRight" fmla="*/ 72720 w 72360"/>
                      <a:gd name="textAreaTop" fmla="*/ 0 h 78840"/>
                      <a:gd name="textAreaBottom" fmla="*/ 79200 h 78840"/>
                    </a:gdLst>
                    <a:ahLst/>
                    <a:rect l="textAreaLeft" t="textAreaTop" r="textAreaRight" b="textAreaBottom"/>
                    <a:pathLst>
                      <a:path w="224" h="328">
                        <a:moveTo>
                          <a:pt x="168" y="8"/>
                        </a:moveTo>
                        <a:cubicBezTo>
                          <a:pt x="136" y="0"/>
                          <a:pt x="48" y="56"/>
                          <a:pt x="24" y="104"/>
                        </a:cubicBezTo>
                        <a:cubicBezTo>
                          <a:pt x="0" y="152"/>
                          <a:pt x="8" y="264"/>
                          <a:pt x="24" y="296"/>
                        </a:cubicBezTo>
                        <a:cubicBezTo>
                          <a:pt x="40" y="328"/>
                          <a:pt x="88" y="320"/>
                          <a:pt x="120" y="296"/>
                        </a:cubicBezTo>
                        <a:cubicBezTo>
                          <a:pt x="152" y="272"/>
                          <a:pt x="208" y="200"/>
                          <a:pt x="216" y="152"/>
                        </a:cubicBezTo>
                        <a:cubicBezTo>
                          <a:pt x="224" y="104"/>
                          <a:pt x="200" y="16"/>
                          <a:pt x="168" y="8"/>
                        </a:cubicBezTo>
                        <a:close/>
                      </a:path>
                    </a:pathLst>
                  </a:cu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400" bIns="32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4" name="Freeform 782"/>
                  <p:cNvSpPr/>
                  <p:nvPr/>
                </p:nvSpPr>
                <p:spPr>
                  <a:xfrm rot="418200">
                    <a:off x="4031280" y="6037200"/>
                    <a:ext cx="36000" cy="31320"/>
                  </a:xfrm>
                  <a:custGeom>
                    <a:avLst/>
                    <a:gdLst>
                      <a:gd name="textAreaLeft" fmla="*/ 0 w 36000"/>
                      <a:gd name="textAreaRight" fmla="*/ 36360 w 36000"/>
                      <a:gd name="textAreaTop" fmla="*/ 0 h 31320"/>
                      <a:gd name="textAreaBottom" fmla="*/ 31680 h 31320"/>
                    </a:gdLst>
                    <a:ahLst/>
                    <a:rect l="textAreaLeft" t="textAreaTop" r="textAreaRight" b="textAreaBottom"/>
                    <a:pathLst>
                      <a:path w="224" h="328">
                        <a:moveTo>
                          <a:pt x="168" y="8"/>
                        </a:moveTo>
                        <a:cubicBezTo>
                          <a:pt x="136" y="0"/>
                          <a:pt x="48" y="56"/>
                          <a:pt x="24" y="104"/>
                        </a:cubicBezTo>
                        <a:cubicBezTo>
                          <a:pt x="0" y="152"/>
                          <a:pt x="8" y="264"/>
                          <a:pt x="24" y="296"/>
                        </a:cubicBezTo>
                        <a:cubicBezTo>
                          <a:pt x="40" y="328"/>
                          <a:pt x="88" y="320"/>
                          <a:pt x="120" y="296"/>
                        </a:cubicBezTo>
                        <a:cubicBezTo>
                          <a:pt x="152" y="272"/>
                          <a:pt x="208" y="200"/>
                          <a:pt x="216" y="152"/>
                        </a:cubicBezTo>
                        <a:cubicBezTo>
                          <a:pt x="224" y="104"/>
                          <a:pt x="200" y="16"/>
                          <a:pt x="168" y="8"/>
                        </a:cubicBezTo>
                        <a:close/>
                      </a:path>
                    </a:pathLst>
                  </a:custGeom>
                  <a:solidFill>
                    <a:srgbClr val="33cc33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05" name="Freeform 783"/>
                <p:cNvSpPr/>
                <p:nvPr/>
              </p:nvSpPr>
              <p:spPr>
                <a:xfrm rot="7135200">
                  <a:off x="4034520" y="6062040"/>
                  <a:ext cx="70920" cy="90360"/>
                </a:xfrm>
                <a:custGeom>
                  <a:avLst/>
                  <a:gdLst>
                    <a:gd name="textAreaLeft" fmla="*/ 0 w 70920"/>
                    <a:gd name="textAreaRight" fmla="*/ 71280 w 70920"/>
                    <a:gd name="textAreaTop" fmla="*/ 0 h 90360"/>
                    <a:gd name="textAreaBottom" fmla="*/ 90720 h 90360"/>
                  </a:gdLst>
                  <a:ahLst/>
                  <a:rect l="textAreaLeft" t="textAreaTop" r="textAreaRight" b="textAreaBottom"/>
                  <a:pathLst>
                    <a:path w="224" h="328">
                      <a:moveTo>
                        <a:pt x="168" y="8"/>
                      </a:moveTo>
                      <a:cubicBezTo>
                        <a:pt x="136" y="0"/>
                        <a:pt x="48" y="56"/>
                        <a:pt x="24" y="104"/>
                      </a:cubicBezTo>
                      <a:cubicBezTo>
                        <a:pt x="0" y="152"/>
                        <a:pt x="8" y="264"/>
                        <a:pt x="24" y="296"/>
                      </a:cubicBezTo>
                      <a:cubicBezTo>
                        <a:pt x="40" y="328"/>
                        <a:pt x="88" y="320"/>
                        <a:pt x="120" y="296"/>
                      </a:cubicBezTo>
                      <a:cubicBezTo>
                        <a:pt x="152" y="272"/>
                        <a:pt x="208" y="200"/>
                        <a:pt x="216" y="152"/>
                      </a:cubicBezTo>
                      <a:cubicBezTo>
                        <a:pt x="224" y="104"/>
                        <a:pt x="200" y="16"/>
                        <a:pt x="168" y="8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06" name="Freeform 784"/>
              <p:cNvSpPr/>
              <p:nvPr/>
            </p:nvSpPr>
            <p:spPr>
              <a:xfrm rot="418200">
                <a:off x="4029480" y="6162840"/>
                <a:ext cx="376920" cy="487080"/>
              </a:xfrm>
              <a:custGeom>
                <a:avLst/>
                <a:gdLst>
                  <a:gd name="textAreaLeft" fmla="*/ 0 w 376920"/>
                  <a:gd name="textAreaRight" fmla="*/ 377280 w 376920"/>
                  <a:gd name="textAreaTop" fmla="*/ 0 h 487080"/>
                  <a:gd name="textAreaBottom" fmla="*/ 487440 h 487080"/>
                </a:gdLst>
                <a:ahLst/>
                <a:rect l="textAreaLeft" t="textAreaTop" r="textAreaRight" b="textAreaBottom"/>
                <a:pathLst>
                  <a:path w="416" h="515">
                    <a:moveTo>
                      <a:pt x="384" y="211"/>
                    </a:moveTo>
                    <a:cubicBezTo>
                      <a:pt x="387" y="206"/>
                      <a:pt x="416" y="214"/>
                      <a:pt x="384" y="179"/>
                    </a:cubicBezTo>
                    <a:cubicBezTo>
                      <a:pt x="352" y="144"/>
                      <a:pt x="250" y="0"/>
                      <a:pt x="192" y="3"/>
                    </a:cubicBezTo>
                    <a:cubicBezTo>
                      <a:pt x="134" y="6"/>
                      <a:pt x="69" y="110"/>
                      <a:pt x="37" y="195"/>
                    </a:cubicBezTo>
                    <a:cubicBezTo>
                      <a:pt x="5" y="280"/>
                      <a:pt x="8" y="448"/>
                      <a:pt x="0" y="515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Freeform 785"/>
              <p:cNvSpPr/>
              <p:nvPr/>
            </p:nvSpPr>
            <p:spPr>
              <a:xfrm rot="418200">
                <a:off x="4020840" y="6289560"/>
                <a:ext cx="311760" cy="367560"/>
              </a:xfrm>
              <a:custGeom>
                <a:avLst/>
                <a:gdLst>
                  <a:gd name="textAreaLeft" fmla="*/ 0 w 311760"/>
                  <a:gd name="textAreaRight" fmla="*/ 311760 w 311760"/>
                  <a:gd name="textAreaTop" fmla="*/ 0 h 367560"/>
                  <a:gd name="textAreaBottom" fmla="*/ 367920 h 367560"/>
                </a:gdLst>
                <a:ahLst/>
                <a:rect l="textAreaLeft" t="textAreaTop" r="textAreaRight" b="textAreaBottom"/>
                <a:pathLst>
                  <a:path w="344" h="389">
                    <a:moveTo>
                      <a:pt x="320" y="149"/>
                    </a:moveTo>
                    <a:cubicBezTo>
                      <a:pt x="317" y="152"/>
                      <a:pt x="344" y="189"/>
                      <a:pt x="320" y="165"/>
                    </a:cubicBezTo>
                    <a:cubicBezTo>
                      <a:pt x="296" y="141"/>
                      <a:pt x="216" y="10"/>
                      <a:pt x="176" y="5"/>
                    </a:cubicBezTo>
                    <a:cubicBezTo>
                      <a:pt x="136" y="0"/>
                      <a:pt x="109" y="69"/>
                      <a:pt x="80" y="133"/>
                    </a:cubicBezTo>
                    <a:cubicBezTo>
                      <a:pt x="51" y="197"/>
                      <a:pt x="17" y="336"/>
                      <a:pt x="0" y="389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08" name="Group 786"/>
              <p:cNvGrpSpPr/>
              <p:nvPr/>
            </p:nvGrpSpPr>
            <p:grpSpPr>
              <a:xfrm>
                <a:off x="4156200" y="5932440"/>
                <a:ext cx="231120" cy="208440"/>
                <a:chOff x="4156200" y="5932440"/>
                <a:chExt cx="231120" cy="208440"/>
              </a:xfrm>
            </p:grpSpPr>
            <p:grpSp>
              <p:nvGrpSpPr>
                <p:cNvPr id="809" name="Group 787"/>
                <p:cNvGrpSpPr/>
                <p:nvPr/>
              </p:nvGrpSpPr>
              <p:grpSpPr>
                <a:xfrm>
                  <a:off x="4156200" y="5932440"/>
                  <a:ext cx="231120" cy="180000"/>
                  <a:chOff x="4156200" y="5932440"/>
                  <a:chExt cx="231120" cy="180000"/>
                </a:xfrm>
              </p:grpSpPr>
              <p:sp>
                <p:nvSpPr>
                  <p:cNvPr id="810" name="Freeform 788"/>
                  <p:cNvSpPr/>
                  <p:nvPr/>
                </p:nvSpPr>
                <p:spPr>
                  <a:xfrm rot="4435200">
                    <a:off x="4173840" y="5968800"/>
                    <a:ext cx="70920" cy="90720"/>
                  </a:xfrm>
                  <a:custGeom>
                    <a:avLst/>
                    <a:gdLst>
                      <a:gd name="textAreaLeft" fmla="*/ 0 w 70920"/>
                      <a:gd name="textAreaRight" fmla="*/ 71280 w 70920"/>
                      <a:gd name="textAreaTop" fmla="*/ 0 h 90720"/>
                      <a:gd name="textAreaBottom" fmla="*/ 91080 h 90720"/>
                    </a:gdLst>
                    <a:ahLst/>
                    <a:rect l="textAreaLeft" t="textAreaTop" r="textAreaRight" b="textAreaBottom"/>
                    <a:pathLst>
                      <a:path w="224" h="328">
                        <a:moveTo>
                          <a:pt x="168" y="8"/>
                        </a:moveTo>
                        <a:cubicBezTo>
                          <a:pt x="136" y="0"/>
                          <a:pt x="48" y="56"/>
                          <a:pt x="24" y="104"/>
                        </a:cubicBezTo>
                        <a:cubicBezTo>
                          <a:pt x="0" y="152"/>
                          <a:pt x="8" y="264"/>
                          <a:pt x="24" y="296"/>
                        </a:cubicBezTo>
                        <a:cubicBezTo>
                          <a:pt x="40" y="328"/>
                          <a:pt x="88" y="320"/>
                          <a:pt x="120" y="296"/>
                        </a:cubicBezTo>
                        <a:cubicBezTo>
                          <a:pt x="152" y="272"/>
                          <a:pt x="208" y="200"/>
                          <a:pt x="216" y="152"/>
                        </a:cubicBezTo>
                        <a:cubicBezTo>
                          <a:pt x="224" y="104"/>
                          <a:pt x="200" y="16"/>
                          <a:pt x="168" y="8"/>
                        </a:cubicBezTo>
                        <a:close/>
                      </a:path>
                    </a:pathLst>
                  </a:cu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4280" bIns="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1" name="Freeform 789"/>
                  <p:cNvSpPr/>
                  <p:nvPr/>
                </p:nvSpPr>
                <p:spPr>
                  <a:xfrm rot="418200">
                    <a:off x="4193280" y="6029280"/>
                    <a:ext cx="72360" cy="78840"/>
                  </a:xfrm>
                  <a:custGeom>
                    <a:avLst/>
                    <a:gdLst>
                      <a:gd name="textAreaLeft" fmla="*/ 0 w 72360"/>
                      <a:gd name="textAreaRight" fmla="*/ 72720 w 72360"/>
                      <a:gd name="textAreaTop" fmla="*/ 0 h 78840"/>
                      <a:gd name="textAreaBottom" fmla="*/ 79200 h 78840"/>
                    </a:gdLst>
                    <a:ahLst/>
                    <a:rect l="textAreaLeft" t="textAreaTop" r="textAreaRight" b="textAreaBottom"/>
                    <a:pathLst>
                      <a:path w="224" h="328">
                        <a:moveTo>
                          <a:pt x="168" y="8"/>
                        </a:moveTo>
                        <a:cubicBezTo>
                          <a:pt x="136" y="0"/>
                          <a:pt x="48" y="56"/>
                          <a:pt x="24" y="104"/>
                        </a:cubicBezTo>
                        <a:cubicBezTo>
                          <a:pt x="0" y="152"/>
                          <a:pt x="8" y="264"/>
                          <a:pt x="24" y="296"/>
                        </a:cubicBezTo>
                        <a:cubicBezTo>
                          <a:pt x="40" y="328"/>
                          <a:pt x="88" y="320"/>
                          <a:pt x="120" y="296"/>
                        </a:cubicBezTo>
                        <a:cubicBezTo>
                          <a:pt x="152" y="272"/>
                          <a:pt x="208" y="200"/>
                          <a:pt x="216" y="152"/>
                        </a:cubicBezTo>
                        <a:cubicBezTo>
                          <a:pt x="224" y="104"/>
                          <a:pt x="200" y="16"/>
                          <a:pt x="168" y="8"/>
                        </a:cubicBezTo>
                        <a:close/>
                      </a:path>
                    </a:pathLst>
                  </a:cu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400" bIns="32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2" name="Freeform 790"/>
                  <p:cNvSpPr/>
                  <p:nvPr/>
                </p:nvSpPr>
                <p:spPr>
                  <a:xfrm rot="4212000">
                    <a:off x="4296960" y="6000120"/>
                    <a:ext cx="70920" cy="90360"/>
                  </a:xfrm>
                  <a:custGeom>
                    <a:avLst/>
                    <a:gdLst>
                      <a:gd name="textAreaLeft" fmla="*/ 0 w 70920"/>
                      <a:gd name="textAreaRight" fmla="*/ 71280 w 70920"/>
                      <a:gd name="textAreaTop" fmla="*/ 0 h 90360"/>
                      <a:gd name="textAreaBottom" fmla="*/ 90720 h 90360"/>
                    </a:gdLst>
                    <a:ahLst/>
                    <a:rect l="textAreaLeft" t="textAreaTop" r="textAreaRight" b="textAreaBottom"/>
                    <a:pathLst>
                      <a:path w="224" h="328">
                        <a:moveTo>
                          <a:pt x="168" y="8"/>
                        </a:moveTo>
                        <a:cubicBezTo>
                          <a:pt x="136" y="0"/>
                          <a:pt x="48" y="56"/>
                          <a:pt x="24" y="104"/>
                        </a:cubicBezTo>
                        <a:cubicBezTo>
                          <a:pt x="0" y="152"/>
                          <a:pt x="8" y="264"/>
                          <a:pt x="24" y="296"/>
                        </a:cubicBezTo>
                        <a:cubicBezTo>
                          <a:pt x="40" y="328"/>
                          <a:pt x="88" y="320"/>
                          <a:pt x="120" y="296"/>
                        </a:cubicBezTo>
                        <a:cubicBezTo>
                          <a:pt x="152" y="272"/>
                          <a:pt x="208" y="200"/>
                          <a:pt x="216" y="152"/>
                        </a:cubicBezTo>
                        <a:cubicBezTo>
                          <a:pt x="224" y="104"/>
                          <a:pt x="200" y="16"/>
                          <a:pt x="168" y="8"/>
                        </a:cubicBezTo>
                        <a:close/>
                      </a:path>
                    </a:pathLst>
                  </a:cu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920" bIns="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3" name="Freeform 791"/>
                  <p:cNvSpPr/>
                  <p:nvPr/>
                </p:nvSpPr>
                <p:spPr>
                  <a:xfrm rot="7452000">
                    <a:off x="4212720" y="5941800"/>
                    <a:ext cx="70920" cy="90360"/>
                  </a:xfrm>
                  <a:custGeom>
                    <a:avLst/>
                    <a:gdLst>
                      <a:gd name="textAreaLeft" fmla="*/ 0 w 70920"/>
                      <a:gd name="textAreaRight" fmla="*/ 71280 w 70920"/>
                      <a:gd name="textAreaTop" fmla="*/ 0 h 90360"/>
                      <a:gd name="textAreaBottom" fmla="*/ 90720 h 90360"/>
                    </a:gdLst>
                    <a:ahLst/>
                    <a:rect l="textAreaLeft" t="textAreaTop" r="textAreaRight" b="textAreaBottom"/>
                    <a:pathLst>
                      <a:path w="224" h="328">
                        <a:moveTo>
                          <a:pt x="168" y="8"/>
                        </a:moveTo>
                        <a:cubicBezTo>
                          <a:pt x="136" y="0"/>
                          <a:pt x="48" y="56"/>
                          <a:pt x="24" y="104"/>
                        </a:cubicBezTo>
                        <a:cubicBezTo>
                          <a:pt x="0" y="152"/>
                          <a:pt x="8" y="264"/>
                          <a:pt x="24" y="296"/>
                        </a:cubicBezTo>
                        <a:cubicBezTo>
                          <a:pt x="40" y="328"/>
                          <a:pt x="88" y="320"/>
                          <a:pt x="120" y="296"/>
                        </a:cubicBezTo>
                        <a:cubicBezTo>
                          <a:pt x="152" y="272"/>
                          <a:pt x="208" y="200"/>
                          <a:pt x="216" y="152"/>
                        </a:cubicBezTo>
                        <a:cubicBezTo>
                          <a:pt x="224" y="104"/>
                          <a:pt x="200" y="16"/>
                          <a:pt x="168" y="8"/>
                        </a:cubicBezTo>
                        <a:close/>
                      </a:path>
                    </a:pathLst>
                  </a:cu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920" bIns="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4" name="Freeform 792"/>
                  <p:cNvSpPr/>
                  <p:nvPr/>
                </p:nvSpPr>
                <p:spPr>
                  <a:xfrm rot="418200">
                    <a:off x="4277160" y="5943960"/>
                    <a:ext cx="72360" cy="78840"/>
                  </a:xfrm>
                  <a:custGeom>
                    <a:avLst/>
                    <a:gdLst>
                      <a:gd name="textAreaLeft" fmla="*/ 0 w 72360"/>
                      <a:gd name="textAreaRight" fmla="*/ 72720 w 72360"/>
                      <a:gd name="textAreaTop" fmla="*/ 0 h 78840"/>
                      <a:gd name="textAreaBottom" fmla="*/ 79200 h 78840"/>
                    </a:gdLst>
                    <a:ahLst/>
                    <a:rect l="textAreaLeft" t="textAreaTop" r="textAreaRight" b="textAreaBottom"/>
                    <a:pathLst>
                      <a:path w="224" h="328">
                        <a:moveTo>
                          <a:pt x="168" y="8"/>
                        </a:moveTo>
                        <a:cubicBezTo>
                          <a:pt x="136" y="0"/>
                          <a:pt x="48" y="56"/>
                          <a:pt x="24" y="104"/>
                        </a:cubicBezTo>
                        <a:cubicBezTo>
                          <a:pt x="0" y="152"/>
                          <a:pt x="8" y="264"/>
                          <a:pt x="24" y="296"/>
                        </a:cubicBezTo>
                        <a:cubicBezTo>
                          <a:pt x="40" y="328"/>
                          <a:pt x="88" y="320"/>
                          <a:pt x="120" y="296"/>
                        </a:cubicBezTo>
                        <a:cubicBezTo>
                          <a:pt x="152" y="272"/>
                          <a:pt x="208" y="200"/>
                          <a:pt x="216" y="152"/>
                        </a:cubicBezTo>
                        <a:cubicBezTo>
                          <a:pt x="224" y="104"/>
                          <a:pt x="200" y="16"/>
                          <a:pt x="168" y="8"/>
                        </a:cubicBezTo>
                        <a:close/>
                      </a:path>
                    </a:pathLst>
                  </a:cu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400" bIns="32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5" name="Freeform 793"/>
                  <p:cNvSpPr/>
                  <p:nvPr/>
                </p:nvSpPr>
                <p:spPr>
                  <a:xfrm rot="418200">
                    <a:off x="4252680" y="6018120"/>
                    <a:ext cx="36000" cy="31320"/>
                  </a:xfrm>
                  <a:custGeom>
                    <a:avLst/>
                    <a:gdLst>
                      <a:gd name="textAreaLeft" fmla="*/ 0 w 36000"/>
                      <a:gd name="textAreaRight" fmla="*/ 36360 w 36000"/>
                      <a:gd name="textAreaTop" fmla="*/ 0 h 31320"/>
                      <a:gd name="textAreaBottom" fmla="*/ 31680 h 31320"/>
                    </a:gdLst>
                    <a:ahLst/>
                    <a:rect l="textAreaLeft" t="textAreaTop" r="textAreaRight" b="textAreaBottom"/>
                    <a:pathLst>
                      <a:path w="224" h="328">
                        <a:moveTo>
                          <a:pt x="168" y="8"/>
                        </a:moveTo>
                        <a:cubicBezTo>
                          <a:pt x="136" y="0"/>
                          <a:pt x="48" y="56"/>
                          <a:pt x="24" y="104"/>
                        </a:cubicBezTo>
                        <a:cubicBezTo>
                          <a:pt x="0" y="152"/>
                          <a:pt x="8" y="264"/>
                          <a:pt x="24" y="296"/>
                        </a:cubicBezTo>
                        <a:cubicBezTo>
                          <a:pt x="40" y="328"/>
                          <a:pt x="88" y="320"/>
                          <a:pt x="120" y="296"/>
                        </a:cubicBezTo>
                        <a:cubicBezTo>
                          <a:pt x="152" y="272"/>
                          <a:pt x="208" y="200"/>
                          <a:pt x="216" y="152"/>
                        </a:cubicBezTo>
                        <a:cubicBezTo>
                          <a:pt x="224" y="104"/>
                          <a:pt x="200" y="16"/>
                          <a:pt x="168" y="8"/>
                        </a:cubicBezTo>
                        <a:close/>
                      </a:path>
                    </a:pathLst>
                  </a:custGeom>
                  <a:solidFill>
                    <a:srgbClr val="33cc33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16" name="Freeform 794"/>
                <p:cNvSpPr/>
                <p:nvPr/>
              </p:nvSpPr>
              <p:spPr>
                <a:xfrm rot="7135200">
                  <a:off x="4255920" y="6042960"/>
                  <a:ext cx="70920" cy="90360"/>
                </a:xfrm>
                <a:custGeom>
                  <a:avLst/>
                  <a:gdLst>
                    <a:gd name="textAreaLeft" fmla="*/ 0 w 70920"/>
                    <a:gd name="textAreaRight" fmla="*/ 71280 w 70920"/>
                    <a:gd name="textAreaTop" fmla="*/ 0 h 90360"/>
                    <a:gd name="textAreaBottom" fmla="*/ 90720 h 90360"/>
                  </a:gdLst>
                  <a:ahLst/>
                  <a:rect l="textAreaLeft" t="textAreaTop" r="textAreaRight" b="textAreaBottom"/>
                  <a:pathLst>
                    <a:path w="224" h="328">
                      <a:moveTo>
                        <a:pt x="168" y="8"/>
                      </a:moveTo>
                      <a:cubicBezTo>
                        <a:pt x="136" y="0"/>
                        <a:pt x="48" y="56"/>
                        <a:pt x="24" y="104"/>
                      </a:cubicBezTo>
                      <a:cubicBezTo>
                        <a:pt x="0" y="152"/>
                        <a:pt x="8" y="264"/>
                        <a:pt x="24" y="296"/>
                      </a:cubicBezTo>
                      <a:cubicBezTo>
                        <a:pt x="40" y="328"/>
                        <a:pt x="88" y="320"/>
                        <a:pt x="120" y="296"/>
                      </a:cubicBezTo>
                      <a:cubicBezTo>
                        <a:pt x="152" y="272"/>
                        <a:pt x="208" y="200"/>
                        <a:pt x="216" y="152"/>
                      </a:cubicBezTo>
                      <a:cubicBezTo>
                        <a:pt x="224" y="104"/>
                        <a:pt x="200" y="16"/>
                        <a:pt x="168" y="8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7" name="Group 795"/>
              <p:cNvGrpSpPr/>
              <p:nvPr/>
            </p:nvGrpSpPr>
            <p:grpSpPr>
              <a:xfrm>
                <a:off x="4366080" y="6279840"/>
                <a:ext cx="234000" cy="286920"/>
                <a:chOff x="4366080" y="6279840"/>
                <a:chExt cx="234000" cy="286920"/>
              </a:xfrm>
            </p:grpSpPr>
            <p:grpSp>
              <p:nvGrpSpPr>
                <p:cNvPr id="818" name="Group 796"/>
                <p:cNvGrpSpPr/>
                <p:nvPr/>
              </p:nvGrpSpPr>
              <p:grpSpPr>
                <a:xfrm>
                  <a:off x="4366080" y="6334200"/>
                  <a:ext cx="234000" cy="232560"/>
                  <a:chOff x="4366080" y="6334200"/>
                  <a:chExt cx="234000" cy="232560"/>
                </a:xfrm>
              </p:grpSpPr>
              <p:sp>
                <p:nvSpPr>
                  <p:cNvPr id="819" name="Freeform 797"/>
                  <p:cNvSpPr/>
                  <p:nvPr/>
                </p:nvSpPr>
                <p:spPr>
                  <a:xfrm rot="11068800">
                    <a:off x="4494600" y="6347160"/>
                    <a:ext cx="96840" cy="216000"/>
                  </a:xfrm>
                  <a:custGeom>
                    <a:avLst/>
                    <a:gdLst>
                      <a:gd name="textAreaLeft" fmla="*/ 0 w 96840"/>
                      <a:gd name="textAreaRight" fmla="*/ 97200 w 96840"/>
                      <a:gd name="textAreaTop" fmla="*/ 0 h 216000"/>
                      <a:gd name="textAreaBottom" fmla="*/ 216360 h 216000"/>
                    </a:gdLst>
                    <a:ahLst/>
                    <a:rect l="textAreaLeft" t="textAreaTop" r="textAreaRight" b="textAreaBottom"/>
                    <a:pathLst>
                      <a:path w="296" h="552">
                        <a:moveTo>
                          <a:pt x="296" y="528"/>
                        </a:moveTo>
                        <a:cubicBezTo>
                          <a:pt x="224" y="540"/>
                          <a:pt x="152" y="552"/>
                          <a:pt x="104" y="528"/>
                        </a:cubicBezTo>
                        <a:cubicBezTo>
                          <a:pt x="56" y="504"/>
                          <a:pt x="16" y="440"/>
                          <a:pt x="8" y="384"/>
                        </a:cubicBezTo>
                        <a:cubicBezTo>
                          <a:pt x="0" y="328"/>
                          <a:pt x="24" y="248"/>
                          <a:pt x="56" y="192"/>
                        </a:cubicBezTo>
                        <a:cubicBezTo>
                          <a:pt x="88" y="136"/>
                          <a:pt x="160" y="80"/>
                          <a:pt x="200" y="48"/>
                        </a:cubicBezTo>
                        <a:cubicBezTo>
                          <a:pt x="240" y="16"/>
                          <a:pt x="268" y="8"/>
                          <a:pt x="296" y="0"/>
                        </a:cubicBezTo>
                      </a:path>
                    </a:pathLst>
                  </a:custGeom>
                  <a:solidFill>
                    <a:srgbClr val="ff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0" name="Freeform 798"/>
                  <p:cNvSpPr/>
                  <p:nvPr/>
                </p:nvSpPr>
                <p:spPr>
                  <a:xfrm flipH="1" rot="11068200">
                    <a:off x="4374360" y="6338520"/>
                    <a:ext cx="123120" cy="216000"/>
                  </a:xfrm>
                  <a:custGeom>
                    <a:avLst/>
                    <a:gdLst>
                      <a:gd name="textAreaLeft" fmla="*/ 360 w 123120"/>
                      <a:gd name="textAreaRight" fmla="*/ 123840 w 123120"/>
                      <a:gd name="textAreaTop" fmla="*/ 0 h 216000"/>
                      <a:gd name="textAreaBottom" fmla="*/ 216360 h 216000"/>
                    </a:gdLst>
                    <a:ahLst/>
                    <a:rect l="textAreaLeft" t="textAreaTop" r="textAreaRight" b="textAreaBottom"/>
                    <a:pathLst>
                      <a:path w="296" h="552">
                        <a:moveTo>
                          <a:pt x="296" y="528"/>
                        </a:moveTo>
                        <a:cubicBezTo>
                          <a:pt x="224" y="540"/>
                          <a:pt x="152" y="552"/>
                          <a:pt x="104" y="528"/>
                        </a:cubicBezTo>
                        <a:cubicBezTo>
                          <a:pt x="56" y="504"/>
                          <a:pt x="16" y="440"/>
                          <a:pt x="8" y="384"/>
                        </a:cubicBezTo>
                        <a:cubicBezTo>
                          <a:pt x="0" y="328"/>
                          <a:pt x="24" y="248"/>
                          <a:pt x="56" y="192"/>
                        </a:cubicBezTo>
                        <a:cubicBezTo>
                          <a:pt x="88" y="136"/>
                          <a:pt x="160" y="80"/>
                          <a:pt x="200" y="48"/>
                        </a:cubicBezTo>
                        <a:cubicBezTo>
                          <a:pt x="240" y="16"/>
                          <a:pt x="268" y="8"/>
                          <a:pt x="296" y="0"/>
                        </a:cubicBezTo>
                      </a:path>
                    </a:pathLst>
                  </a:custGeom>
                  <a:solidFill>
                    <a:srgbClr val="ff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21" name="Freeform 799"/>
                <p:cNvSpPr/>
                <p:nvPr/>
              </p:nvSpPr>
              <p:spPr>
                <a:xfrm flipV="1" rot="418200">
                  <a:off x="4504320" y="6401520"/>
                  <a:ext cx="15480" cy="18720"/>
                </a:xfrm>
                <a:custGeom>
                  <a:avLst/>
                  <a:gdLst>
                    <a:gd name="textAreaLeft" fmla="*/ 0 w 15480"/>
                    <a:gd name="textAreaRight" fmla="*/ 15840 w 15480"/>
                    <a:gd name="textAreaTop" fmla="*/ 360 h 18720"/>
                    <a:gd name="textAreaBottom" fmla="*/ 19440 h 18720"/>
                  </a:gdLst>
                  <a:ahLst/>
                  <a:rect l="textAreaLeft" t="textAreaTop" r="textAreaRight" b="textAreaBottom"/>
                  <a:pathLst>
                    <a:path w="192" h="288">
                      <a:moveTo>
                        <a:pt x="0" y="288"/>
                      </a:moveTo>
                      <a:lnTo>
                        <a:pt x="192" y="288"/>
                      </a:lnTo>
                      <a:lnTo>
                        <a:pt x="48" y="0"/>
                      </a:lnTo>
                      <a:lnTo>
                        <a:pt x="0" y="288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2" name="Freeform 800"/>
                <p:cNvSpPr/>
                <p:nvPr/>
              </p:nvSpPr>
              <p:spPr>
                <a:xfrm flipV="1" rot="418200">
                  <a:off x="4428720" y="6373080"/>
                  <a:ext cx="15480" cy="18720"/>
                </a:xfrm>
                <a:custGeom>
                  <a:avLst/>
                  <a:gdLst>
                    <a:gd name="textAreaLeft" fmla="*/ 0 w 15480"/>
                    <a:gd name="textAreaRight" fmla="*/ 15840 w 15480"/>
                    <a:gd name="textAreaTop" fmla="*/ 360 h 18720"/>
                    <a:gd name="textAreaBottom" fmla="*/ 19440 h 18720"/>
                  </a:gdLst>
                  <a:ahLst/>
                  <a:rect l="textAreaLeft" t="textAreaTop" r="textAreaRight" b="textAreaBottom"/>
                  <a:pathLst>
                    <a:path w="192" h="288">
                      <a:moveTo>
                        <a:pt x="0" y="288"/>
                      </a:moveTo>
                      <a:lnTo>
                        <a:pt x="192" y="288"/>
                      </a:lnTo>
                      <a:lnTo>
                        <a:pt x="48" y="0"/>
                      </a:lnTo>
                      <a:lnTo>
                        <a:pt x="0" y="288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3" name="Freeform 801"/>
                <p:cNvSpPr/>
                <p:nvPr/>
              </p:nvSpPr>
              <p:spPr>
                <a:xfrm flipV="1" rot="418200">
                  <a:off x="4441680" y="6393960"/>
                  <a:ext cx="15480" cy="18720"/>
                </a:xfrm>
                <a:custGeom>
                  <a:avLst/>
                  <a:gdLst>
                    <a:gd name="textAreaLeft" fmla="*/ 0 w 15480"/>
                    <a:gd name="textAreaRight" fmla="*/ 15840 w 15480"/>
                    <a:gd name="textAreaTop" fmla="*/ 360 h 18720"/>
                    <a:gd name="textAreaBottom" fmla="*/ 19440 h 18720"/>
                  </a:gdLst>
                  <a:ahLst/>
                  <a:rect l="textAreaLeft" t="textAreaTop" r="textAreaRight" b="textAreaBottom"/>
                  <a:pathLst>
                    <a:path w="192" h="288">
                      <a:moveTo>
                        <a:pt x="0" y="288"/>
                      </a:moveTo>
                      <a:lnTo>
                        <a:pt x="192" y="288"/>
                      </a:lnTo>
                      <a:lnTo>
                        <a:pt x="48" y="0"/>
                      </a:lnTo>
                      <a:lnTo>
                        <a:pt x="0" y="288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4" name="Freeform 802"/>
                <p:cNvSpPr/>
                <p:nvPr/>
              </p:nvSpPr>
              <p:spPr>
                <a:xfrm flipV="1" rot="418200">
                  <a:off x="4470840" y="6416280"/>
                  <a:ext cx="15480" cy="18720"/>
                </a:xfrm>
                <a:custGeom>
                  <a:avLst/>
                  <a:gdLst>
                    <a:gd name="textAreaLeft" fmla="*/ 0 w 15480"/>
                    <a:gd name="textAreaRight" fmla="*/ 15840 w 15480"/>
                    <a:gd name="textAreaTop" fmla="*/ 360 h 18720"/>
                    <a:gd name="textAreaBottom" fmla="*/ 19440 h 18720"/>
                  </a:gdLst>
                  <a:ahLst/>
                  <a:rect l="textAreaLeft" t="textAreaTop" r="textAreaRight" b="textAreaBottom"/>
                  <a:pathLst>
                    <a:path w="192" h="288">
                      <a:moveTo>
                        <a:pt x="0" y="288"/>
                      </a:moveTo>
                      <a:lnTo>
                        <a:pt x="192" y="288"/>
                      </a:lnTo>
                      <a:lnTo>
                        <a:pt x="48" y="0"/>
                      </a:lnTo>
                      <a:lnTo>
                        <a:pt x="0" y="288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5" name="Freeform 803"/>
                <p:cNvSpPr/>
                <p:nvPr/>
              </p:nvSpPr>
              <p:spPr>
                <a:xfrm flipV="1" rot="418200">
                  <a:off x="4450680" y="6451560"/>
                  <a:ext cx="15480" cy="18720"/>
                </a:xfrm>
                <a:custGeom>
                  <a:avLst/>
                  <a:gdLst>
                    <a:gd name="textAreaLeft" fmla="*/ 0 w 15480"/>
                    <a:gd name="textAreaRight" fmla="*/ 15840 w 15480"/>
                    <a:gd name="textAreaTop" fmla="*/ 360 h 18720"/>
                    <a:gd name="textAreaBottom" fmla="*/ 19440 h 18720"/>
                  </a:gdLst>
                  <a:ahLst/>
                  <a:rect l="textAreaLeft" t="textAreaTop" r="textAreaRight" b="textAreaBottom"/>
                  <a:pathLst>
                    <a:path w="192" h="288">
                      <a:moveTo>
                        <a:pt x="0" y="288"/>
                      </a:moveTo>
                      <a:lnTo>
                        <a:pt x="192" y="288"/>
                      </a:lnTo>
                      <a:lnTo>
                        <a:pt x="48" y="0"/>
                      </a:lnTo>
                      <a:lnTo>
                        <a:pt x="0" y="288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6" name="Freeform 804"/>
                <p:cNvSpPr/>
                <p:nvPr/>
              </p:nvSpPr>
              <p:spPr>
                <a:xfrm flipV="1" rot="418200">
                  <a:off x="4432680" y="6468120"/>
                  <a:ext cx="15480" cy="18720"/>
                </a:xfrm>
                <a:custGeom>
                  <a:avLst/>
                  <a:gdLst>
                    <a:gd name="textAreaLeft" fmla="*/ 0 w 15480"/>
                    <a:gd name="textAreaRight" fmla="*/ 15840 w 15480"/>
                    <a:gd name="textAreaTop" fmla="*/ 360 h 18720"/>
                    <a:gd name="textAreaBottom" fmla="*/ 19440 h 18720"/>
                  </a:gdLst>
                  <a:ahLst/>
                  <a:rect l="textAreaLeft" t="textAreaTop" r="textAreaRight" b="textAreaBottom"/>
                  <a:pathLst>
                    <a:path w="192" h="288">
                      <a:moveTo>
                        <a:pt x="0" y="288"/>
                      </a:moveTo>
                      <a:lnTo>
                        <a:pt x="192" y="288"/>
                      </a:lnTo>
                      <a:lnTo>
                        <a:pt x="48" y="0"/>
                      </a:lnTo>
                      <a:lnTo>
                        <a:pt x="0" y="288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7" name="Freeform 805"/>
                <p:cNvSpPr/>
                <p:nvPr/>
              </p:nvSpPr>
              <p:spPr>
                <a:xfrm flipV="1" rot="418200">
                  <a:off x="4446000" y="6489000"/>
                  <a:ext cx="15480" cy="18720"/>
                </a:xfrm>
                <a:custGeom>
                  <a:avLst/>
                  <a:gdLst>
                    <a:gd name="textAreaLeft" fmla="*/ 0 w 15480"/>
                    <a:gd name="textAreaRight" fmla="*/ 15840 w 15480"/>
                    <a:gd name="textAreaTop" fmla="*/ 360 h 18720"/>
                    <a:gd name="textAreaBottom" fmla="*/ 19440 h 18720"/>
                  </a:gdLst>
                  <a:ahLst/>
                  <a:rect l="textAreaLeft" t="textAreaTop" r="textAreaRight" b="textAreaBottom"/>
                  <a:pathLst>
                    <a:path w="192" h="288">
                      <a:moveTo>
                        <a:pt x="0" y="288"/>
                      </a:moveTo>
                      <a:lnTo>
                        <a:pt x="192" y="288"/>
                      </a:lnTo>
                      <a:lnTo>
                        <a:pt x="48" y="0"/>
                      </a:lnTo>
                      <a:lnTo>
                        <a:pt x="0" y="288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8" name="Freeform 806"/>
                <p:cNvSpPr/>
                <p:nvPr/>
              </p:nvSpPr>
              <p:spPr>
                <a:xfrm flipV="1" rot="418200">
                  <a:off x="4475160" y="6511680"/>
                  <a:ext cx="15480" cy="18720"/>
                </a:xfrm>
                <a:custGeom>
                  <a:avLst/>
                  <a:gdLst>
                    <a:gd name="textAreaLeft" fmla="*/ 0 w 15480"/>
                    <a:gd name="textAreaRight" fmla="*/ 15840 w 15480"/>
                    <a:gd name="textAreaTop" fmla="*/ 360 h 18720"/>
                    <a:gd name="textAreaBottom" fmla="*/ 19440 h 18720"/>
                  </a:gdLst>
                  <a:ahLst/>
                  <a:rect l="textAreaLeft" t="textAreaTop" r="textAreaRight" b="textAreaBottom"/>
                  <a:pathLst>
                    <a:path w="192" h="288">
                      <a:moveTo>
                        <a:pt x="0" y="288"/>
                      </a:moveTo>
                      <a:lnTo>
                        <a:pt x="192" y="288"/>
                      </a:lnTo>
                      <a:lnTo>
                        <a:pt x="48" y="0"/>
                      </a:lnTo>
                      <a:lnTo>
                        <a:pt x="0" y="288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9" name="Freeform 807"/>
                <p:cNvSpPr/>
                <p:nvPr/>
              </p:nvSpPr>
              <p:spPr>
                <a:xfrm flipV="1" rot="418200">
                  <a:off x="4408560" y="6408720"/>
                  <a:ext cx="15480" cy="18720"/>
                </a:xfrm>
                <a:custGeom>
                  <a:avLst/>
                  <a:gdLst>
                    <a:gd name="textAreaLeft" fmla="*/ 0 w 15480"/>
                    <a:gd name="textAreaRight" fmla="*/ 15840 w 15480"/>
                    <a:gd name="textAreaTop" fmla="*/ 360 h 18720"/>
                    <a:gd name="textAreaBottom" fmla="*/ 19440 h 18720"/>
                  </a:gdLst>
                  <a:ahLst/>
                  <a:rect l="textAreaLeft" t="textAreaTop" r="textAreaRight" b="textAreaBottom"/>
                  <a:pathLst>
                    <a:path w="192" h="288">
                      <a:moveTo>
                        <a:pt x="0" y="288"/>
                      </a:moveTo>
                      <a:lnTo>
                        <a:pt x="192" y="288"/>
                      </a:lnTo>
                      <a:lnTo>
                        <a:pt x="48" y="0"/>
                      </a:lnTo>
                      <a:lnTo>
                        <a:pt x="0" y="288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0" name="Freeform 808"/>
                <p:cNvSpPr/>
                <p:nvPr/>
              </p:nvSpPr>
              <p:spPr>
                <a:xfrm flipV="1" rot="418200">
                  <a:off x="4421880" y="6429240"/>
                  <a:ext cx="15480" cy="18720"/>
                </a:xfrm>
                <a:custGeom>
                  <a:avLst/>
                  <a:gdLst>
                    <a:gd name="textAreaLeft" fmla="*/ 0 w 15480"/>
                    <a:gd name="textAreaRight" fmla="*/ 15840 w 15480"/>
                    <a:gd name="textAreaTop" fmla="*/ 360 h 18720"/>
                    <a:gd name="textAreaBottom" fmla="*/ 19440 h 18720"/>
                  </a:gdLst>
                  <a:ahLst/>
                  <a:rect l="textAreaLeft" t="textAreaTop" r="textAreaRight" b="textAreaBottom"/>
                  <a:pathLst>
                    <a:path w="192" h="288">
                      <a:moveTo>
                        <a:pt x="0" y="288"/>
                      </a:moveTo>
                      <a:lnTo>
                        <a:pt x="192" y="288"/>
                      </a:lnTo>
                      <a:lnTo>
                        <a:pt x="48" y="0"/>
                      </a:lnTo>
                      <a:lnTo>
                        <a:pt x="0" y="288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1" name="Freeform 809"/>
                <p:cNvSpPr/>
                <p:nvPr/>
              </p:nvSpPr>
              <p:spPr>
                <a:xfrm flipH="1" flipV="1" rot="418200">
                  <a:off x="4479120" y="6473880"/>
                  <a:ext cx="15480" cy="18720"/>
                </a:xfrm>
                <a:custGeom>
                  <a:avLst/>
                  <a:gdLst>
                    <a:gd name="textAreaLeft" fmla="*/ -360 w 15480"/>
                    <a:gd name="textAreaRight" fmla="*/ 15480 w 15480"/>
                    <a:gd name="textAreaTop" fmla="*/ 360 h 18720"/>
                    <a:gd name="textAreaBottom" fmla="*/ 19440 h 18720"/>
                  </a:gdLst>
                  <a:ahLst/>
                  <a:rect l="textAreaLeft" t="textAreaTop" r="textAreaRight" b="textAreaBottom"/>
                  <a:pathLst>
                    <a:path w="192" h="288">
                      <a:moveTo>
                        <a:pt x="0" y="288"/>
                      </a:moveTo>
                      <a:lnTo>
                        <a:pt x="192" y="288"/>
                      </a:lnTo>
                      <a:lnTo>
                        <a:pt x="48" y="0"/>
                      </a:lnTo>
                      <a:lnTo>
                        <a:pt x="0" y="288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2" name="Freeform 810"/>
                <p:cNvSpPr/>
                <p:nvPr/>
              </p:nvSpPr>
              <p:spPr>
                <a:xfrm flipH="1" flipV="1" rot="418200">
                  <a:off x="4510440" y="6477840"/>
                  <a:ext cx="15480" cy="18720"/>
                </a:xfrm>
                <a:custGeom>
                  <a:avLst/>
                  <a:gdLst>
                    <a:gd name="textAreaLeft" fmla="*/ -360 w 15480"/>
                    <a:gd name="textAreaRight" fmla="*/ 15480 w 15480"/>
                    <a:gd name="textAreaTop" fmla="*/ 360 h 18720"/>
                    <a:gd name="textAreaBottom" fmla="*/ 19440 h 18720"/>
                  </a:gdLst>
                  <a:ahLst/>
                  <a:rect l="textAreaLeft" t="textAreaTop" r="textAreaRight" b="textAreaBottom"/>
                  <a:pathLst>
                    <a:path w="192" h="288">
                      <a:moveTo>
                        <a:pt x="0" y="288"/>
                      </a:moveTo>
                      <a:lnTo>
                        <a:pt x="192" y="288"/>
                      </a:lnTo>
                      <a:lnTo>
                        <a:pt x="48" y="0"/>
                      </a:lnTo>
                      <a:lnTo>
                        <a:pt x="0" y="288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3" name="Freeform 811"/>
                <p:cNvSpPr/>
                <p:nvPr/>
              </p:nvSpPr>
              <p:spPr>
                <a:xfrm flipH="1" flipV="1" rot="418200">
                  <a:off x="4498920" y="6438600"/>
                  <a:ext cx="15480" cy="18720"/>
                </a:xfrm>
                <a:custGeom>
                  <a:avLst/>
                  <a:gdLst>
                    <a:gd name="textAreaLeft" fmla="*/ -360 w 15480"/>
                    <a:gd name="textAreaRight" fmla="*/ 15480 w 15480"/>
                    <a:gd name="textAreaTop" fmla="*/ 360 h 18720"/>
                    <a:gd name="textAreaBottom" fmla="*/ 19440 h 18720"/>
                  </a:gdLst>
                  <a:ahLst/>
                  <a:rect l="textAreaLeft" t="textAreaTop" r="textAreaRight" b="textAreaBottom"/>
                  <a:pathLst>
                    <a:path w="192" h="288">
                      <a:moveTo>
                        <a:pt x="0" y="288"/>
                      </a:moveTo>
                      <a:lnTo>
                        <a:pt x="192" y="288"/>
                      </a:lnTo>
                      <a:lnTo>
                        <a:pt x="48" y="0"/>
                      </a:lnTo>
                      <a:lnTo>
                        <a:pt x="0" y="288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4" name="Freeform 812"/>
                <p:cNvSpPr/>
                <p:nvPr/>
              </p:nvSpPr>
              <p:spPr>
                <a:xfrm flipH="1" flipV="1" rot="418200">
                  <a:off x="4532760" y="6423840"/>
                  <a:ext cx="15480" cy="18720"/>
                </a:xfrm>
                <a:custGeom>
                  <a:avLst/>
                  <a:gdLst>
                    <a:gd name="textAreaLeft" fmla="*/ -360 w 15480"/>
                    <a:gd name="textAreaRight" fmla="*/ 15480 w 15480"/>
                    <a:gd name="textAreaTop" fmla="*/ 360 h 18720"/>
                    <a:gd name="textAreaBottom" fmla="*/ 19440 h 18720"/>
                  </a:gdLst>
                  <a:ahLst/>
                  <a:rect l="textAreaLeft" t="textAreaTop" r="textAreaRight" b="textAreaBottom"/>
                  <a:pathLst>
                    <a:path w="192" h="288">
                      <a:moveTo>
                        <a:pt x="0" y="288"/>
                      </a:moveTo>
                      <a:lnTo>
                        <a:pt x="192" y="288"/>
                      </a:lnTo>
                      <a:lnTo>
                        <a:pt x="48" y="0"/>
                      </a:lnTo>
                      <a:lnTo>
                        <a:pt x="0" y="288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5" name="Freeform 813"/>
                <p:cNvSpPr/>
                <p:nvPr/>
              </p:nvSpPr>
              <p:spPr>
                <a:xfrm flipH="1" flipV="1" rot="418200">
                  <a:off x="4537440" y="6386400"/>
                  <a:ext cx="15480" cy="18720"/>
                </a:xfrm>
                <a:custGeom>
                  <a:avLst/>
                  <a:gdLst>
                    <a:gd name="textAreaLeft" fmla="*/ -360 w 15480"/>
                    <a:gd name="textAreaRight" fmla="*/ 15480 w 15480"/>
                    <a:gd name="textAreaTop" fmla="*/ 360 h 18720"/>
                    <a:gd name="textAreaBottom" fmla="*/ 19440 h 18720"/>
                  </a:gdLst>
                  <a:ahLst/>
                  <a:rect l="textAreaLeft" t="textAreaTop" r="textAreaRight" b="textAreaBottom"/>
                  <a:pathLst>
                    <a:path w="192" h="288">
                      <a:moveTo>
                        <a:pt x="0" y="288"/>
                      </a:moveTo>
                      <a:lnTo>
                        <a:pt x="192" y="288"/>
                      </a:lnTo>
                      <a:lnTo>
                        <a:pt x="48" y="0"/>
                      </a:lnTo>
                      <a:lnTo>
                        <a:pt x="0" y="288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6" name="plant"/>
                <p:cNvSpPr/>
                <p:nvPr/>
              </p:nvSpPr>
              <p:spPr>
                <a:xfrm rot="418200">
                  <a:off x="4435560" y="6286680"/>
                  <a:ext cx="123840" cy="91440"/>
                </a:xfrm>
                <a:custGeom>
                  <a:avLst/>
                  <a:gdLst>
                    <a:gd name="textAreaLeft" fmla="*/ 40680 w 123840"/>
                    <a:gd name="textAreaRight" fmla="*/ 83520 w 123840"/>
                    <a:gd name="textAreaTop" fmla="*/ 42480 h 91440"/>
                    <a:gd name="textAreaBottom" fmla="*/ 57600 h 914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9368" y="9002"/>
                      </a:moveTo>
                      <a:lnTo>
                        <a:pt x="9254" y="8422"/>
                      </a:lnTo>
                      <a:lnTo>
                        <a:pt x="9139" y="7935"/>
                      </a:lnTo>
                      <a:lnTo>
                        <a:pt x="8819" y="7355"/>
                      </a:lnTo>
                      <a:lnTo>
                        <a:pt x="8475" y="6728"/>
                      </a:lnTo>
                      <a:lnTo>
                        <a:pt x="8040" y="6287"/>
                      </a:lnTo>
                      <a:lnTo>
                        <a:pt x="7421" y="5707"/>
                      </a:lnTo>
                      <a:lnTo>
                        <a:pt x="6574" y="5429"/>
                      </a:lnTo>
                      <a:lnTo>
                        <a:pt x="5452" y="5313"/>
                      </a:lnTo>
                      <a:lnTo>
                        <a:pt x="4856" y="5220"/>
                      </a:lnTo>
                      <a:lnTo>
                        <a:pt x="4169" y="5220"/>
                      </a:lnTo>
                      <a:lnTo>
                        <a:pt x="3665" y="5104"/>
                      </a:lnTo>
                      <a:lnTo>
                        <a:pt x="3001" y="4872"/>
                      </a:lnTo>
                      <a:lnTo>
                        <a:pt x="2497" y="4756"/>
                      </a:lnTo>
                      <a:lnTo>
                        <a:pt x="2062" y="4408"/>
                      </a:lnTo>
                      <a:lnTo>
                        <a:pt x="1603" y="4083"/>
                      </a:lnTo>
                      <a:lnTo>
                        <a:pt x="1283" y="3689"/>
                      </a:lnTo>
                      <a:lnTo>
                        <a:pt x="1283" y="4315"/>
                      </a:lnTo>
                      <a:lnTo>
                        <a:pt x="1489" y="5104"/>
                      </a:lnTo>
                      <a:lnTo>
                        <a:pt x="1832" y="6055"/>
                      </a:lnTo>
                      <a:lnTo>
                        <a:pt x="2382" y="6914"/>
                      </a:lnTo>
                      <a:lnTo>
                        <a:pt x="2680" y="7471"/>
                      </a:lnTo>
                      <a:lnTo>
                        <a:pt x="3115" y="7935"/>
                      </a:lnTo>
                      <a:lnTo>
                        <a:pt x="3573" y="8213"/>
                      </a:lnTo>
                      <a:lnTo>
                        <a:pt x="4077" y="8654"/>
                      </a:lnTo>
                      <a:lnTo>
                        <a:pt x="4627" y="9002"/>
                      </a:lnTo>
                      <a:lnTo>
                        <a:pt x="5245" y="9234"/>
                      </a:lnTo>
                      <a:lnTo>
                        <a:pt x="6024" y="9443"/>
                      </a:lnTo>
                      <a:lnTo>
                        <a:pt x="6757" y="9628"/>
                      </a:lnTo>
                      <a:lnTo>
                        <a:pt x="5177" y="10069"/>
                      </a:lnTo>
                      <a:lnTo>
                        <a:pt x="3963" y="10649"/>
                      </a:lnTo>
                      <a:lnTo>
                        <a:pt x="3344" y="11044"/>
                      </a:lnTo>
                      <a:lnTo>
                        <a:pt x="2886" y="11600"/>
                      </a:lnTo>
                      <a:lnTo>
                        <a:pt x="2497" y="12041"/>
                      </a:lnTo>
                      <a:lnTo>
                        <a:pt x="1947" y="12343"/>
                      </a:lnTo>
                      <a:lnTo>
                        <a:pt x="1168" y="12668"/>
                      </a:lnTo>
                      <a:lnTo>
                        <a:pt x="0" y="12900"/>
                      </a:lnTo>
                      <a:lnTo>
                        <a:pt x="435" y="13248"/>
                      </a:lnTo>
                      <a:lnTo>
                        <a:pt x="779" y="13456"/>
                      </a:lnTo>
                      <a:lnTo>
                        <a:pt x="1283" y="13642"/>
                      </a:lnTo>
                      <a:lnTo>
                        <a:pt x="1718" y="13758"/>
                      </a:lnTo>
                      <a:lnTo>
                        <a:pt x="2680" y="13851"/>
                      </a:lnTo>
                      <a:lnTo>
                        <a:pt x="3573" y="13758"/>
                      </a:lnTo>
                      <a:lnTo>
                        <a:pt x="4512" y="13526"/>
                      </a:lnTo>
                      <a:lnTo>
                        <a:pt x="5360" y="13248"/>
                      </a:lnTo>
                      <a:lnTo>
                        <a:pt x="6139" y="12900"/>
                      </a:lnTo>
                      <a:lnTo>
                        <a:pt x="6757" y="12552"/>
                      </a:lnTo>
                      <a:lnTo>
                        <a:pt x="6459" y="13132"/>
                      </a:lnTo>
                      <a:lnTo>
                        <a:pt x="6139" y="13642"/>
                      </a:lnTo>
                      <a:lnTo>
                        <a:pt x="5910" y="14199"/>
                      </a:lnTo>
                      <a:lnTo>
                        <a:pt x="5681" y="14663"/>
                      </a:lnTo>
                      <a:lnTo>
                        <a:pt x="5681" y="15150"/>
                      </a:lnTo>
                      <a:lnTo>
                        <a:pt x="5681" y="15730"/>
                      </a:lnTo>
                      <a:lnTo>
                        <a:pt x="5681" y="16241"/>
                      </a:lnTo>
                      <a:lnTo>
                        <a:pt x="5795" y="16913"/>
                      </a:lnTo>
                      <a:lnTo>
                        <a:pt x="5910" y="17586"/>
                      </a:lnTo>
                      <a:lnTo>
                        <a:pt x="5910" y="18213"/>
                      </a:lnTo>
                      <a:lnTo>
                        <a:pt x="5795" y="18885"/>
                      </a:lnTo>
                      <a:lnTo>
                        <a:pt x="5566" y="19396"/>
                      </a:lnTo>
                      <a:lnTo>
                        <a:pt x="5245" y="19976"/>
                      </a:lnTo>
                      <a:lnTo>
                        <a:pt x="4971" y="20370"/>
                      </a:lnTo>
                      <a:lnTo>
                        <a:pt x="4512" y="20811"/>
                      </a:lnTo>
                      <a:lnTo>
                        <a:pt x="4077" y="21043"/>
                      </a:lnTo>
                      <a:lnTo>
                        <a:pt x="5177" y="20927"/>
                      </a:lnTo>
                      <a:lnTo>
                        <a:pt x="6253" y="20486"/>
                      </a:lnTo>
                      <a:lnTo>
                        <a:pt x="7421" y="19976"/>
                      </a:lnTo>
                      <a:lnTo>
                        <a:pt x="8361" y="19187"/>
                      </a:lnTo>
                      <a:lnTo>
                        <a:pt x="8819" y="18769"/>
                      </a:lnTo>
                      <a:lnTo>
                        <a:pt x="9139" y="18213"/>
                      </a:lnTo>
                      <a:lnTo>
                        <a:pt x="9437" y="17772"/>
                      </a:lnTo>
                      <a:lnTo>
                        <a:pt x="9643" y="17261"/>
                      </a:lnTo>
                      <a:lnTo>
                        <a:pt x="9872" y="16681"/>
                      </a:lnTo>
                      <a:lnTo>
                        <a:pt x="9872" y="16171"/>
                      </a:lnTo>
                      <a:lnTo>
                        <a:pt x="9872" y="15614"/>
                      </a:lnTo>
                      <a:lnTo>
                        <a:pt x="9758" y="15057"/>
                      </a:lnTo>
                      <a:lnTo>
                        <a:pt x="10216" y="15498"/>
                      </a:lnTo>
                      <a:lnTo>
                        <a:pt x="10537" y="16241"/>
                      </a:lnTo>
                      <a:lnTo>
                        <a:pt x="10834" y="17145"/>
                      </a:lnTo>
                      <a:lnTo>
                        <a:pt x="11041" y="18213"/>
                      </a:lnTo>
                      <a:lnTo>
                        <a:pt x="11155" y="19187"/>
                      </a:lnTo>
                      <a:lnTo>
                        <a:pt x="11155" y="20185"/>
                      </a:lnTo>
                      <a:lnTo>
                        <a:pt x="11155" y="20579"/>
                      </a:lnTo>
                      <a:lnTo>
                        <a:pt x="11041" y="21043"/>
                      </a:lnTo>
                      <a:lnTo>
                        <a:pt x="10926" y="21391"/>
                      </a:lnTo>
                      <a:lnTo>
                        <a:pt x="10766" y="21600"/>
                      </a:lnTo>
                      <a:lnTo>
                        <a:pt x="11499" y="21484"/>
                      </a:lnTo>
                      <a:lnTo>
                        <a:pt x="12323" y="21043"/>
                      </a:lnTo>
                      <a:lnTo>
                        <a:pt x="13102" y="20370"/>
                      </a:lnTo>
                      <a:lnTo>
                        <a:pt x="13606" y="19628"/>
                      </a:lnTo>
                      <a:lnTo>
                        <a:pt x="13950" y="19071"/>
                      </a:lnTo>
                      <a:lnTo>
                        <a:pt x="14064" y="18677"/>
                      </a:lnTo>
                      <a:lnTo>
                        <a:pt x="14179" y="18097"/>
                      </a:lnTo>
                      <a:lnTo>
                        <a:pt x="14293" y="17586"/>
                      </a:lnTo>
                      <a:lnTo>
                        <a:pt x="14179" y="16913"/>
                      </a:lnTo>
                      <a:lnTo>
                        <a:pt x="14064" y="16241"/>
                      </a:lnTo>
                      <a:lnTo>
                        <a:pt x="13835" y="15614"/>
                      </a:lnTo>
                      <a:lnTo>
                        <a:pt x="13560" y="14872"/>
                      </a:lnTo>
                      <a:lnTo>
                        <a:pt x="13950" y="14941"/>
                      </a:lnTo>
                      <a:lnTo>
                        <a:pt x="14408" y="15150"/>
                      </a:lnTo>
                      <a:lnTo>
                        <a:pt x="14843" y="15266"/>
                      </a:lnTo>
                      <a:lnTo>
                        <a:pt x="15232" y="15614"/>
                      </a:lnTo>
                      <a:lnTo>
                        <a:pt x="15576" y="15846"/>
                      </a:lnTo>
                      <a:lnTo>
                        <a:pt x="15897" y="16171"/>
                      </a:lnTo>
                      <a:lnTo>
                        <a:pt x="16126" y="16473"/>
                      </a:lnTo>
                      <a:lnTo>
                        <a:pt x="16240" y="16913"/>
                      </a:lnTo>
                      <a:lnTo>
                        <a:pt x="16515" y="17261"/>
                      </a:lnTo>
                      <a:lnTo>
                        <a:pt x="17088" y="17586"/>
                      </a:lnTo>
                      <a:lnTo>
                        <a:pt x="17798" y="17865"/>
                      </a:lnTo>
                      <a:lnTo>
                        <a:pt x="18576" y="18097"/>
                      </a:lnTo>
                      <a:lnTo>
                        <a:pt x="19424" y="18213"/>
                      </a:lnTo>
                      <a:lnTo>
                        <a:pt x="20317" y="18213"/>
                      </a:lnTo>
                      <a:lnTo>
                        <a:pt x="21050" y="18213"/>
                      </a:lnTo>
                      <a:lnTo>
                        <a:pt x="21600" y="17865"/>
                      </a:lnTo>
                      <a:lnTo>
                        <a:pt x="21165" y="17656"/>
                      </a:lnTo>
                      <a:lnTo>
                        <a:pt x="20592" y="17470"/>
                      </a:lnTo>
                      <a:lnTo>
                        <a:pt x="20088" y="17029"/>
                      </a:lnTo>
                      <a:lnTo>
                        <a:pt x="19653" y="16681"/>
                      </a:lnTo>
                      <a:lnTo>
                        <a:pt x="19195" y="16241"/>
                      </a:lnTo>
                      <a:lnTo>
                        <a:pt x="18920" y="15962"/>
                      </a:lnTo>
                      <a:lnTo>
                        <a:pt x="18576" y="15498"/>
                      </a:lnTo>
                      <a:lnTo>
                        <a:pt x="18576" y="15057"/>
                      </a:lnTo>
                      <a:lnTo>
                        <a:pt x="18485" y="14756"/>
                      </a:lnTo>
                      <a:lnTo>
                        <a:pt x="18256" y="14199"/>
                      </a:lnTo>
                      <a:lnTo>
                        <a:pt x="17912" y="13526"/>
                      </a:lnTo>
                      <a:lnTo>
                        <a:pt x="17523" y="13016"/>
                      </a:lnTo>
                      <a:lnTo>
                        <a:pt x="16973" y="12436"/>
                      </a:lnTo>
                      <a:lnTo>
                        <a:pt x="16355" y="12041"/>
                      </a:lnTo>
                      <a:lnTo>
                        <a:pt x="16011" y="11832"/>
                      </a:lnTo>
                      <a:lnTo>
                        <a:pt x="15690" y="11716"/>
                      </a:lnTo>
                      <a:lnTo>
                        <a:pt x="15232" y="11716"/>
                      </a:lnTo>
                      <a:lnTo>
                        <a:pt x="14843" y="11716"/>
                      </a:lnTo>
                      <a:lnTo>
                        <a:pt x="15461" y="11252"/>
                      </a:lnTo>
                      <a:lnTo>
                        <a:pt x="16126" y="10858"/>
                      </a:lnTo>
                      <a:lnTo>
                        <a:pt x="16973" y="10649"/>
                      </a:lnTo>
                      <a:lnTo>
                        <a:pt x="17798" y="10417"/>
                      </a:lnTo>
                      <a:lnTo>
                        <a:pt x="18806" y="10301"/>
                      </a:lnTo>
                      <a:lnTo>
                        <a:pt x="19653" y="10301"/>
                      </a:lnTo>
                      <a:lnTo>
                        <a:pt x="20478" y="10417"/>
                      </a:lnTo>
                      <a:lnTo>
                        <a:pt x="21256" y="10533"/>
                      </a:lnTo>
                      <a:lnTo>
                        <a:pt x="20707" y="9837"/>
                      </a:lnTo>
                      <a:lnTo>
                        <a:pt x="19859" y="9234"/>
                      </a:lnTo>
                      <a:lnTo>
                        <a:pt x="18806" y="8538"/>
                      </a:lnTo>
                      <a:lnTo>
                        <a:pt x="17637" y="8144"/>
                      </a:lnTo>
                      <a:lnTo>
                        <a:pt x="16973" y="8027"/>
                      </a:lnTo>
                      <a:lnTo>
                        <a:pt x="16355" y="7935"/>
                      </a:lnTo>
                      <a:lnTo>
                        <a:pt x="15805" y="7935"/>
                      </a:lnTo>
                      <a:lnTo>
                        <a:pt x="15118" y="8027"/>
                      </a:lnTo>
                      <a:lnTo>
                        <a:pt x="14614" y="8144"/>
                      </a:lnTo>
                      <a:lnTo>
                        <a:pt x="14064" y="8422"/>
                      </a:lnTo>
                      <a:lnTo>
                        <a:pt x="13606" y="8886"/>
                      </a:lnTo>
                      <a:lnTo>
                        <a:pt x="13217" y="9327"/>
                      </a:lnTo>
                      <a:lnTo>
                        <a:pt x="13606" y="8538"/>
                      </a:lnTo>
                      <a:lnTo>
                        <a:pt x="13950" y="7935"/>
                      </a:lnTo>
                      <a:lnTo>
                        <a:pt x="14293" y="7123"/>
                      </a:lnTo>
                      <a:lnTo>
                        <a:pt x="14499" y="6519"/>
                      </a:lnTo>
                      <a:lnTo>
                        <a:pt x="14614" y="5823"/>
                      </a:lnTo>
                      <a:lnTo>
                        <a:pt x="14614" y="5220"/>
                      </a:lnTo>
                      <a:lnTo>
                        <a:pt x="14408" y="4524"/>
                      </a:lnTo>
                      <a:lnTo>
                        <a:pt x="14064" y="3898"/>
                      </a:lnTo>
                      <a:lnTo>
                        <a:pt x="13606" y="3225"/>
                      </a:lnTo>
                      <a:lnTo>
                        <a:pt x="13331" y="2598"/>
                      </a:lnTo>
                      <a:lnTo>
                        <a:pt x="13102" y="2042"/>
                      </a:lnTo>
                      <a:lnTo>
                        <a:pt x="12896" y="1485"/>
                      </a:lnTo>
                      <a:lnTo>
                        <a:pt x="12781" y="1090"/>
                      </a:lnTo>
                      <a:lnTo>
                        <a:pt x="12667" y="626"/>
                      </a:lnTo>
                      <a:lnTo>
                        <a:pt x="12667" y="278"/>
                      </a:lnTo>
                      <a:lnTo>
                        <a:pt x="12667" y="0"/>
                      </a:lnTo>
                      <a:lnTo>
                        <a:pt x="12163" y="394"/>
                      </a:lnTo>
                      <a:lnTo>
                        <a:pt x="11728" y="974"/>
                      </a:lnTo>
                      <a:lnTo>
                        <a:pt x="11155" y="1601"/>
                      </a:lnTo>
                      <a:lnTo>
                        <a:pt x="10766" y="2390"/>
                      </a:lnTo>
                      <a:lnTo>
                        <a:pt x="10330" y="3109"/>
                      </a:lnTo>
                      <a:lnTo>
                        <a:pt x="10101" y="3898"/>
                      </a:lnTo>
                      <a:lnTo>
                        <a:pt x="9987" y="4524"/>
                      </a:lnTo>
                      <a:lnTo>
                        <a:pt x="10101" y="5220"/>
                      </a:lnTo>
                      <a:lnTo>
                        <a:pt x="10216" y="5823"/>
                      </a:lnTo>
                      <a:lnTo>
                        <a:pt x="10330" y="6403"/>
                      </a:lnTo>
                      <a:lnTo>
                        <a:pt x="10330" y="6914"/>
                      </a:lnTo>
                      <a:lnTo>
                        <a:pt x="10216" y="7471"/>
                      </a:lnTo>
                      <a:lnTo>
                        <a:pt x="10101" y="7935"/>
                      </a:lnTo>
                      <a:lnTo>
                        <a:pt x="9872" y="8329"/>
                      </a:lnTo>
                      <a:lnTo>
                        <a:pt x="9643" y="8654"/>
                      </a:lnTo>
                      <a:lnTo>
                        <a:pt x="9368" y="9002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7" name="Group 815"/>
              <p:cNvGrpSpPr/>
              <p:nvPr/>
            </p:nvGrpSpPr>
            <p:grpSpPr>
              <a:xfrm>
                <a:off x="4241880" y="6219000"/>
                <a:ext cx="234000" cy="286560"/>
                <a:chOff x="4241880" y="6219000"/>
                <a:chExt cx="234000" cy="286560"/>
              </a:xfrm>
            </p:grpSpPr>
            <p:grpSp>
              <p:nvGrpSpPr>
                <p:cNvPr id="838" name="Group 816"/>
                <p:cNvGrpSpPr/>
                <p:nvPr/>
              </p:nvGrpSpPr>
              <p:grpSpPr>
                <a:xfrm>
                  <a:off x="4241880" y="6273360"/>
                  <a:ext cx="234000" cy="232200"/>
                  <a:chOff x="4241880" y="6273360"/>
                  <a:chExt cx="234000" cy="232200"/>
                </a:xfrm>
              </p:grpSpPr>
              <p:sp>
                <p:nvSpPr>
                  <p:cNvPr id="839" name="Freeform 817"/>
                  <p:cNvSpPr/>
                  <p:nvPr/>
                </p:nvSpPr>
                <p:spPr>
                  <a:xfrm rot="11068800">
                    <a:off x="4370400" y="6285960"/>
                    <a:ext cx="96840" cy="216000"/>
                  </a:xfrm>
                  <a:custGeom>
                    <a:avLst/>
                    <a:gdLst>
                      <a:gd name="textAreaLeft" fmla="*/ 0 w 96840"/>
                      <a:gd name="textAreaRight" fmla="*/ 97200 w 96840"/>
                      <a:gd name="textAreaTop" fmla="*/ 0 h 216000"/>
                      <a:gd name="textAreaBottom" fmla="*/ 216360 h 216000"/>
                    </a:gdLst>
                    <a:ahLst/>
                    <a:rect l="textAreaLeft" t="textAreaTop" r="textAreaRight" b="textAreaBottom"/>
                    <a:pathLst>
                      <a:path w="296" h="552">
                        <a:moveTo>
                          <a:pt x="296" y="528"/>
                        </a:moveTo>
                        <a:cubicBezTo>
                          <a:pt x="224" y="540"/>
                          <a:pt x="152" y="552"/>
                          <a:pt x="104" y="528"/>
                        </a:cubicBezTo>
                        <a:cubicBezTo>
                          <a:pt x="56" y="504"/>
                          <a:pt x="16" y="440"/>
                          <a:pt x="8" y="384"/>
                        </a:cubicBezTo>
                        <a:cubicBezTo>
                          <a:pt x="0" y="328"/>
                          <a:pt x="24" y="248"/>
                          <a:pt x="56" y="192"/>
                        </a:cubicBezTo>
                        <a:cubicBezTo>
                          <a:pt x="88" y="136"/>
                          <a:pt x="160" y="80"/>
                          <a:pt x="200" y="48"/>
                        </a:cubicBezTo>
                        <a:cubicBezTo>
                          <a:pt x="240" y="16"/>
                          <a:pt x="268" y="8"/>
                          <a:pt x="296" y="0"/>
                        </a:cubicBezTo>
                      </a:path>
                    </a:pathLst>
                  </a:custGeom>
                  <a:solidFill>
                    <a:srgbClr val="ff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0" name="Freeform 818"/>
                  <p:cNvSpPr/>
                  <p:nvPr/>
                </p:nvSpPr>
                <p:spPr>
                  <a:xfrm flipH="1" rot="11068200">
                    <a:off x="4250160" y="6277680"/>
                    <a:ext cx="123120" cy="216000"/>
                  </a:xfrm>
                  <a:custGeom>
                    <a:avLst/>
                    <a:gdLst>
                      <a:gd name="textAreaLeft" fmla="*/ 360 w 123120"/>
                      <a:gd name="textAreaRight" fmla="*/ 123840 w 123120"/>
                      <a:gd name="textAreaTop" fmla="*/ 0 h 216000"/>
                      <a:gd name="textAreaBottom" fmla="*/ 216360 h 216000"/>
                    </a:gdLst>
                    <a:ahLst/>
                    <a:rect l="textAreaLeft" t="textAreaTop" r="textAreaRight" b="textAreaBottom"/>
                    <a:pathLst>
                      <a:path w="296" h="552">
                        <a:moveTo>
                          <a:pt x="296" y="528"/>
                        </a:moveTo>
                        <a:cubicBezTo>
                          <a:pt x="224" y="540"/>
                          <a:pt x="152" y="552"/>
                          <a:pt x="104" y="528"/>
                        </a:cubicBezTo>
                        <a:cubicBezTo>
                          <a:pt x="56" y="504"/>
                          <a:pt x="16" y="440"/>
                          <a:pt x="8" y="384"/>
                        </a:cubicBezTo>
                        <a:cubicBezTo>
                          <a:pt x="0" y="328"/>
                          <a:pt x="24" y="248"/>
                          <a:pt x="56" y="192"/>
                        </a:cubicBezTo>
                        <a:cubicBezTo>
                          <a:pt x="88" y="136"/>
                          <a:pt x="160" y="80"/>
                          <a:pt x="200" y="48"/>
                        </a:cubicBezTo>
                        <a:cubicBezTo>
                          <a:pt x="240" y="16"/>
                          <a:pt x="268" y="8"/>
                          <a:pt x="296" y="0"/>
                        </a:cubicBezTo>
                      </a:path>
                    </a:pathLst>
                  </a:custGeom>
                  <a:solidFill>
                    <a:srgbClr val="ff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41" name="Freeform 819"/>
                <p:cNvSpPr/>
                <p:nvPr/>
              </p:nvSpPr>
              <p:spPr>
                <a:xfrm flipV="1" rot="418200">
                  <a:off x="4380120" y="6340680"/>
                  <a:ext cx="15480" cy="18720"/>
                </a:xfrm>
                <a:custGeom>
                  <a:avLst/>
                  <a:gdLst>
                    <a:gd name="textAreaLeft" fmla="*/ 0 w 15480"/>
                    <a:gd name="textAreaRight" fmla="*/ 15840 w 15480"/>
                    <a:gd name="textAreaTop" fmla="*/ 360 h 18720"/>
                    <a:gd name="textAreaBottom" fmla="*/ 19440 h 18720"/>
                  </a:gdLst>
                  <a:ahLst/>
                  <a:rect l="textAreaLeft" t="textAreaTop" r="textAreaRight" b="textAreaBottom"/>
                  <a:pathLst>
                    <a:path w="192" h="288">
                      <a:moveTo>
                        <a:pt x="0" y="288"/>
                      </a:moveTo>
                      <a:lnTo>
                        <a:pt x="192" y="288"/>
                      </a:lnTo>
                      <a:lnTo>
                        <a:pt x="48" y="0"/>
                      </a:lnTo>
                      <a:lnTo>
                        <a:pt x="0" y="288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2" name="Freeform 820"/>
                <p:cNvSpPr/>
                <p:nvPr/>
              </p:nvSpPr>
              <p:spPr>
                <a:xfrm flipV="1" rot="418200">
                  <a:off x="4304520" y="6312240"/>
                  <a:ext cx="15480" cy="18720"/>
                </a:xfrm>
                <a:custGeom>
                  <a:avLst/>
                  <a:gdLst>
                    <a:gd name="textAreaLeft" fmla="*/ 0 w 15480"/>
                    <a:gd name="textAreaRight" fmla="*/ 15840 w 15480"/>
                    <a:gd name="textAreaTop" fmla="*/ 360 h 18720"/>
                    <a:gd name="textAreaBottom" fmla="*/ 19440 h 18720"/>
                  </a:gdLst>
                  <a:ahLst/>
                  <a:rect l="textAreaLeft" t="textAreaTop" r="textAreaRight" b="textAreaBottom"/>
                  <a:pathLst>
                    <a:path w="192" h="288">
                      <a:moveTo>
                        <a:pt x="0" y="288"/>
                      </a:moveTo>
                      <a:lnTo>
                        <a:pt x="192" y="288"/>
                      </a:lnTo>
                      <a:lnTo>
                        <a:pt x="48" y="0"/>
                      </a:lnTo>
                      <a:lnTo>
                        <a:pt x="0" y="288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3" name="Freeform 821"/>
                <p:cNvSpPr/>
                <p:nvPr/>
              </p:nvSpPr>
              <p:spPr>
                <a:xfrm flipV="1" rot="418200">
                  <a:off x="4317480" y="6333120"/>
                  <a:ext cx="15480" cy="18720"/>
                </a:xfrm>
                <a:custGeom>
                  <a:avLst/>
                  <a:gdLst>
                    <a:gd name="textAreaLeft" fmla="*/ 0 w 15480"/>
                    <a:gd name="textAreaRight" fmla="*/ 15840 w 15480"/>
                    <a:gd name="textAreaTop" fmla="*/ 360 h 18720"/>
                    <a:gd name="textAreaBottom" fmla="*/ 19440 h 18720"/>
                  </a:gdLst>
                  <a:ahLst/>
                  <a:rect l="textAreaLeft" t="textAreaTop" r="textAreaRight" b="textAreaBottom"/>
                  <a:pathLst>
                    <a:path w="192" h="288">
                      <a:moveTo>
                        <a:pt x="0" y="288"/>
                      </a:moveTo>
                      <a:lnTo>
                        <a:pt x="192" y="288"/>
                      </a:lnTo>
                      <a:lnTo>
                        <a:pt x="48" y="0"/>
                      </a:lnTo>
                      <a:lnTo>
                        <a:pt x="0" y="288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4" name="Freeform 822"/>
                <p:cNvSpPr/>
                <p:nvPr/>
              </p:nvSpPr>
              <p:spPr>
                <a:xfrm flipV="1" rot="418200">
                  <a:off x="4346640" y="6355440"/>
                  <a:ext cx="15480" cy="18720"/>
                </a:xfrm>
                <a:custGeom>
                  <a:avLst/>
                  <a:gdLst>
                    <a:gd name="textAreaLeft" fmla="*/ 0 w 15480"/>
                    <a:gd name="textAreaRight" fmla="*/ 15840 w 15480"/>
                    <a:gd name="textAreaTop" fmla="*/ 360 h 18720"/>
                    <a:gd name="textAreaBottom" fmla="*/ 19440 h 18720"/>
                  </a:gdLst>
                  <a:ahLst/>
                  <a:rect l="textAreaLeft" t="textAreaTop" r="textAreaRight" b="textAreaBottom"/>
                  <a:pathLst>
                    <a:path w="192" h="288">
                      <a:moveTo>
                        <a:pt x="0" y="288"/>
                      </a:moveTo>
                      <a:lnTo>
                        <a:pt x="192" y="288"/>
                      </a:lnTo>
                      <a:lnTo>
                        <a:pt x="48" y="0"/>
                      </a:lnTo>
                      <a:lnTo>
                        <a:pt x="0" y="288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5" name="Freeform 823"/>
                <p:cNvSpPr/>
                <p:nvPr/>
              </p:nvSpPr>
              <p:spPr>
                <a:xfrm flipV="1" rot="418200">
                  <a:off x="4326480" y="6390720"/>
                  <a:ext cx="15480" cy="18720"/>
                </a:xfrm>
                <a:custGeom>
                  <a:avLst/>
                  <a:gdLst>
                    <a:gd name="textAreaLeft" fmla="*/ 0 w 15480"/>
                    <a:gd name="textAreaRight" fmla="*/ 15840 w 15480"/>
                    <a:gd name="textAreaTop" fmla="*/ 360 h 18720"/>
                    <a:gd name="textAreaBottom" fmla="*/ 19440 h 18720"/>
                  </a:gdLst>
                  <a:ahLst/>
                  <a:rect l="textAreaLeft" t="textAreaTop" r="textAreaRight" b="textAreaBottom"/>
                  <a:pathLst>
                    <a:path w="192" h="288">
                      <a:moveTo>
                        <a:pt x="0" y="288"/>
                      </a:moveTo>
                      <a:lnTo>
                        <a:pt x="192" y="288"/>
                      </a:lnTo>
                      <a:lnTo>
                        <a:pt x="48" y="0"/>
                      </a:lnTo>
                      <a:lnTo>
                        <a:pt x="0" y="288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6" name="Freeform 824"/>
                <p:cNvSpPr/>
                <p:nvPr/>
              </p:nvSpPr>
              <p:spPr>
                <a:xfrm flipV="1" rot="418200">
                  <a:off x="4308480" y="6407280"/>
                  <a:ext cx="15480" cy="18720"/>
                </a:xfrm>
                <a:custGeom>
                  <a:avLst/>
                  <a:gdLst>
                    <a:gd name="textAreaLeft" fmla="*/ 0 w 15480"/>
                    <a:gd name="textAreaRight" fmla="*/ 15840 w 15480"/>
                    <a:gd name="textAreaTop" fmla="*/ 360 h 18720"/>
                    <a:gd name="textAreaBottom" fmla="*/ 19440 h 18720"/>
                  </a:gdLst>
                  <a:ahLst/>
                  <a:rect l="textAreaLeft" t="textAreaTop" r="textAreaRight" b="textAreaBottom"/>
                  <a:pathLst>
                    <a:path w="192" h="288">
                      <a:moveTo>
                        <a:pt x="0" y="288"/>
                      </a:moveTo>
                      <a:lnTo>
                        <a:pt x="192" y="288"/>
                      </a:lnTo>
                      <a:lnTo>
                        <a:pt x="48" y="0"/>
                      </a:lnTo>
                      <a:lnTo>
                        <a:pt x="0" y="288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7" name="Freeform 825"/>
                <p:cNvSpPr/>
                <p:nvPr/>
              </p:nvSpPr>
              <p:spPr>
                <a:xfrm flipV="1" rot="418200">
                  <a:off x="4321800" y="6428160"/>
                  <a:ext cx="15480" cy="18720"/>
                </a:xfrm>
                <a:custGeom>
                  <a:avLst/>
                  <a:gdLst>
                    <a:gd name="textAreaLeft" fmla="*/ 0 w 15480"/>
                    <a:gd name="textAreaRight" fmla="*/ 15840 w 15480"/>
                    <a:gd name="textAreaTop" fmla="*/ 360 h 18720"/>
                    <a:gd name="textAreaBottom" fmla="*/ 19440 h 18720"/>
                  </a:gdLst>
                  <a:ahLst/>
                  <a:rect l="textAreaLeft" t="textAreaTop" r="textAreaRight" b="textAreaBottom"/>
                  <a:pathLst>
                    <a:path w="192" h="288">
                      <a:moveTo>
                        <a:pt x="0" y="288"/>
                      </a:moveTo>
                      <a:lnTo>
                        <a:pt x="192" y="288"/>
                      </a:lnTo>
                      <a:lnTo>
                        <a:pt x="48" y="0"/>
                      </a:lnTo>
                      <a:lnTo>
                        <a:pt x="0" y="288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8" name="Freeform 826"/>
                <p:cNvSpPr/>
                <p:nvPr/>
              </p:nvSpPr>
              <p:spPr>
                <a:xfrm flipV="1" rot="418200">
                  <a:off x="4350960" y="6450480"/>
                  <a:ext cx="15480" cy="18720"/>
                </a:xfrm>
                <a:custGeom>
                  <a:avLst/>
                  <a:gdLst>
                    <a:gd name="textAreaLeft" fmla="*/ 0 w 15480"/>
                    <a:gd name="textAreaRight" fmla="*/ 15840 w 15480"/>
                    <a:gd name="textAreaTop" fmla="*/ 360 h 18720"/>
                    <a:gd name="textAreaBottom" fmla="*/ 19440 h 18720"/>
                  </a:gdLst>
                  <a:ahLst/>
                  <a:rect l="textAreaLeft" t="textAreaTop" r="textAreaRight" b="textAreaBottom"/>
                  <a:pathLst>
                    <a:path w="192" h="288">
                      <a:moveTo>
                        <a:pt x="0" y="288"/>
                      </a:moveTo>
                      <a:lnTo>
                        <a:pt x="192" y="288"/>
                      </a:lnTo>
                      <a:lnTo>
                        <a:pt x="48" y="0"/>
                      </a:lnTo>
                      <a:lnTo>
                        <a:pt x="0" y="288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9" name="Freeform 827"/>
                <p:cNvSpPr/>
                <p:nvPr/>
              </p:nvSpPr>
              <p:spPr>
                <a:xfrm flipV="1" rot="418200">
                  <a:off x="4284360" y="6347880"/>
                  <a:ext cx="15480" cy="18720"/>
                </a:xfrm>
                <a:custGeom>
                  <a:avLst/>
                  <a:gdLst>
                    <a:gd name="textAreaLeft" fmla="*/ 0 w 15480"/>
                    <a:gd name="textAreaRight" fmla="*/ 15840 w 15480"/>
                    <a:gd name="textAreaTop" fmla="*/ 360 h 18720"/>
                    <a:gd name="textAreaBottom" fmla="*/ 19440 h 18720"/>
                  </a:gdLst>
                  <a:ahLst/>
                  <a:rect l="textAreaLeft" t="textAreaTop" r="textAreaRight" b="textAreaBottom"/>
                  <a:pathLst>
                    <a:path w="192" h="288">
                      <a:moveTo>
                        <a:pt x="0" y="288"/>
                      </a:moveTo>
                      <a:lnTo>
                        <a:pt x="192" y="288"/>
                      </a:lnTo>
                      <a:lnTo>
                        <a:pt x="48" y="0"/>
                      </a:lnTo>
                      <a:lnTo>
                        <a:pt x="0" y="288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0" name="Freeform 828"/>
                <p:cNvSpPr/>
                <p:nvPr/>
              </p:nvSpPr>
              <p:spPr>
                <a:xfrm flipV="1" rot="418200">
                  <a:off x="4297680" y="6368400"/>
                  <a:ext cx="15480" cy="18720"/>
                </a:xfrm>
                <a:custGeom>
                  <a:avLst/>
                  <a:gdLst>
                    <a:gd name="textAreaLeft" fmla="*/ 0 w 15480"/>
                    <a:gd name="textAreaRight" fmla="*/ 15840 w 15480"/>
                    <a:gd name="textAreaTop" fmla="*/ 360 h 18720"/>
                    <a:gd name="textAreaBottom" fmla="*/ 19440 h 18720"/>
                  </a:gdLst>
                  <a:ahLst/>
                  <a:rect l="textAreaLeft" t="textAreaTop" r="textAreaRight" b="textAreaBottom"/>
                  <a:pathLst>
                    <a:path w="192" h="288">
                      <a:moveTo>
                        <a:pt x="0" y="288"/>
                      </a:moveTo>
                      <a:lnTo>
                        <a:pt x="192" y="288"/>
                      </a:lnTo>
                      <a:lnTo>
                        <a:pt x="48" y="0"/>
                      </a:lnTo>
                      <a:lnTo>
                        <a:pt x="0" y="288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1" name="Freeform 829"/>
                <p:cNvSpPr/>
                <p:nvPr/>
              </p:nvSpPr>
              <p:spPr>
                <a:xfrm flipH="1" flipV="1" rot="418200">
                  <a:off x="4354920" y="6413040"/>
                  <a:ext cx="15480" cy="18720"/>
                </a:xfrm>
                <a:custGeom>
                  <a:avLst/>
                  <a:gdLst>
                    <a:gd name="textAreaLeft" fmla="*/ -360 w 15480"/>
                    <a:gd name="textAreaRight" fmla="*/ 15480 w 15480"/>
                    <a:gd name="textAreaTop" fmla="*/ 360 h 18720"/>
                    <a:gd name="textAreaBottom" fmla="*/ 19440 h 18720"/>
                  </a:gdLst>
                  <a:ahLst/>
                  <a:rect l="textAreaLeft" t="textAreaTop" r="textAreaRight" b="textAreaBottom"/>
                  <a:pathLst>
                    <a:path w="192" h="288">
                      <a:moveTo>
                        <a:pt x="0" y="288"/>
                      </a:moveTo>
                      <a:lnTo>
                        <a:pt x="192" y="288"/>
                      </a:lnTo>
                      <a:lnTo>
                        <a:pt x="48" y="0"/>
                      </a:lnTo>
                      <a:lnTo>
                        <a:pt x="0" y="288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2" name="Freeform 830"/>
                <p:cNvSpPr/>
                <p:nvPr/>
              </p:nvSpPr>
              <p:spPr>
                <a:xfrm flipH="1" flipV="1" rot="418200">
                  <a:off x="4385880" y="6417000"/>
                  <a:ext cx="15480" cy="18720"/>
                </a:xfrm>
                <a:custGeom>
                  <a:avLst/>
                  <a:gdLst>
                    <a:gd name="textAreaLeft" fmla="*/ -360 w 15480"/>
                    <a:gd name="textAreaRight" fmla="*/ 15480 w 15480"/>
                    <a:gd name="textAreaTop" fmla="*/ 360 h 18720"/>
                    <a:gd name="textAreaBottom" fmla="*/ 19440 h 18720"/>
                  </a:gdLst>
                  <a:ahLst/>
                  <a:rect l="textAreaLeft" t="textAreaTop" r="textAreaRight" b="textAreaBottom"/>
                  <a:pathLst>
                    <a:path w="192" h="288">
                      <a:moveTo>
                        <a:pt x="0" y="288"/>
                      </a:moveTo>
                      <a:lnTo>
                        <a:pt x="192" y="288"/>
                      </a:lnTo>
                      <a:lnTo>
                        <a:pt x="48" y="0"/>
                      </a:lnTo>
                      <a:lnTo>
                        <a:pt x="0" y="288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3" name="Freeform 831"/>
                <p:cNvSpPr/>
                <p:nvPr/>
              </p:nvSpPr>
              <p:spPr>
                <a:xfrm flipH="1" flipV="1" rot="418200">
                  <a:off x="4374720" y="6377760"/>
                  <a:ext cx="15480" cy="18720"/>
                </a:xfrm>
                <a:custGeom>
                  <a:avLst/>
                  <a:gdLst>
                    <a:gd name="textAreaLeft" fmla="*/ -360 w 15480"/>
                    <a:gd name="textAreaRight" fmla="*/ 15480 w 15480"/>
                    <a:gd name="textAreaTop" fmla="*/ 360 h 18720"/>
                    <a:gd name="textAreaBottom" fmla="*/ 19440 h 18720"/>
                  </a:gdLst>
                  <a:ahLst/>
                  <a:rect l="textAreaLeft" t="textAreaTop" r="textAreaRight" b="textAreaBottom"/>
                  <a:pathLst>
                    <a:path w="192" h="288">
                      <a:moveTo>
                        <a:pt x="0" y="288"/>
                      </a:moveTo>
                      <a:lnTo>
                        <a:pt x="192" y="288"/>
                      </a:lnTo>
                      <a:lnTo>
                        <a:pt x="48" y="0"/>
                      </a:lnTo>
                      <a:lnTo>
                        <a:pt x="0" y="288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4" name="Freeform 832"/>
                <p:cNvSpPr/>
                <p:nvPr/>
              </p:nvSpPr>
              <p:spPr>
                <a:xfrm flipH="1" flipV="1" rot="418200">
                  <a:off x="4408560" y="6363000"/>
                  <a:ext cx="15480" cy="18720"/>
                </a:xfrm>
                <a:custGeom>
                  <a:avLst/>
                  <a:gdLst>
                    <a:gd name="textAreaLeft" fmla="*/ -360 w 15480"/>
                    <a:gd name="textAreaRight" fmla="*/ 15480 w 15480"/>
                    <a:gd name="textAreaTop" fmla="*/ 360 h 18720"/>
                    <a:gd name="textAreaBottom" fmla="*/ 19440 h 18720"/>
                  </a:gdLst>
                  <a:ahLst/>
                  <a:rect l="textAreaLeft" t="textAreaTop" r="textAreaRight" b="textAreaBottom"/>
                  <a:pathLst>
                    <a:path w="192" h="288">
                      <a:moveTo>
                        <a:pt x="0" y="288"/>
                      </a:moveTo>
                      <a:lnTo>
                        <a:pt x="192" y="288"/>
                      </a:lnTo>
                      <a:lnTo>
                        <a:pt x="48" y="0"/>
                      </a:lnTo>
                      <a:lnTo>
                        <a:pt x="0" y="288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5" name="Freeform 833"/>
                <p:cNvSpPr/>
                <p:nvPr/>
              </p:nvSpPr>
              <p:spPr>
                <a:xfrm flipH="1" flipV="1" rot="418200">
                  <a:off x="4413240" y="6325560"/>
                  <a:ext cx="15480" cy="18720"/>
                </a:xfrm>
                <a:custGeom>
                  <a:avLst/>
                  <a:gdLst>
                    <a:gd name="textAreaLeft" fmla="*/ -360 w 15480"/>
                    <a:gd name="textAreaRight" fmla="*/ 15480 w 15480"/>
                    <a:gd name="textAreaTop" fmla="*/ 360 h 18720"/>
                    <a:gd name="textAreaBottom" fmla="*/ 19440 h 18720"/>
                  </a:gdLst>
                  <a:ahLst/>
                  <a:rect l="textAreaLeft" t="textAreaTop" r="textAreaRight" b="textAreaBottom"/>
                  <a:pathLst>
                    <a:path w="192" h="288">
                      <a:moveTo>
                        <a:pt x="0" y="288"/>
                      </a:moveTo>
                      <a:lnTo>
                        <a:pt x="192" y="288"/>
                      </a:lnTo>
                      <a:lnTo>
                        <a:pt x="48" y="0"/>
                      </a:lnTo>
                      <a:lnTo>
                        <a:pt x="0" y="288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6" name="plant"/>
                <p:cNvSpPr/>
                <p:nvPr/>
              </p:nvSpPr>
              <p:spPr>
                <a:xfrm rot="418200">
                  <a:off x="4311360" y="6225840"/>
                  <a:ext cx="123840" cy="91440"/>
                </a:xfrm>
                <a:custGeom>
                  <a:avLst/>
                  <a:gdLst>
                    <a:gd name="textAreaLeft" fmla="*/ 40680 w 123840"/>
                    <a:gd name="textAreaRight" fmla="*/ 83520 w 123840"/>
                    <a:gd name="textAreaTop" fmla="*/ 42480 h 91440"/>
                    <a:gd name="textAreaBottom" fmla="*/ 57600 h 914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9368" y="9002"/>
                      </a:moveTo>
                      <a:lnTo>
                        <a:pt x="9254" y="8422"/>
                      </a:lnTo>
                      <a:lnTo>
                        <a:pt x="9139" y="7935"/>
                      </a:lnTo>
                      <a:lnTo>
                        <a:pt x="8819" y="7355"/>
                      </a:lnTo>
                      <a:lnTo>
                        <a:pt x="8475" y="6728"/>
                      </a:lnTo>
                      <a:lnTo>
                        <a:pt x="8040" y="6287"/>
                      </a:lnTo>
                      <a:lnTo>
                        <a:pt x="7421" y="5707"/>
                      </a:lnTo>
                      <a:lnTo>
                        <a:pt x="6574" y="5429"/>
                      </a:lnTo>
                      <a:lnTo>
                        <a:pt x="5452" y="5313"/>
                      </a:lnTo>
                      <a:lnTo>
                        <a:pt x="4856" y="5220"/>
                      </a:lnTo>
                      <a:lnTo>
                        <a:pt x="4169" y="5220"/>
                      </a:lnTo>
                      <a:lnTo>
                        <a:pt x="3665" y="5104"/>
                      </a:lnTo>
                      <a:lnTo>
                        <a:pt x="3001" y="4872"/>
                      </a:lnTo>
                      <a:lnTo>
                        <a:pt x="2497" y="4756"/>
                      </a:lnTo>
                      <a:lnTo>
                        <a:pt x="2062" y="4408"/>
                      </a:lnTo>
                      <a:lnTo>
                        <a:pt x="1603" y="4083"/>
                      </a:lnTo>
                      <a:lnTo>
                        <a:pt x="1283" y="3689"/>
                      </a:lnTo>
                      <a:lnTo>
                        <a:pt x="1283" y="4315"/>
                      </a:lnTo>
                      <a:lnTo>
                        <a:pt x="1489" y="5104"/>
                      </a:lnTo>
                      <a:lnTo>
                        <a:pt x="1832" y="6055"/>
                      </a:lnTo>
                      <a:lnTo>
                        <a:pt x="2382" y="6914"/>
                      </a:lnTo>
                      <a:lnTo>
                        <a:pt x="2680" y="7471"/>
                      </a:lnTo>
                      <a:lnTo>
                        <a:pt x="3115" y="7935"/>
                      </a:lnTo>
                      <a:lnTo>
                        <a:pt x="3573" y="8213"/>
                      </a:lnTo>
                      <a:lnTo>
                        <a:pt x="4077" y="8654"/>
                      </a:lnTo>
                      <a:lnTo>
                        <a:pt x="4627" y="9002"/>
                      </a:lnTo>
                      <a:lnTo>
                        <a:pt x="5245" y="9234"/>
                      </a:lnTo>
                      <a:lnTo>
                        <a:pt x="6024" y="9443"/>
                      </a:lnTo>
                      <a:lnTo>
                        <a:pt x="6757" y="9628"/>
                      </a:lnTo>
                      <a:lnTo>
                        <a:pt x="5177" y="10069"/>
                      </a:lnTo>
                      <a:lnTo>
                        <a:pt x="3963" y="10649"/>
                      </a:lnTo>
                      <a:lnTo>
                        <a:pt x="3344" y="11044"/>
                      </a:lnTo>
                      <a:lnTo>
                        <a:pt x="2886" y="11600"/>
                      </a:lnTo>
                      <a:lnTo>
                        <a:pt x="2497" y="12041"/>
                      </a:lnTo>
                      <a:lnTo>
                        <a:pt x="1947" y="12343"/>
                      </a:lnTo>
                      <a:lnTo>
                        <a:pt x="1168" y="12668"/>
                      </a:lnTo>
                      <a:lnTo>
                        <a:pt x="0" y="12900"/>
                      </a:lnTo>
                      <a:lnTo>
                        <a:pt x="435" y="13248"/>
                      </a:lnTo>
                      <a:lnTo>
                        <a:pt x="779" y="13456"/>
                      </a:lnTo>
                      <a:lnTo>
                        <a:pt x="1283" y="13642"/>
                      </a:lnTo>
                      <a:lnTo>
                        <a:pt x="1718" y="13758"/>
                      </a:lnTo>
                      <a:lnTo>
                        <a:pt x="2680" y="13851"/>
                      </a:lnTo>
                      <a:lnTo>
                        <a:pt x="3573" y="13758"/>
                      </a:lnTo>
                      <a:lnTo>
                        <a:pt x="4512" y="13526"/>
                      </a:lnTo>
                      <a:lnTo>
                        <a:pt x="5360" y="13248"/>
                      </a:lnTo>
                      <a:lnTo>
                        <a:pt x="6139" y="12900"/>
                      </a:lnTo>
                      <a:lnTo>
                        <a:pt x="6757" y="12552"/>
                      </a:lnTo>
                      <a:lnTo>
                        <a:pt x="6459" y="13132"/>
                      </a:lnTo>
                      <a:lnTo>
                        <a:pt x="6139" y="13642"/>
                      </a:lnTo>
                      <a:lnTo>
                        <a:pt x="5910" y="14199"/>
                      </a:lnTo>
                      <a:lnTo>
                        <a:pt x="5681" y="14663"/>
                      </a:lnTo>
                      <a:lnTo>
                        <a:pt x="5681" y="15150"/>
                      </a:lnTo>
                      <a:lnTo>
                        <a:pt x="5681" y="15730"/>
                      </a:lnTo>
                      <a:lnTo>
                        <a:pt x="5681" y="16241"/>
                      </a:lnTo>
                      <a:lnTo>
                        <a:pt x="5795" y="16913"/>
                      </a:lnTo>
                      <a:lnTo>
                        <a:pt x="5910" y="17586"/>
                      </a:lnTo>
                      <a:lnTo>
                        <a:pt x="5910" y="18213"/>
                      </a:lnTo>
                      <a:lnTo>
                        <a:pt x="5795" y="18885"/>
                      </a:lnTo>
                      <a:lnTo>
                        <a:pt x="5566" y="19396"/>
                      </a:lnTo>
                      <a:lnTo>
                        <a:pt x="5245" y="19976"/>
                      </a:lnTo>
                      <a:lnTo>
                        <a:pt x="4971" y="20370"/>
                      </a:lnTo>
                      <a:lnTo>
                        <a:pt x="4512" y="20811"/>
                      </a:lnTo>
                      <a:lnTo>
                        <a:pt x="4077" y="21043"/>
                      </a:lnTo>
                      <a:lnTo>
                        <a:pt x="5177" y="20927"/>
                      </a:lnTo>
                      <a:lnTo>
                        <a:pt x="6253" y="20486"/>
                      </a:lnTo>
                      <a:lnTo>
                        <a:pt x="7421" y="19976"/>
                      </a:lnTo>
                      <a:lnTo>
                        <a:pt x="8361" y="19187"/>
                      </a:lnTo>
                      <a:lnTo>
                        <a:pt x="8819" y="18769"/>
                      </a:lnTo>
                      <a:lnTo>
                        <a:pt x="9139" y="18213"/>
                      </a:lnTo>
                      <a:lnTo>
                        <a:pt x="9437" y="17772"/>
                      </a:lnTo>
                      <a:lnTo>
                        <a:pt x="9643" y="17261"/>
                      </a:lnTo>
                      <a:lnTo>
                        <a:pt x="9872" y="16681"/>
                      </a:lnTo>
                      <a:lnTo>
                        <a:pt x="9872" y="16171"/>
                      </a:lnTo>
                      <a:lnTo>
                        <a:pt x="9872" y="15614"/>
                      </a:lnTo>
                      <a:lnTo>
                        <a:pt x="9758" y="15057"/>
                      </a:lnTo>
                      <a:lnTo>
                        <a:pt x="10216" y="15498"/>
                      </a:lnTo>
                      <a:lnTo>
                        <a:pt x="10537" y="16241"/>
                      </a:lnTo>
                      <a:lnTo>
                        <a:pt x="10834" y="17145"/>
                      </a:lnTo>
                      <a:lnTo>
                        <a:pt x="11041" y="18213"/>
                      </a:lnTo>
                      <a:lnTo>
                        <a:pt x="11155" y="19187"/>
                      </a:lnTo>
                      <a:lnTo>
                        <a:pt x="11155" y="20185"/>
                      </a:lnTo>
                      <a:lnTo>
                        <a:pt x="11155" y="20579"/>
                      </a:lnTo>
                      <a:lnTo>
                        <a:pt x="11041" y="21043"/>
                      </a:lnTo>
                      <a:lnTo>
                        <a:pt x="10926" y="21391"/>
                      </a:lnTo>
                      <a:lnTo>
                        <a:pt x="10766" y="21600"/>
                      </a:lnTo>
                      <a:lnTo>
                        <a:pt x="11499" y="21484"/>
                      </a:lnTo>
                      <a:lnTo>
                        <a:pt x="12323" y="21043"/>
                      </a:lnTo>
                      <a:lnTo>
                        <a:pt x="13102" y="20370"/>
                      </a:lnTo>
                      <a:lnTo>
                        <a:pt x="13606" y="19628"/>
                      </a:lnTo>
                      <a:lnTo>
                        <a:pt x="13950" y="19071"/>
                      </a:lnTo>
                      <a:lnTo>
                        <a:pt x="14064" y="18677"/>
                      </a:lnTo>
                      <a:lnTo>
                        <a:pt x="14179" y="18097"/>
                      </a:lnTo>
                      <a:lnTo>
                        <a:pt x="14293" y="17586"/>
                      </a:lnTo>
                      <a:lnTo>
                        <a:pt x="14179" y="16913"/>
                      </a:lnTo>
                      <a:lnTo>
                        <a:pt x="14064" y="16241"/>
                      </a:lnTo>
                      <a:lnTo>
                        <a:pt x="13835" y="15614"/>
                      </a:lnTo>
                      <a:lnTo>
                        <a:pt x="13560" y="14872"/>
                      </a:lnTo>
                      <a:lnTo>
                        <a:pt x="13950" y="14941"/>
                      </a:lnTo>
                      <a:lnTo>
                        <a:pt x="14408" y="15150"/>
                      </a:lnTo>
                      <a:lnTo>
                        <a:pt x="14843" y="15266"/>
                      </a:lnTo>
                      <a:lnTo>
                        <a:pt x="15232" y="15614"/>
                      </a:lnTo>
                      <a:lnTo>
                        <a:pt x="15576" y="15846"/>
                      </a:lnTo>
                      <a:lnTo>
                        <a:pt x="15897" y="16171"/>
                      </a:lnTo>
                      <a:lnTo>
                        <a:pt x="16126" y="16473"/>
                      </a:lnTo>
                      <a:lnTo>
                        <a:pt x="16240" y="16913"/>
                      </a:lnTo>
                      <a:lnTo>
                        <a:pt x="16515" y="17261"/>
                      </a:lnTo>
                      <a:lnTo>
                        <a:pt x="17088" y="17586"/>
                      </a:lnTo>
                      <a:lnTo>
                        <a:pt x="17798" y="17865"/>
                      </a:lnTo>
                      <a:lnTo>
                        <a:pt x="18576" y="18097"/>
                      </a:lnTo>
                      <a:lnTo>
                        <a:pt x="19424" y="18213"/>
                      </a:lnTo>
                      <a:lnTo>
                        <a:pt x="20317" y="18213"/>
                      </a:lnTo>
                      <a:lnTo>
                        <a:pt x="21050" y="18213"/>
                      </a:lnTo>
                      <a:lnTo>
                        <a:pt x="21600" y="17865"/>
                      </a:lnTo>
                      <a:lnTo>
                        <a:pt x="21165" y="17656"/>
                      </a:lnTo>
                      <a:lnTo>
                        <a:pt x="20592" y="17470"/>
                      </a:lnTo>
                      <a:lnTo>
                        <a:pt x="20088" y="17029"/>
                      </a:lnTo>
                      <a:lnTo>
                        <a:pt x="19653" y="16681"/>
                      </a:lnTo>
                      <a:lnTo>
                        <a:pt x="19195" y="16241"/>
                      </a:lnTo>
                      <a:lnTo>
                        <a:pt x="18920" y="15962"/>
                      </a:lnTo>
                      <a:lnTo>
                        <a:pt x="18576" y="15498"/>
                      </a:lnTo>
                      <a:lnTo>
                        <a:pt x="18576" y="15057"/>
                      </a:lnTo>
                      <a:lnTo>
                        <a:pt x="18485" y="14756"/>
                      </a:lnTo>
                      <a:lnTo>
                        <a:pt x="18256" y="14199"/>
                      </a:lnTo>
                      <a:lnTo>
                        <a:pt x="17912" y="13526"/>
                      </a:lnTo>
                      <a:lnTo>
                        <a:pt x="17523" y="13016"/>
                      </a:lnTo>
                      <a:lnTo>
                        <a:pt x="16973" y="12436"/>
                      </a:lnTo>
                      <a:lnTo>
                        <a:pt x="16355" y="12041"/>
                      </a:lnTo>
                      <a:lnTo>
                        <a:pt x="16011" y="11832"/>
                      </a:lnTo>
                      <a:lnTo>
                        <a:pt x="15690" y="11716"/>
                      </a:lnTo>
                      <a:lnTo>
                        <a:pt x="15232" y="11716"/>
                      </a:lnTo>
                      <a:lnTo>
                        <a:pt x="14843" y="11716"/>
                      </a:lnTo>
                      <a:lnTo>
                        <a:pt x="15461" y="11252"/>
                      </a:lnTo>
                      <a:lnTo>
                        <a:pt x="16126" y="10858"/>
                      </a:lnTo>
                      <a:lnTo>
                        <a:pt x="16973" y="10649"/>
                      </a:lnTo>
                      <a:lnTo>
                        <a:pt x="17798" y="10417"/>
                      </a:lnTo>
                      <a:lnTo>
                        <a:pt x="18806" y="10301"/>
                      </a:lnTo>
                      <a:lnTo>
                        <a:pt x="19653" y="10301"/>
                      </a:lnTo>
                      <a:lnTo>
                        <a:pt x="20478" y="10417"/>
                      </a:lnTo>
                      <a:lnTo>
                        <a:pt x="21256" y="10533"/>
                      </a:lnTo>
                      <a:lnTo>
                        <a:pt x="20707" y="9837"/>
                      </a:lnTo>
                      <a:lnTo>
                        <a:pt x="19859" y="9234"/>
                      </a:lnTo>
                      <a:lnTo>
                        <a:pt x="18806" y="8538"/>
                      </a:lnTo>
                      <a:lnTo>
                        <a:pt x="17637" y="8144"/>
                      </a:lnTo>
                      <a:lnTo>
                        <a:pt x="16973" y="8027"/>
                      </a:lnTo>
                      <a:lnTo>
                        <a:pt x="16355" y="7935"/>
                      </a:lnTo>
                      <a:lnTo>
                        <a:pt x="15805" y="7935"/>
                      </a:lnTo>
                      <a:lnTo>
                        <a:pt x="15118" y="8027"/>
                      </a:lnTo>
                      <a:lnTo>
                        <a:pt x="14614" y="8144"/>
                      </a:lnTo>
                      <a:lnTo>
                        <a:pt x="14064" y="8422"/>
                      </a:lnTo>
                      <a:lnTo>
                        <a:pt x="13606" y="8886"/>
                      </a:lnTo>
                      <a:lnTo>
                        <a:pt x="13217" y="9327"/>
                      </a:lnTo>
                      <a:lnTo>
                        <a:pt x="13606" y="8538"/>
                      </a:lnTo>
                      <a:lnTo>
                        <a:pt x="13950" y="7935"/>
                      </a:lnTo>
                      <a:lnTo>
                        <a:pt x="14293" y="7123"/>
                      </a:lnTo>
                      <a:lnTo>
                        <a:pt x="14499" y="6519"/>
                      </a:lnTo>
                      <a:lnTo>
                        <a:pt x="14614" y="5823"/>
                      </a:lnTo>
                      <a:lnTo>
                        <a:pt x="14614" y="5220"/>
                      </a:lnTo>
                      <a:lnTo>
                        <a:pt x="14408" y="4524"/>
                      </a:lnTo>
                      <a:lnTo>
                        <a:pt x="14064" y="3898"/>
                      </a:lnTo>
                      <a:lnTo>
                        <a:pt x="13606" y="3225"/>
                      </a:lnTo>
                      <a:lnTo>
                        <a:pt x="13331" y="2598"/>
                      </a:lnTo>
                      <a:lnTo>
                        <a:pt x="13102" y="2042"/>
                      </a:lnTo>
                      <a:lnTo>
                        <a:pt x="12896" y="1485"/>
                      </a:lnTo>
                      <a:lnTo>
                        <a:pt x="12781" y="1090"/>
                      </a:lnTo>
                      <a:lnTo>
                        <a:pt x="12667" y="626"/>
                      </a:lnTo>
                      <a:lnTo>
                        <a:pt x="12667" y="278"/>
                      </a:lnTo>
                      <a:lnTo>
                        <a:pt x="12667" y="0"/>
                      </a:lnTo>
                      <a:lnTo>
                        <a:pt x="12163" y="394"/>
                      </a:lnTo>
                      <a:lnTo>
                        <a:pt x="11728" y="974"/>
                      </a:lnTo>
                      <a:lnTo>
                        <a:pt x="11155" y="1601"/>
                      </a:lnTo>
                      <a:lnTo>
                        <a:pt x="10766" y="2390"/>
                      </a:lnTo>
                      <a:lnTo>
                        <a:pt x="10330" y="3109"/>
                      </a:lnTo>
                      <a:lnTo>
                        <a:pt x="10101" y="3898"/>
                      </a:lnTo>
                      <a:lnTo>
                        <a:pt x="9987" y="4524"/>
                      </a:lnTo>
                      <a:lnTo>
                        <a:pt x="10101" y="5220"/>
                      </a:lnTo>
                      <a:lnTo>
                        <a:pt x="10216" y="5823"/>
                      </a:lnTo>
                      <a:lnTo>
                        <a:pt x="10330" y="6403"/>
                      </a:lnTo>
                      <a:lnTo>
                        <a:pt x="10330" y="6914"/>
                      </a:lnTo>
                      <a:lnTo>
                        <a:pt x="10216" y="7471"/>
                      </a:lnTo>
                      <a:lnTo>
                        <a:pt x="10101" y="7935"/>
                      </a:lnTo>
                      <a:lnTo>
                        <a:pt x="9872" y="8329"/>
                      </a:lnTo>
                      <a:lnTo>
                        <a:pt x="9643" y="8654"/>
                      </a:lnTo>
                      <a:lnTo>
                        <a:pt x="9368" y="9002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57" name="Freeform 835"/>
              <p:cNvSpPr/>
              <p:nvPr/>
            </p:nvSpPr>
            <p:spPr>
              <a:xfrm rot="3220200">
                <a:off x="3829320" y="6261120"/>
                <a:ext cx="212760" cy="117720"/>
              </a:xfrm>
              <a:custGeom>
                <a:avLst/>
                <a:gdLst>
                  <a:gd name="textAreaLeft" fmla="*/ 0 w 212760"/>
                  <a:gd name="textAreaRight" fmla="*/ 213120 w 212760"/>
                  <a:gd name="textAreaTop" fmla="*/ 0 h 117720"/>
                  <a:gd name="textAreaBottom" fmla="*/ 118080 h 117720"/>
                </a:gdLst>
                <a:ahLst/>
                <a:rect l="textAreaLeft" t="textAreaTop" r="textAreaRight" b="textAreaBottom"/>
                <a:pathLst>
                  <a:path w="507" h="352">
                    <a:moveTo>
                      <a:pt x="0" y="240"/>
                    </a:moveTo>
                    <a:cubicBezTo>
                      <a:pt x="56" y="251"/>
                      <a:pt x="253" y="352"/>
                      <a:pt x="336" y="320"/>
                    </a:cubicBezTo>
                    <a:cubicBezTo>
                      <a:pt x="419" y="288"/>
                      <a:pt x="485" y="96"/>
                      <a:pt x="496" y="48"/>
                    </a:cubicBezTo>
                    <a:cubicBezTo>
                      <a:pt x="507" y="0"/>
                      <a:pt x="435" y="35"/>
                      <a:pt x="400" y="32"/>
                    </a:cubicBezTo>
                    <a:cubicBezTo>
                      <a:pt x="365" y="29"/>
                      <a:pt x="339" y="24"/>
                      <a:pt x="288" y="32"/>
                    </a:cubicBezTo>
                    <a:cubicBezTo>
                      <a:pt x="237" y="40"/>
                      <a:pt x="136" y="56"/>
                      <a:pt x="96" y="80"/>
                    </a:cubicBezTo>
                    <a:cubicBezTo>
                      <a:pt x="56" y="104"/>
                      <a:pt x="64" y="152"/>
                      <a:pt x="48" y="176"/>
                    </a:cubicBezTo>
                    <a:cubicBezTo>
                      <a:pt x="32" y="200"/>
                      <a:pt x="16" y="212"/>
                      <a:pt x="0" y="224"/>
                    </a:cubicBezTo>
                  </a:path>
                </a:pathLst>
              </a:custGeom>
              <a:solidFill>
                <a:srgbClr val="33cc33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Freeform 836"/>
              <p:cNvSpPr/>
              <p:nvPr/>
            </p:nvSpPr>
            <p:spPr>
              <a:xfrm rot="3220200">
                <a:off x="3787920" y="6490080"/>
                <a:ext cx="212760" cy="117720"/>
              </a:xfrm>
              <a:custGeom>
                <a:avLst/>
                <a:gdLst>
                  <a:gd name="textAreaLeft" fmla="*/ 0 w 212760"/>
                  <a:gd name="textAreaRight" fmla="*/ 213120 w 212760"/>
                  <a:gd name="textAreaTop" fmla="*/ 0 h 117720"/>
                  <a:gd name="textAreaBottom" fmla="*/ 118080 h 117720"/>
                </a:gdLst>
                <a:ahLst/>
                <a:rect l="textAreaLeft" t="textAreaTop" r="textAreaRight" b="textAreaBottom"/>
                <a:pathLst>
                  <a:path w="507" h="352">
                    <a:moveTo>
                      <a:pt x="0" y="240"/>
                    </a:moveTo>
                    <a:cubicBezTo>
                      <a:pt x="56" y="251"/>
                      <a:pt x="253" y="352"/>
                      <a:pt x="336" y="320"/>
                    </a:cubicBezTo>
                    <a:cubicBezTo>
                      <a:pt x="419" y="288"/>
                      <a:pt x="485" y="96"/>
                      <a:pt x="496" y="48"/>
                    </a:cubicBezTo>
                    <a:cubicBezTo>
                      <a:pt x="507" y="0"/>
                      <a:pt x="435" y="35"/>
                      <a:pt x="400" y="32"/>
                    </a:cubicBezTo>
                    <a:cubicBezTo>
                      <a:pt x="365" y="29"/>
                      <a:pt x="339" y="24"/>
                      <a:pt x="288" y="32"/>
                    </a:cubicBezTo>
                    <a:cubicBezTo>
                      <a:pt x="237" y="40"/>
                      <a:pt x="136" y="56"/>
                      <a:pt x="96" y="80"/>
                    </a:cubicBezTo>
                    <a:cubicBezTo>
                      <a:pt x="56" y="104"/>
                      <a:pt x="64" y="152"/>
                      <a:pt x="48" y="176"/>
                    </a:cubicBezTo>
                    <a:cubicBezTo>
                      <a:pt x="32" y="200"/>
                      <a:pt x="16" y="212"/>
                      <a:pt x="0" y="224"/>
                    </a:cubicBezTo>
                  </a:path>
                </a:pathLst>
              </a:custGeom>
              <a:solidFill>
                <a:srgbClr val="33cc33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Freeform 837"/>
              <p:cNvSpPr/>
              <p:nvPr/>
            </p:nvSpPr>
            <p:spPr>
              <a:xfrm rot="9695400">
                <a:off x="3970440" y="6463440"/>
                <a:ext cx="203760" cy="122760"/>
              </a:xfrm>
              <a:custGeom>
                <a:avLst/>
                <a:gdLst>
                  <a:gd name="textAreaLeft" fmla="*/ 0 w 203760"/>
                  <a:gd name="textAreaRight" fmla="*/ 204120 w 203760"/>
                  <a:gd name="textAreaTop" fmla="*/ 0 h 122760"/>
                  <a:gd name="textAreaBottom" fmla="*/ 123120 h 122760"/>
                </a:gdLst>
                <a:ahLst/>
                <a:rect l="textAreaLeft" t="textAreaTop" r="textAreaRight" b="textAreaBottom"/>
                <a:pathLst>
                  <a:path w="507" h="352">
                    <a:moveTo>
                      <a:pt x="0" y="240"/>
                    </a:moveTo>
                    <a:cubicBezTo>
                      <a:pt x="56" y="251"/>
                      <a:pt x="253" y="352"/>
                      <a:pt x="336" y="320"/>
                    </a:cubicBezTo>
                    <a:cubicBezTo>
                      <a:pt x="419" y="288"/>
                      <a:pt x="485" y="96"/>
                      <a:pt x="496" y="48"/>
                    </a:cubicBezTo>
                    <a:cubicBezTo>
                      <a:pt x="507" y="0"/>
                      <a:pt x="435" y="35"/>
                      <a:pt x="400" y="32"/>
                    </a:cubicBezTo>
                    <a:cubicBezTo>
                      <a:pt x="365" y="29"/>
                      <a:pt x="339" y="24"/>
                      <a:pt x="288" y="32"/>
                    </a:cubicBezTo>
                    <a:cubicBezTo>
                      <a:pt x="237" y="40"/>
                      <a:pt x="136" y="56"/>
                      <a:pt x="96" y="80"/>
                    </a:cubicBezTo>
                    <a:cubicBezTo>
                      <a:pt x="56" y="104"/>
                      <a:pt x="64" y="152"/>
                      <a:pt x="48" y="176"/>
                    </a:cubicBezTo>
                    <a:cubicBezTo>
                      <a:pt x="32" y="200"/>
                      <a:pt x="16" y="212"/>
                      <a:pt x="0" y="224"/>
                    </a:cubicBezTo>
                  </a:path>
                </a:pathLst>
              </a:custGeom>
              <a:solidFill>
                <a:srgbClr val="33cc33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>
    <p:cover dir="r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6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3000"/>
                            </p:stCondLst>
                            <p:childTnLst>
                              <p:par>
                                <p:cTn id="12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4000"/>
                            </p:stCondLst>
                            <p:childTnLst>
                              <p:par>
                                <p:cTn id="14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0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1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2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3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4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5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6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7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5000"/>
                            </p:stCondLst>
                            <p:childTnLst>
                              <p:par>
                                <p:cTn id="15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6000"/>
                            </p:stCondLst>
                            <p:childTnLst>
                              <p:par>
                                <p:cTn id="1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0" name="Group 2"/>
          <p:cNvGrpSpPr/>
          <p:nvPr/>
        </p:nvGrpSpPr>
        <p:grpSpPr>
          <a:xfrm>
            <a:off x="2050920" y="2823480"/>
            <a:ext cx="1036800" cy="1620000"/>
            <a:chOff x="2050920" y="2823480"/>
            <a:chExt cx="1036800" cy="1620000"/>
          </a:xfrm>
        </p:grpSpPr>
        <p:pic>
          <p:nvPicPr>
            <p:cNvPr id="861" name="Picture 3" descr="girl6"/>
            <p:cNvPicPr/>
            <p:nvPr/>
          </p:nvPicPr>
          <p:blipFill>
            <a:blip r:embed="rId1"/>
            <a:stretch/>
          </p:blipFill>
          <p:spPr>
            <a:xfrm>
              <a:off x="2050920" y="2852640"/>
              <a:ext cx="1036800" cy="159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2" name="Freeform 4"/>
            <p:cNvSpPr/>
            <p:nvPr/>
          </p:nvSpPr>
          <p:spPr>
            <a:xfrm>
              <a:off x="2217960" y="3817440"/>
              <a:ext cx="723240" cy="337680"/>
            </a:xfrm>
            <a:custGeom>
              <a:avLst/>
              <a:gdLst>
                <a:gd name="textAreaLeft" fmla="*/ 0 w 723240"/>
                <a:gd name="textAreaRight" fmla="*/ 723600 w 723240"/>
                <a:gd name="textAreaTop" fmla="*/ 0 h 337680"/>
                <a:gd name="textAreaBottom" fmla="*/ 338040 h 337680"/>
              </a:gdLst>
              <a:ahLst/>
              <a:rect l="textAreaLeft" t="textAreaTop" r="textAreaRight" b="textAreaBottom"/>
              <a:pathLst>
                <a:path w="562" h="252">
                  <a:moveTo>
                    <a:pt x="138" y="0"/>
                  </a:moveTo>
                  <a:lnTo>
                    <a:pt x="438" y="8"/>
                  </a:lnTo>
                  <a:lnTo>
                    <a:pt x="562" y="224"/>
                  </a:lnTo>
                  <a:lnTo>
                    <a:pt x="470" y="248"/>
                  </a:lnTo>
                  <a:lnTo>
                    <a:pt x="400" y="96"/>
                  </a:lnTo>
                  <a:lnTo>
                    <a:pt x="454" y="252"/>
                  </a:lnTo>
                  <a:lnTo>
                    <a:pt x="322" y="248"/>
                  </a:lnTo>
                  <a:lnTo>
                    <a:pt x="304" y="96"/>
                  </a:lnTo>
                  <a:lnTo>
                    <a:pt x="304" y="240"/>
                  </a:lnTo>
                  <a:lnTo>
                    <a:pt x="112" y="240"/>
                  </a:lnTo>
                  <a:lnTo>
                    <a:pt x="208" y="96"/>
                  </a:lnTo>
                  <a:lnTo>
                    <a:pt x="90" y="240"/>
                  </a:lnTo>
                  <a:cubicBezTo>
                    <a:pt x="59" y="239"/>
                    <a:pt x="36" y="235"/>
                    <a:pt x="6" y="228"/>
                  </a:cubicBezTo>
                  <a:cubicBezTo>
                    <a:pt x="0" y="227"/>
                    <a:pt x="14" y="228"/>
                    <a:pt x="18" y="224"/>
                  </a:cubicBezTo>
                  <a:cubicBezTo>
                    <a:pt x="25" y="217"/>
                    <a:pt x="4" y="241"/>
                    <a:pt x="30" y="204"/>
                  </a:cubicBezTo>
                  <a:lnTo>
                    <a:pt x="138" y="0"/>
                  </a:lnTo>
                  <a:close/>
                </a:path>
              </a:pathLst>
            </a:custGeom>
            <a:gradFill rotWithShape="0">
              <a:gsLst>
                <a:gs pos="0">
                  <a:srgbClr val="777777"/>
                </a:gs>
                <a:gs pos="50000">
                  <a:srgbClr val="333333"/>
                </a:gs>
                <a:gs pos="100000">
                  <a:srgbClr val="777777"/>
                </a:gs>
              </a:gsLst>
              <a:lin ang="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Freeform 5"/>
            <p:cNvSpPr/>
            <p:nvPr/>
          </p:nvSpPr>
          <p:spPr>
            <a:xfrm>
              <a:off x="2400480" y="3774600"/>
              <a:ext cx="370440" cy="47880"/>
            </a:xfrm>
            <a:custGeom>
              <a:avLst/>
              <a:gdLst>
                <a:gd name="textAreaLeft" fmla="*/ 0 w 370440"/>
                <a:gd name="textAreaRight" fmla="*/ 370800 w 37044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288" h="36">
                  <a:moveTo>
                    <a:pt x="4" y="0"/>
                  </a:moveTo>
                  <a:cubicBezTo>
                    <a:pt x="11" y="0"/>
                    <a:pt x="17" y="0"/>
                    <a:pt x="24" y="0"/>
                  </a:cubicBezTo>
                  <a:lnTo>
                    <a:pt x="284" y="4"/>
                  </a:lnTo>
                  <a:lnTo>
                    <a:pt x="288" y="36"/>
                  </a:lnTo>
                  <a:lnTo>
                    <a:pt x="0" y="36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4d4d4d"/>
                </a:gs>
                <a:gs pos="50000">
                  <a:srgbClr val="000000"/>
                </a:gs>
                <a:gs pos="100000">
                  <a:srgbClr val="4d4d4d"/>
                </a:gs>
              </a:gsLst>
              <a:lin ang="189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64" name="Group 6"/>
            <p:cNvGrpSpPr/>
            <p:nvPr/>
          </p:nvGrpSpPr>
          <p:grpSpPr>
            <a:xfrm>
              <a:off x="2583000" y="2823480"/>
              <a:ext cx="355320" cy="315720"/>
              <a:chOff x="2583000" y="2823480"/>
              <a:chExt cx="355320" cy="315720"/>
            </a:xfrm>
          </p:grpSpPr>
          <p:sp>
            <p:nvSpPr>
              <p:cNvPr id="865" name="Freeform 7"/>
              <p:cNvSpPr/>
              <p:nvPr/>
            </p:nvSpPr>
            <p:spPr>
              <a:xfrm rot="720600">
                <a:off x="2606400" y="2852640"/>
                <a:ext cx="308520" cy="257040"/>
              </a:xfrm>
              <a:custGeom>
                <a:avLst/>
                <a:gdLst>
                  <a:gd name="textAreaLeft" fmla="*/ 0 w 308520"/>
                  <a:gd name="textAreaRight" fmla="*/ 308880 w 308520"/>
                  <a:gd name="textAreaTop" fmla="*/ 0 h 257040"/>
                  <a:gd name="textAreaBottom" fmla="*/ 257400 h 257040"/>
                </a:gdLst>
                <a:ahLst/>
                <a:rect l="textAreaLeft" t="textAreaTop" r="textAreaRight" b="textAreaBottom"/>
                <a:pathLst>
                  <a:path w="576" h="384">
                    <a:moveTo>
                      <a:pt x="288" y="240"/>
                    </a:moveTo>
                    <a:lnTo>
                      <a:pt x="0" y="192"/>
                    </a:lnTo>
                    <a:lnTo>
                      <a:pt x="96" y="0"/>
                    </a:lnTo>
                    <a:lnTo>
                      <a:pt x="288" y="144"/>
                    </a:lnTo>
                    <a:lnTo>
                      <a:pt x="576" y="192"/>
                    </a:lnTo>
                    <a:lnTo>
                      <a:pt x="528" y="336"/>
                    </a:lnTo>
                    <a:lnTo>
                      <a:pt x="432" y="384"/>
                    </a:lnTo>
                    <a:lnTo>
                      <a:pt x="240" y="192"/>
                    </a:ln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Oval 8"/>
              <p:cNvSpPr/>
              <p:nvPr/>
            </p:nvSpPr>
            <p:spPr>
              <a:xfrm rot="720600">
                <a:off x="2734560" y="2948760"/>
                <a:ext cx="51120" cy="640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800" rIns="82800" tIns="3960" bIns="396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828720"/>
                    <a:tab algn="l" pos="1657440"/>
                    <a:tab algn="l" pos="2486160"/>
                    <a:tab algn="l" pos="3314880"/>
                    <a:tab algn="l" pos="4143240"/>
                    <a:tab algn="l" pos="4971960"/>
                    <a:tab algn="l" pos="5800680"/>
                    <a:tab algn="l" pos="6629400"/>
                    <a:tab algn="l" pos="7458120"/>
                    <a:tab algn="l" pos="8286840"/>
                    <a:tab algn="l" pos="9115560"/>
                    <a:tab algn="l" pos="9944280"/>
                    <a:tab algn="l" pos="107726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7" name="Group 9"/>
            <p:cNvGrpSpPr/>
            <p:nvPr/>
          </p:nvGrpSpPr>
          <p:grpSpPr>
            <a:xfrm>
              <a:off x="2201400" y="2827440"/>
              <a:ext cx="316440" cy="371160"/>
              <a:chOff x="2201400" y="2827440"/>
              <a:chExt cx="316440" cy="371160"/>
            </a:xfrm>
          </p:grpSpPr>
          <p:sp>
            <p:nvSpPr>
              <p:cNvPr id="868" name="Freeform 10"/>
              <p:cNvSpPr/>
              <p:nvPr/>
            </p:nvSpPr>
            <p:spPr>
              <a:xfrm rot="17028000">
                <a:off x="2198880" y="2889360"/>
                <a:ext cx="321480" cy="246960"/>
              </a:xfrm>
              <a:custGeom>
                <a:avLst/>
                <a:gdLst>
                  <a:gd name="textAreaLeft" fmla="*/ 0 w 321480"/>
                  <a:gd name="textAreaRight" fmla="*/ 321840 w 321480"/>
                  <a:gd name="textAreaTop" fmla="*/ 0 h 246960"/>
                  <a:gd name="textAreaBottom" fmla="*/ 247320 h 246960"/>
                </a:gdLst>
                <a:ahLst/>
                <a:rect l="textAreaLeft" t="textAreaTop" r="textAreaRight" b="textAreaBottom"/>
                <a:pathLst>
                  <a:path w="576" h="384">
                    <a:moveTo>
                      <a:pt x="288" y="240"/>
                    </a:moveTo>
                    <a:lnTo>
                      <a:pt x="0" y="192"/>
                    </a:lnTo>
                    <a:lnTo>
                      <a:pt x="96" y="0"/>
                    </a:lnTo>
                    <a:lnTo>
                      <a:pt x="288" y="144"/>
                    </a:lnTo>
                    <a:lnTo>
                      <a:pt x="576" y="192"/>
                    </a:lnTo>
                    <a:lnTo>
                      <a:pt x="528" y="336"/>
                    </a:lnTo>
                    <a:lnTo>
                      <a:pt x="432" y="384"/>
                    </a:lnTo>
                    <a:lnTo>
                      <a:pt x="240" y="192"/>
                    </a:ln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Oval 11"/>
              <p:cNvSpPr/>
              <p:nvPr/>
            </p:nvSpPr>
            <p:spPr>
              <a:xfrm rot="17028000">
                <a:off x="2332440" y="2982240"/>
                <a:ext cx="53280" cy="615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800" rIns="82800" tIns="2160" bIns="2160" anchor="t" anchorCtr="1" vert="eaVer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828720"/>
                    <a:tab algn="l" pos="1657440"/>
                    <a:tab algn="l" pos="2486160"/>
                    <a:tab algn="l" pos="3314880"/>
                    <a:tab algn="l" pos="4143240"/>
                    <a:tab algn="l" pos="4971960"/>
                    <a:tab algn="l" pos="5800680"/>
                    <a:tab algn="l" pos="6629400"/>
                    <a:tab algn="l" pos="7458120"/>
                    <a:tab algn="l" pos="8286840"/>
                    <a:tab algn="l" pos="9115560"/>
                    <a:tab algn="l" pos="9944280"/>
                    <a:tab algn="l" pos="107726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70" name="Group 12"/>
          <p:cNvGrpSpPr/>
          <p:nvPr/>
        </p:nvGrpSpPr>
        <p:grpSpPr>
          <a:xfrm>
            <a:off x="3879720" y="2795040"/>
            <a:ext cx="1036800" cy="1618200"/>
            <a:chOff x="3879720" y="2795040"/>
            <a:chExt cx="1036800" cy="1618200"/>
          </a:xfrm>
        </p:grpSpPr>
        <p:pic>
          <p:nvPicPr>
            <p:cNvPr id="871" name="Picture 13" descr="girl6"/>
            <p:cNvPicPr/>
            <p:nvPr/>
          </p:nvPicPr>
          <p:blipFill>
            <a:blip r:embed="rId2"/>
            <a:stretch/>
          </p:blipFill>
          <p:spPr>
            <a:xfrm>
              <a:off x="3879720" y="2824200"/>
              <a:ext cx="1036800" cy="158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2" name="Freeform 14"/>
            <p:cNvSpPr/>
            <p:nvPr/>
          </p:nvSpPr>
          <p:spPr>
            <a:xfrm>
              <a:off x="4046760" y="3787920"/>
              <a:ext cx="723240" cy="336960"/>
            </a:xfrm>
            <a:custGeom>
              <a:avLst/>
              <a:gdLst>
                <a:gd name="textAreaLeft" fmla="*/ 0 w 723240"/>
                <a:gd name="textAreaRight" fmla="*/ 723600 w 723240"/>
                <a:gd name="textAreaTop" fmla="*/ 0 h 336960"/>
                <a:gd name="textAreaBottom" fmla="*/ 337320 h 336960"/>
              </a:gdLst>
              <a:ahLst/>
              <a:rect l="textAreaLeft" t="textAreaTop" r="textAreaRight" b="textAreaBottom"/>
              <a:pathLst>
                <a:path w="562" h="252">
                  <a:moveTo>
                    <a:pt x="138" y="0"/>
                  </a:moveTo>
                  <a:lnTo>
                    <a:pt x="438" y="8"/>
                  </a:lnTo>
                  <a:lnTo>
                    <a:pt x="562" y="224"/>
                  </a:lnTo>
                  <a:lnTo>
                    <a:pt x="470" y="248"/>
                  </a:lnTo>
                  <a:lnTo>
                    <a:pt x="400" y="96"/>
                  </a:lnTo>
                  <a:lnTo>
                    <a:pt x="454" y="252"/>
                  </a:lnTo>
                  <a:lnTo>
                    <a:pt x="322" y="248"/>
                  </a:lnTo>
                  <a:lnTo>
                    <a:pt x="304" y="96"/>
                  </a:lnTo>
                  <a:lnTo>
                    <a:pt x="304" y="240"/>
                  </a:lnTo>
                  <a:lnTo>
                    <a:pt x="112" y="240"/>
                  </a:lnTo>
                  <a:lnTo>
                    <a:pt x="208" y="96"/>
                  </a:lnTo>
                  <a:lnTo>
                    <a:pt x="90" y="240"/>
                  </a:lnTo>
                  <a:cubicBezTo>
                    <a:pt x="59" y="239"/>
                    <a:pt x="36" y="235"/>
                    <a:pt x="6" y="228"/>
                  </a:cubicBezTo>
                  <a:cubicBezTo>
                    <a:pt x="0" y="227"/>
                    <a:pt x="14" y="228"/>
                    <a:pt x="18" y="224"/>
                  </a:cubicBezTo>
                  <a:cubicBezTo>
                    <a:pt x="25" y="217"/>
                    <a:pt x="4" y="241"/>
                    <a:pt x="30" y="204"/>
                  </a:cubicBezTo>
                  <a:lnTo>
                    <a:pt x="138" y="0"/>
                  </a:lnTo>
                  <a:close/>
                </a:path>
              </a:pathLst>
            </a:custGeom>
            <a:gradFill rotWithShape="0">
              <a:gsLst>
                <a:gs pos="0">
                  <a:srgbClr val="777777"/>
                </a:gs>
                <a:gs pos="50000">
                  <a:srgbClr val="333333"/>
                </a:gs>
                <a:gs pos="100000">
                  <a:srgbClr val="777777"/>
                </a:gs>
              </a:gsLst>
              <a:lin ang="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Freeform 15"/>
            <p:cNvSpPr/>
            <p:nvPr/>
          </p:nvSpPr>
          <p:spPr>
            <a:xfrm>
              <a:off x="4229280" y="3745080"/>
              <a:ext cx="370440" cy="47880"/>
            </a:xfrm>
            <a:custGeom>
              <a:avLst/>
              <a:gdLst>
                <a:gd name="textAreaLeft" fmla="*/ 0 w 370440"/>
                <a:gd name="textAreaRight" fmla="*/ 370800 w 37044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288" h="36">
                  <a:moveTo>
                    <a:pt x="4" y="0"/>
                  </a:moveTo>
                  <a:cubicBezTo>
                    <a:pt x="11" y="0"/>
                    <a:pt x="17" y="0"/>
                    <a:pt x="24" y="0"/>
                  </a:cubicBezTo>
                  <a:lnTo>
                    <a:pt x="284" y="4"/>
                  </a:lnTo>
                  <a:lnTo>
                    <a:pt x="288" y="36"/>
                  </a:lnTo>
                  <a:lnTo>
                    <a:pt x="0" y="36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4d4d4d"/>
                </a:gs>
                <a:gs pos="50000">
                  <a:srgbClr val="000000"/>
                </a:gs>
                <a:gs pos="100000">
                  <a:srgbClr val="4d4d4d"/>
                </a:gs>
              </a:gsLst>
              <a:lin ang="189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4" name="Group 16"/>
            <p:cNvGrpSpPr/>
            <p:nvPr/>
          </p:nvGrpSpPr>
          <p:grpSpPr>
            <a:xfrm>
              <a:off x="4411800" y="2795040"/>
              <a:ext cx="354960" cy="315360"/>
              <a:chOff x="4411800" y="2795040"/>
              <a:chExt cx="354960" cy="315360"/>
            </a:xfrm>
          </p:grpSpPr>
          <p:sp>
            <p:nvSpPr>
              <p:cNvPr id="875" name="Freeform 17"/>
              <p:cNvSpPr/>
              <p:nvPr/>
            </p:nvSpPr>
            <p:spPr>
              <a:xfrm rot="720600">
                <a:off x="4434840" y="2824200"/>
                <a:ext cx="308520" cy="256680"/>
              </a:xfrm>
              <a:custGeom>
                <a:avLst/>
                <a:gdLst>
                  <a:gd name="textAreaLeft" fmla="*/ 0 w 308520"/>
                  <a:gd name="textAreaRight" fmla="*/ 308880 w 308520"/>
                  <a:gd name="textAreaTop" fmla="*/ 0 h 256680"/>
                  <a:gd name="textAreaBottom" fmla="*/ 257040 h 256680"/>
                </a:gdLst>
                <a:ahLst/>
                <a:rect l="textAreaLeft" t="textAreaTop" r="textAreaRight" b="textAreaBottom"/>
                <a:pathLst>
                  <a:path w="576" h="384">
                    <a:moveTo>
                      <a:pt x="288" y="240"/>
                    </a:moveTo>
                    <a:lnTo>
                      <a:pt x="0" y="192"/>
                    </a:lnTo>
                    <a:lnTo>
                      <a:pt x="96" y="0"/>
                    </a:lnTo>
                    <a:lnTo>
                      <a:pt x="288" y="144"/>
                    </a:lnTo>
                    <a:lnTo>
                      <a:pt x="576" y="192"/>
                    </a:lnTo>
                    <a:lnTo>
                      <a:pt x="528" y="336"/>
                    </a:lnTo>
                    <a:lnTo>
                      <a:pt x="432" y="384"/>
                    </a:lnTo>
                    <a:lnTo>
                      <a:pt x="240" y="192"/>
                    </a:ln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Oval 18"/>
              <p:cNvSpPr/>
              <p:nvPr/>
            </p:nvSpPr>
            <p:spPr>
              <a:xfrm rot="720600">
                <a:off x="4563360" y="2919960"/>
                <a:ext cx="51120" cy="640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800" rIns="82800" tIns="3960" bIns="396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828720"/>
                    <a:tab algn="l" pos="1657440"/>
                    <a:tab algn="l" pos="2486160"/>
                    <a:tab algn="l" pos="3314880"/>
                    <a:tab algn="l" pos="4143240"/>
                    <a:tab algn="l" pos="4971960"/>
                    <a:tab algn="l" pos="5800680"/>
                    <a:tab algn="l" pos="6629400"/>
                    <a:tab algn="l" pos="7458120"/>
                    <a:tab algn="l" pos="8286840"/>
                    <a:tab algn="l" pos="9115560"/>
                    <a:tab algn="l" pos="9944280"/>
                    <a:tab algn="l" pos="107726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7" name="Group 19"/>
            <p:cNvGrpSpPr/>
            <p:nvPr/>
          </p:nvGrpSpPr>
          <p:grpSpPr>
            <a:xfrm>
              <a:off x="4030200" y="2799360"/>
              <a:ext cx="316440" cy="370800"/>
              <a:chOff x="4030200" y="2799360"/>
              <a:chExt cx="316440" cy="370800"/>
            </a:xfrm>
          </p:grpSpPr>
          <p:sp>
            <p:nvSpPr>
              <p:cNvPr id="878" name="Freeform 20"/>
              <p:cNvSpPr/>
              <p:nvPr/>
            </p:nvSpPr>
            <p:spPr>
              <a:xfrm rot="17028000">
                <a:off x="4027680" y="2860920"/>
                <a:ext cx="321120" cy="246960"/>
              </a:xfrm>
              <a:custGeom>
                <a:avLst/>
                <a:gdLst>
                  <a:gd name="textAreaLeft" fmla="*/ 0 w 321120"/>
                  <a:gd name="textAreaRight" fmla="*/ 321480 w 321120"/>
                  <a:gd name="textAreaTop" fmla="*/ 0 h 246960"/>
                  <a:gd name="textAreaBottom" fmla="*/ 247320 h 246960"/>
                </a:gdLst>
                <a:ahLst/>
                <a:rect l="textAreaLeft" t="textAreaTop" r="textAreaRight" b="textAreaBottom"/>
                <a:pathLst>
                  <a:path w="576" h="384">
                    <a:moveTo>
                      <a:pt x="288" y="240"/>
                    </a:moveTo>
                    <a:lnTo>
                      <a:pt x="0" y="192"/>
                    </a:lnTo>
                    <a:lnTo>
                      <a:pt x="96" y="0"/>
                    </a:lnTo>
                    <a:lnTo>
                      <a:pt x="288" y="144"/>
                    </a:lnTo>
                    <a:lnTo>
                      <a:pt x="576" y="192"/>
                    </a:lnTo>
                    <a:lnTo>
                      <a:pt x="528" y="336"/>
                    </a:lnTo>
                    <a:lnTo>
                      <a:pt x="432" y="384"/>
                    </a:lnTo>
                    <a:lnTo>
                      <a:pt x="240" y="192"/>
                    </a:ln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Oval 21"/>
              <p:cNvSpPr/>
              <p:nvPr/>
            </p:nvSpPr>
            <p:spPr>
              <a:xfrm rot="17028000">
                <a:off x="4161240" y="2954160"/>
                <a:ext cx="53280" cy="615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800" rIns="82800" tIns="2160" bIns="2160" anchor="t" anchorCtr="1" vert="eaVer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828720"/>
                    <a:tab algn="l" pos="1657440"/>
                    <a:tab algn="l" pos="2486160"/>
                    <a:tab algn="l" pos="3314880"/>
                    <a:tab algn="l" pos="4143240"/>
                    <a:tab algn="l" pos="4971960"/>
                    <a:tab algn="l" pos="5800680"/>
                    <a:tab algn="l" pos="6629400"/>
                    <a:tab algn="l" pos="7458120"/>
                    <a:tab algn="l" pos="8286840"/>
                    <a:tab algn="l" pos="9115560"/>
                    <a:tab algn="l" pos="9944280"/>
                    <a:tab algn="l" pos="107726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80" name="Group 22"/>
          <p:cNvGrpSpPr/>
          <p:nvPr/>
        </p:nvGrpSpPr>
        <p:grpSpPr>
          <a:xfrm>
            <a:off x="4643280" y="2752200"/>
            <a:ext cx="1036800" cy="1619640"/>
            <a:chOff x="4643280" y="2752200"/>
            <a:chExt cx="1036800" cy="1619640"/>
          </a:xfrm>
        </p:grpSpPr>
        <p:pic>
          <p:nvPicPr>
            <p:cNvPr id="881" name="Picture 23" descr="girl6"/>
            <p:cNvPicPr/>
            <p:nvPr/>
          </p:nvPicPr>
          <p:blipFill>
            <a:blip r:embed="rId3"/>
            <a:stretch/>
          </p:blipFill>
          <p:spPr>
            <a:xfrm>
              <a:off x="4643280" y="2781360"/>
              <a:ext cx="1036800" cy="159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2" name="Freeform 24"/>
            <p:cNvSpPr/>
            <p:nvPr/>
          </p:nvSpPr>
          <p:spPr>
            <a:xfrm>
              <a:off x="4810320" y="3746160"/>
              <a:ext cx="723240" cy="337320"/>
            </a:xfrm>
            <a:custGeom>
              <a:avLst/>
              <a:gdLst>
                <a:gd name="textAreaLeft" fmla="*/ 0 w 723240"/>
                <a:gd name="textAreaRight" fmla="*/ 723600 w 723240"/>
                <a:gd name="textAreaTop" fmla="*/ 0 h 337320"/>
                <a:gd name="textAreaBottom" fmla="*/ 337680 h 337320"/>
              </a:gdLst>
              <a:ahLst/>
              <a:rect l="textAreaLeft" t="textAreaTop" r="textAreaRight" b="textAreaBottom"/>
              <a:pathLst>
                <a:path w="562" h="252">
                  <a:moveTo>
                    <a:pt x="138" y="0"/>
                  </a:moveTo>
                  <a:lnTo>
                    <a:pt x="438" y="8"/>
                  </a:lnTo>
                  <a:lnTo>
                    <a:pt x="562" y="224"/>
                  </a:lnTo>
                  <a:lnTo>
                    <a:pt x="470" y="248"/>
                  </a:lnTo>
                  <a:lnTo>
                    <a:pt x="400" y="96"/>
                  </a:lnTo>
                  <a:lnTo>
                    <a:pt x="454" y="252"/>
                  </a:lnTo>
                  <a:lnTo>
                    <a:pt x="322" y="248"/>
                  </a:lnTo>
                  <a:lnTo>
                    <a:pt x="304" y="96"/>
                  </a:lnTo>
                  <a:lnTo>
                    <a:pt x="304" y="240"/>
                  </a:lnTo>
                  <a:lnTo>
                    <a:pt x="112" y="240"/>
                  </a:lnTo>
                  <a:lnTo>
                    <a:pt x="208" y="96"/>
                  </a:lnTo>
                  <a:lnTo>
                    <a:pt x="90" y="240"/>
                  </a:lnTo>
                  <a:cubicBezTo>
                    <a:pt x="59" y="239"/>
                    <a:pt x="36" y="235"/>
                    <a:pt x="6" y="228"/>
                  </a:cubicBezTo>
                  <a:cubicBezTo>
                    <a:pt x="0" y="227"/>
                    <a:pt x="14" y="228"/>
                    <a:pt x="18" y="224"/>
                  </a:cubicBezTo>
                  <a:cubicBezTo>
                    <a:pt x="25" y="217"/>
                    <a:pt x="4" y="241"/>
                    <a:pt x="30" y="204"/>
                  </a:cubicBezTo>
                  <a:lnTo>
                    <a:pt x="138" y="0"/>
                  </a:lnTo>
                  <a:close/>
                </a:path>
              </a:pathLst>
            </a:custGeom>
            <a:gradFill rotWithShape="0">
              <a:gsLst>
                <a:gs pos="0">
                  <a:srgbClr val="cc0099"/>
                </a:gs>
                <a:gs pos="50000">
                  <a:srgbClr val="660066"/>
                </a:gs>
                <a:gs pos="100000">
                  <a:srgbClr val="cc0099"/>
                </a:gs>
              </a:gsLst>
              <a:lin ang="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Freeform 25"/>
            <p:cNvSpPr/>
            <p:nvPr/>
          </p:nvSpPr>
          <p:spPr>
            <a:xfrm>
              <a:off x="4992840" y="3703320"/>
              <a:ext cx="370440" cy="47880"/>
            </a:xfrm>
            <a:custGeom>
              <a:avLst/>
              <a:gdLst>
                <a:gd name="textAreaLeft" fmla="*/ 0 w 370440"/>
                <a:gd name="textAreaRight" fmla="*/ 370800 w 37044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288" h="36">
                  <a:moveTo>
                    <a:pt x="4" y="0"/>
                  </a:moveTo>
                  <a:cubicBezTo>
                    <a:pt x="11" y="0"/>
                    <a:pt x="17" y="0"/>
                    <a:pt x="24" y="0"/>
                  </a:cubicBezTo>
                  <a:lnTo>
                    <a:pt x="284" y="4"/>
                  </a:lnTo>
                  <a:lnTo>
                    <a:pt x="288" y="36"/>
                  </a:lnTo>
                  <a:lnTo>
                    <a:pt x="0" y="36"/>
                  </a:lnTo>
                  <a:lnTo>
                    <a:pt x="0" y="0"/>
                  </a:lnTo>
                </a:path>
              </a:pathLst>
            </a:custGeom>
            <a:solidFill>
              <a:srgbClr val="6600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4" name="Group 26"/>
            <p:cNvGrpSpPr/>
            <p:nvPr/>
          </p:nvGrpSpPr>
          <p:grpSpPr>
            <a:xfrm>
              <a:off x="5175360" y="2752200"/>
              <a:ext cx="355320" cy="315720"/>
              <a:chOff x="5175360" y="2752200"/>
              <a:chExt cx="355320" cy="315720"/>
            </a:xfrm>
          </p:grpSpPr>
          <p:sp>
            <p:nvSpPr>
              <p:cNvPr id="885" name="Freeform 27"/>
              <p:cNvSpPr/>
              <p:nvPr/>
            </p:nvSpPr>
            <p:spPr>
              <a:xfrm rot="720600">
                <a:off x="5198760" y="2781360"/>
                <a:ext cx="308520" cy="257040"/>
              </a:xfrm>
              <a:custGeom>
                <a:avLst/>
                <a:gdLst>
                  <a:gd name="textAreaLeft" fmla="*/ 0 w 308520"/>
                  <a:gd name="textAreaRight" fmla="*/ 308880 w 308520"/>
                  <a:gd name="textAreaTop" fmla="*/ 0 h 257040"/>
                  <a:gd name="textAreaBottom" fmla="*/ 257400 h 257040"/>
                </a:gdLst>
                <a:ahLst/>
                <a:rect l="textAreaLeft" t="textAreaTop" r="textAreaRight" b="textAreaBottom"/>
                <a:pathLst>
                  <a:path w="576" h="384">
                    <a:moveTo>
                      <a:pt x="288" y="240"/>
                    </a:moveTo>
                    <a:lnTo>
                      <a:pt x="0" y="192"/>
                    </a:lnTo>
                    <a:lnTo>
                      <a:pt x="96" y="0"/>
                    </a:lnTo>
                    <a:lnTo>
                      <a:pt x="288" y="144"/>
                    </a:lnTo>
                    <a:lnTo>
                      <a:pt x="576" y="192"/>
                    </a:lnTo>
                    <a:lnTo>
                      <a:pt x="528" y="336"/>
                    </a:lnTo>
                    <a:lnTo>
                      <a:pt x="432" y="384"/>
                    </a:lnTo>
                    <a:lnTo>
                      <a:pt x="240" y="192"/>
                    </a:lnTo>
                  </a:path>
                </a:pathLst>
              </a:custGeom>
              <a:solidFill>
                <a:srgbClr val="cc00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Oval 28"/>
              <p:cNvSpPr/>
              <p:nvPr/>
            </p:nvSpPr>
            <p:spPr>
              <a:xfrm rot="720600">
                <a:off x="5326920" y="2877480"/>
                <a:ext cx="51120" cy="64080"/>
              </a:xfrm>
              <a:prstGeom prst="ellipse">
                <a:avLst/>
              </a:prstGeom>
              <a:solidFill>
                <a:srgbClr val="6600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800" rIns="82800" tIns="3960" bIns="396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828720"/>
                    <a:tab algn="l" pos="1657440"/>
                    <a:tab algn="l" pos="2486160"/>
                    <a:tab algn="l" pos="3314880"/>
                    <a:tab algn="l" pos="4143240"/>
                    <a:tab algn="l" pos="4971960"/>
                    <a:tab algn="l" pos="5800680"/>
                    <a:tab algn="l" pos="6629400"/>
                    <a:tab algn="l" pos="7458120"/>
                    <a:tab algn="l" pos="8286840"/>
                    <a:tab algn="l" pos="9115560"/>
                    <a:tab algn="l" pos="9944280"/>
                    <a:tab algn="l" pos="107726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7" name="Group 29"/>
            <p:cNvGrpSpPr/>
            <p:nvPr/>
          </p:nvGrpSpPr>
          <p:grpSpPr>
            <a:xfrm>
              <a:off x="4793760" y="2756160"/>
              <a:ext cx="316440" cy="371160"/>
              <a:chOff x="4793760" y="2756160"/>
              <a:chExt cx="316440" cy="371160"/>
            </a:xfrm>
          </p:grpSpPr>
          <p:sp>
            <p:nvSpPr>
              <p:cNvPr id="888" name="Freeform 30"/>
              <p:cNvSpPr/>
              <p:nvPr/>
            </p:nvSpPr>
            <p:spPr>
              <a:xfrm rot="17028000">
                <a:off x="4791240" y="2818080"/>
                <a:ext cx="321480" cy="246960"/>
              </a:xfrm>
              <a:custGeom>
                <a:avLst/>
                <a:gdLst>
                  <a:gd name="textAreaLeft" fmla="*/ 0 w 321480"/>
                  <a:gd name="textAreaRight" fmla="*/ 321840 w 321480"/>
                  <a:gd name="textAreaTop" fmla="*/ 0 h 246960"/>
                  <a:gd name="textAreaBottom" fmla="*/ 247320 h 246960"/>
                </a:gdLst>
                <a:ahLst/>
                <a:rect l="textAreaLeft" t="textAreaTop" r="textAreaRight" b="textAreaBottom"/>
                <a:pathLst>
                  <a:path w="576" h="384">
                    <a:moveTo>
                      <a:pt x="288" y="240"/>
                    </a:moveTo>
                    <a:lnTo>
                      <a:pt x="0" y="192"/>
                    </a:lnTo>
                    <a:lnTo>
                      <a:pt x="96" y="0"/>
                    </a:lnTo>
                    <a:lnTo>
                      <a:pt x="288" y="144"/>
                    </a:lnTo>
                    <a:lnTo>
                      <a:pt x="576" y="192"/>
                    </a:lnTo>
                    <a:lnTo>
                      <a:pt x="528" y="336"/>
                    </a:lnTo>
                    <a:lnTo>
                      <a:pt x="432" y="384"/>
                    </a:lnTo>
                    <a:lnTo>
                      <a:pt x="240" y="192"/>
                    </a:lnTo>
                  </a:path>
                </a:pathLst>
              </a:custGeom>
              <a:solidFill>
                <a:srgbClr val="cc00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Oval 31"/>
              <p:cNvSpPr/>
              <p:nvPr/>
            </p:nvSpPr>
            <p:spPr>
              <a:xfrm rot="17028000">
                <a:off x="4924800" y="2910960"/>
                <a:ext cx="53280" cy="61560"/>
              </a:xfrm>
              <a:prstGeom prst="ellipse">
                <a:avLst/>
              </a:prstGeom>
              <a:solidFill>
                <a:srgbClr val="6600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800" rIns="82800" tIns="2160" bIns="2160" anchor="t" anchorCtr="1" vert="eaVer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828720"/>
                    <a:tab algn="l" pos="1657440"/>
                    <a:tab algn="l" pos="2486160"/>
                    <a:tab algn="l" pos="3314880"/>
                    <a:tab algn="l" pos="4143240"/>
                    <a:tab algn="l" pos="4971960"/>
                    <a:tab algn="l" pos="5800680"/>
                    <a:tab algn="l" pos="6629400"/>
                    <a:tab algn="l" pos="7458120"/>
                    <a:tab algn="l" pos="8286840"/>
                    <a:tab algn="l" pos="9115560"/>
                    <a:tab algn="l" pos="9944280"/>
                    <a:tab algn="l" pos="107726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90" name="Group 32"/>
          <p:cNvGrpSpPr/>
          <p:nvPr/>
        </p:nvGrpSpPr>
        <p:grpSpPr>
          <a:xfrm>
            <a:off x="2879640" y="2817360"/>
            <a:ext cx="1036800" cy="1618200"/>
            <a:chOff x="2879640" y="2817360"/>
            <a:chExt cx="1036800" cy="1618200"/>
          </a:xfrm>
        </p:grpSpPr>
        <p:pic>
          <p:nvPicPr>
            <p:cNvPr id="891" name="Picture 33" descr="girl6"/>
            <p:cNvPicPr/>
            <p:nvPr/>
          </p:nvPicPr>
          <p:blipFill>
            <a:blip r:embed="rId4"/>
            <a:stretch/>
          </p:blipFill>
          <p:spPr>
            <a:xfrm>
              <a:off x="2879640" y="2846520"/>
              <a:ext cx="1036800" cy="158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2" name="Freeform 34"/>
            <p:cNvSpPr/>
            <p:nvPr/>
          </p:nvSpPr>
          <p:spPr>
            <a:xfrm>
              <a:off x="3046680" y="3810240"/>
              <a:ext cx="723240" cy="336960"/>
            </a:xfrm>
            <a:custGeom>
              <a:avLst/>
              <a:gdLst>
                <a:gd name="textAreaLeft" fmla="*/ 0 w 723240"/>
                <a:gd name="textAreaRight" fmla="*/ 723600 w 723240"/>
                <a:gd name="textAreaTop" fmla="*/ 0 h 336960"/>
                <a:gd name="textAreaBottom" fmla="*/ 337320 h 336960"/>
              </a:gdLst>
              <a:ahLst/>
              <a:rect l="textAreaLeft" t="textAreaTop" r="textAreaRight" b="textAreaBottom"/>
              <a:pathLst>
                <a:path w="562" h="252">
                  <a:moveTo>
                    <a:pt x="138" y="0"/>
                  </a:moveTo>
                  <a:lnTo>
                    <a:pt x="438" y="8"/>
                  </a:lnTo>
                  <a:lnTo>
                    <a:pt x="562" y="224"/>
                  </a:lnTo>
                  <a:lnTo>
                    <a:pt x="470" y="248"/>
                  </a:lnTo>
                  <a:lnTo>
                    <a:pt x="400" y="96"/>
                  </a:lnTo>
                  <a:lnTo>
                    <a:pt x="454" y="252"/>
                  </a:lnTo>
                  <a:lnTo>
                    <a:pt x="322" y="248"/>
                  </a:lnTo>
                  <a:lnTo>
                    <a:pt x="304" y="96"/>
                  </a:lnTo>
                  <a:lnTo>
                    <a:pt x="304" y="240"/>
                  </a:lnTo>
                  <a:lnTo>
                    <a:pt x="112" y="240"/>
                  </a:lnTo>
                  <a:lnTo>
                    <a:pt x="208" y="96"/>
                  </a:lnTo>
                  <a:lnTo>
                    <a:pt x="90" y="240"/>
                  </a:lnTo>
                  <a:cubicBezTo>
                    <a:pt x="59" y="239"/>
                    <a:pt x="36" y="235"/>
                    <a:pt x="6" y="228"/>
                  </a:cubicBezTo>
                  <a:cubicBezTo>
                    <a:pt x="0" y="227"/>
                    <a:pt x="14" y="228"/>
                    <a:pt x="18" y="224"/>
                  </a:cubicBezTo>
                  <a:cubicBezTo>
                    <a:pt x="25" y="217"/>
                    <a:pt x="4" y="241"/>
                    <a:pt x="30" y="204"/>
                  </a:cubicBezTo>
                  <a:lnTo>
                    <a:pt x="138" y="0"/>
                  </a:lnTo>
                  <a:close/>
                </a:path>
              </a:pathLst>
            </a:custGeom>
            <a:gradFill rotWithShape="0">
              <a:gsLst>
                <a:gs pos="0">
                  <a:srgbClr val="cc0099"/>
                </a:gs>
                <a:gs pos="50000">
                  <a:srgbClr val="660066"/>
                </a:gs>
                <a:gs pos="100000">
                  <a:srgbClr val="cc0099"/>
                </a:gs>
              </a:gsLst>
              <a:lin ang="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Freeform 35"/>
            <p:cNvSpPr/>
            <p:nvPr/>
          </p:nvSpPr>
          <p:spPr>
            <a:xfrm>
              <a:off x="3229200" y="3767400"/>
              <a:ext cx="370440" cy="47880"/>
            </a:xfrm>
            <a:custGeom>
              <a:avLst/>
              <a:gdLst>
                <a:gd name="textAreaLeft" fmla="*/ 0 w 370440"/>
                <a:gd name="textAreaRight" fmla="*/ 370800 w 37044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288" h="36">
                  <a:moveTo>
                    <a:pt x="4" y="0"/>
                  </a:moveTo>
                  <a:cubicBezTo>
                    <a:pt x="11" y="0"/>
                    <a:pt x="17" y="0"/>
                    <a:pt x="24" y="0"/>
                  </a:cubicBezTo>
                  <a:lnTo>
                    <a:pt x="284" y="4"/>
                  </a:lnTo>
                  <a:lnTo>
                    <a:pt x="288" y="36"/>
                  </a:lnTo>
                  <a:lnTo>
                    <a:pt x="0" y="36"/>
                  </a:lnTo>
                  <a:lnTo>
                    <a:pt x="0" y="0"/>
                  </a:lnTo>
                </a:path>
              </a:pathLst>
            </a:custGeom>
            <a:solidFill>
              <a:srgbClr val="6600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94" name="Group 36"/>
            <p:cNvGrpSpPr/>
            <p:nvPr/>
          </p:nvGrpSpPr>
          <p:grpSpPr>
            <a:xfrm>
              <a:off x="3411720" y="2817360"/>
              <a:ext cx="354960" cy="315360"/>
              <a:chOff x="3411720" y="2817360"/>
              <a:chExt cx="354960" cy="315360"/>
            </a:xfrm>
          </p:grpSpPr>
          <p:sp>
            <p:nvSpPr>
              <p:cNvPr id="895" name="Freeform 37"/>
              <p:cNvSpPr/>
              <p:nvPr/>
            </p:nvSpPr>
            <p:spPr>
              <a:xfrm rot="720600">
                <a:off x="3434760" y="2846520"/>
                <a:ext cx="308520" cy="256680"/>
              </a:xfrm>
              <a:custGeom>
                <a:avLst/>
                <a:gdLst>
                  <a:gd name="textAreaLeft" fmla="*/ 0 w 308520"/>
                  <a:gd name="textAreaRight" fmla="*/ 308880 w 308520"/>
                  <a:gd name="textAreaTop" fmla="*/ 0 h 256680"/>
                  <a:gd name="textAreaBottom" fmla="*/ 257040 h 256680"/>
                </a:gdLst>
                <a:ahLst/>
                <a:rect l="textAreaLeft" t="textAreaTop" r="textAreaRight" b="textAreaBottom"/>
                <a:pathLst>
                  <a:path w="576" h="384">
                    <a:moveTo>
                      <a:pt x="288" y="240"/>
                    </a:moveTo>
                    <a:lnTo>
                      <a:pt x="0" y="192"/>
                    </a:lnTo>
                    <a:lnTo>
                      <a:pt x="96" y="0"/>
                    </a:lnTo>
                    <a:lnTo>
                      <a:pt x="288" y="144"/>
                    </a:lnTo>
                    <a:lnTo>
                      <a:pt x="576" y="192"/>
                    </a:lnTo>
                    <a:lnTo>
                      <a:pt x="528" y="336"/>
                    </a:lnTo>
                    <a:lnTo>
                      <a:pt x="432" y="384"/>
                    </a:lnTo>
                    <a:lnTo>
                      <a:pt x="240" y="192"/>
                    </a:lnTo>
                  </a:path>
                </a:pathLst>
              </a:custGeom>
              <a:solidFill>
                <a:srgbClr val="cc00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Oval 38"/>
              <p:cNvSpPr/>
              <p:nvPr/>
            </p:nvSpPr>
            <p:spPr>
              <a:xfrm rot="720600">
                <a:off x="3563280" y="2942280"/>
                <a:ext cx="51120" cy="64080"/>
              </a:xfrm>
              <a:prstGeom prst="ellipse">
                <a:avLst/>
              </a:prstGeom>
              <a:solidFill>
                <a:srgbClr val="6600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800" rIns="82800" tIns="3960" bIns="396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828720"/>
                    <a:tab algn="l" pos="1657440"/>
                    <a:tab algn="l" pos="2486160"/>
                    <a:tab algn="l" pos="3314880"/>
                    <a:tab algn="l" pos="4143240"/>
                    <a:tab algn="l" pos="4971960"/>
                    <a:tab algn="l" pos="5800680"/>
                    <a:tab algn="l" pos="6629400"/>
                    <a:tab algn="l" pos="7458120"/>
                    <a:tab algn="l" pos="8286840"/>
                    <a:tab algn="l" pos="9115560"/>
                    <a:tab algn="l" pos="9944280"/>
                    <a:tab algn="l" pos="107726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7" name="Group 39"/>
            <p:cNvGrpSpPr/>
            <p:nvPr/>
          </p:nvGrpSpPr>
          <p:grpSpPr>
            <a:xfrm>
              <a:off x="3030120" y="2821680"/>
              <a:ext cx="316440" cy="370800"/>
              <a:chOff x="3030120" y="2821680"/>
              <a:chExt cx="316440" cy="370800"/>
            </a:xfrm>
          </p:grpSpPr>
          <p:sp>
            <p:nvSpPr>
              <p:cNvPr id="898" name="Freeform 40"/>
              <p:cNvSpPr/>
              <p:nvPr/>
            </p:nvSpPr>
            <p:spPr>
              <a:xfrm rot="17028000">
                <a:off x="3027600" y="2883240"/>
                <a:ext cx="321120" cy="246960"/>
              </a:xfrm>
              <a:custGeom>
                <a:avLst/>
                <a:gdLst>
                  <a:gd name="textAreaLeft" fmla="*/ 0 w 321120"/>
                  <a:gd name="textAreaRight" fmla="*/ 321480 w 321120"/>
                  <a:gd name="textAreaTop" fmla="*/ 0 h 246960"/>
                  <a:gd name="textAreaBottom" fmla="*/ 247320 h 246960"/>
                </a:gdLst>
                <a:ahLst/>
                <a:rect l="textAreaLeft" t="textAreaTop" r="textAreaRight" b="textAreaBottom"/>
                <a:pathLst>
                  <a:path w="576" h="384">
                    <a:moveTo>
                      <a:pt x="288" y="240"/>
                    </a:moveTo>
                    <a:lnTo>
                      <a:pt x="0" y="192"/>
                    </a:lnTo>
                    <a:lnTo>
                      <a:pt x="96" y="0"/>
                    </a:lnTo>
                    <a:lnTo>
                      <a:pt x="288" y="144"/>
                    </a:lnTo>
                    <a:lnTo>
                      <a:pt x="576" y="192"/>
                    </a:lnTo>
                    <a:lnTo>
                      <a:pt x="528" y="336"/>
                    </a:lnTo>
                    <a:lnTo>
                      <a:pt x="432" y="384"/>
                    </a:lnTo>
                    <a:lnTo>
                      <a:pt x="240" y="192"/>
                    </a:lnTo>
                  </a:path>
                </a:pathLst>
              </a:custGeom>
              <a:solidFill>
                <a:srgbClr val="cc00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Oval 41"/>
              <p:cNvSpPr/>
              <p:nvPr/>
            </p:nvSpPr>
            <p:spPr>
              <a:xfrm rot="17028000">
                <a:off x="3161160" y="2976480"/>
                <a:ext cx="53280" cy="61560"/>
              </a:xfrm>
              <a:prstGeom prst="ellipse">
                <a:avLst/>
              </a:prstGeom>
              <a:solidFill>
                <a:srgbClr val="6600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800" rIns="82800" tIns="2160" bIns="2160" anchor="t" anchorCtr="1" vert="eaVer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828720"/>
                    <a:tab algn="l" pos="1657440"/>
                    <a:tab algn="l" pos="2486160"/>
                    <a:tab algn="l" pos="3314880"/>
                    <a:tab algn="l" pos="4143240"/>
                    <a:tab algn="l" pos="4971960"/>
                    <a:tab algn="l" pos="5800680"/>
                    <a:tab algn="l" pos="6629400"/>
                    <a:tab algn="l" pos="7458120"/>
                    <a:tab algn="l" pos="8286840"/>
                    <a:tab algn="l" pos="9115560"/>
                    <a:tab algn="l" pos="9944280"/>
                    <a:tab algn="l" pos="107726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00" name="Group 42"/>
          <p:cNvGrpSpPr/>
          <p:nvPr/>
        </p:nvGrpSpPr>
        <p:grpSpPr>
          <a:xfrm>
            <a:off x="6400800" y="880920"/>
            <a:ext cx="836280" cy="1512720"/>
            <a:chOff x="6400800" y="880920"/>
            <a:chExt cx="836280" cy="1512720"/>
          </a:xfrm>
        </p:grpSpPr>
        <p:grpSp>
          <p:nvGrpSpPr>
            <p:cNvPr id="901" name="Group 43"/>
            <p:cNvGrpSpPr/>
            <p:nvPr/>
          </p:nvGrpSpPr>
          <p:grpSpPr>
            <a:xfrm>
              <a:off x="6400800" y="880920"/>
              <a:ext cx="836280" cy="1512720"/>
              <a:chOff x="6400800" y="880920"/>
              <a:chExt cx="836280" cy="1512720"/>
            </a:xfrm>
          </p:grpSpPr>
          <p:sp>
            <p:nvSpPr>
              <p:cNvPr id="902" name="Freeform 44"/>
              <p:cNvSpPr/>
              <p:nvPr/>
            </p:nvSpPr>
            <p:spPr>
              <a:xfrm>
                <a:off x="6819840" y="1981800"/>
                <a:ext cx="360" cy="347040"/>
              </a:xfrm>
              <a:custGeom>
                <a:avLst/>
                <a:gdLst/>
                <a:ahLst/>
                <a:rect l="l" t="t" r="r" b="b"/>
                <a:pathLst>
                  <a:path w="1" h="256">
                    <a:moveTo>
                      <a:pt x="0" y="0"/>
                    </a:moveTo>
                    <a:lnTo>
                      <a:pt x="0" y="25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Freeform 45"/>
              <p:cNvSpPr/>
              <p:nvPr/>
            </p:nvSpPr>
            <p:spPr>
              <a:xfrm>
                <a:off x="6527160" y="1769760"/>
                <a:ext cx="584640" cy="574920"/>
              </a:xfrm>
              <a:custGeom>
                <a:avLst/>
                <a:gdLst>
                  <a:gd name="textAreaLeft" fmla="*/ 0 w 584640"/>
                  <a:gd name="textAreaRight" fmla="*/ 585000 w 584640"/>
                  <a:gd name="textAreaTop" fmla="*/ 0 h 574920"/>
                  <a:gd name="textAreaBottom" fmla="*/ 575280 h 574920"/>
                </a:gdLst>
                <a:ahLst/>
                <a:rect l="textAreaLeft" t="textAreaTop" r="textAreaRight" b="textAreaBottom"/>
                <a:pathLst>
                  <a:path w="468" h="423">
                    <a:moveTo>
                      <a:pt x="79" y="8"/>
                    </a:moveTo>
                    <a:cubicBezTo>
                      <a:pt x="118" y="0"/>
                      <a:pt x="265" y="8"/>
                      <a:pt x="313" y="8"/>
                    </a:cubicBezTo>
                    <a:cubicBezTo>
                      <a:pt x="361" y="8"/>
                      <a:pt x="355" y="5"/>
                      <a:pt x="367" y="8"/>
                    </a:cubicBezTo>
                    <a:cubicBezTo>
                      <a:pt x="379" y="11"/>
                      <a:pt x="377" y="15"/>
                      <a:pt x="385" y="28"/>
                    </a:cubicBezTo>
                    <a:cubicBezTo>
                      <a:pt x="393" y="41"/>
                      <a:pt x="409" y="67"/>
                      <a:pt x="417" y="84"/>
                    </a:cubicBezTo>
                    <a:cubicBezTo>
                      <a:pt x="425" y="101"/>
                      <a:pt x="425" y="113"/>
                      <a:pt x="433" y="132"/>
                    </a:cubicBezTo>
                    <a:cubicBezTo>
                      <a:pt x="441" y="151"/>
                      <a:pt x="458" y="173"/>
                      <a:pt x="463" y="200"/>
                    </a:cubicBezTo>
                    <a:cubicBezTo>
                      <a:pt x="468" y="227"/>
                      <a:pt x="467" y="271"/>
                      <a:pt x="463" y="296"/>
                    </a:cubicBezTo>
                    <a:cubicBezTo>
                      <a:pt x="459" y="321"/>
                      <a:pt x="443" y="330"/>
                      <a:pt x="437" y="348"/>
                    </a:cubicBezTo>
                    <a:cubicBezTo>
                      <a:pt x="431" y="366"/>
                      <a:pt x="431" y="392"/>
                      <a:pt x="429" y="404"/>
                    </a:cubicBezTo>
                    <a:cubicBezTo>
                      <a:pt x="427" y="416"/>
                      <a:pt x="431" y="423"/>
                      <a:pt x="425" y="420"/>
                    </a:cubicBezTo>
                    <a:cubicBezTo>
                      <a:pt x="419" y="417"/>
                      <a:pt x="402" y="396"/>
                      <a:pt x="393" y="388"/>
                    </a:cubicBezTo>
                    <a:cubicBezTo>
                      <a:pt x="384" y="380"/>
                      <a:pt x="382" y="377"/>
                      <a:pt x="369" y="372"/>
                    </a:cubicBezTo>
                    <a:cubicBezTo>
                      <a:pt x="356" y="367"/>
                      <a:pt x="333" y="359"/>
                      <a:pt x="317" y="360"/>
                    </a:cubicBezTo>
                    <a:cubicBezTo>
                      <a:pt x="301" y="361"/>
                      <a:pt x="286" y="372"/>
                      <a:pt x="273" y="380"/>
                    </a:cubicBezTo>
                    <a:cubicBezTo>
                      <a:pt x="260" y="388"/>
                      <a:pt x="245" y="406"/>
                      <a:pt x="237" y="408"/>
                    </a:cubicBezTo>
                    <a:cubicBezTo>
                      <a:pt x="229" y="410"/>
                      <a:pt x="235" y="399"/>
                      <a:pt x="223" y="392"/>
                    </a:cubicBezTo>
                    <a:cubicBezTo>
                      <a:pt x="211" y="385"/>
                      <a:pt x="185" y="372"/>
                      <a:pt x="165" y="368"/>
                    </a:cubicBezTo>
                    <a:cubicBezTo>
                      <a:pt x="145" y="364"/>
                      <a:pt x="120" y="363"/>
                      <a:pt x="105" y="368"/>
                    </a:cubicBezTo>
                    <a:cubicBezTo>
                      <a:pt x="90" y="373"/>
                      <a:pt x="82" y="393"/>
                      <a:pt x="73" y="400"/>
                    </a:cubicBezTo>
                    <a:cubicBezTo>
                      <a:pt x="64" y="407"/>
                      <a:pt x="56" y="413"/>
                      <a:pt x="49" y="412"/>
                    </a:cubicBezTo>
                    <a:cubicBezTo>
                      <a:pt x="42" y="411"/>
                      <a:pt x="37" y="404"/>
                      <a:pt x="31" y="392"/>
                    </a:cubicBezTo>
                    <a:cubicBezTo>
                      <a:pt x="25" y="380"/>
                      <a:pt x="18" y="360"/>
                      <a:pt x="13" y="340"/>
                    </a:cubicBezTo>
                    <a:cubicBezTo>
                      <a:pt x="8" y="320"/>
                      <a:pt x="2" y="293"/>
                      <a:pt x="1" y="272"/>
                    </a:cubicBezTo>
                    <a:cubicBezTo>
                      <a:pt x="0" y="251"/>
                      <a:pt x="0" y="232"/>
                      <a:pt x="5" y="212"/>
                    </a:cubicBezTo>
                    <a:cubicBezTo>
                      <a:pt x="10" y="192"/>
                      <a:pt x="22" y="171"/>
                      <a:pt x="31" y="152"/>
                    </a:cubicBezTo>
                    <a:cubicBezTo>
                      <a:pt x="40" y="133"/>
                      <a:pt x="49" y="124"/>
                      <a:pt x="57" y="100"/>
                    </a:cubicBezTo>
                    <a:cubicBezTo>
                      <a:pt x="65" y="76"/>
                      <a:pt x="75" y="27"/>
                      <a:pt x="79" y="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50000">
                    <a:srgbClr val="000099"/>
                  </a:gs>
                  <a:gs pos="100000">
                    <a:srgbClr val="0066cc"/>
                  </a:gs>
                </a:gsLst>
                <a:lin ang="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Freeform 46"/>
              <p:cNvSpPr/>
              <p:nvPr/>
            </p:nvSpPr>
            <p:spPr>
              <a:xfrm>
                <a:off x="6806880" y="1779840"/>
                <a:ext cx="59040" cy="195840"/>
              </a:xfrm>
              <a:custGeom>
                <a:avLst/>
                <a:gdLst>
                  <a:gd name="textAreaLeft" fmla="*/ 0 w 59040"/>
                  <a:gd name="textAreaRight" fmla="*/ 59400 w 59040"/>
                  <a:gd name="textAreaTop" fmla="*/ 0 h 195840"/>
                  <a:gd name="textAreaBottom" fmla="*/ 196200 h 195840"/>
                </a:gdLst>
                <a:ahLst/>
                <a:rect l="textAreaLeft" t="textAreaTop" r="textAreaRight" b="textAreaBottom"/>
                <a:pathLst>
                  <a:path w="48" h="144">
                    <a:moveTo>
                      <a:pt x="0" y="0"/>
                    </a:moveTo>
                    <a:lnTo>
                      <a:pt x="48" y="0"/>
                    </a:lnTo>
                    <a:lnTo>
                      <a:pt x="48" y="144"/>
                    </a:lnTo>
                    <a:lnTo>
                      <a:pt x="0" y="14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Freeform 47"/>
              <p:cNvSpPr/>
              <p:nvPr/>
            </p:nvSpPr>
            <p:spPr>
              <a:xfrm>
                <a:off x="6919200" y="1774080"/>
                <a:ext cx="159480" cy="195480"/>
              </a:xfrm>
              <a:custGeom>
                <a:avLst/>
                <a:gdLst>
                  <a:gd name="textAreaLeft" fmla="*/ 0 w 159480"/>
                  <a:gd name="textAreaRight" fmla="*/ 159840 w 159480"/>
                  <a:gd name="textAreaTop" fmla="*/ 0 h 195480"/>
                  <a:gd name="textAreaBottom" fmla="*/ 195840 h 195480"/>
                </a:gdLst>
                <a:ahLst/>
                <a:rect l="textAreaLeft" t="textAreaTop" r="textAreaRight" b="textAreaBottom"/>
                <a:pathLst>
                  <a:path w="128" h="144">
                    <a:moveTo>
                      <a:pt x="127" y="133"/>
                    </a:moveTo>
                    <a:lnTo>
                      <a:pt x="128" y="144"/>
                    </a:lnTo>
                    <a:lnTo>
                      <a:pt x="0" y="4"/>
                    </a:lnTo>
                    <a:lnTo>
                      <a:pt x="60" y="0"/>
                    </a:lnTo>
                    <a:lnTo>
                      <a:pt x="127" y="133"/>
                    </a:lnTo>
                    <a:close/>
                  </a:path>
                </a:pathLst>
              </a:custGeom>
              <a:solidFill>
                <a:srgbClr val="0000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Freeform 48"/>
              <p:cNvSpPr/>
              <p:nvPr/>
            </p:nvSpPr>
            <p:spPr>
              <a:xfrm>
                <a:off x="6573600" y="1769760"/>
                <a:ext cx="129240" cy="205920"/>
              </a:xfrm>
              <a:custGeom>
                <a:avLst/>
                <a:gdLst>
                  <a:gd name="textAreaLeft" fmla="*/ 0 w 129240"/>
                  <a:gd name="textAreaRight" fmla="*/ 129600 w 129240"/>
                  <a:gd name="textAreaTop" fmla="*/ 0 h 205920"/>
                  <a:gd name="textAreaBottom" fmla="*/ 206280 h 205920"/>
                </a:gdLst>
                <a:ahLst/>
                <a:rect l="textAreaLeft" t="textAreaTop" r="textAreaRight" b="textAreaBottom"/>
                <a:pathLst>
                  <a:path w="104" h="152">
                    <a:moveTo>
                      <a:pt x="0" y="152"/>
                    </a:moveTo>
                    <a:lnTo>
                      <a:pt x="8" y="136"/>
                    </a:lnTo>
                    <a:lnTo>
                      <a:pt x="44" y="0"/>
                    </a:lnTo>
                    <a:lnTo>
                      <a:pt x="104" y="8"/>
                    </a:lnTo>
                    <a:lnTo>
                      <a:pt x="0" y="152"/>
                    </a:lnTo>
                    <a:close/>
                  </a:path>
                </a:pathLst>
              </a:custGeom>
              <a:solidFill>
                <a:srgbClr val="0000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Freeform 49"/>
              <p:cNvSpPr/>
              <p:nvPr/>
            </p:nvSpPr>
            <p:spPr>
              <a:xfrm>
                <a:off x="6618240" y="1491480"/>
                <a:ext cx="391680" cy="292680"/>
              </a:xfrm>
              <a:custGeom>
                <a:avLst/>
                <a:gdLst>
                  <a:gd name="textAreaLeft" fmla="*/ 0 w 391680"/>
                  <a:gd name="textAreaRight" fmla="*/ 392040 w 391680"/>
                  <a:gd name="textAreaTop" fmla="*/ 0 h 292680"/>
                  <a:gd name="textAreaBottom" fmla="*/ 293040 h 292680"/>
                </a:gdLst>
                <a:ahLst/>
                <a:rect l="textAreaLeft" t="textAreaTop" r="textAreaRight" b="textAreaBottom"/>
                <a:pathLst>
                  <a:path w="313" h="215">
                    <a:moveTo>
                      <a:pt x="6" y="212"/>
                    </a:moveTo>
                    <a:cubicBezTo>
                      <a:pt x="13" y="215"/>
                      <a:pt x="1" y="209"/>
                      <a:pt x="44" y="208"/>
                    </a:cubicBezTo>
                    <a:cubicBezTo>
                      <a:pt x="87" y="207"/>
                      <a:pt x="221" y="205"/>
                      <a:pt x="264" y="204"/>
                    </a:cubicBezTo>
                    <a:cubicBezTo>
                      <a:pt x="307" y="203"/>
                      <a:pt x="296" y="213"/>
                      <a:pt x="304" y="204"/>
                    </a:cubicBezTo>
                    <a:cubicBezTo>
                      <a:pt x="312" y="195"/>
                      <a:pt x="311" y="171"/>
                      <a:pt x="312" y="152"/>
                    </a:cubicBezTo>
                    <a:cubicBezTo>
                      <a:pt x="313" y="133"/>
                      <a:pt x="313" y="111"/>
                      <a:pt x="308" y="92"/>
                    </a:cubicBezTo>
                    <a:cubicBezTo>
                      <a:pt x="303" y="73"/>
                      <a:pt x="294" y="52"/>
                      <a:pt x="284" y="40"/>
                    </a:cubicBezTo>
                    <a:cubicBezTo>
                      <a:pt x="274" y="28"/>
                      <a:pt x="261" y="26"/>
                      <a:pt x="248" y="20"/>
                    </a:cubicBezTo>
                    <a:cubicBezTo>
                      <a:pt x="235" y="14"/>
                      <a:pt x="219" y="0"/>
                      <a:pt x="204" y="4"/>
                    </a:cubicBezTo>
                    <a:cubicBezTo>
                      <a:pt x="189" y="8"/>
                      <a:pt x="169" y="37"/>
                      <a:pt x="160" y="44"/>
                    </a:cubicBezTo>
                    <a:cubicBezTo>
                      <a:pt x="151" y="51"/>
                      <a:pt x="161" y="50"/>
                      <a:pt x="152" y="44"/>
                    </a:cubicBezTo>
                    <a:cubicBezTo>
                      <a:pt x="143" y="38"/>
                      <a:pt x="120" y="13"/>
                      <a:pt x="108" y="8"/>
                    </a:cubicBezTo>
                    <a:cubicBezTo>
                      <a:pt x="96" y="3"/>
                      <a:pt x="91" y="9"/>
                      <a:pt x="80" y="16"/>
                    </a:cubicBezTo>
                    <a:cubicBezTo>
                      <a:pt x="69" y="23"/>
                      <a:pt x="55" y="37"/>
                      <a:pt x="44" y="48"/>
                    </a:cubicBezTo>
                    <a:cubicBezTo>
                      <a:pt x="33" y="59"/>
                      <a:pt x="22" y="73"/>
                      <a:pt x="16" y="84"/>
                    </a:cubicBezTo>
                    <a:cubicBezTo>
                      <a:pt x="10" y="95"/>
                      <a:pt x="8" y="103"/>
                      <a:pt x="6" y="116"/>
                    </a:cubicBezTo>
                    <a:cubicBezTo>
                      <a:pt x="4" y="129"/>
                      <a:pt x="7" y="151"/>
                      <a:pt x="6" y="164"/>
                    </a:cubicBezTo>
                    <a:cubicBezTo>
                      <a:pt x="5" y="177"/>
                      <a:pt x="0" y="184"/>
                      <a:pt x="0" y="192"/>
                    </a:cubicBezTo>
                    <a:cubicBezTo>
                      <a:pt x="0" y="200"/>
                      <a:pt x="2" y="209"/>
                      <a:pt x="6" y="212"/>
                    </a:cubicBezTo>
                    <a:close/>
                  </a:path>
                </a:pathLst>
              </a:custGeom>
              <a:solidFill>
                <a:srgbClr val="c58bf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Freeform 50"/>
              <p:cNvSpPr/>
              <p:nvPr/>
            </p:nvSpPr>
            <p:spPr>
              <a:xfrm>
                <a:off x="6926400" y="1488960"/>
                <a:ext cx="245880" cy="43344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433440"/>
                  <a:gd name="textAreaBottom" fmla="*/ 433800 h 433440"/>
                </a:gdLst>
                <a:ahLst/>
                <a:rect l="textAreaLeft" t="textAreaTop" r="textAreaRight" b="textAreaBottom"/>
                <a:pathLst>
                  <a:path w="198" h="320">
                    <a:moveTo>
                      <a:pt x="0" y="23"/>
                    </a:moveTo>
                    <a:cubicBezTo>
                      <a:pt x="8" y="16"/>
                      <a:pt x="48" y="0"/>
                      <a:pt x="74" y="7"/>
                    </a:cubicBezTo>
                    <a:cubicBezTo>
                      <a:pt x="100" y="14"/>
                      <a:pt x="139" y="46"/>
                      <a:pt x="154" y="67"/>
                    </a:cubicBezTo>
                    <a:cubicBezTo>
                      <a:pt x="169" y="88"/>
                      <a:pt x="163" y="116"/>
                      <a:pt x="166" y="135"/>
                    </a:cubicBezTo>
                    <a:cubicBezTo>
                      <a:pt x="169" y="154"/>
                      <a:pt x="168" y="161"/>
                      <a:pt x="170" y="179"/>
                    </a:cubicBezTo>
                    <a:cubicBezTo>
                      <a:pt x="172" y="197"/>
                      <a:pt x="174" y="229"/>
                      <a:pt x="178" y="243"/>
                    </a:cubicBezTo>
                    <a:cubicBezTo>
                      <a:pt x="182" y="257"/>
                      <a:pt x="198" y="252"/>
                      <a:pt x="192" y="263"/>
                    </a:cubicBezTo>
                    <a:cubicBezTo>
                      <a:pt x="186" y="274"/>
                      <a:pt x="156" y="302"/>
                      <a:pt x="144" y="311"/>
                    </a:cubicBezTo>
                    <a:cubicBezTo>
                      <a:pt x="132" y="320"/>
                      <a:pt x="126" y="319"/>
                      <a:pt x="118" y="315"/>
                    </a:cubicBezTo>
                    <a:cubicBezTo>
                      <a:pt x="110" y="311"/>
                      <a:pt x="108" y="303"/>
                      <a:pt x="98" y="287"/>
                    </a:cubicBezTo>
                    <a:cubicBezTo>
                      <a:pt x="88" y="271"/>
                      <a:pt x="63" y="236"/>
                      <a:pt x="58" y="219"/>
                    </a:cubicBezTo>
                    <a:cubicBezTo>
                      <a:pt x="53" y="202"/>
                      <a:pt x="65" y="199"/>
                      <a:pt x="66" y="183"/>
                    </a:cubicBezTo>
                    <a:cubicBezTo>
                      <a:pt x="67" y="167"/>
                      <a:pt x="69" y="142"/>
                      <a:pt x="66" y="123"/>
                    </a:cubicBezTo>
                    <a:cubicBezTo>
                      <a:pt x="63" y="104"/>
                      <a:pt x="53" y="85"/>
                      <a:pt x="48" y="71"/>
                    </a:cubicBezTo>
                    <a:cubicBezTo>
                      <a:pt x="43" y="57"/>
                      <a:pt x="42" y="47"/>
                      <a:pt x="34" y="39"/>
                    </a:cubicBezTo>
                    <a:cubicBezTo>
                      <a:pt x="26" y="31"/>
                      <a:pt x="7" y="26"/>
                      <a:pt x="0" y="23"/>
                    </a:cubicBezTo>
                    <a:close/>
                  </a:path>
                </a:pathLst>
              </a:custGeom>
              <a:solidFill>
                <a:srgbClr val="c58bf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Freeform 51"/>
              <p:cNvSpPr/>
              <p:nvPr/>
            </p:nvSpPr>
            <p:spPr>
              <a:xfrm>
                <a:off x="7053120" y="1769760"/>
                <a:ext cx="125280" cy="155880"/>
              </a:xfrm>
              <a:custGeom>
                <a:avLst/>
                <a:gdLst>
                  <a:gd name="textAreaLeft" fmla="*/ 0 w 125280"/>
                  <a:gd name="textAreaRight" fmla="*/ 125640 w 125280"/>
                  <a:gd name="textAreaTop" fmla="*/ 0 h 155880"/>
                  <a:gd name="textAreaBottom" fmla="*/ 156240 h 155880"/>
                </a:gdLst>
                <a:ahLst/>
                <a:rect l="textAreaLeft" t="textAreaTop" r="textAreaRight" b="textAreaBottom"/>
                <a:pathLst>
                  <a:path w="100" h="116">
                    <a:moveTo>
                      <a:pt x="76" y="4"/>
                    </a:moveTo>
                    <a:lnTo>
                      <a:pt x="76" y="0"/>
                    </a:lnTo>
                    <a:lnTo>
                      <a:pt x="100" y="56"/>
                    </a:lnTo>
                    <a:lnTo>
                      <a:pt x="28" y="116"/>
                    </a:lnTo>
                    <a:lnTo>
                      <a:pt x="0" y="80"/>
                    </a:lnTo>
                    <a:lnTo>
                      <a:pt x="76" y="4"/>
                    </a:lnTo>
                    <a:close/>
                  </a:path>
                </a:pathLst>
              </a:custGeom>
              <a:solidFill>
                <a:srgbClr val="c58bf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Freeform 52"/>
              <p:cNvSpPr/>
              <p:nvPr/>
            </p:nvSpPr>
            <p:spPr>
              <a:xfrm>
                <a:off x="6442560" y="1494360"/>
                <a:ext cx="277560" cy="438120"/>
              </a:xfrm>
              <a:custGeom>
                <a:avLst/>
                <a:gdLst>
                  <a:gd name="textAreaLeft" fmla="*/ 0 w 277560"/>
                  <a:gd name="textAreaRight" fmla="*/ 277920 w 277560"/>
                  <a:gd name="textAreaTop" fmla="*/ 0 h 438120"/>
                  <a:gd name="textAreaBottom" fmla="*/ 438480 h 438120"/>
                </a:gdLst>
                <a:ahLst/>
                <a:rect l="textAreaLeft" t="textAreaTop" r="textAreaRight" b="textAreaBottom"/>
                <a:pathLst>
                  <a:path w="222" h="322">
                    <a:moveTo>
                      <a:pt x="221" y="24"/>
                    </a:moveTo>
                    <a:cubicBezTo>
                      <a:pt x="222" y="15"/>
                      <a:pt x="202" y="4"/>
                      <a:pt x="185" y="2"/>
                    </a:cubicBezTo>
                    <a:cubicBezTo>
                      <a:pt x="168" y="0"/>
                      <a:pt x="144" y="0"/>
                      <a:pt x="121" y="10"/>
                    </a:cubicBezTo>
                    <a:cubicBezTo>
                      <a:pt x="98" y="20"/>
                      <a:pt x="61" y="40"/>
                      <a:pt x="47" y="60"/>
                    </a:cubicBezTo>
                    <a:cubicBezTo>
                      <a:pt x="33" y="80"/>
                      <a:pt x="38" y="109"/>
                      <a:pt x="35" y="128"/>
                    </a:cubicBezTo>
                    <a:cubicBezTo>
                      <a:pt x="32" y="147"/>
                      <a:pt x="33" y="154"/>
                      <a:pt x="31" y="172"/>
                    </a:cubicBezTo>
                    <a:cubicBezTo>
                      <a:pt x="29" y="190"/>
                      <a:pt x="27" y="222"/>
                      <a:pt x="23" y="236"/>
                    </a:cubicBezTo>
                    <a:cubicBezTo>
                      <a:pt x="19" y="250"/>
                      <a:pt x="0" y="246"/>
                      <a:pt x="9" y="256"/>
                    </a:cubicBezTo>
                    <a:cubicBezTo>
                      <a:pt x="18" y="266"/>
                      <a:pt x="59" y="288"/>
                      <a:pt x="77" y="298"/>
                    </a:cubicBezTo>
                    <a:cubicBezTo>
                      <a:pt x="95" y="308"/>
                      <a:pt x="109" y="322"/>
                      <a:pt x="117" y="318"/>
                    </a:cubicBezTo>
                    <a:cubicBezTo>
                      <a:pt x="125" y="314"/>
                      <a:pt x="121" y="292"/>
                      <a:pt x="125" y="274"/>
                    </a:cubicBezTo>
                    <a:cubicBezTo>
                      <a:pt x="129" y="256"/>
                      <a:pt x="140" y="228"/>
                      <a:pt x="143" y="212"/>
                    </a:cubicBezTo>
                    <a:cubicBezTo>
                      <a:pt x="146" y="196"/>
                      <a:pt x="145" y="189"/>
                      <a:pt x="145" y="178"/>
                    </a:cubicBezTo>
                    <a:cubicBezTo>
                      <a:pt x="145" y="167"/>
                      <a:pt x="143" y="164"/>
                      <a:pt x="145" y="148"/>
                    </a:cubicBezTo>
                    <a:cubicBezTo>
                      <a:pt x="147" y="132"/>
                      <a:pt x="154" y="97"/>
                      <a:pt x="157" y="84"/>
                    </a:cubicBezTo>
                    <a:cubicBezTo>
                      <a:pt x="160" y="71"/>
                      <a:pt x="161" y="77"/>
                      <a:pt x="165" y="72"/>
                    </a:cubicBezTo>
                    <a:cubicBezTo>
                      <a:pt x="169" y="67"/>
                      <a:pt x="172" y="64"/>
                      <a:pt x="181" y="56"/>
                    </a:cubicBezTo>
                    <a:cubicBezTo>
                      <a:pt x="190" y="48"/>
                      <a:pt x="213" y="31"/>
                      <a:pt x="221" y="24"/>
                    </a:cubicBezTo>
                    <a:close/>
                  </a:path>
                </a:pathLst>
              </a:custGeom>
              <a:solidFill>
                <a:srgbClr val="c58bf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Freeform 53"/>
              <p:cNvSpPr/>
              <p:nvPr/>
            </p:nvSpPr>
            <p:spPr>
              <a:xfrm>
                <a:off x="6459840" y="1779840"/>
                <a:ext cx="139680" cy="141120"/>
              </a:xfrm>
              <a:custGeom>
                <a:avLst/>
                <a:gdLst>
                  <a:gd name="textAreaLeft" fmla="*/ 0 w 139680"/>
                  <a:gd name="textAreaRight" fmla="*/ 140040 w 1396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112" h="104">
                    <a:moveTo>
                      <a:pt x="20" y="0"/>
                    </a:moveTo>
                    <a:lnTo>
                      <a:pt x="16" y="0"/>
                    </a:lnTo>
                    <a:lnTo>
                      <a:pt x="0" y="44"/>
                    </a:lnTo>
                    <a:lnTo>
                      <a:pt x="100" y="104"/>
                    </a:lnTo>
                    <a:lnTo>
                      <a:pt x="112" y="64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c58bf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Freeform 54"/>
              <p:cNvSpPr/>
              <p:nvPr/>
            </p:nvSpPr>
            <p:spPr>
              <a:xfrm>
                <a:off x="6701760" y="1454400"/>
                <a:ext cx="105120" cy="129600"/>
              </a:xfrm>
              <a:custGeom>
                <a:avLst/>
                <a:gdLst>
                  <a:gd name="textAreaLeft" fmla="*/ 0 w 105120"/>
                  <a:gd name="textAreaRight" fmla="*/ 105480 w 105120"/>
                  <a:gd name="textAreaTop" fmla="*/ 0 h 129600"/>
                  <a:gd name="textAreaBottom" fmla="*/ 129960 h 129600"/>
                </a:gdLst>
                <a:ahLst/>
                <a:rect l="textAreaLeft" t="textAreaTop" r="textAreaRight" b="textAreaBottom"/>
                <a:pathLst>
                  <a:path w="84" h="96">
                    <a:moveTo>
                      <a:pt x="40" y="0"/>
                    </a:moveTo>
                    <a:cubicBezTo>
                      <a:pt x="34" y="12"/>
                      <a:pt x="43" y="12"/>
                      <a:pt x="28" y="12"/>
                    </a:cubicBezTo>
                    <a:lnTo>
                      <a:pt x="0" y="28"/>
                    </a:lnTo>
                    <a:lnTo>
                      <a:pt x="56" y="96"/>
                    </a:lnTo>
                    <a:lnTo>
                      <a:pt x="84" y="60"/>
                    </a:lnTo>
                    <a:lnTo>
                      <a:pt x="32" y="8"/>
                    </a:lnTo>
                  </a:path>
                </a:pathLst>
              </a:custGeom>
              <a:solidFill>
                <a:srgbClr val="c58bf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Freeform 55"/>
              <p:cNvSpPr/>
              <p:nvPr/>
            </p:nvSpPr>
            <p:spPr>
              <a:xfrm flipH="1">
                <a:off x="6806160" y="1454400"/>
                <a:ext cx="103320" cy="129600"/>
              </a:xfrm>
              <a:custGeom>
                <a:avLst/>
                <a:gdLst>
                  <a:gd name="textAreaLeft" fmla="*/ -360 w 103320"/>
                  <a:gd name="textAreaRight" fmla="*/ 103320 w 103320"/>
                  <a:gd name="textAreaTop" fmla="*/ 0 h 129600"/>
                  <a:gd name="textAreaBottom" fmla="*/ 129960 h 129600"/>
                </a:gdLst>
                <a:ahLst/>
                <a:rect l="textAreaLeft" t="textAreaTop" r="textAreaRight" b="textAreaBottom"/>
                <a:pathLst>
                  <a:path w="84" h="96">
                    <a:moveTo>
                      <a:pt x="40" y="0"/>
                    </a:moveTo>
                    <a:cubicBezTo>
                      <a:pt x="34" y="12"/>
                      <a:pt x="43" y="12"/>
                      <a:pt x="28" y="12"/>
                    </a:cubicBezTo>
                    <a:lnTo>
                      <a:pt x="0" y="28"/>
                    </a:lnTo>
                    <a:lnTo>
                      <a:pt x="56" y="96"/>
                    </a:lnTo>
                    <a:lnTo>
                      <a:pt x="84" y="60"/>
                    </a:lnTo>
                    <a:lnTo>
                      <a:pt x="32" y="8"/>
                    </a:lnTo>
                  </a:path>
                </a:pathLst>
              </a:custGeom>
              <a:solidFill>
                <a:srgbClr val="c58bf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Freeform 56"/>
              <p:cNvSpPr/>
              <p:nvPr/>
            </p:nvSpPr>
            <p:spPr>
              <a:xfrm>
                <a:off x="6815520" y="1779840"/>
                <a:ext cx="8640" cy="54180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541800"/>
                  <a:gd name="textAreaBottom" fmla="*/ 542160 h 541800"/>
                </a:gdLst>
                <a:ahLst/>
                <a:rect l="textAreaLeft" t="textAreaTop" r="textAreaRight" b="textAreaBottom"/>
                <a:pathLst>
                  <a:path w="8" h="400">
                    <a:moveTo>
                      <a:pt x="0" y="0"/>
                    </a:moveTo>
                    <a:lnTo>
                      <a:pt x="8" y="40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Freeform 57"/>
              <p:cNvSpPr/>
              <p:nvPr/>
            </p:nvSpPr>
            <p:spPr>
              <a:xfrm>
                <a:off x="6809760" y="1546560"/>
                <a:ext cx="1080" cy="21600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16000"/>
                  <a:gd name="textAreaBottom" fmla="*/ 216360 h 216000"/>
                </a:gdLst>
                <a:ahLst/>
                <a:rect l="textAreaLeft" t="textAreaTop" r="textAreaRight" b="textAreaBottom"/>
                <a:pathLst>
                  <a:path w="1" h="160">
                    <a:moveTo>
                      <a:pt x="0" y="0"/>
                    </a:moveTo>
                    <a:lnTo>
                      <a:pt x="0" y="16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Freeform 58"/>
              <p:cNvSpPr/>
              <p:nvPr/>
            </p:nvSpPr>
            <p:spPr>
              <a:xfrm>
                <a:off x="6586560" y="2264040"/>
                <a:ext cx="491040" cy="129600"/>
              </a:xfrm>
              <a:custGeom>
                <a:avLst/>
                <a:gdLst>
                  <a:gd name="textAreaLeft" fmla="*/ 0 w 491040"/>
                  <a:gd name="textAreaRight" fmla="*/ 491400 w 491040"/>
                  <a:gd name="textAreaTop" fmla="*/ 0 h 129600"/>
                  <a:gd name="textAreaBottom" fmla="*/ 129960 h 129600"/>
                </a:gdLst>
                <a:ahLst/>
                <a:rect l="textAreaLeft" t="textAreaTop" r="textAreaRight" b="textAreaBottom"/>
                <a:pathLst>
                  <a:path w="352" h="95">
                    <a:moveTo>
                      <a:pt x="10" y="49"/>
                    </a:moveTo>
                    <a:cubicBezTo>
                      <a:pt x="0" y="62"/>
                      <a:pt x="3" y="80"/>
                      <a:pt x="11" y="86"/>
                    </a:cubicBezTo>
                    <a:cubicBezTo>
                      <a:pt x="19" y="92"/>
                      <a:pt x="31" y="86"/>
                      <a:pt x="59" y="86"/>
                    </a:cubicBezTo>
                    <a:cubicBezTo>
                      <a:pt x="87" y="86"/>
                      <a:pt x="136" y="88"/>
                      <a:pt x="181" y="88"/>
                    </a:cubicBezTo>
                    <a:cubicBezTo>
                      <a:pt x="226" y="88"/>
                      <a:pt x="304" y="95"/>
                      <a:pt x="328" y="88"/>
                    </a:cubicBezTo>
                    <a:cubicBezTo>
                      <a:pt x="352" y="81"/>
                      <a:pt x="339" y="58"/>
                      <a:pt x="325" y="43"/>
                    </a:cubicBezTo>
                    <a:cubicBezTo>
                      <a:pt x="311" y="28"/>
                      <a:pt x="268" y="2"/>
                      <a:pt x="244" y="1"/>
                    </a:cubicBezTo>
                    <a:cubicBezTo>
                      <a:pt x="220" y="0"/>
                      <a:pt x="191" y="26"/>
                      <a:pt x="181" y="40"/>
                    </a:cubicBezTo>
                    <a:cubicBezTo>
                      <a:pt x="171" y="54"/>
                      <a:pt x="191" y="86"/>
                      <a:pt x="187" y="85"/>
                    </a:cubicBezTo>
                    <a:cubicBezTo>
                      <a:pt x="183" y="84"/>
                      <a:pt x="173" y="47"/>
                      <a:pt x="154" y="34"/>
                    </a:cubicBezTo>
                    <a:cubicBezTo>
                      <a:pt x="135" y="21"/>
                      <a:pt x="94" y="4"/>
                      <a:pt x="70" y="7"/>
                    </a:cubicBezTo>
                    <a:cubicBezTo>
                      <a:pt x="46" y="10"/>
                      <a:pt x="20" y="36"/>
                      <a:pt x="10" y="49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17" name="Group 59"/>
              <p:cNvGrpSpPr/>
              <p:nvPr/>
            </p:nvGrpSpPr>
            <p:grpSpPr>
              <a:xfrm>
                <a:off x="6400800" y="880920"/>
                <a:ext cx="836280" cy="1136520"/>
                <a:chOff x="6400800" y="880920"/>
                <a:chExt cx="836280" cy="1136520"/>
              </a:xfrm>
            </p:grpSpPr>
            <p:sp>
              <p:nvSpPr>
                <p:cNvPr id="918" name="Freeform 60"/>
                <p:cNvSpPr/>
                <p:nvPr/>
              </p:nvSpPr>
              <p:spPr>
                <a:xfrm>
                  <a:off x="6531840" y="880920"/>
                  <a:ext cx="556920" cy="413280"/>
                </a:xfrm>
                <a:custGeom>
                  <a:avLst/>
                  <a:gdLst>
                    <a:gd name="textAreaLeft" fmla="*/ 0 w 556920"/>
                    <a:gd name="textAreaRight" fmla="*/ 557280 w 556920"/>
                    <a:gd name="textAreaTop" fmla="*/ 0 h 413280"/>
                    <a:gd name="textAreaBottom" fmla="*/ 413640 h 413280"/>
                  </a:gdLst>
                  <a:ahLst/>
                  <a:rect l="textAreaLeft" t="textAreaTop" r="textAreaRight" b="textAreaBottom"/>
                  <a:pathLst>
                    <a:path w="400" h="301">
                      <a:moveTo>
                        <a:pt x="378" y="286"/>
                      </a:moveTo>
                      <a:cubicBezTo>
                        <a:pt x="381" y="275"/>
                        <a:pt x="398" y="234"/>
                        <a:pt x="399" y="220"/>
                      </a:cubicBezTo>
                      <a:cubicBezTo>
                        <a:pt x="400" y="206"/>
                        <a:pt x="386" y="211"/>
                        <a:pt x="384" y="202"/>
                      </a:cubicBezTo>
                      <a:cubicBezTo>
                        <a:pt x="382" y="193"/>
                        <a:pt x="391" y="174"/>
                        <a:pt x="387" y="166"/>
                      </a:cubicBezTo>
                      <a:cubicBezTo>
                        <a:pt x="383" y="158"/>
                        <a:pt x="363" y="158"/>
                        <a:pt x="360" y="151"/>
                      </a:cubicBezTo>
                      <a:cubicBezTo>
                        <a:pt x="357" y="144"/>
                        <a:pt x="367" y="125"/>
                        <a:pt x="366" y="121"/>
                      </a:cubicBezTo>
                      <a:cubicBezTo>
                        <a:pt x="365" y="117"/>
                        <a:pt x="363" y="133"/>
                        <a:pt x="351" y="124"/>
                      </a:cubicBezTo>
                      <a:cubicBezTo>
                        <a:pt x="339" y="115"/>
                        <a:pt x="308" y="77"/>
                        <a:pt x="294" y="67"/>
                      </a:cubicBezTo>
                      <a:cubicBezTo>
                        <a:pt x="280" y="57"/>
                        <a:pt x="275" y="66"/>
                        <a:pt x="267" y="64"/>
                      </a:cubicBezTo>
                      <a:cubicBezTo>
                        <a:pt x="259" y="62"/>
                        <a:pt x="248" y="59"/>
                        <a:pt x="247" y="53"/>
                      </a:cubicBezTo>
                      <a:cubicBezTo>
                        <a:pt x="246" y="47"/>
                        <a:pt x="255" y="32"/>
                        <a:pt x="261" y="28"/>
                      </a:cubicBezTo>
                      <a:cubicBezTo>
                        <a:pt x="267" y="24"/>
                        <a:pt x="282" y="35"/>
                        <a:pt x="282" y="31"/>
                      </a:cubicBezTo>
                      <a:cubicBezTo>
                        <a:pt x="282" y="27"/>
                        <a:pt x="273" y="0"/>
                        <a:pt x="264" y="1"/>
                      </a:cubicBezTo>
                      <a:cubicBezTo>
                        <a:pt x="255" y="2"/>
                        <a:pt x="235" y="31"/>
                        <a:pt x="228" y="40"/>
                      </a:cubicBezTo>
                      <a:cubicBezTo>
                        <a:pt x="221" y="49"/>
                        <a:pt x="225" y="60"/>
                        <a:pt x="219" y="55"/>
                      </a:cubicBezTo>
                      <a:cubicBezTo>
                        <a:pt x="213" y="50"/>
                        <a:pt x="197" y="15"/>
                        <a:pt x="192" y="10"/>
                      </a:cubicBezTo>
                      <a:cubicBezTo>
                        <a:pt x="187" y="5"/>
                        <a:pt x="184" y="15"/>
                        <a:pt x="186" y="22"/>
                      </a:cubicBezTo>
                      <a:cubicBezTo>
                        <a:pt x="188" y="29"/>
                        <a:pt x="208" y="57"/>
                        <a:pt x="204" y="55"/>
                      </a:cubicBezTo>
                      <a:cubicBezTo>
                        <a:pt x="200" y="53"/>
                        <a:pt x="172" y="17"/>
                        <a:pt x="162" y="10"/>
                      </a:cubicBezTo>
                      <a:cubicBezTo>
                        <a:pt x="152" y="3"/>
                        <a:pt x="151" y="15"/>
                        <a:pt x="144" y="16"/>
                      </a:cubicBezTo>
                      <a:cubicBezTo>
                        <a:pt x="137" y="17"/>
                        <a:pt x="125" y="16"/>
                        <a:pt x="120" y="19"/>
                      </a:cubicBezTo>
                      <a:cubicBezTo>
                        <a:pt x="115" y="22"/>
                        <a:pt x="110" y="31"/>
                        <a:pt x="114" y="34"/>
                      </a:cubicBezTo>
                      <a:cubicBezTo>
                        <a:pt x="118" y="37"/>
                        <a:pt x="140" y="33"/>
                        <a:pt x="147" y="37"/>
                      </a:cubicBezTo>
                      <a:cubicBezTo>
                        <a:pt x="154" y="41"/>
                        <a:pt x="163" y="55"/>
                        <a:pt x="159" y="58"/>
                      </a:cubicBezTo>
                      <a:cubicBezTo>
                        <a:pt x="155" y="61"/>
                        <a:pt x="133" y="53"/>
                        <a:pt x="126" y="55"/>
                      </a:cubicBezTo>
                      <a:cubicBezTo>
                        <a:pt x="119" y="57"/>
                        <a:pt x="119" y="69"/>
                        <a:pt x="114" y="73"/>
                      </a:cubicBezTo>
                      <a:cubicBezTo>
                        <a:pt x="109" y="77"/>
                        <a:pt x="100" y="76"/>
                        <a:pt x="93" y="79"/>
                      </a:cubicBezTo>
                      <a:cubicBezTo>
                        <a:pt x="86" y="82"/>
                        <a:pt x="79" y="89"/>
                        <a:pt x="72" y="94"/>
                      </a:cubicBezTo>
                      <a:cubicBezTo>
                        <a:pt x="65" y="99"/>
                        <a:pt x="56" y="101"/>
                        <a:pt x="54" y="106"/>
                      </a:cubicBezTo>
                      <a:cubicBezTo>
                        <a:pt x="52" y="111"/>
                        <a:pt x="61" y="118"/>
                        <a:pt x="60" y="124"/>
                      </a:cubicBezTo>
                      <a:cubicBezTo>
                        <a:pt x="59" y="130"/>
                        <a:pt x="51" y="137"/>
                        <a:pt x="45" y="142"/>
                      </a:cubicBezTo>
                      <a:cubicBezTo>
                        <a:pt x="39" y="147"/>
                        <a:pt x="33" y="142"/>
                        <a:pt x="27" y="154"/>
                      </a:cubicBezTo>
                      <a:cubicBezTo>
                        <a:pt x="21" y="166"/>
                        <a:pt x="16" y="194"/>
                        <a:pt x="12" y="214"/>
                      </a:cubicBezTo>
                      <a:cubicBezTo>
                        <a:pt x="8" y="234"/>
                        <a:pt x="0" y="260"/>
                        <a:pt x="3" y="274"/>
                      </a:cubicBezTo>
                      <a:cubicBezTo>
                        <a:pt x="6" y="288"/>
                        <a:pt x="27" y="295"/>
                        <a:pt x="33" y="301"/>
                      </a:cubicBezTo>
                    </a:path>
                  </a:pathLst>
                </a:custGeom>
                <a:gradFill rotWithShape="0">
                  <a:gsLst>
                    <a:gs pos="0">
                      <a:srgbClr val="660066"/>
                    </a:gs>
                    <a:gs pos="50000">
                      <a:srgbClr val="333333"/>
                    </a:gs>
                    <a:gs pos="100000">
                      <a:srgbClr val="660066"/>
                    </a:gs>
                  </a:gsLst>
                  <a:lin ang="18900000"/>
                </a:gra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9" name="Freeform 61"/>
                <p:cNvSpPr/>
                <p:nvPr/>
              </p:nvSpPr>
              <p:spPr>
                <a:xfrm>
                  <a:off x="7090560" y="1857600"/>
                  <a:ext cx="146520" cy="159840"/>
                </a:xfrm>
                <a:custGeom>
                  <a:avLst/>
                  <a:gdLst>
                    <a:gd name="textAreaLeft" fmla="*/ 0 w 146520"/>
                    <a:gd name="textAreaRight" fmla="*/ 146880 w 146520"/>
                    <a:gd name="textAreaTop" fmla="*/ 0 h 159840"/>
                    <a:gd name="textAreaBottom" fmla="*/ 160200 h 159840"/>
                  </a:gdLst>
                  <a:ahLst/>
                  <a:rect l="textAreaLeft" t="textAreaTop" r="textAreaRight" b="textAreaBottom"/>
                  <a:pathLst>
                    <a:path w="105" h="117">
                      <a:moveTo>
                        <a:pt x="56" y="0"/>
                      </a:moveTo>
                      <a:cubicBezTo>
                        <a:pt x="62" y="5"/>
                        <a:pt x="87" y="20"/>
                        <a:pt x="95" y="33"/>
                      </a:cubicBezTo>
                      <a:cubicBezTo>
                        <a:pt x="103" y="46"/>
                        <a:pt x="105" y="70"/>
                        <a:pt x="101" y="81"/>
                      </a:cubicBezTo>
                      <a:cubicBezTo>
                        <a:pt x="97" y="92"/>
                        <a:pt x="78" y="91"/>
                        <a:pt x="68" y="96"/>
                      </a:cubicBezTo>
                      <a:cubicBezTo>
                        <a:pt x="58" y="101"/>
                        <a:pt x="48" y="117"/>
                        <a:pt x="38" y="114"/>
                      </a:cubicBezTo>
                      <a:cubicBezTo>
                        <a:pt x="28" y="111"/>
                        <a:pt x="10" y="86"/>
                        <a:pt x="5" y="75"/>
                      </a:cubicBezTo>
                      <a:cubicBezTo>
                        <a:pt x="0" y="64"/>
                        <a:pt x="5" y="54"/>
                        <a:pt x="5" y="48"/>
                      </a:cubicBezTo>
                    </a:path>
                  </a:pathLst>
                </a:custGeom>
                <a:blipFill rotWithShape="0">
                  <a:blip r:embed="rId6"/>
                  <a:srcRect/>
                  <a:stretch/>
                </a:blip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0" name="Freeform 62"/>
                <p:cNvSpPr/>
                <p:nvPr/>
              </p:nvSpPr>
              <p:spPr>
                <a:xfrm flipH="1">
                  <a:off x="6400800" y="1855080"/>
                  <a:ext cx="146880" cy="159480"/>
                </a:xfrm>
                <a:custGeom>
                  <a:avLst/>
                  <a:gdLst>
                    <a:gd name="textAreaLeft" fmla="*/ 360 w 146880"/>
                    <a:gd name="textAreaRight" fmla="*/ 147600 w 146880"/>
                    <a:gd name="textAreaTop" fmla="*/ 0 h 159480"/>
                    <a:gd name="textAreaBottom" fmla="*/ 159840 h 159480"/>
                  </a:gdLst>
                  <a:ahLst/>
                  <a:rect l="textAreaLeft" t="textAreaTop" r="textAreaRight" b="textAreaBottom"/>
                  <a:pathLst>
                    <a:path w="105" h="117">
                      <a:moveTo>
                        <a:pt x="56" y="0"/>
                      </a:moveTo>
                      <a:cubicBezTo>
                        <a:pt x="62" y="5"/>
                        <a:pt x="87" y="20"/>
                        <a:pt x="95" y="33"/>
                      </a:cubicBezTo>
                      <a:cubicBezTo>
                        <a:pt x="103" y="46"/>
                        <a:pt x="105" y="70"/>
                        <a:pt x="101" y="81"/>
                      </a:cubicBezTo>
                      <a:cubicBezTo>
                        <a:pt x="97" y="92"/>
                        <a:pt x="78" y="91"/>
                        <a:pt x="68" y="96"/>
                      </a:cubicBezTo>
                      <a:cubicBezTo>
                        <a:pt x="58" y="101"/>
                        <a:pt x="48" y="117"/>
                        <a:pt x="38" y="114"/>
                      </a:cubicBezTo>
                      <a:cubicBezTo>
                        <a:pt x="28" y="111"/>
                        <a:pt x="10" y="86"/>
                        <a:pt x="5" y="75"/>
                      </a:cubicBezTo>
                      <a:cubicBezTo>
                        <a:pt x="0" y="64"/>
                        <a:pt x="5" y="54"/>
                        <a:pt x="5" y="48"/>
                      </a:cubicBezTo>
                    </a:path>
                  </a:pathLst>
                </a:custGeom>
                <a:blipFill rotWithShape="0">
                  <a:blip r:embed="rId7"/>
                  <a:srcRect/>
                  <a:stretch/>
                </a:blip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1" name="Freeform 63"/>
                <p:cNvSpPr/>
                <p:nvPr/>
              </p:nvSpPr>
              <p:spPr>
                <a:xfrm>
                  <a:off x="6579360" y="1027440"/>
                  <a:ext cx="479520" cy="500040"/>
                </a:xfrm>
                <a:custGeom>
                  <a:avLst/>
                  <a:gdLst>
                    <a:gd name="textAreaLeft" fmla="*/ 0 w 479520"/>
                    <a:gd name="textAreaRight" fmla="*/ 479880 w 479520"/>
                    <a:gd name="textAreaTop" fmla="*/ 0 h 500040"/>
                    <a:gd name="textAreaBottom" fmla="*/ 500400 h 500040"/>
                  </a:gdLst>
                  <a:ahLst/>
                  <a:rect l="textAreaLeft" t="textAreaTop" r="textAreaRight" b="textAreaBottom"/>
                  <a:pathLst>
                    <a:path w="344" h="365">
                      <a:moveTo>
                        <a:pt x="0" y="194"/>
                      </a:moveTo>
                      <a:cubicBezTo>
                        <a:pt x="0" y="198"/>
                        <a:pt x="0" y="197"/>
                        <a:pt x="6" y="209"/>
                      </a:cubicBezTo>
                      <a:cubicBezTo>
                        <a:pt x="12" y="221"/>
                        <a:pt x="23" y="250"/>
                        <a:pt x="36" y="266"/>
                      </a:cubicBezTo>
                      <a:cubicBezTo>
                        <a:pt x="49" y="282"/>
                        <a:pt x="70" y="299"/>
                        <a:pt x="87" y="308"/>
                      </a:cubicBezTo>
                      <a:cubicBezTo>
                        <a:pt x="104" y="317"/>
                        <a:pt x="129" y="314"/>
                        <a:pt x="138" y="320"/>
                      </a:cubicBezTo>
                      <a:cubicBezTo>
                        <a:pt x="147" y="326"/>
                        <a:pt x="140" y="337"/>
                        <a:pt x="144" y="344"/>
                      </a:cubicBezTo>
                      <a:cubicBezTo>
                        <a:pt x="148" y="351"/>
                        <a:pt x="157" y="365"/>
                        <a:pt x="165" y="365"/>
                      </a:cubicBezTo>
                      <a:cubicBezTo>
                        <a:pt x="173" y="365"/>
                        <a:pt x="185" y="349"/>
                        <a:pt x="192" y="341"/>
                      </a:cubicBezTo>
                      <a:cubicBezTo>
                        <a:pt x="199" y="333"/>
                        <a:pt x="197" y="322"/>
                        <a:pt x="207" y="317"/>
                      </a:cubicBezTo>
                      <a:cubicBezTo>
                        <a:pt x="217" y="312"/>
                        <a:pt x="239" y="315"/>
                        <a:pt x="255" y="308"/>
                      </a:cubicBezTo>
                      <a:cubicBezTo>
                        <a:pt x="271" y="301"/>
                        <a:pt x="289" y="296"/>
                        <a:pt x="303" y="275"/>
                      </a:cubicBezTo>
                      <a:cubicBezTo>
                        <a:pt x="317" y="254"/>
                        <a:pt x="344" y="208"/>
                        <a:pt x="342" y="179"/>
                      </a:cubicBezTo>
                      <a:cubicBezTo>
                        <a:pt x="340" y="150"/>
                        <a:pt x="302" y="123"/>
                        <a:pt x="288" y="98"/>
                      </a:cubicBezTo>
                      <a:cubicBezTo>
                        <a:pt x="274" y="73"/>
                        <a:pt x="269" y="31"/>
                        <a:pt x="256" y="27"/>
                      </a:cubicBezTo>
                      <a:cubicBezTo>
                        <a:pt x="243" y="23"/>
                        <a:pt x="218" y="70"/>
                        <a:pt x="208" y="75"/>
                      </a:cubicBezTo>
                      <a:cubicBezTo>
                        <a:pt x="198" y="80"/>
                        <a:pt x="202" y="60"/>
                        <a:pt x="198" y="56"/>
                      </a:cubicBezTo>
                      <a:cubicBezTo>
                        <a:pt x="194" y="52"/>
                        <a:pt x="197" y="50"/>
                        <a:pt x="183" y="53"/>
                      </a:cubicBezTo>
                      <a:cubicBezTo>
                        <a:pt x="169" y="56"/>
                        <a:pt x="121" y="77"/>
                        <a:pt x="112" y="75"/>
                      </a:cubicBezTo>
                      <a:cubicBezTo>
                        <a:pt x="103" y="73"/>
                        <a:pt x="126" y="52"/>
                        <a:pt x="126" y="41"/>
                      </a:cubicBezTo>
                      <a:cubicBezTo>
                        <a:pt x="126" y="30"/>
                        <a:pt x="126" y="0"/>
                        <a:pt x="114" y="11"/>
                      </a:cubicBezTo>
                      <a:cubicBezTo>
                        <a:pt x="102" y="22"/>
                        <a:pt x="63" y="89"/>
                        <a:pt x="54" y="110"/>
                      </a:cubicBezTo>
                      <a:cubicBezTo>
                        <a:pt x="45" y="131"/>
                        <a:pt x="60" y="129"/>
                        <a:pt x="60" y="137"/>
                      </a:cubicBezTo>
                      <a:cubicBezTo>
                        <a:pt x="60" y="145"/>
                        <a:pt x="58" y="158"/>
                        <a:pt x="54" y="161"/>
                      </a:cubicBezTo>
                      <a:cubicBezTo>
                        <a:pt x="50" y="164"/>
                        <a:pt x="39" y="162"/>
                        <a:pt x="36" y="155"/>
                      </a:cubicBezTo>
                      <a:cubicBezTo>
                        <a:pt x="33" y="148"/>
                        <a:pt x="37" y="119"/>
                        <a:pt x="33" y="119"/>
                      </a:cubicBezTo>
                      <a:cubicBezTo>
                        <a:pt x="29" y="119"/>
                        <a:pt x="16" y="143"/>
                        <a:pt x="12" y="152"/>
                      </a:cubicBezTo>
                      <a:cubicBezTo>
                        <a:pt x="8" y="161"/>
                        <a:pt x="12" y="168"/>
                        <a:pt x="12" y="173"/>
                      </a:cubicBezTo>
                      <a:cubicBezTo>
                        <a:pt x="12" y="178"/>
                        <a:pt x="11" y="182"/>
                        <a:pt x="9" y="185"/>
                      </a:cubicBezTo>
                      <a:cubicBezTo>
                        <a:pt x="7" y="188"/>
                        <a:pt x="0" y="190"/>
                        <a:pt x="0" y="194"/>
                      </a:cubicBezTo>
                      <a:close/>
                    </a:path>
                  </a:pathLst>
                </a:custGeom>
                <a:blipFill rotWithShape="0">
                  <a:blip r:embed="rId8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2" name="Freeform 64"/>
                <p:cNvSpPr/>
                <p:nvPr/>
              </p:nvSpPr>
              <p:spPr>
                <a:xfrm>
                  <a:off x="6750720" y="1363320"/>
                  <a:ext cx="158040" cy="44640"/>
                </a:xfrm>
                <a:custGeom>
                  <a:avLst/>
                  <a:gdLst>
                    <a:gd name="textAreaLeft" fmla="*/ 0 w 158040"/>
                    <a:gd name="textAreaRight" fmla="*/ 158400 w 158040"/>
                    <a:gd name="textAreaTop" fmla="*/ 0 h 44640"/>
                    <a:gd name="textAreaBottom" fmla="*/ 45000 h 44640"/>
                  </a:gdLst>
                  <a:ahLst/>
                  <a:rect l="textAreaLeft" t="textAreaTop" r="textAreaRight" b="textAreaBottom"/>
                  <a:pathLst>
                    <a:path w="114" h="32">
                      <a:moveTo>
                        <a:pt x="0" y="0"/>
                      </a:moveTo>
                      <a:cubicBezTo>
                        <a:pt x="7" y="4"/>
                        <a:pt x="29" y="22"/>
                        <a:pt x="39" y="27"/>
                      </a:cubicBezTo>
                      <a:cubicBezTo>
                        <a:pt x="49" y="32"/>
                        <a:pt x="53" y="30"/>
                        <a:pt x="60" y="30"/>
                      </a:cubicBezTo>
                      <a:cubicBezTo>
                        <a:pt x="67" y="30"/>
                        <a:pt x="72" y="32"/>
                        <a:pt x="81" y="27"/>
                      </a:cubicBezTo>
                      <a:cubicBezTo>
                        <a:pt x="90" y="22"/>
                        <a:pt x="107" y="8"/>
                        <a:pt x="114" y="3"/>
                      </a:cubicBezTo>
                    </a:path>
                  </a:pathLst>
                </a:custGeom>
                <a:noFill/>
                <a:ln w="12600">
                  <a:solidFill>
                    <a:srgbClr val="d2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3" name="Freeform 65"/>
                <p:cNvSpPr/>
                <p:nvPr/>
              </p:nvSpPr>
              <p:spPr>
                <a:xfrm>
                  <a:off x="6802560" y="1380600"/>
                  <a:ext cx="65880" cy="12960"/>
                </a:xfrm>
                <a:custGeom>
                  <a:avLst/>
                  <a:gdLst>
                    <a:gd name="textAreaLeft" fmla="*/ 0 w 65880"/>
                    <a:gd name="textAreaRight" fmla="*/ 66240 w 65880"/>
                    <a:gd name="textAreaTop" fmla="*/ 0 h 12960"/>
                    <a:gd name="textAreaBottom" fmla="*/ 13320 h 12960"/>
                  </a:gdLst>
                  <a:ahLst/>
                  <a:rect l="textAreaLeft" t="textAreaTop" r="textAreaRight" b="textAreaBottom"/>
                  <a:pathLst>
                    <a:path w="48" h="10">
                      <a:moveTo>
                        <a:pt x="0" y="10"/>
                      </a:moveTo>
                      <a:cubicBezTo>
                        <a:pt x="2" y="8"/>
                        <a:pt x="7" y="0"/>
                        <a:pt x="11" y="0"/>
                      </a:cubicBezTo>
                      <a:cubicBezTo>
                        <a:pt x="15" y="0"/>
                        <a:pt x="19" y="9"/>
                        <a:pt x="23" y="9"/>
                      </a:cubicBezTo>
                      <a:cubicBezTo>
                        <a:pt x="27" y="9"/>
                        <a:pt x="34" y="0"/>
                        <a:pt x="38" y="0"/>
                      </a:cubicBezTo>
                      <a:cubicBezTo>
                        <a:pt x="42" y="0"/>
                        <a:pt x="46" y="8"/>
                        <a:pt x="48" y="10"/>
                      </a:cubicBezTo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4" name="Freeform 66"/>
                <p:cNvSpPr/>
                <p:nvPr/>
              </p:nvSpPr>
              <p:spPr>
                <a:xfrm>
                  <a:off x="6726240" y="1202040"/>
                  <a:ext cx="87840" cy="37440"/>
                </a:xfrm>
                <a:custGeom>
                  <a:avLst/>
                  <a:gdLst>
                    <a:gd name="textAreaLeft" fmla="*/ 0 w 87840"/>
                    <a:gd name="textAreaRight" fmla="*/ 88200 w 87840"/>
                    <a:gd name="textAreaTop" fmla="*/ 0 h 37440"/>
                    <a:gd name="textAreaBottom" fmla="*/ 37800 h 37440"/>
                  </a:gdLst>
                  <a:ahLst/>
                  <a:rect l="textAreaLeft" t="textAreaTop" r="textAreaRight" b="textAreaBottom"/>
                  <a:pathLst>
                    <a:path w="63" h="28">
                      <a:moveTo>
                        <a:pt x="63" y="16"/>
                      </a:moveTo>
                      <a:cubicBezTo>
                        <a:pt x="58" y="14"/>
                        <a:pt x="39" y="6"/>
                        <a:pt x="33" y="4"/>
                      </a:cubicBezTo>
                      <a:cubicBezTo>
                        <a:pt x="27" y="2"/>
                        <a:pt x="29" y="0"/>
                        <a:pt x="24" y="4"/>
                      </a:cubicBezTo>
                      <a:cubicBezTo>
                        <a:pt x="19" y="8"/>
                        <a:pt x="5" y="23"/>
                        <a:pt x="0" y="28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5" name="Freeform 67"/>
                <p:cNvSpPr/>
                <p:nvPr/>
              </p:nvSpPr>
              <p:spPr>
                <a:xfrm>
                  <a:off x="6755040" y="1243800"/>
                  <a:ext cx="37440" cy="37440"/>
                </a:xfrm>
                <a:custGeom>
                  <a:avLst/>
                  <a:gdLst>
                    <a:gd name="textAreaLeft" fmla="*/ 0 w 37440"/>
                    <a:gd name="textAreaRight" fmla="*/ 37800 w 37440"/>
                    <a:gd name="textAreaTop" fmla="*/ 0 h 37440"/>
                    <a:gd name="textAreaBottom" fmla="*/ 37800 h 37440"/>
                  </a:gdLst>
                  <a:ahLst/>
                  <a:rect l="textAreaLeft" t="textAreaTop" r="textAreaRight" b="textAreaBottom"/>
                  <a:pathLst>
                    <a:path w="27" h="27">
                      <a:moveTo>
                        <a:pt x="27" y="12"/>
                      </a:moveTo>
                      <a:cubicBezTo>
                        <a:pt x="27" y="8"/>
                        <a:pt x="16" y="0"/>
                        <a:pt x="12" y="0"/>
                      </a:cubicBezTo>
                      <a:cubicBezTo>
                        <a:pt x="8" y="0"/>
                        <a:pt x="0" y="11"/>
                        <a:pt x="0" y="15"/>
                      </a:cubicBezTo>
                      <a:cubicBezTo>
                        <a:pt x="0" y="19"/>
                        <a:pt x="11" y="27"/>
                        <a:pt x="15" y="27"/>
                      </a:cubicBezTo>
                      <a:cubicBezTo>
                        <a:pt x="19" y="27"/>
                        <a:pt x="27" y="16"/>
                        <a:pt x="27" y="12"/>
                      </a:cubicBezTo>
                      <a:close/>
                    </a:path>
                  </a:pathLst>
                </a:custGeom>
                <a:solidFill>
                  <a:srgbClr val="9966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6" name="Freeform 68"/>
                <p:cNvSpPr/>
                <p:nvPr/>
              </p:nvSpPr>
              <p:spPr>
                <a:xfrm>
                  <a:off x="6724800" y="1213560"/>
                  <a:ext cx="88920" cy="50400"/>
                </a:xfrm>
                <a:custGeom>
                  <a:avLst/>
                  <a:gdLst>
                    <a:gd name="textAreaLeft" fmla="*/ 0 w 88920"/>
                    <a:gd name="textAreaRight" fmla="*/ 89280 w 88920"/>
                    <a:gd name="textAreaTop" fmla="*/ 0 h 50400"/>
                    <a:gd name="textAreaBottom" fmla="*/ 50760 h 50400"/>
                  </a:gdLst>
                  <a:ahLst/>
                  <a:rect l="textAreaLeft" t="textAreaTop" r="textAreaRight" b="textAreaBottom"/>
                  <a:pathLst>
                    <a:path w="64" h="36">
                      <a:moveTo>
                        <a:pt x="4" y="31"/>
                      </a:moveTo>
                      <a:cubicBezTo>
                        <a:pt x="3" y="29"/>
                        <a:pt x="0" y="27"/>
                        <a:pt x="4" y="22"/>
                      </a:cubicBezTo>
                      <a:cubicBezTo>
                        <a:pt x="8" y="17"/>
                        <a:pt x="22" y="2"/>
                        <a:pt x="31" y="1"/>
                      </a:cubicBezTo>
                      <a:cubicBezTo>
                        <a:pt x="40" y="0"/>
                        <a:pt x="58" y="8"/>
                        <a:pt x="61" y="13"/>
                      </a:cubicBezTo>
                      <a:cubicBezTo>
                        <a:pt x="64" y="18"/>
                        <a:pt x="56" y="30"/>
                        <a:pt x="52" y="31"/>
                      </a:cubicBezTo>
                      <a:cubicBezTo>
                        <a:pt x="48" y="32"/>
                        <a:pt x="40" y="19"/>
                        <a:pt x="34" y="19"/>
                      </a:cubicBezTo>
                      <a:cubicBezTo>
                        <a:pt x="28" y="19"/>
                        <a:pt x="18" y="32"/>
                        <a:pt x="13" y="34"/>
                      </a:cubicBezTo>
                      <a:cubicBezTo>
                        <a:pt x="8" y="36"/>
                        <a:pt x="4" y="34"/>
                        <a:pt x="4" y="31"/>
                      </a:cubicBezTo>
                      <a:close/>
                    </a:path>
                  </a:pathLst>
                </a:custGeom>
                <a:solidFill>
                  <a:srgbClr val="c58bf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7" name="Freeform 69"/>
                <p:cNvSpPr/>
                <p:nvPr/>
              </p:nvSpPr>
              <p:spPr>
                <a:xfrm flipH="1">
                  <a:off x="6868440" y="1195920"/>
                  <a:ext cx="87840" cy="38880"/>
                </a:xfrm>
                <a:custGeom>
                  <a:avLst/>
                  <a:gdLst>
                    <a:gd name="textAreaLeft" fmla="*/ 360 w 87840"/>
                    <a:gd name="textAreaRight" fmla="*/ 88560 w 8784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63" h="28">
                      <a:moveTo>
                        <a:pt x="63" y="16"/>
                      </a:moveTo>
                      <a:cubicBezTo>
                        <a:pt x="58" y="14"/>
                        <a:pt x="39" y="6"/>
                        <a:pt x="33" y="4"/>
                      </a:cubicBezTo>
                      <a:cubicBezTo>
                        <a:pt x="27" y="2"/>
                        <a:pt x="29" y="0"/>
                        <a:pt x="24" y="4"/>
                      </a:cubicBezTo>
                      <a:cubicBezTo>
                        <a:pt x="19" y="8"/>
                        <a:pt x="5" y="23"/>
                        <a:pt x="0" y="28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8" name="Freeform 70"/>
                <p:cNvSpPr/>
                <p:nvPr/>
              </p:nvSpPr>
              <p:spPr>
                <a:xfrm flipH="1">
                  <a:off x="6889680" y="1238040"/>
                  <a:ext cx="37080" cy="37440"/>
                </a:xfrm>
                <a:custGeom>
                  <a:avLst/>
                  <a:gdLst>
                    <a:gd name="textAreaLeft" fmla="*/ -360 w 37080"/>
                    <a:gd name="textAreaRight" fmla="*/ 37080 w 37080"/>
                    <a:gd name="textAreaTop" fmla="*/ 0 h 37440"/>
                    <a:gd name="textAreaBottom" fmla="*/ 37800 h 37440"/>
                  </a:gdLst>
                  <a:ahLst/>
                  <a:rect l="textAreaLeft" t="textAreaTop" r="textAreaRight" b="textAreaBottom"/>
                  <a:pathLst>
                    <a:path w="27" h="27">
                      <a:moveTo>
                        <a:pt x="27" y="12"/>
                      </a:moveTo>
                      <a:cubicBezTo>
                        <a:pt x="27" y="8"/>
                        <a:pt x="16" y="0"/>
                        <a:pt x="12" y="0"/>
                      </a:cubicBezTo>
                      <a:cubicBezTo>
                        <a:pt x="8" y="0"/>
                        <a:pt x="0" y="11"/>
                        <a:pt x="0" y="15"/>
                      </a:cubicBezTo>
                      <a:cubicBezTo>
                        <a:pt x="0" y="19"/>
                        <a:pt x="11" y="27"/>
                        <a:pt x="15" y="27"/>
                      </a:cubicBezTo>
                      <a:cubicBezTo>
                        <a:pt x="19" y="27"/>
                        <a:pt x="27" y="16"/>
                        <a:pt x="27" y="12"/>
                      </a:cubicBezTo>
                      <a:close/>
                    </a:path>
                  </a:pathLst>
                </a:custGeom>
                <a:solidFill>
                  <a:srgbClr val="9966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9" name="Freeform 71"/>
                <p:cNvSpPr/>
                <p:nvPr/>
              </p:nvSpPr>
              <p:spPr>
                <a:xfrm flipH="1">
                  <a:off x="6868440" y="1209240"/>
                  <a:ext cx="89280" cy="48960"/>
                </a:xfrm>
                <a:custGeom>
                  <a:avLst/>
                  <a:gdLst>
                    <a:gd name="textAreaLeft" fmla="*/ 360 w 89280"/>
                    <a:gd name="textAreaRight" fmla="*/ 90000 w 89280"/>
                    <a:gd name="textAreaTop" fmla="*/ 0 h 48960"/>
                    <a:gd name="textAreaBottom" fmla="*/ 49320 h 48960"/>
                  </a:gdLst>
                  <a:ahLst/>
                  <a:rect l="textAreaLeft" t="textAreaTop" r="textAreaRight" b="textAreaBottom"/>
                  <a:pathLst>
                    <a:path w="64" h="36">
                      <a:moveTo>
                        <a:pt x="4" y="31"/>
                      </a:moveTo>
                      <a:cubicBezTo>
                        <a:pt x="3" y="29"/>
                        <a:pt x="0" y="27"/>
                        <a:pt x="4" y="22"/>
                      </a:cubicBezTo>
                      <a:cubicBezTo>
                        <a:pt x="8" y="17"/>
                        <a:pt x="22" y="2"/>
                        <a:pt x="31" y="1"/>
                      </a:cubicBezTo>
                      <a:cubicBezTo>
                        <a:pt x="40" y="0"/>
                        <a:pt x="58" y="8"/>
                        <a:pt x="61" y="13"/>
                      </a:cubicBezTo>
                      <a:cubicBezTo>
                        <a:pt x="64" y="18"/>
                        <a:pt x="56" y="30"/>
                        <a:pt x="52" y="31"/>
                      </a:cubicBezTo>
                      <a:cubicBezTo>
                        <a:pt x="48" y="32"/>
                        <a:pt x="40" y="19"/>
                        <a:pt x="34" y="19"/>
                      </a:cubicBezTo>
                      <a:cubicBezTo>
                        <a:pt x="28" y="19"/>
                        <a:pt x="18" y="32"/>
                        <a:pt x="13" y="34"/>
                      </a:cubicBezTo>
                      <a:cubicBezTo>
                        <a:pt x="8" y="36"/>
                        <a:pt x="4" y="34"/>
                        <a:pt x="4" y="31"/>
                      </a:cubicBezTo>
                      <a:close/>
                    </a:path>
                  </a:pathLst>
                </a:custGeom>
                <a:solidFill>
                  <a:srgbClr val="c58bf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0" name="Freeform 72"/>
                <p:cNvSpPr/>
                <p:nvPr/>
              </p:nvSpPr>
              <p:spPr>
                <a:xfrm>
                  <a:off x="6841440" y="1158840"/>
                  <a:ext cx="142200" cy="146880"/>
                </a:xfrm>
                <a:custGeom>
                  <a:avLst/>
                  <a:gdLst>
                    <a:gd name="textAreaLeft" fmla="*/ 0 w 142200"/>
                    <a:gd name="textAreaRight" fmla="*/ 142560 w 142200"/>
                    <a:gd name="textAreaTop" fmla="*/ 0 h 146880"/>
                    <a:gd name="textAreaBottom" fmla="*/ 147240 h 146880"/>
                  </a:gdLst>
                  <a:ahLst/>
                  <a:rect l="textAreaLeft" t="textAreaTop" r="textAreaRight" b="textAreaBottom"/>
                  <a:pathLst>
                    <a:path w="102" h="107">
                      <a:moveTo>
                        <a:pt x="4" y="35"/>
                      </a:moveTo>
                      <a:cubicBezTo>
                        <a:pt x="9" y="25"/>
                        <a:pt x="27" y="10"/>
                        <a:pt x="37" y="5"/>
                      </a:cubicBezTo>
                      <a:cubicBezTo>
                        <a:pt x="47" y="0"/>
                        <a:pt x="57" y="0"/>
                        <a:pt x="67" y="5"/>
                      </a:cubicBezTo>
                      <a:cubicBezTo>
                        <a:pt x="77" y="10"/>
                        <a:pt x="92" y="25"/>
                        <a:pt x="97" y="35"/>
                      </a:cubicBezTo>
                      <a:cubicBezTo>
                        <a:pt x="102" y="45"/>
                        <a:pt x="101" y="57"/>
                        <a:pt x="97" y="68"/>
                      </a:cubicBezTo>
                      <a:cubicBezTo>
                        <a:pt x="93" y="79"/>
                        <a:pt x="79" y="95"/>
                        <a:pt x="70" y="101"/>
                      </a:cubicBezTo>
                      <a:cubicBezTo>
                        <a:pt x="61" y="107"/>
                        <a:pt x="49" y="105"/>
                        <a:pt x="40" y="104"/>
                      </a:cubicBezTo>
                      <a:cubicBezTo>
                        <a:pt x="31" y="103"/>
                        <a:pt x="19" y="98"/>
                        <a:pt x="13" y="92"/>
                      </a:cubicBezTo>
                      <a:cubicBezTo>
                        <a:pt x="7" y="86"/>
                        <a:pt x="2" y="74"/>
                        <a:pt x="1" y="65"/>
                      </a:cubicBezTo>
                      <a:cubicBezTo>
                        <a:pt x="0" y="56"/>
                        <a:pt x="4" y="41"/>
                        <a:pt x="4" y="35"/>
                      </a:cubicBez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1" name="Freeform 73"/>
                <p:cNvSpPr/>
                <p:nvPr/>
              </p:nvSpPr>
              <p:spPr>
                <a:xfrm>
                  <a:off x="6693120" y="1167480"/>
                  <a:ext cx="145080" cy="142560"/>
                </a:xfrm>
                <a:custGeom>
                  <a:avLst/>
                  <a:gdLst>
                    <a:gd name="textAreaLeft" fmla="*/ 0 w 145080"/>
                    <a:gd name="textAreaRight" fmla="*/ 145440 w 145080"/>
                    <a:gd name="textAreaTop" fmla="*/ 0 h 142560"/>
                    <a:gd name="textAreaBottom" fmla="*/ 142920 h 142560"/>
                  </a:gdLst>
                  <a:ahLst/>
                  <a:rect l="textAreaLeft" t="textAreaTop" r="textAreaRight" b="textAreaBottom"/>
                  <a:pathLst>
                    <a:path w="104" h="104">
                      <a:moveTo>
                        <a:pt x="2" y="32"/>
                      </a:moveTo>
                      <a:cubicBezTo>
                        <a:pt x="6" y="23"/>
                        <a:pt x="17" y="12"/>
                        <a:pt x="29" y="8"/>
                      </a:cubicBezTo>
                      <a:cubicBezTo>
                        <a:pt x="41" y="4"/>
                        <a:pt x="62" y="0"/>
                        <a:pt x="74" y="5"/>
                      </a:cubicBezTo>
                      <a:cubicBezTo>
                        <a:pt x="86" y="10"/>
                        <a:pt x="98" y="27"/>
                        <a:pt x="101" y="38"/>
                      </a:cubicBezTo>
                      <a:cubicBezTo>
                        <a:pt x="104" y="49"/>
                        <a:pt x="99" y="64"/>
                        <a:pt x="95" y="74"/>
                      </a:cubicBezTo>
                      <a:cubicBezTo>
                        <a:pt x="91" y="84"/>
                        <a:pt x="79" y="94"/>
                        <a:pt x="74" y="98"/>
                      </a:cubicBezTo>
                      <a:cubicBezTo>
                        <a:pt x="69" y="102"/>
                        <a:pt x="69" y="97"/>
                        <a:pt x="62" y="98"/>
                      </a:cubicBezTo>
                      <a:cubicBezTo>
                        <a:pt x="55" y="99"/>
                        <a:pt x="41" y="104"/>
                        <a:pt x="32" y="101"/>
                      </a:cubicBezTo>
                      <a:cubicBezTo>
                        <a:pt x="23" y="98"/>
                        <a:pt x="12" y="87"/>
                        <a:pt x="8" y="80"/>
                      </a:cubicBezTo>
                      <a:cubicBezTo>
                        <a:pt x="4" y="73"/>
                        <a:pt x="6" y="70"/>
                        <a:pt x="5" y="62"/>
                      </a:cubicBezTo>
                      <a:cubicBezTo>
                        <a:pt x="4" y="54"/>
                        <a:pt x="0" y="40"/>
                        <a:pt x="2" y="32"/>
                      </a:cubicBez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2" name="Freeform 74"/>
                <p:cNvSpPr/>
                <p:nvPr/>
              </p:nvSpPr>
              <p:spPr>
                <a:xfrm>
                  <a:off x="6906240" y="1281240"/>
                  <a:ext cx="96480" cy="112320"/>
                </a:xfrm>
                <a:custGeom>
                  <a:avLst/>
                  <a:gdLst>
                    <a:gd name="textAreaLeft" fmla="*/ 0 w 96480"/>
                    <a:gd name="textAreaRight" fmla="*/ 96840 w 96480"/>
                    <a:gd name="textAreaTop" fmla="*/ 0 h 112320"/>
                    <a:gd name="textAreaBottom" fmla="*/ 112680 h 112320"/>
                  </a:gdLst>
                  <a:ahLst/>
                  <a:rect l="textAreaLeft" t="textAreaTop" r="textAreaRight" b="textAreaBottom"/>
                  <a:pathLst>
                    <a:path w="70" h="82">
                      <a:moveTo>
                        <a:pt x="60" y="6"/>
                      </a:moveTo>
                      <a:cubicBezTo>
                        <a:pt x="70" y="8"/>
                        <a:pt x="66" y="27"/>
                        <a:pt x="63" y="39"/>
                      </a:cubicBezTo>
                      <a:cubicBezTo>
                        <a:pt x="60" y="51"/>
                        <a:pt x="53" y="82"/>
                        <a:pt x="43" y="81"/>
                      </a:cubicBezTo>
                      <a:cubicBezTo>
                        <a:pt x="33" y="80"/>
                        <a:pt x="0" y="42"/>
                        <a:pt x="3" y="30"/>
                      </a:cubicBezTo>
                      <a:cubicBezTo>
                        <a:pt x="6" y="18"/>
                        <a:pt x="50" y="0"/>
                        <a:pt x="60" y="6"/>
                      </a:cubicBezTo>
                      <a:close/>
                    </a:path>
                  </a:pathLst>
                </a:custGeom>
                <a:solidFill>
                  <a:srgbClr val="fda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3" name="Freeform 75"/>
                <p:cNvSpPr/>
                <p:nvPr/>
              </p:nvSpPr>
              <p:spPr>
                <a:xfrm>
                  <a:off x="6668640" y="1323000"/>
                  <a:ext cx="101880" cy="70560"/>
                </a:xfrm>
                <a:custGeom>
                  <a:avLst/>
                  <a:gdLst>
                    <a:gd name="textAreaLeft" fmla="*/ 0 w 101880"/>
                    <a:gd name="textAreaRight" fmla="*/ 102240 w 101880"/>
                    <a:gd name="textAreaTop" fmla="*/ 0 h 70560"/>
                    <a:gd name="textAreaBottom" fmla="*/ 70920 h 70560"/>
                  </a:gdLst>
                  <a:ahLst/>
                  <a:rect l="textAreaLeft" t="textAreaTop" r="textAreaRight" b="textAreaBottom"/>
                  <a:pathLst>
                    <a:path w="73" h="52">
                      <a:moveTo>
                        <a:pt x="10" y="0"/>
                      </a:moveTo>
                      <a:cubicBezTo>
                        <a:pt x="0" y="1"/>
                        <a:pt x="4" y="25"/>
                        <a:pt x="7" y="33"/>
                      </a:cubicBezTo>
                      <a:cubicBezTo>
                        <a:pt x="10" y="41"/>
                        <a:pt x="18" y="52"/>
                        <a:pt x="28" y="51"/>
                      </a:cubicBezTo>
                      <a:cubicBezTo>
                        <a:pt x="38" y="50"/>
                        <a:pt x="73" y="35"/>
                        <a:pt x="70" y="27"/>
                      </a:cubicBezTo>
                      <a:cubicBezTo>
                        <a:pt x="67" y="19"/>
                        <a:pt x="23" y="0"/>
                        <a:pt x="10" y="0"/>
                      </a:cubicBezTo>
                      <a:close/>
                    </a:path>
                  </a:pathLst>
                </a:custGeom>
                <a:solidFill>
                  <a:srgbClr val="fda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34" name="Freeform 76"/>
            <p:cNvSpPr/>
            <p:nvPr/>
          </p:nvSpPr>
          <p:spPr>
            <a:xfrm>
              <a:off x="6806520" y="1308600"/>
              <a:ext cx="60120" cy="2448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42" h="17">
                  <a:moveTo>
                    <a:pt x="0" y="9"/>
                  </a:moveTo>
                  <a:cubicBezTo>
                    <a:pt x="1" y="9"/>
                    <a:pt x="3" y="16"/>
                    <a:pt x="6" y="15"/>
                  </a:cubicBezTo>
                  <a:cubicBezTo>
                    <a:pt x="9" y="14"/>
                    <a:pt x="16" y="0"/>
                    <a:pt x="21" y="0"/>
                  </a:cubicBezTo>
                  <a:cubicBezTo>
                    <a:pt x="26" y="0"/>
                    <a:pt x="33" y="13"/>
                    <a:pt x="36" y="15"/>
                  </a:cubicBezTo>
                  <a:cubicBezTo>
                    <a:pt x="39" y="17"/>
                    <a:pt x="41" y="13"/>
                    <a:pt x="42" y="1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5" name="Group 77"/>
          <p:cNvGrpSpPr/>
          <p:nvPr/>
        </p:nvGrpSpPr>
        <p:grpSpPr>
          <a:xfrm>
            <a:off x="4767120" y="946080"/>
            <a:ext cx="836280" cy="1512720"/>
            <a:chOff x="4767120" y="946080"/>
            <a:chExt cx="836280" cy="1512720"/>
          </a:xfrm>
        </p:grpSpPr>
        <p:grpSp>
          <p:nvGrpSpPr>
            <p:cNvPr id="936" name="Group 78"/>
            <p:cNvGrpSpPr/>
            <p:nvPr/>
          </p:nvGrpSpPr>
          <p:grpSpPr>
            <a:xfrm>
              <a:off x="4767120" y="946080"/>
              <a:ext cx="836280" cy="1512720"/>
              <a:chOff x="4767120" y="946080"/>
              <a:chExt cx="836280" cy="1512720"/>
            </a:xfrm>
          </p:grpSpPr>
          <p:sp>
            <p:nvSpPr>
              <p:cNvPr id="937" name="Freeform 79"/>
              <p:cNvSpPr/>
              <p:nvPr/>
            </p:nvSpPr>
            <p:spPr>
              <a:xfrm>
                <a:off x="5186160" y="2046960"/>
                <a:ext cx="360" cy="347040"/>
              </a:xfrm>
              <a:custGeom>
                <a:avLst/>
                <a:gdLst/>
                <a:ahLst/>
                <a:rect l="l" t="t" r="r" b="b"/>
                <a:pathLst>
                  <a:path w="1" h="256">
                    <a:moveTo>
                      <a:pt x="0" y="0"/>
                    </a:moveTo>
                    <a:lnTo>
                      <a:pt x="0" y="25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Freeform 80"/>
              <p:cNvSpPr/>
              <p:nvPr/>
            </p:nvSpPr>
            <p:spPr>
              <a:xfrm>
                <a:off x="4893480" y="1834920"/>
                <a:ext cx="584640" cy="574920"/>
              </a:xfrm>
              <a:custGeom>
                <a:avLst/>
                <a:gdLst>
                  <a:gd name="textAreaLeft" fmla="*/ 0 w 584640"/>
                  <a:gd name="textAreaRight" fmla="*/ 585000 w 584640"/>
                  <a:gd name="textAreaTop" fmla="*/ 0 h 574920"/>
                  <a:gd name="textAreaBottom" fmla="*/ 575280 h 574920"/>
                </a:gdLst>
                <a:ahLst/>
                <a:rect l="textAreaLeft" t="textAreaTop" r="textAreaRight" b="textAreaBottom"/>
                <a:pathLst>
                  <a:path w="468" h="423">
                    <a:moveTo>
                      <a:pt x="79" y="8"/>
                    </a:moveTo>
                    <a:cubicBezTo>
                      <a:pt x="118" y="0"/>
                      <a:pt x="265" y="8"/>
                      <a:pt x="313" y="8"/>
                    </a:cubicBezTo>
                    <a:cubicBezTo>
                      <a:pt x="361" y="8"/>
                      <a:pt x="355" y="5"/>
                      <a:pt x="367" y="8"/>
                    </a:cubicBezTo>
                    <a:cubicBezTo>
                      <a:pt x="379" y="11"/>
                      <a:pt x="377" y="15"/>
                      <a:pt x="385" y="28"/>
                    </a:cubicBezTo>
                    <a:cubicBezTo>
                      <a:pt x="393" y="41"/>
                      <a:pt x="409" y="67"/>
                      <a:pt x="417" y="84"/>
                    </a:cubicBezTo>
                    <a:cubicBezTo>
                      <a:pt x="425" y="101"/>
                      <a:pt x="425" y="113"/>
                      <a:pt x="433" y="132"/>
                    </a:cubicBezTo>
                    <a:cubicBezTo>
                      <a:pt x="441" y="151"/>
                      <a:pt x="458" y="173"/>
                      <a:pt x="463" y="200"/>
                    </a:cubicBezTo>
                    <a:cubicBezTo>
                      <a:pt x="468" y="227"/>
                      <a:pt x="467" y="271"/>
                      <a:pt x="463" y="296"/>
                    </a:cubicBezTo>
                    <a:cubicBezTo>
                      <a:pt x="459" y="321"/>
                      <a:pt x="443" y="330"/>
                      <a:pt x="437" y="348"/>
                    </a:cubicBezTo>
                    <a:cubicBezTo>
                      <a:pt x="431" y="366"/>
                      <a:pt x="431" y="392"/>
                      <a:pt x="429" y="404"/>
                    </a:cubicBezTo>
                    <a:cubicBezTo>
                      <a:pt x="427" y="416"/>
                      <a:pt x="431" y="423"/>
                      <a:pt x="425" y="420"/>
                    </a:cubicBezTo>
                    <a:cubicBezTo>
                      <a:pt x="419" y="417"/>
                      <a:pt x="402" y="396"/>
                      <a:pt x="393" y="388"/>
                    </a:cubicBezTo>
                    <a:cubicBezTo>
                      <a:pt x="384" y="380"/>
                      <a:pt x="382" y="377"/>
                      <a:pt x="369" y="372"/>
                    </a:cubicBezTo>
                    <a:cubicBezTo>
                      <a:pt x="356" y="367"/>
                      <a:pt x="333" y="359"/>
                      <a:pt x="317" y="360"/>
                    </a:cubicBezTo>
                    <a:cubicBezTo>
                      <a:pt x="301" y="361"/>
                      <a:pt x="286" y="372"/>
                      <a:pt x="273" y="380"/>
                    </a:cubicBezTo>
                    <a:cubicBezTo>
                      <a:pt x="260" y="388"/>
                      <a:pt x="245" y="406"/>
                      <a:pt x="237" y="408"/>
                    </a:cubicBezTo>
                    <a:cubicBezTo>
                      <a:pt x="229" y="410"/>
                      <a:pt x="235" y="399"/>
                      <a:pt x="223" y="392"/>
                    </a:cubicBezTo>
                    <a:cubicBezTo>
                      <a:pt x="211" y="385"/>
                      <a:pt x="185" y="372"/>
                      <a:pt x="165" y="368"/>
                    </a:cubicBezTo>
                    <a:cubicBezTo>
                      <a:pt x="145" y="364"/>
                      <a:pt x="120" y="363"/>
                      <a:pt x="105" y="368"/>
                    </a:cubicBezTo>
                    <a:cubicBezTo>
                      <a:pt x="90" y="373"/>
                      <a:pt x="82" y="393"/>
                      <a:pt x="73" y="400"/>
                    </a:cubicBezTo>
                    <a:cubicBezTo>
                      <a:pt x="64" y="407"/>
                      <a:pt x="56" y="413"/>
                      <a:pt x="49" y="412"/>
                    </a:cubicBezTo>
                    <a:cubicBezTo>
                      <a:pt x="42" y="411"/>
                      <a:pt x="37" y="404"/>
                      <a:pt x="31" y="392"/>
                    </a:cubicBezTo>
                    <a:cubicBezTo>
                      <a:pt x="25" y="380"/>
                      <a:pt x="18" y="360"/>
                      <a:pt x="13" y="340"/>
                    </a:cubicBezTo>
                    <a:cubicBezTo>
                      <a:pt x="8" y="320"/>
                      <a:pt x="2" y="293"/>
                      <a:pt x="1" y="272"/>
                    </a:cubicBezTo>
                    <a:cubicBezTo>
                      <a:pt x="0" y="251"/>
                      <a:pt x="0" y="232"/>
                      <a:pt x="5" y="212"/>
                    </a:cubicBezTo>
                    <a:cubicBezTo>
                      <a:pt x="10" y="192"/>
                      <a:pt x="22" y="171"/>
                      <a:pt x="31" y="152"/>
                    </a:cubicBezTo>
                    <a:cubicBezTo>
                      <a:pt x="40" y="133"/>
                      <a:pt x="49" y="124"/>
                      <a:pt x="57" y="100"/>
                    </a:cubicBezTo>
                    <a:cubicBezTo>
                      <a:pt x="65" y="76"/>
                      <a:pt x="75" y="27"/>
                      <a:pt x="79" y="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50000">
                    <a:srgbClr val="000099"/>
                  </a:gs>
                  <a:gs pos="100000">
                    <a:srgbClr val="0066cc"/>
                  </a:gs>
                </a:gsLst>
                <a:lin ang="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Freeform 81"/>
              <p:cNvSpPr/>
              <p:nvPr/>
            </p:nvSpPr>
            <p:spPr>
              <a:xfrm>
                <a:off x="5173200" y="1845000"/>
                <a:ext cx="59040" cy="195840"/>
              </a:xfrm>
              <a:custGeom>
                <a:avLst/>
                <a:gdLst>
                  <a:gd name="textAreaLeft" fmla="*/ 0 w 59040"/>
                  <a:gd name="textAreaRight" fmla="*/ 59400 w 59040"/>
                  <a:gd name="textAreaTop" fmla="*/ 0 h 195840"/>
                  <a:gd name="textAreaBottom" fmla="*/ 196200 h 195840"/>
                </a:gdLst>
                <a:ahLst/>
                <a:rect l="textAreaLeft" t="textAreaTop" r="textAreaRight" b="textAreaBottom"/>
                <a:pathLst>
                  <a:path w="48" h="144">
                    <a:moveTo>
                      <a:pt x="0" y="0"/>
                    </a:moveTo>
                    <a:lnTo>
                      <a:pt x="48" y="0"/>
                    </a:lnTo>
                    <a:lnTo>
                      <a:pt x="48" y="144"/>
                    </a:lnTo>
                    <a:lnTo>
                      <a:pt x="0" y="14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Freeform 82"/>
              <p:cNvSpPr/>
              <p:nvPr/>
            </p:nvSpPr>
            <p:spPr>
              <a:xfrm>
                <a:off x="5285520" y="1839240"/>
                <a:ext cx="159480" cy="195480"/>
              </a:xfrm>
              <a:custGeom>
                <a:avLst/>
                <a:gdLst>
                  <a:gd name="textAreaLeft" fmla="*/ 0 w 159480"/>
                  <a:gd name="textAreaRight" fmla="*/ 159840 w 159480"/>
                  <a:gd name="textAreaTop" fmla="*/ 0 h 195480"/>
                  <a:gd name="textAreaBottom" fmla="*/ 195840 h 195480"/>
                </a:gdLst>
                <a:ahLst/>
                <a:rect l="textAreaLeft" t="textAreaTop" r="textAreaRight" b="textAreaBottom"/>
                <a:pathLst>
                  <a:path w="128" h="144">
                    <a:moveTo>
                      <a:pt x="127" y="133"/>
                    </a:moveTo>
                    <a:lnTo>
                      <a:pt x="128" y="144"/>
                    </a:lnTo>
                    <a:lnTo>
                      <a:pt x="0" y="4"/>
                    </a:lnTo>
                    <a:lnTo>
                      <a:pt x="60" y="0"/>
                    </a:lnTo>
                    <a:lnTo>
                      <a:pt x="127" y="133"/>
                    </a:lnTo>
                    <a:close/>
                  </a:path>
                </a:pathLst>
              </a:custGeom>
              <a:solidFill>
                <a:srgbClr val="0000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Freeform 83"/>
              <p:cNvSpPr/>
              <p:nvPr/>
            </p:nvSpPr>
            <p:spPr>
              <a:xfrm>
                <a:off x="4939920" y="1834920"/>
                <a:ext cx="129240" cy="205920"/>
              </a:xfrm>
              <a:custGeom>
                <a:avLst/>
                <a:gdLst>
                  <a:gd name="textAreaLeft" fmla="*/ 0 w 129240"/>
                  <a:gd name="textAreaRight" fmla="*/ 129600 w 129240"/>
                  <a:gd name="textAreaTop" fmla="*/ 0 h 205920"/>
                  <a:gd name="textAreaBottom" fmla="*/ 206280 h 205920"/>
                </a:gdLst>
                <a:ahLst/>
                <a:rect l="textAreaLeft" t="textAreaTop" r="textAreaRight" b="textAreaBottom"/>
                <a:pathLst>
                  <a:path w="104" h="152">
                    <a:moveTo>
                      <a:pt x="0" y="152"/>
                    </a:moveTo>
                    <a:lnTo>
                      <a:pt x="8" y="136"/>
                    </a:lnTo>
                    <a:lnTo>
                      <a:pt x="44" y="0"/>
                    </a:lnTo>
                    <a:lnTo>
                      <a:pt x="104" y="8"/>
                    </a:lnTo>
                    <a:lnTo>
                      <a:pt x="0" y="152"/>
                    </a:lnTo>
                    <a:close/>
                  </a:path>
                </a:pathLst>
              </a:custGeom>
              <a:solidFill>
                <a:srgbClr val="0000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Freeform 84"/>
              <p:cNvSpPr/>
              <p:nvPr/>
            </p:nvSpPr>
            <p:spPr>
              <a:xfrm>
                <a:off x="4984560" y="1556640"/>
                <a:ext cx="391680" cy="292680"/>
              </a:xfrm>
              <a:custGeom>
                <a:avLst/>
                <a:gdLst>
                  <a:gd name="textAreaLeft" fmla="*/ 0 w 391680"/>
                  <a:gd name="textAreaRight" fmla="*/ 392040 w 391680"/>
                  <a:gd name="textAreaTop" fmla="*/ 0 h 292680"/>
                  <a:gd name="textAreaBottom" fmla="*/ 293040 h 292680"/>
                </a:gdLst>
                <a:ahLst/>
                <a:rect l="textAreaLeft" t="textAreaTop" r="textAreaRight" b="textAreaBottom"/>
                <a:pathLst>
                  <a:path w="313" h="215">
                    <a:moveTo>
                      <a:pt x="6" y="212"/>
                    </a:moveTo>
                    <a:cubicBezTo>
                      <a:pt x="13" y="215"/>
                      <a:pt x="1" y="209"/>
                      <a:pt x="44" y="208"/>
                    </a:cubicBezTo>
                    <a:cubicBezTo>
                      <a:pt x="87" y="207"/>
                      <a:pt x="221" y="205"/>
                      <a:pt x="264" y="204"/>
                    </a:cubicBezTo>
                    <a:cubicBezTo>
                      <a:pt x="307" y="203"/>
                      <a:pt x="296" y="213"/>
                      <a:pt x="304" y="204"/>
                    </a:cubicBezTo>
                    <a:cubicBezTo>
                      <a:pt x="312" y="195"/>
                      <a:pt x="311" y="171"/>
                      <a:pt x="312" y="152"/>
                    </a:cubicBezTo>
                    <a:cubicBezTo>
                      <a:pt x="313" y="133"/>
                      <a:pt x="313" y="111"/>
                      <a:pt x="308" y="92"/>
                    </a:cubicBezTo>
                    <a:cubicBezTo>
                      <a:pt x="303" y="73"/>
                      <a:pt x="294" y="52"/>
                      <a:pt x="284" y="40"/>
                    </a:cubicBezTo>
                    <a:cubicBezTo>
                      <a:pt x="274" y="28"/>
                      <a:pt x="261" y="26"/>
                      <a:pt x="248" y="20"/>
                    </a:cubicBezTo>
                    <a:cubicBezTo>
                      <a:pt x="235" y="14"/>
                      <a:pt x="219" y="0"/>
                      <a:pt x="204" y="4"/>
                    </a:cubicBezTo>
                    <a:cubicBezTo>
                      <a:pt x="189" y="8"/>
                      <a:pt x="169" y="37"/>
                      <a:pt x="160" y="44"/>
                    </a:cubicBezTo>
                    <a:cubicBezTo>
                      <a:pt x="151" y="51"/>
                      <a:pt x="161" y="50"/>
                      <a:pt x="152" y="44"/>
                    </a:cubicBezTo>
                    <a:cubicBezTo>
                      <a:pt x="143" y="38"/>
                      <a:pt x="120" y="13"/>
                      <a:pt x="108" y="8"/>
                    </a:cubicBezTo>
                    <a:cubicBezTo>
                      <a:pt x="96" y="3"/>
                      <a:pt x="91" y="9"/>
                      <a:pt x="80" y="16"/>
                    </a:cubicBezTo>
                    <a:cubicBezTo>
                      <a:pt x="69" y="23"/>
                      <a:pt x="55" y="37"/>
                      <a:pt x="44" y="48"/>
                    </a:cubicBezTo>
                    <a:cubicBezTo>
                      <a:pt x="33" y="59"/>
                      <a:pt x="22" y="73"/>
                      <a:pt x="16" y="84"/>
                    </a:cubicBezTo>
                    <a:cubicBezTo>
                      <a:pt x="10" y="95"/>
                      <a:pt x="8" y="103"/>
                      <a:pt x="6" y="116"/>
                    </a:cubicBezTo>
                    <a:cubicBezTo>
                      <a:pt x="4" y="129"/>
                      <a:pt x="7" y="151"/>
                      <a:pt x="6" y="164"/>
                    </a:cubicBezTo>
                    <a:cubicBezTo>
                      <a:pt x="5" y="177"/>
                      <a:pt x="0" y="184"/>
                      <a:pt x="0" y="192"/>
                    </a:cubicBezTo>
                    <a:cubicBezTo>
                      <a:pt x="0" y="200"/>
                      <a:pt x="2" y="209"/>
                      <a:pt x="6" y="212"/>
                    </a:cubicBezTo>
                    <a:close/>
                  </a:path>
                </a:pathLst>
              </a:custGeom>
              <a:solidFill>
                <a:srgbClr val="c58bf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Freeform 85"/>
              <p:cNvSpPr/>
              <p:nvPr/>
            </p:nvSpPr>
            <p:spPr>
              <a:xfrm>
                <a:off x="5292720" y="1554120"/>
                <a:ext cx="245880" cy="43344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433440"/>
                  <a:gd name="textAreaBottom" fmla="*/ 433800 h 433440"/>
                </a:gdLst>
                <a:ahLst/>
                <a:rect l="textAreaLeft" t="textAreaTop" r="textAreaRight" b="textAreaBottom"/>
                <a:pathLst>
                  <a:path w="198" h="320">
                    <a:moveTo>
                      <a:pt x="0" y="23"/>
                    </a:moveTo>
                    <a:cubicBezTo>
                      <a:pt x="8" y="16"/>
                      <a:pt x="48" y="0"/>
                      <a:pt x="74" y="7"/>
                    </a:cubicBezTo>
                    <a:cubicBezTo>
                      <a:pt x="100" y="14"/>
                      <a:pt x="139" y="46"/>
                      <a:pt x="154" y="67"/>
                    </a:cubicBezTo>
                    <a:cubicBezTo>
                      <a:pt x="169" y="88"/>
                      <a:pt x="163" y="116"/>
                      <a:pt x="166" y="135"/>
                    </a:cubicBezTo>
                    <a:cubicBezTo>
                      <a:pt x="169" y="154"/>
                      <a:pt x="168" y="161"/>
                      <a:pt x="170" y="179"/>
                    </a:cubicBezTo>
                    <a:cubicBezTo>
                      <a:pt x="172" y="197"/>
                      <a:pt x="174" y="229"/>
                      <a:pt x="178" y="243"/>
                    </a:cubicBezTo>
                    <a:cubicBezTo>
                      <a:pt x="182" y="257"/>
                      <a:pt x="198" y="252"/>
                      <a:pt x="192" y="263"/>
                    </a:cubicBezTo>
                    <a:cubicBezTo>
                      <a:pt x="186" y="274"/>
                      <a:pt x="156" y="302"/>
                      <a:pt x="144" y="311"/>
                    </a:cubicBezTo>
                    <a:cubicBezTo>
                      <a:pt x="132" y="320"/>
                      <a:pt x="126" y="319"/>
                      <a:pt x="118" y="315"/>
                    </a:cubicBezTo>
                    <a:cubicBezTo>
                      <a:pt x="110" y="311"/>
                      <a:pt x="108" y="303"/>
                      <a:pt x="98" y="287"/>
                    </a:cubicBezTo>
                    <a:cubicBezTo>
                      <a:pt x="88" y="271"/>
                      <a:pt x="63" y="236"/>
                      <a:pt x="58" y="219"/>
                    </a:cubicBezTo>
                    <a:cubicBezTo>
                      <a:pt x="53" y="202"/>
                      <a:pt x="65" y="199"/>
                      <a:pt x="66" y="183"/>
                    </a:cubicBezTo>
                    <a:cubicBezTo>
                      <a:pt x="67" y="167"/>
                      <a:pt x="69" y="142"/>
                      <a:pt x="66" y="123"/>
                    </a:cubicBezTo>
                    <a:cubicBezTo>
                      <a:pt x="63" y="104"/>
                      <a:pt x="53" y="85"/>
                      <a:pt x="48" y="71"/>
                    </a:cubicBezTo>
                    <a:cubicBezTo>
                      <a:pt x="43" y="57"/>
                      <a:pt x="42" y="47"/>
                      <a:pt x="34" y="39"/>
                    </a:cubicBezTo>
                    <a:cubicBezTo>
                      <a:pt x="26" y="31"/>
                      <a:pt x="7" y="26"/>
                      <a:pt x="0" y="23"/>
                    </a:cubicBezTo>
                    <a:close/>
                  </a:path>
                </a:pathLst>
              </a:custGeom>
              <a:solidFill>
                <a:srgbClr val="c58bf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Freeform 86"/>
              <p:cNvSpPr/>
              <p:nvPr/>
            </p:nvSpPr>
            <p:spPr>
              <a:xfrm>
                <a:off x="5419440" y="1834920"/>
                <a:ext cx="125280" cy="155880"/>
              </a:xfrm>
              <a:custGeom>
                <a:avLst/>
                <a:gdLst>
                  <a:gd name="textAreaLeft" fmla="*/ 0 w 125280"/>
                  <a:gd name="textAreaRight" fmla="*/ 125640 w 125280"/>
                  <a:gd name="textAreaTop" fmla="*/ 0 h 155880"/>
                  <a:gd name="textAreaBottom" fmla="*/ 156240 h 155880"/>
                </a:gdLst>
                <a:ahLst/>
                <a:rect l="textAreaLeft" t="textAreaTop" r="textAreaRight" b="textAreaBottom"/>
                <a:pathLst>
                  <a:path w="100" h="116">
                    <a:moveTo>
                      <a:pt x="76" y="4"/>
                    </a:moveTo>
                    <a:lnTo>
                      <a:pt x="76" y="0"/>
                    </a:lnTo>
                    <a:lnTo>
                      <a:pt x="100" y="56"/>
                    </a:lnTo>
                    <a:lnTo>
                      <a:pt x="28" y="116"/>
                    </a:lnTo>
                    <a:lnTo>
                      <a:pt x="0" y="80"/>
                    </a:lnTo>
                    <a:lnTo>
                      <a:pt x="76" y="4"/>
                    </a:lnTo>
                    <a:close/>
                  </a:path>
                </a:pathLst>
              </a:custGeom>
              <a:solidFill>
                <a:srgbClr val="c58bf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Freeform 87"/>
              <p:cNvSpPr/>
              <p:nvPr/>
            </p:nvSpPr>
            <p:spPr>
              <a:xfrm>
                <a:off x="4808880" y="1559520"/>
                <a:ext cx="277560" cy="438120"/>
              </a:xfrm>
              <a:custGeom>
                <a:avLst/>
                <a:gdLst>
                  <a:gd name="textAreaLeft" fmla="*/ 0 w 277560"/>
                  <a:gd name="textAreaRight" fmla="*/ 277920 w 277560"/>
                  <a:gd name="textAreaTop" fmla="*/ 0 h 438120"/>
                  <a:gd name="textAreaBottom" fmla="*/ 438480 h 438120"/>
                </a:gdLst>
                <a:ahLst/>
                <a:rect l="textAreaLeft" t="textAreaTop" r="textAreaRight" b="textAreaBottom"/>
                <a:pathLst>
                  <a:path w="222" h="322">
                    <a:moveTo>
                      <a:pt x="221" y="24"/>
                    </a:moveTo>
                    <a:cubicBezTo>
                      <a:pt x="222" y="15"/>
                      <a:pt x="202" y="4"/>
                      <a:pt x="185" y="2"/>
                    </a:cubicBezTo>
                    <a:cubicBezTo>
                      <a:pt x="168" y="0"/>
                      <a:pt x="144" y="0"/>
                      <a:pt x="121" y="10"/>
                    </a:cubicBezTo>
                    <a:cubicBezTo>
                      <a:pt x="98" y="20"/>
                      <a:pt x="61" y="40"/>
                      <a:pt x="47" y="60"/>
                    </a:cubicBezTo>
                    <a:cubicBezTo>
                      <a:pt x="33" y="80"/>
                      <a:pt x="38" y="109"/>
                      <a:pt x="35" y="128"/>
                    </a:cubicBezTo>
                    <a:cubicBezTo>
                      <a:pt x="32" y="147"/>
                      <a:pt x="33" y="154"/>
                      <a:pt x="31" y="172"/>
                    </a:cubicBezTo>
                    <a:cubicBezTo>
                      <a:pt x="29" y="190"/>
                      <a:pt x="27" y="222"/>
                      <a:pt x="23" y="236"/>
                    </a:cubicBezTo>
                    <a:cubicBezTo>
                      <a:pt x="19" y="250"/>
                      <a:pt x="0" y="246"/>
                      <a:pt x="9" y="256"/>
                    </a:cubicBezTo>
                    <a:cubicBezTo>
                      <a:pt x="18" y="266"/>
                      <a:pt x="59" y="288"/>
                      <a:pt x="77" y="298"/>
                    </a:cubicBezTo>
                    <a:cubicBezTo>
                      <a:pt x="95" y="308"/>
                      <a:pt x="109" y="322"/>
                      <a:pt x="117" y="318"/>
                    </a:cubicBezTo>
                    <a:cubicBezTo>
                      <a:pt x="125" y="314"/>
                      <a:pt x="121" y="292"/>
                      <a:pt x="125" y="274"/>
                    </a:cubicBezTo>
                    <a:cubicBezTo>
                      <a:pt x="129" y="256"/>
                      <a:pt x="140" y="228"/>
                      <a:pt x="143" y="212"/>
                    </a:cubicBezTo>
                    <a:cubicBezTo>
                      <a:pt x="146" y="196"/>
                      <a:pt x="145" y="189"/>
                      <a:pt x="145" y="178"/>
                    </a:cubicBezTo>
                    <a:cubicBezTo>
                      <a:pt x="145" y="167"/>
                      <a:pt x="143" y="164"/>
                      <a:pt x="145" y="148"/>
                    </a:cubicBezTo>
                    <a:cubicBezTo>
                      <a:pt x="147" y="132"/>
                      <a:pt x="154" y="97"/>
                      <a:pt x="157" y="84"/>
                    </a:cubicBezTo>
                    <a:cubicBezTo>
                      <a:pt x="160" y="71"/>
                      <a:pt x="161" y="77"/>
                      <a:pt x="165" y="72"/>
                    </a:cubicBezTo>
                    <a:cubicBezTo>
                      <a:pt x="169" y="67"/>
                      <a:pt x="172" y="64"/>
                      <a:pt x="181" y="56"/>
                    </a:cubicBezTo>
                    <a:cubicBezTo>
                      <a:pt x="190" y="48"/>
                      <a:pt x="213" y="31"/>
                      <a:pt x="221" y="24"/>
                    </a:cubicBezTo>
                    <a:close/>
                  </a:path>
                </a:pathLst>
              </a:custGeom>
              <a:solidFill>
                <a:srgbClr val="c58bf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Freeform 88"/>
              <p:cNvSpPr/>
              <p:nvPr/>
            </p:nvSpPr>
            <p:spPr>
              <a:xfrm>
                <a:off x="4826160" y="1845000"/>
                <a:ext cx="139680" cy="141120"/>
              </a:xfrm>
              <a:custGeom>
                <a:avLst/>
                <a:gdLst>
                  <a:gd name="textAreaLeft" fmla="*/ 0 w 139680"/>
                  <a:gd name="textAreaRight" fmla="*/ 140040 w 1396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112" h="104">
                    <a:moveTo>
                      <a:pt x="20" y="0"/>
                    </a:moveTo>
                    <a:lnTo>
                      <a:pt x="16" y="0"/>
                    </a:lnTo>
                    <a:lnTo>
                      <a:pt x="0" y="44"/>
                    </a:lnTo>
                    <a:lnTo>
                      <a:pt x="100" y="104"/>
                    </a:lnTo>
                    <a:lnTo>
                      <a:pt x="112" y="64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c58bf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Freeform 89"/>
              <p:cNvSpPr/>
              <p:nvPr/>
            </p:nvSpPr>
            <p:spPr>
              <a:xfrm>
                <a:off x="5068080" y="1519560"/>
                <a:ext cx="105120" cy="129600"/>
              </a:xfrm>
              <a:custGeom>
                <a:avLst/>
                <a:gdLst>
                  <a:gd name="textAreaLeft" fmla="*/ 0 w 105120"/>
                  <a:gd name="textAreaRight" fmla="*/ 105480 w 105120"/>
                  <a:gd name="textAreaTop" fmla="*/ 0 h 129600"/>
                  <a:gd name="textAreaBottom" fmla="*/ 129960 h 129600"/>
                </a:gdLst>
                <a:ahLst/>
                <a:rect l="textAreaLeft" t="textAreaTop" r="textAreaRight" b="textAreaBottom"/>
                <a:pathLst>
                  <a:path w="84" h="96">
                    <a:moveTo>
                      <a:pt x="40" y="0"/>
                    </a:moveTo>
                    <a:cubicBezTo>
                      <a:pt x="34" y="12"/>
                      <a:pt x="43" y="12"/>
                      <a:pt x="28" y="12"/>
                    </a:cubicBezTo>
                    <a:lnTo>
                      <a:pt x="0" y="28"/>
                    </a:lnTo>
                    <a:lnTo>
                      <a:pt x="56" y="96"/>
                    </a:lnTo>
                    <a:lnTo>
                      <a:pt x="84" y="60"/>
                    </a:lnTo>
                    <a:lnTo>
                      <a:pt x="32" y="8"/>
                    </a:lnTo>
                  </a:path>
                </a:pathLst>
              </a:custGeom>
              <a:solidFill>
                <a:srgbClr val="c58bf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Freeform 90"/>
              <p:cNvSpPr/>
              <p:nvPr/>
            </p:nvSpPr>
            <p:spPr>
              <a:xfrm flipH="1">
                <a:off x="5172480" y="1519560"/>
                <a:ext cx="103320" cy="129600"/>
              </a:xfrm>
              <a:custGeom>
                <a:avLst/>
                <a:gdLst>
                  <a:gd name="textAreaLeft" fmla="*/ -360 w 103320"/>
                  <a:gd name="textAreaRight" fmla="*/ 103320 w 103320"/>
                  <a:gd name="textAreaTop" fmla="*/ 0 h 129600"/>
                  <a:gd name="textAreaBottom" fmla="*/ 129960 h 129600"/>
                </a:gdLst>
                <a:ahLst/>
                <a:rect l="textAreaLeft" t="textAreaTop" r="textAreaRight" b="textAreaBottom"/>
                <a:pathLst>
                  <a:path w="84" h="96">
                    <a:moveTo>
                      <a:pt x="40" y="0"/>
                    </a:moveTo>
                    <a:cubicBezTo>
                      <a:pt x="34" y="12"/>
                      <a:pt x="43" y="12"/>
                      <a:pt x="28" y="12"/>
                    </a:cubicBezTo>
                    <a:lnTo>
                      <a:pt x="0" y="28"/>
                    </a:lnTo>
                    <a:lnTo>
                      <a:pt x="56" y="96"/>
                    </a:lnTo>
                    <a:lnTo>
                      <a:pt x="84" y="60"/>
                    </a:lnTo>
                    <a:lnTo>
                      <a:pt x="32" y="8"/>
                    </a:lnTo>
                  </a:path>
                </a:pathLst>
              </a:custGeom>
              <a:solidFill>
                <a:srgbClr val="c58bf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Freeform 91"/>
              <p:cNvSpPr/>
              <p:nvPr/>
            </p:nvSpPr>
            <p:spPr>
              <a:xfrm>
                <a:off x="5181840" y="1845000"/>
                <a:ext cx="8640" cy="54180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541800"/>
                  <a:gd name="textAreaBottom" fmla="*/ 542160 h 541800"/>
                </a:gdLst>
                <a:ahLst/>
                <a:rect l="textAreaLeft" t="textAreaTop" r="textAreaRight" b="textAreaBottom"/>
                <a:pathLst>
                  <a:path w="8" h="400">
                    <a:moveTo>
                      <a:pt x="0" y="0"/>
                    </a:moveTo>
                    <a:lnTo>
                      <a:pt x="8" y="40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Freeform 92"/>
              <p:cNvSpPr/>
              <p:nvPr/>
            </p:nvSpPr>
            <p:spPr>
              <a:xfrm>
                <a:off x="5176080" y="1611720"/>
                <a:ext cx="1080" cy="21600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16000"/>
                  <a:gd name="textAreaBottom" fmla="*/ 216360 h 216000"/>
                </a:gdLst>
                <a:ahLst/>
                <a:rect l="textAreaLeft" t="textAreaTop" r="textAreaRight" b="textAreaBottom"/>
                <a:pathLst>
                  <a:path w="1" h="160">
                    <a:moveTo>
                      <a:pt x="0" y="0"/>
                    </a:moveTo>
                    <a:lnTo>
                      <a:pt x="0" y="16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Freeform 93"/>
              <p:cNvSpPr/>
              <p:nvPr/>
            </p:nvSpPr>
            <p:spPr>
              <a:xfrm>
                <a:off x="4952880" y="2329200"/>
                <a:ext cx="491040" cy="129600"/>
              </a:xfrm>
              <a:custGeom>
                <a:avLst/>
                <a:gdLst>
                  <a:gd name="textAreaLeft" fmla="*/ 0 w 491040"/>
                  <a:gd name="textAreaRight" fmla="*/ 491400 w 491040"/>
                  <a:gd name="textAreaTop" fmla="*/ 0 h 129600"/>
                  <a:gd name="textAreaBottom" fmla="*/ 129960 h 129600"/>
                </a:gdLst>
                <a:ahLst/>
                <a:rect l="textAreaLeft" t="textAreaTop" r="textAreaRight" b="textAreaBottom"/>
                <a:pathLst>
                  <a:path w="352" h="95">
                    <a:moveTo>
                      <a:pt x="10" y="49"/>
                    </a:moveTo>
                    <a:cubicBezTo>
                      <a:pt x="0" y="62"/>
                      <a:pt x="3" y="80"/>
                      <a:pt x="11" y="86"/>
                    </a:cubicBezTo>
                    <a:cubicBezTo>
                      <a:pt x="19" y="92"/>
                      <a:pt x="31" y="86"/>
                      <a:pt x="59" y="86"/>
                    </a:cubicBezTo>
                    <a:cubicBezTo>
                      <a:pt x="87" y="86"/>
                      <a:pt x="136" y="88"/>
                      <a:pt x="181" y="88"/>
                    </a:cubicBezTo>
                    <a:cubicBezTo>
                      <a:pt x="226" y="88"/>
                      <a:pt x="304" y="95"/>
                      <a:pt x="328" y="88"/>
                    </a:cubicBezTo>
                    <a:cubicBezTo>
                      <a:pt x="352" y="81"/>
                      <a:pt x="339" y="58"/>
                      <a:pt x="325" y="43"/>
                    </a:cubicBezTo>
                    <a:cubicBezTo>
                      <a:pt x="311" y="28"/>
                      <a:pt x="268" y="2"/>
                      <a:pt x="244" y="1"/>
                    </a:cubicBezTo>
                    <a:cubicBezTo>
                      <a:pt x="220" y="0"/>
                      <a:pt x="191" y="26"/>
                      <a:pt x="181" y="40"/>
                    </a:cubicBezTo>
                    <a:cubicBezTo>
                      <a:pt x="171" y="54"/>
                      <a:pt x="191" y="86"/>
                      <a:pt x="187" y="85"/>
                    </a:cubicBezTo>
                    <a:cubicBezTo>
                      <a:pt x="183" y="84"/>
                      <a:pt x="173" y="47"/>
                      <a:pt x="154" y="34"/>
                    </a:cubicBezTo>
                    <a:cubicBezTo>
                      <a:pt x="135" y="21"/>
                      <a:pt x="94" y="4"/>
                      <a:pt x="70" y="7"/>
                    </a:cubicBezTo>
                    <a:cubicBezTo>
                      <a:pt x="46" y="10"/>
                      <a:pt x="20" y="36"/>
                      <a:pt x="10" y="49"/>
                    </a:cubicBezTo>
                    <a:close/>
                  </a:path>
                </a:pathLst>
              </a:custGeom>
              <a:blipFill rotWithShape="0">
                <a:blip r:embed="rId9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52" name="Group 94"/>
              <p:cNvGrpSpPr/>
              <p:nvPr/>
            </p:nvGrpSpPr>
            <p:grpSpPr>
              <a:xfrm>
                <a:off x="4767120" y="946080"/>
                <a:ext cx="836280" cy="1136520"/>
                <a:chOff x="4767120" y="946080"/>
                <a:chExt cx="836280" cy="1136520"/>
              </a:xfrm>
            </p:grpSpPr>
            <p:sp>
              <p:nvSpPr>
                <p:cNvPr id="953" name="Freeform 95"/>
                <p:cNvSpPr/>
                <p:nvPr/>
              </p:nvSpPr>
              <p:spPr>
                <a:xfrm>
                  <a:off x="4898160" y="946080"/>
                  <a:ext cx="556920" cy="413280"/>
                </a:xfrm>
                <a:custGeom>
                  <a:avLst/>
                  <a:gdLst>
                    <a:gd name="textAreaLeft" fmla="*/ 0 w 556920"/>
                    <a:gd name="textAreaRight" fmla="*/ 557280 w 556920"/>
                    <a:gd name="textAreaTop" fmla="*/ 0 h 413280"/>
                    <a:gd name="textAreaBottom" fmla="*/ 413640 h 413280"/>
                  </a:gdLst>
                  <a:ahLst/>
                  <a:rect l="textAreaLeft" t="textAreaTop" r="textAreaRight" b="textAreaBottom"/>
                  <a:pathLst>
                    <a:path w="400" h="301">
                      <a:moveTo>
                        <a:pt x="378" y="286"/>
                      </a:moveTo>
                      <a:cubicBezTo>
                        <a:pt x="381" y="275"/>
                        <a:pt x="398" y="234"/>
                        <a:pt x="399" y="220"/>
                      </a:cubicBezTo>
                      <a:cubicBezTo>
                        <a:pt x="400" y="206"/>
                        <a:pt x="386" y="211"/>
                        <a:pt x="384" y="202"/>
                      </a:cubicBezTo>
                      <a:cubicBezTo>
                        <a:pt x="382" y="193"/>
                        <a:pt x="391" y="174"/>
                        <a:pt x="387" y="166"/>
                      </a:cubicBezTo>
                      <a:cubicBezTo>
                        <a:pt x="383" y="158"/>
                        <a:pt x="363" y="158"/>
                        <a:pt x="360" y="151"/>
                      </a:cubicBezTo>
                      <a:cubicBezTo>
                        <a:pt x="357" y="144"/>
                        <a:pt x="367" y="125"/>
                        <a:pt x="366" y="121"/>
                      </a:cubicBezTo>
                      <a:cubicBezTo>
                        <a:pt x="365" y="117"/>
                        <a:pt x="363" y="133"/>
                        <a:pt x="351" y="124"/>
                      </a:cubicBezTo>
                      <a:cubicBezTo>
                        <a:pt x="339" y="115"/>
                        <a:pt x="308" y="77"/>
                        <a:pt x="294" y="67"/>
                      </a:cubicBezTo>
                      <a:cubicBezTo>
                        <a:pt x="280" y="57"/>
                        <a:pt x="275" y="66"/>
                        <a:pt x="267" y="64"/>
                      </a:cubicBezTo>
                      <a:cubicBezTo>
                        <a:pt x="259" y="62"/>
                        <a:pt x="248" y="59"/>
                        <a:pt x="247" y="53"/>
                      </a:cubicBezTo>
                      <a:cubicBezTo>
                        <a:pt x="246" y="47"/>
                        <a:pt x="255" y="32"/>
                        <a:pt x="261" y="28"/>
                      </a:cubicBezTo>
                      <a:cubicBezTo>
                        <a:pt x="267" y="24"/>
                        <a:pt x="282" y="35"/>
                        <a:pt x="282" y="31"/>
                      </a:cubicBezTo>
                      <a:cubicBezTo>
                        <a:pt x="282" y="27"/>
                        <a:pt x="273" y="0"/>
                        <a:pt x="264" y="1"/>
                      </a:cubicBezTo>
                      <a:cubicBezTo>
                        <a:pt x="255" y="2"/>
                        <a:pt x="235" y="31"/>
                        <a:pt x="228" y="40"/>
                      </a:cubicBezTo>
                      <a:cubicBezTo>
                        <a:pt x="221" y="49"/>
                        <a:pt x="225" y="60"/>
                        <a:pt x="219" y="55"/>
                      </a:cubicBezTo>
                      <a:cubicBezTo>
                        <a:pt x="213" y="50"/>
                        <a:pt x="197" y="15"/>
                        <a:pt x="192" y="10"/>
                      </a:cubicBezTo>
                      <a:cubicBezTo>
                        <a:pt x="187" y="5"/>
                        <a:pt x="184" y="15"/>
                        <a:pt x="186" y="22"/>
                      </a:cubicBezTo>
                      <a:cubicBezTo>
                        <a:pt x="188" y="29"/>
                        <a:pt x="208" y="57"/>
                        <a:pt x="204" y="55"/>
                      </a:cubicBezTo>
                      <a:cubicBezTo>
                        <a:pt x="200" y="53"/>
                        <a:pt x="172" y="17"/>
                        <a:pt x="162" y="10"/>
                      </a:cubicBezTo>
                      <a:cubicBezTo>
                        <a:pt x="152" y="3"/>
                        <a:pt x="151" y="15"/>
                        <a:pt x="144" y="16"/>
                      </a:cubicBezTo>
                      <a:cubicBezTo>
                        <a:pt x="137" y="17"/>
                        <a:pt x="125" y="16"/>
                        <a:pt x="120" y="19"/>
                      </a:cubicBezTo>
                      <a:cubicBezTo>
                        <a:pt x="115" y="22"/>
                        <a:pt x="110" y="31"/>
                        <a:pt x="114" y="34"/>
                      </a:cubicBezTo>
                      <a:cubicBezTo>
                        <a:pt x="118" y="37"/>
                        <a:pt x="140" y="33"/>
                        <a:pt x="147" y="37"/>
                      </a:cubicBezTo>
                      <a:cubicBezTo>
                        <a:pt x="154" y="41"/>
                        <a:pt x="163" y="55"/>
                        <a:pt x="159" y="58"/>
                      </a:cubicBezTo>
                      <a:cubicBezTo>
                        <a:pt x="155" y="61"/>
                        <a:pt x="133" y="53"/>
                        <a:pt x="126" y="55"/>
                      </a:cubicBezTo>
                      <a:cubicBezTo>
                        <a:pt x="119" y="57"/>
                        <a:pt x="119" y="69"/>
                        <a:pt x="114" y="73"/>
                      </a:cubicBezTo>
                      <a:cubicBezTo>
                        <a:pt x="109" y="77"/>
                        <a:pt x="100" y="76"/>
                        <a:pt x="93" y="79"/>
                      </a:cubicBezTo>
                      <a:cubicBezTo>
                        <a:pt x="86" y="82"/>
                        <a:pt x="79" y="89"/>
                        <a:pt x="72" y="94"/>
                      </a:cubicBezTo>
                      <a:cubicBezTo>
                        <a:pt x="65" y="99"/>
                        <a:pt x="56" y="101"/>
                        <a:pt x="54" y="106"/>
                      </a:cubicBezTo>
                      <a:cubicBezTo>
                        <a:pt x="52" y="111"/>
                        <a:pt x="61" y="118"/>
                        <a:pt x="60" y="124"/>
                      </a:cubicBezTo>
                      <a:cubicBezTo>
                        <a:pt x="59" y="130"/>
                        <a:pt x="51" y="137"/>
                        <a:pt x="45" y="142"/>
                      </a:cubicBezTo>
                      <a:cubicBezTo>
                        <a:pt x="39" y="147"/>
                        <a:pt x="33" y="142"/>
                        <a:pt x="27" y="154"/>
                      </a:cubicBezTo>
                      <a:cubicBezTo>
                        <a:pt x="21" y="166"/>
                        <a:pt x="16" y="194"/>
                        <a:pt x="12" y="214"/>
                      </a:cubicBezTo>
                      <a:cubicBezTo>
                        <a:pt x="8" y="234"/>
                        <a:pt x="0" y="260"/>
                        <a:pt x="3" y="274"/>
                      </a:cubicBezTo>
                      <a:cubicBezTo>
                        <a:pt x="6" y="288"/>
                        <a:pt x="27" y="295"/>
                        <a:pt x="33" y="301"/>
                      </a:cubicBezTo>
                    </a:path>
                  </a:pathLst>
                </a:custGeom>
                <a:gradFill rotWithShape="0">
                  <a:gsLst>
                    <a:gs pos="0">
                      <a:srgbClr val="660066"/>
                    </a:gs>
                    <a:gs pos="50000">
                      <a:srgbClr val="333333"/>
                    </a:gs>
                    <a:gs pos="100000">
                      <a:srgbClr val="660066"/>
                    </a:gs>
                  </a:gsLst>
                  <a:lin ang="18900000"/>
                </a:gra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4" name="Freeform 96"/>
                <p:cNvSpPr/>
                <p:nvPr/>
              </p:nvSpPr>
              <p:spPr>
                <a:xfrm>
                  <a:off x="5456880" y="1922760"/>
                  <a:ext cx="146520" cy="159840"/>
                </a:xfrm>
                <a:custGeom>
                  <a:avLst/>
                  <a:gdLst>
                    <a:gd name="textAreaLeft" fmla="*/ 0 w 146520"/>
                    <a:gd name="textAreaRight" fmla="*/ 146880 w 146520"/>
                    <a:gd name="textAreaTop" fmla="*/ 0 h 159840"/>
                    <a:gd name="textAreaBottom" fmla="*/ 160200 h 159840"/>
                  </a:gdLst>
                  <a:ahLst/>
                  <a:rect l="textAreaLeft" t="textAreaTop" r="textAreaRight" b="textAreaBottom"/>
                  <a:pathLst>
                    <a:path w="105" h="117">
                      <a:moveTo>
                        <a:pt x="56" y="0"/>
                      </a:moveTo>
                      <a:cubicBezTo>
                        <a:pt x="62" y="5"/>
                        <a:pt x="87" y="20"/>
                        <a:pt x="95" y="33"/>
                      </a:cubicBezTo>
                      <a:cubicBezTo>
                        <a:pt x="103" y="46"/>
                        <a:pt x="105" y="70"/>
                        <a:pt x="101" y="81"/>
                      </a:cubicBezTo>
                      <a:cubicBezTo>
                        <a:pt x="97" y="92"/>
                        <a:pt x="78" y="91"/>
                        <a:pt x="68" y="96"/>
                      </a:cubicBezTo>
                      <a:cubicBezTo>
                        <a:pt x="58" y="101"/>
                        <a:pt x="48" y="117"/>
                        <a:pt x="38" y="114"/>
                      </a:cubicBezTo>
                      <a:cubicBezTo>
                        <a:pt x="28" y="111"/>
                        <a:pt x="10" y="86"/>
                        <a:pt x="5" y="75"/>
                      </a:cubicBezTo>
                      <a:cubicBezTo>
                        <a:pt x="0" y="64"/>
                        <a:pt x="5" y="54"/>
                        <a:pt x="5" y="48"/>
                      </a:cubicBezTo>
                    </a:path>
                  </a:pathLst>
                </a:custGeom>
                <a:blipFill rotWithShape="0">
                  <a:blip r:embed="rId10"/>
                  <a:srcRect/>
                  <a:stretch/>
                </a:blip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5" name="Freeform 97"/>
                <p:cNvSpPr/>
                <p:nvPr/>
              </p:nvSpPr>
              <p:spPr>
                <a:xfrm flipH="1">
                  <a:off x="4767120" y="1920240"/>
                  <a:ext cx="146880" cy="159480"/>
                </a:xfrm>
                <a:custGeom>
                  <a:avLst/>
                  <a:gdLst>
                    <a:gd name="textAreaLeft" fmla="*/ 360 w 146880"/>
                    <a:gd name="textAreaRight" fmla="*/ 147600 w 146880"/>
                    <a:gd name="textAreaTop" fmla="*/ 0 h 159480"/>
                    <a:gd name="textAreaBottom" fmla="*/ 159840 h 159480"/>
                  </a:gdLst>
                  <a:ahLst/>
                  <a:rect l="textAreaLeft" t="textAreaTop" r="textAreaRight" b="textAreaBottom"/>
                  <a:pathLst>
                    <a:path w="105" h="117">
                      <a:moveTo>
                        <a:pt x="56" y="0"/>
                      </a:moveTo>
                      <a:cubicBezTo>
                        <a:pt x="62" y="5"/>
                        <a:pt x="87" y="20"/>
                        <a:pt x="95" y="33"/>
                      </a:cubicBezTo>
                      <a:cubicBezTo>
                        <a:pt x="103" y="46"/>
                        <a:pt x="105" y="70"/>
                        <a:pt x="101" y="81"/>
                      </a:cubicBezTo>
                      <a:cubicBezTo>
                        <a:pt x="97" y="92"/>
                        <a:pt x="78" y="91"/>
                        <a:pt x="68" y="96"/>
                      </a:cubicBezTo>
                      <a:cubicBezTo>
                        <a:pt x="58" y="101"/>
                        <a:pt x="48" y="117"/>
                        <a:pt x="38" y="114"/>
                      </a:cubicBezTo>
                      <a:cubicBezTo>
                        <a:pt x="28" y="111"/>
                        <a:pt x="10" y="86"/>
                        <a:pt x="5" y="75"/>
                      </a:cubicBezTo>
                      <a:cubicBezTo>
                        <a:pt x="0" y="64"/>
                        <a:pt x="5" y="54"/>
                        <a:pt x="5" y="48"/>
                      </a:cubicBezTo>
                    </a:path>
                  </a:pathLst>
                </a:custGeom>
                <a:blipFill rotWithShape="0">
                  <a:blip r:embed="rId11"/>
                  <a:srcRect/>
                  <a:stretch/>
                </a:blip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6" name="Freeform 98"/>
                <p:cNvSpPr/>
                <p:nvPr/>
              </p:nvSpPr>
              <p:spPr>
                <a:xfrm>
                  <a:off x="4945680" y="1092600"/>
                  <a:ext cx="479520" cy="500040"/>
                </a:xfrm>
                <a:custGeom>
                  <a:avLst/>
                  <a:gdLst>
                    <a:gd name="textAreaLeft" fmla="*/ 0 w 479520"/>
                    <a:gd name="textAreaRight" fmla="*/ 479880 w 479520"/>
                    <a:gd name="textAreaTop" fmla="*/ 0 h 500040"/>
                    <a:gd name="textAreaBottom" fmla="*/ 500400 h 500040"/>
                  </a:gdLst>
                  <a:ahLst/>
                  <a:rect l="textAreaLeft" t="textAreaTop" r="textAreaRight" b="textAreaBottom"/>
                  <a:pathLst>
                    <a:path w="344" h="365">
                      <a:moveTo>
                        <a:pt x="0" y="194"/>
                      </a:moveTo>
                      <a:cubicBezTo>
                        <a:pt x="0" y="198"/>
                        <a:pt x="0" y="197"/>
                        <a:pt x="6" y="209"/>
                      </a:cubicBezTo>
                      <a:cubicBezTo>
                        <a:pt x="12" y="221"/>
                        <a:pt x="23" y="250"/>
                        <a:pt x="36" y="266"/>
                      </a:cubicBezTo>
                      <a:cubicBezTo>
                        <a:pt x="49" y="282"/>
                        <a:pt x="70" y="299"/>
                        <a:pt x="87" y="308"/>
                      </a:cubicBezTo>
                      <a:cubicBezTo>
                        <a:pt x="104" y="317"/>
                        <a:pt x="129" y="314"/>
                        <a:pt x="138" y="320"/>
                      </a:cubicBezTo>
                      <a:cubicBezTo>
                        <a:pt x="147" y="326"/>
                        <a:pt x="140" y="337"/>
                        <a:pt x="144" y="344"/>
                      </a:cubicBezTo>
                      <a:cubicBezTo>
                        <a:pt x="148" y="351"/>
                        <a:pt x="157" y="365"/>
                        <a:pt x="165" y="365"/>
                      </a:cubicBezTo>
                      <a:cubicBezTo>
                        <a:pt x="173" y="365"/>
                        <a:pt x="185" y="349"/>
                        <a:pt x="192" y="341"/>
                      </a:cubicBezTo>
                      <a:cubicBezTo>
                        <a:pt x="199" y="333"/>
                        <a:pt x="197" y="322"/>
                        <a:pt x="207" y="317"/>
                      </a:cubicBezTo>
                      <a:cubicBezTo>
                        <a:pt x="217" y="312"/>
                        <a:pt x="239" y="315"/>
                        <a:pt x="255" y="308"/>
                      </a:cubicBezTo>
                      <a:cubicBezTo>
                        <a:pt x="271" y="301"/>
                        <a:pt x="289" y="296"/>
                        <a:pt x="303" y="275"/>
                      </a:cubicBezTo>
                      <a:cubicBezTo>
                        <a:pt x="317" y="254"/>
                        <a:pt x="344" y="208"/>
                        <a:pt x="342" y="179"/>
                      </a:cubicBezTo>
                      <a:cubicBezTo>
                        <a:pt x="340" y="150"/>
                        <a:pt x="302" y="123"/>
                        <a:pt x="288" y="98"/>
                      </a:cubicBezTo>
                      <a:cubicBezTo>
                        <a:pt x="274" y="73"/>
                        <a:pt x="269" y="31"/>
                        <a:pt x="256" y="27"/>
                      </a:cubicBezTo>
                      <a:cubicBezTo>
                        <a:pt x="243" y="23"/>
                        <a:pt x="218" y="70"/>
                        <a:pt x="208" y="75"/>
                      </a:cubicBezTo>
                      <a:cubicBezTo>
                        <a:pt x="198" y="80"/>
                        <a:pt x="202" y="60"/>
                        <a:pt x="198" y="56"/>
                      </a:cubicBezTo>
                      <a:cubicBezTo>
                        <a:pt x="194" y="52"/>
                        <a:pt x="197" y="50"/>
                        <a:pt x="183" y="53"/>
                      </a:cubicBezTo>
                      <a:cubicBezTo>
                        <a:pt x="169" y="56"/>
                        <a:pt x="121" y="77"/>
                        <a:pt x="112" y="75"/>
                      </a:cubicBezTo>
                      <a:cubicBezTo>
                        <a:pt x="103" y="73"/>
                        <a:pt x="126" y="52"/>
                        <a:pt x="126" y="41"/>
                      </a:cubicBezTo>
                      <a:cubicBezTo>
                        <a:pt x="126" y="30"/>
                        <a:pt x="126" y="0"/>
                        <a:pt x="114" y="11"/>
                      </a:cubicBezTo>
                      <a:cubicBezTo>
                        <a:pt x="102" y="22"/>
                        <a:pt x="63" y="89"/>
                        <a:pt x="54" y="110"/>
                      </a:cubicBezTo>
                      <a:cubicBezTo>
                        <a:pt x="45" y="131"/>
                        <a:pt x="60" y="129"/>
                        <a:pt x="60" y="137"/>
                      </a:cubicBezTo>
                      <a:cubicBezTo>
                        <a:pt x="60" y="145"/>
                        <a:pt x="58" y="158"/>
                        <a:pt x="54" y="161"/>
                      </a:cubicBezTo>
                      <a:cubicBezTo>
                        <a:pt x="50" y="164"/>
                        <a:pt x="39" y="162"/>
                        <a:pt x="36" y="155"/>
                      </a:cubicBezTo>
                      <a:cubicBezTo>
                        <a:pt x="33" y="148"/>
                        <a:pt x="37" y="119"/>
                        <a:pt x="33" y="119"/>
                      </a:cubicBezTo>
                      <a:cubicBezTo>
                        <a:pt x="29" y="119"/>
                        <a:pt x="16" y="143"/>
                        <a:pt x="12" y="152"/>
                      </a:cubicBezTo>
                      <a:cubicBezTo>
                        <a:pt x="8" y="161"/>
                        <a:pt x="12" y="168"/>
                        <a:pt x="12" y="173"/>
                      </a:cubicBezTo>
                      <a:cubicBezTo>
                        <a:pt x="12" y="178"/>
                        <a:pt x="11" y="182"/>
                        <a:pt x="9" y="185"/>
                      </a:cubicBezTo>
                      <a:cubicBezTo>
                        <a:pt x="7" y="188"/>
                        <a:pt x="0" y="190"/>
                        <a:pt x="0" y="194"/>
                      </a:cubicBezTo>
                      <a:close/>
                    </a:path>
                  </a:pathLst>
                </a:custGeom>
                <a:blipFill rotWithShape="0">
                  <a:blip r:embed="rId12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7" name="Freeform 99"/>
                <p:cNvSpPr/>
                <p:nvPr/>
              </p:nvSpPr>
              <p:spPr>
                <a:xfrm>
                  <a:off x="5117040" y="1428480"/>
                  <a:ext cx="158040" cy="44640"/>
                </a:xfrm>
                <a:custGeom>
                  <a:avLst/>
                  <a:gdLst>
                    <a:gd name="textAreaLeft" fmla="*/ 0 w 158040"/>
                    <a:gd name="textAreaRight" fmla="*/ 158400 w 158040"/>
                    <a:gd name="textAreaTop" fmla="*/ 0 h 44640"/>
                    <a:gd name="textAreaBottom" fmla="*/ 45000 h 44640"/>
                  </a:gdLst>
                  <a:ahLst/>
                  <a:rect l="textAreaLeft" t="textAreaTop" r="textAreaRight" b="textAreaBottom"/>
                  <a:pathLst>
                    <a:path w="114" h="32">
                      <a:moveTo>
                        <a:pt x="0" y="0"/>
                      </a:moveTo>
                      <a:cubicBezTo>
                        <a:pt x="7" y="4"/>
                        <a:pt x="29" y="22"/>
                        <a:pt x="39" y="27"/>
                      </a:cubicBezTo>
                      <a:cubicBezTo>
                        <a:pt x="49" y="32"/>
                        <a:pt x="53" y="30"/>
                        <a:pt x="60" y="30"/>
                      </a:cubicBezTo>
                      <a:cubicBezTo>
                        <a:pt x="67" y="30"/>
                        <a:pt x="72" y="32"/>
                        <a:pt x="81" y="27"/>
                      </a:cubicBezTo>
                      <a:cubicBezTo>
                        <a:pt x="90" y="22"/>
                        <a:pt x="107" y="8"/>
                        <a:pt x="114" y="3"/>
                      </a:cubicBezTo>
                    </a:path>
                  </a:pathLst>
                </a:custGeom>
                <a:noFill/>
                <a:ln w="12600">
                  <a:solidFill>
                    <a:srgbClr val="d2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8" name="Freeform 100"/>
                <p:cNvSpPr/>
                <p:nvPr/>
              </p:nvSpPr>
              <p:spPr>
                <a:xfrm>
                  <a:off x="5168880" y="1445760"/>
                  <a:ext cx="65880" cy="12960"/>
                </a:xfrm>
                <a:custGeom>
                  <a:avLst/>
                  <a:gdLst>
                    <a:gd name="textAreaLeft" fmla="*/ 0 w 65880"/>
                    <a:gd name="textAreaRight" fmla="*/ 66240 w 65880"/>
                    <a:gd name="textAreaTop" fmla="*/ 0 h 12960"/>
                    <a:gd name="textAreaBottom" fmla="*/ 13320 h 12960"/>
                  </a:gdLst>
                  <a:ahLst/>
                  <a:rect l="textAreaLeft" t="textAreaTop" r="textAreaRight" b="textAreaBottom"/>
                  <a:pathLst>
                    <a:path w="48" h="10">
                      <a:moveTo>
                        <a:pt x="0" y="10"/>
                      </a:moveTo>
                      <a:cubicBezTo>
                        <a:pt x="2" y="8"/>
                        <a:pt x="7" y="0"/>
                        <a:pt x="11" y="0"/>
                      </a:cubicBezTo>
                      <a:cubicBezTo>
                        <a:pt x="15" y="0"/>
                        <a:pt x="19" y="9"/>
                        <a:pt x="23" y="9"/>
                      </a:cubicBezTo>
                      <a:cubicBezTo>
                        <a:pt x="27" y="9"/>
                        <a:pt x="34" y="0"/>
                        <a:pt x="38" y="0"/>
                      </a:cubicBezTo>
                      <a:cubicBezTo>
                        <a:pt x="42" y="0"/>
                        <a:pt x="46" y="8"/>
                        <a:pt x="48" y="10"/>
                      </a:cubicBezTo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9" name="Freeform 101"/>
                <p:cNvSpPr/>
                <p:nvPr/>
              </p:nvSpPr>
              <p:spPr>
                <a:xfrm>
                  <a:off x="5092560" y="1267200"/>
                  <a:ext cx="87840" cy="37440"/>
                </a:xfrm>
                <a:custGeom>
                  <a:avLst/>
                  <a:gdLst>
                    <a:gd name="textAreaLeft" fmla="*/ 0 w 87840"/>
                    <a:gd name="textAreaRight" fmla="*/ 88200 w 87840"/>
                    <a:gd name="textAreaTop" fmla="*/ 0 h 37440"/>
                    <a:gd name="textAreaBottom" fmla="*/ 37800 h 37440"/>
                  </a:gdLst>
                  <a:ahLst/>
                  <a:rect l="textAreaLeft" t="textAreaTop" r="textAreaRight" b="textAreaBottom"/>
                  <a:pathLst>
                    <a:path w="63" h="28">
                      <a:moveTo>
                        <a:pt x="63" y="16"/>
                      </a:moveTo>
                      <a:cubicBezTo>
                        <a:pt x="58" y="14"/>
                        <a:pt x="39" y="6"/>
                        <a:pt x="33" y="4"/>
                      </a:cubicBezTo>
                      <a:cubicBezTo>
                        <a:pt x="27" y="2"/>
                        <a:pt x="29" y="0"/>
                        <a:pt x="24" y="4"/>
                      </a:cubicBezTo>
                      <a:cubicBezTo>
                        <a:pt x="19" y="8"/>
                        <a:pt x="5" y="23"/>
                        <a:pt x="0" y="28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0" name="Freeform 102"/>
                <p:cNvSpPr/>
                <p:nvPr/>
              </p:nvSpPr>
              <p:spPr>
                <a:xfrm>
                  <a:off x="5121360" y="1308960"/>
                  <a:ext cx="37440" cy="37440"/>
                </a:xfrm>
                <a:custGeom>
                  <a:avLst/>
                  <a:gdLst>
                    <a:gd name="textAreaLeft" fmla="*/ 0 w 37440"/>
                    <a:gd name="textAreaRight" fmla="*/ 37800 w 37440"/>
                    <a:gd name="textAreaTop" fmla="*/ 0 h 37440"/>
                    <a:gd name="textAreaBottom" fmla="*/ 37800 h 37440"/>
                  </a:gdLst>
                  <a:ahLst/>
                  <a:rect l="textAreaLeft" t="textAreaTop" r="textAreaRight" b="textAreaBottom"/>
                  <a:pathLst>
                    <a:path w="27" h="27">
                      <a:moveTo>
                        <a:pt x="27" y="12"/>
                      </a:moveTo>
                      <a:cubicBezTo>
                        <a:pt x="27" y="8"/>
                        <a:pt x="16" y="0"/>
                        <a:pt x="12" y="0"/>
                      </a:cubicBezTo>
                      <a:cubicBezTo>
                        <a:pt x="8" y="0"/>
                        <a:pt x="0" y="11"/>
                        <a:pt x="0" y="15"/>
                      </a:cubicBezTo>
                      <a:cubicBezTo>
                        <a:pt x="0" y="19"/>
                        <a:pt x="11" y="27"/>
                        <a:pt x="15" y="27"/>
                      </a:cubicBezTo>
                      <a:cubicBezTo>
                        <a:pt x="19" y="27"/>
                        <a:pt x="27" y="16"/>
                        <a:pt x="27" y="12"/>
                      </a:cubicBezTo>
                      <a:close/>
                    </a:path>
                  </a:pathLst>
                </a:custGeom>
                <a:solidFill>
                  <a:srgbClr val="9966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1" name="Freeform 103"/>
                <p:cNvSpPr/>
                <p:nvPr/>
              </p:nvSpPr>
              <p:spPr>
                <a:xfrm>
                  <a:off x="5091120" y="1278720"/>
                  <a:ext cx="88920" cy="50400"/>
                </a:xfrm>
                <a:custGeom>
                  <a:avLst/>
                  <a:gdLst>
                    <a:gd name="textAreaLeft" fmla="*/ 0 w 88920"/>
                    <a:gd name="textAreaRight" fmla="*/ 89280 w 88920"/>
                    <a:gd name="textAreaTop" fmla="*/ 0 h 50400"/>
                    <a:gd name="textAreaBottom" fmla="*/ 50760 h 50400"/>
                  </a:gdLst>
                  <a:ahLst/>
                  <a:rect l="textAreaLeft" t="textAreaTop" r="textAreaRight" b="textAreaBottom"/>
                  <a:pathLst>
                    <a:path w="64" h="36">
                      <a:moveTo>
                        <a:pt x="4" y="31"/>
                      </a:moveTo>
                      <a:cubicBezTo>
                        <a:pt x="3" y="29"/>
                        <a:pt x="0" y="27"/>
                        <a:pt x="4" y="22"/>
                      </a:cubicBezTo>
                      <a:cubicBezTo>
                        <a:pt x="8" y="17"/>
                        <a:pt x="22" y="2"/>
                        <a:pt x="31" y="1"/>
                      </a:cubicBezTo>
                      <a:cubicBezTo>
                        <a:pt x="40" y="0"/>
                        <a:pt x="58" y="8"/>
                        <a:pt x="61" y="13"/>
                      </a:cubicBezTo>
                      <a:cubicBezTo>
                        <a:pt x="64" y="18"/>
                        <a:pt x="56" y="30"/>
                        <a:pt x="52" y="31"/>
                      </a:cubicBezTo>
                      <a:cubicBezTo>
                        <a:pt x="48" y="32"/>
                        <a:pt x="40" y="19"/>
                        <a:pt x="34" y="19"/>
                      </a:cubicBezTo>
                      <a:cubicBezTo>
                        <a:pt x="28" y="19"/>
                        <a:pt x="18" y="32"/>
                        <a:pt x="13" y="34"/>
                      </a:cubicBezTo>
                      <a:cubicBezTo>
                        <a:pt x="8" y="36"/>
                        <a:pt x="4" y="34"/>
                        <a:pt x="4" y="31"/>
                      </a:cubicBezTo>
                      <a:close/>
                    </a:path>
                  </a:pathLst>
                </a:custGeom>
                <a:solidFill>
                  <a:srgbClr val="c58bf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2" name="Freeform 104"/>
                <p:cNvSpPr/>
                <p:nvPr/>
              </p:nvSpPr>
              <p:spPr>
                <a:xfrm flipH="1">
                  <a:off x="5234760" y="1261080"/>
                  <a:ext cx="87840" cy="38880"/>
                </a:xfrm>
                <a:custGeom>
                  <a:avLst/>
                  <a:gdLst>
                    <a:gd name="textAreaLeft" fmla="*/ 360 w 87840"/>
                    <a:gd name="textAreaRight" fmla="*/ 88560 w 8784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63" h="28">
                      <a:moveTo>
                        <a:pt x="63" y="16"/>
                      </a:moveTo>
                      <a:cubicBezTo>
                        <a:pt x="58" y="14"/>
                        <a:pt x="39" y="6"/>
                        <a:pt x="33" y="4"/>
                      </a:cubicBezTo>
                      <a:cubicBezTo>
                        <a:pt x="27" y="2"/>
                        <a:pt x="29" y="0"/>
                        <a:pt x="24" y="4"/>
                      </a:cubicBezTo>
                      <a:cubicBezTo>
                        <a:pt x="19" y="8"/>
                        <a:pt x="5" y="23"/>
                        <a:pt x="0" y="28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3" name="Freeform 105"/>
                <p:cNvSpPr/>
                <p:nvPr/>
              </p:nvSpPr>
              <p:spPr>
                <a:xfrm flipH="1">
                  <a:off x="5256000" y="1303200"/>
                  <a:ext cx="37080" cy="37440"/>
                </a:xfrm>
                <a:custGeom>
                  <a:avLst/>
                  <a:gdLst>
                    <a:gd name="textAreaLeft" fmla="*/ -360 w 37080"/>
                    <a:gd name="textAreaRight" fmla="*/ 37080 w 37080"/>
                    <a:gd name="textAreaTop" fmla="*/ 0 h 37440"/>
                    <a:gd name="textAreaBottom" fmla="*/ 37800 h 37440"/>
                  </a:gdLst>
                  <a:ahLst/>
                  <a:rect l="textAreaLeft" t="textAreaTop" r="textAreaRight" b="textAreaBottom"/>
                  <a:pathLst>
                    <a:path w="27" h="27">
                      <a:moveTo>
                        <a:pt x="27" y="12"/>
                      </a:moveTo>
                      <a:cubicBezTo>
                        <a:pt x="27" y="8"/>
                        <a:pt x="16" y="0"/>
                        <a:pt x="12" y="0"/>
                      </a:cubicBezTo>
                      <a:cubicBezTo>
                        <a:pt x="8" y="0"/>
                        <a:pt x="0" y="11"/>
                        <a:pt x="0" y="15"/>
                      </a:cubicBezTo>
                      <a:cubicBezTo>
                        <a:pt x="0" y="19"/>
                        <a:pt x="11" y="27"/>
                        <a:pt x="15" y="27"/>
                      </a:cubicBezTo>
                      <a:cubicBezTo>
                        <a:pt x="19" y="27"/>
                        <a:pt x="27" y="16"/>
                        <a:pt x="27" y="12"/>
                      </a:cubicBezTo>
                      <a:close/>
                    </a:path>
                  </a:pathLst>
                </a:custGeom>
                <a:solidFill>
                  <a:srgbClr val="9966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4" name="Freeform 106"/>
                <p:cNvSpPr/>
                <p:nvPr/>
              </p:nvSpPr>
              <p:spPr>
                <a:xfrm flipH="1">
                  <a:off x="5234760" y="1274400"/>
                  <a:ext cx="89280" cy="48960"/>
                </a:xfrm>
                <a:custGeom>
                  <a:avLst/>
                  <a:gdLst>
                    <a:gd name="textAreaLeft" fmla="*/ 360 w 89280"/>
                    <a:gd name="textAreaRight" fmla="*/ 90000 w 89280"/>
                    <a:gd name="textAreaTop" fmla="*/ 0 h 48960"/>
                    <a:gd name="textAreaBottom" fmla="*/ 49320 h 48960"/>
                  </a:gdLst>
                  <a:ahLst/>
                  <a:rect l="textAreaLeft" t="textAreaTop" r="textAreaRight" b="textAreaBottom"/>
                  <a:pathLst>
                    <a:path w="64" h="36">
                      <a:moveTo>
                        <a:pt x="4" y="31"/>
                      </a:moveTo>
                      <a:cubicBezTo>
                        <a:pt x="3" y="29"/>
                        <a:pt x="0" y="27"/>
                        <a:pt x="4" y="22"/>
                      </a:cubicBezTo>
                      <a:cubicBezTo>
                        <a:pt x="8" y="17"/>
                        <a:pt x="22" y="2"/>
                        <a:pt x="31" y="1"/>
                      </a:cubicBezTo>
                      <a:cubicBezTo>
                        <a:pt x="40" y="0"/>
                        <a:pt x="58" y="8"/>
                        <a:pt x="61" y="13"/>
                      </a:cubicBezTo>
                      <a:cubicBezTo>
                        <a:pt x="64" y="18"/>
                        <a:pt x="56" y="30"/>
                        <a:pt x="52" y="31"/>
                      </a:cubicBezTo>
                      <a:cubicBezTo>
                        <a:pt x="48" y="32"/>
                        <a:pt x="40" y="19"/>
                        <a:pt x="34" y="19"/>
                      </a:cubicBezTo>
                      <a:cubicBezTo>
                        <a:pt x="28" y="19"/>
                        <a:pt x="18" y="32"/>
                        <a:pt x="13" y="34"/>
                      </a:cubicBezTo>
                      <a:cubicBezTo>
                        <a:pt x="8" y="36"/>
                        <a:pt x="4" y="34"/>
                        <a:pt x="4" y="31"/>
                      </a:cubicBezTo>
                      <a:close/>
                    </a:path>
                  </a:pathLst>
                </a:custGeom>
                <a:solidFill>
                  <a:srgbClr val="c58bf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5" name="Freeform 107"/>
                <p:cNvSpPr/>
                <p:nvPr/>
              </p:nvSpPr>
              <p:spPr>
                <a:xfrm>
                  <a:off x="5207760" y="1224000"/>
                  <a:ext cx="142200" cy="146880"/>
                </a:xfrm>
                <a:custGeom>
                  <a:avLst/>
                  <a:gdLst>
                    <a:gd name="textAreaLeft" fmla="*/ 0 w 142200"/>
                    <a:gd name="textAreaRight" fmla="*/ 142560 w 142200"/>
                    <a:gd name="textAreaTop" fmla="*/ 0 h 146880"/>
                    <a:gd name="textAreaBottom" fmla="*/ 147240 h 146880"/>
                  </a:gdLst>
                  <a:ahLst/>
                  <a:rect l="textAreaLeft" t="textAreaTop" r="textAreaRight" b="textAreaBottom"/>
                  <a:pathLst>
                    <a:path w="102" h="107">
                      <a:moveTo>
                        <a:pt x="4" y="35"/>
                      </a:moveTo>
                      <a:cubicBezTo>
                        <a:pt x="9" y="25"/>
                        <a:pt x="27" y="10"/>
                        <a:pt x="37" y="5"/>
                      </a:cubicBezTo>
                      <a:cubicBezTo>
                        <a:pt x="47" y="0"/>
                        <a:pt x="57" y="0"/>
                        <a:pt x="67" y="5"/>
                      </a:cubicBezTo>
                      <a:cubicBezTo>
                        <a:pt x="77" y="10"/>
                        <a:pt x="92" y="25"/>
                        <a:pt x="97" y="35"/>
                      </a:cubicBezTo>
                      <a:cubicBezTo>
                        <a:pt x="102" y="45"/>
                        <a:pt x="101" y="57"/>
                        <a:pt x="97" y="68"/>
                      </a:cubicBezTo>
                      <a:cubicBezTo>
                        <a:pt x="93" y="79"/>
                        <a:pt x="79" y="95"/>
                        <a:pt x="70" y="101"/>
                      </a:cubicBezTo>
                      <a:cubicBezTo>
                        <a:pt x="61" y="107"/>
                        <a:pt x="49" y="105"/>
                        <a:pt x="40" y="104"/>
                      </a:cubicBezTo>
                      <a:cubicBezTo>
                        <a:pt x="31" y="103"/>
                        <a:pt x="19" y="98"/>
                        <a:pt x="13" y="92"/>
                      </a:cubicBezTo>
                      <a:cubicBezTo>
                        <a:pt x="7" y="86"/>
                        <a:pt x="2" y="74"/>
                        <a:pt x="1" y="65"/>
                      </a:cubicBezTo>
                      <a:cubicBezTo>
                        <a:pt x="0" y="56"/>
                        <a:pt x="4" y="41"/>
                        <a:pt x="4" y="35"/>
                      </a:cubicBez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6" name="Freeform 108"/>
                <p:cNvSpPr/>
                <p:nvPr/>
              </p:nvSpPr>
              <p:spPr>
                <a:xfrm>
                  <a:off x="5059440" y="1232640"/>
                  <a:ext cx="145080" cy="142560"/>
                </a:xfrm>
                <a:custGeom>
                  <a:avLst/>
                  <a:gdLst>
                    <a:gd name="textAreaLeft" fmla="*/ 0 w 145080"/>
                    <a:gd name="textAreaRight" fmla="*/ 145440 w 145080"/>
                    <a:gd name="textAreaTop" fmla="*/ 0 h 142560"/>
                    <a:gd name="textAreaBottom" fmla="*/ 142920 h 142560"/>
                  </a:gdLst>
                  <a:ahLst/>
                  <a:rect l="textAreaLeft" t="textAreaTop" r="textAreaRight" b="textAreaBottom"/>
                  <a:pathLst>
                    <a:path w="104" h="104">
                      <a:moveTo>
                        <a:pt x="2" y="32"/>
                      </a:moveTo>
                      <a:cubicBezTo>
                        <a:pt x="6" y="23"/>
                        <a:pt x="17" y="12"/>
                        <a:pt x="29" y="8"/>
                      </a:cubicBezTo>
                      <a:cubicBezTo>
                        <a:pt x="41" y="4"/>
                        <a:pt x="62" y="0"/>
                        <a:pt x="74" y="5"/>
                      </a:cubicBezTo>
                      <a:cubicBezTo>
                        <a:pt x="86" y="10"/>
                        <a:pt x="98" y="27"/>
                        <a:pt x="101" y="38"/>
                      </a:cubicBezTo>
                      <a:cubicBezTo>
                        <a:pt x="104" y="49"/>
                        <a:pt x="99" y="64"/>
                        <a:pt x="95" y="74"/>
                      </a:cubicBezTo>
                      <a:cubicBezTo>
                        <a:pt x="91" y="84"/>
                        <a:pt x="79" y="94"/>
                        <a:pt x="74" y="98"/>
                      </a:cubicBezTo>
                      <a:cubicBezTo>
                        <a:pt x="69" y="102"/>
                        <a:pt x="69" y="97"/>
                        <a:pt x="62" y="98"/>
                      </a:cubicBezTo>
                      <a:cubicBezTo>
                        <a:pt x="55" y="99"/>
                        <a:pt x="41" y="104"/>
                        <a:pt x="32" y="101"/>
                      </a:cubicBezTo>
                      <a:cubicBezTo>
                        <a:pt x="23" y="98"/>
                        <a:pt x="12" y="87"/>
                        <a:pt x="8" y="80"/>
                      </a:cubicBezTo>
                      <a:cubicBezTo>
                        <a:pt x="4" y="73"/>
                        <a:pt x="6" y="70"/>
                        <a:pt x="5" y="62"/>
                      </a:cubicBezTo>
                      <a:cubicBezTo>
                        <a:pt x="4" y="54"/>
                        <a:pt x="0" y="40"/>
                        <a:pt x="2" y="32"/>
                      </a:cubicBez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7" name="Freeform 109"/>
                <p:cNvSpPr/>
                <p:nvPr/>
              </p:nvSpPr>
              <p:spPr>
                <a:xfrm>
                  <a:off x="5272560" y="1346400"/>
                  <a:ext cx="96480" cy="112320"/>
                </a:xfrm>
                <a:custGeom>
                  <a:avLst/>
                  <a:gdLst>
                    <a:gd name="textAreaLeft" fmla="*/ 0 w 96480"/>
                    <a:gd name="textAreaRight" fmla="*/ 96840 w 96480"/>
                    <a:gd name="textAreaTop" fmla="*/ 0 h 112320"/>
                    <a:gd name="textAreaBottom" fmla="*/ 112680 h 112320"/>
                  </a:gdLst>
                  <a:ahLst/>
                  <a:rect l="textAreaLeft" t="textAreaTop" r="textAreaRight" b="textAreaBottom"/>
                  <a:pathLst>
                    <a:path w="70" h="82">
                      <a:moveTo>
                        <a:pt x="60" y="6"/>
                      </a:moveTo>
                      <a:cubicBezTo>
                        <a:pt x="70" y="8"/>
                        <a:pt x="66" y="27"/>
                        <a:pt x="63" y="39"/>
                      </a:cubicBezTo>
                      <a:cubicBezTo>
                        <a:pt x="60" y="51"/>
                        <a:pt x="53" y="82"/>
                        <a:pt x="43" y="81"/>
                      </a:cubicBezTo>
                      <a:cubicBezTo>
                        <a:pt x="33" y="80"/>
                        <a:pt x="0" y="42"/>
                        <a:pt x="3" y="30"/>
                      </a:cubicBezTo>
                      <a:cubicBezTo>
                        <a:pt x="6" y="18"/>
                        <a:pt x="50" y="0"/>
                        <a:pt x="60" y="6"/>
                      </a:cubicBezTo>
                      <a:close/>
                    </a:path>
                  </a:pathLst>
                </a:custGeom>
                <a:solidFill>
                  <a:srgbClr val="fda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8" name="Freeform 110"/>
                <p:cNvSpPr/>
                <p:nvPr/>
              </p:nvSpPr>
              <p:spPr>
                <a:xfrm>
                  <a:off x="5034960" y="1388160"/>
                  <a:ext cx="101880" cy="70560"/>
                </a:xfrm>
                <a:custGeom>
                  <a:avLst/>
                  <a:gdLst>
                    <a:gd name="textAreaLeft" fmla="*/ 0 w 101880"/>
                    <a:gd name="textAreaRight" fmla="*/ 102240 w 101880"/>
                    <a:gd name="textAreaTop" fmla="*/ 0 h 70560"/>
                    <a:gd name="textAreaBottom" fmla="*/ 70920 h 70560"/>
                  </a:gdLst>
                  <a:ahLst/>
                  <a:rect l="textAreaLeft" t="textAreaTop" r="textAreaRight" b="textAreaBottom"/>
                  <a:pathLst>
                    <a:path w="73" h="52">
                      <a:moveTo>
                        <a:pt x="10" y="0"/>
                      </a:moveTo>
                      <a:cubicBezTo>
                        <a:pt x="0" y="1"/>
                        <a:pt x="4" y="25"/>
                        <a:pt x="7" y="33"/>
                      </a:cubicBezTo>
                      <a:cubicBezTo>
                        <a:pt x="10" y="41"/>
                        <a:pt x="18" y="52"/>
                        <a:pt x="28" y="51"/>
                      </a:cubicBezTo>
                      <a:cubicBezTo>
                        <a:pt x="38" y="50"/>
                        <a:pt x="73" y="35"/>
                        <a:pt x="70" y="27"/>
                      </a:cubicBezTo>
                      <a:cubicBezTo>
                        <a:pt x="67" y="19"/>
                        <a:pt x="23" y="0"/>
                        <a:pt x="10" y="0"/>
                      </a:cubicBezTo>
                      <a:close/>
                    </a:path>
                  </a:pathLst>
                </a:custGeom>
                <a:solidFill>
                  <a:srgbClr val="fda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69" name="Freeform 111"/>
            <p:cNvSpPr/>
            <p:nvPr/>
          </p:nvSpPr>
          <p:spPr>
            <a:xfrm>
              <a:off x="5172840" y="1373760"/>
              <a:ext cx="60120" cy="2448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42" h="17">
                  <a:moveTo>
                    <a:pt x="0" y="9"/>
                  </a:moveTo>
                  <a:cubicBezTo>
                    <a:pt x="1" y="9"/>
                    <a:pt x="3" y="16"/>
                    <a:pt x="6" y="15"/>
                  </a:cubicBezTo>
                  <a:cubicBezTo>
                    <a:pt x="9" y="14"/>
                    <a:pt x="16" y="0"/>
                    <a:pt x="21" y="0"/>
                  </a:cubicBezTo>
                  <a:cubicBezTo>
                    <a:pt x="26" y="0"/>
                    <a:pt x="33" y="13"/>
                    <a:pt x="36" y="15"/>
                  </a:cubicBezTo>
                  <a:cubicBezTo>
                    <a:pt x="39" y="17"/>
                    <a:pt x="41" y="13"/>
                    <a:pt x="42" y="1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112"/>
          <p:cNvGrpSpPr/>
          <p:nvPr/>
        </p:nvGrpSpPr>
        <p:grpSpPr>
          <a:xfrm>
            <a:off x="8307360" y="880920"/>
            <a:ext cx="836280" cy="1512720"/>
            <a:chOff x="8307360" y="880920"/>
            <a:chExt cx="836280" cy="1512720"/>
          </a:xfrm>
        </p:grpSpPr>
        <p:grpSp>
          <p:nvGrpSpPr>
            <p:cNvPr id="971" name="Group 113"/>
            <p:cNvGrpSpPr/>
            <p:nvPr/>
          </p:nvGrpSpPr>
          <p:grpSpPr>
            <a:xfrm>
              <a:off x="8307360" y="880920"/>
              <a:ext cx="836280" cy="1512720"/>
              <a:chOff x="8307360" y="880920"/>
              <a:chExt cx="836280" cy="1512720"/>
            </a:xfrm>
          </p:grpSpPr>
          <p:sp>
            <p:nvSpPr>
              <p:cNvPr id="972" name="Freeform 114"/>
              <p:cNvSpPr/>
              <p:nvPr/>
            </p:nvSpPr>
            <p:spPr>
              <a:xfrm>
                <a:off x="8726400" y="1981800"/>
                <a:ext cx="360" cy="347040"/>
              </a:xfrm>
              <a:custGeom>
                <a:avLst/>
                <a:gdLst/>
                <a:ahLst/>
                <a:rect l="l" t="t" r="r" b="b"/>
                <a:pathLst>
                  <a:path w="1" h="256">
                    <a:moveTo>
                      <a:pt x="0" y="0"/>
                    </a:moveTo>
                    <a:lnTo>
                      <a:pt x="0" y="25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Freeform 115"/>
              <p:cNvSpPr/>
              <p:nvPr/>
            </p:nvSpPr>
            <p:spPr>
              <a:xfrm>
                <a:off x="8433720" y="1769760"/>
                <a:ext cx="584640" cy="574920"/>
              </a:xfrm>
              <a:custGeom>
                <a:avLst/>
                <a:gdLst>
                  <a:gd name="textAreaLeft" fmla="*/ 0 w 584640"/>
                  <a:gd name="textAreaRight" fmla="*/ 585000 w 584640"/>
                  <a:gd name="textAreaTop" fmla="*/ 0 h 574920"/>
                  <a:gd name="textAreaBottom" fmla="*/ 575280 h 574920"/>
                </a:gdLst>
                <a:ahLst/>
                <a:rect l="textAreaLeft" t="textAreaTop" r="textAreaRight" b="textAreaBottom"/>
                <a:pathLst>
                  <a:path w="468" h="423">
                    <a:moveTo>
                      <a:pt x="79" y="8"/>
                    </a:moveTo>
                    <a:cubicBezTo>
                      <a:pt x="118" y="0"/>
                      <a:pt x="265" y="8"/>
                      <a:pt x="313" y="8"/>
                    </a:cubicBezTo>
                    <a:cubicBezTo>
                      <a:pt x="361" y="8"/>
                      <a:pt x="355" y="5"/>
                      <a:pt x="367" y="8"/>
                    </a:cubicBezTo>
                    <a:cubicBezTo>
                      <a:pt x="379" y="11"/>
                      <a:pt x="377" y="15"/>
                      <a:pt x="385" y="28"/>
                    </a:cubicBezTo>
                    <a:cubicBezTo>
                      <a:pt x="393" y="41"/>
                      <a:pt x="409" y="67"/>
                      <a:pt x="417" y="84"/>
                    </a:cubicBezTo>
                    <a:cubicBezTo>
                      <a:pt x="425" y="101"/>
                      <a:pt x="425" y="113"/>
                      <a:pt x="433" y="132"/>
                    </a:cubicBezTo>
                    <a:cubicBezTo>
                      <a:pt x="441" y="151"/>
                      <a:pt x="458" y="173"/>
                      <a:pt x="463" y="200"/>
                    </a:cubicBezTo>
                    <a:cubicBezTo>
                      <a:pt x="468" y="227"/>
                      <a:pt x="467" y="271"/>
                      <a:pt x="463" y="296"/>
                    </a:cubicBezTo>
                    <a:cubicBezTo>
                      <a:pt x="459" y="321"/>
                      <a:pt x="443" y="330"/>
                      <a:pt x="437" y="348"/>
                    </a:cubicBezTo>
                    <a:cubicBezTo>
                      <a:pt x="431" y="366"/>
                      <a:pt x="431" y="392"/>
                      <a:pt x="429" y="404"/>
                    </a:cubicBezTo>
                    <a:cubicBezTo>
                      <a:pt x="427" y="416"/>
                      <a:pt x="431" y="423"/>
                      <a:pt x="425" y="420"/>
                    </a:cubicBezTo>
                    <a:cubicBezTo>
                      <a:pt x="419" y="417"/>
                      <a:pt x="402" y="396"/>
                      <a:pt x="393" y="388"/>
                    </a:cubicBezTo>
                    <a:cubicBezTo>
                      <a:pt x="384" y="380"/>
                      <a:pt x="382" y="377"/>
                      <a:pt x="369" y="372"/>
                    </a:cubicBezTo>
                    <a:cubicBezTo>
                      <a:pt x="356" y="367"/>
                      <a:pt x="333" y="359"/>
                      <a:pt x="317" y="360"/>
                    </a:cubicBezTo>
                    <a:cubicBezTo>
                      <a:pt x="301" y="361"/>
                      <a:pt x="286" y="372"/>
                      <a:pt x="273" y="380"/>
                    </a:cubicBezTo>
                    <a:cubicBezTo>
                      <a:pt x="260" y="388"/>
                      <a:pt x="245" y="406"/>
                      <a:pt x="237" y="408"/>
                    </a:cubicBezTo>
                    <a:cubicBezTo>
                      <a:pt x="229" y="410"/>
                      <a:pt x="235" y="399"/>
                      <a:pt x="223" y="392"/>
                    </a:cubicBezTo>
                    <a:cubicBezTo>
                      <a:pt x="211" y="385"/>
                      <a:pt x="185" y="372"/>
                      <a:pt x="165" y="368"/>
                    </a:cubicBezTo>
                    <a:cubicBezTo>
                      <a:pt x="145" y="364"/>
                      <a:pt x="120" y="363"/>
                      <a:pt x="105" y="368"/>
                    </a:cubicBezTo>
                    <a:cubicBezTo>
                      <a:pt x="90" y="373"/>
                      <a:pt x="82" y="393"/>
                      <a:pt x="73" y="400"/>
                    </a:cubicBezTo>
                    <a:cubicBezTo>
                      <a:pt x="64" y="407"/>
                      <a:pt x="56" y="413"/>
                      <a:pt x="49" y="412"/>
                    </a:cubicBezTo>
                    <a:cubicBezTo>
                      <a:pt x="42" y="411"/>
                      <a:pt x="37" y="404"/>
                      <a:pt x="31" y="392"/>
                    </a:cubicBezTo>
                    <a:cubicBezTo>
                      <a:pt x="25" y="380"/>
                      <a:pt x="18" y="360"/>
                      <a:pt x="13" y="340"/>
                    </a:cubicBezTo>
                    <a:cubicBezTo>
                      <a:pt x="8" y="320"/>
                      <a:pt x="2" y="293"/>
                      <a:pt x="1" y="272"/>
                    </a:cubicBezTo>
                    <a:cubicBezTo>
                      <a:pt x="0" y="251"/>
                      <a:pt x="0" y="232"/>
                      <a:pt x="5" y="212"/>
                    </a:cubicBezTo>
                    <a:cubicBezTo>
                      <a:pt x="10" y="192"/>
                      <a:pt x="22" y="171"/>
                      <a:pt x="31" y="152"/>
                    </a:cubicBezTo>
                    <a:cubicBezTo>
                      <a:pt x="40" y="133"/>
                      <a:pt x="49" y="124"/>
                      <a:pt x="57" y="100"/>
                    </a:cubicBezTo>
                    <a:cubicBezTo>
                      <a:pt x="65" y="76"/>
                      <a:pt x="75" y="27"/>
                      <a:pt x="79" y="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50000">
                    <a:srgbClr val="000099"/>
                  </a:gs>
                  <a:gs pos="100000">
                    <a:srgbClr val="0066cc"/>
                  </a:gs>
                </a:gsLst>
                <a:lin ang="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Freeform 116"/>
              <p:cNvSpPr/>
              <p:nvPr/>
            </p:nvSpPr>
            <p:spPr>
              <a:xfrm>
                <a:off x="8713440" y="1779840"/>
                <a:ext cx="59040" cy="195840"/>
              </a:xfrm>
              <a:custGeom>
                <a:avLst/>
                <a:gdLst>
                  <a:gd name="textAreaLeft" fmla="*/ 0 w 59040"/>
                  <a:gd name="textAreaRight" fmla="*/ 59400 w 59040"/>
                  <a:gd name="textAreaTop" fmla="*/ 0 h 195840"/>
                  <a:gd name="textAreaBottom" fmla="*/ 196200 h 195840"/>
                </a:gdLst>
                <a:ahLst/>
                <a:rect l="textAreaLeft" t="textAreaTop" r="textAreaRight" b="textAreaBottom"/>
                <a:pathLst>
                  <a:path w="48" h="144">
                    <a:moveTo>
                      <a:pt x="0" y="0"/>
                    </a:moveTo>
                    <a:lnTo>
                      <a:pt x="48" y="0"/>
                    </a:lnTo>
                    <a:lnTo>
                      <a:pt x="48" y="144"/>
                    </a:lnTo>
                    <a:lnTo>
                      <a:pt x="0" y="14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Freeform 117"/>
              <p:cNvSpPr/>
              <p:nvPr/>
            </p:nvSpPr>
            <p:spPr>
              <a:xfrm>
                <a:off x="8825760" y="1774080"/>
                <a:ext cx="159480" cy="195480"/>
              </a:xfrm>
              <a:custGeom>
                <a:avLst/>
                <a:gdLst>
                  <a:gd name="textAreaLeft" fmla="*/ 0 w 159480"/>
                  <a:gd name="textAreaRight" fmla="*/ 159840 w 159480"/>
                  <a:gd name="textAreaTop" fmla="*/ 0 h 195480"/>
                  <a:gd name="textAreaBottom" fmla="*/ 195840 h 195480"/>
                </a:gdLst>
                <a:ahLst/>
                <a:rect l="textAreaLeft" t="textAreaTop" r="textAreaRight" b="textAreaBottom"/>
                <a:pathLst>
                  <a:path w="128" h="144">
                    <a:moveTo>
                      <a:pt x="127" y="133"/>
                    </a:moveTo>
                    <a:lnTo>
                      <a:pt x="128" y="144"/>
                    </a:lnTo>
                    <a:lnTo>
                      <a:pt x="0" y="4"/>
                    </a:lnTo>
                    <a:lnTo>
                      <a:pt x="60" y="0"/>
                    </a:lnTo>
                    <a:lnTo>
                      <a:pt x="127" y="133"/>
                    </a:lnTo>
                    <a:close/>
                  </a:path>
                </a:pathLst>
              </a:custGeom>
              <a:solidFill>
                <a:srgbClr val="0000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Freeform 118"/>
              <p:cNvSpPr/>
              <p:nvPr/>
            </p:nvSpPr>
            <p:spPr>
              <a:xfrm>
                <a:off x="8480160" y="1769760"/>
                <a:ext cx="129240" cy="205920"/>
              </a:xfrm>
              <a:custGeom>
                <a:avLst/>
                <a:gdLst>
                  <a:gd name="textAreaLeft" fmla="*/ 0 w 129240"/>
                  <a:gd name="textAreaRight" fmla="*/ 129600 w 129240"/>
                  <a:gd name="textAreaTop" fmla="*/ 0 h 205920"/>
                  <a:gd name="textAreaBottom" fmla="*/ 206280 h 205920"/>
                </a:gdLst>
                <a:ahLst/>
                <a:rect l="textAreaLeft" t="textAreaTop" r="textAreaRight" b="textAreaBottom"/>
                <a:pathLst>
                  <a:path w="104" h="152">
                    <a:moveTo>
                      <a:pt x="0" y="152"/>
                    </a:moveTo>
                    <a:lnTo>
                      <a:pt x="8" y="136"/>
                    </a:lnTo>
                    <a:lnTo>
                      <a:pt x="44" y="0"/>
                    </a:lnTo>
                    <a:lnTo>
                      <a:pt x="104" y="8"/>
                    </a:lnTo>
                    <a:lnTo>
                      <a:pt x="0" y="152"/>
                    </a:lnTo>
                    <a:close/>
                  </a:path>
                </a:pathLst>
              </a:custGeom>
              <a:solidFill>
                <a:srgbClr val="0000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Freeform 119"/>
              <p:cNvSpPr/>
              <p:nvPr/>
            </p:nvSpPr>
            <p:spPr>
              <a:xfrm>
                <a:off x="8524800" y="1491480"/>
                <a:ext cx="391680" cy="292680"/>
              </a:xfrm>
              <a:custGeom>
                <a:avLst/>
                <a:gdLst>
                  <a:gd name="textAreaLeft" fmla="*/ 0 w 391680"/>
                  <a:gd name="textAreaRight" fmla="*/ 392040 w 391680"/>
                  <a:gd name="textAreaTop" fmla="*/ 0 h 292680"/>
                  <a:gd name="textAreaBottom" fmla="*/ 293040 h 292680"/>
                </a:gdLst>
                <a:ahLst/>
                <a:rect l="textAreaLeft" t="textAreaTop" r="textAreaRight" b="textAreaBottom"/>
                <a:pathLst>
                  <a:path w="313" h="215">
                    <a:moveTo>
                      <a:pt x="6" y="212"/>
                    </a:moveTo>
                    <a:cubicBezTo>
                      <a:pt x="13" y="215"/>
                      <a:pt x="1" y="209"/>
                      <a:pt x="44" y="208"/>
                    </a:cubicBezTo>
                    <a:cubicBezTo>
                      <a:pt x="87" y="207"/>
                      <a:pt x="221" y="205"/>
                      <a:pt x="264" y="204"/>
                    </a:cubicBezTo>
                    <a:cubicBezTo>
                      <a:pt x="307" y="203"/>
                      <a:pt x="296" y="213"/>
                      <a:pt x="304" y="204"/>
                    </a:cubicBezTo>
                    <a:cubicBezTo>
                      <a:pt x="312" y="195"/>
                      <a:pt x="311" y="171"/>
                      <a:pt x="312" y="152"/>
                    </a:cubicBezTo>
                    <a:cubicBezTo>
                      <a:pt x="313" y="133"/>
                      <a:pt x="313" y="111"/>
                      <a:pt x="308" y="92"/>
                    </a:cubicBezTo>
                    <a:cubicBezTo>
                      <a:pt x="303" y="73"/>
                      <a:pt x="294" y="52"/>
                      <a:pt x="284" y="40"/>
                    </a:cubicBezTo>
                    <a:cubicBezTo>
                      <a:pt x="274" y="28"/>
                      <a:pt x="261" y="26"/>
                      <a:pt x="248" y="20"/>
                    </a:cubicBezTo>
                    <a:cubicBezTo>
                      <a:pt x="235" y="14"/>
                      <a:pt x="219" y="0"/>
                      <a:pt x="204" y="4"/>
                    </a:cubicBezTo>
                    <a:cubicBezTo>
                      <a:pt x="189" y="8"/>
                      <a:pt x="169" y="37"/>
                      <a:pt x="160" y="44"/>
                    </a:cubicBezTo>
                    <a:cubicBezTo>
                      <a:pt x="151" y="51"/>
                      <a:pt x="161" y="50"/>
                      <a:pt x="152" y="44"/>
                    </a:cubicBezTo>
                    <a:cubicBezTo>
                      <a:pt x="143" y="38"/>
                      <a:pt x="120" y="13"/>
                      <a:pt x="108" y="8"/>
                    </a:cubicBezTo>
                    <a:cubicBezTo>
                      <a:pt x="96" y="3"/>
                      <a:pt x="91" y="9"/>
                      <a:pt x="80" y="16"/>
                    </a:cubicBezTo>
                    <a:cubicBezTo>
                      <a:pt x="69" y="23"/>
                      <a:pt x="55" y="37"/>
                      <a:pt x="44" y="48"/>
                    </a:cubicBezTo>
                    <a:cubicBezTo>
                      <a:pt x="33" y="59"/>
                      <a:pt x="22" y="73"/>
                      <a:pt x="16" y="84"/>
                    </a:cubicBezTo>
                    <a:cubicBezTo>
                      <a:pt x="10" y="95"/>
                      <a:pt x="8" y="103"/>
                      <a:pt x="6" y="116"/>
                    </a:cubicBezTo>
                    <a:cubicBezTo>
                      <a:pt x="4" y="129"/>
                      <a:pt x="7" y="151"/>
                      <a:pt x="6" y="164"/>
                    </a:cubicBezTo>
                    <a:cubicBezTo>
                      <a:pt x="5" y="177"/>
                      <a:pt x="0" y="184"/>
                      <a:pt x="0" y="192"/>
                    </a:cubicBezTo>
                    <a:cubicBezTo>
                      <a:pt x="0" y="200"/>
                      <a:pt x="2" y="209"/>
                      <a:pt x="6" y="212"/>
                    </a:cubicBezTo>
                    <a:close/>
                  </a:path>
                </a:pathLst>
              </a:custGeom>
              <a:solidFill>
                <a:srgbClr val="c58bf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Freeform 120"/>
              <p:cNvSpPr/>
              <p:nvPr/>
            </p:nvSpPr>
            <p:spPr>
              <a:xfrm>
                <a:off x="8832960" y="1488960"/>
                <a:ext cx="245880" cy="43344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433440"/>
                  <a:gd name="textAreaBottom" fmla="*/ 433800 h 433440"/>
                </a:gdLst>
                <a:ahLst/>
                <a:rect l="textAreaLeft" t="textAreaTop" r="textAreaRight" b="textAreaBottom"/>
                <a:pathLst>
                  <a:path w="198" h="320">
                    <a:moveTo>
                      <a:pt x="0" y="23"/>
                    </a:moveTo>
                    <a:cubicBezTo>
                      <a:pt x="8" y="16"/>
                      <a:pt x="48" y="0"/>
                      <a:pt x="74" y="7"/>
                    </a:cubicBezTo>
                    <a:cubicBezTo>
                      <a:pt x="100" y="14"/>
                      <a:pt x="139" y="46"/>
                      <a:pt x="154" y="67"/>
                    </a:cubicBezTo>
                    <a:cubicBezTo>
                      <a:pt x="169" y="88"/>
                      <a:pt x="163" y="116"/>
                      <a:pt x="166" y="135"/>
                    </a:cubicBezTo>
                    <a:cubicBezTo>
                      <a:pt x="169" y="154"/>
                      <a:pt x="168" y="161"/>
                      <a:pt x="170" y="179"/>
                    </a:cubicBezTo>
                    <a:cubicBezTo>
                      <a:pt x="172" y="197"/>
                      <a:pt x="174" y="229"/>
                      <a:pt x="178" y="243"/>
                    </a:cubicBezTo>
                    <a:cubicBezTo>
                      <a:pt x="182" y="257"/>
                      <a:pt x="198" y="252"/>
                      <a:pt x="192" y="263"/>
                    </a:cubicBezTo>
                    <a:cubicBezTo>
                      <a:pt x="186" y="274"/>
                      <a:pt x="156" y="302"/>
                      <a:pt x="144" y="311"/>
                    </a:cubicBezTo>
                    <a:cubicBezTo>
                      <a:pt x="132" y="320"/>
                      <a:pt x="126" y="319"/>
                      <a:pt x="118" y="315"/>
                    </a:cubicBezTo>
                    <a:cubicBezTo>
                      <a:pt x="110" y="311"/>
                      <a:pt x="108" y="303"/>
                      <a:pt x="98" y="287"/>
                    </a:cubicBezTo>
                    <a:cubicBezTo>
                      <a:pt x="88" y="271"/>
                      <a:pt x="63" y="236"/>
                      <a:pt x="58" y="219"/>
                    </a:cubicBezTo>
                    <a:cubicBezTo>
                      <a:pt x="53" y="202"/>
                      <a:pt x="65" y="199"/>
                      <a:pt x="66" y="183"/>
                    </a:cubicBezTo>
                    <a:cubicBezTo>
                      <a:pt x="67" y="167"/>
                      <a:pt x="69" y="142"/>
                      <a:pt x="66" y="123"/>
                    </a:cubicBezTo>
                    <a:cubicBezTo>
                      <a:pt x="63" y="104"/>
                      <a:pt x="53" y="85"/>
                      <a:pt x="48" y="71"/>
                    </a:cubicBezTo>
                    <a:cubicBezTo>
                      <a:pt x="43" y="57"/>
                      <a:pt x="42" y="47"/>
                      <a:pt x="34" y="39"/>
                    </a:cubicBezTo>
                    <a:cubicBezTo>
                      <a:pt x="26" y="31"/>
                      <a:pt x="7" y="26"/>
                      <a:pt x="0" y="23"/>
                    </a:cubicBezTo>
                    <a:close/>
                  </a:path>
                </a:pathLst>
              </a:custGeom>
              <a:solidFill>
                <a:srgbClr val="c58bf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Freeform 121"/>
              <p:cNvSpPr/>
              <p:nvPr/>
            </p:nvSpPr>
            <p:spPr>
              <a:xfrm>
                <a:off x="8959680" y="1769760"/>
                <a:ext cx="125280" cy="155880"/>
              </a:xfrm>
              <a:custGeom>
                <a:avLst/>
                <a:gdLst>
                  <a:gd name="textAreaLeft" fmla="*/ 0 w 125280"/>
                  <a:gd name="textAreaRight" fmla="*/ 125640 w 125280"/>
                  <a:gd name="textAreaTop" fmla="*/ 0 h 155880"/>
                  <a:gd name="textAreaBottom" fmla="*/ 156240 h 155880"/>
                </a:gdLst>
                <a:ahLst/>
                <a:rect l="textAreaLeft" t="textAreaTop" r="textAreaRight" b="textAreaBottom"/>
                <a:pathLst>
                  <a:path w="100" h="116">
                    <a:moveTo>
                      <a:pt x="76" y="4"/>
                    </a:moveTo>
                    <a:lnTo>
                      <a:pt x="76" y="0"/>
                    </a:lnTo>
                    <a:lnTo>
                      <a:pt x="100" y="56"/>
                    </a:lnTo>
                    <a:lnTo>
                      <a:pt x="28" y="116"/>
                    </a:lnTo>
                    <a:lnTo>
                      <a:pt x="0" y="80"/>
                    </a:lnTo>
                    <a:lnTo>
                      <a:pt x="76" y="4"/>
                    </a:lnTo>
                    <a:close/>
                  </a:path>
                </a:pathLst>
              </a:custGeom>
              <a:solidFill>
                <a:srgbClr val="c58bf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Freeform 122"/>
              <p:cNvSpPr/>
              <p:nvPr/>
            </p:nvSpPr>
            <p:spPr>
              <a:xfrm>
                <a:off x="8349120" y="1494360"/>
                <a:ext cx="277560" cy="438120"/>
              </a:xfrm>
              <a:custGeom>
                <a:avLst/>
                <a:gdLst>
                  <a:gd name="textAreaLeft" fmla="*/ 0 w 277560"/>
                  <a:gd name="textAreaRight" fmla="*/ 277920 w 277560"/>
                  <a:gd name="textAreaTop" fmla="*/ 0 h 438120"/>
                  <a:gd name="textAreaBottom" fmla="*/ 438480 h 438120"/>
                </a:gdLst>
                <a:ahLst/>
                <a:rect l="textAreaLeft" t="textAreaTop" r="textAreaRight" b="textAreaBottom"/>
                <a:pathLst>
                  <a:path w="222" h="322">
                    <a:moveTo>
                      <a:pt x="221" y="24"/>
                    </a:moveTo>
                    <a:cubicBezTo>
                      <a:pt x="222" y="15"/>
                      <a:pt x="202" y="4"/>
                      <a:pt x="185" y="2"/>
                    </a:cubicBezTo>
                    <a:cubicBezTo>
                      <a:pt x="168" y="0"/>
                      <a:pt x="144" y="0"/>
                      <a:pt x="121" y="10"/>
                    </a:cubicBezTo>
                    <a:cubicBezTo>
                      <a:pt x="98" y="20"/>
                      <a:pt x="61" y="40"/>
                      <a:pt x="47" y="60"/>
                    </a:cubicBezTo>
                    <a:cubicBezTo>
                      <a:pt x="33" y="80"/>
                      <a:pt x="38" y="109"/>
                      <a:pt x="35" y="128"/>
                    </a:cubicBezTo>
                    <a:cubicBezTo>
                      <a:pt x="32" y="147"/>
                      <a:pt x="33" y="154"/>
                      <a:pt x="31" y="172"/>
                    </a:cubicBezTo>
                    <a:cubicBezTo>
                      <a:pt x="29" y="190"/>
                      <a:pt x="27" y="222"/>
                      <a:pt x="23" y="236"/>
                    </a:cubicBezTo>
                    <a:cubicBezTo>
                      <a:pt x="19" y="250"/>
                      <a:pt x="0" y="246"/>
                      <a:pt x="9" y="256"/>
                    </a:cubicBezTo>
                    <a:cubicBezTo>
                      <a:pt x="18" y="266"/>
                      <a:pt x="59" y="288"/>
                      <a:pt x="77" y="298"/>
                    </a:cubicBezTo>
                    <a:cubicBezTo>
                      <a:pt x="95" y="308"/>
                      <a:pt x="109" y="322"/>
                      <a:pt x="117" y="318"/>
                    </a:cubicBezTo>
                    <a:cubicBezTo>
                      <a:pt x="125" y="314"/>
                      <a:pt x="121" y="292"/>
                      <a:pt x="125" y="274"/>
                    </a:cubicBezTo>
                    <a:cubicBezTo>
                      <a:pt x="129" y="256"/>
                      <a:pt x="140" y="228"/>
                      <a:pt x="143" y="212"/>
                    </a:cubicBezTo>
                    <a:cubicBezTo>
                      <a:pt x="146" y="196"/>
                      <a:pt x="145" y="189"/>
                      <a:pt x="145" y="178"/>
                    </a:cubicBezTo>
                    <a:cubicBezTo>
                      <a:pt x="145" y="167"/>
                      <a:pt x="143" y="164"/>
                      <a:pt x="145" y="148"/>
                    </a:cubicBezTo>
                    <a:cubicBezTo>
                      <a:pt x="147" y="132"/>
                      <a:pt x="154" y="97"/>
                      <a:pt x="157" y="84"/>
                    </a:cubicBezTo>
                    <a:cubicBezTo>
                      <a:pt x="160" y="71"/>
                      <a:pt x="161" y="77"/>
                      <a:pt x="165" y="72"/>
                    </a:cubicBezTo>
                    <a:cubicBezTo>
                      <a:pt x="169" y="67"/>
                      <a:pt x="172" y="64"/>
                      <a:pt x="181" y="56"/>
                    </a:cubicBezTo>
                    <a:cubicBezTo>
                      <a:pt x="190" y="48"/>
                      <a:pt x="213" y="31"/>
                      <a:pt x="221" y="24"/>
                    </a:cubicBezTo>
                    <a:close/>
                  </a:path>
                </a:pathLst>
              </a:custGeom>
              <a:solidFill>
                <a:srgbClr val="c58bf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Freeform 123"/>
              <p:cNvSpPr/>
              <p:nvPr/>
            </p:nvSpPr>
            <p:spPr>
              <a:xfrm>
                <a:off x="8366400" y="1779840"/>
                <a:ext cx="139680" cy="141120"/>
              </a:xfrm>
              <a:custGeom>
                <a:avLst/>
                <a:gdLst>
                  <a:gd name="textAreaLeft" fmla="*/ 0 w 139680"/>
                  <a:gd name="textAreaRight" fmla="*/ 140040 w 1396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112" h="104">
                    <a:moveTo>
                      <a:pt x="20" y="0"/>
                    </a:moveTo>
                    <a:lnTo>
                      <a:pt x="16" y="0"/>
                    </a:lnTo>
                    <a:lnTo>
                      <a:pt x="0" y="44"/>
                    </a:lnTo>
                    <a:lnTo>
                      <a:pt x="100" y="104"/>
                    </a:lnTo>
                    <a:lnTo>
                      <a:pt x="112" y="64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c58bf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Freeform 124"/>
              <p:cNvSpPr/>
              <p:nvPr/>
            </p:nvSpPr>
            <p:spPr>
              <a:xfrm>
                <a:off x="8608320" y="1454400"/>
                <a:ext cx="105120" cy="129600"/>
              </a:xfrm>
              <a:custGeom>
                <a:avLst/>
                <a:gdLst>
                  <a:gd name="textAreaLeft" fmla="*/ 0 w 105120"/>
                  <a:gd name="textAreaRight" fmla="*/ 105480 w 105120"/>
                  <a:gd name="textAreaTop" fmla="*/ 0 h 129600"/>
                  <a:gd name="textAreaBottom" fmla="*/ 129960 h 129600"/>
                </a:gdLst>
                <a:ahLst/>
                <a:rect l="textAreaLeft" t="textAreaTop" r="textAreaRight" b="textAreaBottom"/>
                <a:pathLst>
                  <a:path w="84" h="96">
                    <a:moveTo>
                      <a:pt x="40" y="0"/>
                    </a:moveTo>
                    <a:cubicBezTo>
                      <a:pt x="34" y="12"/>
                      <a:pt x="43" y="12"/>
                      <a:pt x="28" y="12"/>
                    </a:cubicBezTo>
                    <a:lnTo>
                      <a:pt x="0" y="28"/>
                    </a:lnTo>
                    <a:lnTo>
                      <a:pt x="56" y="96"/>
                    </a:lnTo>
                    <a:lnTo>
                      <a:pt x="84" y="60"/>
                    </a:lnTo>
                    <a:lnTo>
                      <a:pt x="32" y="8"/>
                    </a:lnTo>
                  </a:path>
                </a:pathLst>
              </a:custGeom>
              <a:solidFill>
                <a:srgbClr val="c58bf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Freeform 125"/>
              <p:cNvSpPr/>
              <p:nvPr/>
            </p:nvSpPr>
            <p:spPr>
              <a:xfrm flipH="1">
                <a:off x="8712720" y="1454400"/>
                <a:ext cx="103320" cy="129600"/>
              </a:xfrm>
              <a:custGeom>
                <a:avLst/>
                <a:gdLst>
                  <a:gd name="textAreaLeft" fmla="*/ -360 w 103320"/>
                  <a:gd name="textAreaRight" fmla="*/ 103320 w 103320"/>
                  <a:gd name="textAreaTop" fmla="*/ 0 h 129600"/>
                  <a:gd name="textAreaBottom" fmla="*/ 129960 h 129600"/>
                </a:gdLst>
                <a:ahLst/>
                <a:rect l="textAreaLeft" t="textAreaTop" r="textAreaRight" b="textAreaBottom"/>
                <a:pathLst>
                  <a:path w="84" h="96">
                    <a:moveTo>
                      <a:pt x="40" y="0"/>
                    </a:moveTo>
                    <a:cubicBezTo>
                      <a:pt x="34" y="12"/>
                      <a:pt x="43" y="12"/>
                      <a:pt x="28" y="12"/>
                    </a:cubicBezTo>
                    <a:lnTo>
                      <a:pt x="0" y="28"/>
                    </a:lnTo>
                    <a:lnTo>
                      <a:pt x="56" y="96"/>
                    </a:lnTo>
                    <a:lnTo>
                      <a:pt x="84" y="60"/>
                    </a:lnTo>
                    <a:lnTo>
                      <a:pt x="32" y="8"/>
                    </a:lnTo>
                  </a:path>
                </a:pathLst>
              </a:custGeom>
              <a:solidFill>
                <a:srgbClr val="c58bf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Freeform 126"/>
              <p:cNvSpPr/>
              <p:nvPr/>
            </p:nvSpPr>
            <p:spPr>
              <a:xfrm>
                <a:off x="8722080" y="1779840"/>
                <a:ext cx="8640" cy="54180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541800"/>
                  <a:gd name="textAreaBottom" fmla="*/ 542160 h 541800"/>
                </a:gdLst>
                <a:ahLst/>
                <a:rect l="textAreaLeft" t="textAreaTop" r="textAreaRight" b="textAreaBottom"/>
                <a:pathLst>
                  <a:path w="8" h="400">
                    <a:moveTo>
                      <a:pt x="0" y="0"/>
                    </a:moveTo>
                    <a:lnTo>
                      <a:pt x="8" y="40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Freeform 127"/>
              <p:cNvSpPr/>
              <p:nvPr/>
            </p:nvSpPr>
            <p:spPr>
              <a:xfrm>
                <a:off x="8716320" y="1546560"/>
                <a:ext cx="1080" cy="21600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16000"/>
                  <a:gd name="textAreaBottom" fmla="*/ 216360 h 216000"/>
                </a:gdLst>
                <a:ahLst/>
                <a:rect l="textAreaLeft" t="textAreaTop" r="textAreaRight" b="textAreaBottom"/>
                <a:pathLst>
                  <a:path w="1" h="160">
                    <a:moveTo>
                      <a:pt x="0" y="0"/>
                    </a:moveTo>
                    <a:lnTo>
                      <a:pt x="0" y="16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Freeform 128"/>
              <p:cNvSpPr/>
              <p:nvPr/>
            </p:nvSpPr>
            <p:spPr>
              <a:xfrm>
                <a:off x="8493120" y="2264040"/>
                <a:ext cx="491040" cy="129600"/>
              </a:xfrm>
              <a:custGeom>
                <a:avLst/>
                <a:gdLst>
                  <a:gd name="textAreaLeft" fmla="*/ 0 w 491040"/>
                  <a:gd name="textAreaRight" fmla="*/ 491400 w 491040"/>
                  <a:gd name="textAreaTop" fmla="*/ 0 h 129600"/>
                  <a:gd name="textAreaBottom" fmla="*/ 129960 h 129600"/>
                </a:gdLst>
                <a:ahLst/>
                <a:rect l="textAreaLeft" t="textAreaTop" r="textAreaRight" b="textAreaBottom"/>
                <a:pathLst>
                  <a:path w="352" h="95">
                    <a:moveTo>
                      <a:pt x="10" y="49"/>
                    </a:moveTo>
                    <a:cubicBezTo>
                      <a:pt x="0" y="62"/>
                      <a:pt x="3" y="80"/>
                      <a:pt x="11" y="86"/>
                    </a:cubicBezTo>
                    <a:cubicBezTo>
                      <a:pt x="19" y="92"/>
                      <a:pt x="31" y="86"/>
                      <a:pt x="59" y="86"/>
                    </a:cubicBezTo>
                    <a:cubicBezTo>
                      <a:pt x="87" y="86"/>
                      <a:pt x="136" y="88"/>
                      <a:pt x="181" y="88"/>
                    </a:cubicBezTo>
                    <a:cubicBezTo>
                      <a:pt x="226" y="88"/>
                      <a:pt x="304" y="95"/>
                      <a:pt x="328" y="88"/>
                    </a:cubicBezTo>
                    <a:cubicBezTo>
                      <a:pt x="352" y="81"/>
                      <a:pt x="339" y="58"/>
                      <a:pt x="325" y="43"/>
                    </a:cubicBezTo>
                    <a:cubicBezTo>
                      <a:pt x="311" y="28"/>
                      <a:pt x="268" y="2"/>
                      <a:pt x="244" y="1"/>
                    </a:cubicBezTo>
                    <a:cubicBezTo>
                      <a:pt x="220" y="0"/>
                      <a:pt x="191" y="26"/>
                      <a:pt x="181" y="40"/>
                    </a:cubicBezTo>
                    <a:cubicBezTo>
                      <a:pt x="171" y="54"/>
                      <a:pt x="191" y="86"/>
                      <a:pt x="187" y="85"/>
                    </a:cubicBezTo>
                    <a:cubicBezTo>
                      <a:pt x="183" y="84"/>
                      <a:pt x="173" y="47"/>
                      <a:pt x="154" y="34"/>
                    </a:cubicBezTo>
                    <a:cubicBezTo>
                      <a:pt x="135" y="21"/>
                      <a:pt x="94" y="4"/>
                      <a:pt x="70" y="7"/>
                    </a:cubicBezTo>
                    <a:cubicBezTo>
                      <a:pt x="46" y="10"/>
                      <a:pt x="20" y="36"/>
                      <a:pt x="10" y="49"/>
                    </a:cubicBezTo>
                    <a:close/>
                  </a:path>
                </a:pathLst>
              </a:custGeom>
              <a:blipFill rotWithShape="0">
                <a:blip r:embed="rId1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87" name="Group 129"/>
              <p:cNvGrpSpPr/>
              <p:nvPr/>
            </p:nvGrpSpPr>
            <p:grpSpPr>
              <a:xfrm>
                <a:off x="8307360" y="880920"/>
                <a:ext cx="836280" cy="1136520"/>
                <a:chOff x="8307360" y="880920"/>
                <a:chExt cx="836280" cy="1136520"/>
              </a:xfrm>
            </p:grpSpPr>
            <p:sp>
              <p:nvSpPr>
                <p:cNvPr id="988" name="Freeform 130"/>
                <p:cNvSpPr/>
                <p:nvPr/>
              </p:nvSpPr>
              <p:spPr>
                <a:xfrm>
                  <a:off x="8438400" y="880920"/>
                  <a:ext cx="556920" cy="413280"/>
                </a:xfrm>
                <a:custGeom>
                  <a:avLst/>
                  <a:gdLst>
                    <a:gd name="textAreaLeft" fmla="*/ 0 w 556920"/>
                    <a:gd name="textAreaRight" fmla="*/ 557280 w 556920"/>
                    <a:gd name="textAreaTop" fmla="*/ 0 h 413280"/>
                    <a:gd name="textAreaBottom" fmla="*/ 413640 h 413280"/>
                  </a:gdLst>
                  <a:ahLst/>
                  <a:rect l="textAreaLeft" t="textAreaTop" r="textAreaRight" b="textAreaBottom"/>
                  <a:pathLst>
                    <a:path w="400" h="301">
                      <a:moveTo>
                        <a:pt x="378" y="286"/>
                      </a:moveTo>
                      <a:cubicBezTo>
                        <a:pt x="381" y="275"/>
                        <a:pt x="398" y="234"/>
                        <a:pt x="399" y="220"/>
                      </a:cubicBezTo>
                      <a:cubicBezTo>
                        <a:pt x="400" y="206"/>
                        <a:pt x="386" y="211"/>
                        <a:pt x="384" y="202"/>
                      </a:cubicBezTo>
                      <a:cubicBezTo>
                        <a:pt x="382" y="193"/>
                        <a:pt x="391" y="174"/>
                        <a:pt x="387" y="166"/>
                      </a:cubicBezTo>
                      <a:cubicBezTo>
                        <a:pt x="383" y="158"/>
                        <a:pt x="363" y="158"/>
                        <a:pt x="360" y="151"/>
                      </a:cubicBezTo>
                      <a:cubicBezTo>
                        <a:pt x="357" y="144"/>
                        <a:pt x="367" y="125"/>
                        <a:pt x="366" y="121"/>
                      </a:cubicBezTo>
                      <a:cubicBezTo>
                        <a:pt x="365" y="117"/>
                        <a:pt x="363" y="133"/>
                        <a:pt x="351" y="124"/>
                      </a:cubicBezTo>
                      <a:cubicBezTo>
                        <a:pt x="339" y="115"/>
                        <a:pt x="308" y="77"/>
                        <a:pt x="294" y="67"/>
                      </a:cubicBezTo>
                      <a:cubicBezTo>
                        <a:pt x="280" y="57"/>
                        <a:pt x="275" y="66"/>
                        <a:pt x="267" y="64"/>
                      </a:cubicBezTo>
                      <a:cubicBezTo>
                        <a:pt x="259" y="62"/>
                        <a:pt x="248" y="59"/>
                        <a:pt x="247" y="53"/>
                      </a:cubicBezTo>
                      <a:cubicBezTo>
                        <a:pt x="246" y="47"/>
                        <a:pt x="255" y="32"/>
                        <a:pt x="261" y="28"/>
                      </a:cubicBezTo>
                      <a:cubicBezTo>
                        <a:pt x="267" y="24"/>
                        <a:pt x="282" y="35"/>
                        <a:pt x="282" y="31"/>
                      </a:cubicBezTo>
                      <a:cubicBezTo>
                        <a:pt x="282" y="27"/>
                        <a:pt x="273" y="0"/>
                        <a:pt x="264" y="1"/>
                      </a:cubicBezTo>
                      <a:cubicBezTo>
                        <a:pt x="255" y="2"/>
                        <a:pt x="235" y="31"/>
                        <a:pt x="228" y="40"/>
                      </a:cubicBezTo>
                      <a:cubicBezTo>
                        <a:pt x="221" y="49"/>
                        <a:pt x="225" y="60"/>
                        <a:pt x="219" y="55"/>
                      </a:cubicBezTo>
                      <a:cubicBezTo>
                        <a:pt x="213" y="50"/>
                        <a:pt x="197" y="15"/>
                        <a:pt x="192" y="10"/>
                      </a:cubicBezTo>
                      <a:cubicBezTo>
                        <a:pt x="187" y="5"/>
                        <a:pt x="184" y="15"/>
                        <a:pt x="186" y="22"/>
                      </a:cubicBezTo>
                      <a:cubicBezTo>
                        <a:pt x="188" y="29"/>
                        <a:pt x="208" y="57"/>
                        <a:pt x="204" y="55"/>
                      </a:cubicBezTo>
                      <a:cubicBezTo>
                        <a:pt x="200" y="53"/>
                        <a:pt x="172" y="17"/>
                        <a:pt x="162" y="10"/>
                      </a:cubicBezTo>
                      <a:cubicBezTo>
                        <a:pt x="152" y="3"/>
                        <a:pt x="151" y="15"/>
                        <a:pt x="144" y="16"/>
                      </a:cubicBezTo>
                      <a:cubicBezTo>
                        <a:pt x="137" y="17"/>
                        <a:pt x="125" y="16"/>
                        <a:pt x="120" y="19"/>
                      </a:cubicBezTo>
                      <a:cubicBezTo>
                        <a:pt x="115" y="22"/>
                        <a:pt x="110" y="31"/>
                        <a:pt x="114" y="34"/>
                      </a:cubicBezTo>
                      <a:cubicBezTo>
                        <a:pt x="118" y="37"/>
                        <a:pt x="140" y="33"/>
                        <a:pt x="147" y="37"/>
                      </a:cubicBezTo>
                      <a:cubicBezTo>
                        <a:pt x="154" y="41"/>
                        <a:pt x="163" y="55"/>
                        <a:pt x="159" y="58"/>
                      </a:cubicBezTo>
                      <a:cubicBezTo>
                        <a:pt x="155" y="61"/>
                        <a:pt x="133" y="53"/>
                        <a:pt x="126" y="55"/>
                      </a:cubicBezTo>
                      <a:cubicBezTo>
                        <a:pt x="119" y="57"/>
                        <a:pt x="119" y="69"/>
                        <a:pt x="114" y="73"/>
                      </a:cubicBezTo>
                      <a:cubicBezTo>
                        <a:pt x="109" y="77"/>
                        <a:pt x="100" y="76"/>
                        <a:pt x="93" y="79"/>
                      </a:cubicBezTo>
                      <a:cubicBezTo>
                        <a:pt x="86" y="82"/>
                        <a:pt x="79" y="89"/>
                        <a:pt x="72" y="94"/>
                      </a:cubicBezTo>
                      <a:cubicBezTo>
                        <a:pt x="65" y="99"/>
                        <a:pt x="56" y="101"/>
                        <a:pt x="54" y="106"/>
                      </a:cubicBezTo>
                      <a:cubicBezTo>
                        <a:pt x="52" y="111"/>
                        <a:pt x="61" y="118"/>
                        <a:pt x="60" y="124"/>
                      </a:cubicBezTo>
                      <a:cubicBezTo>
                        <a:pt x="59" y="130"/>
                        <a:pt x="51" y="137"/>
                        <a:pt x="45" y="142"/>
                      </a:cubicBezTo>
                      <a:cubicBezTo>
                        <a:pt x="39" y="147"/>
                        <a:pt x="33" y="142"/>
                        <a:pt x="27" y="154"/>
                      </a:cubicBezTo>
                      <a:cubicBezTo>
                        <a:pt x="21" y="166"/>
                        <a:pt x="16" y="194"/>
                        <a:pt x="12" y="214"/>
                      </a:cubicBezTo>
                      <a:cubicBezTo>
                        <a:pt x="8" y="234"/>
                        <a:pt x="0" y="260"/>
                        <a:pt x="3" y="274"/>
                      </a:cubicBezTo>
                      <a:cubicBezTo>
                        <a:pt x="6" y="288"/>
                        <a:pt x="27" y="295"/>
                        <a:pt x="33" y="301"/>
                      </a:cubicBezTo>
                    </a:path>
                  </a:pathLst>
                </a:custGeom>
                <a:gradFill rotWithShape="0">
                  <a:gsLst>
                    <a:gs pos="0">
                      <a:srgbClr val="660066"/>
                    </a:gs>
                    <a:gs pos="50000">
                      <a:srgbClr val="333333"/>
                    </a:gs>
                    <a:gs pos="100000">
                      <a:srgbClr val="660066"/>
                    </a:gs>
                  </a:gsLst>
                  <a:lin ang="18900000"/>
                </a:gra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9" name="Freeform 131"/>
                <p:cNvSpPr/>
                <p:nvPr/>
              </p:nvSpPr>
              <p:spPr>
                <a:xfrm>
                  <a:off x="8997120" y="1857600"/>
                  <a:ext cx="146520" cy="159840"/>
                </a:xfrm>
                <a:custGeom>
                  <a:avLst/>
                  <a:gdLst>
                    <a:gd name="textAreaLeft" fmla="*/ 0 w 146520"/>
                    <a:gd name="textAreaRight" fmla="*/ 146880 w 146520"/>
                    <a:gd name="textAreaTop" fmla="*/ 0 h 159840"/>
                    <a:gd name="textAreaBottom" fmla="*/ 160200 h 159840"/>
                  </a:gdLst>
                  <a:ahLst/>
                  <a:rect l="textAreaLeft" t="textAreaTop" r="textAreaRight" b="textAreaBottom"/>
                  <a:pathLst>
                    <a:path w="105" h="117">
                      <a:moveTo>
                        <a:pt x="56" y="0"/>
                      </a:moveTo>
                      <a:cubicBezTo>
                        <a:pt x="62" y="5"/>
                        <a:pt x="87" y="20"/>
                        <a:pt x="95" y="33"/>
                      </a:cubicBezTo>
                      <a:cubicBezTo>
                        <a:pt x="103" y="46"/>
                        <a:pt x="105" y="70"/>
                        <a:pt x="101" y="81"/>
                      </a:cubicBezTo>
                      <a:cubicBezTo>
                        <a:pt x="97" y="92"/>
                        <a:pt x="78" y="91"/>
                        <a:pt x="68" y="96"/>
                      </a:cubicBezTo>
                      <a:cubicBezTo>
                        <a:pt x="58" y="101"/>
                        <a:pt x="48" y="117"/>
                        <a:pt x="38" y="114"/>
                      </a:cubicBezTo>
                      <a:cubicBezTo>
                        <a:pt x="28" y="111"/>
                        <a:pt x="10" y="86"/>
                        <a:pt x="5" y="75"/>
                      </a:cubicBezTo>
                      <a:cubicBezTo>
                        <a:pt x="0" y="64"/>
                        <a:pt x="5" y="54"/>
                        <a:pt x="5" y="48"/>
                      </a:cubicBezTo>
                    </a:path>
                  </a:pathLst>
                </a:custGeom>
                <a:blipFill rotWithShape="0">
                  <a:blip r:embed="rId14"/>
                  <a:srcRect/>
                  <a:stretch/>
                </a:blip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0" name="Freeform 132"/>
                <p:cNvSpPr/>
                <p:nvPr/>
              </p:nvSpPr>
              <p:spPr>
                <a:xfrm flipH="1">
                  <a:off x="8307360" y="1855080"/>
                  <a:ext cx="146880" cy="159480"/>
                </a:xfrm>
                <a:custGeom>
                  <a:avLst/>
                  <a:gdLst>
                    <a:gd name="textAreaLeft" fmla="*/ 360 w 146880"/>
                    <a:gd name="textAreaRight" fmla="*/ 147600 w 146880"/>
                    <a:gd name="textAreaTop" fmla="*/ 0 h 159480"/>
                    <a:gd name="textAreaBottom" fmla="*/ 159840 h 159480"/>
                  </a:gdLst>
                  <a:ahLst/>
                  <a:rect l="textAreaLeft" t="textAreaTop" r="textAreaRight" b="textAreaBottom"/>
                  <a:pathLst>
                    <a:path w="105" h="117">
                      <a:moveTo>
                        <a:pt x="56" y="0"/>
                      </a:moveTo>
                      <a:cubicBezTo>
                        <a:pt x="62" y="5"/>
                        <a:pt x="87" y="20"/>
                        <a:pt x="95" y="33"/>
                      </a:cubicBezTo>
                      <a:cubicBezTo>
                        <a:pt x="103" y="46"/>
                        <a:pt x="105" y="70"/>
                        <a:pt x="101" y="81"/>
                      </a:cubicBezTo>
                      <a:cubicBezTo>
                        <a:pt x="97" y="92"/>
                        <a:pt x="78" y="91"/>
                        <a:pt x="68" y="96"/>
                      </a:cubicBezTo>
                      <a:cubicBezTo>
                        <a:pt x="58" y="101"/>
                        <a:pt x="48" y="117"/>
                        <a:pt x="38" y="114"/>
                      </a:cubicBezTo>
                      <a:cubicBezTo>
                        <a:pt x="28" y="111"/>
                        <a:pt x="10" y="86"/>
                        <a:pt x="5" y="75"/>
                      </a:cubicBezTo>
                      <a:cubicBezTo>
                        <a:pt x="0" y="64"/>
                        <a:pt x="5" y="54"/>
                        <a:pt x="5" y="48"/>
                      </a:cubicBezTo>
                    </a:path>
                  </a:pathLst>
                </a:custGeom>
                <a:blipFill rotWithShape="0">
                  <a:blip r:embed="rId15"/>
                  <a:srcRect/>
                  <a:stretch/>
                </a:blip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1" name="Freeform 133"/>
                <p:cNvSpPr/>
                <p:nvPr/>
              </p:nvSpPr>
              <p:spPr>
                <a:xfrm>
                  <a:off x="8485920" y="1027440"/>
                  <a:ext cx="479520" cy="500040"/>
                </a:xfrm>
                <a:custGeom>
                  <a:avLst/>
                  <a:gdLst>
                    <a:gd name="textAreaLeft" fmla="*/ 0 w 479520"/>
                    <a:gd name="textAreaRight" fmla="*/ 479880 w 479520"/>
                    <a:gd name="textAreaTop" fmla="*/ 0 h 500040"/>
                    <a:gd name="textAreaBottom" fmla="*/ 500400 h 500040"/>
                  </a:gdLst>
                  <a:ahLst/>
                  <a:rect l="textAreaLeft" t="textAreaTop" r="textAreaRight" b="textAreaBottom"/>
                  <a:pathLst>
                    <a:path w="344" h="365">
                      <a:moveTo>
                        <a:pt x="0" y="194"/>
                      </a:moveTo>
                      <a:cubicBezTo>
                        <a:pt x="0" y="198"/>
                        <a:pt x="0" y="197"/>
                        <a:pt x="6" y="209"/>
                      </a:cubicBezTo>
                      <a:cubicBezTo>
                        <a:pt x="12" y="221"/>
                        <a:pt x="23" y="250"/>
                        <a:pt x="36" y="266"/>
                      </a:cubicBezTo>
                      <a:cubicBezTo>
                        <a:pt x="49" y="282"/>
                        <a:pt x="70" y="299"/>
                        <a:pt x="87" y="308"/>
                      </a:cubicBezTo>
                      <a:cubicBezTo>
                        <a:pt x="104" y="317"/>
                        <a:pt x="129" y="314"/>
                        <a:pt x="138" y="320"/>
                      </a:cubicBezTo>
                      <a:cubicBezTo>
                        <a:pt x="147" y="326"/>
                        <a:pt x="140" y="337"/>
                        <a:pt x="144" y="344"/>
                      </a:cubicBezTo>
                      <a:cubicBezTo>
                        <a:pt x="148" y="351"/>
                        <a:pt x="157" y="365"/>
                        <a:pt x="165" y="365"/>
                      </a:cubicBezTo>
                      <a:cubicBezTo>
                        <a:pt x="173" y="365"/>
                        <a:pt x="185" y="349"/>
                        <a:pt x="192" y="341"/>
                      </a:cubicBezTo>
                      <a:cubicBezTo>
                        <a:pt x="199" y="333"/>
                        <a:pt x="197" y="322"/>
                        <a:pt x="207" y="317"/>
                      </a:cubicBezTo>
                      <a:cubicBezTo>
                        <a:pt x="217" y="312"/>
                        <a:pt x="239" y="315"/>
                        <a:pt x="255" y="308"/>
                      </a:cubicBezTo>
                      <a:cubicBezTo>
                        <a:pt x="271" y="301"/>
                        <a:pt x="289" y="296"/>
                        <a:pt x="303" y="275"/>
                      </a:cubicBezTo>
                      <a:cubicBezTo>
                        <a:pt x="317" y="254"/>
                        <a:pt x="344" y="208"/>
                        <a:pt x="342" y="179"/>
                      </a:cubicBezTo>
                      <a:cubicBezTo>
                        <a:pt x="340" y="150"/>
                        <a:pt x="302" y="123"/>
                        <a:pt x="288" y="98"/>
                      </a:cubicBezTo>
                      <a:cubicBezTo>
                        <a:pt x="274" y="73"/>
                        <a:pt x="269" y="31"/>
                        <a:pt x="256" y="27"/>
                      </a:cubicBezTo>
                      <a:cubicBezTo>
                        <a:pt x="243" y="23"/>
                        <a:pt x="218" y="70"/>
                        <a:pt x="208" y="75"/>
                      </a:cubicBezTo>
                      <a:cubicBezTo>
                        <a:pt x="198" y="80"/>
                        <a:pt x="202" y="60"/>
                        <a:pt x="198" y="56"/>
                      </a:cubicBezTo>
                      <a:cubicBezTo>
                        <a:pt x="194" y="52"/>
                        <a:pt x="197" y="50"/>
                        <a:pt x="183" y="53"/>
                      </a:cubicBezTo>
                      <a:cubicBezTo>
                        <a:pt x="169" y="56"/>
                        <a:pt x="121" y="77"/>
                        <a:pt x="112" y="75"/>
                      </a:cubicBezTo>
                      <a:cubicBezTo>
                        <a:pt x="103" y="73"/>
                        <a:pt x="126" y="52"/>
                        <a:pt x="126" y="41"/>
                      </a:cubicBezTo>
                      <a:cubicBezTo>
                        <a:pt x="126" y="30"/>
                        <a:pt x="126" y="0"/>
                        <a:pt x="114" y="11"/>
                      </a:cubicBezTo>
                      <a:cubicBezTo>
                        <a:pt x="102" y="22"/>
                        <a:pt x="63" y="89"/>
                        <a:pt x="54" y="110"/>
                      </a:cubicBezTo>
                      <a:cubicBezTo>
                        <a:pt x="45" y="131"/>
                        <a:pt x="60" y="129"/>
                        <a:pt x="60" y="137"/>
                      </a:cubicBezTo>
                      <a:cubicBezTo>
                        <a:pt x="60" y="145"/>
                        <a:pt x="58" y="158"/>
                        <a:pt x="54" y="161"/>
                      </a:cubicBezTo>
                      <a:cubicBezTo>
                        <a:pt x="50" y="164"/>
                        <a:pt x="39" y="162"/>
                        <a:pt x="36" y="155"/>
                      </a:cubicBezTo>
                      <a:cubicBezTo>
                        <a:pt x="33" y="148"/>
                        <a:pt x="37" y="119"/>
                        <a:pt x="33" y="119"/>
                      </a:cubicBezTo>
                      <a:cubicBezTo>
                        <a:pt x="29" y="119"/>
                        <a:pt x="16" y="143"/>
                        <a:pt x="12" y="152"/>
                      </a:cubicBezTo>
                      <a:cubicBezTo>
                        <a:pt x="8" y="161"/>
                        <a:pt x="12" y="168"/>
                        <a:pt x="12" y="173"/>
                      </a:cubicBezTo>
                      <a:cubicBezTo>
                        <a:pt x="12" y="178"/>
                        <a:pt x="11" y="182"/>
                        <a:pt x="9" y="185"/>
                      </a:cubicBezTo>
                      <a:cubicBezTo>
                        <a:pt x="7" y="188"/>
                        <a:pt x="0" y="190"/>
                        <a:pt x="0" y="194"/>
                      </a:cubicBezTo>
                      <a:close/>
                    </a:path>
                  </a:pathLst>
                </a:custGeom>
                <a:blipFill rotWithShape="0">
                  <a:blip r:embed="rId16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2" name="Freeform 134"/>
                <p:cNvSpPr/>
                <p:nvPr/>
              </p:nvSpPr>
              <p:spPr>
                <a:xfrm>
                  <a:off x="8657280" y="1363320"/>
                  <a:ext cx="158040" cy="44640"/>
                </a:xfrm>
                <a:custGeom>
                  <a:avLst/>
                  <a:gdLst>
                    <a:gd name="textAreaLeft" fmla="*/ 0 w 158040"/>
                    <a:gd name="textAreaRight" fmla="*/ 158400 w 158040"/>
                    <a:gd name="textAreaTop" fmla="*/ 0 h 44640"/>
                    <a:gd name="textAreaBottom" fmla="*/ 45000 h 44640"/>
                  </a:gdLst>
                  <a:ahLst/>
                  <a:rect l="textAreaLeft" t="textAreaTop" r="textAreaRight" b="textAreaBottom"/>
                  <a:pathLst>
                    <a:path w="114" h="32">
                      <a:moveTo>
                        <a:pt x="0" y="0"/>
                      </a:moveTo>
                      <a:cubicBezTo>
                        <a:pt x="7" y="4"/>
                        <a:pt x="29" y="22"/>
                        <a:pt x="39" y="27"/>
                      </a:cubicBezTo>
                      <a:cubicBezTo>
                        <a:pt x="49" y="32"/>
                        <a:pt x="53" y="30"/>
                        <a:pt x="60" y="30"/>
                      </a:cubicBezTo>
                      <a:cubicBezTo>
                        <a:pt x="67" y="30"/>
                        <a:pt x="72" y="32"/>
                        <a:pt x="81" y="27"/>
                      </a:cubicBezTo>
                      <a:cubicBezTo>
                        <a:pt x="90" y="22"/>
                        <a:pt x="107" y="8"/>
                        <a:pt x="114" y="3"/>
                      </a:cubicBezTo>
                    </a:path>
                  </a:pathLst>
                </a:custGeom>
                <a:noFill/>
                <a:ln w="12600">
                  <a:solidFill>
                    <a:srgbClr val="d2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3" name="Freeform 135"/>
                <p:cNvSpPr/>
                <p:nvPr/>
              </p:nvSpPr>
              <p:spPr>
                <a:xfrm>
                  <a:off x="8709120" y="1380600"/>
                  <a:ext cx="65880" cy="12960"/>
                </a:xfrm>
                <a:custGeom>
                  <a:avLst/>
                  <a:gdLst>
                    <a:gd name="textAreaLeft" fmla="*/ 0 w 65880"/>
                    <a:gd name="textAreaRight" fmla="*/ 66240 w 65880"/>
                    <a:gd name="textAreaTop" fmla="*/ 0 h 12960"/>
                    <a:gd name="textAreaBottom" fmla="*/ 13320 h 12960"/>
                  </a:gdLst>
                  <a:ahLst/>
                  <a:rect l="textAreaLeft" t="textAreaTop" r="textAreaRight" b="textAreaBottom"/>
                  <a:pathLst>
                    <a:path w="48" h="10">
                      <a:moveTo>
                        <a:pt x="0" y="10"/>
                      </a:moveTo>
                      <a:cubicBezTo>
                        <a:pt x="2" y="8"/>
                        <a:pt x="7" y="0"/>
                        <a:pt x="11" y="0"/>
                      </a:cubicBezTo>
                      <a:cubicBezTo>
                        <a:pt x="15" y="0"/>
                        <a:pt x="19" y="9"/>
                        <a:pt x="23" y="9"/>
                      </a:cubicBezTo>
                      <a:cubicBezTo>
                        <a:pt x="27" y="9"/>
                        <a:pt x="34" y="0"/>
                        <a:pt x="38" y="0"/>
                      </a:cubicBezTo>
                      <a:cubicBezTo>
                        <a:pt x="42" y="0"/>
                        <a:pt x="46" y="8"/>
                        <a:pt x="48" y="10"/>
                      </a:cubicBezTo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4" name="Freeform 136"/>
                <p:cNvSpPr/>
                <p:nvPr/>
              </p:nvSpPr>
              <p:spPr>
                <a:xfrm>
                  <a:off x="8632800" y="1202040"/>
                  <a:ext cx="87840" cy="37440"/>
                </a:xfrm>
                <a:custGeom>
                  <a:avLst/>
                  <a:gdLst>
                    <a:gd name="textAreaLeft" fmla="*/ 0 w 87840"/>
                    <a:gd name="textAreaRight" fmla="*/ 88200 w 87840"/>
                    <a:gd name="textAreaTop" fmla="*/ 0 h 37440"/>
                    <a:gd name="textAreaBottom" fmla="*/ 37800 h 37440"/>
                  </a:gdLst>
                  <a:ahLst/>
                  <a:rect l="textAreaLeft" t="textAreaTop" r="textAreaRight" b="textAreaBottom"/>
                  <a:pathLst>
                    <a:path w="63" h="28">
                      <a:moveTo>
                        <a:pt x="63" y="16"/>
                      </a:moveTo>
                      <a:cubicBezTo>
                        <a:pt x="58" y="14"/>
                        <a:pt x="39" y="6"/>
                        <a:pt x="33" y="4"/>
                      </a:cubicBezTo>
                      <a:cubicBezTo>
                        <a:pt x="27" y="2"/>
                        <a:pt x="29" y="0"/>
                        <a:pt x="24" y="4"/>
                      </a:cubicBezTo>
                      <a:cubicBezTo>
                        <a:pt x="19" y="8"/>
                        <a:pt x="5" y="23"/>
                        <a:pt x="0" y="28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5" name="Freeform 137"/>
                <p:cNvSpPr/>
                <p:nvPr/>
              </p:nvSpPr>
              <p:spPr>
                <a:xfrm>
                  <a:off x="8661600" y="1243800"/>
                  <a:ext cx="37440" cy="37440"/>
                </a:xfrm>
                <a:custGeom>
                  <a:avLst/>
                  <a:gdLst>
                    <a:gd name="textAreaLeft" fmla="*/ 0 w 37440"/>
                    <a:gd name="textAreaRight" fmla="*/ 37800 w 37440"/>
                    <a:gd name="textAreaTop" fmla="*/ 0 h 37440"/>
                    <a:gd name="textAreaBottom" fmla="*/ 37800 h 37440"/>
                  </a:gdLst>
                  <a:ahLst/>
                  <a:rect l="textAreaLeft" t="textAreaTop" r="textAreaRight" b="textAreaBottom"/>
                  <a:pathLst>
                    <a:path w="27" h="27">
                      <a:moveTo>
                        <a:pt x="27" y="12"/>
                      </a:moveTo>
                      <a:cubicBezTo>
                        <a:pt x="27" y="8"/>
                        <a:pt x="16" y="0"/>
                        <a:pt x="12" y="0"/>
                      </a:cubicBezTo>
                      <a:cubicBezTo>
                        <a:pt x="8" y="0"/>
                        <a:pt x="0" y="11"/>
                        <a:pt x="0" y="15"/>
                      </a:cubicBezTo>
                      <a:cubicBezTo>
                        <a:pt x="0" y="19"/>
                        <a:pt x="11" y="27"/>
                        <a:pt x="15" y="27"/>
                      </a:cubicBezTo>
                      <a:cubicBezTo>
                        <a:pt x="19" y="27"/>
                        <a:pt x="27" y="16"/>
                        <a:pt x="27" y="12"/>
                      </a:cubicBezTo>
                      <a:close/>
                    </a:path>
                  </a:pathLst>
                </a:custGeom>
                <a:solidFill>
                  <a:srgbClr val="9966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6" name="Freeform 138"/>
                <p:cNvSpPr/>
                <p:nvPr/>
              </p:nvSpPr>
              <p:spPr>
                <a:xfrm>
                  <a:off x="8631360" y="1213560"/>
                  <a:ext cx="88920" cy="50400"/>
                </a:xfrm>
                <a:custGeom>
                  <a:avLst/>
                  <a:gdLst>
                    <a:gd name="textAreaLeft" fmla="*/ 0 w 88920"/>
                    <a:gd name="textAreaRight" fmla="*/ 89280 w 88920"/>
                    <a:gd name="textAreaTop" fmla="*/ 0 h 50400"/>
                    <a:gd name="textAreaBottom" fmla="*/ 50760 h 50400"/>
                  </a:gdLst>
                  <a:ahLst/>
                  <a:rect l="textAreaLeft" t="textAreaTop" r="textAreaRight" b="textAreaBottom"/>
                  <a:pathLst>
                    <a:path w="64" h="36">
                      <a:moveTo>
                        <a:pt x="4" y="31"/>
                      </a:moveTo>
                      <a:cubicBezTo>
                        <a:pt x="3" y="29"/>
                        <a:pt x="0" y="27"/>
                        <a:pt x="4" y="22"/>
                      </a:cubicBezTo>
                      <a:cubicBezTo>
                        <a:pt x="8" y="17"/>
                        <a:pt x="22" y="2"/>
                        <a:pt x="31" y="1"/>
                      </a:cubicBezTo>
                      <a:cubicBezTo>
                        <a:pt x="40" y="0"/>
                        <a:pt x="58" y="8"/>
                        <a:pt x="61" y="13"/>
                      </a:cubicBezTo>
                      <a:cubicBezTo>
                        <a:pt x="64" y="18"/>
                        <a:pt x="56" y="30"/>
                        <a:pt x="52" y="31"/>
                      </a:cubicBezTo>
                      <a:cubicBezTo>
                        <a:pt x="48" y="32"/>
                        <a:pt x="40" y="19"/>
                        <a:pt x="34" y="19"/>
                      </a:cubicBezTo>
                      <a:cubicBezTo>
                        <a:pt x="28" y="19"/>
                        <a:pt x="18" y="32"/>
                        <a:pt x="13" y="34"/>
                      </a:cubicBezTo>
                      <a:cubicBezTo>
                        <a:pt x="8" y="36"/>
                        <a:pt x="4" y="34"/>
                        <a:pt x="4" y="31"/>
                      </a:cubicBezTo>
                      <a:close/>
                    </a:path>
                  </a:pathLst>
                </a:custGeom>
                <a:solidFill>
                  <a:srgbClr val="c58bf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7" name="Freeform 139"/>
                <p:cNvSpPr/>
                <p:nvPr/>
              </p:nvSpPr>
              <p:spPr>
                <a:xfrm flipH="1">
                  <a:off x="8775000" y="1195920"/>
                  <a:ext cx="87840" cy="38880"/>
                </a:xfrm>
                <a:custGeom>
                  <a:avLst/>
                  <a:gdLst>
                    <a:gd name="textAreaLeft" fmla="*/ 360 w 87840"/>
                    <a:gd name="textAreaRight" fmla="*/ 88560 w 8784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63" h="28">
                      <a:moveTo>
                        <a:pt x="63" y="16"/>
                      </a:moveTo>
                      <a:cubicBezTo>
                        <a:pt x="58" y="14"/>
                        <a:pt x="39" y="6"/>
                        <a:pt x="33" y="4"/>
                      </a:cubicBezTo>
                      <a:cubicBezTo>
                        <a:pt x="27" y="2"/>
                        <a:pt x="29" y="0"/>
                        <a:pt x="24" y="4"/>
                      </a:cubicBezTo>
                      <a:cubicBezTo>
                        <a:pt x="19" y="8"/>
                        <a:pt x="5" y="23"/>
                        <a:pt x="0" y="28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8" name="Freeform 140"/>
                <p:cNvSpPr/>
                <p:nvPr/>
              </p:nvSpPr>
              <p:spPr>
                <a:xfrm flipH="1">
                  <a:off x="8796240" y="1238040"/>
                  <a:ext cx="37080" cy="37440"/>
                </a:xfrm>
                <a:custGeom>
                  <a:avLst/>
                  <a:gdLst>
                    <a:gd name="textAreaLeft" fmla="*/ -360 w 37080"/>
                    <a:gd name="textAreaRight" fmla="*/ 37080 w 37080"/>
                    <a:gd name="textAreaTop" fmla="*/ 0 h 37440"/>
                    <a:gd name="textAreaBottom" fmla="*/ 37800 h 37440"/>
                  </a:gdLst>
                  <a:ahLst/>
                  <a:rect l="textAreaLeft" t="textAreaTop" r="textAreaRight" b="textAreaBottom"/>
                  <a:pathLst>
                    <a:path w="27" h="27">
                      <a:moveTo>
                        <a:pt x="27" y="12"/>
                      </a:moveTo>
                      <a:cubicBezTo>
                        <a:pt x="27" y="8"/>
                        <a:pt x="16" y="0"/>
                        <a:pt x="12" y="0"/>
                      </a:cubicBezTo>
                      <a:cubicBezTo>
                        <a:pt x="8" y="0"/>
                        <a:pt x="0" y="11"/>
                        <a:pt x="0" y="15"/>
                      </a:cubicBezTo>
                      <a:cubicBezTo>
                        <a:pt x="0" y="19"/>
                        <a:pt x="11" y="27"/>
                        <a:pt x="15" y="27"/>
                      </a:cubicBezTo>
                      <a:cubicBezTo>
                        <a:pt x="19" y="27"/>
                        <a:pt x="27" y="16"/>
                        <a:pt x="27" y="12"/>
                      </a:cubicBezTo>
                      <a:close/>
                    </a:path>
                  </a:pathLst>
                </a:custGeom>
                <a:solidFill>
                  <a:srgbClr val="9966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9" name="Freeform 141"/>
                <p:cNvSpPr/>
                <p:nvPr/>
              </p:nvSpPr>
              <p:spPr>
                <a:xfrm flipH="1">
                  <a:off x="8775000" y="1209240"/>
                  <a:ext cx="89280" cy="48960"/>
                </a:xfrm>
                <a:custGeom>
                  <a:avLst/>
                  <a:gdLst>
                    <a:gd name="textAreaLeft" fmla="*/ 360 w 89280"/>
                    <a:gd name="textAreaRight" fmla="*/ 90000 w 89280"/>
                    <a:gd name="textAreaTop" fmla="*/ 0 h 48960"/>
                    <a:gd name="textAreaBottom" fmla="*/ 49320 h 48960"/>
                  </a:gdLst>
                  <a:ahLst/>
                  <a:rect l="textAreaLeft" t="textAreaTop" r="textAreaRight" b="textAreaBottom"/>
                  <a:pathLst>
                    <a:path w="64" h="36">
                      <a:moveTo>
                        <a:pt x="4" y="31"/>
                      </a:moveTo>
                      <a:cubicBezTo>
                        <a:pt x="3" y="29"/>
                        <a:pt x="0" y="27"/>
                        <a:pt x="4" y="22"/>
                      </a:cubicBezTo>
                      <a:cubicBezTo>
                        <a:pt x="8" y="17"/>
                        <a:pt x="22" y="2"/>
                        <a:pt x="31" y="1"/>
                      </a:cubicBezTo>
                      <a:cubicBezTo>
                        <a:pt x="40" y="0"/>
                        <a:pt x="58" y="8"/>
                        <a:pt x="61" y="13"/>
                      </a:cubicBezTo>
                      <a:cubicBezTo>
                        <a:pt x="64" y="18"/>
                        <a:pt x="56" y="30"/>
                        <a:pt x="52" y="31"/>
                      </a:cubicBezTo>
                      <a:cubicBezTo>
                        <a:pt x="48" y="32"/>
                        <a:pt x="40" y="19"/>
                        <a:pt x="34" y="19"/>
                      </a:cubicBezTo>
                      <a:cubicBezTo>
                        <a:pt x="28" y="19"/>
                        <a:pt x="18" y="32"/>
                        <a:pt x="13" y="34"/>
                      </a:cubicBezTo>
                      <a:cubicBezTo>
                        <a:pt x="8" y="36"/>
                        <a:pt x="4" y="34"/>
                        <a:pt x="4" y="31"/>
                      </a:cubicBezTo>
                      <a:close/>
                    </a:path>
                  </a:pathLst>
                </a:custGeom>
                <a:solidFill>
                  <a:srgbClr val="c58bf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0" name="Freeform 142"/>
                <p:cNvSpPr/>
                <p:nvPr/>
              </p:nvSpPr>
              <p:spPr>
                <a:xfrm>
                  <a:off x="8748000" y="1158840"/>
                  <a:ext cx="142200" cy="146880"/>
                </a:xfrm>
                <a:custGeom>
                  <a:avLst/>
                  <a:gdLst>
                    <a:gd name="textAreaLeft" fmla="*/ 0 w 142200"/>
                    <a:gd name="textAreaRight" fmla="*/ 142560 w 142200"/>
                    <a:gd name="textAreaTop" fmla="*/ 0 h 146880"/>
                    <a:gd name="textAreaBottom" fmla="*/ 147240 h 146880"/>
                  </a:gdLst>
                  <a:ahLst/>
                  <a:rect l="textAreaLeft" t="textAreaTop" r="textAreaRight" b="textAreaBottom"/>
                  <a:pathLst>
                    <a:path w="102" h="107">
                      <a:moveTo>
                        <a:pt x="4" y="35"/>
                      </a:moveTo>
                      <a:cubicBezTo>
                        <a:pt x="9" y="25"/>
                        <a:pt x="27" y="10"/>
                        <a:pt x="37" y="5"/>
                      </a:cubicBezTo>
                      <a:cubicBezTo>
                        <a:pt x="47" y="0"/>
                        <a:pt x="57" y="0"/>
                        <a:pt x="67" y="5"/>
                      </a:cubicBezTo>
                      <a:cubicBezTo>
                        <a:pt x="77" y="10"/>
                        <a:pt x="92" y="25"/>
                        <a:pt x="97" y="35"/>
                      </a:cubicBezTo>
                      <a:cubicBezTo>
                        <a:pt x="102" y="45"/>
                        <a:pt x="101" y="57"/>
                        <a:pt x="97" y="68"/>
                      </a:cubicBezTo>
                      <a:cubicBezTo>
                        <a:pt x="93" y="79"/>
                        <a:pt x="79" y="95"/>
                        <a:pt x="70" y="101"/>
                      </a:cubicBezTo>
                      <a:cubicBezTo>
                        <a:pt x="61" y="107"/>
                        <a:pt x="49" y="105"/>
                        <a:pt x="40" y="104"/>
                      </a:cubicBezTo>
                      <a:cubicBezTo>
                        <a:pt x="31" y="103"/>
                        <a:pt x="19" y="98"/>
                        <a:pt x="13" y="92"/>
                      </a:cubicBezTo>
                      <a:cubicBezTo>
                        <a:pt x="7" y="86"/>
                        <a:pt x="2" y="74"/>
                        <a:pt x="1" y="65"/>
                      </a:cubicBezTo>
                      <a:cubicBezTo>
                        <a:pt x="0" y="56"/>
                        <a:pt x="4" y="41"/>
                        <a:pt x="4" y="35"/>
                      </a:cubicBez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1" name="Freeform 143"/>
                <p:cNvSpPr/>
                <p:nvPr/>
              </p:nvSpPr>
              <p:spPr>
                <a:xfrm>
                  <a:off x="8599680" y="1167480"/>
                  <a:ext cx="145080" cy="142560"/>
                </a:xfrm>
                <a:custGeom>
                  <a:avLst/>
                  <a:gdLst>
                    <a:gd name="textAreaLeft" fmla="*/ 0 w 145080"/>
                    <a:gd name="textAreaRight" fmla="*/ 145440 w 145080"/>
                    <a:gd name="textAreaTop" fmla="*/ 0 h 142560"/>
                    <a:gd name="textAreaBottom" fmla="*/ 142920 h 142560"/>
                  </a:gdLst>
                  <a:ahLst/>
                  <a:rect l="textAreaLeft" t="textAreaTop" r="textAreaRight" b="textAreaBottom"/>
                  <a:pathLst>
                    <a:path w="104" h="104">
                      <a:moveTo>
                        <a:pt x="2" y="32"/>
                      </a:moveTo>
                      <a:cubicBezTo>
                        <a:pt x="6" y="23"/>
                        <a:pt x="17" y="12"/>
                        <a:pt x="29" y="8"/>
                      </a:cubicBezTo>
                      <a:cubicBezTo>
                        <a:pt x="41" y="4"/>
                        <a:pt x="62" y="0"/>
                        <a:pt x="74" y="5"/>
                      </a:cubicBezTo>
                      <a:cubicBezTo>
                        <a:pt x="86" y="10"/>
                        <a:pt x="98" y="27"/>
                        <a:pt x="101" y="38"/>
                      </a:cubicBezTo>
                      <a:cubicBezTo>
                        <a:pt x="104" y="49"/>
                        <a:pt x="99" y="64"/>
                        <a:pt x="95" y="74"/>
                      </a:cubicBezTo>
                      <a:cubicBezTo>
                        <a:pt x="91" y="84"/>
                        <a:pt x="79" y="94"/>
                        <a:pt x="74" y="98"/>
                      </a:cubicBezTo>
                      <a:cubicBezTo>
                        <a:pt x="69" y="102"/>
                        <a:pt x="69" y="97"/>
                        <a:pt x="62" y="98"/>
                      </a:cubicBezTo>
                      <a:cubicBezTo>
                        <a:pt x="55" y="99"/>
                        <a:pt x="41" y="104"/>
                        <a:pt x="32" y="101"/>
                      </a:cubicBezTo>
                      <a:cubicBezTo>
                        <a:pt x="23" y="98"/>
                        <a:pt x="12" y="87"/>
                        <a:pt x="8" y="80"/>
                      </a:cubicBezTo>
                      <a:cubicBezTo>
                        <a:pt x="4" y="73"/>
                        <a:pt x="6" y="70"/>
                        <a:pt x="5" y="62"/>
                      </a:cubicBezTo>
                      <a:cubicBezTo>
                        <a:pt x="4" y="54"/>
                        <a:pt x="0" y="40"/>
                        <a:pt x="2" y="32"/>
                      </a:cubicBez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2" name="Freeform 144"/>
                <p:cNvSpPr/>
                <p:nvPr/>
              </p:nvSpPr>
              <p:spPr>
                <a:xfrm>
                  <a:off x="8812800" y="1281240"/>
                  <a:ext cx="96480" cy="112320"/>
                </a:xfrm>
                <a:custGeom>
                  <a:avLst/>
                  <a:gdLst>
                    <a:gd name="textAreaLeft" fmla="*/ 0 w 96480"/>
                    <a:gd name="textAreaRight" fmla="*/ 96840 w 96480"/>
                    <a:gd name="textAreaTop" fmla="*/ 0 h 112320"/>
                    <a:gd name="textAreaBottom" fmla="*/ 112680 h 112320"/>
                  </a:gdLst>
                  <a:ahLst/>
                  <a:rect l="textAreaLeft" t="textAreaTop" r="textAreaRight" b="textAreaBottom"/>
                  <a:pathLst>
                    <a:path w="70" h="82">
                      <a:moveTo>
                        <a:pt x="60" y="6"/>
                      </a:moveTo>
                      <a:cubicBezTo>
                        <a:pt x="70" y="8"/>
                        <a:pt x="66" y="27"/>
                        <a:pt x="63" y="39"/>
                      </a:cubicBezTo>
                      <a:cubicBezTo>
                        <a:pt x="60" y="51"/>
                        <a:pt x="53" y="82"/>
                        <a:pt x="43" y="81"/>
                      </a:cubicBezTo>
                      <a:cubicBezTo>
                        <a:pt x="33" y="80"/>
                        <a:pt x="0" y="42"/>
                        <a:pt x="3" y="30"/>
                      </a:cubicBezTo>
                      <a:cubicBezTo>
                        <a:pt x="6" y="18"/>
                        <a:pt x="50" y="0"/>
                        <a:pt x="60" y="6"/>
                      </a:cubicBezTo>
                      <a:close/>
                    </a:path>
                  </a:pathLst>
                </a:custGeom>
                <a:solidFill>
                  <a:srgbClr val="fda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3" name="Freeform 145"/>
                <p:cNvSpPr/>
                <p:nvPr/>
              </p:nvSpPr>
              <p:spPr>
                <a:xfrm>
                  <a:off x="8575200" y="1323000"/>
                  <a:ext cx="101880" cy="70560"/>
                </a:xfrm>
                <a:custGeom>
                  <a:avLst/>
                  <a:gdLst>
                    <a:gd name="textAreaLeft" fmla="*/ 0 w 101880"/>
                    <a:gd name="textAreaRight" fmla="*/ 102240 w 101880"/>
                    <a:gd name="textAreaTop" fmla="*/ 0 h 70560"/>
                    <a:gd name="textAreaBottom" fmla="*/ 70920 h 70560"/>
                  </a:gdLst>
                  <a:ahLst/>
                  <a:rect l="textAreaLeft" t="textAreaTop" r="textAreaRight" b="textAreaBottom"/>
                  <a:pathLst>
                    <a:path w="73" h="52">
                      <a:moveTo>
                        <a:pt x="10" y="0"/>
                      </a:moveTo>
                      <a:cubicBezTo>
                        <a:pt x="0" y="1"/>
                        <a:pt x="4" y="25"/>
                        <a:pt x="7" y="33"/>
                      </a:cubicBezTo>
                      <a:cubicBezTo>
                        <a:pt x="10" y="41"/>
                        <a:pt x="18" y="52"/>
                        <a:pt x="28" y="51"/>
                      </a:cubicBezTo>
                      <a:cubicBezTo>
                        <a:pt x="38" y="50"/>
                        <a:pt x="73" y="35"/>
                        <a:pt x="70" y="27"/>
                      </a:cubicBezTo>
                      <a:cubicBezTo>
                        <a:pt x="67" y="19"/>
                        <a:pt x="23" y="0"/>
                        <a:pt x="10" y="0"/>
                      </a:cubicBezTo>
                      <a:close/>
                    </a:path>
                  </a:pathLst>
                </a:custGeom>
                <a:solidFill>
                  <a:srgbClr val="fda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004" name="Freeform 146"/>
            <p:cNvSpPr/>
            <p:nvPr/>
          </p:nvSpPr>
          <p:spPr>
            <a:xfrm>
              <a:off x="8713080" y="1308600"/>
              <a:ext cx="60120" cy="2448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42" h="17">
                  <a:moveTo>
                    <a:pt x="0" y="9"/>
                  </a:moveTo>
                  <a:cubicBezTo>
                    <a:pt x="1" y="9"/>
                    <a:pt x="3" y="16"/>
                    <a:pt x="6" y="15"/>
                  </a:cubicBezTo>
                  <a:cubicBezTo>
                    <a:pt x="9" y="14"/>
                    <a:pt x="16" y="0"/>
                    <a:pt x="21" y="0"/>
                  </a:cubicBezTo>
                  <a:cubicBezTo>
                    <a:pt x="26" y="0"/>
                    <a:pt x="33" y="13"/>
                    <a:pt x="36" y="15"/>
                  </a:cubicBezTo>
                  <a:cubicBezTo>
                    <a:pt x="39" y="17"/>
                    <a:pt x="41" y="13"/>
                    <a:pt x="42" y="1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5" name="Group 147"/>
          <p:cNvGrpSpPr/>
          <p:nvPr/>
        </p:nvGrpSpPr>
        <p:grpSpPr>
          <a:xfrm>
            <a:off x="5618160" y="880920"/>
            <a:ext cx="828360" cy="1520640"/>
            <a:chOff x="5618160" y="880920"/>
            <a:chExt cx="828360" cy="1520640"/>
          </a:xfrm>
        </p:grpSpPr>
        <p:grpSp>
          <p:nvGrpSpPr>
            <p:cNvPr id="1006" name="Group 148"/>
            <p:cNvGrpSpPr/>
            <p:nvPr/>
          </p:nvGrpSpPr>
          <p:grpSpPr>
            <a:xfrm>
              <a:off x="5618160" y="880920"/>
              <a:ext cx="828360" cy="1520640"/>
              <a:chOff x="5618160" y="880920"/>
              <a:chExt cx="828360" cy="1520640"/>
            </a:xfrm>
          </p:grpSpPr>
          <p:sp>
            <p:nvSpPr>
              <p:cNvPr id="1007" name="Freeform 149"/>
              <p:cNvSpPr/>
              <p:nvPr/>
            </p:nvSpPr>
            <p:spPr>
              <a:xfrm>
                <a:off x="6046560" y="2013120"/>
                <a:ext cx="1440" cy="34236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342360"/>
                  <a:gd name="textAreaBottom" fmla="*/ 342720 h 342360"/>
                </a:gdLst>
                <a:ahLst/>
                <a:rect l="textAreaLeft" t="textAreaTop" r="textAreaRight" b="textAreaBottom"/>
                <a:pathLst>
                  <a:path w="1" h="256">
                    <a:moveTo>
                      <a:pt x="0" y="0"/>
                    </a:moveTo>
                    <a:lnTo>
                      <a:pt x="0" y="25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Freeform 150"/>
              <p:cNvSpPr/>
              <p:nvPr/>
            </p:nvSpPr>
            <p:spPr>
              <a:xfrm>
                <a:off x="5748840" y="1802520"/>
                <a:ext cx="598680" cy="567360"/>
              </a:xfrm>
              <a:custGeom>
                <a:avLst/>
                <a:gdLst>
                  <a:gd name="textAreaLeft" fmla="*/ 0 w 598680"/>
                  <a:gd name="textAreaRight" fmla="*/ 599040 w 598680"/>
                  <a:gd name="textAreaTop" fmla="*/ 0 h 567360"/>
                  <a:gd name="textAreaBottom" fmla="*/ 567720 h 567360"/>
                </a:gdLst>
                <a:ahLst/>
                <a:rect l="textAreaLeft" t="textAreaTop" r="textAreaRight" b="textAreaBottom"/>
                <a:pathLst>
                  <a:path w="468" h="423">
                    <a:moveTo>
                      <a:pt x="79" y="8"/>
                    </a:moveTo>
                    <a:cubicBezTo>
                      <a:pt x="118" y="0"/>
                      <a:pt x="265" y="8"/>
                      <a:pt x="313" y="8"/>
                    </a:cubicBezTo>
                    <a:cubicBezTo>
                      <a:pt x="361" y="8"/>
                      <a:pt x="355" y="5"/>
                      <a:pt x="367" y="8"/>
                    </a:cubicBezTo>
                    <a:cubicBezTo>
                      <a:pt x="379" y="11"/>
                      <a:pt x="377" y="15"/>
                      <a:pt x="385" y="28"/>
                    </a:cubicBezTo>
                    <a:cubicBezTo>
                      <a:pt x="393" y="41"/>
                      <a:pt x="409" y="67"/>
                      <a:pt x="417" y="84"/>
                    </a:cubicBezTo>
                    <a:cubicBezTo>
                      <a:pt x="425" y="101"/>
                      <a:pt x="425" y="113"/>
                      <a:pt x="433" y="132"/>
                    </a:cubicBezTo>
                    <a:cubicBezTo>
                      <a:pt x="441" y="151"/>
                      <a:pt x="458" y="173"/>
                      <a:pt x="463" y="200"/>
                    </a:cubicBezTo>
                    <a:cubicBezTo>
                      <a:pt x="468" y="227"/>
                      <a:pt x="467" y="271"/>
                      <a:pt x="463" y="296"/>
                    </a:cubicBezTo>
                    <a:cubicBezTo>
                      <a:pt x="459" y="321"/>
                      <a:pt x="443" y="330"/>
                      <a:pt x="437" y="348"/>
                    </a:cubicBezTo>
                    <a:cubicBezTo>
                      <a:pt x="431" y="366"/>
                      <a:pt x="431" y="392"/>
                      <a:pt x="429" y="404"/>
                    </a:cubicBezTo>
                    <a:cubicBezTo>
                      <a:pt x="427" y="416"/>
                      <a:pt x="431" y="423"/>
                      <a:pt x="425" y="420"/>
                    </a:cubicBezTo>
                    <a:cubicBezTo>
                      <a:pt x="419" y="417"/>
                      <a:pt x="402" y="396"/>
                      <a:pt x="393" y="388"/>
                    </a:cubicBezTo>
                    <a:cubicBezTo>
                      <a:pt x="384" y="380"/>
                      <a:pt x="382" y="377"/>
                      <a:pt x="369" y="372"/>
                    </a:cubicBezTo>
                    <a:cubicBezTo>
                      <a:pt x="356" y="367"/>
                      <a:pt x="333" y="359"/>
                      <a:pt x="317" y="360"/>
                    </a:cubicBezTo>
                    <a:cubicBezTo>
                      <a:pt x="301" y="361"/>
                      <a:pt x="286" y="372"/>
                      <a:pt x="273" y="380"/>
                    </a:cubicBezTo>
                    <a:cubicBezTo>
                      <a:pt x="260" y="388"/>
                      <a:pt x="245" y="406"/>
                      <a:pt x="237" y="408"/>
                    </a:cubicBezTo>
                    <a:cubicBezTo>
                      <a:pt x="229" y="410"/>
                      <a:pt x="235" y="399"/>
                      <a:pt x="223" y="392"/>
                    </a:cubicBezTo>
                    <a:cubicBezTo>
                      <a:pt x="211" y="385"/>
                      <a:pt x="185" y="372"/>
                      <a:pt x="165" y="368"/>
                    </a:cubicBezTo>
                    <a:cubicBezTo>
                      <a:pt x="145" y="364"/>
                      <a:pt x="120" y="363"/>
                      <a:pt x="105" y="368"/>
                    </a:cubicBezTo>
                    <a:cubicBezTo>
                      <a:pt x="90" y="373"/>
                      <a:pt x="82" y="393"/>
                      <a:pt x="73" y="400"/>
                    </a:cubicBezTo>
                    <a:cubicBezTo>
                      <a:pt x="64" y="407"/>
                      <a:pt x="56" y="413"/>
                      <a:pt x="49" y="412"/>
                    </a:cubicBezTo>
                    <a:cubicBezTo>
                      <a:pt x="42" y="411"/>
                      <a:pt x="37" y="404"/>
                      <a:pt x="31" y="392"/>
                    </a:cubicBezTo>
                    <a:cubicBezTo>
                      <a:pt x="25" y="380"/>
                      <a:pt x="18" y="360"/>
                      <a:pt x="13" y="340"/>
                    </a:cubicBezTo>
                    <a:cubicBezTo>
                      <a:pt x="8" y="320"/>
                      <a:pt x="2" y="293"/>
                      <a:pt x="1" y="272"/>
                    </a:cubicBezTo>
                    <a:cubicBezTo>
                      <a:pt x="0" y="251"/>
                      <a:pt x="0" y="232"/>
                      <a:pt x="5" y="212"/>
                    </a:cubicBezTo>
                    <a:cubicBezTo>
                      <a:pt x="10" y="192"/>
                      <a:pt x="22" y="171"/>
                      <a:pt x="31" y="152"/>
                    </a:cubicBezTo>
                    <a:cubicBezTo>
                      <a:pt x="40" y="133"/>
                      <a:pt x="49" y="124"/>
                      <a:pt x="57" y="100"/>
                    </a:cubicBezTo>
                    <a:cubicBezTo>
                      <a:pt x="65" y="76"/>
                      <a:pt x="75" y="27"/>
                      <a:pt x="79" y="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777777"/>
                  </a:gs>
                  <a:gs pos="50000">
                    <a:srgbClr val="333333"/>
                  </a:gs>
                  <a:gs pos="100000">
                    <a:srgbClr val="777777"/>
                  </a:gs>
                </a:gsLst>
                <a:lin ang="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Freeform 151"/>
              <p:cNvSpPr/>
              <p:nvPr/>
            </p:nvSpPr>
            <p:spPr>
              <a:xfrm>
                <a:off x="6033600" y="1814040"/>
                <a:ext cx="61920" cy="19296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192960"/>
                  <a:gd name="textAreaBottom" fmla="*/ 193320 h 192960"/>
                </a:gdLst>
                <a:ahLst/>
                <a:rect l="textAreaLeft" t="textAreaTop" r="textAreaRight" b="textAreaBottom"/>
                <a:pathLst>
                  <a:path w="48" h="144">
                    <a:moveTo>
                      <a:pt x="0" y="0"/>
                    </a:moveTo>
                    <a:lnTo>
                      <a:pt x="48" y="0"/>
                    </a:lnTo>
                    <a:lnTo>
                      <a:pt x="48" y="144"/>
                    </a:lnTo>
                    <a:lnTo>
                      <a:pt x="0" y="144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50000">
                    <a:srgbClr val="4d4d4d"/>
                  </a:gs>
                  <a:gs pos="100000">
                    <a:srgbClr val="000000"/>
                  </a:gs>
                </a:gsLst>
                <a:lin ang="5400000"/>
              </a:gra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Freeform 152"/>
              <p:cNvSpPr/>
              <p:nvPr/>
            </p:nvSpPr>
            <p:spPr>
              <a:xfrm>
                <a:off x="6150600" y="1806840"/>
                <a:ext cx="162360" cy="194040"/>
              </a:xfrm>
              <a:custGeom>
                <a:avLst/>
                <a:gdLst>
                  <a:gd name="textAreaLeft" fmla="*/ 0 w 162360"/>
                  <a:gd name="textAreaRight" fmla="*/ 162720 w 162360"/>
                  <a:gd name="textAreaTop" fmla="*/ 0 h 194040"/>
                  <a:gd name="textAreaBottom" fmla="*/ 194400 h 194040"/>
                </a:gdLst>
                <a:ahLst/>
                <a:rect l="textAreaLeft" t="textAreaTop" r="textAreaRight" b="textAreaBottom"/>
                <a:pathLst>
                  <a:path w="128" h="144">
                    <a:moveTo>
                      <a:pt x="127" y="133"/>
                    </a:moveTo>
                    <a:lnTo>
                      <a:pt x="128" y="144"/>
                    </a:lnTo>
                    <a:lnTo>
                      <a:pt x="0" y="4"/>
                    </a:lnTo>
                    <a:lnTo>
                      <a:pt x="60" y="0"/>
                    </a:lnTo>
                    <a:lnTo>
                      <a:pt x="127" y="13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50000">
                    <a:srgbClr val="4d4d4d"/>
                  </a:gs>
                  <a:gs pos="100000">
                    <a:srgbClr val="000000"/>
                  </a:gs>
                </a:gsLst>
                <a:lin ang="5400000"/>
              </a:gra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Freeform 153"/>
              <p:cNvSpPr/>
              <p:nvPr/>
            </p:nvSpPr>
            <p:spPr>
              <a:xfrm>
                <a:off x="5794920" y="1802520"/>
                <a:ext cx="133920" cy="204480"/>
              </a:xfrm>
              <a:custGeom>
                <a:avLst/>
                <a:gdLst>
                  <a:gd name="textAreaLeft" fmla="*/ 0 w 133920"/>
                  <a:gd name="textAreaRight" fmla="*/ 134280 w 133920"/>
                  <a:gd name="textAreaTop" fmla="*/ 0 h 204480"/>
                  <a:gd name="textAreaBottom" fmla="*/ 204840 h 204480"/>
                </a:gdLst>
                <a:ahLst/>
                <a:rect l="textAreaLeft" t="textAreaTop" r="textAreaRight" b="textAreaBottom"/>
                <a:pathLst>
                  <a:path w="104" h="152">
                    <a:moveTo>
                      <a:pt x="0" y="152"/>
                    </a:moveTo>
                    <a:lnTo>
                      <a:pt x="8" y="136"/>
                    </a:lnTo>
                    <a:lnTo>
                      <a:pt x="44" y="0"/>
                    </a:lnTo>
                    <a:lnTo>
                      <a:pt x="104" y="8"/>
                    </a:lnTo>
                    <a:lnTo>
                      <a:pt x="0" y="1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50000">
                    <a:srgbClr val="4d4d4d"/>
                  </a:gs>
                  <a:gs pos="100000">
                    <a:srgbClr val="000000"/>
                  </a:gs>
                </a:gsLst>
                <a:lin ang="5400000"/>
              </a:gra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Freeform 154"/>
              <p:cNvSpPr/>
              <p:nvPr/>
            </p:nvSpPr>
            <p:spPr>
              <a:xfrm>
                <a:off x="5841000" y="1527480"/>
                <a:ext cx="402480" cy="290520"/>
              </a:xfrm>
              <a:custGeom>
                <a:avLst/>
                <a:gdLst>
                  <a:gd name="textAreaLeft" fmla="*/ 0 w 402480"/>
                  <a:gd name="textAreaRight" fmla="*/ 402840 w 402480"/>
                  <a:gd name="textAreaTop" fmla="*/ 0 h 290520"/>
                  <a:gd name="textAreaBottom" fmla="*/ 290880 h 290520"/>
                </a:gdLst>
                <a:ahLst/>
                <a:rect l="textAreaLeft" t="textAreaTop" r="textAreaRight" b="textAreaBottom"/>
                <a:pathLst>
                  <a:path w="313" h="215">
                    <a:moveTo>
                      <a:pt x="6" y="212"/>
                    </a:moveTo>
                    <a:cubicBezTo>
                      <a:pt x="13" y="215"/>
                      <a:pt x="1" y="209"/>
                      <a:pt x="44" y="208"/>
                    </a:cubicBezTo>
                    <a:cubicBezTo>
                      <a:pt x="87" y="207"/>
                      <a:pt x="221" y="205"/>
                      <a:pt x="264" y="204"/>
                    </a:cubicBezTo>
                    <a:cubicBezTo>
                      <a:pt x="307" y="203"/>
                      <a:pt x="296" y="213"/>
                      <a:pt x="304" y="204"/>
                    </a:cubicBezTo>
                    <a:cubicBezTo>
                      <a:pt x="312" y="195"/>
                      <a:pt x="311" y="171"/>
                      <a:pt x="312" y="152"/>
                    </a:cubicBezTo>
                    <a:cubicBezTo>
                      <a:pt x="313" y="133"/>
                      <a:pt x="313" y="111"/>
                      <a:pt x="308" y="92"/>
                    </a:cubicBezTo>
                    <a:cubicBezTo>
                      <a:pt x="303" y="73"/>
                      <a:pt x="294" y="52"/>
                      <a:pt x="284" y="40"/>
                    </a:cubicBezTo>
                    <a:cubicBezTo>
                      <a:pt x="274" y="28"/>
                      <a:pt x="261" y="26"/>
                      <a:pt x="248" y="20"/>
                    </a:cubicBezTo>
                    <a:cubicBezTo>
                      <a:pt x="235" y="14"/>
                      <a:pt x="219" y="0"/>
                      <a:pt x="204" y="4"/>
                    </a:cubicBezTo>
                    <a:cubicBezTo>
                      <a:pt x="189" y="8"/>
                      <a:pt x="169" y="37"/>
                      <a:pt x="160" y="44"/>
                    </a:cubicBezTo>
                    <a:cubicBezTo>
                      <a:pt x="151" y="51"/>
                      <a:pt x="161" y="50"/>
                      <a:pt x="152" y="44"/>
                    </a:cubicBezTo>
                    <a:cubicBezTo>
                      <a:pt x="143" y="38"/>
                      <a:pt x="120" y="13"/>
                      <a:pt x="108" y="8"/>
                    </a:cubicBezTo>
                    <a:cubicBezTo>
                      <a:pt x="96" y="3"/>
                      <a:pt x="91" y="9"/>
                      <a:pt x="80" y="16"/>
                    </a:cubicBezTo>
                    <a:cubicBezTo>
                      <a:pt x="69" y="23"/>
                      <a:pt x="55" y="37"/>
                      <a:pt x="44" y="48"/>
                    </a:cubicBezTo>
                    <a:cubicBezTo>
                      <a:pt x="33" y="59"/>
                      <a:pt x="22" y="73"/>
                      <a:pt x="16" y="84"/>
                    </a:cubicBezTo>
                    <a:cubicBezTo>
                      <a:pt x="10" y="95"/>
                      <a:pt x="8" y="103"/>
                      <a:pt x="6" y="116"/>
                    </a:cubicBezTo>
                    <a:cubicBezTo>
                      <a:pt x="4" y="129"/>
                      <a:pt x="7" y="151"/>
                      <a:pt x="6" y="164"/>
                    </a:cubicBezTo>
                    <a:cubicBezTo>
                      <a:pt x="5" y="177"/>
                      <a:pt x="0" y="184"/>
                      <a:pt x="0" y="192"/>
                    </a:cubicBezTo>
                    <a:cubicBezTo>
                      <a:pt x="0" y="200"/>
                      <a:pt x="2" y="209"/>
                      <a:pt x="6" y="212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Freeform 155"/>
              <p:cNvSpPr/>
              <p:nvPr/>
            </p:nvSpPr>
            <p:spPr>
              <a:xfrm>
                <a:off x="6157800" y="1524600"/>
                <a:ext cx="253080" cy="429120"/>
              </a:xfrm>
              <a:custGeom>
                <a:avLst/>
                <a:gdLst>
                  <a:gd name="textAreaLeft" fmla="*/ 0 w 253080"/>
                  <a:gd name="textAreaRight" fmla="*/ 253440 w 253080"/>
                  <a:gd name="textAreaTop" fmla="*/ 0 h 429120"/>
                  <a:gd name="textAreaBottom" fmla="*/ 429480 h 429120"/>
                </a:gdLst>
                <a:ahLst/>
                <a:rect l="textAreaLeft" t="textAreaTop" r="textAreaRight" b="textAreaBottom"/>
                <a:pathLst>
                  <a:path w="198" h="320">
                    <a:moveTo>
                      <a:pt x="0" y="23"/>
                    </a:moveTo>
                    <a:cubicBezTo>
                      <a:pt x="8" y="16"/>
                      <a:pt x="48" y="0"/>
                      <a:pt x="74" y="7"/>
                    </a:cubicBezTo>
                    <a:cubicBezTo>
                      <a:pt x="100" y="14"/>
                      <a:pt x="139" y="46"/>
                      <a:pt x="154" y="67"/>
                    </a:cubicBezTo>
                    <a:cubicBezTo>
                      <a:pt x="169" y="88"/>
                      <a:pt x="163" y="116"/>
                      <a:pt x="166" y="135"/>
                    </a:cubicBezTo>
                    <a:cubicBezTo>
                      <a:pt x="169" y="154"/>
                      <a:pt x="168" y="161"/>
                      <a:pt x="170" y="179"/>
                    </a:cubicBezTo>
                    <a:cubicBezTo>
                      <a:pt x="172" y="197"/>
                      <a:pt x="174" y="229"/>
                      <a:pt x="178" y="243"/>
                    </a:cubicBezTo>
                    <a:cubicBezTo>
                      <a:pt x="182" y="257"/>
                      <a:pt x="198" y="252"/>
                      <a:pt x="192" y="263"/>
                    </a:cubicBezTo>
                    <a:cubicBezTo>
                      <a:pt x="186" y="274"/>
                      <a:pt x="156" y="302"/>
                      <a:pt x="144" y="311"/>
                    </a:cubicBezTo>
                    <a:cubicBezTo>
                      <a:pt x="132" y="320"/>
                      <a:pt x="126" y="319"/>
                      <a:pt x="118" y="315"/>
                    </a:cubicBezTo>
                    <a:cubicBezTo>
                      <a:pt x="110" y="311"/>
                      <a:pt x="108" y="303"/>
                      <a:pt x="98" y="287"/>
                    </a:cubicBezTo>
                    <a:cubicBezTo>
                      <a:pt x="88" y="271"/>
                      <a:pt x="63" y="236"/>
                      <a:pt x="58" y="219"/>
                    </a:cubicBezTo>
                    <a:cubicBezTo>
                      <a:pt x="53" y="202"/>
                      <a:pt x="65" y="199"/>
                      <a:pt x="66" y="183"/>
                    </a:cubicBezTo>
                    <a:cubicBezTo>
                      <a:pt x="67" y="167"/>
                      <a:pt x="69" y="142"/>
                      <a:pt x="66" y="123"/>
                    </a:cubicBezTo>
                    <a:cubicBezTo>
                      <a:pt x="63" y="104"/>
                      <a:pt x="53" y="85"/>
                      <a:pt x="48" y="71"/>
                    </a:cubicBezTo>
                    <a:cubicBezTo>
                      <a:pt x="43" y="57"/>
                      <a:pt x="42" y="47"/>
                      <a:pt x="34" y="39"/>
                    </a:cubicBezTo>
                    <a:cubicBezTo>
                      <a:pt x="26" y="31"/>
                      <a:pt x="7" y="26"/>
                      <a:pt x="0" y="23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Freeform 156"/>
              <p:cNvSpPr/>
              <p:nvPr/>
            </p:nvSpPr>
            <p:spPr>
              <a:xfrm>
                <a:off x="5661000" y="1531800"/>
                <a:ext cx="284760" cy="432000"/>
              </a:xfrm>
              <a:custGeom>
                <a:avLst/>
                <a:gdLst>
                  <a:gd name="textAreaLeft" fmla="*/ 0 w 284760"/>
                  <a:gd name="textAreaRight" fmla="*/ 285120 w 284760"/>
                  <a:gd name="textAreaTop" fmla="*/ 0 h 432000"/>
                  <a:gd name="textAreaBottom" fmla="*/ 432360 h 432000"/>
                </a:gdLst>
                <a:ahLst/>
                <a:rect l="textAreaLeft" t="textAreaTop" r="textAreaRight" b="textAreaBottom"/>
                <a:pathLst>
                  <a:path w="222" h="322">
                    <a:moveTo>
                      <a:pt x="221" y="24"/>
                    </a:moveTo>
                    <a:cubicBezTo>
                      <a:pt x="222" y="15"/>
                      <a:pt x="202" y="4"/>
                      <a:pt x="185" y="2"/>
                    </a:cubicBezTo>
                    <a:cubicBezTo>
                      <a:pt x="168" y="0"/>
                      <a:pt x="144" y="0"/>
                      <a:pt x="121" y="10"/>
                    </a:cubicBezTo>
                    <a:cubicBezTo>
                      <a:pt x="98" y="20"/>
                      <a:pt x="61" y="40"/>
                      <a:pt x="47" y="60"/>
                    </a:cubicBezTo>
                    <a:cubicBezTo>
                      <a:pt x="33" y="80"/>
                      <a:pt x="38" y="109"/>
                      <a:pt x="35" y="128"/>
                    </a:cubicBezTo>
                    <a:cubicBezTo>
                      <a:pt x="32" y="147"/>
                      <a:pt x="33" y="154"/>
                      <a:pt x="31" y="172"/>
                    </a:cubicBezTo>
                    <a:cubicBezTo>
                      <a:pt x="29" y="190"/>
                      <a:pt x="27" y="222"/>
                      <a:pt x="23" y="236"/>
                    </a:cubicBezTo>
                    <a:cubicBezTo>
                      <a:pt x="19" y="250"/>
                      <a:pt x="0" y="246"/>
                      <a:pt x="9" y="256"/>
                    </a:cubicBezTo>
                    <a:cubicBezTo>
                      <a:pt x="18" y="266"/>
                      <a:pt x="59" y="288"/>
                      <a:pt x="77" y="298"/>
                    </a:cubicBezTo>
                    <a:cubicBezTo>
                      <a:pt x="95" y="308"/>
                      <a:pt x="109" y="322"/>
                      <a:pt x="117" y="318"/>
                    </a:cubicBezTo>
                    <a:cubicBezTo>
                      <a:pt x="125" y="314"/>
                      <a:pt x="121" y="292"/>
                      <a:pt x="125" y="274"/>
                    </a:cubicBezTo>
                    <a:cubicBezTo>
                      <a:pt x="129" y="256"/>
                      <a:pt x="140" y="228"/>
                      <a:pt x="143" y="212"/>
                    </a:cubicBezTo>
                    <a:cubicBezTo>
                      <a:pt x="146" y="196"/>
                      <a:pt x="145" y="189"/>
                      <a:pt x="145" y="178"/>
                    </a:cubicBezTo>
                    <a:cubicBezTo>
                      <a:pt x="145" y="167"/>
                      <a:pt x="143" y="164"/>
                      <a:pt x="145" y="148"/>
                    </a:cubicBezTo>
                    <a:cubicBezTo>
                      <a:pt x="147" y="132"/>
                      <a:pt x="154" y="97"/>
                      <a:pt x="157" y="84"/>
                    </a:cubicBezTo>
                    <a:cubicBezTo>
                      <a:pt x="160" y="71"/>
                      <a:pt x="161" y="77"/>
                      <a:pt x="165" y="72"/>
                    </a:cubicBezTo>
                    <a:cubicBezTo>
                      <a:pt x="169" y="67"/>
                      <a:pt x="172" y="64"/>
                      <a:pt x="181" y="56"/>
                    </a:cubicBezTo>
                    <a:cubicBezTo>
                      <a:pt x="190" y="48"/>
                      <a:pt x="213" y="31"/>
                      <a:pt x="221" y="2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Freeform 157"/>
              <p:cNvSpPr/>
              <p:nvPr/>
            </p:nvSpPr>
            <p:spPr>
              <a:xfrm>
                <a:off x="5678280" y="1814040"/>
                <a:ext cx="142560" cy="138240"/>
              </a:xfrm>
              <a:custGeom>
                <a:avLst/>
                <a:gdLst>
                  <a:gd name="textAreaLeft" fmla="*/ 0 w 142560"/>
                  <a:gd name="textAreaRight" fmla="*/ 142920 w 142560"/>
                  <a:gd name="textAreaTop" fmla="*/ 0 h 138240"/>
                  <a:gd name="textAreaBottom" fmla="*/ 138600 h 138240"/>
                </a:gdLst>
                <a:ahLst/>
                <a:rect l="textAreaLeft" t="textAreaTop" r="textAreaRight" b="textAreaBottom"/>
                <a:pathLst>
                  <a:path w="112" h="104">
                    <a:moveTo>
                      <a:pt x="20" y="0"/>
                    </a:moveTo>
                    <a:lnTo>
                      <a:pt x="16" y="0"/>
                    </a:lnTo>
                    <a:lnTo>
                      <a:pt x="0" y="44"/>
                    </a:lnTo>
                    <a:lnTo>
                      <a:pt x="100" y="104"/>
                    </a:lnTo>
                    <a:lnTo>
                      <a:pt x="112" y="64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Freeform 158"/>
              <p:cNvSpPr/>
              <p:nvPr/>
            </p:nvSpPr>
            <p:spPr>
              <a:xfrm>
                <a:off x="5927400" y="1479960"/>
                <a:ext cx="106200" cy="128160"/>
              </a:xfrm>
              <a:custGeom>
                <a:avLst/>
                <a:gdLst>
                  <a:gd name="textAreaLeft" fmla="*/ 0 w 106200"/>
                  <a:gd name="textAreaRight" fmla="*/ 106560 w 106200"/>
                  <a:gd name="textAreaTop" fmla="*/ 0 h 128160"/>
                  <a:gd name="textAreaBottom" fmla="*/ 128520 h 128160"/>
                </a:gdLst>
                <a:ahLst/>
                <a:rect l="textAreaLeft" t="textAreaTop" r="textAreaRight" b="textAreaBottom"/>
                <a:pathLst>
                  <a:path w="84" h="96">
                    <a:moveTo>
                      <a:pt x="40" y="0"/>
                    </a:moveTo>
                    <a:cubicBezTo>
                      <a:pt x="34" y="12"/>
                      <a:pt x="43" y="12"/>
                      <a:pt x="28" y="12"/>
                    </a:cubicBezTo>
                    <a:lnTo>
                      <a:pt x="0" y="28"/>
                    </a:lnTo>
                    <a:lnTo>
                      <a:pt x="56" y="96"/>
                    </a:lnTo>
                    <a:lnTo>
                      <a:pt x="84" y="60"/>
                    </a:lnTo>
                    <a:lnTo>
                      <a:pt x="32" y="8"/>
                    </a:ln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Freeform 159"/>
              <p:cNvSpPr/>
              <p:nvPr/>
            </p:nvSpPr>
            <p:spPr>
              <a:xfrm flipH="1">
                <a:off x="6030360" y="1479960"/>
                <a:ext cx="106200" cy="128160"/>
              </a:xfrm>
              <a:custGeom>
                <a:avLst/>
                <a:gdLst>
                  <a:gd name="textAreaLeft" fmla="*/ -360 w 106200"/>
                  <a:gd name="textAreaRight" fmla="*/ 106200 w 106200"/>
                  <a:gd name="textAreaTop" fmla="*/ 0 h 128160"/>
                  <a:gd name="textAreaBottom" fmla="*/ 128520 h 128160"/>
                </a:gdLst>
                <a:ahLst/>
                <a:rect l="textAreaLeft" t="textAreaTop" r="textAreaRight" b="textAreaBottom"/>
                <a:pathLst>
                  <a:path w="84" h="96">
                    <a:moveTo>
                      <a:pt x="40" y="0"/>
                    </a:moveTo>
                    <a:cubicBezTo>
                      <a:pt x="34" y="12"/>
                      <a:pt x="43" y="12"/>
                      <a:pt x="28" y="12"/>
                    </a:cubicBezTo>
                    <a:lnTo>
                      <a:pt x="0" y="28"/>
                    </a:lnTo>
                    <a:lnTo>
                      <a:pt x="56" y="96"/>
                    </a:lnTo>
                    <a:lnTo>
                      <a:pt x="84" y="60"/>
                    </a:lnTo>
                    <a:lnTo>
                      <a:pt x="32" y="8"/>
                    </a:ln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Freeform 160"/>
              <p:cNvSpPr/>
              <p:nvPr/>
            </p:nvSpPr>
            <p:spPr>
              <a:xfrm>
                <a:off x="6042600" y="1814040"/>
                <a:ext cx="10080" cy="53604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536040"/>
                  <a:gd name="textAreaBottom" fmla="*/ 536400 h 536040"/>
                </a:gdLst>
                <a:ahLst/>
                <a:rect l="textAreaLeft" t="textAreaTop" r="textAreaRight" b="textAreaBottom"/>
                <a:pathLst>
                  <a:path w="8" h="400">
                    <a:moveTo>
                      <a:pt x="0" y="0"/>
                    </a:moveTo>
                    <a:lnTo>
                      <a:pt x="8" y="40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Freeform 161"/>
              <p:cNvSpPr/>
              <p:nvPr/>
            </p:nvSpPr>
            <p:spPr>
              <a:xfrm>
                <a:off x="6036480" y="1582200"/>
                <a:ext cx="1440" cy="21456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214560"/>
                  <a:gd name="textAreaBottom" fmla="*/ 214920 h 214560"/>
                </a:gdLst>
                <a:ahLst/>
                <a:rect l="textAreaLeft" t="textAreaTop" r="textAreaRight" b="textAreaBottom"/>
                <a:pathLst>
                  <a:path w="1" h="160">
                    <a:moveTo>
                      <a:pt x="0" y="0"/>
                    </a:moveTo>
                    <a:lnTo>
                      <a:pt x="0" y="16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Freeform 162"/>
              <p:cNvSpPr/>
              <p:nvPr/>
            </p:nvSpPr>
            <p:spPr>
              <a:xfrm>
                <a:off x="5816520" y="2269440"/>
                <a:ext cx="488880" cy="132120"/>
              </a:xfrm>
              <a:custGeom>
                <a:avLst/>
                <a:gdLst>
                  <a:gd name="textAreaLeft" fmla="*/ 0 w 488880"/>
                  <a:gd name="textAreaRight" fmla="*/ 489240 w 488880"/>
                  <a:gd name="textAreaTop" fmla="*/ 0 h 132120"/>
                  <a:gd name="textAreaBottom" fmla="*/ 132480 h 132120"/>
                </a:gdLst>
                <a:ahLst/>
                <a:rect l="textAreaLeft" t="textAreaTop" r="textAreaRight" b="textAreaBottom"/>
                <a:pathLst>
                  <a:path w="352" h="95">
                    <a:moveTo>
                      <a:pt x="10" y="49"/>
                    </a:moveTo>
                    <a:cubicBezTo>
                      <a:pt x="0" y="62"/>
                      <a:pt x="3" y="80"/>
                      <a:pt x="11" y="86"/>
                    </a:cubicBezTo>
                    <a:cubicBezTo>
                      <a:pt x="19" y="92"/>
                      <a:pt x="31" y="86"/>
                      <a:pt x="59" y="86"/>
                    </a:cubicBezTo>
                    <a:cubicBezTo>
                      <a:pt x="87" y="86"/>
                      <a:pt x="136" y="88"/>
                      <a:pt x="181" y="88"/>
                    </a:cubicBezTo>
                    <a:cubicBezTo>
                      <a:pt x="226" y="88"/>
                      <a:pt x="304" y="95"/>
                      <a:pt x="328" y="88"/>
                    </a:cubicBezTo>
                    <a:cubicBezTo>
                      <a:pt x="352" y="81"/>
                      <a:pt x="339" y="58"/>
                      <a:pt x="325" y="43"/>
                    </a:cubicBezTo>
                    <a:cubicBezTo>
                      <a:pt x="311" y="28"/>
                      <a:pt x="268" y="2"/>
                      <a:pt x="244" y="1"/>
                    </a:cubicBezTo>
                    <a:cubicBezTo>
                      <a:pt x="220" y="0"/>
                      <a:pt x="191" y="26"/>
                      <a:pt x="181" y="40"/>
                    </a:cubicBezTo>
                    <a:cubicBezTo>
                      <a:pt x="171" y="54"/>
                      <a:pt x="191" y="86"/>
                      <a:pt x="187" y="85"/>
                    </a:cubicBezTo>
                    <a:cubicBezTo>
                      <a:pt x="183" y="84"/>
                      <a:pt x="173" y="47"/>
                      <a:pt x="154" y="34"/>
                    </a:cubicBezTo>
                    <a:cubicBezTo>
                      <a:pt x="135" y="21"/>
                      <a:pt x="94" y="4"/>
                      <a:pt x="70" y="7"/>
                    </a:cubicBezTo>
                    <a:cubicBezTo>
                      <a:pt x="46" y="10"/>
                      <a:pt x="20" y="36"/>
                      <a:pt x="10" y="49"/>
                    </a:cubicBezTo>
                    <a:close/>
                  </a:path>
                </a:pathLst>
              </a:custGeom>
              <a:blipFill rotWithShape="0">
                <a:blip r:embed="rId17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Freeform 163"/>
              <p:cNvSpPr/>
              <p:nvPr/>
            </p:nvSpPr>
            <p:spPr>
              <a:xfrm>
                <a:off x="5748840" y="880920"/>
                <a:ext cx="553680" cy="424800"/>
              </a:xfrm>
              <a:custGeom>
                <a:avLst/>
                <a:gdLst>
                  <a:gd name="textAreaLeft" fmla="*/ 0 w 553680"/>
                  <a:gd name="textAreaRight" fmla="*/ 554040 w 553680"/>
                  <a:gd name="textAreaTop" fmla="*/ 0 h 424800"/>
                  <a:gd name="textAreaBottom" fmla="*/ 425160 h 424800"/>
                </a:gdLst>
                <a:ahLst/>
                <a:rect l="textAreaLeft" t="textAreaTop" r="textAreaRight" b="textAreaBottom"/>
                <a:pathLst>
                  <a:path w="400" h="301">
                    <a:moveTo>
                      <a:pt x="378" y="286"/>
                    </a:moveTo>
                    <a:cubicBezTo>
                      <a:pt x="381" y="275"/>
                      <a:pt x="398" y="234"/>
                      <a:pt x="399" y="220"/>
                    </a:cubicBezTo>
                    <a:cubicBezTo>
                      <a:pt x="400" y="206"/>
                      <a:pt x="386" y="211"/>
                      <a:pt x="384" y="202"/>
                    </a:cubicBezTo>
                    <a:cubicBezTo>
                      <a:pt x="382" y="193"/>
                      <a:pt x="391" y="174"/>
                      <a:pt x="387" y="166"/>
                    </a:cubicBezTo>
                    <a:cubicBezTo>
                      <a:pt x="383" y="158"/>
                      <a:pt x="363" y="158"/>
                      <a:pt x="360" y="151"/>
                    </a:cubicBezTo>
                    <a:cubicBezTo>
                      <a:pt x="357" y="144"/>
                      <a:pt x="367" y="125"/>
                      <a:pt x="366" y="121"/>
                    </a:cubicBezTo>
                    <a:cubicBezTo>
                      <a:pt x="365" y="117"/>
                      <a:pt x="363" y="133"/>
                      <a:pt x="351" y="124"/>
                    </a:cubicBezTo>
                    <a:cubicBezTo>
                      <a:pt x="339" y="115"/>
                      <a:pt x="308" y="77"/>
                      <a:pt x="294" y="67"/>
                    </a:cubicBezTo>
                    <a:cubicBezTo>
                      <a:pt x="280" y="57"/>
                      <a:pt x="275" y="66"/>
                      <a:pt x="267" y="64"/>
                    </a:cubicBezTo>
                    <a:cubicBezTo>
                      <a:pt x="259" y="62"/>
                      <a:pt x="248" y="59"/>
                      <a:pt x="247" y="53"/>
                    </a:cubicBezTo>
                    <a:cubicBezTo>
                      <a:pt x="246" y="47"/>
                      <a:pt x="255" y="32"/>
                      <a:pt x="261" y="28"/>
                    </a:cubicBezTo>
                    <a:cubicBezTo>
                      <a:pt x="267" y="24"/>
                      <a:pt x="282" y="35"/>
                      <a:pt x="282" y="31"/>
                    </a:cubicBezTo>
                    <a:cubicBezTo>
                      <a:pt x="282" y="27"/>
                      <a:pt x="273" y="0"/>
                      <a:pt x="264" y="1"/>
                    </a:cubicBezTo>
                    <a:cubicBezTo>
                      <a:pt x="255" y="2"/>
                      <a:pt x="235" y="31"/>
                      <a:pt x="228" y="40"/>
                    </a:cubicBezTo>
                    <a:cubicBezTo>
                      <a:pt x="221" y="49"/>
                      <a:pt x="225" y="60"/>
                      <a:pt x="219" y="55"/>
                    </a:cubicBezTo>
                    <a:cubicBezTo>
                      <a:pt x="213" y="50"/>
                      <a:pt x="197" y="15"/>
                      <a:pt x="192" y="10"/>
                    </a:cubicBezTo>
                    <a:cubicBezTo>
                      <a:pt x="187" y="5"/>
                      <a:pt x="184" y="15"/>
                      <a:pt x="186" y="22"/>
                    </a:cubicBezTo>
                    <a:cubicBezTo>
                      <a:pt x="188" y="29"/>
                      <a:pt x="208" y="57"/>
                      <a:pt x="204" y="55"/>
                    </a:cubicBezTo>
                    <a:cubicBezTo>
                      <a:pt x="200" y="53"/>
                      <a:pt x="172" y="17"/>
                      <a:pt x="162" y="10"/>
                    </a:cubicBezTo>
                    <a:cubicBezTo>
                      <a:pt x="152" y="3"/>
                      <a:pt x="151" y="15"/>
                      <a:pt x="144" y="16"/>
                    </a:cubicBezTo>
                    <a:cubicBezTo>
                      <a:pt x="137" y="17"/>
                      <a:pt x="125" y="16"/>
                      <a:pt x="120" y="19"/>
                    </a:cubicBezTo>
                    <a:cubicBezTo>
                      <a:pt x="115" y="22"/>
                      <a:pt x="110" y="31"/>
                      <a:pt x="114" y="34"/>
                    </a:cubicBezTo>
                    <a:cubicBezTo>
                      <a:pt x="118" y="37"/>
                      <a:pt x="140" y="33"/>
                      <a:pt x="147" y="37"/>
                    </a:cubicBezTo>
                    <a:cubicBezTo>
                      <a:pt x="154" y="41"/>
                      <a:pt x="163" y="55"/>
                      <a:pt x="159" y="58"/>
                    </a:cubicBezTo>
                    <a:cubicBezTo>
                      <a:pt x="155" y="61"/>
                      <a:pt x="133" y="53"/>
                      <a:pt x="126" y="55"/>
                    </a:cubicBezTo>
                    <a:cubicBezTo>
                      <a:pt x="119" y="57"/>
                      <a:pt x="119" y="69"/>
                      <a:pt x="114" y="73"/>
                    </a:cubicBezTo>
                    <a:cubicBezTo>
                      <a:pt x="109" y="77"/>
                      <a:pt x="100" y="76"/>
                      <a:pt x="93" y="79"/>
                    </a:cubicBezTo>
                    <a:cubicBezTo>
                      <a:pt x="86" y="82"/>
                      <a:pt x="79" y="89"/>
                      <a:pt x="72" y="94"/>
                    </a:cubicBezTo>
                    <a:cubicBezTo>
                      <a:pt x="65" y="99"/>
                      <a:pt x="56" y="101"/>
                      <a:pt x="54" y="106"/>
                    </a:cubicBezTo>
                    <a:cubicBezTo>
                      <a:pt x="52" y="111"/>
                      <a:pt x="61" y="118"/>
                      <a:pt x="60" y="124"/>
                    </a:cubicBezTo>
                    <a:cubicBezTo>
                      <a:pt x="59" y="130"/>
                      <a:pt x="51" y="137"/>
                      <a:pt x="45" y="142"/>
                    </a:cubicBezTo>
                    <a:cubicBezTo>
                      <a:pt x="39" y="147"/>
                      <a:pt x="33" y="142"/>
                      <a:pt x="27" y="154"/>
                    </a:cubicBezTo>
                    <a:cubicBezTo>
                      <a:pt x="21" y="166"/>
                      <a:pt x="16" y="194"/>
                      <a:pt x="12" y="214"/>
                    </a:cubicBezTo>
                    <a:cubicBezTo>
                      <a:pt x="8" y="234"/>
                      <a:pt x="0" y="260"/>
                      <a:pt x="3" y="274"/>
                    </a:cubicBezTo>
                    <a:cubicBezTo>
                      <a:pt x="6" y="288"/>
                      <a:pt x="27" y="295"/>
                      <a:pt x="33" y="301"/>
                    </a:cubicBezTo>
                  </a:path>
                </a:pathLst>
              </a:custGeom>
              <a:gradFill rotWithShape="0">
                <a:gsLst>
                  <a:gs pos="0">
                    <a:srgbClr val="d20000"/>
                  </a:gs>
                  <a:gs pos="50000">
                    <a:srgbClr val="993300"/>
                  </a:gs>
                  <a:gs pos="100000">
                    <a:srgbClr val="d20000"/>
                  </a:gs>
                </a:gsLst>
                <a:lin ang="18900000"/>
              </a:gra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Freeform 164"/>
              <p:cNvSpPr/>
              <p:nvPr/>
            </p:nvSpPr>
            <p:spPr>
              <a:xfrm>
                <a:off x="6305760" y="1900800"/>
                <a:ext cx="140760" cy="149400"/>
              </a:xfrm>
              <a:custGeom>
                <a:avLst/>
                <a:gdLst>
                  <a:gd name="textAreaLeft" fmla="*/ 0 w 140760"/>
                  <a:gd name="textAreaRight" fmla="*/ 141120 w 140760"/>
                  <a:gd name="textAreaTop" fmla="*/ 0 h 149400"/>
                  <a:gd name="textAreaBottom" fmla="*/ 149760 h 149400"/>
                </a:gdLst>
                <a:ahLst/>
                <a:rect l="textAreaLeft" t="textAreaTop" r="textAreaRight" b="textAreaBottom"/>
                <a:pathLst>
                  <a:path w="99" h="101">
                    <a:moveTo>
                      <a:pt x="66" y="0"/>
                    </a:moveTo>
                    <a:cubicBezTo>
                      <a:pt x="70" y="4"/>
                      <a:pt x="86" y="8"/>
                      <a:pt x="91" y="19"/>
                    </a:cubicBezTo>
                    <a:cubicBezTo>
                      <a:pt x="96" y="30"/>
                      <a:pt x="99" y="53"/>
                      <a:pt x="97" y="65"/>
                    </a:cubicBezTo>
                    <a:cubicBezTo>
                      <a:pt x="95" y="77"/>
                      <a:pt x="88" y="85"/>
                      <a:pt x="78" y="90"/>
                    </a:cubicBezTo>
                    <a:cubicBezTo>
                      <a:pt x="68" y="95"/>
                      <a:pt x="48" y="101"/>
                      <a:pt x="36" y="96"/>
                    </a:cubicBezTo>
                    <a:cubicBezTo>
                      <a:pt x="24" y="91"/>
                      <a:pt x="8" y="70"/>
                      <a:pt x="4" y="59"/>
                    </a:cubicBezTo>
                    <a:cubicBezTo>
                      <a:pt x="0" y="48"/>
                      <a:pt x="10" y="36"/>
                      <a:pt x="12" y="30"/>
                    </a:cubicBezTo>
                  </a:path>
                </a:pathLst>
              </a:custGeom>
              <a:blipFill rotWithShape="0">
                <a:blip r:embed="rId18"/>
                <a:srcRect/>
                <a:stretch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Freeform 165"/>
              <p:cNvSpPr/>
              <p:nvPr/>
            </p:nvSpPr>
            <p:spPr>
              <a:xfrm>
                <a:off x="5618160" y="1880280"/>
                <a:ext cx="153720" cy="164160"/>
              </a:xfrm>
              <a:custGeom>
                <a:avLst/>
                <a:gdLst>
                  <a:gd name="textAreaLeft" fmla="*/ 0 w 153720"/>
                  <a:gd name="textAreaRight" fmla="*/ 154080 w 153720"/>
                  <a:gd name="textAreaTop" fmla="*/ 0 h 164160"/>
                  <a:gd name="textAreaBottom" fmla="*/ 164520 h 164160"/>
                </a:gdLst>
                <a:ahLst/>
                <a:rect l="textAreaLeft" t="textAreaTop" r="textAreaRight" b="textAreaBottom"/>
                <a:pathLst>
                  <a:path w="108" h="111">
                    <a:moveTo>
                      <a:pt x="48" y="0"/>
                    </a:moveTo>
                    <a:cubicBezTo>
                      <a:pt x="42" y="5"/>
                      <a:pt x="17" y="19"/>
                      <a:pt x="10" y="31"/>
                    </a:cubicBezTo>
                    <a:cubicBezTo>
                      <a:pt x="2" y="44"/>
                      <a:pt x="0" y="66"/>
                      <a:pt x="4" y="77"/>
                    </a:cubicBezTo>
                    <a:cubicBezTo>
                      <a:pt x="8" y="87"/>
                      <a:pt x="26" y="86"/>
                      <a:pt x="36" y="91"/>
                    </a:cubicBezTo>
                    <a:cubicBezTo>
                      <a:pt x="46" y="96"/>
                      <a:pt x="55" y="111"/>
                      <a:pt x="65" y="108"/>
                    </a:cubicBezTo>
                    <a:cubicBezTo>
                      <a:pt x="75" y="105"/>
                      <a:pt x="90" y="82"/>
                      <a:pt x="97" y="71"/>
                    </a:cubicBezTo>
                    <a:cubicBezTo>
                      <a:pt x="104" y="60"/>
                      <a:pt x="106" y="50"/>
                      <a:pt x="108" y="44"/>
                    </a:cubicBezTo>
                  </a:path>
                </a:pathLst>
              </a:custGeom>
              <a:blipFill rotWithShape="0">
                <a:blip r:embed="rId19"/>
                <a:srcRect/>
                <a:stretch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Freeform 166"/>
              <p:cNvSpPr/>
              <p:nvPr/>
            </p:nvSpPr>
            <p:spPr>
              <a:xfrm>
                <a:off x="5794920" y="1032120"/>
                <a:ext cx="477360" cy="512640"/>
              </a:xfrm>
              <a:custGeom>
                <a:avLst/>
                <a:gdLst>
                  <a:gd name="textAreaLeft" fmla="*/ 0 w 477360"/>
                  <a:gd name="textAreaRight" fmla="*/ 477720 w 477360"/>
                  <a:gd name="textAreaTop" fmla="*/ 0 h 512640"/>
                  <a:gd name="textAreaBottom" fmla="*/ 513000 h 512640"/>
                </a:gdLst>
                <a:ahLst/>
                <a:rect l="textAreaLeft" t="textAreaTop" r="textAreaRight" b="textAreaBottom"/>
                <a:pathLst>
                  <a:path w="344" h="365">
                    <a:moveTo>
                      <a:pt x="0" y="194"/>
                    </a:moveTo>
                    <a:cubicBezTo>
                      <a:pt x="0" y="198"/>
                      <a:pt x="0" y="197"/>
                      <a:pt x="6" y="209"/>
                    </a:cubicBezTo>
                    <a:cubicBezTo>
                      <a:pt x="12" y="221"/>
                      <a:pt x="23" y="250"/>
                      <a:pt x="36" y="266"/>
                    </a:cubicBezTo>
                    <a:cubicBezTo>
                      <a:pt x="49" y="282"/>
                      <a:pt x="70" y="299"/>
                      <a:pt x="87" y="308"/>
                    </a:cubicBezTo>
                    <a:cubicBezTo>
                      <a:pt x="104" y="317"/>
                      <a:pt x="129" y="314"/>
                      <a:pt x="138" y="320"/>
                    </a:cubicBezTo>
                    <a:cubicBezTo>
                      <a:pt x="147" y="326"/>
                      <a:pt x="140" y="337"/>
                      <a:pt x="144" y="344"/>
                    </a:cubicBezTo>
                    <a:cubicBezTo>
                      <a:pt x="148" y="351"/>
                      <a:pt x="157" y="365"/>
                      <a:pt x="165" y="365"/>
                    </a:cubicBezTo>
                    <a:cubicBezTo>
                      <a:pt x="173" y="365"/>
                      <a:pt x="185" y="349"/>
                      <a:pt x="192" y="341"/>
                    </a:cubicBezTo>
                    <a:cubicBezTo>
                      <a:pt x="199" y="333"/>
                      <a:pt x="197" y="322"/>
                      <a:pt x="207" y="317"/>
                    </a:cubicBezTo>
                    <a:cubicBezTo>
                      <a:pt x="217" y="312"/>
                      <a:pt x="239" y="315"/>
                      <a:pt x="255" y="308"/>
                    </a:cubicBezTo>
                    <a:cubicBezTo>
                      <a:pt x="271" y="301"/>
                      <a:pt x="289" y="296"/>
                      <a:pt x="303" y="275"/>
                    </a:cubicBezTo>
                    <a:cubicBezTo>
                      <a:pt x="317" y="254"/>
                      <a:pt x="344" y="208"/>
                      <a:pt x="342" y="179"/>
                    </a:cubicBezTo>
                    <a:cubicBezTo>
                      <a:pt x="340" y="150"/>
                      <a:pt x="302" y="123"/>
                      <a:pt x="288" y="98"/>
                    </a:cubicBezTo>
                    <a:cubicBezTo>
                      <a:pt x="274" y="73"/>
                      <a:pt x="269" y="31"/>
                      <a:pt x="256" y="27"/>
                    </a:cubicBezTo>
                    <a:cubicBezTo>
                      <a:pt x="243" y="23"/>
                      <a:pt x="218" y="70"/>
                      <a:pt x="208" y="75"/>
                    </a:cubicBezTo>
                    <a:cubicBezTo>
                      <a:pt x="198" y="80"/>
                      <a:pt x="202" y="60"/>
                      <a:pt x="198" y="56"/>
                    </a:cubicBezTo>
                    <a:cubicBezTo>
                      <a:pt x="194" y="52"/>
                      <a:pt x="197" y="50"/>
                      <a:pt x="183" y="53"/>
                    </a:cubicBezTo>
                    <a:cubicBezTo>
                      <a:pt x="169" y="56"/>
                      <a:pt x="121" y="77"/>
                      <a:pt x="112" y="75"/>
                    </a:cubicBezTo>
                    <a:cubicBezTo>
                      <a:pt x="103" y="73"/>
                      <a:pt x="126" y="52"/>
                      <a:pt x="126" y="41"/>
                    </a:cubicBezTo>
                    <a:cubicBezTo>
                      <a:pt x="126" y="30"/>
                      <a:pt x="126" y="0"/>
                      <a:pt x="114" y="11"/>
                    </a:cubicBezTo>
                    <a:cubicBezTo>
                      <a:pt x="102" y="22"/>
                      <a:pt x="63" y="89"/>
                      <a:pt x="54" y="110"/>
                    </a:cubicBezTo>
                    <a:cubicBezTo>
                      <a:pt x="45" y="131"/>
                      <a:pt x="60" y="129"/>
                      <a:pt x="60" y="137"/>
                    </a:cubicBezTo>
                    <a:cubicBezTo>
                      <a:pt x="60" y="145"/>
                      <a:pt x="58" y="158"/>
                      <a:pt x="54" y="161"/>
                    </a:cubicBezTo>
                    <a:cubicBezTo>
                      <a:pt x="50" y="164"/>
                      <a:pt x="39" y="162"/>
                      <a:pt x="36" y="155"/>
                    </a:cubicBezTo>
                    <a:cubicBezTo>
                      <a:pt x="33" y="148"/>
                      <a:pt x="37" y="119"/>
                      <a:pt x="33" y="119"/>
                    </a:cubicBezTo>
                    <a:cubicBezTo>
                      <a:pt x="29" y="119"/>
                      <a:pt x="16" y="143"/>
                      <a:pt x="12" y="152"/>
                    </a:cubicBezTo>
                    <a:cubicBezTo>
                      <a:pt x="8" y="161"/>
                      <a:pt x="12" y="168"/>
                      <a:pt x="12" y="173"/>
                    </a:cubicBezTo>
                    <a:cubicBezTo>
                      <a:pt x="12" y="178"/>
                      <a:pt x="11" y="182"/>
                      <a:pt x="9" y="185"/>
                    </a:cubicBezTo>
                    <a:cubicBezTo>
                      <a:pt x="7" y="188"/>
                      <a:pt x="0" y="190"/>
                      <a:pt x="0" y="194"/>
                    </a:cubicBezTo>
                    <a:close/>
                  </a:path>
                </a:pathLst>
              </a:custGeom>
              <a:blipFill rotWithShape="0">
                <a:blip r:embed="rId20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Freeform 167"/>
              <p:cNvSpPr/>
              <p:nvPr/>
            </p:nvSpPr>
            <p:spPr>
              <a:xfrm>
                <a:off x="5966280" y="1376280"/>
                <a:ext cx="156600" cy="45720"/>
              </a:xfrm>
              <a:custGeom>
                <a:avLst/>
                <a:gdLst>
                  <a:gd name="textAreaLeft" fmla="*/ 0 w 156600"/>
                  <a:gd name="textAreaRight" fmla="*/ 156960 w 156600"/>
                  <a:gd name="textAreaTop" fmla="*/ 0 h 45720"/>
                  <a:gd name="textAreaBottom" fmla="*/ 46080 h 45720"/>
                </a:gdLst>
                <a:ahLst/>
                <a:rect l="textAreaLeft" t="textAreaTop" r="textAreaRight" b="textAreaBottom"/>
                <a:pathLst>
                  <a:path w="114" h="32">
                    <a:moveTo>
                      <a:pt x="0" y="0"/>
                    </a:moveTo>
                    <a:cubicBezTo>
                      <a:pt x="7" y="4"/>
                      <a:pt x="29" y="22"/>
                      <a:pt x="39" y="27"/>
                    </a:cubicBezTo>
                    <a:cubicBezTo>
                      <a:pt x="49" y="32"/>
                      <a:pt x="53" y="30"/>
                      <a:pt x="60" y="30"/>
                    </a:cubicBezTo>
                    <a:cubicBezTo>
                      <a:pt x="67" y="30"/>
                      <a:pt x="72" y="32"/>
                      <a:pt x="81" y="27"/>
                    </a:cubicBezTo>
                    <a:cubicBezTo>
                      <a:pt x="90" y="22"/>
                      <a:pt x="107" y="8"/>
                      <a:pt x="114" y="3"/>
                    </a:cubicBezTo>
                  </a:path>
                </a:pathLst>
              </a:custGeom>
              <a:noFill/>
              <a:ln w="12600">
                <a:solidFill>
                  <a:srgbClr val="d2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Freeform 168"/>
              <p:cNvSpPr/>
              <p:nvPr/>
            </p:nvSpPr>
            <p:spPr>
              <a:xfrm>
                <a:off x="6018120" y="1392120"/>
                <a:ext cx="64440" cy="14040"/>
              </a:xfrm>
              <a:custGeom>
                <a:avLst/>
                <a:gdLst>
                  <a:gd name="textAreaLeft" fmla="*/ 0 w 64440"/>
                  <a:gd name="textAreaRight" fmla="*/ 64800 w 64440"/>
                  <a:gd name="textAreaTop" fmla="*/ 0 h 14040"/>
                  <a:gd name="textAreaBottom" fmla="*/ 14400 h 14040"/>
                </a:gdLst>
                <a:ahLst/>
                <a:rect l="textAreaLeft" t="textAreaTop" r="textAreaRight" b="textAreaBottom"/>
                <a:pathLst>
                  <a:path w="45" h="10">
                    <a:moveTo>
                      <a:pt x="0" y="10"/>
                    </a:moveTo>
                    <a:cubicBezTo>
                      <a:pt x="2" y="8"/>
                      <a:pt x="6" y="2"/>
                      <a:pt x="10" y="1"/>
                    </a:cubicBezTo>
                    <a:cubicBezTo>
                      <a:pt x="14" y="0"/>
                      <a:pt x="21" y="4"/>
                      <a:pt x="25" y="4"/>
                    </a:cubicBezTo>
                    <a:cubicBezTo>
                      <a:pt x="29" y="4"/>
                      <a:pt x="33" y="0"/>
                      <a:pt x="36" y="1"/>
                    </a:cubicBezTo>
                    <a:cubicBezTo>
                      <a:pt x="39" y="2"/>
                      <a:pt x="43" y="8"/>
                      <a:pt x="45" y="10"/>
                    </a:cubicBezTo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Freeform 169"/>
              <p:cNvSpPr/>
              <p:nvPr/>
            </p:nvSpPr>
            <p:spPr>
              <a:xfrm>
                <a:off x="5941800" y="1210320"/>
                <a:ext cx="87480" cy="38880"/>
              </a:xfrm>
              <a:custGeom>
                <a:avLst/>
                <a:gdLst>
                  <a:gd name="textAreaLeft" fmla="*/ 0 w 87480"/>
                  <a:gd name="textAreaRight" fmla="*/ 87840 w 87480"/>
                  <a:gd name="textAreaTop" fmla="*/ 0 h 38880"/>
                  <a:gd name="textAreaBottom" fmla="*/ 39240 h 38880"/>
                </a:gdLst>
                <a:ahLst/>
                <a:rect l="textAreaLeft" t="textAreaTop" r="textAreaRight" b="textAreaBottom"/>
                <a:pathLst>
                  <a:path w="63" h="28">
                    <a:moveTo>
                      <a:pt x="63" y="16"/>
                    </a:moveTo>
                    <a:cubicBezTo>
                      <a:pt x="58" y="14"/>
                      <a:pt x="39" y="6"/>
                      <a:pt x="33" y="4"/>
                    </a:cubicBezTo>
                    <a:cubicBezTo>
                      <a:pt x="27" y="2"/>
                      <a:pt x="29" y="0"/>
                      <a:pt x="24" y="4"/>
                    </a:cubicBezTo>
                    <a:cubicBezTo>
                      <a:pt x="19" y="8"/>
                      <a:pt x="5" y="23"/>
                      <a:pt x="0" y="28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Freeform 170"/>
              <p:cNvSpPr/>
              <p:nvPr/>
            </p:nvSpPr>
            <p:spPr>
              <a:xfrm>
                <a:off x="5970240" y="1253880"/>
                <a:ext cx="37440" cy="3708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37080"/>
                  <a:gd name="textAreaBottom" fmla="*/ 37440 h 3708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27" y="12"/>
                    </a:moveTo>
                    <a:cubicBezTo>
                      <a:pt x="27" y="8"/>
                      <a:pt x="16" y="0"/>
                      <a:pt x="12" y="0"/>
                    </a:cubicBezTo>
                    <a:cubicBezTo>
                      <a:pt x="8" y="0"/>
                      <a:pt x="0" y="11"/>
                      <a:pt x="0" y="15"/>
                    </a:cubicBezTo>
                    <a:cubicBezTo>
                      <a:pt x="0" y="19"/>
                      <a:pt x="11" y="27"/>
                      <a:pt x="15" y="27"/>
                    </a:cubicBezTo>
                    <a:cubicBezTo>
                      <a:pt x="19" y="27"/>
                      <a:pt x="27" y="16"/>
                      <a:pt x="27" y="12"/>
                    </a:cubicBezTo>
                    <a:close/>
                  </a:path>
                </a:pathLst>
              </a:custGeom>
              <a:solidFill>
                <a:srgbClr val="9966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Freeform 171"/>
              <p:cNvSpPr/>
              <p:nvPr/>
            </p:nvSpPr>
            <p:spPr>
              <a:xfrm>
                <a:off x="5940360" y="1222200"/>
                <a:ext cx="88920" cy="51840"/>
              </a:xfrm>
              <a:custGeom>
                <a:avLst/>
                <a:gdLst>
                  <a:gd name="textAreaLeft" fmla="*/ 0 w 88920"/>
                  <a:gd name="textAreaRight" fmla="*/ 89280 w 88920"/>
                  <a:gd name="textAreaTop" fmla="*/ 0 h 51840"/>
                  <a:gd name="textAreaBottom" fmla="*/ 52200 h 51840"/>
                </a:gdLst>
                <a:ahLst/>
                <a:rect l="textAreaLeft" t="textAreaTop" r="textAreaRight" b="textAreaBottom"/>
                <a:pathLst>
                  <a:path w="64" h="36">
                    <a:moveTo>
                      <a:pt x="4" y="31"/>
                    </a:moveTo>
                    <a:cubicBezTo>
                      <a:pt x="3" y="29"/>
                      <a:pt x="0" y="27"/>
                      <a:pt x="4" y="22"/>
                    </a:cubicBezTo>
                    <a:cubicBezTo>
                      <a:pt x="8" y="17"/>
                      <a:pt x="22" y="2"/>
                      <a:pt x="31" y="1"/>
                    </a:cubicBezTo>
                    <a:cubicBezTo>
                      <a:pt x="40" y="0"/>
                      <a:pt x="58" y="8"/>
                      <a:pt x="61" y="13"/>
                    </a:cubicBezTo>
                    <a:cubicBezTo>
                      <a:pt x="64" y="18"/>
                      <a:pt x="56" y="30"/>
                      <a:pt x="52" y="31"/>
                    </a:cubicBezTo>
                    <a:cubicBezTo>
                      <a:pt x="48" y="32"/>
                      <a:pt x="40" y="19"/>
                      <a:pt x="34" y="19"/>
                    </a:cubicBezTo>
                    <a:cubicBezTo>
                      <a:pt x="28" y="19"/>
                      <a:pt x="18" y="32"/>
                      <a:pt x="13" y="34"/>
                    </a:cubicBezTo>
                    <a:cubicBezTo>
                      <a:pt x="8" y="36"/>
                      <a:pt x="4" y="34"/>
                      <a:pt x="4" y="31"/>
                    </a:cubicBezTo>
                    <a:close/>
                  </a:path>
                </a:pathLst>
              </a:custGeom>
              <a:solidFill>
                <a:srgbClr val="c58b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Freeform 172"/>
              <p:cNvSpPr/>
              <p:nvPr/>
            </p:nvSpPr>
            <p:spPr>
              <a:xfrm flipH="1">
                <a:off x="6081840" y="1204920"/>
                <a:ext cx="87480" cy="38520"/>
              </a:xfrm>
              <a:custGeom>
                <a:avLst/>
                <a:gdLst>
                  <a:gd name="textAreaLeft" fmla="*/ -360 w 87480"/>
                  <a:gd name="textAreaRight" fmla="*/ 87480 w 8748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63" h="28">
                    <a:moveTo>
                      <a:pt x="63" y="16"/>
                    </a:moveTo>
                    <a:cubicBezTo>
                      <a:pt x="58" y="14"/>
                      <a:pt x="39" y="6"/>
                      <a:pt x="33" y="4"/>
                    </a:cubicBezTo>
                    <a:cubicBezTo>
                      <a:pt x="27" y="2"/>
                      <a:pt x="29" y="0"/>
                      <a:pt x="24" y="4"/>
                    </a:cubicBezTo>
                    <a:cubicBezTo>
                      <a:pt x="19" y="8"/>
                      <a:pt x="5" y="23"/>
                      <a:pt x="0" y="28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Freeform 173"/>
              <p:cNvSpPr/>
              <p:nvPr/>
            </p:nvSpPr>
            <p:spPr>
              <a:xfrm flipH="1">
                <a:off x="6104160" y="1247760"/>
                <a:ext cx="37440" cy="37440"/>
              </a:xfrm>
              <a:custGeom>
                <a:avLst/>
                <a:gdLst>
                  <a:gd name="textAreaLeft" fmla="*/ 360 w 37440"/>
                  <a:gd name="textAreaRight" fmla="*/ 38160 w 37440"/>
                  <a:gd name="textAreaTop" fmla="*/ 0 h 37440"/>
                  <a:gd name="textAreaBottom" fmla="*/ 37800 h 3744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27" y="12"/>
                    </a:moveTo>
                    <a:cubicBezTo>
                      <a:pt x="27" y="8"/>
                      <a:pt x="16" y="0"/>
                      <a:pt x="12" y="0"/>
                    </a:cubicBezTo>
                    <a:cubicBezTo>
                      <a:pt x="8" y="0"/>
                      <a:pt x="0" y="11"/>
                      <a:pt x="0" y="15"/>
                    </a:cubicBezTo>
                    <a:cubicBezTo>
                      <a:pt x="0" y="19"/>
                      <a:pt x="11" y="27"/>
                      <a:pt x="15" y="27"/>
                    </a:cubicBezTo>
                    <a:cubicBezTo>
                      <a:pt x="19" y="27"/>
                      <a:pt x="27" y="16"/>
                      <a:pt x="27" y="12"/>
                    </a:cubicBezTo>
                    <a:close/>
                  </a:path>
                </a:pathLst>
              </a:custGeom>
              <a:solidFill>
                <a:srgbClr val="9966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Freeform 174"/>
              <p:cNvSpPr/>
              <p:nvPr/>
            </p:nvSpPr>
            <p:spPr>
              <a:xfrm flipH="1">
                <a:off x="6082560" y="1217880"/>
                <a:ext cx="89280" cy="50040"/>
              </a:xfrm>
              <a:custGeom>
                <a:avLst/>
                <a:gdLst>
                  <a:gd name="textAreaLeft" fmla="*/ 360 w 89280"/>
                  <a:gd name="textAreaRight" fmla="*/ 90000 w 89280"/>
                  <a:gd name="textAreaTop" fmla="*/ 0 h 50040"/>
                  <a:gd name="textAreaBottom" fmla="*/ 50400 h 50040"/>
                </a:gdLst>
                <a:ahLst/>
                <a:rect l="textAreaLeft" t="textAreaTop" r="textAreaRight" b="textAreaBottom"/>
                <a:pathLst>
                  <a:path w="64" h="36">
                    <a:moveTo>
                      <a:pt x="4" y="31"/>
                    </a:moveTo>
                    <a:cubicBezTo>
                      <a:pt x="3" y="29"/>
                      <a:pt x="0" y="27"/>
                      <a:pt x="4" y="22"/>
                    </a:cubicBezTo>
                    <a:cubicBezTo>
                      <a:pt x="8" y="17"/>
                      <a:pt x="22" y="2"/>
                      <a:pt x="31" y="1"/>
                    </a:cubicBezTo>
                    <a:cubicBezTo>
                      <a:pt x="40" y="0"/>
                      <a:pt x="58" y="8"/>
                      <a:pt x="61" y="13"/>
                    </a:cubicBezTo>
                    <a:cubicBezTo>
                      <a:pt x="64" y="18"/>
                      <a:pt x="56" y="30"/>
                      <a:pt x="52" y="31"/>
                    </a:cubicBezTo>
                    <a:cubicBezTo>
                      <a:pt x="48" y="32"/>
                      <a:pt x="40" y="19"/>
                      <a:pt x="34" y="19"/>
                    </a:cubicBezTo>
                    <a:cubicBezTo>
                      <a:pt x="28" y="19"/>
                      <a:pt x="18" y="32"/>
                      <a:pt x="13" y="34"/>
                    </a:cubicBezTo>
                    <a:cubicBezTo>
                      <a:pt x="8" y="36"/>
                      <a:pt x="4" y="34"/>
                      <a:pt x="4" y="31"/>
                    </a:cubicBezTo>
                    <a:close/>
                  </a:path>
                </a:pathLst>
              </a:custGeom>
              <a:solidFill>
                <a:srgbClr val="c58b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Freeform 175"/>
              <p:cNvSpPr/>
              <p:nvPr/>
            </p:nvSpPr>
            <p:spPr>
              <a:xfrm>
                <a:off x="6055560" y="1166040"/>
                <a:ext cx="142200" cy="151200"/>
              </a:xfrm>
              <a:custGeom>
                <a:avLst/>
                <a:gdLst>
                  <a:gd name="textAreaLeft" fmla="*/ 0 w 142200"/>
                  <a:gd name="textAreaRight" fmla="*/ 142560 w 142200"/>
                  <a:gd name="textAreaTop" fmla="*/ 0 h 151200"/>
                  <a:gd name="textAreaBottom" fmla="*/ 151560 h 151200"/>
                </a:gdLst>
                <a:ahLst/>
                <a:rect l="textAreaLeft" t="textAreaTop" r="textAreaRight" b="textAreaBottom"/>
                <a:pathLst>
                  <a:path w="102" h="107">
                    <a:moveTo>
                      <a:pt x="4" y="35"/>
                    </a:moveTo>
                    <a:cubicBezTo>
                      <a:pt x="9" y="25"/>
                      <a:pt x="27" y="10"/>
                      <a:pt x="37" y="5"/>
                    </a:cubicBezTo>
                    <a:cubicBezTo>
                      <a:pt x="47" y="0"/>
                      <a:pt x="57" y="0"/>
                      <a:pt x="67" y="5"/>
                    </a:cubicBezTo>
                    <a:cubicBezTo>
                      <a:pt x="77" y="10"/>
                      <a:pt x="92" y="25"/>
                      <a:pt x="97" y="35"/>
                    </a:cubicBezTo>
                    <a:cubicBezTo>
                      <a:pt x="102" y="45"/>
                      <a:pt x="101" y="57"/>
                      <a:pt x="97" y="68"/>
                    </a:cubicBezTo>
                    <a:cubicBezTo>
                      <a:pt x="93" y="79"/>
                      <a:pt x="79" y="95"/>
                      <a:pt x="70" y="101"/>
                    </a:cubicBezTo>
                    <a:cubicBezTo>
                      <a:pt x="61" y="107"/>
                      <a:pt x="49" y="105"/>
                      <a:pt x="40" y="104"/>
                    </a:cubicBezTo>
                    <a:cubicBezTo>
                      <a:pt x="31" y="103"/>
                      <a:pt x="19" y="98"/>
                      <a:pt x="13" y="92"/>
                    </a:cubicBezTo>
                    <a:cubicBezTo>
                      <a:pt x="7" y="86"/>
                      <a:pt x="2" y="74"/>
                      <a:pt x="1" y="65"/>
                    </a:cubicBezTo>
                    <a:cubicBezTo>
                      <a:pt x="0" y="56"/>
                      <a:pt x="4" y="41"/>
                      <a:pt x="4" y="35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Freeform 176"/>
              <p:cNvSpPr/>
              <p:nvPr/>
            </p:nvSpPr>
            <p:spPr>
              <a:xfrm>
                <a:off x="5910120" y="1174320"/>
                <a:ext cx="142560" cy="147960"/>
              </a:xfrm>
              <a:custGeom>
                <a:avLst/>
                <a:gdLst>
                  <a:gd name="textAreaLeft" fmla="*/ 0 w 142560"/>
                  <a:gd name="textAreaRight" fmla="*/ 142920 w 142560"/>
                  <a:gd name="textAreaTop" fmla="*/ 0 h 147960"/>
                  <a:gd name="textAreaBottom" fmla="*/ 148320 h 147960"/>
                </a:gdLst>
                <a:ahLst/>
                <a:rect l="textAreaLeft" t="textAreaTop" r="textAreaRight" b="textAreaBottom"/>
                <a:pathLst>
                  <a:path w="99" h="103">
                    <a:moveTo>
                      <a:pt x="1" y="31"/>
                    </a:moveTo>
                    <a:cubicBezTo>
                      <a:pt x="5" y="23"/>
                      <a:pt x="15" y="12"/>
                      <a:pt x="27" y="8"/>
                    </a:cubicBezTo>
                    <a:cubicBezTo>
                      <a:pt x="38" y="4"/>
                      <a:pt x="59" y="0"/>
                      <a:pt x="70" y="5"/>
                    </a:cubicBezTo>
                    <a:cubicBezTo>
                      <a:pt x="82" y="10"/>
                      <a:pt x="93" y="26"/>
                      <a:pt x="96" y="37"/>
                    </a:cubicBezTo>
                    <a:cubicBezTo>
                      <a:pt x="99" y="48"/>
                      <a:pt x="94" y="63"/>
                      <a:pt x="90" y="73"/>
                    </a:cubicBezTo>
                    <a:cubicBezTo>
                      <a:pt x="87" y="82"/>
                      <a:pt x="75" y="91"/>
                      <a:pt x="70" y="96"/>
                    </a:cubicBezTo>
                    <a:cubicBezTo>
                      <a:pt x="65" y="101"/>
                      <a:pt x="65" y="100"/>
                      <a:pt x="58" y="101"/>
                    </a:cubicBezTo>
                    <a:cubicBezTo>
                      <a:pt x="51" y="102"/>
                      <a:pt x="38" y="103"/>
                      <a:pt x="30" y="99"/>
                    </a:cubicBezTo>
                    <a:cubicBezTo>
                      <a:pt x="22" y="95"/>
                      <a:pt x="12" y="85"/>
                      <a:pt x="7" y="78"/>
                    </a:cubicBezTo>
                    <a:cubicBezTo>
                      <a:pt x="2" y="71"/>
                      <a:pt x="2" y="67"/>
                      <a:pt x="1" y="59"/>
                    </a:cubicBezTo>
                    <a:cubicBezTo>
                      <a:pt x="0" y="51"/>
                      <a:pt x="1" y="37"/>
                      <a:pt x="1" y="31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Freeform 177"/>
              <p:cNvSpPr/>
              <p:nvPr/>
            </p:nvSpPr>
            <p:spPr>
              <a:xfrm>
                <a:off x="6120000" y="1290960"/>
                <a:ext cx="96120" cy="115200"/>
              </a:xfrm>
              <a:custGeom>
                <a:avLst/>
                <a:gdLst>
                  <a:gd name="textAreaLeft" fmla="*/ 0 w 96120"/>
                  <a:gd name="textAreaRight" fmla="*/ 96480 w 96120"/>
                  <a:gd name="textAreaTop" fmla="*/ 0 h 115200"/>
                  <a:gd name="textAreaBottom" fmla="*/ 115560 h 115200"/>
                </a:gdLst>
                <a:ahLst/>
                <a:rect l="textAreaLeft" t="textAreaTop" r="textAreaRight" b="textAreaBottom"/>
                <a:pathLst>
                  <a:path w="70" h="82">
                    <a:moveTo>
                      <a:pt x="60" y="6"/>
                    </a:moveTo>
                    <a:cubicBezTo>
                      <a:pt x="70" y="8"/>
                      <a:pt x="66" y="27"/>
                      <a:pt x="63" y="39"/>
                    </a:cubicBezTo>
                    <a:cubicBezTo>
                      <a:pt x="60" y="51"/>
                      <a:pt x="53" y="82"/>
                      <a:pt x="43" y="81"/>
                    </a:cubicBezTo>
                    <a:cubicBezTo>
                      <a:pt x="33" y="80"/>
                      <a:pt x="0" y="42"/>
                      <a:pt x="3" y="30"/>
                    </a:cubicBezTo>
                    <a:cubicBezTo>
                      <a:pt x="6" y="18"/>
                      <a:pt x="50" y="0"/>
                      <a:pt x="60" y="6"/>
                    </a:cubicBezTo>
                    <a:close/>
                  </a:path>
                </a:pathLst>
              </a:custGeom>
              <a:solidFill>
                <a:srgbClr val="fda1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Freeform 178"/>
              <p:cNvSpPr/>
              <p:nvPr/>
            </p:nvSpPr>
            <p:spPr>
              <a:xfrm>
                <a:off x="5877000" y="1299960"/>
                <a:ext cx="107640" cy="96120"/>
              </a:xfrm>
              <a:custGeom>
                <a:avLst/>
                <a:gdLst>
                  <a:gd name="textAreaLeft" fmla="*/ 0 w 107640"/>
                  <a:gd name="textAreaRight" fmla="*/ 108000 w 107640"/>
                  <a:gd name="textAreaTop" fmla="*/ 0 h 96120"/>
                  <a:gd name="textAreaBottom" fmla="*/ 96480 h 96120"/>
                </a:gdLst>
                <a:ahLst/>
                <a:rect l="textAreaLeft" t="textAreaTop" r="textAreaRight" b="textAreaBottom"/>
                <a:pathLst>
                  <a:path w="75" h="67">
                    <a:moveTo>
                      <a:pt x="0" y="26"/>
                    </a:moveTo>
                    <a:cubicBezTo>
                      <a:pt x="0" y="34"/>
                      <a:pt x="5" y="48"/>
                      <a:pt x="12" y="53"/>
                    </a:cubicBezTo>
                    <a:cubicBezTo>
                      <a:pt x="19" y="58"/>
                      <a:pt x="35" y="55"/>
                      <a:pt x="42" y="56"/>
                    </a:cubicBezTo>
                    <a:cubicBezTo>
                      <a:pt x="49" y="57"/>
                      <a:pt x="49" y="67"/>
                      <a:pt x="54" y="62"/>
                    </a:cubicBezTo>
                    <a:cubicBezTo>
                      <a:pt x="59" y="57"/>
                      <a:pt x="75" y="34"/>
                      <a:pt x="72" y="26"/>
                    </a:cubicBezTo>
                    <a:cubicBezTo>
                      <a:pt x="69" y="18"/>
                      <a:pt x="45" y="18"/>
                      <a:pt x="36" y="14"/>
                    </a:cubicBezTo>
                    <a:cubicBezTo>
                      <a:pt x="27" y="10"/>
                      <a:pt x="21" y="0"/>
                      <a:pt x="15" y="2"/>
                    </a:cubicBezTo>
                    <a:cubicBezTo>
                      <a:pt x="9" y="4"/>
                      <a:pt x="3" y="21"/>
                      <a:pt x="0" y="26"/>
                    </a:cubicBezTo>
                    <a:close/>
                  </a:path>
                </a:pathLst>
              </a:custGeom>
              <a:solidFill>
                <a:srgbClr val="fda1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Freeform 179"/>
              <p:cNvSpPr/>
              <p:nvPr/>
            </p:nvSpPr>
            <p:spPr>
              <a:xfrm>
                <a:off x="6288480" y="1802520"/>
                <a:ext cx="127800" cy="155160"/>
              </a:xfrm>
              <a:custGeom>
                <a:avLst/>
                <a:gdLst>
                  <a:gd name="textAreaLeft" fmla="*/ 0 w 127800"/>
                  <a:gd name="textAreaRight" fmla="*/ 128160 w 127800"/>
                  <a:gd name="textAreaTop" fmla="*/ 0 h 155160"/>
                  <a:gd name="textAreaBottom" fmla="*/ 155520 h 155160"/>
                </a:gdLst>
                <a:ahLst/>
                <a:rect l="textAreaLeft" t="textAreaTop" r="textAreaRight" b="textAreaBottom"/>
                <a:pathLst>
                  <a:path w="100" h="116">
                    <a:moveTo>
                      <a:pt x="76" y="4"/>
                    </a:moveTo>
                    <a:lnTo>
                      <a:pt x="76" y="0"/>
                    </a:lnTo>
                    <a:lnTo>
                      <a:pt x="100" y="56"/>
                    </a:lnTo>
                    <a:lnTo>
                      <a:pt x="28" y="116"/>
                    </a:lnTo>
                    <a:lnTo>
                      <a:pt x="0" y="80"/>
                    </a:lnTo>
                    <a:lnTo>
                      <a:pt x="76" y="4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38" name="Freeform 180"/>
            <p:cNvSpPr/>
            <p:nvPr/>
          </p:nvSpPr>
          <p:spPr>
            <a:xfrm>
              <a:off x="6023880" y="1318320"/>
              <a:ext cx="55800" cy="2124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21240"/>
                <a:gd name="textAreaBottom" fmla="*/ 21600 h 21240"/>
              </a:gdLst>
              <a:ahLst/>
              <a:rect l="textAreaLeft" t="textAreaTop" r="textAreaRight" b="textAreaBottom"/>
              <a:pathLst>
                <a:path w="39" h="15">
                  <a:moveTo>
                    <a:pt x="0" y="10"/>
                  </a:moveTo>
                  <a:cubicBezTo>
                    <a:pt x="1" y="10"/>
                    <a:pt x="3" y="15"/>
                    <a:pt x="6" y="13"/>
                  </a:cubicBezTo>
                  <a:cubicBezTo>
                    <a:pt x="9" y="11"/>
                    <a:pt x="14" y="0"/>
                    <a:pt x="18" y="0"/>
                  </a:cubicBezTo>
                  <a:cubicBezTo>
                    <a:pt x="22" y="0"/>
                    <a:pt x="27" y="11"/>
                    <a:pt x="30" y="13"/>
                  </a:cubicBezTo>
                  <a:cubicBezTo>
                    <a:pt x="33" y="15"/>
                    <a:pt x="37" y="11"/>
                    <a:pt x="39" y="1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9" name="Group 181"/>
          <p:cNvGrpSpPr/>
          <p:nvPr/>
        </p:nvGrpSpPr>
        <p:grpSpPr>
          <a:xfrm>
            <a:off x="7446960" y="946080"/>
            <a:ext cx="828360" cy="1520640"/>
            <a:chOff x="7446960" y="946080"/>
            <a:chExt cx="828360" cy="1520640"/>
          </a:xfrm>
        </p:grpSpPr>
        <p:grpSp>
          <p:nvGrpSpPr>
            <p:cNvPr id="1040" name="Group 182"/>
            <p:cNvGrpSpPr/>
            <p:nvPr/>
          </p:nvGrpSpPr>
          <p:grpSpPr>
            <a:xfrm>
              <a:off x="7446960" y="946080"/>
              <a:ext cx="828360" cy="1520640"/>
              <a:chOff x="7446960" y="946080"/>
              <a:chExt cx="828360" cy="1520640"/>
            </a:xfrm>
          </p:grpSpPr>
          <p:sp>
            <p:nvSpPr>
              <p:cNvPr id="1041" name="Freeform 183"/>
              <p:cNvSpPr/>
              <p:nvPr/>
            </p:nvSpPr>
            <p:spPr>
              <a:xfrm>
                <a:off x="7875360" y="2078280"/>
                <a:ext cx="1440" cy="34236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342360"/>
                  <a:gd name="textAreaBottom" fmla="*/ 342720 h 342360"/>
                </a:gdLst>
                <a:ahLst/>
                <a:rect l="textAreaLeft" t="textAreaTop" r="textAreaRight" b="textAreaBottom"/>
                <a:pathLst>
                  <a:path w="1" h="256">
                    <a:moveTo>
                      <a:pt x="0" y="0"/>
                    </a:moveTo>
                    <a:lnTo>
                      <a:pt x="0" y="25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Freeform 184"/>
              <p:cNvSpPr/>
              <p:nvPr/>
            </p:nvSpPr>
            <p:spPr>
              <a:xfrm>
                <a:off x="7577640" y="1867680"/>
                <a:ext cx="598680" cy="567360"/>
              </a:xfrm>
              <a:custGeom>
                <a:avLst/>
                <a:gdLst>
                  <a:gd name="textAreaLeft" fmla="*/ 0 w 598680"/>
                  <a:gd name="textAreaRight" fmla="*/ 599040 w 598680"/>
                  <a:gd name="textAreaTop" fmla="*/ 0 h 567360"/>
                  <a:gd name="textAreaBottom" fmla="*/ 567720 h 567360"/>
                </a:gdLst>
                <a:ahLst/>
                <a:rect l="textAreaLeft" t="textAreaTop" r="textAreaRight" b="textAreaBottom"/>
                <a:pathLst>
                  <a:path w="468" h="423">
                    <a:moveTo>
                      <a:pt x="79" y="8"/>
                    </a:moveTo>
                    <a:cubicBezTo>
                      <a:pt x="118" y="0"/>
                      <a:pt x="265" y="8"/>
                      <a:pt x="313" y="8"/>
                    </a:cubicBezTo>
                    <a:cubicBezTo>
                      <a:pt x="361" y="8"/>
                      <a:pt x="355" y="5"/>
                      <a:pt x="367" y="8"/>
                    </a:cubicBezTo>
                    <a:cubicBezTo>
                      <a:pt x="379" y="11"/>
                      <a:pt x="377" y="15"/>
                      <a:pt x="385" y="28"/>
                    </a:cubicBezTo>
                    <a:cubicBezTo>
                      <a:pt x="393" y="41"/>
                      <a:pt x="409" y="67"/>
                      <a:pt x="417" y="84"/>
                    </a:cubicBezTo>
                    <a:cubicBezTo>
                      <a:pt x="425" y="101"/>
                      <a:pt x="425" y="113"/>
                      <a:pt x="433" y="132"/>
                    </a:cubicBezTo>
                    <a:cubicBezTo>
                      <a:pt x="441" y="151"/>
                      <a:pt x="458" y="173"/>
                      <a:pt x="463" y="200"/>
                    </a:cubicBezTo>
                    <a:cubicBezTo>
                      <a:pt x="468" y="227"/>
                      <a:pt x="467" y="271"/>
                      <a:pt x="463" y="296"/>
                    </a:cubicBezTo>
                    <a:cubicBezTo>
                      <a:pt x="459" y="321"/>
                      <a:pt x="443" y="330"/>
                      <a:pt x="437" y="348"/>
                    </a:cubicBezTo>
                    <a:cubicBezTo>
                      <a:pt x="431" y="366"/>
                      <a:pt x="431" y="392"/>
                      <a:pt x="429" y="404"/>
                    </a:cubicBezTo>
                    <a:cubicBezTo>
                      <a:pt x="427" y="416"/>
                      <a:pt x="431" y="423"/>
                      <a:pt x="425" y="420"/>
                    </a:cubicBezTo>
                    <a:cubicBezTo>
                      <a:pt x="419" y="417"/>
                      <a:pt x="402" y="396"/>
                      <a:pt x="393" y="388"/>
                    </a:cubicBezTo>
                    <a:cubicBezTo>
                      <a:pt x="384" y="380"/>
                      <a:pt x="382" y="377"/>
                      <a:pt x="369" y="372"/>
                    </a:cubicBezTo>
                    <a:cubicBezTo>
                      <a:pt x="356" y="367"/>
                      <a:pt x="333" y="359"/>
                      <a:pt x="317" y="360"/>
                    </a:cubicBezTo>
                    <a:cubicBezTo>
                      <a:pt x="301" y="361"/>
                      <a:pt x="286" y="372"/>
                      <a:pt x="273" y="380"/>
                    </a:cubicBezTo>
                    <a:cubicBezTo>
                      <a:pt x="260" y="388"/>
                      <a:pt x="245" y="406"/>
                      <a:pt x="237" y="408"/>
                    </a:cubicBezTo>
                    <a:cubicBezTo>
                      <a:pt x="229" y="410"/>
                      <a:pt x="235" y="399"/>
                      <a:pt x="223" y="392"/>
                    </a:cubicBezTo>
                    <a:cubicBezTo>
                      <a:pt x="211" y="385"/>
                      <a:pt x="185" y="372"/>
                      <a:pt x="165" y="368"/>
                    </a:cubicBezTo>
                    <a:cubicBezTo>
                      <a:pt x="145" y="364"/>
                      <a:pt x="120" y="363"/>
                      <a:pt x="105" y="368"/>
                    </a:cubicBezTo>
                    <a:cubicBezTo>
                      <a:pt x="90" y="373"/>
                      <a:pt x="82" y="393"/>
                      <a:pt x="73" y="400"/>
                    </a:cubicBezTo>
                    <a:cubicBezTo>
                      <a:pt x="64" y="407"/>
                      <a:pt x="56" y="413"/>
                      <a:pt x="49" y="412"/>
                    </a:cubicBezTo>
                    <a:cubicBezTo>
                      <a:pt x="42" y="411"/>
                      <a:pt x="37" y="404"/>
                      <a:pt x="31" y="392"/>
                    </a:cubicBezTo>
                    <a:cubicBezTo>
                      <a:pt x="25" y="380"/>
                      <a:pt x="18" y="360"/>
                      <a:pt x="13" y="340"/>
                    </a:cubicBezTo>
                    <a:cubicBezTo>
                      <a:pt x="8" y="320"/>
                      <a:pt x="2" y="293"/>
                      <a:pt x="1" y="272"/>
                    </a:cubicBezTo>
                    <a:cubicBezTo>
                      <a:pt x="0" y="251"/>
                      <a:pt x="0" y="232"/>
                      <a:pt x="5" y="212"/>
                    </a:cubicBezTo>
                    <a:cubicBezTo>
                      <a:pt x="10" y="192"/>
                      <a:pt x="22" y="171"/>
                      <a:pt x="31" y="152"/>
                    </a:cubicBezTo>
                    <a:cubicBezTo>
                      <a:pt x="40" y="133"/>
                      <a:pt x="49" y="124"/>
                      <a:pt x="57" y="100"/>
                    </a:cubicBezTo>
                    <a:cubicBezTo>
                      <a:pt x="65" y="76"/>
                      <a:pt x="75" y="27"/>
                      <a:pt x="79" y="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777777"/>
                  </a:gs>
                  <a:gs pos="50000">
                    <a:srgbClr val="333333"/>
                  </a:gs>
                  <a:gs pos="100000">
                    <a:srgbClr val="777777"/>
                  </a:gs>
                </a:gsLst>
                <a:lin ang="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Freeform 185"/>
              <p:cNvSpPr/>
              <p:nvPr/>
            </p:nvSpPr>
            <p:spPr>
              <a:xfrm>
                <a:off x="7862400" y="1879200"/>
                <a:ext cx="61920" cy="19296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192960"/>
                  <a:gd name="textAreaBottom" fmla="*/ 193320 h 192960"/>
                </a:gdLst>
                <a:ahLst/>
                <a:rect l="textAreaLeft" t="textAreaTop" r="textAreaRight" b="textAreaBottom"/>
                <a:pathLst>
                  <a:path w="48" h="144">
                    <a:moveTo>
                      <a:pt x="0" y="0"/>
                    </a:moveTo>
                    <a:lnTo>
                      <a:pt x="48" y="0"/>
                    </a:lnTo>
                    <a:lnTo>
                      <a:pt x="48" y="144"/>
                    </a:lnTo>
                    <a:lnTo>
                      <a:pt x="0" y="144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50000">
                    <a:srgbClr val="4d4d4d"/>
                  </a:gs>
                  <a:gs pos="100000">
                    <a:srgbClr val="000000"/>
                  </a:gs>
                </a:gsLst>
                <a:lin ang="5400000"/>
              </a:gra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Freeform 186"/>
              <p:cNvSpPr/>
              <p:nvPr/>
            </p:nvSpPr>
            <p:spPr>
              <a:xfrm>
                <a:off x="7979400" y="1872000"/>
                <a:ext cx="162360" cy="194040"/>
              </a:xfrm>
              <a:custGeom>
                <a:avLst/>
                <a:gdLst>
                  <a:gd name="textAreaLeft" fmla="*/ 0 w 162360"/>
                  <a:gd name="textAreaRight" fmla="*/ 162720 w 162360"/>
                  <a:gd name="textAreaTop" fmla="*/ 0 h 194040"/>
                  <a:gd name="textAreaBottom" fmla="*/ 194400 h 194040"/>
                </a:gdLst>
                <a:ahLst/>
                <a:rect l="textAreaLeft" t="textAreaTop" r="textAreaRight" b="textAreaBottom"/>
                <a:pathLst>
                  <a:path w="128" h="144">
                    <a:moveTo>
                      <a:pt x="127" y="133"/>
                    </a:moveTo>
                    <a:lnTo>
                      <a:pt x="128" y="144"/>
                    </a:lnTo>
                    <a:lnTo>
                      <a:pt x="0" y="4"/>
                    </a:lnTo>
                    <a:lnTo>
                      <a:pt x="60" y="0"/>
                    </a:lnTo>
                    <a:lnTo>
                      <a:pt x="127" y="13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50000">
                    <a:srgbClr val="4d4d4d"/>
                  </a:gs>
                  <a:gs pos="100000">
                    <a:srgbClr val="000000"/>
                  </a:gs>
                </a:gsLst>
                <a:lin ang="5400000"/>
              </a:gra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Freeform 187"/>
              <p:cNvSpPr/>
              <p:nvPr/>
            </p:nvSpPr>
            <p:spPr>
              <a:xfrm>
                <a:off x="7623720" y="1867680"/>
                <a:ext cx="133920" cy="204480"/>
              </a:xfrm>
              <a:custGeom>
                <a:avLst/>
                <a:gdLst>
                  <a:gd name="textAreaLeft" fmla="*/ 0 w 133920"/>
                  <a:gd name="textAreaRight" fmla="*/ 134280 w 133920"/>
                  <a:gd name="textAreaTop" fmla="*/ 0 h 204480"/>
                  <a:gd name="textAreaBottom" fmla="*/ 204840 h 204480"/>
                </a:gdLst>
                <a:ahLst/>
                <a:rect l="textAreaLeft" t="textAreaTop" r="textAreaRight" b="textAreaBottom"/>
                <a:pathLst>
                  <a:path w="104" h="152">
                    <a:moveTo>
                      <a:pt x="0" y="152"/>
                    </a:moveTo>
                    <a:lnTo>
                      <a:pt x="8" y="136"/>
                    </a:lnTo>
                    <a:lnTo>
                      <a:pt x="44" y="0"/>
                    </a:lnTo>
                    <a:lnTo>
                      <a:pt x="104" y="8"/>
                    </a:lnTo>
                    <a:lnTo>
                      <a:pt x="0" y="1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50000">
                    <a:srgbClr val="4d4d4d"/>
                  </a:gs>
                  <a:gs pos="100000">
                    <a:srgbClr val="000000"/>
                  </a:gs>
                </a:gsLst>
                <a:lin ang="5400000"/>
              </a:gra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Freeform 188"/>
              <p:cNvSpPr/>
              <p:nvPr/>
            </p:nvSpPr>
            <p:spPr>
              <a:xfrm>
                <a:off x="7669800" y="1592640"/>
                <a:ext cx="402480" cy="290520"/>
              </a:xfrm>
              <a:custGeom>
                <a:avLst/>
                <a:gdLst>
                  <a:gd name="textAreaLeft" fmla="*/ 0 w 402480"/>
                  <a:gd name="textAreaRight" fmla="*/ 402840 w 402480"/>
                  <a:gd name="textAreaTop" fmla="*/ 0 h 290520"/>
                  <a:gd name="textAreaBottom" fmla="*/ 290880 h 290520"/>
                </a:gdLst>
                <a:ahLst/>
                <a:rect l="textAreaLeft" t="textAreaTop" r="textAreaRight" b="textAreaBottom"/>
                <a:pathLst>
                  <a:path w="313" h="215">
                    <a:moveTo>
                      <a:pt x="6" y="212"/>
                    </a:moveTo>
                    <a:cubicBezTo>
                      <a:pt x="13" y="215"/>
                      <a:pt x="1" y="209"/>
                      <a:pt x="44" y="208"/>
                    </a:cubicBezTo>
                    <a:cubicBezTo>
                      <a:pt x="87" y="207"/>
                      <a:pt x="221" y="205"/>
                      <a:pt x="264" y="204"/>
                    </a:cubicBezTo>
                    <a:cubicBezTo>
                      <a:pt x="307" y="203"/>
                      <a:pt x="296" y="213"/>
                      <a:pt x="304" y="204"/>
                    </a:cubicBezTo>
                    <a:cubicBezTo>
                      <a:pt x="312" y="195"/>
                      <a:pt x="311" y="171"/>
                      <a:pt x="312" y="152"/>
                    </a:cubicBezTo>
                    <a:cubicBezTo>
                      <a:pt x="313" y="133"/>
                      <a:pt x="313" y="111"/>
                      <a:pt x="308" y="92"/>
                    </a:cubicBezTo>
                    <a:cubicBezTo>
                      <a:pt x="303" y="73"/>
                      <a:pt x="294" y="52"/>
                      <a:pt x="284" y="40"/>
                    </a:cubicBezTo>
                    <a:cubicBezTo>
                      <a:pt x="274" y="28"/>
                      <a:pt x="261" y="26"/>
                      <a:pt x="248" y="20"/>
                    </a:cubicBezTo>
                    <a:cubicBezTo>
                      <a:pt x="235" y="14"/>
                      <a:pt x="219" y="0"/>
                      <a:pt x="204" y="4"/>
                    </a:cubicBezTo>
                    <a:cubicBezTo>
                      <a:pt x="189" y="8"/>
                      <a:pt x="169" y="37"/>
                      <a:pt x="160" y="44"/>
                    </a:cubicBezTo>
                    <a:cubicBezTo>
                      <a:pt x="151" y="51"/>
                      <a:pt x="161" y="50"/>
                      <a:pt x="152" y="44"/>
                    </a:cubicBezTo>
                    <a:cubicBezTo>
                      <a:pt x="143" y="38"/>
                      <a:pt x="120" y="13"/>
                      <a:pt x="108" y="8"/>
                    </a:cubicBezTo>
                    <a:cubicBezTo>
                      <a:pt x="96" y="3"/>
                      <a:pt x="91" y="9"/>
                      <a:pt x="80" y="16"/>
                    </a:cubicBezTo>
                    <a:cubicBezTo>
                      <a:pt x="69" y="23"/>
                      <a:pt x="55" y="37"/>
                      <a:pt x="44" y="48"/>
                    </a:cubicBezTo>
                    <a:cubicBezTo>
                      <a:pt x="33" y="59"/>
                      <a:pt x="22" y="73"/>
                      <a:pt x="16" y="84"/>
                    </a:cubicBezTo>
                    <a:cubicBezTo>
                      <a:pt x="10" y="95"/>
                      <a:pt x="8" y="103"/>
                      <a:pt x="6" y="116"/>
                    </a:cubicBezTo>
                    <a:cubicBezTo>
                      <a:pt x="4" y="129"/>
                      <a:pt x="7" y="151"/>
                      <a:pt x="6" y="164"/>
                    </a:cubicBezTo>
                    <a:cubicBezTo>
                      <a:pt x="5" y="177"/>
                      <a:pt x="0" y="184"/>
                      <a:pt x="0" y="192"/>
                    </a:cubicBezTo>
                    <a:cubicBezTo>
                      <a:pt x="0" y="200"/>
                      <a:pt x="2" y="209"/>
                      <a:pt x="6" y="212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Freeform 189"/>
              <p:cNvSpPr/>
              <p:nvPr/>
            </p:nvSpPr>
            <p:spPr>
              <a:xfrm>
                <a:off x="7986600" y="1589760"/>
                <a:ext cx="253080" cy="429120"/>
              </a:xfrm>
              <a:custGeom>
                <a:avLst/>
                <a:gdLst>
                  <a:gd name="textAreaLeft" fmla="*/ 0 w 253080"/>
                  <a:gd name="textAreaRight" fmla="*/ 253440 w 253080"/>
                  <a:gd name="textAreaTop" fmla="*/ 0 h 429120"/>
                  <a:gd name="textAreaBottom" fmla="*/ 429480 h 429120"/>
                </a:gdLst>
                <a:ahLst/>
                <a:rect l="textAreaLeft" t="textAreaTop" r="textAreaRight" b="textAreaBottom"/>
                <a:pathLst>
                  <a:path w="198" h="320">
                    <a:moveTo>
                      <a:pt x="0" y="23"/>
                    </a:moveTo>
                    <a:cubicBezTo>
                      <a:pt x="8" y="16"/>
                      <a:pt x="48" y="0"/>
                      <a:pt x="74" y="7"/>
                    </a:cubicBezTo>
                    <a:cubicBezTo>
                      <a:pt x="100" y="14"/>
                      <a:pt x="139" y="46"/>
                      <a:pt x="154" y="67"/>
                    </a:cubicBezTo>
                    <a:cubicBezTo>
                      <a:pt x="169" y="88"/>
                      <a:pt x="163" y="116"/>
                      <a:pt x="166" y="135"/>
                    </a:cubicBezTo>
                    <a:cubicBezTo>
                      <a:pt x="169" y="154"/>
                      <a:pt x="168" y="161"/>
                      <a:pt x="170" y="179"/>
                    </a:cubicBezTo>
                    <a:cubicBezTo>
                      <a:pt x="172" y="197"/>
                      <a:pt x="174" y="229"/>
                      <a:pt x="178" y="243"/>
                    </a:cubicBezTo>
                    <a:cubicBezTo>
                      <a:pt x="182" y="257"/>
                      <a:pt x="198" y="252"/>
                      <a:pt x="192" y="263"/>
                    </a:cubicBezTo>
                    <a:cubicBezTo>
                      <a:pt x="186" y="274"/>
                      <a:pt x="156" y="302"/>
                      <a:pt x="144" y="311"/>
                    </a:cubicBezTo>
                    <a:cubicBezTo>
                      <a:pt x="132" y="320"/>
                      <a:pt x="126" y="319"/>
                      <a:pt x="118" y="315"/>
                    </a:cubicBezTo>
                    <a:cubicBezTo>
                      <a:pt x="110" y="311"/>
                      <a:pt x="108" y="303"/>
                      <a:pt x="98" y="287"/>
                    </a:cubicBezTo>
                    <a:cubicBezTo>
                      <a:pt x="88" y="271"/>
                      <a:pt x="63" y="236"/>
                      <a:pt x="58" y="219"/>
                    </a:cubicBezTo>
                    <a:cubicBezTo>
                      <a:pt x="53" y="202"/>
                      <a:pt x="65" y="199"/>
                      <a:pt x="66" y="183"/>
                    </a:cubicBezTo>
                    <a:cubicBezTo>
                      <a:pt x="67" y="167"/>
                      <a:pt x="69" y="142"/>
                      <a:pt x="66" y="123"/>
                    </a:cubicBezTo>
                    <a:cubicBezTo>
                      <a:pt x="63" y="104"/>
                      <a:pt x="53" y="85"/>
                      <a:pt x="48" y="71"/>
                    </a:cubicBezTo>
                    <a:cubicBezTo>
                      <a:pt x="43" y="57"/>
                      <a:pt x="42" y="47"/>
                      <a:pt x="34" y="39"/>
                    </a:cubicBezTo>
                    <a:cubicBezTo>
                      <a:pt x="26" y="31"/>
                      <a:pt x="7" y="26"/>
                      <a:pt x="0" y="23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Freeform 190"/>
              <p:cNvSpPr/>
              <p:nvPr/>
            </p:nvSpPr>
            <p:spPr>
              <a:xfrm>
                <a:off x="7489800" y="1596960"/>
                <a:ext cx="284760" cy="432000"/>
              </a:xfrm>
              <a:custGeom>
                <a:avLst/>
                <a:gdLst>
                  <a:gd name="textAreaLeft" fmla="*/ 0 w 284760"/>
                  <a:gd name="textAreaRight" fmla="*/ 285120 w 284760"/>
                  <a:gd name="textAreaTop" fmla="*/ 0 h 432000"/>
                  <a:gd name="textAreaBottom" fmla="*/ 432360 h 432000"/>
                </a:gdLst>
                <a:ahLst/>
                <a:rect l="textAreaLeft" t="textAreaTop" r="textAreaRight" b="textAreaBottom"/>
                <a:pathLst>
                  <a:path w="222" h="322">
                    <a:moveTo>
                      <a:pt x="221" y="24"/>
                    </a:moveTo>
                    <a:cubicBezTo>
                      <a:pt x="222" y="15"/>
                      <a:pt x="202" y="4"/>
                      <a:pt x="185" y="2"/>
                    </a:cubicBezTo>
                    <a:cubicBezTo>
                      <a:pt x="168" y="0"/>
                      <a:pt x="144" y="0"/>
                      <a:pt x="121" y="10"/>
                    </a:cubicBezTo>
                    <a:cubicBezTo>
                      <a:pt x="98" y="20"/>
                      <a:pt x="61" y="40"/>
                      <a:pt x="47" y="60"/>
                    </a:cubicBezTo>
                    <a:cubicBezTo>
                      <a:pt x="33" y="80"/>
                      <a:pt x="38" y="109"/>
                      <a:pt x="35" y="128"/>
                    </a:cubicBezTo>
                    <a:cubicBezTo>
                      <a:pt x="32" y="147"/>
                      <a:pt x="33" y="154"/>
                      <a:pt x="31" y="172"/>
                    </a:cubicBezTo>
                    <a:cubicBezTo>
                      <a:pt x="29" y="190"/>
                      <a:pt x="27" y="222"/>
                      <a:pt x="23" y="236"/>
                    </a:cubicBezTo>
                    <a:cubicBezTo>
                      <a:pt x="19" y="250"/>
                      <a:pt x="0" y="246"/>
                      <a:pt x="9" y="256"/>
                    </a:cubicBezTo>
                    <a:cubicBezTo>
                      <a:pt x="18" y="266"/>
                      <a:pt x="59" y="288"/>
                      <a:pt x="77" y="298"/>
                    </a:cubicBezTo>
                    <a:cubicBezTo>
                      <a:pt x="95" y="308"/>
                      <a:pt x="109" y="322"/>
                      <a:pt x="117" y="318"/>
                    </a:cubicBezTo>
                    <a:cubicBezTo>
                      <a:pt x="125" y="314"/>
                      <a:pt x="121" y="292"/>
                      <a:pt x="125" y="274"/>
                    </a:cubicBezTo>
                    <a:cubicBezTo>
                      <a:pt x="129" y="256"/>
                      <a:pt x="140" y="228"/>
                      <a:pt x="143" y="212"/>
                    </a:cubicBezTo>
                    <a:cubicBezTo>
                      <a:pt x="146" y="196"/>
                      <a:pt x="145" y="189"/>
                      <a:pt x="145" y="178"/>
                    </a:cubicBezTo>
                    <a:cubicBezTo>
                      <a:pt x="145" y="167"/>
                      <a:pt x="143" y="164"/>
                      <a:pt x="145" y="148"/>
                    </a:cubicBezTo>
                    <a:cubicBezTo>
                      <a:pt x="147" y="132"/>
                      <a:pt x="154" y="97"/>
                      <a:pt x="157" y="84"/>
                    </a:cubicBezTo>
                    <a:cubicBezTo>
                      <a:pt x="160" y="71"/>
                      <a:pt x="161" y="77"/>
                      <a:pt x="165" y="72"/>
                    </a:cubicBezTo>
                    <a:cubicBezTo>
                      <a:pt x="169" y="67"/>
                      <a:pt x="172" y="64"/>
                      <a:pt x="181" y="56"/>
                    </a:cubicBezTo>
                    <a:cubicBezTo>
                      <a:pt x="190" y="48"/>
                      <a:pt x="213" y="31"/>
                      <a:pt x="221" y="2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Freeform 191"/>
              <p:cNvSpPr/>
              <p:nvPr/>
            </p:nvSpPr>
            <p:spPr>
              <a:xfrm>
                <a:off x="7507080" y="1879200"/>
                <a:ext cx="142560" cy="138240"/>
              </a:xfrm>
              <a:custGeom>
                <a:avLst/>
                <a:gdLst>
                  <a:gd name="textAreaLeft" fmla="*/ 0 w 142560"/>
                  <a:gd name="textAreaRight" fmla="*/ 142920 w 142560"/>
                  <a:gd name="textAreaTop" fmla="*/ 0 h 138240"/>
                  <a:gd name="textAreaBottom" fmla="*/ 138600 h 138240"/>
                </a:gdLst>
                <a:ahLst/>
                <a:rect l="textAreaLeft" t="textAreaTop" r="textAreaRight" b="textAreaBottom"/>
                <a:pathLst>
                  <a:path w="112" h="104">
                    <a:moveTo>
                      <a:pt x="20" y="0"/>
                    </a:moveTo>
                    <a:lnTo>
                      <a:pt x="16" y="0"/>
                    </a:lnTo>
                    <a:lnTo>
                      <a:pt x="0" y="44"/>
                    </a:lnTo>
                    <a:lnTo>
                      <a:pt x="100" y="104"/>
                    </a:lnTo>
                    <a:lnTo>
                      <a:pt x="112" y="64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Freeform 192"/>
              <p:cNvSpPr/>
              <p:nvPr/>
            </p:nvSpPr>
            <p:spPr>
              <a:xfrm>
                <a:off x="7756200" y="1545120"/>
                <a:ext cx="106200" cy="128160"/>
              </a:xfrm>
              <a:custGeom>
                <a:avLst/>
                <a:gdLst>
                  <a:gd name="textAreaLeft" fmla="*/ 0 w 106200"/>
                  <a:gd name="textAreaRight" fmla="*/ 106560 w 106200"/>
                  <a:gd name="textAreaTop" fmla="*/ 0 h 128160"/>
                  <a:gd name="textAreaBottom" fmla="*/ 128520 h 128160"/>
                </a:gdLst>
                <a:ahLst/>
                <a:rect l="textAreaLeft" t="textAreaTop" r="textAreaRight" b="textAreaBottom"/>
                <a:pathLst>
                  <a:path w="84" h="96">
                    <a:moveTo>
                      <a:pt x="40" y="0"/>
                    </a:moveTo>
                    <a:cubicBezTo>
                      <a:pt x="34" y="12"/>
                      <a:pt x="43" y="12"/>
                      <a:pt x="28" y="12"/>
                    </a:cubicBezTo>
                    <a:lnTo>
                      <a:pt x="0" y="28"/>
                    </a:lnTo>
                    <a:lnTo>
                      <a:pt x="56" y="96"/>
                    </a:lnTo>
                    <a:lnTo>
                      <a:pt x="84" y="60"/>
                    </a:lnTo>
                    <a:lnTo>
                      <a:pt x="32" y="8"/>
                    </a:ln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Freeform 193"/>
              <p:cNvSpPr/>
              <p:nvPr/>
            </p:nvSpPr>
            <p:spPr>
              <a:xfrm flipH="1">
                <a:off x="7859160" y="1545120"/>
                <a:ext cx="106200" cy="128160"/>
              </a:xfrm>
              <a:custGeom>
                <a:avLst/>
                <a:gdLst>
                  <a:gd name="textAreaLeft" fmla="*/ -360 w 106200"/>
                  <a:gd name="textAreaRight" fmla="*/ 106200 w 106200"/>
                  <a:gd name="textAreaTop" fmla="*/ 0 h 128160"/>
                  <a:gd name="textAreaBottom" fmla="*/ 128520 h 128160"/>
                </a:gdLst>
                <a:ahLst/>
                <a:rect l="textAreaLeft" t="textAreaTop" r="textAreaRight" b="textAreaBottom"/>
                <a:pathLst>
                  <a:path w="84" h="96">
                    <a:moveTo>
                      <a:pt x="40" y="0"/>
                    </a:moveTo>
                    <a:cubicBezTo>
                      <a:pt x="34" y="12"/>
                      <a:pt x="43" y="12"/>
                      <a:pt x="28" y="12"/>
                    </a:cubicBezTo>
                    <a:lnTo>
                      <a:pt x="0" y="28"/>
                    </a:lnTo>
                    <a:lnTo>
                      <a:pt x="56" y="96"/>
                    </a:lnTo>
                    <a:lnTo>
                      <a:pt x="84" y="60"/>
                    </a:lnTo>
                    <a:lnTo>
                      <a:pt x="32" y="8"/>
                    </a:ln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Freeform 194"/>
              <p:cNvSpPr/>
              <p:nvPr/>
            </p:nvSpPr>
            <p:spPr>
              <a:xfrm>
                <a:off x="7871400" y="1879200"/>
                <a:ext cx="10080" cy="53604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536040"/>
                  <a:gd name="textAreaBottom" fmla="*/ 536400 h 536040"/>
                </a:gdLst>
                <a:ahLst/>
                <a:rect l="textAreaLeft" t="textAreaTop" r="textAreaRight" b="textAreaBottom"/>
                <a:pathLst>
                  <a:path w="8" h="400">
                    <a:moveTo>
                      <a:pt x="0" y="0"/>
                    </a:moveTo>
                    <a:lnTo>
                      <a:pt x="8" y="40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Freeform 195"/>
              <p:cNvSpPr/>
              <p:nvPr/>
            </p:nvSpPr>
            <p:spPr>
              <a:xfrm>
                <a:off x="7865280" y="1647360"/>
                <a:ext cx="1440" cy="21456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214560"/>
                  <a:gd name="textAreaBottom" fmla="*/ 214920 h 214560"/>
                </a:gdLst>
                <a:ahLst/>
                <a:rect l="textAreaLeft" t="textAreaTop" r="textAreaRight" b="textAreaBottom"/>
                <a:pathLst>
                  <a:path w="1" h="160">
                    <a:moveTo>
                      <a:pt x="0" y="0"/>
                    </a:moveTo>
                    <a:lnTo>
                      <a:pt x="0" y="16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Freeform 196"/>
              <p:cNvSpPr/>
              <p:nvPr/>
            </p:nvSpPr>
            <p:spPr>
              <a:xfrm>
                <a:off x="7645320" y="2334600"/>
                <a:ext cx="488880" cy="132120"/>
              </a:xfrm>
              <a:custGeom>
                <a:avLst/>
                <a:gdLst>
                  <a:gd name="textAreaLeft" fmla="*/ 0 w 488880"/>
                  <a:gd name="textAreaRight" fmla="*/ 489240 w 488880"/>
                  <a:gd name="textAreaTop" fmla="*/ 0 h 132120"/>
                  <a:gd name="textAreaBottom" fmla="*/ 132480 h 132120"/>
                </a:gdLst>
                <a:ahLst/>
                <a:rect l="textAreaLeft" t="textAreaTop" r="textAreaRight" b="textAreaBottom"/>
                <a:pathLst>
                  <a:path w="352" h="95">
                    <a:moveTo>
                      <a:pt x="10" y="49"/>
                    </a:moveTo>
                    <a:cubicBezTo>
                      <a:pt x="0" y="62"/>
                      <a:pt x="3" y="80"/>
                      <a:pt x="11" y="86"/>
                    </a:cubicBezTo>
                    <a:cubicBezTo>
                      <a:pt x="19" y="92"/>
                      <a:pt x="31" y="86"/>
                      <a:pt x="59" y="86"/>
                    </a:cubicBezTo>
                    <a:cubicBezTo>
                      <a:pt x="87" y="86"/>
                      <a:pt x="136" y="88"/>
                      <a:pt x="181" y="88"/>
                    </a:cubicBezTo>
                    <a:cubicBezTo>
                      <a:pt x="226" y="88"/>
                      <a:pt x="304" y="95"/>
                      <a:pt x="328" y="88"/>
                    </a:cubicBezTo>
                    <a:cubicBezTo>
                      <a:pt x="352" y="81"/>
                      <a:pt x="339" y="58"/>
                      <a:pt x="325" y="43"/>
                    </a:cubicBezTo>
                    <a:cubicBezTo>
                      <a:pt x="311" y="28"/>
                      <a:pt x="268" y="2"/>
                      <a:pt x="244" y="1"/>
                    </a:cubicBezTo>
                    <a:cubicBezTo>
                      <a:pt x="220" y="0"/>
                      <a:pt x="191" y="26"/>
                      <a:pt x="181" y="40"/>
                    </a:cubicBezTo>
                    <a:cubicBezTo>
                      <a:pt x="171" y="54"/>
                      <a:pt x="191" y="86"/>
                      <a:pt x="187" y="85"/>
                    </a:cubicBezTo>
                    <a:cubicBezTo>
                      <a:pt x="183" y="84"/>
                      <a:pt x="173" y="47"/>
                      <a:pt x="154" y="34"/>
                    </a:cubicBezTo>
                    <a:cubicBezTo>
                      <a:pt x="135" y="21"/>
                      <a:pt x="94" y="4"/>
                      <a:pt x="70" y="7"/>
                    </a:cubicBezTo>
                    <a:cubicBezTo>
                      <a:pt x="46" y="10"/>
                      <a:pt x="20" y="36"/>
                      <a:pt x="10" y="49"/>
                    </a:cubicBezTo>
                    <a:close/>
                  </a:path>
                </a:pathLst>
              </a:custGeom>
              <a:blipFill rotWithShape="0">
                <a:blip r:embed="rId2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Freeform 197"/>
              <p:cNvSpPr/>
              <p:nvPr/>
            </p:nvSpPr>
            <p:spPr>
              <a:xfrm>
                <a:off x="7577640" y="946080"/>
                <a:ext cx="553680" cy="424800"/>
              </a:xfrm>
              <a:custGeom>
                <a:avLst/>
                <a:gdLst>
                  <a:gd name="textAreaLeft" fmla="*/ 0 w 553680"/>
                  <a:gd name="textAreaRight" fmla="*/ 554040 w 553680"/>
                  <a:gd name="textAreaTop" fmla="*/ 0 h 424800"/>
                  <a:gd name="textAreaBottom" fmla="*/ 425160 h 424800"/>
                </a:gdLst>
                <a:ahLst/>
                <a:rect l="textAreaLeft" t="textAreaTop" r="textAreaRight" b="textAreaBottom"/>
                <a:pathLst>
                  <a:path w="400" h="301">
                    <a:moveTo>
                      <a:pt x="378" y="286"/>
                    </a:moveTo>
                    <a:cubicBezTo>
                      <a:pt x="381" y="275"/>
                      <a:pt x="398" y="234"/>
                      <a:pt x="399" y="220"/>
                    </a:cubicBezTo>
                    <a:cubicBezTo>
                      <a:pt x="400" y="206"/>
                      <a:pt x="386" y="211"/>
                      <a:pt x="384" y="202"/>
                    </a:cubicBezTo>
                    <a:cubicBezTo>
                      <a:pt x="382" y="193"/>
                      <a:pt x="391" y="174"/>
                      <a:pt x="387" y="166"/>
                    </a:cubicBezTo>
                    <a:cubicBezTo>
                      <a:pt x="383" y="158"/>
                      <a:pt x="363" y="158"/>
                      <a:pt x="360" y="151"/>
                    </a:cubicBezTo>
                    <a:cubicBezTo>
                      <a:pt x="357" y="144"/>
                      <a:pt x="367" y="125"/>
                      <a:pt x="366" y="121"/>
                    </a:cubicBezTo>
                    <a:cubicBezTo>
                      <a:pt x="365" y="117"/>
                      <a:pt x="363" y="133"/>
                      <a:pt x="351" y="124"/>
                    </a:cubicBezTo>
                    <a:cubicBezTo>
                      <a:pt x="339" y="115"/>
                      <a:pt x="308" y="77"/>
                      <a:pt x="294" y="67"/>
                    </a:cubicBezTo>
                    <a:cubicBezTo>
                      <a:pt x="280" y="57"/>
                      <a:pt x="275" y="66"/>
                      <a:pt x="267" y="64"/>
                    </a:cubicBezTo>
                    <a:cubicBezTo>
                      <a:pt x="259" y="62"/>
                      <a:pt x="248" y="59"/>
                      <a:pt x="247" y="53"/>
                    </a:cubicBezTo>
                    <a:cubicBezTo>
                      <a:pt x="246" y="47"/>
                      <a:pt x="255" y="32"/>
                      <a:pt x="261" y="28"/>
                    </a:cubicBezTo>
                    <a:cubicBezTo>
                      <a:pt x="267" y="24"/>
                      <a:pt x="282" y="35"/>
                      <a:pt x="282" y="31"/>
                    </a:cubicBezTo>
                    <a:cubicBezTo>
                      <a:pt x="282" y="27"/>
                      <a:pt x="273" y="0"/>
                      <a:pt x="264" y="1"/>
                    </a:cubicBezTo>
                    <a:cubicBezTo>
                      <a:pt x="255" y="2"/>
                      <a:pt x="235" y="31"/>
                      <a:pt x="228" y="40"/>
                    </a:cubicBezTo>
                    <a:cubicBezTo>
                      <a:pt x="221" y="49"/>
                      <a:pt x="225" y="60"/>
                      <a:pt x="219" y="55"/>
                    </a:cubicBezTo>
                    <a:cubicBezTo>
                      <a:pt x="213" y="50"/>
                      <a:pt x="197" y="15"/>
                      <a:pt x="192" y="10"/>
                    </a:cubicBezTo>
                    <a:cubicBezTo>
                      <a:pt x="187" y="5"/>
                      <a:pt x="184" y="15"/>
                      <a:pt x="186" y="22"/>
                    </a:cubicBezTo>
                    <a:cubicBezTo>
                      <a:pt x="188" y="29"/>
                      <a:pt x="208" y="57"/>
                      <a:pt x="204" y="55"/>
                    </a:cubicBezTo>
                    <a:cubicBezTo>
                      <a:pt x="200" y="53"/>
                      <a:pt x="172" y="17"/>
                      <a:pt x="162" y="10"/>
                    </a:cubicBezTo>
                    <a:cubicBezTo>
                      <a:pt x="152" y="3"/>
                      <a:pt x="151" y="15"/>
                      <a:pt x="144" y="16"/>
                    </a:cubicBezTo>
                    <a:cubicBezTo>
                      <a:pt x="137" y="17"/>
                      <a:pt x="125" y="16"/>
                      <a:pt x="120" y="19"/>
                    </a:cubicBezTo>
                    <a:cubicBezTo>
                      <a:pt x="115" y="22"/>
                      <a:pt x="110" y="31"/>
                      <a:pt x="114" y="34"/>
                    </a:cubicBezTo>
                    <a:cubicBezTo>
                      <a:pt x="118" y="37"/>
                      <a:pt x="140" y="33"/>
                      <a:pt x="147" y="37"/>
                    </a:cubicBezTo>
                    <a:cubicBezTo>
                      <a:pt x="154" y="41"/>
                      <a:pt x="163" y="55"/>
                      <a:pt x="159" y="58"/>
                    </a:cubicBezTo>
                    <a:cubicBezTo>
                      <a:pt x="155" y="61"/>
                      <a:pt x="133" y="53"/>
                      <a:pt x="126" y="55"/>
                    </a:cubicBezTo>
                    <a:cubicBezTo>
                      <a:pt x="119" y="57"/>
                      <a:pt x="119" y="69"/>
                      <a:pt x="114" y="73"/>
                    </a:cubicBezTo>
                    <a:cubicBezTo>
                      <a:pt x="109" y="77"/>
                      <a:pt x="100" y="76"/>
                      <a:pt x="93" y="79"/>
                    </a:cubicBezTo>
                    <a:cubicBezTo>
                      <a:pt x="86" y="82"/>
                      <a:pt x="79" y="89"/>
                      <a:pt x="72" y="94"/>
                    </a:cubicBezTo>
                    <a:cubicBezTo>
                      <a:pt x="65" y="99"/>
                      <a:pt x="56" y="101"/>
                      <a:pt x="54" y="106"/>
                    </a:cubicBezTo>
                    <a:cubicBezTo>
                      <a:pt x="52" y="111"/>
                      <a:pt x="61" y="118"/>
                      <a:pt x="60" y="124"/>
                    </a:cubicBezTo>
                    <a:cubicBezTo>
                      <a:pt x="59" y="130"/>
                      <a:pt x="51" y="137"/>
                      <a:pt x="45" y="142"/>
                    </a:cubicBezTo>
                    <a:cubicBezTo>
                      <a:pt x="39" y="147"/>
                      <a:pt x="33" y="142"/>
                      <a:pt x="27" y="154"/>
                    </a:cubicBezTo>
                    <a:cubicBezTo>
                      <a:pt x="21" y="166"/>
                      <a:pt x="16" y="194"/>
                      <a:pt x="12" y="214"/>
                    </a:cubicBezTo>
                    <a:cubicBezTo>
                      <a:pt x="8" y="234"/>
                      <a:pt x="0" y="260"/>
                      <a:pt x="3" y="274"/>
                    </a:cubicBezTo>
                    <a:cubicBezTo>
                      <a:pt x="6" y="288"/>
                      <a:pt x="27" y="295"/>
                      <a:pt x="33" y="301"/>
                    </a:cubicBezTo>
                  </a:path>
                </a:pathLst>
              </a:custGeom>
              <a:gradFill rotWithShape="0">
                <a:gsLst>
                  <a:gs pos="0">
                    <a:srgbClr val="d20000"/>
                  </a:gs>
                  <a:gs pos="50000">
                    <a:srgbClr val="993300"/>
                  </a:gs>
                  <a:gs pos="100000">
                    <a:srgbClr val="d20000"/>
                  </a:gs>
                </a:gsLst>
                <a:lin ang="18900000"/>
              </a:gra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Freeform 198"/>
              <p:cNvSpPr/>
              <p:nvPr/>
            </p:nvSpPr>
            <p:spPr>
              <a:xfrm>
                <a:off x="8134560" y="1965960"/>
                <a:ext cx="140760" cy="149400"/>
              </a:xfrm>
              <a:custGeom>
                <a:avLst/>
                <a:gdLst>
                  <a:gd name="textAreaLeft" fmla="*/ 0 w 140760"/>
                  <a:gd name="textAreaRight" fmla="*/ 141120 w 140760"/>
                  <a:gd name="textAreaTop" fmla="*/ 0 h 149400"/>
                  <a:gd name="textAreaBottom" fmla="*/ 149760 h 149400"/>
                </a:gdLst>
                <a:ahLst/>
                <a:rect l="textAreaLeft" t="textAreaTop" r="textAreaRight" b="textAreaBottom"/>
                <a:pathLst>
                  <a:path w="99" h="101">
                    <a:moveTo>
                      <a:pt x="66" y="0"/>
                    </a:moveTo>
                    <a:cubicBezTo>
                      <a:pt x="70" y="4"/>
                      <a:pt x="86" y="8"/>
                      <a:pt x="91" y="19"/>
                    </a:cubicBezTo>
                    <a:cubicBezTo>
                      <a:pt x="96" y="30"/>
                      <a:pt x="99" y="53"/>
                      <a:pt x="97" y="65"/>
                    </a:cubicBezTo>
                    <a:cubicBezTo>
                      <a:pt x="95" y="77"/>
                      <a:pt x="88" y="85"/>
                      <a:pt x="78" y="90"/>
                    </a:cubicBezTo>
                    <a:cubicBezTo>
                      <a:pt x="68" y="95"/>
                      <a:pt x="48" y="101"/>
                      <a:pt x="36" y="96"/>
                    </a:cubicBezTo>
                    <a:cubicBezTo>
                      <a:pt x="24" y="91"/>
                      <a:pt x="8" y="70"/>
                      <a:pt x="4" y="59"/>
                    </a:cubicBezTo>
                    <a:cubicBezTo>
                      <a:pt x="0" y="48"/>
                      <a:pt x="10" y="36"/>
                      <a:pt x="12" y="30"/>
                    </a:cubicBezTo>
                  </a:path>
                </a:pathLst>
              </a:custGeom>
              <a:blipFill rotWithShape="0">
                <a:blip r:embed="rId22"/>
                <a:srcRect/>
                <a:stretch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Freeform 199"/>
              <p:cNvSpPr/>
              <p:nvPr/>
            </p:nvSpPr>
            <p:spPr>
              <a:xfrm>
                <a:off x="7446960" y="1945440"/>
                <a:ext cx="153720" cy="164160"/>
              </a:xfrm>
              <a:custGeom>
                <a:avLst/>
                <a:gdLst>
                  <a:gd name="textAreaLeft" fmla="*/ 0 w 153720"/>
                  <a:gd name="textAreaRight" fmla="*/ 154080 w 153720"/>
                  <a:gd name="textAreaTop" fmla="*/ 0 h 164160"/>
                  <a:gd name="textAreaBottom" fmla="*/ 164520 h 164160"/>
                </a:gdLst>
                <a:ahLst/>
                <a:rect l="textAreaLeft" t="textAreaTop" r="textAreaRight" b="textAreaBottom"/>
                <a:pathLst>
                  <a:path w="108" h="111">
                    <a:moveTo>
                      <a:pt x="48" y="0"/>
                    </a:moveTo>
                    <a:cubicBezTo>
                      <a:pt x="42" y="5"/>
                      <a:pt x="17" y="19"/>
                      <a:pt x="10" y="31"/>
                    </a:cubicBezTo>
                    <a:cubicBezTo>
                      <a:pt x="2" y="44"/>
                      <a:pt x="0" y="66"/>
                      <a:pt x="4" y="77"/>
                    </a:cubicBezTo>
                    <a:cubicBezTo>
                      <a:pt x="8" y="87"/>
                      <a:pt x="26" y="86"/>
                      <a:pt x="36" y="91"/>
                    </a:cubicBezTo>
                    <a:cubicBezTo>
                      <a:pt x="46" y="96"/>
                      <a:pt x="55" y="111"/>
                      <a:pt x="65" y="108"/>
                    </a:cubicBezTo>
                    <a:cubicBezTo>
                      <a:pt x="75" y="105"/>
                      <a:pt x="90" y="82"/>
                      <a:pt x="97" y="71"/>
                    </a:cubicBezTo>
                    <a:cubicBezTo>
                      <a:pt x="104" y="60"/>
                      <a:pt x="106" y="50"/>
                      <a:pt x="108" y="44"/>
                    </a:cubicBezTo>
                  </a:path>
                </a:pathLst>
              </a:custGeom>
              <a:blipFill rotWithShape="0">
                <a:blip r:embed="rId23"/>
                <a:srcRect/>
                <a:stretch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Freeform 200"/>
              <p:cNvSpPr/>
              <p:nvPr/>
            </p:nvSpPr>
            <p:spPr>
              <a:xfrm>
                <a:off x="7623720" y="1097280"/>
                <a:ext cx="477360" cy="512640"/>
              </a:xfrm>
              <a:custGeom>
                <a:avLst/>
                <a:gdLst>
                  <a:gd name="textAreaLeft" fmla="*/ 0 w 477360"/>
                  <a:gd name="textAreaRight" fmla="*/ 477720 w 477360"/>
                  <a:gd name="textAreaTop" fmla="*/ 0 h 512640"/>
                  <a:gd name="textAreaBottom" fmla="*/ 513000 h 512640"/>
                </a:gdLst>
                <a:ahLst/>
                <a:rect l="textAreaLeft" t="textAreaTop" r="textAreaRight" b="textAreaBottom"/>
                <a:pathLst>
                  <a:path w="344" h="365">
                    <a:moveTo>
                      <a:pt x="0" y="194"/>
                    </a:moveTo>
                    <a:cubicBezTo>
                      <a:pt x="0" y="198"/>
                      <a:pt x="0" y="197"/>
                      <a:pt x="6" y="209"/>
                    </a:cubicBezTo>
                    <a:cubicBezTo>
                      <a:pt x="12" y="221"/>
                      <a:pt x="23" y="250"/>
                      <a:pt x="36" y="266"/>
                    </a:cubicBezTo>
                    <a:cubicBezTo>
                      <a:pt x="49" y="282"/>
                      <a:pt x="70" y="299"/>
                      <a:pt x="87" y="308"/>
                    </a:cubicBezTo>
                    <a:cubicBezTo>
                      <a:pt x="104" y="317"/>
                      <a:pt x="129" y="314"/>
                      <a:pt x="138" y="320"/>
                    </a:cubicBezTo>
                    <a:cubicBezTo>
                      <a:pt x="147" y="326"/>
                      <a:pt x="140" y="337"/>
                      <a:pt x="144" y="344"/>
                    </a:cubicBezTo>
                    <a:cubicBezTo>
                      <a:pt x="148" y="351"/>
                      <a:pt x="157" y="365"/>
                      <a:pt x="165" y="365"/>
                    </a:cubicBezTo>
                    <a:cubicBezTo>
                      <a:pt x="173" y="365"/>
                      <a:pt x="185" y="349"/>
                      <a:pt x="192" y="341"/>
                    </a:cubicBezTo>
                    <a:cubicBezTo>
                      <a:pt x="199" y="333"/>
                      <a:pt x="197" y="322"/>
                      <a:pt x="207" y="317"/>
                    </a:cubicBezTo>
                    <a:cubicBezTo>
                      <a:pt x="217" y="312"/>
                      <a:pt x="239" y="315"/>
                      <a:pt x="255" y="308"/>
                    </a:cubicBezTo>
                    <a:cubicBezTo>
                      <a:pt x="271" y="301"/>
                      <a:pt x="289" y="296"/>
                      <a:pt x="303" y="275"/>
                    </a:cubicBezTo>
                    <a:cubicBezTo>
                      <a:pt x="317" y="254"/>
                      <a:pt x="344" y="208"/>
                      <a:pt x="342" y="179"/>
                    </a:cubicBezTo>
                    <a:cubicBezTo>
                      <a:pt x="340" y="150"/>
                      <a:pt x="302" y="123"/>
                      <a:pt x="288" y="98"/>
                    </a:cubicBezTo>
                    <a:cubicBezTo>
                      <a:pt x="274" y="73"/>
                      <a:pt x="269" y="31"/>
                      <a:pt x="256" y="27"/>
                    </a:cubicBezTo>
                    <a:cubicBezTo>
                      <a:pt x="243" y="23"/>
                      <a:pt x="218" y="70"/>
                      <a:pt x="208" y="75"/>
                    </a:cubicBezTo>
                    <a:cubicBezTo>
                      <a:pt x="198" y="80"/>
                      <a:pt x="202" y="60"/>
                      <a:pt x="198" y="56"/>
                    </a:cubicBezTo>
                    <a:cubicBezTo>
                      <a:pt x="194" y="52"/>
                      <a:pt x="197" y="50"/>
                      <a:pt x="183" y="53"/>
                    </a:cubicBezTo>
                    <a:cubicBezTo>
                      <a:pt x="169" y="56"/>
                      <a:pt x="121" y="77"/>
                      <a:pt x="112" y="75"/>
                    </a:cubicBezTo>
                    <a:cubicBezTo>
                      <a:pt x="103" y="73"/>
                      <a:pt x="126" y="52"/>
                      <a:pt x="126" y="41"/>
                    </a:cubicBezTo>
                    <a:cubicBezTo>
                      <a:pt x="126" y="30"/>
                      <a:pt x="126" y="0"/>
                      <a:pt x="114" y="11"/>
                    </a:cubicBezTo>
                    <a:cubicBezTo>
                      <a:pt x="102" y="22"/>
                      <a:pt x="63" y="89"/>
                      <a:pt x="54" y="110"/>
                    </a:cubicBezTo>
                    <a:cubicBezTo>
                      <a:pt x="45" y="131"/>
                      <a:pt x="60" y="129"/>
                      <a:pt x="60" y="137"/>
                    </a:cubicBezTo>
                    <a:cubicBezTo>
                      <a:pt x="60" y="145"/>
                      <a:pt x="58" y="158"/>
                      <a:pt x="54" y="161"/>
                    </a:cubicBezTo>
                    <a:cubicBezTo>
                      <a:pt x="50" y="164"/>
                      <a:pt x="39" y="162"/>
                      <a:pt x="36" y="155"/>
                    </a:cubicBezTo>
                    <a:cubicBezTo>
                      <a:pt x="33" y="148"/>
                      <a:pt x="37" y="119"/>
                      <a:pt x="33" y="119"/>
                    </a:cubicBezTo>
                    <a:cubicBezTo>
                      <a:pt x="29" y="119"/>
                      <a:pt x="16" y="143"/>
                      <a:pt x="12" y="152"/>
                    </a:cubicBezTo>
                    <a:cubicBezTo>
                      <a:pt x="8" y="161"/>
                      <a:pt x="12" y="168"/>
                      <a:pt x="12" y="173"/>
                    </a:cubicBezTo>
                    <a:cubicBezTo>
                      <a:pt x="12" y="178"/>
                      <a:pt x="11" y="182"/>
                      <a:pt x="9" y="185"/>
                    </a:cubicBezTo>
                    <a:cubicBezTo>
                      <a:pt x="7" y="188"/>
                      <a:pt x="0" y="190"/>
                      <a:pt x="0" y="194"/>
                    </a:cubicBezTo>
                    <a:close/>
                  </a:path>
                </a:pathLst>
              </a:custGeom>
              <a:blipFill rotWithShape="0">
                <a:blip r:embed="rId24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Freeform 201"/>
              <p:cNvSpPr/>
              <p:nvPr/>
            </p:nvSpPr>
            <p:spPr>
              <a:xfrm>
                <a:off x="7795080" y="1441440"/>
                <a:ext cx="156600" cy="45720"/>
              </a:xfrm>
              <a:custGeom>
                <a:avLst/>
                <a:gdLst>
                  <a:gd name="textAreaLeft" fmla="*/ 0 w 156600"/>
                  <a:gd name="textAreaRight" fmla="*/ 156960 w 156600"/>
                  <a:gd name="textAreaTop" fmla="*/ 0 h 45720"/>
                  <a:gd name="textAreaBottom" fmla="*/ 46080 h 45720"/>
                </a:gdLst>
                <a:ahLst/>
                <a:rect l="textAreaLeft" t="textAreaTop" r="textAreaRight" b="textAreaBottom"/>
                <a:pathLst>
                  <a:path w="114" h="32">
                    <a:moveTo>
                      <a:pt x="0" y="0"/>
                    </a:moveTo>
                    <a:cubicBezTo>
                      <a:pt x="7" y="4"/>
                      <a:pt x="29" y="22"/>
                      <a:pt x="39" y="27"/>
                    </a:cubicBezTo>
                    <a:cubicBezTo>
                      <a:pt x="49" y="32"/>
                      <a:pt x="53" y="30"/>
                      <a:pt x="60" y="30"/>
                    </a:cubicBezTo>
                    <a:cubicBezTo>
                      <a:pt x="67" y="30"/>
                      <a:pt x="72" y="32"/>
                      <a:pt x="81" y="27"/>
                    </a:cubicBezTo>
                    <a:cubicBezTo>
                      <a:pt x="90" y="22"/>
                      <a:pt x="107" y="8"/>
                      <a:pt x="114" y="3"/>
                    </a:cubicBezTo>
                  </a:path>
                </a:pathLst>
              </a:custGeom>
              <a:noFill/>
              <a:ln w="12600">
                <a:solidFill>
                  <a:srgbClr val="d2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Freeform 202"/>
              <p:cNvSpPr/>
              <p:nvPr/>
            </p:nvSpPr>
            <p:spPr>
              <a:xfrm>
                <a:off x="7846920" y="1457280"/>
                <a:ext cx="64440" cy="14040"/>
              </a:xfrm>
              <a:custGeom>
                <a:avLst/>
                <a:gdLst>
                  <a:gd name="textAreaLeft" fmla="*/ 0 w 64440"/>
                  <a:gd name="textAreaRight" fmla="*/ 64800 w 64440"/>
                  <a:gd name="textAreaTop" fmla="*/ 0 h 14040"/>
                  <a:gd name="textAreaBottom" fmla="*/ 14400 h 14040"/>
                </a:gdLst>
                <a:ahLst/>
                <a:rect l="textAreaLeft" t="textAreaTop" r="textAreaRight" b="textAreaBottom"/>
                <a:pathLst>
                  <a:path w="45" h="10">
                    <a:moveTo>
                      <a:pt x="0" y="10"/>
                    </a:moveTo>
                    <a:cubicBezTo>
                      <a:pt x="2" y="8"/>
                      <a:pt x="6" y="2"/>
                      <a:pt x="10" y="1"/>
                    </a:cubicBezTo>
                    <a:cubicBezTo>
                      <a:pt x="14" y="0"/>
                      <a:pt x="21" y="4"/>
                      <a:pt x="25" y="4"/>
                    </a:cubicBezTo>
                    <a:cubicBezTo>
                      <a:pt x="29" y="4"/>
                      <a:pt x="33" y="0"/>
                      <a:pt x="36" y="1"/>
                    </a:cubicBezTo>
                    <a:cubicBezTo>
                      <a:pt x="39" y="2"/>
                      <a:pt x="43" y="8"/>
                      <a:pt x="45" y="10"/>
                    </a:cubicBezTo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Freeform 203"/>
              <p:cNvSpPr/>
              <p:nvPr/>
            </p:nvSpPr>
            <p:spPr>
              <a:xfrm>
                <a:off x="7770600" y="1275480"/>
                <a:ext cx="87480" cy="38880"/>
              </a:xfrm>
              <a:custGeom>
                <a:avLst/>
                <a:gdLst>
                  <a:gd name="textAreaLeft" fmla="*/ 0 w 87480"/>
                  <a:gd name="textAreaRight" fmla="*/ 87840 w 87480"/>
                  <a:gd name="textAreaTop" fmla="*/ 0 h 38880"/>
                  <a:gd name="textAreaBottom" fmla="*/ 39240 h 38880"/>
                </a:gdLst>
                <a:ahLst/>
                <a:rect l="textAreaLeft" t="textAreaTop" r="textAreaRight" b="textAreaBottom"/>
                <a:pathLst>
                  <a:path w="63" h="28">
                    <a:moveTo>
                      <a:pt x="63" y="16"/>
                    </a:moveTo>
                    <a:cubicBezTo>
                      <a:pt x="58" y="14"/>
                      <a:pt x="39" y="6"/>
                      <a:pt x="33" y="4"/>
                    </a:cubicBezTo>
                    <a:cubicBezTo>
                      <a:pt x="27" y="2"/>
                      <a:pt x="29" y="0"/>
                      <a:pt x="24" y="4"/>
                    </a:cubicBezTo>
                    <a:cubicBezTo>
                      <a:pt x="19" y="8"/>
                      <a:pt x="5" y="23"/>
                      <a:pt x="0" y="28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Freeform 204"/>
              <p:cNvSpPr/>
              <p:nvPr/>
            </p:nvSpPr>
            <p:spPr>
              <a:xfrm>
                <a:off x="7799040" y="1319040"/>
                <a:ext cx="37440" cy="3708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37080"/>
                  <a:gd name="textAreaBottom" fmla="*/ 37440 h 3708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27" y="12"/>
                    </a:moveTo>
                    <a:cubicBezTo>
                      <a:pt x="27" y="8"/>
                      <a:pt x="16" y="0"/>
                      <a:pt x="12" y="0"/>
                    </a:cubicBezTo>
                    <a:cubicBezTo>
                      <a:pt x="8" y="0"/>
                      <a:pt x="0" y="11"/>
                      <a:pt x="0" y="15"/>
                    </a:cubicBezTo>
                    <a:cubicBezTo>
                      <a:pt x="0" y="19"/>
                      <a:pt x="11" y="27"/>
                      <a:pt x="15" y="27"/>
                    </a:cubicBezTo>
                    <a:cubicBezTo>
                      <a:pt x="19" y="27"/>
                      <a:pt x="27" y="16"/>
                      <a:pt x="27" y="12"/>
                    </a:cubicBezTo>
                    <a:close/>
                  </a:path>
                </a:pathLst>
              </a:custGeom>
              <a:solidFill>
                <a:srgbClr val="9966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Freeform 205"/>
              <p:cNvSpPr/>
              <p:nvPr/>
            </p:nvSpPr>
            <p:spPr>
              <a:xfrm>
                <a:off x="7769160" y="1287360"/>
                <a:ext cx="88920" cy="51840"/>
              </a:xfrm>
              <a:custGeom>
                <a:avLst/>
                <a:gdLst>
                  <a:gd name="textAreaLeft" fmla="*/ 0 w 88920"/>
                  <a:gd name="textAreaRight" fmla="*/ 89280 w 88920"/>
                  <a:gd name="textAreaTop" fmla="*/ 0 h 51840"/>
                  <a:gd name="textAreaBottom" fmla="*/ 52200 h 51840"/>
                </a:gdLst>
                <a:ahLst/>
                <a:rect l="textAreaLeft" t="textAreaTop" r="textAreaRight" b="textAreaBottom"/>
                <a:pathLst>
                  <a:path w="64" h="36">
                    <a:moveTo>
                      <a:pt x="4" y="31"/>
                    </a:moveTo>
                    <a:cubicBezTo>
                      <a:pt x="3" y="29"/>
                      <a:pt x="0" y="27"/>
                      <a:pt x="4" y="22"/>
                    </a:cubicBezTo>
                    <a:cubicBezTo>
                      <a:pt x="8" y="17"/>
                      <a:pt x="22" y="2"/>
                      <a:pt x="31" y="1"/>
                    </a:cubicBezTo>
                    <a:cubicBezTo>
                      <a:pt x="40" y="0"/>
                      <a:pt x="58" y="8"/>
                      <a:pt x="61" y="13"/>
                    </a:cubicBezTo>
                    <a:cubicBezTo>
                      <a:pt x="64" y="18"/>
                      <a:pt x="56" y="30"/>
                      <a:pt x="52" y="31"/>
                    </a:cubicBezTo>
                    <a:cubicBezTo>
                      <a:pt x="48" y="32"/>
                      <a:pt x="40" y="19"/>
                      <a:pt x="34" y="19"/>
                    </a:cubicBezTo>
                    <a:cubicBezTo>
                      <a:pt x="28" y="19"/>
                      <a:pt x="18" y="32"/>
                      <a:pt x="13" y="34"/>
                    </a:cubicBezTo>
                    <a:cubicBezTo>
                      <a:pt x="8" y="36"/>
                      <a:pt x="4" y="34"/>
                      <a:pt x="4" y="31"/>
                    </a:cubicBezTo>
                    <a:close/>
                  </a:path>
                </a:pathLst>
              </a:custGeom>
              <a:solidFill>
                <a:srgbClr val="c58b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Freeform 206"/>
              <p:cNvSpPr/>
              <p:nvPr/>
            </p:nvSpPr>
            <p:spPr>
              <a:xfrm flipH="1">
                <a:off x="7910640" y="1270080"/>
                <a:ext cx="87480" cy="38520"/>
              </a:xfrm>
              <a:custGeom>
                <a:avLst/>
                <a:gdLst>
                  <a:gd name="textAreaLeft" fmla="*/ -360 w 87480"/>
                  <a:gd name="textAreaRight" fmla="*/ 87480 w 8748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63" h="28">
                    <a:moveTo>
                      <a:pt x="63" y="16"/>
                    </a:moveTo>
                    <a:cubicBezTo>
                      <a:pt x="58" y="14"/>
                      <a:pt x="39" y="6"/>
                      <a:pt x="33" y="4"/>
                    </a:cubicBezTo>
                    <a:cubicBezTo>
                      <a:pt x="27" y="2"/>
                      <a:pt x="29" y="0"/>
                      <a:pt x="24" y="4"/>
                    </a:cubicBezTo>
                    <a:cubicBezTo>
                      <a:pt x="19" y="8"/>
                      <a:pt x="5" y="23"/>
                      <a:pt x="0" y="28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Freeform 207"/>
              <p:cNvSpPr/>
              <p:nvPr/>
            </p:nvSpPr>
            <p:spPr>
              <a:xfrm flipH="1">
                <a:off x="7932960" y="1312920"/>
                <a:ext cx="37440" cy="37440"/>
              </a:xfrm>
              <a:custGeom>
                <a:avLst/>
                <a:gdLst>
                  <a:gd name="textAreaLeft" fmla="*/ 360 w 37440"/>
                  <a:gd name="textAreaRight" fmla="*/ 38160 w 37440"/>
                  <a:gd name="textAreaTop" fmla="*/ 0 h 37440"/>
                  <a:gd name="textAreaBottom" fmla="*/ 37800 h 3744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27" y="12"/>
                    </a:moveTo>
                    <a:cubicBezTo>
                      <a:pt x="27" y="8"/>
                      <a:pt x="16" y="0"/>
                      <a:pt x="12" y="0"/>
                    </a:cubicBezTo>
                    <a:cubicBezTo>
                      <a:pt x="8" y="0"/>
                      <a:pt x="0" y="11"/>
                      <a:pt x="0" y="15"/>
                    </a:cubicBezTo>
                    <a:cubicBezTo>
                      <a:pt x="0" y="19"/>
                      <a:pt x="11" y="27"/>
                      <a:pt x="15" y="27"/>
                    </a:cubicBezTo>
                    <a:cubicBezTo>
                      <a:pt x="19" y="27"/>
                      <a:pt x="27" y="16"/>
                      <a:pt x="27" y="12"/>
                    </a:cubicBezTo>
                    <a:close/>
                  </a:path>
                </a:pathLst>
              </a:custGeom>
              <a:solidFill>
                <a:srgbClr val="9966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Freeform 208"/>
              <p:cNvSpPr/>
              <p:nvPr/>
            </p:nvSpPr>
            <p:spPr>
              <a:xfrm flipH="1">
                <a:off x="7911360" y="1283040"/>
                <a:ext cx="89280" cy="50040"/>
              </a:xfrm>
              <a:custGeom>
                <a:avLst/>
                <a:gdLst>
                  <a:gd name="textAreaLeft" fmla="*/ 360 w 89280"/>
                  <a:gd name="textAreaRight" fmla="*/ 90000 w 89280"/>
                  <a:gd name="textAreaTop" fmla="*/ 0 h 50040"/>
                  <a:gd name="textAreaBottom" fmla="*/ 50400 h 50040"/>
                </a:gdLst>
                <a:ahLst/>
                <a:rect l="textAreaLeft" t="textAreaTop" r="textAreaRight" b="textAreaBottom"/>
                <a:pathLst>
                  <a:path w="64" h="36">
                    <a:moveTo>
                      <a:pt x="4" y="31"/>
                    </a:moveTo>
                    <a:cubicBezTo>
                      <a:pt x="3" y="29"/>
                      <a:pt x="0" y="27"/>
                      <a:pt x="4" y="22"/>
                    </a:cubicBezTo>
                    <a:cubicBezTo>
                      <a:pt x="8" y="17"/>
                      <a:pt x="22" y="2"/>
                      <a:pt x="31" y="1"/>
                    </a:cubicBezTo>
                    <a:cubicBezTo>
                      <a:pt x="40" y="0"/>
                      <a:pt x="58" y="8"/>
                      <a:pt x="61" y="13"/>
                    </a:cubicBezTo>
                    <a:cubicBezTo>
                      <a:pt x="64" y="18"/>
                      <a:pt x="56" y="30"/>
                      <a:pt x="52" y="31"/>
                    </a:cubicBezTo>
                    <a:cubicBezTo>
                      <a:pt x="48" y="32"/>
                      <a:pt x="40" y="19"/>
                      <a:pt x="34" y="19"/>
                    </a:cubicBezTo>
                    <a:cubicBezTo>
                      <a:pt x="28" y="19"/>
                      <a:pt x="18" y="32"/>
                      <a:pt x="13" y="34"/>
                    </a:cubicBezTo>
                    <a:cubicBezTo>
                      <a:pt x="8" y="36"/>
                      <a:pt x="4" y="34"/>
                      <a:pt x="4" y="31"/>
                    </a:cubicBezTo>
                    <a:close/>
                  </a:path>
                </a:pathLst>
              </a:custGeom>
              <a:solidFill>
                <a:srgbClr val="c58b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Freeform 209"/>
              <p:cNvSpPr/>
              <p:nvPr/>
            </p:nvSpPr>
            <p:spPr>
              <a:xfrm>
                <a:off x="7884360" y="1231200"/>
                <a:ext cx="142200" cy="151200"/>
              </a:xfrm>
              <a:custGeom>
                <a:avLst/>
                <a:gdLst>
                  <a:gd name="textAreaLeft" fmla="*/ 0 w 142200"/>
                  <a:gd name="textAreaRight" fmla="*/ 142560 w 142200"/>
                  <a:gd name="textAreaTop" fmla="*/ 0 h 151200"/>
                  <a:gd name="textAreaBottom" fmla="*/ 151560 h 151200"/>
                </a:gdLst>
                <a:ahLst/>
                <a:rect l="textAreaLeft" t="textAreaTop" r="textAreaRight" b="textAreaBottom"/>
                <a:pathLst>
                  <a:path w="102" h="107">
                    <a:moveTo>
                      <a:pt x="4" y="35"/>
                    </a:moveTo>
                    <a:cubicBezTo>
                      <a:pt x="9" y="25"/>
                      <a:pt x="27" y="10"/>
                      <a:pt x="37" y="5"/>
                    </a:cubicBezTo>
                    <a:cubicBezTo>
                      <a:pt x="47" y="0"/>
                      <a:pt x="57" y="0"/>
                      <a:pt x="67" y="5"/>
                    </a:cubicBezTo>
                    <a:cubicBezTo>
                      <a:pt x="77" y="10"/>
                      <a:pt x="92" y="25"/>
                      <a:pt x="97" y="35"/>
                    </a:cubicBezTo>
                    <a:cubicBezTo>
                      <a:pt x="102" y="45"/>
                      <a:pt x="101" y="57"/>
                      <a:pt x="97" y="68"/>
                    </a:cubicBezTo>
                    <a:cubicBezTo>
                      <a:pt x="93" y="79"/>
                      <a:pt x="79" y="95"/>
                      <a:pt x="70" y="101"/>
                    </a:cubicBezTo>
                    <a:cubicBezTo>
                      <a:pt x="61" y="107"/>
                      <a:pt x="49" y="105"/>
                      <a:pt x="40" y="104"/>
                    </a:cubicBezTo>
                    <a:cubicBezTo>
                      <a:pt x="31" y="103"/>
                      <a:pt x="19" y="98"/>
                      <a:pt x="13" y="92"/>
                    </a:cubicBezTo>
                    <a:cubicBezTo>
                      <a:pt x="7" y="86"/>
                      <a:pt x="2" y="74"/>
                      <a:pt x="1" y="65"/>
                    </a:cubicBezTo>
                    <a:cubicBezTo>
                      <a:pt x="0" y="56"/>
                      <a:pt x="4" y="41"/>
                      <a:pt x="4" y="35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Freeform 210"/>
              <p:cNvSpPr/>
              <p:nvPr/>
            </p:nvSpPr>
            <p:spPr>
              <a:xfrm>
                <a:off x="7738920" y="1239480"/>
                <a:ext cx="142560" cy="147960"/>
              </a:xfrm>
              <a:custGeom>
                <a:avLst/>
                <a:gdLst>
                  <a:gd name="textAreaLeft" fmla="*/ 0 w 142560"/>
                  <a:gd name="textAreaRight" fmla="*/ 142920 w 142560"/>
                  <a:gd name="textAreaTop" fmla="*/ 0 h 147960"/>
                  <a:gd name="textAreaBottom" fmla="*/ 148320 h 147960"/>
                </a:gdLst>
                <a:ahLst/>
                <a:rect l="textAreaLeft" t="textAreaTop" r="textAreaRight" b="textAreaBottom"/>
                <a:pathLst>
                  <a:path w="99" h="103">
                    <a:moveTo>
                      <a:pt x="1" y="31"/>
                    </a:moveTo>
                    <a:cubicBezTo>
                      <a:pt x="5" y="23"/>
                      <a:pt x="15" y="12"/>
                      <a:pt x="27" y="8"/>
                    </a:cubicBezTo>
                    <a:cubicBezTo>
                      <a:pt x="38" y="4"/>
                      <a:pt x="59" y="0"/>
                      <a:pt x="70" y="5"/>
                    </a:cubicBezTo>
                    <a:cubicBezTo>
                      <a:pt x="82" y="10"/>
                      <a:pt x="93" y="26"/>
                      <a:pt x="96" y="37"/>
                    </a:cubicBezTo>
                    <a:cubicBezTo>
                      <a:pt x="99" y="48"/>
                      <a:pt x="94" y="63"/>
                      <a:pt x="90" y="73"/>
                    </a:cubicBezTo>
                    <a:cubicBezTo>
                      <a:pt x="87" y="82"/>
                      <a:pt x="75" y="91"/>
                      <a:pt x="70" y="96"/>
                    </a:cubicBezTo>
                    <a:cubicBezTo>
                      <a:pt x="65" y="101"/>
                      <a:pt x="65" y="100"/>
                      <a:pt x="58" y="101"/>
                    </a:cubicBezTo>
                    <a:cubicBezTo>
                      <a:pt x="51" y="102"/>
                      <a:pt x="38" y="103"/>
                      <a:pt x="30" y="99"/>
                    </a:cubicBezTo>
                    <a:cubicBezTo>
                      <a:pt x="22" y="95"/>
                      <a:pt x="12" y="85"/>
                      <a:pt x="7" y="78"/>
                    </a:cubicBezTo>
                    <a:cubicBezTo>
                      <a:pt x="2" y="71"/>
                      <a:pt x="2" y="67"/>
                      <a:pt x="1" y="59"/>
                    </a:cubicBezTo>
                    <a:cubicBezTo>
                      <a:pt x="0" y="51"/>
                      <a:pt x="1" y="37"/>
                      <a:pt x="1" y="31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Freeform 211"/>
              <p:cNvSpPr/>
              <p:nvPr/>
            </p:nvSpPr>
            <p:spPr>
              <a:xfrm>
                <a:off x="7948800" y="1356120"/>
                <a:ext cx="96120" cy="115200"/>
              </a:xfrm>
              <a:custGeom>
                <a:avLst/>
                <a:gdLst>
                  <a:gd name="textAreaLeft" fmla="*/ 0 w 96120"/>
                  <a:gd name="textAreaRight" fmla="*/ 96480 w 96120"/>
                  <a:gd name="textAreaTop" fmla="*/ 0 h 115200"/>
                  <a:gd name="textAreaBottom" fmla="*/ 115560 h 115200"/>
                </a:gdLst>
                <a:ahLst/>
                <a:rect l="textAreaLeft" t="textAreaTop" r="textAreaRight" b="textAreaBottom"/>
                <a:pathLst>
                  <a:path w="70" h="82">
                    <a:moveTo>
                      <a:pt x="60" y="6"/>
                    </a:moveTo>
                    <a:cubicBezTo>
                      <a:pt x="70" y="8"/>
                      <a:pt x="66" y="27"/>
                      <a:pt x="63" y="39"/>
                    </a:cubicBezTo>
                    <a:cubicBezTo>
                      <a:pt x="60" y="51"/>
                      <a:pt x="53" y="82"/>
                      <a:pt x="43" y="81"/>
                    </a:cubicBezTo>
                    <a:cubicBezTo>
                      <a:pt x="33" y="80"/>
                      <a:pt x="0" y="42"/>
                      <a:pt x="3" y="30"/>
                    </a:cubicBezTo>
                    <a:cubicBezTo>
                      <a:pt x="6" y="18"/>
                      <a:pt x="50" y="0"/>
                      <a:pt x="60" y="6"/>
                    </a:cubicBezTo>
                    <a:close/>
                  </a:path>
                </a:pathLst>
              </a:custGeom>
              <a:solidFill>
                <a:srgbClr val="fda1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Freeform 212"/>
              <p:cNvSpPr/>
              <p:nvPr/>
            </p:nvSpPr>
            <p:spPr>
              <a:xfrm>
                <a:off x="7705800" y="1365120"/>
                <a:ext cx="107640" cy="96120"/>
              </a:xfrm>
              <a:custGeom>
                <a:avLst/>
                <a:gdLst>
                  <a:gd name="textAreaLeft" fmla="*/ 0 w 107640"/>
                  <a:gd name="textAreaRight" fmla="*/ 108000 w 107640"/>
                  <a:gd name="textAreaTop" fmla="*/ 0 h 96120"/>
                  <a:gd name="textAreaBottom" fmla="*/ 96480 h 96120"/>
                </a:gdLst>
                <a:ahLst/>
                <a:rect l="textAreaLeft" t="textAreaTop" r="textAreaRight" b="textAreaBottom"/>
                <a:pathLst>
                  <a:path w="75" h="67">
                    <a:moveTo>
                      <a:pt x="0" y="26"/>
                    </a:moveTo>
                    <a:cubicBezTo>
                      <a:pt x="0" y="34"/>
                      <a:pt x="5" y="48"/>
                      <a:pt x="12" y="53"/>
                    </a:cubicBezTo>
                    <a:cubicBezTo>
                      <a:pt x="19" y="58"/>
                      <a:pt x="35" y="55"/>
                      <a:pt x="42" y="56"/>
                    </a:cubicBezTo>
                    <a:cubicBezTo>
                      <a:pt x="49" y="57"/>
                      <a:pt x="49" y="67"/>
                      <a:pt x="54" y="62"/>
                    </a:cubicBezTo>
                    <a:cubicBezTo>
                      <a:pt x="59" y="57"/>
                      <a:pt x="75" y="34"/>
                      <a:pt x="72" y="26"/>
                    </a:cubicBezTo>
                    <a:cubicBezTo>
                      <a:pt x="69" y="18"/>
                      <a:pt x="45" y="18"/>
                      <a:pt x="36" y="14"/>
                    </a:cubicBezTo>
                    <a:cubicBezTo>
                      <a:pt x="27" y="10"/>
                      <a:pt x="21" y="0"/>
                      <a:pt x="15" y="2"/>
                    </a:cubicBezTo>
                    <a:cubicBezTo>
                      <a:pt x="9" y="4"/>
                      <a:pt x="3" y="21"/>
                      <a:pt x="0" y="26"/>
                    </a:cubicBezTo>
                    <a:close/>
                  </a:path>
                </a:pathLst>
              </a:custGeom>
              <a:solidFill>
                <a:srgbClr val="fda1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Freeform 213"/>
              <p:cNvSpPr/>
              <p:nvPr/>
            </p:nvSpPr>
            <p:spPr>
              <a:xfrm>
                <a:off x="8117280" y="1867680"/>
                <a:ext cx="127800" cy="155160"/>
              </a:xfrm>
              <a:custGeom>
                <a:avLst/>
                <a:gdLst>
                  <a:gd name="textAreaLeft" fmla="*/ 0 w 127800"/>
                  <a:gd name="textAreaRight" fmla="*/ 128160 w 127800"/>
                  <a:gd name="textAreaTop" fmla="*/ 0 h 155160"/>
                  <a:gd name="textAreaBottom" fmla="*/ 155520 h 155160"/>
                </a:gdLst>
                <a:ahLst/>
                <a:rect l="textAreaLeft" t="textAreaTop" r="textAreaRight" b="textAreaBottom"/>
                <a:pathLst>
                  <a:path w="100" h="116">
                    <a:moveTo>
                      <a:pt x="76" y="4"/>
                    </a:moveTo>
                    <a:lnTo>
                      <a:pt x="76" y="0"/>
                    </a:lnTo>
                    <a:lnTo>
                      <a:pt x="100" y="56"/>
                    </a:lnTo>
                    <a:lnTo>
                      <a:pt x="28" y="116"/>
                    </a:lnTo>
                    <a:lnTo>
                      <a:pt x="0" y="80"/>
                    </a:lnTo>
                    <a:lnTo>
                      <a:pt x="76" y="4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2" name="Freeform 214"/>
            <p:cNvSpPr/>
            <p:nvPr/>
          </p:nvSpPr>
          <p:spPr>
            <a:xfrm>
              <a:off x="7852680" y="1383480"/>
              <a:ext cx="55800" cy="2124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21240"/>
                <a:gd name="textAreaBottom" fmla="*/ 21600 h 21240"/>
              </a:gdLst>
              <a:ahLst/>
              <a:rect l="textAreaLeft" t="textAreaTop" r="textAreaRight" b="textAreaBottom"/>
              <a:pathLst>
                <a:path w="39" h="15">
                  <a:moveTo>
                    <a:pt x="0" y="10"/>
                  </a:moveTo>
                  <a:cubicBezTo>
                    <a:pt x="1" y="10"/>
                    <a:pt x="3" y="15"/>
                    <a:pt x="6" y="13"/>
                  </a:cubicBezTo>
                  <a:cubicBezTo>
                    <a:pt x="9" y="11"/>
                    <a:pt x="14" y="0"/>
                    <a:pt x="18" y="0"/>
                  </a:cubicBezTo>
                  <a:cubicBezTo>
                    <a:pt x="22" y="0"/>
                    <a:pt x="27" y="11"/>
                    <a:pt x="30" y="13"/>
                  </a:cubicBezTo>
                  <a:cubicBezTo>
                    <a:pt x="33" y="15"/>
                    <a:pt x="37" y="11"/>
                    <a:pt x="39" y="1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3" name="AutoShape 215"/>
          <p:cNvSpPr/>
          <p:nvPr/>
        </p:nvSpPr>
        <p:spPr>
          <a:xfrm rot="16200000">
            <a:off x="3782880" y="2792520"/>
            <a:ext cx="416160" cy="3396960"/>
          </a:xfrm>
          <a:custGeom>
            <a:avLst/>
            <a:gdLst>
              <a:gd name="textAreaLeft" fmla="*/ 266040 w 416160"/>
              <a:gd name="textAreaRight" fmla="*/ 416520 w 416160"/>
              <a:gd name="textAreaTop" fmla="*/ 88560 h 3396960"/>
              <a:gd name="textAreaBottom" fmla="*/ 3308400 h 3396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 vert="eaVer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AutoShape 216"/>
          <p:cNvSpPr/>
          <p:nvPr/>
        </p:nvSpPr>
        <p:spPr>
          <a:xfrm rot="16200000">
            <a:off x="6683400" y="207720"/>
            <a:ext cx="414360" cy="4506840"/>
          </a:xfrm>
          <a:custGeom>
            <a:avLst/>
            <a:gdLst>
              <a:gd name="textAreaLeft" fmla="*/ 264960 w 414360"/>
              <a:gd name="textAreaRight" fmla="*/ 414720 w 414360"/>
              <a:gd name="textAreaTop" fmla="*/ 117360 h 4506840"/>
              <a:gd name="textAreaBottom" fmla="*/ 4389480 h 4506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Rectangle 217"/>
          <p:cNvSpPr/>
          <p:nvPr/>
        </p:nvSpPr>
        <p:spPr>
          <a:xfrm>
            <a:off x="2933640" y="294480"/>
            <a:ext cx="42386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ru-RU" sz="2900" spc="-1" strike="noStrike">
                <a:solidFill>
                  <a:srgbClr val="009999"/>
                </a:solidFill>
                <a:latin typeface="Arial"/>
              </a:rPr>
              <a:t>В классе 36 учащихся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218"/>
          <p:cNvSpPr/>
          <p:nvPr/>
        </p:nvSpPr>
        <p:spPr>
          <a:xfrm>
            <a:off x="6334560" y="2710440"/>
            <a:ext cx="6800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ru-RU" sz="2900" spc="-1" strike="noStrike">
                <a:solidFill>
                  <a:srgbClr val="c58bf9"/>
                </a:solidFill>
                <a:latin typeface="Arial"/>
              </a:rPr>
              <a:t>15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219"/>
          <p:cNvSpPr/>
          <p:nvPr/>
        </p:nvSpPr>
        <p:spPr>
          <a:xfrm>
            <a:off x="3708720" y="4725000"/>
            <a:ext cx="5371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ru-RU" sz="25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ru-RU" sz="2900" spc="-1" strike="noStrike">
                <a:solidFill>
                  <a:srgbClr val="ff3300"/>
                </a:solidFill>
                <a:latin typeface="Arial"/>
              </a:rPr>
              <a:t>?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220"/>
          <p:cNvSpPr/>
          <p:nvPr/>
        </p:nvSpPr>
        <p:spPr>
          <a:xfrm>
            <a:off x="2195640" y="5446800"/>
            <a:ext cx="6794280" cy="9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ru-RU" sz="2900" spc="-1" strike="noStrike">
                <a:solidFill>
                  <a:srgbClr val="ff3300"/>
                </a:solidFill>
                <a:latin typeface="Arial"/>
              </a:rPr>
              <a:t>Какую часть учащихся составляют мальчики, а какую девочки?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sh dir="d"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0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0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000"/>
                            </p:stCondLst>
                            <p:childTnLst>
                              <p:par>
                                <p:cTn id="20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10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0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0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9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9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0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0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0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0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2000"/>
                            </p:stCondLst>
                            <p:childTnLst>
                              <p:par>
                                <p:cTn id="23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0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0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0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0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3000"/>
                            </p:stCondLst>
                            <p:childTnLst>
                              <p:par>
                                <p:cTn id="26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1" dur="1000"/>
                                        <p:tgtEl>
                                          <p:spTgt spid="10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8c0039"/>
                </a:solidFill>
                <a:latin typeface="Arial"/>
              </a:rPr>
              <a:t>Pašvērtējums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 я оцениваю свою работу на урок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 я оцениваю работу класса на урок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 запомнилось лучше всего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4)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 не получилос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2800" spc="-1" strike="noStrike">
                <a:solidFill>
                  <a:srgbClr val="8c0039"/>
                </a:solidFill>
                <a:latin typeface="Arial"/>
              </a:rPr>
              <a:t>Paldies par darbu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2556000" y="189000"/>
            <a:ext cx="64087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9966ff"/>
                </a:solidFill>
                <a:latin typeface="Arial"/>
              </a:rPr>
              <a:t>Кто быстрее? Найдите в таблице последовательно все числа от 26 до 50</a:t>
            </a:r>
            <a:endParaRPr b="0" lang="en-US" sz="2400" spc="-1" strike="noStrike">
              <a:solidFill>
                <a:srgbClr val="8c0039"/>
              </a:solidFill>
              <a:latin typeface="Arial"/>
            </a:endParaRPr>
          </a:p>
        </p:txBody>
      </p:sp>
      <p:graphicFrame>
        <p:nvGraphicFramePr>
          <p:cNvPr id="1082" name=""/>
          <p:cNvGraphicFramePr/>
          <p:nvPr/>
        </p:nvGraphicFramePr>
        <p:xfrm>
          <a:off x="2987640" y="1557360"/>
          <a:ext cx="5184360" cy="4463640"/>
        </p:xfrm>
        <a:graphic>
          <a:graphicData uri="http://schemas.openxmlformats.org/drawingml/2006/table">
            <a:tbl>
              <a:tblPr/>
              <a:tblGrid>
                <a:gridCol w="1037160"/>
                <a:gridCol w="1037160"/>
                <a:gridCol w="1035720"/>
                <a:gridCol w="1037160"/>
                <a:gridCol w="1037160"/>
              </a:tblGrid>
              <a:tr h="982440">
                <a:tc>
                  <a:txBody>
                    <a:bodyPr lIns="82800" rIns="82800" tIns="41400" bIns="414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ru-RU" sz="4000" spc="-1" strike="noStrike">
                          <a:solidFill>
                            <a:srgbClr val="9966ff"/>
                          </a:solidFill>
                          <a:latin typeface="Arial"/>
                          <a:ea typeface="Times New Roman"/>
                        </a:rPr>
                        <a:t>37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ru-RU" sz="4000" spc="-1" strike="noStrike">
                          <a:solidFill>
                            <a:srgbClr val="9966ff"/>
                          </a:solidFill>
                          <a:latin typeface="Arial"/>
                          <a:ea typeface="Times New Roman"/>
                        </a:rPr>
                        <a:t>3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ru-RU" sz="4000" spc="-1" strike="noStrike">
                          <a:solidFill>
                            <a:srgbClr val="9966ff"/>
                          </a:solidFill>
                          <a:latin typeface="Arial"/>
                          <a:ea typeface="Times New Roman"/>
                        </a:rPr>
                        <a:t>47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ru-RU" sz="4000" spc="-1" strike="noStrike">
                          <a:solidFill>
                            <a:srgbClr val="9966ff"/>
                          </a:solidFill>
                          <a:latin typeface="Arial"/>
                          <a:ea typeface="Times New Roman"/>
                        </a:rPr>
                        <a:t>46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ru-RU" sz="4000" spc="-1" strike="noStrike">
                          <a:solidFill>
                            <a:srgbClr val="9966ff"/>
                          </a:solidFill>
                          <a:latin typeface="Arial"/>
                          <a:ea typeface="Times New Roman"/>
                        </a:rPr>
                        <a:t>4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7560">
                <a:tc>
                  <a:txBody>
                    <a:bodyPr lIns="82800" rIns="82800" tIns="41400" bIns="414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ru-RU" sz="4000" spc="-1" strike="noStrike">
                          <a:solidFill>
                            <a:srgbClr val="9966ff"/>
                          </a:solidFill>
                          <a:latin typeface="Arial"/>
                          <a:ea typeface="Times New Roman"/>
                        </a:rPr>
                        <a:t>4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ru-RU" sz="4000" spc="-1" strike="noStrike">
                          <a:solidFill>
                            <a:srgbClr val="9966ff"/>
                          </a:solidFill>
                          <a:latin typeface="Arial"/>
                          <a:ea typeface="Times New Roman"/>
                        </a:rPr>
                        <a:t>3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ru-RU" sz="4000" spc="-1" strike="noStrike">
                          <a:solidFill>
                            <a:srgbClr val="9966ff"/>
                          </a:solidFill>
                          <a:latin typeface="Arial"/>
                          <a:ea typeface="Times New Roman"/>
                        </a:rPr>
                        <a:t>27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ru-RU" sz="4000" spc="-1" strike="noStrike">
                          <a:solidFill>
                            <a:srgbClr val="9966ff"/>
                          </a:solidFill>
                          <a:latin typeface="Arial"/>
                          <a:ea typeface="Times New Roman"/>
                        </a:rPr>
                        <a:t>36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ru-RU" sz="4000" spc="-1" strike="noStrike">
                          <a:solidFill>
                            <a:srgbClr val="9966ff"/>
                          </a:solidFill>
                          <a:latin typeface="Arial"/>
                          <a:ea typeface="Times New Roman"/>
                        </a:rPr>
                        <a:t>39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5880">
                <a:tc>
                  <a:txBody>
                    <a:bodyPr lIns="82800" rIns="82800" tIns="41400" bIns="414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ru-RU" sz="4000" spc="-1" strike="noStrike">
                          <a:solidFill>
                            <a:srgbClr val="9966ff"/>
                          </a:solidFill>
                          <a:latin typeface="Arial"/>
                          <a:ea typeface="Times New Roman"/>
                        </a:rPr>
                        <a:t>3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ru-RU" sz="4000" spc="-1" strike="noStrike">
                          <a:solidFill>
                            <a:srgbClr val="9966ff"/>
                          </a:solidFill>
                          <a:latin typeface="Arial"/>
                          <a:ea typeface="Times New Roman"/>
                        </a:rPr>
                        <a:t>48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ru-RU" sz="4000" spc="-1" strike="noStrike">
                          <a:solidFill>
                            <a:srgbClr val="9966ff"/>
                          </a:solidFill>
                          <a:latin typeface="Arial"/>
                          <a:ea typeface="Times New Roman"/>
                        </a:rPr>
                        <a:t>5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ru-RU" sz="4000" spc="-1" strike="noStrike">
                          <a:solidFill>
                            <a:srgbClr val="9966ff"/>
                          </a:solidFill>
                          <a:latin typeface="Arial"/>
                          <a:ea typeface="Times New Roman"/>
                        </a:rPr>
                        <a:t>3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ru-RU" sz="4000" spc="-1" strike="noStrike">
                          <a:solidFill>
                            <a:srgbClr val="9966ff"/>
                          </a:solidFill>
                          <a:latin typeface="Arial"/>
                          <a:ea typeface="Times New Roman"/>
                        </a:rPr>
                        <a:t>4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5440">
                <a:tc>
                  <a:txBody>
                    <a:bodyPr lIns="82800" rIns="82800" tIns="41400" bIns="414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ru-RU" sz="4000" spc="-1" strike="noStrike">
                          <a:solidFill>
                            <a:srgbClr val="9966ff"/>
                          </a:solidFill>
                          <a:latin typeface="Arial"/>
                          <a:ea typeface="Times New Roman"/>
                        </a:rPr>
                        <a:t>28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ru-RU" sz="4000" spc="-1" strike="noStrike">
                          <a:solidFill>
                            <a:srgbClr val="9966ff"/>
                          </a:solidFill>
                          <a:latin typeface="Arial"/>
                          <a:ea typeface="Times New Roman"/>
                        </a:rPr>
                        <a:t>4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ru-RU" sz="4000" spc="-1" strike="noStrike">
                          <a:solidFill>
                            <a:srgbClr val="9966ff"/>
                          </a:solidFill>
                          <a:latin typeface="Arial"/>
                          <a:ea typeface="Times New Roman"/>
                        </a:rPr>
                        <a:t>38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ru-RU" sz="4000" spc="-1" strike="noStrike">
                          <a:solidFill>
                            <a:srgbClr val="9966ff"/>
                          </a:solidFill>
                          <a:latin typeface="Arial"/>
                          <a:ea typeface="Times New Roman"/>
                        </a:rPr>
                        <a:t>49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ru-RU" sz="4000" spc="-1" strike="noStrike">
                          <a:solidFill>
                            <a:srgbClr val="9966ff"/>
                          </a:solidFill>
                          <a:latin typeface="Arial"/>
                          <a:ea typeface="Times New Roman"/>
                        </a:rPr>
                        <a:t>26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2320">
                <a:tc>
                  <a:txBody>
                    <a:bodyPr lIns="82800" rIns="82800" tIns="41400" bIns="414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ru-RU" sz="4000" spc="-1" strike="noStrike">
                          <a:solidFill>
                            <a:srgbClr val="9966ff"/>
                          </a:solidFill>
                          <a:latin typeface="Arial"/>
                          <a:ea typeface="Times New Roman"/>
                        </a:rPr>
                        <a:t>4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ru-RU" sz="4000" spc="-1" strike="noStrike">
                          <a:solidFill>
                            <a:srgbClr val="9966ff"/>
                          </a:solidFill>
                          <a:latin typeface="Arial"/>
                          <a:ea typeface="Times New Roman"/>
                        </a:rPr>
                        <a:t>3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ru-RU" sz="4000" spc="-1" strike="noStrike">
                          <a:solidFill>
                            <a:srgbClr val="9966ff"/>
                          </a:solidFill>
                          <a:latin typeface="Arial"/>
                          <a:ea typeface="Times New Roman"/>
                        </a:rPr>
                        <a:t>29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ru-RU" sz="4000" spc="-1" strike="noStrike">
                          <a:solidFill>
                            <a:srgbClr val="9966ff"/>
                          </a:solidFill>
                          <a:latin typeface="Arial"/>
                          <a:ea typeface="Times New Roman"/>
                        </a:rPr>
                        <a:t>4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ru-RU" sz="4000" spc="-1" strike="noStrike">
                          <a:solidFill>
                            <a:srgbClr val="9966ff"/>
                          </a:solidFill>
                          <a:latin typeface="Arial"/>
                          <a:ea typeface="Times New Roman"/>
                        </a:rPr>
                        <a:t>3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blinds dir="vert"/>
  </p:transition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0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0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0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10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0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0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atashka</cp:lastModifiedBy>
  <dcterms:modified xsi:type="dcterms:W3CDTF">2013-04-28T09:22:54Z</dcterms:modified>
  <cp:revision>2</cp:revision>
  <dc:subject/>
  <dc:title>PowerPoint Presentation</dc:title>
</cp:coreProperties>
</file>