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F7B-1B5B-4D42-9C1A-7495C095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283-EA9F-4F26-B3DE-75C0E84D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84A3-C431-4C5E-8DE1-FD7C4A41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CA3-52C9-44D2-ABF1-7983DA77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327-7886-4942-B79E-131D91C1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E85-4D70-4127-BE4F-B65AC8A2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06E-0CD5-44CE-8840-92B26CAC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E42-45C5-4707-9F81-6429AC8B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BE9-A82D-487A-8CBB-F65B77C1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976-7922-4EAB-9A72-41FE9666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498-3421-455F-84BD-1930B49E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B46-0A88-4290-BB7D-D04452A6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BD5C-B336-4C9C-A8C3-803308F0B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Apgrieztas proporcionalitātes funkcij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Arial"/>
              </a:rPr>
              <a:t>Mērķis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: turpināt attīstīt prasmes veidot agrieztas proporcionalitātes funkcijas grafikus, noteikt punkta piederību funkcij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2.uzd </a:t>
            </a: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Aizpildi vērtību tabulu un uzzīmē funkcijas y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877080" y="765000"/>
                <a:ext cx="334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7" name=""/>
          <p:cNvGraphicFramePr/>
          <p:nvPr/>
        </p:nvGraphicFramePr>
        <p:xfrm>
          <a:off x="1619280" y="2565360"/>
          <a:ext cx="6121440" cy="1089000"/>
        </p:xfrm>
        <a:graphic>
          <a:graphicData uri="http://schemas.openxmlformats.org/drawingml/2006/table">
            <a:tbl>
              <a:tblPr/>
              <a:tblGrid>
                <a:gridCol w="874800"/>
                <a:gridCol w="874440"/>
                <a:gridCol w="874800"/>
                <a:gridCol w="873360"/>
                <a:gridCol w="874440"/>
                <a:gridCol w="874800"/>
                <a:gridCol w="87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1692360" y="4230360"/>
            <a:ext cx="59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Izmantojot iegūto grafiku, nosa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) y, ja x=  -4;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b) x, ja y=  -1;  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4.uz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onstruēt funkciju grafikus un noteik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ustpunktu koordinātas: y=       un y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580000" y="2060640"/>
                <a:ext cx="582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1.Uzd</a:t>
            </a:r>
            <a:br>
              <a:rPr sz="2800"/>
            </a:b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unkcijas y=     grafikam pieder punkti A,B,C un D.    </a:t>
            </a:r>
            <a:br>
              <a:rPr sz="2800"/>
            </a:b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Nosaki punktu nezināmas koordināt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627280" y="692280"/>
                <a:ext cx="406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695600" y="3069360"/>
            <a:ext cx="590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(-2;y)                       C(x;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(x;10)                       D(0,02;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3.uzd </a:t>
            </a: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Vai punkti pieder funkcijas </a:t>
            </a:r>
            <a:br>
              <a:rPr sz="4000"/>
            </a:b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y=         grafik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147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(-6 ; 2)                        C(12 ;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(-8 ; 0,75)                   D( -0,1 ; 120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E(100 ; -0,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203640" y="692280"/>
                <a:ext cx="7318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5. uzd </a:t>
            </a: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Nezīmējot funkcijas  y= grafiku notei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y, ja x= -3;  1; 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x, ja y= -2;  3; 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028000" y="115920"/>
                <a:ext cx="5634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5:35:55Z</dcterms:created>
  <dc:creator>Natashka</dc:creator>
  <dc:description/>
  <dc:language>en-US</dc:language>
  <cp:lastModifiedBy>Natashka</cp:lastModifiedBy>
  <dcterms:modified xsi:type="dcterms:W3CDTF">2011-10-31T15:51:06Z</dcterms:modified>
  <cp:revision>2</cp:revision>
  <dc:subject/>
  <dc:title>Apgrieztas proporcionalitātes funkcija </dc:title>
</cp:coreProperties>
</file>