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2D5-6D81-4F73-81CE-FD97E65C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D96-DE14-4FCE-A78F-F349D4F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ACE-C427-44C8-87C8-A4CA3738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648-4C2D-4474-85F5-FF3DCD1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A47-687E-48A0-9FEF-AD6F354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E53-1E8A-4931-A109-3849175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9AE-83A7-40A9-81FD-BBEECA6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87D-B565-40CD-8FFC-B6F3D15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49C-D192-4703-8CBB-D729E83A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AA1-09DB-4D84-A08B-5D8B1AF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E77-491F-4680-85FC-D9BD3A71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006-9422-4799-BBFE-63332A3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F03-4DEB-46BD-B3A6-15FCB8657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rijstūru iedalījums pēc malā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Mērķi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: nostiprināt zināšanas par vienādsānu un vienādmalu trijstūra īpašīb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Teksta uzdevumi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rēķini vienādmalu trijstūra malu, ja tā perimetrs ir 3,6 c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ienādsānu trijstūra perimetrs ir 14 cm, bet sānu malas un pamata garumu attiecība ir 2:3. Aprēķini trijstūra mal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ienādsānu trijstūrī ABC pamata AC pieleņķa bisektrise AD ar sānu malu veido 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leņķi. Aprēķini trijstūra ABC leņķ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ienādsānu trijstūrī MNK pamats sadalīts trīs vienādās daļās ar punktiem A un E. Pierād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k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NE=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A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50:23Z</dcterms:created>
  <dc:creator>Natashka</dc:creator>
  <dc:description/>
  <dc:language>en-US</dc:language>
  <cp:lastModifiedBy>Natashka</cp:lastModifiedBy>
  <dcterms:modified xsi:type="dcterms:W3CDTF">2012-02-28T14:50:36Z</dcterms:modified>
  <cp:revision>2</cp:revision>
  <dc:subject/>
  <dc:title>Trijstūru iedalījums pēc malām</dc:title>
</cp:coreProperties>
</file>