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600-401B-4329-8588-859F621A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467-CDFA-4A44-8EC2-141152D7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0BD-64E4-4752-98CA-5EC0790B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22D-8387-47AB-8B78-D22ED51C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AA4-F005-4C69-9570-C8201388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7BD-6FF3-49CD-8E3A-BACCEA3B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904-A522-40FB-9FE2-01722123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370-578A-4E80-ADEE-9E90CDD4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A0E-5C0C-49E5-8982-A5D6D941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9CD-0077-4623-8AB5-2B9406E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2CC-F0D7-492F-B7F3-BE5B0ECB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D5D-81F7-4827-9C6B-74EA813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D836-FAA0-4817-BE84-0FEB99D70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aīs.reizināšanas formulu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 nostiprināt zināsanas par summas un starpības kvadrātiem un kvdrātu sum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Formulas vienādojum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(x+3)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=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9y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+64-(3y+8)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=0,48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(3x-2)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-9x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25m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-(5m-2)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=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2y(8y-1)-(4y-3)(4y+3)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(d-3)(d+3)-(d+3)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=-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Formulas nevienādībā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(2y-4)(2y+4)&lt;2y(2y-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 u="sng">
                <a:solidFill>
                  <a:srgbClr val="000000"/>
                </a:solidFill>
                <a:uFillTx/>
                <a:latin typeface="Arial"/>
              </a:rPr>
              <a:t>(3y-1)(3y+1)&gt;9y(y+1)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(x+2)</a:t>
            </a:r>
            <a:r>
              <a:rPr b="0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&gt;(x+4)(x+5)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 u="sng">
                <a:solidFill>
                  <a:srgbClr val="000000"/>
                </a:solidFill>
                <a:uFillTx/>
                <a:latin typeface="Arial"/>
              </a:rPr>
              <a:t>(x-3)</a:t>
            </a:r>
            <a:r>
              <a:rPr b="0" lang="lv-LV" sz="3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3600" spc="-1" strike="noStrike" u="sng">
                <a:solidFill>
                  <a:srgbClr val="000000"/>
                </a:solidFill>
                <a:uFillTx/>
                <a:latin typeface="Arial"/>
              </a:rPr>
              <a:t>&gt;(x-3)(x+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000000"/>
                </a:solidFill>
                <a:latin typeface="Arial"/>
              </a:rPr>
              <a:t>*(n-1)(n+2)-(n-2)</a:t>
            </a:r>
            <a:r>
              <a:rPr b="1" i="1" lang="lv-LV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lv-LV" sz="3600" spc="-1" strike="noStrike">
                <a:solidFill>
                  <a:srgbClr val="000000"/>
                </a:solidFill>
                <a:latin typeface="Arial"/>
              </a:rPr>
              <a:t>&lt;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8:34:30Z</dcterms:created>
  <dc:creator>Natashka</dc:creator>
  <dc:description/>
  <dc:language>en-US</dc:language>
  <cp:lastModifiedBy>Natashka</cp:lastModifiedBy>
  <dcterms:modified xsi:type="dcterms:W3CDTF">2011-09-18T18:45:45Z</dcterms:modified>
  <cp:revision>2</cp:revision>
  <dc:subject/>
  <dc:title>Saīs.reizināšanas formulu izmantošana</dc:title>
</cp:coreProperties>
</file>