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CC1-2EF9-4BBE-B35F-C7205C51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B92-4B39-41EE-9B74-B41A83BE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9AF-D623-4C0A-B24B-CBEEEB46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9AE-36F5-471C-B75B-BD714FD5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956F-9DBA-4560-83E2-AB374760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ED4-67DA-46C2-8B14-92A88448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92F-088E-45EF-8C3F-14D1664D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0D0-EAE2-4CAB-89A0-FFEAF811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D96-17FE-4A6A-90D5-A0D64556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C73-1440-4A4A-B0D1-1CC12BF6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D35-CB37-42A2-AC26-5D364657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B1D-9BCF-49E5-B03C-669ED409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1AD8-5B36-4545-A7B2-ED7524EC08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Pakāpes ar naturālu kāpinātāju īpašību lietošana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Izsaki pakāpes veidā!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d)(c</a:t>
            </a:r>
            <a:r>
              <a:rPr b="0" i="1" lang="lv-LV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lv-LV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376280" y="2060640"/>
                <a:ext cx="20718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32000" y="2852640"/>
                <a:ext cx="28083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332000" y="3500280"/>
                <a:ext cx="2160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559480" y="2158920"/>
                <a:ext cx="1965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580000" y="2924280"/>
                <a:ext cx="16574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Pārveido izteiksmi kā pakāpi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a)0,3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0,027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b)3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64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c)10000:10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d)625:5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e)0,00001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:0,01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f)(16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84360" y="1341360"/>
          <a:ext cx="7705440" cy="31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70544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1125360"/>
          <a:ext cx="8208720" cy="28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2087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8360" y="1484280"/>
          <a:ext cx="8245440" cy="20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824544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42920" y="520560"/>
          <a:ext cx="7058160" cy="581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520560"/>
                    <a:ext cx="7058160" cy="581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79280" y="981000"/>
          <a:ext cx="8675640" cy="34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867564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79280" y="1197000"/>
          <a:ext cx="882036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882036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shka</cp:lastModifiedBy>
  <dcterms:modified xsi:type="dcterms:W3CDTF">2013-04-21T12:14:29Z</dcterms:modified>
  <cp:revision>1</cp:revision>
  <dc:subject/>
  <dc:title>PowerPoint Presentation</dc:title>
</cp:coreProperties>
</file>