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B72-B85B-4587-AB2D-E37EA050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AFA-F3B4-422F-936C-C2DF14BD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EB0-607B-476C-827E-EF97035F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65D-156B-4F06-8E89-E05D6581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A3F-05E0-4D84-8D27-BCDE0CF6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1B1-F1A1-4F6D-831E-C5FEEED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482-DA68-4517-806D-6B71CEB0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0D9-3683-4AE3-8694-6CDE26A1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AB5-7E42-4933-8581-89A2687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333-66E5-45A0-9FC2-AAF460B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41C-ADEB-4A77-A6BA-B96FAA41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EAB-5D39-4883-A022-D7DDA50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B13-ADDA-4387-8C98-A602C5C02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LINEĀRAS ALGEBRISKAS IZTEIKS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Mērķis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rēķināt matemātisku izteiksmju vērtību, veicot darbības ar racionāliem skaitļiem, vienkāršot algebr. izteiksmem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prēķini izteiksmes vērtību,</a:t>
            </a:r>
            <a:br>
              <a:rPr sz="4000"/>
            </a:b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0" i="1" lang="lv-LV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= –2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) 5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) –3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tbrīvo no iekavām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) –(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+ (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– 7) –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Vienkāršo izteiksmi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)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(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–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) (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– 3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(–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) 2 (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+ 5) – 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pildi darbības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) 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) 20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42920" y="1557360"/>
                <a:ext cx="1584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42920" y="2637000"/>
                <a:ext cx="1511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z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Ievieto darbības zīmes, lai iegūtu identitāti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   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   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   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2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   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–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evieto daudzpunktes vietā tādu izteiksmi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i iegūtu identitā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) 9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...... = 1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) ...... –5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–2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) ...... –3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ierādi, ka dotā vienādība ir identitāte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(a + b) – (a – b) = (c + b) – (c –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3:37Z</dcterms:created>
  <dc:creator>Natashka</dc:creator>
  <dc:description/>
  <dc:language>en-US</dc:language>
  <cp:lastModifiedBy>Natashka</cp:lastModifiedBy>
  <dcterms:modified xsi:type="dcterms:W3CDTF">2011-11-14T17:17:56Z</dcterms:modified>
  <cp:revision>1</cp:revision>
  <dc:subject/>
  <dc:title>LINEĀRAS ALGEBRISKAS IZTEIKSMES</dc:title>
</cp:coreProperties>
</file>