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0F6B-3175-4F97-9DD8-1392EF60D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0D78-3DB9-4A67-AFE7-9CEFE998C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47E1-1747-40AF-8838-75D75778B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9A21-7678-4989-9B66-008D94F2E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158C-6D2F-4A68-B2F3-8E7F50174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18DF-1C32-4B49-B0AA-2A668A1B0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36D9-6AF6-458A-867B-FB6E95A55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F698-6679-4CF2-9810-C8775CABD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9FF1-8539-434C-9F08-A362541A5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FC0F-3A39-47D3-9EEE-D01DA2A96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A98A-C959-49FA-AA50-93CCF759B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0E2F-FA3E-4DB7-83CD-83CD1E1E6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51F43-0B62-435B-8DA2-8D34369EBD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Darbības ar polinomiem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Mērķis: atkārtot un nostiprināt prasmes veikt darbības ar pakāpēm, saīsin. reizināšanas formulā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4000" spc="-1" strike="noStrike">
                <a:solidFill>
                  <a:srgbClr val="000000"/>
                </a:solidFill>
                <a:latin typeface="Arial"/>
              </a:rPr>
              <a:t>Sakārto skaitļus dilstošā secībā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lv-LV" sz="40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Arial"/>
              </a:rPr>
              <a:t>4,8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lv-LV" sz="4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lv-LV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Arial"/>
              </a:rPr>
              <a:t>9,5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lv-LV" sz="4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lv-LV" sz="4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Arial"/>
              </a:rPr>
              <a:t>1,3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lv-LV" sz="40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1" lang="lv-LV" sz="4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Arial"/>
                <a:ea typeface="Arial"/>
              </a:rPr>
              <a:t>0,01</a:t>
            </a:r>
            <a:r>
              <a:rPr b="1" lang="lv-LV" sz="4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lv-LV" sz="4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4400" spc="-1" strike="noStrike">
                <a:solidFill>
                  <a:srgbClr val="000000"/>
                </a:solidFill>
                <a:latin typeface="Arial"/>
              </a:rPr>
              <a:t>Saīsini daļa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1258920" y="1341360"/>
                <a:ext cx="129528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1332000" y="2997360"/>
                <a:ext cx="1085760" cy="12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1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332000" y="4797360"/>
                <a:ext cx="1512720" cy="13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num>
                      <m:den>
                        <m:r>
                          <m:t xml:space="preserve">6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4400" spc="-1" strike="noStrike">
                <a:solidFill>
                  <a:srgbClr val="000000"/>
                </a:solidFill>
                <a:latin typeface="Arial"/>
              </a:rPr>
              <a:t>Atrodi un izlabo kļūda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Arial"/>
              </a:rPr>
              <a:t>(a-b)</a:t>
            </a:r>
            <a:r>
              <a:rPr b="1" lang="lv-LV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lv-LV" sz="4000" spc="-1" strike="noStrike">
                <a:solidFill>
                  <a:srgbClr val="000000"/>
                </a:solidFill>
                <a:latin typeface="Arial"/>
              </a:rPr>
              <a:t>=a</a:t>
            </a:r>
            <a:r>
              <a:rPr b="1" lang="lv-LV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lv-LV" sz="4000" spc="-1" strike="noStrike">
                <a:solidFill>
                  <a:srgbClr val="000000"/>
                </a:solidFill>
                <a:latin typeface="Arial"/>
              </a:rPr>
              <a:t>-b</a:t>
            </a:r>
            <a:r>
              <a:rPr b="1" lang="lv-LV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lv-LV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lv-LV" sz="4000" spc="-1" strike="noStrike">
                <a:solidFill>
                  <a:srgbClr val="000000"/>
                </a:solidFill>
                <a:latin typeface="Arial"/>
              </a:rPr>
              <a:t>+2ab+b</a:t>
            </a:r>
            <a:r>
              <a:rPr b="1" lang="lv-LV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lv-LV" sz="4000" spc="-1" strike="noStrike">
                <a:solidFill>
                  <a:srgbClr val="000000"/>
                </a:solidFill>
                <a:latin typeface="Arial"/>
              </a:rPr>
              <a:t>=(a+b)</a:t>
            </a:r>
            <a:r>
              <a:rPr b="1" lang="lv-LV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Arial"/>
              </a:rPr>
              <a:t>(x+y)(x-y)=x</a:t>
            </a:r>
            <a:r>
              <a:rPr b="1" lang="lv-LV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lv-LV" sz="4000" spc="-1" strike="noStrike">
                <a:solidFill>
                  <a:srgbClr val="000000"/>
                </a:solidFill>
                <a:latin typeface="Arial"/>
              </a:rPr>
              <a:t>-2xy-y</a:t>
            </a:r>
            <a:r>
              <a:rPr b="1" lang="lv-LV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Arial"/>
              </a:rPr>
              <a:t>16-b</a:t>
            </a:r>
            <a:r>
              <a:rPr b="1" lang="lv-LV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lv-LV" sz="4000" spc="-1" strike="noStrike">
                <a:solidFill>
                  <a:srgbClr val="000000"/>
                </a:solidFill>
                <a:latin typeface="Arial"/>
              </a:rPr>
              <a:t>=(8-b)(8+b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4400" spc="-1" strike="noStrike">
                <a:solidFill>
                  <a:srgbClr val="000000"/>
                </a:solidFill>
                <a:latin typeface="Arial"/>
              </a:rPr>
              <a:t>Ieraksti trūkstošo locekli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lv-LV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lv-LV" sz="4000" spc="-1" strike="noStrike">
                <a:solidFill>
                  <a:srgbClr val="000000"/>
                </a:solidFill>
                <a:latin typeface="Arial"/>
              </a:rPr>
              <a:t> - * + n</a:t>
            </a:r>
            <a:r>
              <a:rPr b="1" lang="lv-LV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lv-LV" sz="4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lv-LV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lv-LV" sz="4000" spc="-1" strike="noStrike">
                <a:solidFill>
                  <a:srgbClr val="000000"/>
                </a:solidFill>
                <a:latin typeface="Arial"/>
              </a:rPr>
              <a:t> -2ab + *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Arial"/>
              </a:rPr>
              <a:t>* + 12ab+9b</a:t>
            </a:r>
            <a:r>
              <a:rPr b="1" lang="lv-LV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lv-LV" sz="4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Arial"/>
              </a:rPr>
              <a:t>9a</a:t>
            </a:r>
            <a:r>
              <a:rPr b="1" lang="lv-LV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lv-LV" sz="4000" spc="-1" strike="noStrike">
                <a:solidFill>
                  <a:srgbClr val="000000"/>
                </a:solidFill>
                <a:latin typeface="Arial"/>
              </a:rPr>
              <a:t>+ * +25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Arial"/>
              </a:rPr>
              <a:t>36x</a:t>
            </a:r>
            <a:r>
              <a:rPr b="1" lang="lv-LV" sz="40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1" lang="lv-LV" sz="4000" spc="-1" strike="noStrike">
                <a:solidFill>
                  <a:srgbClr val="000000"/>
                </a:solidFill>
                <a:latin typeface="Arial"/>
              </a:rPr>
              <a:t> – 12x</a:t>
            </a:r>
            <a:r>
              <a:rPr b="1" lang="lv-LV" sz="4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lv-LV" sz="4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lv-LV" sz="40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1" lang="lv-LV" sz="4000" spc="-1" strike="noStrike">
                <a:solidFill>
                  <a:srgbClr val="000000"/>
                </a:solidFill>
                <a:latin typeface="Arial"/>
              </a:rPr>
              <a:t> + *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4400" spc="-1" strike="noStrike">
                <a:solidFill>
                  <a:srgbClr val="000000"/>
                </a:solidFill>
                <a:latin typeface="Arial"/>
              </a:rPr>
              <a:t>Izpildi darbība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Arial"/>
              </a:rPr>
              <a:t>(x+5)</a:t>
            </a:r>
            <a:r>
              <a:rPr b="1" lang="lv-LV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lv-LV" sz="4000" spc="-1" strike="noStrike">
                <a:solidFill>
                  <a:srgbClr val="000000"/>
                </a:solidFill>
                <a:latin typeface="Arial"/>
              </a:rPr>
              <a:t>+(3x+4)</a:t>
            </a:r>
            <a:r>
              <a:rPr b="1" lang="lv-LV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lv-LV" sz="4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Arial"/>
              </a:rPr>
              <a:t>(2x+7)</a:t>
            </a:r>
            <a:r>
              <a:rPr b="1" lang="lv-LV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lv-LV" sz="4000" spc="-1" strike="noStrike">
                <a:solidFill>
                  <a:srgbClr val="000000"/>
                </a:solidFill>
                <a:latin typeface="Arial"/>
              </a:rPr>
              <a:t> – (x+3)</a:t>
            </a:r>
            <a:r>
              <a:rPr b="1" lang="lv-LV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lv-LV" sz="4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Arial"/>
              </a:rPr>
              <a:t>3(x+6)(x-6)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Arial"/>
              </a:rPr>
              <a:t>3x(x</a:t>
            </a:r>
            <a:r>
              <a:rPr b="1" lang="lv-LV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lv-LV" sz="4000" spc="-1" strike="noStrike">
                <a:solidFill>
                  <a:srgbClr val="000000"/>
                </a:solidFill>
                <a:latin typeface="Arial"/>
              </a:rPr>
              <a:t>+1)(x</a:t>
            </a:r>
            <a:r>
              <a:rPr b="1" lang="lv-LV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lv-LV" sz="4000" spc="-1" strike="noStrike">
                <a:solidFill>
                  <a:srgbClr val="000000"/>
                </a:solidFill>
                <a:latin typeface="Arial"/>
              </a:rPr>
              <a:t>-1)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Arial"/>
              </a:rPr>
              <a:t>9x(x+0,2)(0,2-x)+9x</a:t>
            </a:r>
            <a:r>
              <a:rPr b="1" lang="lv-LV" sz="4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lv-LV" sz="4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4T13:15:49Z</dcterms:created>
  <dc:creator>Natashka</dc:creator>
  <dc:description/>
  <dc:language>en-US</dc:language>
  <cp:lastModifiedBy>Natashka</cp:lastModifiedBy>
  <dcterms:modified xsi:type="dcterms:W3CDTF">2011-09-14T13:43:13Z</dcterms:modified>
  <cp:revision>2</cp:revision>
  <dc:subject/>
  <dc:title>Darbības ar polinomiem.</dc:title>
</cp:coreProperties>
</file>