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B60-9A29-40F6-89DD-D05FD508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C70-F9BB-4E9E-92AC-61BFC476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ACB-D21B-4B3E-B200-955EE4A6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999-90CC-45A3-A88E-72FD30C8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9D14-44A5-4AF0-A189-CD1EAEAA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200B-E403-4A61-AB67-A7142BC0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5FB3-DEF7-4570-BE18-D31C0D03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F99F-CFE0-40F5-BD53-A1C820A5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0710-02B3-4AEE-8E8B-280E55D3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C586-A2EE-43F8-876A-BD248C38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E673-4474-44A9-B862-8F93D4EB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69D-B4A9-4524-902F-1BDBDF7D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1ED6-9EB4-45D5-BE96-2F52750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52AA-C0CF-4AF2-9F27-A5B20FA1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840C-C6DE-4BB3-B46C-23EC2A7D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3C36-22F5-4AAE-B087-547CF119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A19D-9BB2-4CF2-A526-5C5FA4AF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6E9-3886-4760-91FC-1B38918E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F49-21CA-4D42-99C6-4FADC9A6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E41-F073-4BE4-A984-ED717980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2DB-C299-4B9F-98FA-46357536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BDE-3072-4BF1-9371-3147FF94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D5E-369C-4223-BCF3-F290F1D7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F74-737B-471C-9E52-A69A04C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8C0B-0C2C-4CCC-A36E-7E0889E168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69F2-C829-426A-A5D9-32F8960CA1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5400" spc="-1" strike="noStrike">
                <a:solidFill>
                  <a:srgbClr val="000000"/>
                </a:solidFill>
                <a:latin typeface="Arial Black"/>
              </a:rPr>
              <a:t>Viena argumenta funkcijas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ērķis: attīstīt zināšanas par funkcijas jēdzi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 Black"/>
              </a:rPr>
              <a:t>Atlikt koordinātu plaknē punktu, kura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bscisa ir 4, bet ordināta ir 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bscisa ir 3, bet ordināta ir -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bscisa ir - 4, bet ordināta ir vienāda ar abscis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bscisa ir -3, bet ordināta ir vienāda ar abscisai pretējo skait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 Black"/>
              </a:rPr>
              <a:t>Kurā kvadrantā atrodas punkt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(-3 ;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B(-4 ; -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C(3 ; -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D(4 ;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M(0,5 ;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N(4 ; -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F(-1,2 ; -8,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E(-5 ;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 Black"/>
              </a:rPr>
              <a:t>Funkcija definēta ar formulu. Aprēķināt </a:t>
            </a:r>
            <a:r>
              <a:rPr b="1" i="1" lang="lv-LV" sz="4000" spc="-1" strike="noStrike">
                <a:solidFill>
                  <a:srgbClr val="000000"/>
                </a:solidFill>
                <a:latin typeface="Arial Black"/>
              </a:rPr>
              <a:t>y</a:t>
            </a:r>
            <a:r>
              <a:rPr b="1" lang="lv-LV" sz="4000" spc="-1" strike="noStrike">
                <a:solidFill>
                  <a:srgbClr val="000000"/>
                </a:solidFill>
                <a:latin typeface="Arial Black"/>
              </a:rPr>
              <a:t> vērtības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y=3x-1, ja x=1; 0; -1; 0,5; 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, ja x=1; 0; -1; 2; 1; -2; 3;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y=(x+2) 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, ja x= -2; -1; 0; 2; 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 Black"/>
              </a:rPr>
              <a:t>Funkcija dota ar formulu. Noteikt atbilstošās argumenta vērtības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y=2x+3, ja y= 5; -3; 3; 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y= -x + 5, ja y= -6; 4; -10;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y= -2x+6, ja y= 4; 8; 0; 5; 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 Black"/>
              </a:rPr>
              <a:t>Funkcija definēta ar formulu. Sastādīt tabulu visām veselām x vērtībām!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y = 2x-3      un  -2 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  <a:ea typeface="Arial"/>
              </a:rPr>
              <a:t>≤ x ≤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  <a:ea typeface="Arial"/>
              </a:rPr>
              <a:t>y = -3x +4   un -3 ≤ x ≤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  <a:ea typeface="Arial"/>
              </a:rPr>
              <a:t>y = x</a:t>
            </a:r>
            <a:r>
              <a:rPr b="1" lang="lv-LV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  <a:ea typeface="Arial"/>
              </a:rPr>
              <a:t> +2x   un -1 ≤ x ≤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58:00Z</dcterms:created>
  <dc:creator>Natashka</dc:creator>
  <dc:description/>
  <dc:language>en-US</dc:language>
  <cp:lastModifiedBy>Natashka</cp:lastModifiedBy>
  <dcterms:modified xsi:type="dcterms:W3CDTF">2011-01-25T20:16:14Z</dcterms:modified>
  <cp:revision>2</cp:revision>
  <dc:subject/>
  <dc:title>Viena argumenta funkcijas</dc:title>
</cp:coreProperties>
</file>