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D09-1392-42E6-BF2E-A8F5DF4B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3FF-9547-4A31-9437-4387D7F8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470-626F-4807-87F6-A76F342B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87B-F3CC-4D97-9100-1A55E5A6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2FBE-AC66-40F0-84F1-7DBB55FE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F968-7801-458A-8AFB-5082D587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755B-CE72-4951-B146-7AC50645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4C30-75C9-4BAB-8737-0BE36B32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356-5A4F-4189-8879-CCB444A8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ADFA-A5F7-4CC5-A193-29F8BF7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084D-346B-4B6A-A1A9-DDBC72C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0DC-8535-4A1B-91D2-65AB022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D784-F7BA-423E-A248-767484D9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783A-0029-4333-8E3F-77C13846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76EB-2C9D-49B5-9AC9-F535BA0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9EF9-8B23-45D4-A90B-E6CCF544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B88B-40DA-494C-A428-650D2BC5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78E-E11C-413D-A009-C56C60D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668-75A9-4569-A9F7-AF3E7FE2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283-2B46-49F0-B661-909C85D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7CB-46A9-40F4-982A-19E8128F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814-C506-4E72-82C2-EC7E888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51D-118B-47A9-AFF3-67F1D31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C1D-0B52-4DDE-BD8D-A855AA58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32A7-5AE5-47DB-B323-FB71A132D20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1BC-A854-40EF-AF84-D4E2E7C19BE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Saīsinātas reizināšanas formulas. </a:t>
            </a:r>
            <a:br>
              <a:rPr sz="3200"/>
            </a:b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Polinomu sadalīšana reizinātāj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9900cc"/>
                </a:solidFill>
                <a:latin typeface="Arial"/>
              </a:rPr>
              <a:t>Mērķis: turpināt veidot prasmes pielietot saīsinātas reizināšanas formulas.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1" lang="lv-LV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lv-LV" sz="3600" spc="-1" strike="noStrike">
                <a:solidFill>
                  <a:srgbClr val="9900cc"/>
                </a:solidFill>
                <a:latin typeface="Arial"/>
              </a:rPr>
              <a:t>Kāpini kvadrātā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) (a-3)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                      c) (3x-2)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b) (0,5m+6)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               d) (-3k-2)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9900cc"/>
                </a:solidFill>
                <a:latin typeface="Arial"/>
              </a:rPr>
              <a:t>2. Aprēķini reizinājumu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) (x-y)(x+y)                      d) (2y2-6)(2y2+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) (2a-x)(2a+x)                  e) (0,5m-k)(k+0,5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c) (4x-3)(4x+3)                  f) (-3-a)(-3+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9900cc"/>
                </a:solidFill>
                <a:latin typeface="Arial"/>
              </a:rPr>
              <a:t>3. Sadali reizinatājos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) x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– 4y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b) 0,09a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– 2,25b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9900cc"/>
                </a:solidFill>
                <a:latin typeface="Arial"/>
              </a:rPr>
              <a:t>4. Atrisini vienādojumu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(y+3)</a:t>
            </a:r>
            <a:r>
              <a:rPr b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= (y-4)(y+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8:21:07Z</dcterms:created>
  <dc:creator>Natashka</dc:creator>
  <dc:description/>
  <dc:language>en-US</dc:language>
  <cp:lastModifiedBy>Natashka</cp:lastModifiedBy>
  <dcterms:modified xsi:type="dcterms:W3CDTF">2013-04-28T09:50:38Z</dcterms:modified>
  <cp:revision>2</cp:revision>
  <dc:subject/>
  <dc:title>Saīsinātas reizināšanas formulas.  Polinomu sadalīšana reizinātājos.</dc:title>
</cp:coreProperties>
</file>