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23B-F689-4902-8DA7-0A8F6429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CF6-C258-4BCF-86DA-5D49E11E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38D-8DCE-4F2D-B3A4-51CA86BA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E50-9F9A-4B83-86A2-1EC50A70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5B0-5590-42B4-8C3F-0AF65FE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07A-969D-49D9-99EE-8B6E936B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825-232F-4FDE-A8A5-E3ECD9D1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81F-CABB-4A24-9F55-1B7B0AB2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372-6D5B-4105-A59C-E63654D9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BD4-AD6A-4318-A820-1EBC926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5B0-7AF1-4B8D-AC45-BC0324D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DEA-EA43-4982-915D-BB0AFCDD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A880-8FBA-44F7-B29A-C4EE8C695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Algebriska izteiksm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-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zveido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aprakstam atbilstošu algebrisku izteiks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-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ieto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matemātikas valodu, lasot izteiks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-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prakst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ī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reālu dzīves situāciju, izmantojot mainī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-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zveido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algebriskas izteiksmes, kas apraksta attieksmes par tik vairāk (mazāk), tik reižu vairāk (mazāk), tik procentu 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Izveidot matemātiskas izteiksmes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kaitlis apzīmēts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raksti matemātiskas izteiksmes veid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) Trīskāršotu šo skait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) Skaitli, kas par 5 mazāks nekā dotais skaitli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c) Skaitlis, kas par 3 lielāks nekā divkāršots dotais skaitli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) Skaitli, kas ir 25% no dotā skaitļ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Izmantojot dotās vienādības, nosaki, cik reižu skaitlis </a:t>
            </a: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ir lielāks vai mazāks nekā skaitlis </a:t>
            </a: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Zināms, ka </a:t>
            </a: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ir pozitīvi skaitļi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x :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= 0,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55640" y="2565360"/>
                <a:ext cx="1079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26920" y="3703680"/>
                <a:ext cx="100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00000" y="5013360"/>
                <a:ext cx="11509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spriedieties grupā un sagatavojiet atbil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uz jautājumu!  Kā izteiks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izlasīt trīs atšķirīgos vei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940360" y="2133720"/>
                <a:ext cx="6336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Uzraksti izteiksmi, kas apraksta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) ceļā pavadīto laiku, ja nobrauca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m ar ātrumu 85 km/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) santīmu skaitu, kas jāmaksā par 3 sulas pakām un 2 jogurta pakām, ja sulas paka maksā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ntīmu, bet jogurta paka maksā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ntīm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) taisnstūra perimetru, ja taisnstūra garums ir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m, bet platums ir 3 c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) taisnstūra laukumu, ja taisnstūra platums ir 17 cm, bet garums ir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m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zveido matemātiskas izteiksmes, kas atbilst apgalvojumiem: 38% no skaitļ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% no 38! Ko vari secināt par izveidotajām izteiksmēm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33:01Z</dcterms:created>
  <dc:creator>Natashka</dc:creator>
  <dc:description/>
  <dc:language>en-US</dc:language>
  <cp:lastModifiedBy>Natashka</cp:lastModifiedBy>
  <dcterms:modified xsi:type="dcterms:W3CDTF">2011-11-08T18:57:17Z</dcterms:modified>
  <cp:revision>2</cp:revision>
  <dc:subject/>
  <dc:title>Slide 1</dc:title>
</cp:coreProperties>
</file>