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E0AA-5828-4ED2-8970-95D405FB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000D-BEF8-416E-AD41-356755E8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9D26-8D44-4704-A8B3-7DEF827C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A80-381A-490A-A056-28F36975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F45F-B08D-41B6-B907-C72FB2F0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7F8F-6C67-4CFC-A79B-C8CA2A88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028-7039-4E72-A238-ED4F5B61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05E-72E9-4C92-90CD-C9CA9975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8A8-4A20-42B5-AF40-6B7F7D59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B47F-8E1F-4A2B-BEAF-86CE19AB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D76-6646-4F04-A84A-F294364B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1D5-50AA-4330-8ED3-1021998D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F494-D062-47E2-ABDB-6CE2BC128A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Vingrinājuma uzdev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ērķis: aktivizēt skolēnu darbību stundas sākum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328320"/>
            <a:ext cx="8642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Arial"/>
              </a:rPr>
              <a:t>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Vai dalījums 1803 : 3= 61 ir aprēķināts pareiz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prēķini 3,48 : 0,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Uzraksti daļu, kuras skaitītājs ir 17 un saucējs ir 3 reizes lielā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Uzraksti skaitli, kas ir par 10 mazāks nekā 27,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Cik reižu jāpalielina 3,6 , lai iegūtu 7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prēķini 70% no 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Noapaļo līdz desmitiem skaitlis 435,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Kurš no skaitļiem ir lielāks: 1,52 vai  </a:t>
            </a:r>
            <a:r>
              <a:rPr b="1" lang="lv-LV" sz="2800" spc="-1" strike="noStrike" u="sng">
                <a:solidFill>
                  <a:srgbClr val="000000"/>
                </a:solidFill>
                <a:uFillTx/>
                <a:latin typeface="Arial"/>
              </a:rPr>
              <a:t>5/4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Vai skaitlis 51 ir pirmskaitl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prēķini 91 – 3,1 · (50:2+2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26920" y="379800"/>
            <a:ext cx="5896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Atbil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n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34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17/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17,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4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1,52&gt;1,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n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91-3,1·27=91-83,7= 7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7:03:54Z</dcterms:created>
  <dc:creator>Natashka</dc:creator>
  <dc:description/>
  <dc:language>en-US</dc:language>
  <cp:lastModifiedBy>Natashka</cp:lastModifiedBy>
  <dcterms:modified xsi:type="dcterms:W3CDTF">2011-09-14T17:04:18Z</dcterms:modified>
  <cp:revision>1</cp:revision>
  <dc:subject/>
  <dc:title>Vingrinājuma uzdevumi</dc:title>
</cp:coreProperties>
</file>