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D20B-BC93-4F9A-8DE1-5231CFCDF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A54C-8F1B-4901-A6D2-A6DBF31E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7727-A01E-49AD-AC79-A93E65F9D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F987-85EB-4CC1-98C9-A07E185BB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8BBF-84D3-4375-95D0-6B9CBAFF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E412-4F20-4C92-8453-2FAEA77B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6A85-A28A-4BE4-8C03-3499FFBE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1613-C919-4658-BA7C-1011C5BD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949F-6BD7-4B08-AF9D-685A473D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D0E8-6849-477E-915A-F9DBA17F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615A-669F-4DF5-9DC9-95602677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6B11-8578-42E0-B23A-7F196EBC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89B5-C17C-4CA5-B2E2-113DD21C7F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IEVADS STATISTIK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 u="sng">
                <a:solidFill>
                  <a:srgbClr val="000000"/>
                </a:solidFill>
                <a:uFillTx/>
                <a:latin typeface="Arial"/>
              </a:rPr>
              <a:t>Mērķis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: attīstīt prasmes nosakt modu, mediānu, amplitūdu, absolūto un relatīvo biežumu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Klase kontroldarbā saņēma atzīmes:</a:t>
            </a:r>
            <a:br>
              <a:rPr sz="4000"/>
            </a:b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5, 5, 6, 8, 8, 2, 3, 7, 9, 6, 8, 8, 3, 4, 9, 9, 4, 7, 6, 2, 4, 8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000" y="2997000"/>
            <a:ext cx="821844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Nosak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a) mod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b) mediān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c) amplitūd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d) absolūto biežum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e) relatīvo biežum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Akcijā piedāvā mazcenas mobilos telefonus NOKIA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trīs modeļus par 0,99 L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ienu modeli par 15 L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ienu modeli par 19 L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ienu modeli par 29 L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divus modeļus par 59 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 u="sng">
                <a:solidFill>
                  <a:srgbClr val="000000"/>
                </a:solidFill>
                <a:uFillTx/>
                <a:latin typeface="Arial"/>
              </a:rPr>
              <a:t>Nosaki piedāvājuma cenu modu un mediān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Pēc kāda kontroldarba tika apkopotas 8. klases skolēnu sekmes tajā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29152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8.a </a:t>
            </a: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8.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10 balles – </a:t>
            </a: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9 balles –                2     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8 balles – </a:t>
            </a: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7 balles – </a:t>
            </a: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6 balles – </a:t>
            </a: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5 balles –                6</a:t>
            </a: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             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4 balles – </a:t>
            </a: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3 balles – </a:t>
            </a: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2 balles – </a:t>
            </a: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1 balle – </a:t>
            </a: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              0 </a:t>
            </a: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Salīdzini abu klašu rezultātus, izmantojot </a:t>
            </a:r>
            <a:r>
              <a:rPr b="1" lang="lv-LV" sz="1800" spc="-1" strike="noStrike" u="sng">
                <a:solidFill>
                  <a:srgbClr val="000000"/>
                </a:solidFill>
                <a:uFillTx/>
                <a:latin typeface="Arial"/>
              </a:rPr>
              <a:t>vidējo atzīmi, mediānu un modu</a:t>
            </a: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Izlasi tekstu un nosaki, kādi statistiskie lielumi izmantoti šajā informācijā!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) Tauriņš izdara 5–12 spārnu vēzienus sekundē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b) Bišu māte savā 5 gadus ilgajā mūžā izdēj vidēji 1 miljonu ol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c) Kukaiņi ir ļoti dažādi: vieglākais no tiem – uts – sver 0,005 miligramus, bet smagākais – goliātvabole – 100 gram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d) Ātrākie lidotāji kukaiņu pasaulē ir dižspāres. Tās var attīstīt ātrumu līdz pat 58 km/h. Taču kamene dūkdama parasti lido gandrīz trīs reizes lēnāk – tās ātrums ir aptuveni 18 km/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7:28:53Z</dcterms:created>
  <dc:creator>Natashka</dc:creator>
  <dc:description/>
  <dc:language>en-US</dc:language>
  <cp:lastModifiedBy>Natashka</cp:lastModifiedBy>
  <dcterms:modified xsi:type="dcterms:W3CDTF">2012-12-04T17:31:50Z</dcterms:modified>
  <cp:revision>3</cp:revision>
  <dc:subject/>
  <dc:title>IEVADS STATISTIKĀ</dc:title>
</cp:coreProperties>
</file>