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AB4-C32A-4B88-AAAE-25E0C367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C700-4488-41F2-9E25-C530DA97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AE7-A298-47E4-9B7F-D2264410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3FD-DAEB-4D5C-A110-0F3E5C60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949-8164-4652-ACF8-0C216C2B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F81-6BA2-408E-8093-7893BD15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B8F-7C26-4C6C-8F5F-25D6F3E6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5DF-F4FD-4674-BDB9-25C48325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FF3-50DB-4C0C-BC88-521D450F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9EE-9339-4EC1-8AAA-F688E9A1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F3F-B3DE-416C-8DA5-EB0CDA00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01B-2256-4EFF-A7CD-CEB9DCDA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AF61-0FF6-49F3-9881-B212A98BB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adalīšana reizinātā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ingrinājuma uzdevu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Dotās izteiksmes sadali reizinātājo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64d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+36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m+2an–2mn–4n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-9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-2m+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+8a+16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4c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+24c+36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-3x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64z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+8a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m+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+2ab+2mb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16-x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+2b+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-10a+2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25x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-100x+10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Vienkāršo izteiksmi, atverot iekav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(3-2a)+7a(2-a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(4m-3)(4m-7)-(8m+2)(6m-2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(3s-7)</a:t>
            </a:r>
            <a:r>
              <a:rPr b="0" lang="lv-LV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-(3s-5)</a:t>
            </a:r>
            <a:r>
              <a:rPr b="0" lang="lv-LV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8(3-2x)(3+2x)-(2x+1)</a:t>
            </a:r>
            <a:r>
              <a:rPr b="0" lang="lv-LV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4(2-5a)(2+5a)-(4a-7)</a:t>
            </a:r>
            <a:r>
              <a:rPr b="0" lang="lv-LV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17:32:39Z</dcterms:created>
  <dc:creator>Natashka</dc:creator>
  <dc:description/>
  <dc:language>en-US</dc:language>
  <cp:lastModifiedBy>Natashka</cp:lastModifiedBy>
  <dcterms:modified xsi:type="dcterms:W3CDTF">2011-09-25T17:59:37Z</dcterms:modified>
  <cp:revision>2</cp:revision>
  <dc:subject/>
  <dc:title>Sadalīšana reizinātājos</dc:title>
</cp:coreProperties>
</file>