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61DE-997C-4EBC-BA79-D08B84D9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CCE4-6159-4590-948D-E0D8C00B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B149-8234-40AF-B5E0-E2D8D2E5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436F-EE00-49C9-9778-0372F90A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5BD1-576C-4551-AFD9-8CBB05D2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C36E-137D-47F1-9C06-50BB2324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E934-00E4-4154-AE44-120E78C7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3D42-FDAF-4A45-96AC-D21D1C87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8CCB-6DCF-4C84-98FB-FB73CB72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8EDE-0CD9-4AC6-A8CE-DF686DC1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8E21-AF16-492B-82FC-5934AC8F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C97F-ABEB-411E-B371-EBDC3D44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E343-56FE-4840-99DD-8045F73F45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Atkārtojums ģeometrij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ērķ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000" spc="-1" strike="noStrike">
                <a:solidFill>
                  <a:srgbClr val="000000"/>
                </a:solidFill>
                <a:latin typeface="Arial"/>
              </a:rPr>
              <a:t>Turpini teikumu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Arial"/>
              </a:rPr>
              <a:t>Romba diagonāles ir pretējo leņķu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Arial"/>
              </a:rPr>
              <a:t>Katete pret 30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 lielu leņķi ir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Ja paralelograma viens leņķis ir 70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, tad otrs leņķis ir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Sin 30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 vērtība ir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Ja trijstūra viduslīnijas garums ir 5 cm, tad tai paralēlās malas garums ir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Taisnstūra diagonāles ir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Arial"/>
                <a:ea typeface="Arial"/>
              </a:rPr>
              <a:t>Ja romba diagonāles ir 6cm un 8cm, tad romba mala ir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22:19:44Z</dcterms:created>
  <dc:creator>Natashka</dc:creator>
  <dc:description/>
  <dc:language>en-US</dc:language>
  <cp:lastModifiedBy>Natashka</cp:lastModifiedBy>
  <dcterms:modified xsi:type="dcterms:W3CDTF">2013-04-28T09:52:26Z</dcterms:modified>
  <cp:revision>2</cp:revision>
  <dc:subject/>
  <dc:title>Atkārtojums ģeometrijā</dc:title>
</cp:coreProperties>
</file>