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FB1-61A9-447A-8736-8D3BB310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2F3-416D-40BD-BF20-C5CB0D07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A01-BD18-4A11-B213-7F9A456C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AB0-6A27-49FC-99F6-FD797228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D4B-1DDA-4676-9740-6E47DC02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49D-8B8D-454D-95E7-A6EACAD7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FA1-32D7-4175-9C54-9CD75083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864-448E-4D09-8AB4-6F19F2E6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8D2-FCEB-4AE1-832D-CAAC20B5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4E0-74EC-4FC1-82E0-40DA7FE3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341-C7CF-4CF9-AA4A-DD25A07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36E-5508-4E36-ABF8-02F76297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CFCC-8F73-4C85-9A16-7C83C91B7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ību īpašību piel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ērķis: nostiprināt prasmi pielitot darbību īpašī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Aprēķin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56+99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468-20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1372-19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9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3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9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20+3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324+99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43-20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1762-19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9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7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9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30+2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Atbil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56+99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3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468-201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2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1372-198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11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9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700-67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66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3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9=13400-134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32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20+3)=2460+369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8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324+99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4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43-201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3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1762-198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15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9=5600-56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55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7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9=17200-172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70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30+2)=3450+230=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36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4:29:39Z</dcterms:created>
  <dc:creator>Natashka</dc:creator>
  <dc:description/>
  <dc:language>en-US</dc:language>
  <cp:lastModifiedBy>Natashka</cp:lastModifiedBy>
  <dcterms:modified xsi:type="dcterms:W3CDTF">2013-04-28T09:24:26Z</dcterms:modified>
  <cp:revision>3</cp:revision>
  <dc:subject/>
  <dc:title>Drbību īpašību pielietošana</dc:title>
</cp:coreProperties>
</file>