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3C1415-C359-45A3-A953-6F702CFB0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708564-237B-4C7F-B46F-ADF478F6B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C2A2E4-4EB4-439F-BA68-1B14CE3805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CC22A1-1BA5-4A8D-911D-4483947EBE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0AE7E-CD9D-4F55-B193-66BD1B0C7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51A5C-4953-4F2A-9DD8-3045A50C7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A9C55-5E5B-4884-98DD-11E255272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4A573-CDC0-42ED-A082-7DE935D30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EAFBA-B5F1-4567-8ED9-8DA66AFE9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7C1F1-13E5-4F0B-8DA5-5DA57EA31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755F2-6AAC-4DE5-B5A2-32AC68807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A34808-4772-41ED-A384-95D97D641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D6967-416B-4001-8B14-65EE83B3F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11CEF-EE8E-4369-AC08-4CB7CC3B3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C9D74-0967-4BE0-9741-4D23B9CBD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C7205-E433-46E8-8E4B-884BC8392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7EFC6-86DC-45A9-BD04-34C9E6F81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591A95-6807-42B6-97A8-A16E2E276C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EACDB2-85F6-43D1-9435-7EF2BEF27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F8BFF8-F538-4FF0-8FB7-0BA637B55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859443-D5F2-42E3-8B75-EE296FAE9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AE9542-4037-4D52-AF6B-AAB9D08FA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A53803-88BD-4DC7-8B11-A361E2659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691746-4174-4798-8091-8F32F28D89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4B54-ED41-44C4-8395-424674F2699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7757-4AFC-44A5-8224-555EF767192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000" spc="-1" strike="noStrike">
                <a:solidFill>
                  <a:srgbClr val="ffffff"/>
                </a:solidFill>
                <a:latin typeface="Arial"/>
              </a:rPr>
              <a:t>Nevienādības teksta uzdevumo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u="sng">
                <a:solidFill>
                  <a:srgbClr val="000000"/>
                </a:solidFill>
                <a:uFillTx/>
                <a:latin typeface="Arial"/>
              </a:rPr>
              <a:t>Mērķis</a:t>
            </a:r>
            <a:r>
              <a:rPr b="0" lang="lv-LV" sz="3000" spc="-1" strike="noStrike">
                <a:solidFill>
                  <a:srgbClr val="000000"/>
                </a:solidFill>
                <a:latin typeface="Arial"/>
              </a:rPr>
              <a:t>: turpināt veidot prasmes risināt teksta uzdevumus, izmantojot nevienādīb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457200"/>
            <a:ext cx="8002440" cy="527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Taisnstūra vienas malas garums ir 9 cm. Cik gara var būt otra mala, lai taisnstūra perimetrs būtu mazāks nekā perimetrs kvadrātam, kura malas garums ir 9 c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229600" cy="513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Skolas koncertā piedalījās 65 skolēni, viņi bija sadalīti 3 grupās. Pirmajā grupā bija par 5 skolēniem mazāk nekā otrajā grupā, bet trešajā grupā skolēnu bija vairāk nekā pirmajā un otrajā grupā kopā. Cik skolēnu varēja būt pirmajā grup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456840"/>
            <a:ext cx="8291520" cy="491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Attālums starp Liepāju un Kuldīgu ir 60 km. Velosipedists izbrauca no Kuldīgas plkst. 9. </a:t>
            </a:r>
            <a:br>
              <a:rPr sz="4400"/>
            </a:br>
            <a:r>
              <a:rPr b="0" lang="lv-LV" sz="4400" spc="-1" strike="noStrike">
                <a:solidFill>
                  <a:srgbClr val="000000"/>
                </a:solidFill>
                <a:latin typeface="Arial"/>
              </a:rPr>
              <a:t>Ar kādu ātrumu jābrauc, lai iebrauktu Liepājā ne vēlāk kā plkst. 12.2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457200"/>
            <a:ext cx="8362800" cy="53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Firma maksā nodokli 18% no peļņas katru mēnesi. Kādai jābūt minimālai peļņai mēnesī, lai firmai pēc nodokļa samaksas paliktu ne mazāk kā Ls 150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457200"/>
            <a:ext cx="8147160" cy="578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Veikalā āboli maksā Ls 0,60 kilogramā un bumbieri Ls 1,20 kilogramā. Kopā dienā pārdeva 39 kg augļu, turklāt par āboliem nopelnīja vairāk naudas nekā par bumbieriem. Cik kilogramu bumbieru varēja pārdo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475920"/>
            <a:ext cx="8373960" cy="554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Saimnieka zamesgabalam ir taisnstūra forma, tā apkartmērs ir 100 m. Viņš to grib apmainīt pret tādu, kuram ir kvadrāta forma, bet tā, lai apkārtmērs nebūtu lielāks. Kāds malu garums var būt jaunajam zemes gabala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tashka</cp:lastModifiedBy>
  <dcterms:modified xsi:type="dcterms:W3CDTF">2013-01-08T16:39:19Z</dcterms:modified>
  <cp:revision>1</cp:revision>
  <dc:subject/>
  <dc:title>PowerPoint Presentation</dc:title>
</cp:coreProperties>
</file>