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DB3F-D5D8-4A1D-AC17-9F8402126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4D04-BC97-4A02-92A6-AC20B310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5524-4C8E-4E11-89EE-4AD5E6AC7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140A-2215-4ACE-93D6-AA271F1B0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8B26-A72C-456B-86CE-5DE7449E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B0AD-A8A3-45C2-93C3-2769E436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35C8-8482-4BA8-9BC7-4608979F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5DDB-79B0-4D7A-BB67-B81098D2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EC11-4D1D-4256-BCDE-BEBE3306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A14B-A90B-4BDC-934C-8DAB24C0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E6AA-C622-44E4-8F34-9972B0CF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335E-B89D-4AAD-A6F4-743AF1EC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9D136-EB18-4F7D-BCCA-B1CE71F7E3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Darbību īpašīb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Patstavīgais dar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Aprēķini galvā, izmantojot darbību īpašība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499+87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598+324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199+256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4989+4368+11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·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36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·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25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68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·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25-68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·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25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96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·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48+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·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48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73+398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798+135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299+346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1997+4563+3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·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1887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·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2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96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·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87 - 96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·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87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46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·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23 + 5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·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23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16:54:11Z</dcterms:created>
  <dc:creator>Natashka</dc:creator>
  <dc:description/>
  <dc:language>en-US</dc:language>
  <cp:lastModifiedBy>Natashka</cp:lastModifiedBy>
  <dcterms:modified xsi:type="dcterms:W3CDTF">2012-10-17T16:54:19Z</dcterms:modified>
  <cp:revision>1</cp:revision>
  <dc:subject/>
  <dc:title>Darbību īpašības</dc:title>
</cp:coreProperties>
</file>