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F9E9-6BC1-4FD8-B6C1-EBD8A15A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B3E4-AA6C-4CFE-9EA1-7BA5E2DF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3207-3605-44A8-890D-93F565B8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4E01-0810-4DD7-A0FA-D22F3063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28D1-D742-4080-9ECC-E0BC96A4C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7C03-132E-4033-BB34-87BA22A6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BE9C-C0E6-4717-9EA3-70180D90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9376-43FA-4538-A608-F8504212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C7F6-F04C-4E37-BC63-8A475178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5865-39CF-467B-B0BA-E771A654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707F-C3EC-49A9-BF7C-4A6B4C99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D5A5-94C4-43D2-8B25-C9E3CCCB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9929-294F-407F-BA3B-461A5746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D18B-A11E-45AC-9D5F-00A92B9E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BDE7-F9DB-42AC-BE3A-88E2BB18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5E31-2C9D-4BEC-B68E-8C058370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E18B-4478-4DCA-B4B9-968DF6CA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A1A2-D4D7-4BC3-A968-E67D0193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B2F2-2E47-4A86-8849-CB5A9C61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C0EC-AE2D-41F1-B45D-8E0F03DF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60AB-79EE-4FE3-8415-F08F1C98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CBA0-B480-4D82-9EB2-681DF98D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0722-C15C-494B-AB30-45E173A4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14E0-6471-4EFB-B224-84001DDE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B5E0-E1C9-4F78-9907-902D71777CA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7BF1-99BF-45DA-846F-1428E2EE8C1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200" spc="-1" strike="noStrike">
                <a:solidFill>
                  <a:srgbClr val="ffffb7"/>
                </a:solidFill>
                <a:latin typeface="Monotype Corsiva"/>
              </a:rPr>
              <a:t>Trijstūru vienādības pazīmes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360" y="3213000"/>
            <a:ext cx="7684920" cy="25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 u="sng">
                <a:solidFill>
                  <a:srgbClr val="ffffff"/>
                </a:solidFill>
                <a:uFillTx/>
                <a:latin typeface="Verdana"/>
              </a:rPr>
              <a:t>Mērķis:</a:t>
            </a:r>
            <a:r>
              <a:rPr b="0" lang="lv-LV" sz="3600" spc="-1" strike="noStrike">
                <a:solidFill>
                  <a:srgbClr val="ffffff"/>
                </a:solidFill>
                <a:latin typeface="Verdana"/>
              </a:rPr>
              <a:t> veidot prasmes pielietot trijstūru vienādības pazīmes aprēķinu un pierādījumu uzdevumo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343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ffb7"/>
                </a:solidFill>
                <a:latin typeface="Verdana"/>
              </a:rPr>
              <a:t>Atbildi uz jautājumiem!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476280"/>
            <a:ext cx="85946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ff"/>
                </a:solidFill>
                <a:latin typeface="Arial"/>
              </a:rPr>
              <a:t>Nogriežņa garums ir 18cm,un viduspunkts sadala to divos nogriežņos, kuru garums i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ff"/>
                </a:solidFill>
                <a:latin typeface="Arial"/>
              </a:rPr>
              <a:t>Ja viens no blakusleņķiem ir 7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lv-LV" sz="3200" spc="-1" strike="noStrike">
                <a:solidFill>
                  <a:srgbClr val="ffffff"/>
                </a:solidFill>
                <a:latin typeface="Arial"/>
                <a:ea typeface="Arial"/>
              </a:rPr>
              <a:t>, tad otrs i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ff"/>
                </a:solidFill>
                <a:latin typeface="Arial"/>
                <a:ea typeface="Arial"/>
              </a:rPr>
              <a:t>Ja vienādsānu trijstūra sānu malas garums ir 12cm, pamata garums ir 10cm, tad trijstūra perimetrs i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ff"/>
                </a:solidFill>
                <a:latin typeface="Arial"/>
                <a:ea typeface="Arial"/>
              </a:rPr>
              <a:t>Perpendikulāras taisnes krustojoties veido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ff"/>
                </a:solidFill>
                <a:latin typeface="Arial"/>
                <a:ea typeface="Arial"/>
              </a:rPr>
              <a:t>Vienādsānu trijstūra bisektrise, kas novilkta pret pamatu, i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80240" cy="635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66"/>
                </a:solidFill>
                <a:latin typeface="Verdana"/>
              </a:rPr>
              <a:t>Pazīmes</a:t>
            </a:r>
            <a:br>
              <a:rPr sz="3200"/>
            </a:br>
            <a:r>
              <a:rPr b="0" lang="lv-LV" sz="3200" spc="-1" strike="noStrike">
                <a:solidFill>
                  <a:srgbClr val="ffffb7"/>
                </a:solidFill>
                <a:latin typeface="Verdana"/>
              </a:rPr>
              <a:t>1)Ja viena trijstūra mala un tās pieleņķi ir attiecīgi vienādi ar otra trijstūra malu un tās pieleņķiem, tad trijstūri ir vienādi.</a:t>
            </a:r>
            <a:br>
              <a:rPr sz="3200"/>
            </a:br>
            <a:br>
              <a:rPr sz="3200"/>
            </a:br>
            <a:r>
              <a:rPr b="0" lang="lv-LV" sz="3200" spc="-1" strike="noStrike">
                <a:solidFill>
                  <a:srgbClr val="ffff66"/>
                </a:solidFill>
                <a:latin typeface="Verdana"/>
              </a:rPr>
              <a:t>2)Ja viena trijstūra divas malas un leņķis starp tām ir attiecīgi vienādi ar otra trijstūra divām malām un leņķi starp tām, tad trijstūri ir vienādi.</a:t>
            </a:r>
            <a:br>
              <a:rPr sz="3200"/>
            </a:br>
            <a:br>
              <a:rPr sz="3200"/>
            </a:br>
            <a:r>
              <a:rPr b="0" lang="lv-LV" sz="3200" spc="-1" strike="noStrike">
                <a:solidFill>
                  <a:srgbClr val="ffffb7"/>
                </a:solidFill>
                <a:latin typeface="Verdana"/>
              </a:rPr>
              <a:t>3)Ja viena trijstūra trīs malas ir attiecīgi vienādas ar otra trijstūra trim malām, tad trijstūri ir vienādi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ffffb7"/>
                </a:solidFill>
                <a:latin typeface="Verdana"/>
              </a:rPr>
              <a:t>Trijstūri ABC un MNK vienādi. Aprēķini norādītās trijstūru malas un leņķus!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11280" y="2131920"/>
          <a:ext cx="6156360" cy="24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2131920"/>
                    <a:ext cx="6156360" cy="24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843280" y="4683240"/>
          <a:ext cx="4105080" cy="14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4683240"/>
                    <a:ext cx="410508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ffffb7"/>
                </a:solidFill>
                <a:latin typeface="Verdana"/>
              </a:rPr>
              <a:t>Pierādījuma uzdevum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79280" y="887400"/>
          <a:ext cx="8640720" cy="57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87400"/>
                    <a:ext cx="8640720" cy="57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20:08:04Z</dcterms:created>
  <dc:creator>Natashka</dc:creator>
  <dc:description/>
  <dc:language>en-US</dc:language>
  <cp:lastModifiedBy>Natashka</cp:lastModifiedBy>
  <dcterms:modified xsi:type="dcterms:W3CDTF">2012-02-09T16:54:29Z</dcterms:modified>
  <cp:revision>3</cp:revision>
  <dc:subject/>
  <dc:title>Trijstūru vienādības pazīmes</dc:title>
</cp:coreProperties>
</file>