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84D-84D2-4BB7-9F64-6FC01A96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B12-87E5-450F-8E18-20D8F3DB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CF0-D296-4905-A5C5-6E3CE084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175-B6D9-471D-AFB2-0B68C1E0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1D9-603F-458F-909C-F8F98844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650-A6B1-478A-97E2-510FE979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80C-5F28-4177-9890-0EF7E697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C82-9CAF-4CED-AC2D-CCCA5BA2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836-C90B-4ADB-8379-C4FCA488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C16-A4B9-4F82-BCA4-09CB0A1C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F73-D86C-4EC0-BB75-BA9B88FC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F14-A2EE-44C4-9088-E14CB8EA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BE94-A327-4E8F-ACB9-1FFC9CF7B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000000"/>
                </a:solidFill>
                <a:latin typeface="Arial"/>
              </a:rPr>
              <a:t>Darbības (saskaitīšana, atņemšana, reizināšana, dalīšana un kāpināšana kvadrātā un kubā) ar skaitļiem ( veseli, daļas, decimāldaļ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ērķis: turpināt veidot prasmes veikt darbības ar rac. skaitļ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Aprēķin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71640" y="2276640"/>
                <a:ext cx="194472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−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042920" y="2781360"/>
                <a:ext cx="1728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3,3</m:t>
                    </m:r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59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042920" y="3789360"/>
                <a:ext cx="2160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,8</m:t>
                    </m:r>
                    <m:r>
                      <m:t xml:space="preserve">−</m:t>
                    </m:r>
                    <m:r>
                      <m:t xml:space="preserve">2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16000" y="4508640"/>
                <a:ext cx="15112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zlasi dotās izteiksmes, </a:t>
            </a: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zmantojot vārdus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umm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tarpīb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reizinājums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dalījums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a) 3</a:t>
            </a:r>
            <a:r>
              <a:rPr b="0" i="1" lang="lv-LV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lv-LV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lv-LV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d) 3 (a–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9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695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Aprēķin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(-30)∙(-25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58920" y="2133720"/>
                <a:ext cx="1225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87280" y="3213000"/>
                <a:ext cx="1295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,2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16000" y="4292640"/>
                <a:ext cx="15843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5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16000" y="5229360"/>
                <a:ext cx="16556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3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5:31:37Z</dcterms:created>
  <dc:creator>Natashka</dc:creator>
  <dc:description/>
  <dc:language>en-US</dc:language>
  <cp:lastModifiedBy>Natashka</cp:lastModifiedBy>
  <dcterms:modified xsi:type="dcterms:W3CDTF">2011-11-07T15:40:04Z</dcterms:modified>
  <cp:revision>2</cp:revision>
  <dc:subject/>
  <dc:title>Darbības (saskaitīšana, atņemšana, reizināšana, dalīšana un kāpināšana kvadrātā un kubā) ar skaitļiem ( veseli, daļas, decimāldaļas)</dc:title>
</cp:coreProperties>
</file>