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924A-C3D7-4159-9B86-6EAFDE84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AE1D-669F-4375-9A6D-0206F57C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EB28-17D6-4510-B8B1-E0E9224E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A63C-DB5C-463E-A88F-2DB985E5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1C3-194F-4B98-8156-00F75F0E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B4BB-0509-455B-B5E2-5BFC6F0C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7CA4-B46D-4D7E-AA4B-D46839C1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71E8-8FE4-4216-8806-796DBFE2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7052-0C61-4A84-8968-47A4EFA0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32A2-3B7F-4168-A199-85E24E41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D7E-D044-4086-95A2-04D3962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F928-91D0-43CF-85CC-EF1BDF99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34B1-5BBD-45D9-B8EC-4BD5102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33F0-7EE8-44D9-A85F-E379EF5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72C9-53A7-4980-AA62-81352EB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5866-1807-416A-AB0E-28FA3A57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04D-E397-4255-A60B-663776E2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443E-9E97-4B01-996C-64E4FAA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C4B8-EE62-48AE-A7D0-9A4F4E9B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C94D-EFDF-4F7A-828A-B044E555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5F9D-B864-473B-BEC2-29F7A0EF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B4CD-3060-405D-8804-E772E91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DC82-75E6-4532-B274-B496B5C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977D-BBB9-4768-87C1-836D8EC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D514-71C7-4DF6-B685-063CD11B62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8203-601C-4719-90CF-669890E380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0" spc="-1" strike="noStrike">
                <a:solidFill>
                  <a:srgbClr val="ffffff"/>
                </a:solidFill>
                <a:latin typeface="Arial"/>
              </a:rPr>
              <a:t>Loka garums, riņķa un tā daļu laukums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000000"/>
                </a:solidFill>
                <a:latin typeface="Arial"/>
              </a:rPr>
              <a:t>Mērķis: nostiprināt prasmes aprēķināt loka garumu, riņķa un tā daļu laukumu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</a:rPr>
              <a:t>Atbildi uz jautājumi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Verdana"/>
              </a:rPr>
              <a:t>Nogriežņa garums ir 18cm,un viduspunkts sadala to divos nogriežņos, kuru garums i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Verdana"/>
              </a:rPr>
              <a:t>Ja viens no blakusleņķiem ir 7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°</a:t>
            </a:r>
            <a:r>
              <a:rPr b="1" lang="lv-LV" sz="2800" spc="-1" strike="noStrike">
                <a:solidFill>
                  <a:srgbClr val="000000"/>
                </a:solidFill>
                <a:latin typeface="Verdana"/>
                <a:ea typeface="Arial"/>
              </a:rPr>
              <a:t>, tad otrs i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Verdana"/>
                <a:ea typeface="Arial"/>
              </a:rPr>
              <a:t>Ja vienādsānu trijstūra sānu malas garums ir 12cm, pamata garums ir 10cm, tad trijstūra perimetrs i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Verdana"/>
                <a:ea typeface="Arial"/>
              </a:rPr>
              <a:t>Perpendikulāras taisnes krustojoties vei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Verdana"/>
                <a:ea typeface="Arial"/>
              </a:rPr>
              <a:t>Vienādsānu trijstūra bisektrise, kas novilkta pret pamatu, i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800" spc="-1" strike="noStrike">
                <a:solidFill>
                  <a:srgbClr val="000000"/>
                </a:solidFill>
                <a:latin typeface="Arial"/>
              </a:rPr>
              <a:t>Cik malu ir regulāram daudzstūrim, ja katrs tā leņķis ir 162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lv-LV" sz="4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424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Cik grādu liels ir regulāra divpadsmitstūra katrs virsotnes leņķ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20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Ārpusē pie klētiņas apakšējā stūra </a:t>
            </a:r>
            <a:r>
              <a:rPr b="1" lang="lv-LV" sz="4400" spc="-1" strike="noStrike" u="sng">
                <a:solidFill>
                  <a:srgbClr val="000000"/>
                </a:solidFill>
                <a:uFillTx/>
                <a:latin typeface="Arial"/>
              </a:rPr>
              <a:t>5m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 garā auklā piesēja kazu. Klētiņas pamatā ir </a:t>
            </a:r>
            <a:r>
              <a:rPr b="1" lang="lv-LV" sz="4400" spc="-1" strike="noStrike" u="sng">
                <a:solidFill>
                  <a:srgbClr val="000000"/>
                </a:solidFill>
                <a:uFillTx/>
                <a:latin typeface="Arial"/>
              </a:rPr>
              <a:t>kvadrāts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 ar malas garumu </a:t>
            </a:r>
            <a:r>
              <a:rPr b="1" lang="lv-LV" sz="4400" spc="-1" strike="noStrike" u="sng">
                <a:solidFill>
                  <a:srgbClr val="000000"/>
                </a:solidFill>
                <a:uFillTx/>
                <a:latin typeface="Arial"/>
              </a:rPr>
              <a:t>3m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. Aprēķini zālāja laukumu, kurā ganījās ka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22:30:00Z</dcterms:created>
  <dc:creator>Natashka</dc:creator>
  <dc:description/>
  <dc:language>en-US</dc:language>
  <cp:lastModifiedBy>Natashka</cp:lastModifiedBy>
  <dcterms:modified xsi:type="dcterms:W3CDTF">2013-04-28T09:53:32Z</dcterms:modified>
  <cp:revision>3</cp:revision>
  <dc:subject/>
  <dc:title>Loka garums, riņķa un tā daļu laukums.</dc:title>
</cp:coreProperties>
</file>