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B10-F916-462C-9060-94859EA1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C07-6075-4F9F-865C-CA9F0AE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658-FBB9-44CC-B29F-280295B2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0EE-F91B-48B3-9D4A-E108E37F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9BC-16FA-4B95-8824-E4ECDD5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45B-F772-4A76-8E96-7421E4C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A27-F6DD-43EE-91F2-F9060C9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2F0-4A37-420B-82B1-D7CDB909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21A-D7EF-4916-8707-05B1BD0A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C8D-32BE-43ED-B81C-1137608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FF7-EECF-4C03-A974-6F6CBBE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5BC-4AAA-432A-B10F-0F4F399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D5E-9553-4E6A-980C-75ACB70EB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Galvas rēķ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turpināt veidot prasmes veikt aprēķinus galv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trisi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82+77+2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35+65+1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6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x+22=83;   x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87-y=42;    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6+242+2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25+87+7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4+x=56;  x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y-89=80;   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tbil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82+77+28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35+65+153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3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6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x+22=83;   x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87-y=42;    y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6+242+24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25+87+75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3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24+x=56;  x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y-89=80;   y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2:44:11Z</dcterms:created>
  <dc:creator>Natashka</dc:creator>
  <dc:description/>
  <dc:language>en-US</dc:language>
  <cp:lastModifiedBy>Natashka</cp:lastModifiedBy>
  <dcterms:modified xsi:type="dcterms:W3CDTF">2011-09-14T12:59:02Z</dcterms:modified>
  <cp:revision>2</cp:revision>
  <dc:subject/>
  <dc:title>Galvas rēķini</dc:title>
</cp:coreProperties>
</file>