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4.png" ContentType="image/png"/>
  <Override PartName="/ppt/media/image1.gif" ContentType="image/gif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7.jpeg" ContentType="image/jpeg"/>
  <Override PartName="/ppt/media/image45.wmf" ContentType="image/x-wmf"/>
  <Override PartName="/ppt/media/image16.gif" ContentType="image/gif"/>
  <Override PartName="/ppt/media/image15.jpeg" ContentType="image/jpeg"/>
  <Override PartName="/ppt/media/image28.gif" ContentType="image/gif"/>
  <Override PartName="/ppt/media/image14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40.png" ContentType="image/png"/>
  <Override PartName="/ppt/media/image5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6.jpeg" ContentType="image/jpeg"/>
  <Override PartName="/ppt/media/image18.png" ContentType="image/png"/>
  <Override PartName="/ppt/media/image25.gif" ContentType="image/gif"/>
  <Override PartName="/ppt/media/image43.wmf" ContentType="image/x-wmf"/>
  <Override PartName="/ppt/media/image13.jpeg" ContentType="image/jpeg"/>
  <Override PartName="/ppt/media/image23.png" ContentType="image/png"/>
  <Override PartName="/ppt/media/image44.wmf" ContentType="image/x-wmf"/>
  <Override PartName="/ppt/media/image46.jpeg" ContentType="image/jpeg"/>
  <Override PartName="/ppt/media/image39.png" ContentType="image/png"/>
  <Override PartName="/ppt/media/image42.wmf" ContentType="image/x-wmf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8.jpeg" ContentType="image/jpeg"/>
  <Override PartName="/ppt/media/image41.wmf" ContentType="image/x-wmf"/>
  <Override PartName="/ppt/media/image12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813-C6C2-43C2-8F65-CE18131E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C12-21FD-4741-907E-D1652A72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BFB-4504-4AFA-B204-B5706A09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963-F668-4141-8BF1-6F536073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9F86-3CC9-4269-BD1F-D4C0FE50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02A7-3CDA-4ED0-BA8E-A22852EF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E374-265D-41C5-B69A-EC3A21D0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084A-E5F9-4E83-B93D-C033AAB2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B2E8-862A-4E3C-AFFF-51323CEA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F832-B4E1-45DC-9A40-8D3BE688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4ACF-FE18-4F0B-96B1-8359CFE5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A52-740F-4F35-81D3-B4FE8C7B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1D65-AFA0-4910-9497-478BB3F9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7DBE-FC8F-4EA8-9618-4C9A6926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643D-F5D3-4084-B1EA-F5CDD295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4EB1-FAED-447B-AA2C-737AA698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31DF-2569-430A-8E9B-D96AE4B4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F03-85E7-4F9A-8B00-CD4523B7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8D5-6883-489A-8314-0B32FA32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155-5414-4118-89AD-89B07F37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A6B-0F01-49A1-8E9E-A1F7C15F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9D0-C55D-4796-8AED-AF156A45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813-38F0-4467-B41F-62F36C9F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B9E-5ADB-46D1-8BB7-3D1B972F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08C3-33B2-468C-8A1B-AA3F8DA664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001F-AAFC-4F25-B9C9-FDF137F6C5E8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 Black"/>
              </a:rPr>
              <a:t>Откуда взялся огонь?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Picture 4" descr="MR900236357"/>
          <p:cNvPicPr/>
          <p:nvPr/>
        </p:nvPicPr>
        <p:blipFill>
          <a:blip r:embed="rId1"/>
          <a:stretch/>
        </p:blipFill>
        <p:spPr>
          <a:xfrm>
            <a:off x="395280" y="2349360"/>
            <a:ext cx="4132440" cy="45086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971640" y="3860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Picture 7" descr="&amp;Rcy;&amp;iecy;&amp;bcy;&amp;iecy;&amp;ncy;&amp;ocy;&amp;kcy; &amp;ucy; &amp;ocy;&amp;kcy;&amp;ncy;&amp;acy;, &amp;ncy;&amp;acy;&amp;bcy;&amp;lcy;&amp;yucy;&amp;dcy;&amp;acy;&amp;yucy;&amp;shchcy;&amp;icy;&amp;jcy; &amp;scy;&amp;ncy;&amp;iecy;&amp;gcy;&amp;ocy;&amp;pcy;&amp;acy;&amp;dcy;"/>
          <p:cNvPicPr/>
          <p:nvPr/>
        </p:nvPicPr>
        <p:blipFill>
          <a:blip r:embed="rId2"/>
          <a:stretch/>
        </p:blipFill>
        <p:spPr>
          <a:xfrm>
            <a:off x="5867280" y="3645000"/>
            <a:ext cx="2519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Огонь наш друг или враг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Oval 4"/>
          <p:cNvSpPr/>
          <p:nvPr/>
        </p:nvSpPr>
        <p:spPr>
          <a:xfrm>
            <a:off x="1547640" y="2349360"/>
            <a:ext cx="3745080" cy="360072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Oval 5"/>
          <p:cNvSpPr/>
          <p:nvPr/>
        </p:nvSpPr>
        <p:spPr>
          <a:xfrm>
            <a:off x="4356000" y="2349360"/>
            <a:ext cx="3816360" cy="360072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Freeform 8"/>
          <p:cNvSpPr/>
          <p:nvPr/>
        </p:nvSpPr>
        <p:spPr>
          <a:xfrm>
            <a:off x="4848120" y="2960640"/>
            <a:ext cx="304920" cy="2424240"/>
          </a:xfrm>
          <a:custGeom>
            <a:avLst/>
            <a:gdLst/>
            <a:ahLst/>
            <a:rect l="l" t="t" r="r" b="b"/>
            <a:pathLst>
              <a:path w="192" h="1527">
                <a:moveTo>
                  <a:pt x="0" y="0"/>
                </a:moveTo>
                <a:cubicBezTo>
                  <a:pt x="19" y="59"/>
                  <a:pt x="22" y="79"/>
                  <a:pt x="64" y="119"/>
                </a:cubicBezTo>
                <a:cubicBezTo>
                  <a:pt x="118" y="230"/>
                  <a:pt x="44" y="88"/>
                  <a:pt x="109" y="183"/>
                </a:cubicBezTo>
                <a:cubicBezTo>
                  <a:pt x="146" y="236"/>
                  <a:pt x="85" y="186"/>
                  <a:pt x="146" y="229"/>
                </a:cubicBezTo>
                <a:cubicBezTo>
                  <a:pt x="175" y="287"/>
                  <a:pt x="157" y="243"/>
                  <a:pt x="173" y="311"/>
                </a:cubicBezTo>
                <a:cubicBezTo>
                  <a:pt x="179" y="335"/>
                  <a:pt x="192" y="384"/>
                  <a:pt x="192" y="384"/>
                </a:cubicBezTo>
                <a:cubicBezTo>
                  <a:pt x="189" y="637"/>
                  <a:pt x="189" y="890"/>
                  <a:pt x="183" y="1143"/>
                </a:cubicBezTo>
                <a:cubicBezTo>
                  <a:pt x="182" y="1177"/>
                  <a:pt x="169" y="1220"/>
                  <a:pt x="146" y="1244"/>
                </a:cubicBezTo>
                <a:cubicBezTo>
                  <a:pt x="132" y="1285"/>
                  <a:pt x="105" y="1309"/>
                  <a:pt x="82" y="1344"/>
                </a:cubicBezTo>
                <a:cubicBezTo>
                  <a:pt x="72" y="1374"/>
                  <a:pt x="54" y="1396"/>
                  <a:pt x="45" y="1426"/>
                </a:cubicBezTo>
                <a:cubicBezTo>
                  <a:pt x="35" y="1460"/>
                  <a:pt x="34" y="1495"/>
                  <a:pt x="18" y="1527"/>
                </a:cubicBezTo>
              </a:path>
            </a:pathLst>
          </a:custGeom>
          <a:noFill/>
          <a:ln w="9360">
            <a:solidFill>
              <a:srgbClr val="af27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6" descr="C:\Documents and Settings\Кирилл\Рабочий стол\МАМА\анимация\жошрп.gif"/>
          <p:cNvPicPr/>
          <p:nvPr/>
        </p:nvPicPr>
        <p:blipFill>
          <a:blip r:embed="rId1"/>
          <a:stretch/>
        </p:blipFill>
        <p:spPr>
          <a:xfrm>
            <a:off x="4572000" y="3573360"/>
            <a:ext cx="477720" cy="1727280"/>
          </a:xfrm>
          <a:prstGeom prst="rect">
            <a:avLst/>
          </a:prstGeom>
          <a:ln w="0">
            <a:noFill/>
          </a:ln>
        </p:spPr>
      </p:pic>
      <p:sp>
        <p:nvSpPr>
          <p:cNvPr id="384" name="WordArt 11"/>
          <p:cNvSpPr txBox="1"/>
          <p:nvPr/>
        </p:nvSpPr>
        <p:spPr>
          <a:xfrm>
            <a:off x="2484360" y="2781360"/>
            <a:ext cx="1943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поль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5" name="WordArt 12"/>
          <p:cNvSpPr txBox="1"/>
          <p:nvPr/>
        </p:nvSpPr>
        <p:spPr>
          <a:xfrm>
            <a:off x="5651640" y="4869000"/>
            <a:ext cx="1512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вре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Огонь является нашим другом только тогда, когда мы правильно с ним обращаемс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5" descr="&amp;Pcy;&amp;rcy;&amp;ocy;&amp;scy;&amp;mcy;&amp;ocy;&amp;tcy;&amp;rcy;&amp;iecy;&amp;tcy;&amp;softcy; &amp;pcy;&amp;ocy;&amp;dcy;&amp;rcy;&amp;ocy;&amp;bcy;&amp;ncy;&amp;ocy;&amp;scy;&amp;tcy;&amp;icy;"/>
          <p:cNvPicPr/>
          <p:nvPr/>
        </p:nvPicPr>
        <p:blipFill>
          <a:blip r:embed="rId1"/>
          <a:stretch/>
        </p:blipFill>
        <p:spPr>
          <a:xfrm>
            <a:off x="5148360" y="2205000"/>
            <a:ext cx="3635280" cy="36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777240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Ребята, помните о том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Что нельзя шутить с огнём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Кто с огнём неосторожен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У того пожар возможен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Рисунок 6" descr="8cc7dc02faf1.png"/>
          <p:cNvPicPr/>
          <p:nvPr/>
        </p:nvPicPr>
        <p:blipFill>
          <a:blip r:embed="rId1"/>
          <a:stretch/>
        </p:blipFill>
        <p:spPr>
          <a:xfrm>
            <a:off x="5435640" y="1484280"/>
            <a:ext cx="464328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-27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103"/>
                </a:solidFill>
                <a:latin typeface="Times New Roman"/>
              </a:rPr>
              <a:t>ПРИЧИНЫ ПОЖАР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игры со спичками;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неисправность электрических приборов;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забывчивость человека;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легко воспламеняющиеся вещества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5" descr="dupen_21_12_09_1"/>
          <p:cNvPicPr/>
          <p:nvPr/>
        </p:nvPicPr>
        <p:blipFill>
          <a:blip r:embed="rId1"/>
          <a:stretch/>
        </p:blipFill>
        <p:spPr>
          <a:xfrm>
            <a:off x="324000" y="4869000"/>
            <a:ext cx="2665440" cy="1809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ANd9GcQwaqUWa6Cs9OYBL0mSLhMmR0Hb5J_KVeewfT1SERfLAom1B3CZ"/>
          <p:cNvPicPr/>
          <p:nvPr/>
        </p:nvPicPr>
        <p:blipFill>
          <a:blip r:embed="rId2"/>
          <a:stretch/>
        </p:blipFill>
        <p:spPr>
          <a:xfrm>
            <a:off x="3419640" y="4336920"/>
            <a:ext cx="2592360" cy="18194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0" descr="ANd9GcSc_3N9ehCVUlRWRSYGo7GzS7koeAHjcwDZwpENtS8BdzPD_9gcbw"/>
          <p:cNvPicPr/>
          <p:nvPr/>
        </p:nvPicPr>
        <p:blipFill>
          <a:blip r:embed="rId3"/>
          <a:stretch/>
        </p:blipFill>
        <p:spPr>
          <a:xfrm>
            <a:off x="6300720" y="4724280"/>
            <a:ext cx="244800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Отгадайте загадку и выучите правила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6" name="Рисунок 3" descr="a9b98ab4965a.png"/>
          <p:cNvPicPr/>
          <p:nvPr/>
        </p:nvPicPr>
        <p:blipFill>
          <a:blip r:embed="rId1"/>
          <a:stretch/>
        </p:blipFill>
        <p:spPr>
          <a:xfrm>
            <a:off x="5508720" y="1773360"/>
            <a:ext cx="3504960" cy="52560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179280" y="1916280"/>
            <a:ext cx="554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Рыжий зверь в печи сидит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Рыжий зверь на всех серди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Он от злобы ест дров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Целый час, а может дв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Ты рукой его не тронь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Искусает всю ладонь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8" name="Picture 11" descr="MCj04348160000[1]"/>
          <p:cNvPicPr/>
          <p:nvPr/>
        </p:nvPicPr>
        <p:blipFill>
          <a:blip r:embed="rId2"/>
          <a:stretch/>
        </p:blipFill>
        <p:spPr>
          <a:xfrm>
            <a:off x="4716360" y="508464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351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- А я знаю все полезные правила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2" descr="D:\Картинки\игрушки\198559436346d35e9488669.gif"/>
          <p:cNvPicPr/>
          <p:nvPr/>
        </p:nvPicPr>
        <p:blipFill>
          <a:blip r:embed="rId1"/>
          <a:stretch/>
        </p:blipFill>
        <p:spPr>
          <a:xfrm>
            <a:off x="179280" y="2060640"/>
            <a:ext cx="3892680" cy="4259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письмо"/>
          <p:cNvPicPr/>
          <p:nvPr/>
        </p:nvPicPr>
        <p:blipFill>
          <a:blip r:embed="rId2"/>
          <a:stretch/>
        </p:blipFill>
        <p:spPr>
          <a:xfrm>
            <a:off x="6084720" y="3789360"/>
            <a:ext cx="2737080" cy="2736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писссмо"/>
          <p:cNvPicPr/>
          <p:nvPr/>
        </p:nvPicPr>
        <p:blipFill>
          <a:blip r:embed="rId3"/>
          <a:stretch/>
        </p:blipFill>
        <p:spPr>
          <a:xfrm>
            <a:off x="3851280" y="20178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0"/>
          <p:cNvSpPr/>
          <p:nvPr/>
        </p:nvSpPr>
        <p:spPr>
          <a:xfrm>
            <a:off x="3851280" y="4365720"/>
            <a:ext cx="489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-Ой! Ой! Почему правила не работают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Text Box 11"/>
          <p:cNvSpPr/>
          <p:nvPr/>
        </p:nvSpPr>
        <p:spPr>
          <a:xfrm>
            <a:off x="684360" y="76500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Только…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Picture 13" descr="ANd9GcQeTxsx44pnMEOYok8JkPsylycVgVEfbL2E9jCpUhomMNdRlWOiKw"/>
          <p:cNvPicPr/>
          <p:nvPr/>
        </p:nvPicPr>
        <p:blipFill>
          <a:blip r:embed="rId1"/>
          <a:stretch/>
        </p:blipFill>
        <p:spPr>
          <a:xfrm>
            <a:off x="324000" y="2133720"/>
            <a:ext cx="3132000" cy="41749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" descr="C:\ресурсы\Картинки\Огонь\i14.gif"/>
          <p:cNvPicPr/>
          <p:nvPr/>
        </p:nvPicPr>
        <p:blipFill>
          <a:blip r:embed="rId2"/>
          <a:stretch/>
        </p:blipFill>
        <p:spPr>
          <a:xfrm>
            <a:off x="3564000" y="260280"/>
            <a:ext cx="3673440" cy="22240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" descr="C:\ресурсы\Картинки\Огонь\i14.gif"/>
          <p:cNvPicPr/>
          <p:nvPr/>
        </p:nvPicPr>
        <p:blipFill>
          <a:blip r:embed="rId3"/>
          <a:stretch/>
        </p:blipFill>
        <p:spPr>
          <a:xfrm>
            <a:off x="5076720" y="2133720"/>
            <a:ext cx="3673440" cy="22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928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Небалуйся дома со спичьками и зажыгалкам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Неоставляй без присмотра включенные электроприборы (чяйник, утюк)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Не сушы белё над плитой. Оно можэт загоретьс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Осторожно обращяйся с газовой плитой. Если почювствовал запах газа, не зажыгай спичьки и не включяй свет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Незажыгай фейерверки, свечьки или бенгальские огни дома без взрослых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могите, пожалуйста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0" name="Picture 5" descr="ANd9GcRGFB_D_Y6mRncuFYRSPwjaNkCxiVZvPwsMLApBVoZF3BHPUcL9"/>
          <p:cNvPicPr/>
          <p:nvPr/>
        </p:nvPicPr>
        <p:blipFill>
          <a:blip r:embed="rId1"/>
          <a:stretch/>
        </p:blipFill>
        <p:spPr>
          <a:xfrm>
            <a:off x="2050920" y="2492280"/>
            <a:ext cx="4776840" cy="3791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C:\Documents and Settings\Кирилл\Рабочий стол\МАМА\анимация\жошрп.gif"/>
          <p:cNvPicPr/>
          <p:nvPr/>
        </p:nvPicPr>
        <p:blipFill>
          <a:blip r:embed="rId2"/>
          <a:stretch/>
        </p:blipFill>
        <p:spPr>
          <a:xfrm>
            <a:off x="1547640" y="2492280"/>
            <a:ext cx="289080" cy="1044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C:\Documents and Settings\Кирилл\Рабочий стол\МАМА\анимация\жошрп.gif"/>
          <p:cNvPicPr/>
          <p:nvPr/>
        </p:nvPicPr>
        <p:blipFill>
          <a:blip r:embed="rId3"/>
          <a:stretch/>
        </p:blipFill>
        <p:spPr>
          <a:xfrm>
            <a:off x="1547640" y="3860640"/>
            <a:ext cx="289080" cy="1044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C:\Documents and Settings\Кирилл\Рабочий стол\МАМА\анимация\жошрп.gif"/>
          <p:cNvPicPr/>
          <p:nvPr/>
        </p:nvPicPr>
        <p:blipFill>
          <a:blip r:embed="rId4"/>
          <a:stretch/>
        </p:blipFill>
        <p:spPr>
          <a:xfrm>
            <a:off x="3635280" y="1484280"/>
            <a:ext cx="289080" cy="104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C:\Documents and Settings\Кирилл\Рабочий стол\МАМА\анимация\жошрп.gif"/>
          <p:cNvPicPr/>
          <p:nvPr/>
        </p:nvPicPr>
        <p:blipFill>
          <a:blip r:embed="rId5"/>
          <a:stretch/>
        </p:blipFill>
        <p:spPr>
          <a:xfrm>
            <a:off x="1979640" y="1413000"/>
            <a:ext cx="288720" cy="1044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C:\Documents and Settings\Кирилл\Рабочий стол\МАМА\анимация\жошрп.gif"/>
          <p:cNvPicPr/>
          <p:nvPr/>
        </p:nvPicPr>
        <p:blipFill>
          <a:blip r:embed="rId6"/>
          <a:stretch/>
        </p:blipFill>
        <p:spPr>
          <a:xfrm>
            <a:off x="5940360" y="1341360"/>
            <a:ext cx="289080" cy="1044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C:\Documents and Settings\Кирилл\Рабочий стол\МАМА\анимация\жошрп.gif"/>
          <p:cNvPicPr/>
          <p:nvPr/>
        </p:nvPicPr>
        <p:blipFill>
          <a:blip r:embed="rId7"/>
          <a:stretch/>
        </p:blipFill>
        <p:spPr>
          <a:xfrm>
            <a:off x="4788000" y="1268280"/>
            <a:ext cx="288720" cy="1044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C:\Documents and Settings\Кирилл\Рабочий стол\МАМА\анимация\жошрп.gif"/>
          <p:cNvPicPr/>
          <p:nvPr/>
        </p:nvPicPr>
        <p:blipFill>
          <a:blip r:embed="rId8"/>
          <a:stretch/>
        </p:blipFill>
        <p:spPr>
          <a:xfrm>
            <a:off x="7236000" y="4941720"/>
            <a:ext cx="288720" cy="1044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C:\Documents and Settings\Кирилл\Рабочий стол\МАМА\анимация\жошрп.gif"/>
          <p:cNvPicPr/>
          <p:nvPr/>
        </p:nvPicPr>
        <p:blipFill>
          <a:blip r:embed="rId9"/>
          <a:stretch/>
        </p:blipFill>
        <p:spPr>
          <a:xfrm>
            <a:off x="1619280" y="5373720"/>
            <a:ext cx="288720" cy="1044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C:\Documents and Settings\Кирилл\Рабочий стол\МАМА\анимация\жошрп.gif"/>
          <p:cNvPicPr/>
          <p:nvPr/>
        </p:nvPicPr>
        <p:blipFill>
          <a:blip r:embed="rId10"/>
          <a:stretch/>
        </p:blipFill>
        <p:spPr>
          <a:xfrm>
            <a:off x="7164360" y="3284640"/>
            <a:ext cx="289080" cy="1044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C:\Documents and Settings\Кирилл\Рабочий стол\МАМА\анимация\жошрп.gif"/>
          <p:cNvPicPr/>
          <p:nvPr/>
        </p:nvPicPr>
        <p:blipFill>
          <a:blip r:embed="rId11"/>
          <a:stretch/>
        </p:blipFill>
        <p:spPr>
          <a:xfrm>
            <a:off x="6877080" y="2133720"/>
            <a:ext cx="288720" cy="10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1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РОВЕРК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2" name="Picture 5" descr="79d13442067a"/>
          <p:cNvPicPr/>
          <p:nvPr/>
        </p:nvPicPr>
        <p:blipFill>
          <a:blip r:embed="rId1"/>
          <a:stretch/>
        </p:blipFill>
        <p:spPr>
          <a:xfrm>
            <a:off x="826920" y="1557360"/>
            <a:ext cx="3384720" cy="4957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MCj04348160000[1]"/>
          <p:cNvPicPr/>
          <p:nvPr/>
        </p:nvPicPr>
        <p:blipFill>
          <a:blip r:embed="rId2"/>
          <a:stretch/>
        </p:blipFill>
        <p:spPr>
          <a:xfrm>
            <a:off x="5435640" y="3284640"/>
            <a:ext cx="3052800" cy="30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686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Давным-давно люди пользовались только тем, что давала природа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835280" y="378936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Picture 6" descr="ANd9GcSmlApy59GHBOhcfi0Kd1oMf8FuuUFsUJLRSGnk4egBWKnYykiL"/>
          <p:cNvPicPr/>
          <p:nvPr/>
        </p:nvPicPr>
        <p:blipFill>
          <a:blip r:embed="rId1"/>
          <a:stretch/>
        </p:blipFill>
        <p:spPr>
          <a:xfrm>
            <a:off x="4643280" y="2421000"/>
            <a:ext cx="3888000" cy="2751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ANd9GcT98VbkpG6obCOPYPFBQvpj-AZfoHIn8INIhtj4hBXWL-cPpcxzfA"/>
          <p:cNvPicPr/>
          <p:nvPr/>
        </p:nvPicPr>
        <p:blipFill>
          <a:blip r:embed="rId2"/>
          <a:stretch/>
        </p:blipFill>
        <p:spPr>
          <a:xfrm>
            <a:off x="395280" y="3768840"/>
            <a:ext cx="40323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179280" y="4437000"/>
            <a:ext cx="914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 Black"/>
              </a:rPr>
              <a:t>Не балуйся дома со спичками и зажигалками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684360" y="515772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1979640" y="580536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7093080" y="515772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1" name="Picture 14" descr="lenakater69"/>
          <p:cNvPicPr/>
          <p:nvPr/>
        </p:nvPicPr>
        <p:blipFill>
          <a:blip r:embed="rId1"/>
          <a:stretch/>
        </p:blipFill>
        <p:spPr>
          <a:xfrm>
            <a:off x="755640" y="836640"/>
            <a:ext cx="215280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23640" y="4365360"/>
            <a:ext cx="85690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Не оставляй без присмотра включенные электроприборы (чайник, утюг)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684360" y="450864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611280" y="5661000"/>
            <a:ext cx="57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Line 7"/>
          <p:cNvSpPr/>
          <p:nvPr/>
        </p:nvSpPr>
        <p:spPr>
          <a:xfrm>
            <a:off x="3708360" y="566100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7" name="Picture 9" descr="ANd9GcRRNUV03eSNsa_XHb7Word593Bi3Fo3vuFDm7NbFS9w5mo0T5NQ"/>
          <p:cNvPicPr/>
          <p:nvPr/>
        </p:nvPicPr>
        <p:blipFill>
          <a:blip r:embed="rId1"/>
          <a:stretch/>
        </p:blipFill>
        <p:spPr>
          <a:xfrm>
            <a:off x="179280" y="11970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0" name="Picture 15" descr="1"/>
          <p:cNvPicPr/>
          <p:nvPr/>
        </p:nvPicPr>
        <p:blipFill>
          <a:blip r:embed="rId2"/>
          <a:stretch/>
        </p:blipFill>
        <p:spPr>
          <a:xfrm>
            <a:off x="2627280" y="1197000"/>
            <a:ext cx="2232000" cy="2168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7" descr="1140267"/>
          <p:cNvPicPr/>
          <p:nvPr/>
        </p:nvPicPr>
        <p:blipFill>
          <a:blip r:embed="rId3"/>
          <a:stretch/>
        </p:blipFill>
        <p:spPr>
          <a:xfrm>
            <a:off x="5076720" y="1160640"/>
            <a:ext cx="2808360" cy="213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250920" y="4868640"/>
            <a:ext cx="7772400" cy="17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Не суши белье над плитой. Оно может загоретьс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Line 4"/>
          <p:cNvSpPr/>
          <p:nvPr/>
        </p:nvSpPr>
        <p:spPr>
          <a:xfrm>
            <a:off x="684360" y="5373720"/>
            <a:ext cx="57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Line 5"/>
          <p:cNvSpPr/>
          <p:nvPr/>
        </p:nvSpPr>
        <p:spPr>
          <a:xfrm>
            <a:off x="1692360" y="595008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Line 6"/>
          <p:cNvSpPr/>
          <p:nvPr/>
        </p:nvSpPr>
        <p:spPr>
          <a:xfrm>
            <a:off x="1835280" y="5373720"/>
            <a:ext cx="5032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3132000" y="537372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7" name="Picture 11" descr="ANd9GcQRQ9mprMlwzTfsaHf-y0D9vYrCLKGIcn-pTsIHAUHQ7_33jRgEKw"/>
          <p:cNvPicPr/>
          <p:nvPr/>
        </p:nvPicPr>
        <p:blipFill>
          <a:blip r:embed="rId1"/>
          <a:stretch/>
        </p:blipFill>
        <p:spPr>
          <a:xfrm>
            <a:off x="1258920" y="0"/>
            <a:ext cx="48038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68360" y="350028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Осторожно обращайся с газовой плитой. Если почувствовал запах газа, не зажигай спички и не включай свет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Line 5"/>
          <p:cNvSpPr/>
          <p:nvPr/>
        </p:nvSpPr>
        <p:spPr>
          <a:xfrm>
            <a:off x="4859280" y="400536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1476360" y="501336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1547640" y="551664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7236000" y="5516640"/>
            <a:ext cx="502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924360" y="558972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5" name="Picture 14" descr="126"/>
          <p:cNvPicPr/>
          <p:nvPr/>
        </p:nvPicPr>
        <p:blipFill>
          <a:blip r:embed="rId1"/>
          <a:stretch/>
        </p:blipFill>
        <p:spPr>
          <a:xfrm>
            <a:off x="971640" y="260280"/>
            <a:ext cx="37447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755640" y="4436640"/>
            <a:ext cx="813744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Не зажигай фейерверки, свечки или бенгальские огни дома без взрослых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7" name="Picture 5" descr="09"/>
          <p:cNvPicPr/>
          <p:nvPr/>
        </p:nvPicPr>
        <p:blipFill>
          <a:blip r:embed="rId1"/>
          <a:stretch/>
        </p:blipFill>
        <p:spPr>
          <a:xfrm>
            <a:off x="179280" y="260280"/>
            <a:ext cx="4076640" cy="3057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i_004"/>
          <p:cNvPicPr/>
          <p:nvPr/>
        </p:nvPicPr>
        <p:blipFill>
          <a:blip r:embed="rId2"/>
          <a:stretch/>
        </p:blipFill>
        <p:spPr>
          <a:xfrm>
            <a:off x="4284720" y="189000"/>
            <a:ext cx="2247840" cy="3057480"/>
          </a:xfrm>
          <a:prstGeom prst="rect">
            <a:avLst/>
          </a:prstGeom>
          <a:ln w="0">
            <a:noFill/>
          </a:ln>
        </p:spPr>
      </p:pic>
      <p:sp>
        <p:nvSpPr>
          <p:cNvPr id="459" name="Line 8"/>
          <p:cNvSpPr/>
          <p:nvPr/>
        </p:nvSpPr>
        <p:spPr>
          <a:xfrm>
            <a:off x="2268360" y="494172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7596360" y="4941720"/>
            <a:ext cx="502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1187280" y="494172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301320"/>
            <a:ext cx="88930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ЕСЛИ СЛУЧИЛАСЬ БЕДА, ЗВОНИ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0" spc="-1" strike="noStrike">
                <a:solidFill>
                  <a:srgbClr val="ffcc00"/>
                </a:solidFill>
                <a:latin typeface="Arial Black"/>
              </a:rPr>
              <a:t>112 !</a:t>
            </a:r>
            <a:endParaRPr b="0" lang="en-US" sz="1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4" name="Рисунок 1" descr="post-81346-1240542864.png"/>
          <p:cNvPicPr/>
          <p:nvPr/>
        </p:nvPicPr>
        <p:blipFill>
          <a:blip r:embed="rId1"/>
          <a:stretch/>
        </p:blipFill>
        <p:spPr>
          <a:xfrm>
            <a:off x="4849920" y="2924280"/>
            <a:ext cx="4294080" cy="42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5"/>
          <p:cNvSpPr/>
          <p:nvPr/>
        </p:nvSpPr>
        <p:spPr>
          <a:xfrm>
            <a:off x="684360" y="40464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Vai zini, k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ā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ds ir</a:t>
            </a:r>
            <a:r>
              <a:rPr b="0" lang="lv-LV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Eiropas</a:t>
            </a:r>
            <a:r>
              <a:rPr b="0" lang="lv-LV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neatliekam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ā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s</a:t>
            </a:r>
            <a:r>
              <a:rPr b="0" lang="lv-LV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pal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ī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dz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ī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bas</a:t>
            </a:r>
            <a:r>
              <a:rPr b="0" lang="lv-LV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dienesta</a:t>
            </a:r>
            <a:r>
              <a:rPr b="0" lang="lv-LV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t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ā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lrunis - 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6" name="Picture 6" descr=""/>
          <p:cNvPicPr/>
          <p:nvPr/>
        </p:nvPicPr>
        <p:blipFill>
          <a:blip r:embed="rId1"/>
          <a:stretch/>
        </p:blipFill>
        <p:spPr>
          <a:xfrm>
            <a:off x="900000" y="2062080"/>
            <a:ext cx="5040360" cy="8510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5040360" cy="8575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5040360" cy="788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"/>
          <p:cNvPicPr/>
          <p:nvPr/>
        </p:nvPicPr>
        <p:blipFill>
          <a:blip r:embed="rId4"/>
          <a:stretch/>
        </p:blipFill>
        <p:spPr>
          <a:xfrm>
            <a:off x="900000" y="3645000"/>
            <a:ext cx="5040360" cy="7538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"/>
          <p:cNvPicPr/>
          <p:nvPr/>
        </p:nvPicPr>
        <p:blipFill>
          <a:blip r:embed="rId5"/>
          <a:stretch/>
        </p:blipFill>
        <p:spPr>
          <a:xfrm>
            <a:off x="900000" y="5084640"/>
            <a:ext cx="5040360" cy="8017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1" descr=""/>
          <p:cNvPicPr/>
          <p:nvPr/>
        </p:nvPicPr>
        <p:blipFill>
          <a:blip r:embed="rId6"/>
          <a:stretch/>
        </p:blipFill>
        <p:spPr>
          <a:xfrm>
            <a:off x="900000" y="5805360"/>
            <a:ext cx="5040360" cy="7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" descr="MCj04348160000[1]"/>
          <p:cNvPicPr/>
          <p:nvPr/>
        </p:nvPicPr>
        <p:blipFill>
          <a:blip r:embed="rId1"/>
          <a:stretch/>
        </p:blipFill>
        <p:spPr>
          <a:xfrm>
            <a:off x="6588000" y="4581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&amp;Mcy;&amp;acy;&amp;lcy;&amp;ycy;&amp;shcy; &amp;scy; &amp;scy;&amp;iecy;&amp;rcy;&amp;softcy;&amp;iecy;&amp;zcy;&amp;ncy;&amp;ycy;&amp;mcy; &amp;lcy;&amp;icy;&amp;tscy;&amp;ocy;&amp;mcy; &amp;kcy;&amp;rcy;&amp;ucy;&amp;pcy;&amp;ncy;&amp;ycy;&amp;mcy; &amp;pcy;&amp;lcy;&amp;acy;&amp;ncy;&amp;ocy;&amp;mcy;"/>
          <p:cNvPicPr/>
          <p:nvPr/>
        </p:nvPicPr>
        <p:blipFill>
          <a:blip r:embed="rId2"/>
          <a:stretch/>
        </p:blipFill>
        <p:spPr>
          <a:xfrm>
            <a:off x="611280" y="476280"/>
            <a:ext cx="3651120" cy="3651120"/>
          </a:xfrm>
          <a:prstGeom prst="rect">
            <a:avLst/>
          </a:prstGeom>
          <a:ln w="0">
            <a:noFill/>
          </a:ln>
        </p:spPr>
      </p:pic>
      <p:sp>
        <p:nvSpPr>
          <p:cNvPr id="474" name="Line 8"/>
          <p:cNvSpPr/>
          <p:nvPr/>
        </p:nvSpPr>
        <p:spPr>
          <a:xfrm flipH="1" flipV="1">
            <a:off x="2556000" y="3213000"/>
            <a:ext cx="2087280" cy="4320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Line 9"/>
          <p:cNvSpPr/>
          <p:nvPr/>
        </p:nvSpPr>
        <p:spPr>
          <a:xfrm flipH="1" flipV="1">
            <a:off x="2124000" y="1915920"/>
            <a:ext cx="2664000" cy="647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Line 10"/>
          <p:cNvSpPr/>
          <p:nvPr/>
        </p:nvSpPr>
        <p:spPr>
          <a:xfrm flipH="1" flipV="1">
            <a:off x="2411280" y="2565000"/>
            <a:ext cx="2232000" cy="576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Line 11"/>
          <p:cNvSpPr/>
          <p:nvPr/>
        </p:nvSpPr>
        <p:spPr>
          <a:xfrm flipH="1" flipV="1">
            <a:off x="3564000" y="2133360"/>
            <a:ext cx="1224000" cy="431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4932360" y="3573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cc00"/>
                </a:solidFill>
                <a:latin typeface="Arial Black"/>
              </a:rPr>
              <a:t>vie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4932360" y="2997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cc00"/>
                </a:solidFill>
                <a:latin typeface="Arial Black"/>
              </a:rPr>
              <a:t>vie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4932360" y="2349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cc00"/>
                </a:solidFill>
                <a:latin typeface="Arial Black"/>
              </a:rPr>
              <a:t>div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611280" y="4327560"/>
            <a:ext cx="561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0" spc="-1" strike="noStrike">
                <a:solidFill>
                  <a:srgbClr val="ffcc00"/>
                </a:solidFill>
                <a:latin typeface="Arial Black"/>
              </a:rPr>
              <a:t>112 !</a:t>
            </a:r>
            <a:endParaRPr b="0" lang="en-US" sz="1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cc00"/>
                </a:solidFill>
                <a:latin typeface="Arial Black"/>
              </a:rPr>
              <a:t>N</a:t>
            </a: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osauc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savu vārdu</a:t>
            </a:r>
            <a:r>
              <a:rPr b="1" lang="lv-LV" sz="44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cc00"/>
                </a:solidFill>
                <a:latin typeface="Arial Black"/>
              </a:rPr>
              <a:t>a</a:t>
            </a: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dresi</a:t>
            </a:r>
            <a:r>
              <a:rPr b="1" lang="lv-LV" sz="44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tālruņa</a:t>
            </a:r>
            <a:r>
              <a:rPr b="1" lang="lv-LV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numuru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3" name="Picture 5" descr="&amp;Lcy;&amp;icy;&amp;tscy;&amp;ocy;-&amp;scy;&amp;mcy;&amp;acy;&amp;jcy;&amp;lcy;&amp;icy;&amp;kcy; &amp;scy; &amp;tcy;&amp;iecy;&amp;lcy;&amp;iecy;&amp;fcy;&amp;ocy;&amp;ncy;&amp;ocy;&amp;mcy;"/>
          <p:cNvPicPr/>
          <p:nvPr/>
        </p:nvPicPr>
        <p:blipFill>
          <a:blip r:embed="rId1"/>
          <a:stretch/>
        </p:blipFill>
        <p:spPr>
          <a:xfrm>
            <a:off x="1042920" y="386064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ANd9GcS_ErFVs6zX9DhzjaYH2C9vOAABc-m0L_FG_l-Imf7wMeMtHQ4v"/>
          <p:cNvPicPr/>
          <p:nvPr/>
        </p:nvPicPr>
        <p:blipFill>
          <a:blip r:embed="rId2"/>
          <a:stretch/>
        </p:blipFill>
        <p:spPr>
          <a:xfrm>
            <a:off x="5651640" y="3789360"/>
            <a:ext cx="29527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Uz 112 var zvanīt,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lai sazinātos ar neatliekamās palīdzīb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dienestiem (policiju, ugunsdzēsējiem, ātro</a:t>
            </a:r>
            <a:r>
              <a:rPr b="0" lang="lv-LV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palīdzību)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visās Eiropas Savienības valstīs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no mājas telefona, mobilā tālruņa un arī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no taksofoniem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par velti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6" name="Picture 7" descr="&amp;Fcy;&amp;lcy;&amp;acy;&amp;gcy; &amp;IEcy;&amp;vcy;&amp;rcy;&amp;ocy;&amp;pcy;&amp;iecy;&amp;jcy;&amp;scy;&amp;kcy;&amp;ocy;&amp;gcy;&amp;ocy; &amp;Scy;&amp;ocy;&amp;yucy;&amp;zcy;&amp;acy;"/>
          <p:cNvPicPr/>
          <p:nvPr/>
        </p:nvPicPr>
        <p:blipFill>
          <a:blip r:embed="rId1"/>
          <a:stretch/>
        </p:blipFill>
        <p:spPr>
          <a:xfrm>
            <a:off x="2843280" y="189000"/>
            <a:ext cx="2952720" cy="1828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0" descr="&amp;Pcy;&amp;rcy;&amp;ocy;&amp;scy;&amp;mcy;&amp;ocy;&amp;tcy;&amp;rcy;&amp;iecy;&amp;tcy;&amp;softcy; &amp;pcy;&amp;ocy;&amp;dcy;&amp;rcy;&amp;ocy;&amp;bcy;&amp;ncy;&amp;ocy;&amp;scy;&amp;tcy;&amp;icy;"/>
          <p:cNvPicPr/>
          <p:nvPr/>
        </p:nvPicPr>
        <p:blipFill>
          <a:blip r:embed="rId2"/>
          <a:stretch/>
        </p:blipFill>
        <p:spPr>
          <a:xfrm>
            <a:off x="468360" y="189000"/>
            <a:ext cx="25192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Люди жили в пещерах, где было холодно, сыро и темно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5" descr="ANd9GcQ4Ve0Py_6v1RAdGbh46V5FBELljk3o3eRP_b5wRAH0d9R2ozWx"/>
          <p:cNvPicPr/>
          <p:nvPr/>
        </p:nvPicPr>
        <p:blipFill>
          <a:blip r:embed="rId1"/>
          <a:stretch/>
        </p:blipFill>
        <p:spPr>
          <a:xfrm>
            <a:off x="-396720" y="2637000"/>
            <a:ext cx="4608360" cy="3232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ANd9GcTrs-VqPSKny8zepomXTXWalDCNTNk2ees6vka7cmg4rxoQShVxIQ"/>
          <p:cNvPicPr/>
          <p:nvPr/>
        </p:nvPicPr>
        <p:blipFill>
          <a:blip r:embed="rId2"/>
          <a:stretch/>
        </p:blipFill>
        <p:spPr>
          <a:xfrm>
            <a:off x="4067280" y="2637000"/>
            <a:ext cx="56163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6" descr="ANd9GcQOGLiJViu8RTYPnq6vS6pivPOcNKYg0x75H7u9EYQqevVCXXGAEQ"/>
          <p:cNvPicPr/>
          <p:nvPr/>
        </p:nvPicPr>
        <p:blipFill>
          <a:blip r:embed="rId1"/>
          <a:stretch/>
        </p:blipFill>
        <p:spPr>
          <a:xfrm>
            <a:off x="4140360" y="3429000"/>
            <a:ext cx="5003640" cy="3429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1" descr="ANd9GcRJS_olnxxqQiWQkSsPG4zOA3mAgIl-AF2MX0G81fLw4OMFjsE6"/>
          <p:cNvPicPr/>
          <p:nvPr/>
        </p:nvPicPr>
        <p:blipFill>
          <a:blip r:embed="rId2"/>
          <a:stretch/>
        </p:blipFill>
        <p:spPr>
          <a:xfrm>
            <a:off x="0" y="0"/>
            <a:ext cx="4643280" cy="35020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2"/>
          <p:cNvSpPr/>
          <p:nvPr/>
        </p:nvSpPr>
        <p:spPr>
          <a:xfrm>
            <a:off x="324000" y="3860640"/>
            <a:ext cx="36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Однажды от молнии загорелись деревья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Смелый человек догадался взять горящую ветку и отнести ее в пещеру.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Picture 11" descr="img_19"/>
          <p:cNvPicPr/>
          <p:nvPr/>
        </p:nvPicPr>
        <p:blipFill>
          <a:blip r:embed="rId1"/>
          <a:stretch/>
        </p:blipFill>
        <p:spPr>
          <a:xfrm>
            <a:off x="2195640" y="2637000"/>
            <a:ext cx="4824360" cy="39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Picture 7" descr="261861_original"/>
          <p:cNvPicPr/>
          <p:nvPr/>
        </p:nvPicPr>
        <p:blipFill>
          <a:blip r:embed="rId1"/>
          <a:stretch/>
        </p:blipFill>
        <p:spPr>
          <a:xfrm>
            <a:off x="395280" y="333360"/>
            <a:ext cx="4799160" cy="62373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8"/>
          <p:cNvSpPr/>
          <p:nvPr/>
        </p:nvSpPr>
        <p:spPr>
          <a:xfrm>
            <a:off x="5796000" y="76500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5580000" y="1341360"/>
            <a:ext cx="331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 пещере стало тепло, светло и уютно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Люди научились готовить пищу, греть воду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7" descr="eda-ecos"/>
          <p:cNvPicPr/>
          <p:nvPr/>
        </p:nvPicPr>
        <p:blipFill>
          <a:blip r:embed="rId1"/>
          <a:stretch/>
        </p:blipFill>
        <p:spPr>
          <a:xfrm>
            <a:off x="1476360" y="2133720"/>
            <a:ext cx="6242040" cy="42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40000" y="1196640"/>
            <a:ext cx="46306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Огонь защищал человека от диких животных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Picture 5" descr="0_a1db_adbc8d49_L"/>
          <p:cNvPicPr/>
          <p:nvPr/>
        </p:nvPicPr>
        <p:blipFill>
          <a:blip r:embed="rId1"/>
          <a:stretch/>
        </p:blipFill>
        <p:spPr>
          <a:xfrm>
            <a:off x="4356000" y="4005360"/>
            <a:ext cx="4276800" cy="2533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ANd9GcRhVWcdx0kK6FZhYg7GojKyGyRP-2UMrvDc1H8Pk6oNplhfRsZ4"/>
          <p:cNvPicPr/>
          <p:nvPr/>
        </p:nvPicPr>
        <p:blipFill>
          <a:blip r:embed="rId2"/>
          <a:stretch/>
        </p:blipFill>
        <p:spPr>
          <a:xfrm>
            <a:off x="179280" y="4006800"/>
            <a:ext cx="3888000" cy="2586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3" descr="ANd9GcSXUenJGKGLZ0XyRQ0GaUhXEqzc0aos8LyfgmzIm2ltS7muTdQ-pQ"/>
          <p:cNvPicPr/>
          <p:nvPr/>
        </p:nvPicPr>
        <p:blipFill>
          <a:blip r:embed="rId3"/>
          <a:stretch/>
        </p:blipFill>
        <p:spPr>
          <a:xfrm>
            <a:off x="468360" y="78264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Так человеку понравилось жить с огнём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Picture 4" descr="ANd9GcQd-zNVDf_dA_g0afXS0CJ1pRIb4OV7o0ZHu2AsfciOQjWfraRl"/>
          <p:cNvPicPr/>
          <p:nvPr/>
        </p:nvPicPr>
        <p:blipFill>
          <a:blip r:embed="rId1"/>
          <a:stretch/>
        </p:blipFill>
        <p:spPr>
          <a:xfrm>
            <a:off x="2484360" y="3141720"/>
            <a:ext cx="4464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2:42:36Z</dcterms:created>
  <dc:creator>Jelena</dc:creator>
  <dc:description/>
  <dc:language>en-US</dc:language>
  <cp:lastModifiedBy>Admins</cp:lastModifiedBy>
  <dcterms:modified xsi:type="dcterms:W3CDTF">2013-03-25T11:33:26Z</dcterms:modified>
  <cp:revision>28</cp:revision>
  <dc:subject/>
  <dc:title>Откуда взялся огонь?</dc:title>
</cp:coreProperties>
</file>