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01B4-69E0-4755-82C2-5976A9093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8E2C-74BB-483C-98F3-C3ED0783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C0B5-696F-437E-BA6D-7FCCDB021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95D2-DA66-4D79-A22C-5B5012F4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9582-41DB-4D98-AA65-A681B957E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A8FF-0AD8-47C7-8134-9BFD2F10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1B5E-7E36-4437-9FDB-683E6BFE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E493-8C4C-4679-98F8-220D08E1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D4BA-19C6-4E0F-A2C6-23F4DAA1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6FFB-0E4D-4F20-A355-90F47FB5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679C-4A73-4795-8DB8-13C4D523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8504-48E0-44D4-B1F1-16519961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F423-2DAC-43D0-985D-3F87FFCA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D8A3-9715-45AA-9C7C-AF495379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A5EA-7634-43D9-BD85-0E0166B9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30BC-16E6-40B2-85C3-EFCFAB96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F4AF-C40C-4E98-BCF9-99C8A04C5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456D-1908-4817-BDBA-F1806603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5B04-23FA-43AB-83EF-4CF21F62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F8DA-3E7C-43FF-BBBD-25145849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34A4-C98A-44FE-B5D8-4CC569C8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8218-911F-4505-BACB-DF8AD288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0D7E-3DFE-4451-A26D-319741F7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67C6-5A7B-4F42-83FF-DF066A8F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4B51-24EB-44B1-A74C-8E064489BCA2}" type="slidenum"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8266-411B-44BE-8A02-F07A95108164}" type="slidenum">
              <a:rPr b="0" lang="lv-LV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ffffb7"/>
                </a:solidFill>
                <a:latin typeface="Arial Black"/>
              </a:rPr>
              <a:t>Zeme, kurā dzīvoju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03280" y="436248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ffff"/>
                </a:solidFill>
                <a:latin typeface="Arial"/>
              </a:rPr>
              <a:t>G.Poļakovs 7.a k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ffff"/>
                </a:solidFill>
                <a:latin typeface="Arial"/>
              </a:rPr>
              <a:t>Rīgas 33.vidussko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3286080" y="2571840"/>
            <a:ext cx="25718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0" y="691920"/>
            <a:ext cx="8385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ffffb7"/>
                </a:solidFill>
                <a:latin typeface="Arial Black"/>
              </a:rPr>
              <a:t>Latvija..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2195640" y="3357720"/>
            <a:ext cx="3733560" cy="1954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3995640" y="1773360"/>
            <a:ext cx="2665440" cy="2039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3"/>
          <a:stretch/>
        </p:blipFill>
        <p:spPr>
          <a:xfrm>
            <a:off x="1979640" y="1700280"/>
            <a:ext cx="1612800" cy="2476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4"/>
          <a:stretch/>
        </p:blipFill>
        <p:spPr>
          <a:xfrm>
            <a:off x="6732720" y="2205000"/>
            <a:ext cx="180648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8363160" cy="18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ffffb7"/>
                </a:solidFill>
                <a:latin typeface="Arial Black"/>
              </a:rPr>
              <a:t>Es savā zemē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8007480" cy="4622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IMGP3087"/>
          <p:cNvPicPr/>
          <p:nvPr/>
        </p:nvPicPr>
        <p:blipFill>
          <a:blip r:embed="rId2"/>
          <a:stretch/>
        </p:blipFill>
        <p:spPr>
          <a:xfrm>
            <a:off x="1187280" y="2349360"/>
            <a:ext cx="2592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1640" y="476280"/>
            <a:ext cx="75214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b7"/>
                </a:solidFill>
                <a:latin typeface="Arial Black"/>
              </a:rPr>
              <a:t>Mana ģimene, mana zeme, mana laime.Es gribu dzīvot Latvijā, jo te ir mani draugi un ģimene...                             Germans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2700360" y="2565360"/>
            <a:ext cx="1944720" cy="1571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1403280" y="3860640"/>
            <a:ext cx="19447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14:35:47Z</dcterms:created>
  <dc:creator>Ina</dc:creator>
  <dc:description/>
  <dc:language>en-US</dc:language>
  <cp:lastModifiedBy>Admins</cp:lastModifiedBy>
  <dcterms:modified xsi:type="dcterms:W3CDTF">2013-03-25T08:52:39Z</dcterms:modified>
  <cp:revision>5</cp:revision>
  <dc:subject/>
  <dc:title>Zeme, kurā dzīvoju</dc:title>
</cp:coreProperties>
</file>